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5.png" ContentType="image/png"/>
  <Override PartName="/ppt/media/image10.jpeg" ContentType="image/jpeg"/>
  <Override PartName="/ppt/media/image27.jpeg" ContentType="image/jpeg"/>
  <Override PartName="/ppt/media/image13.wmf" ContentType="image/x-wmf"/>
  <Override PartName="/ppt/media/image12.wmf" ContentType="image/x-wmf"/>
  <Override PartName="/ppt/media/image4.wmf" ContentType="image/x-wmf"/>
  <Override PartName="/ppt/media/image28.jpeg" ContentType="image/jpeg"/>
  <Override PartName="/ppt/media/image8.wmf" ContentType="image/x-wmf"/>
  <Override PartName="/ppt/media/image17.jpeg" ContentType="image/jpeg"/>
  <Override PartName="/ppt/media/image11.wmf" ContentType="image/x-wmf"/>
  <Override PartName="/ppt/media/image30.jpeg" ContentType="image/jpeg"/>
  <Override PartName="/ppt/media/image24.jpeg" ContentType="image/jpeg"/>
  <Override PartName="/ppt/media/image31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wmf" ContentType="image/x-wmf"/>
  <Override PartName="/ppt/media/image23.jpeg" ContentType="image/jpeg"/>
  <Override PartName="/ppt/media/image9.jpeg" ContentType="image/jpeg"/>
  <Override PartName="/ppt/media/image7.jpeg" ContentType="image/jpeg"/>
  <Override PartName="/ppt/media/image1.wmf" ContentType="image/x-wmf"/>
  <Override PartName="/ppt/media/image14.wmf" ContentType="image/x-wmf"/>
  <Override PartName="/ppt/media/image16.png" ContentType="image/png"/>
  <Override PartName="/ppt/media/image20.png" ContentType="image/png"/>
  <Override PartName="/ppt/media/image18.wmf" ContentType="image/x-wmf"/>
  <Override PartName="/ppt/media/image26.jpeg" ContentType="image/jpeg"/>
  <Override PartName="/ppt/media/image6.jpeg" ContentType="image/jpeg"/>
  <Override PartName="/ppt/media/image21.wmf" ContentType="image/x-wmf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Univers LT OMV 55 Roman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8C84-082B-4A68-925D-71473E738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BCF9-9BA1-455F-A412-A44B939B4E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D30C872-7BEA-4F3D-B42A-A79EB90DC21E}" type="slidenum">
              <a:rPr b="0" lang="en-US" sz="1200" spc="-1" strike="noStrike">
                <a:solidFill>
                  <a:srgbClr val="000000"/>
                </a:solidFill>
                <a:latin typeface="Univer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07F3-F2F8-4290-AF31-739974162B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C72D-60C9-4ACD-BE71-6F8B8633624D}" type="slidenum"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804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F6E2-E974-4C14-9DA2-CB942E140F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8043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7560" y="3868560"/>
            <a:ext cx="8043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7560" y="386856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200" y="386856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7360" y="159984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160" y="159984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7560" y="386856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7360" y="386856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160" y="386856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7560" y="1599840"/>
            <a:ext cx="8043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8043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7560" y="304560"/>
            <a:ext cx="8043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7560" y="386856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47560" y="1599840"/>
            <a:ext cx="8043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86856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7560" y="3868560"/>
            <a:ext cx="8043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8043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7560" y="3868560"/>
            <a:ext cx="8043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7560" y="386856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86856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360" y="159984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160" y="159984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7560" y="386856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360" y="386856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160" y="386856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47560" y="1599840"/>
            <a:ext cx="8043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8043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8043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47560" y="304560"/>
            <a:ext cx="8043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47560" y="386856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200" y="386856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47560" y="3868560"/>
            <a:ext cx="8043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8043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7560" y="3868560"/>
            <a:ext cx="8043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47560" y="386856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200" y="386856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360" y="159984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87160" y="159984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47560" y="386856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360" y="386856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87160" y="386856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47560" y="1599840"/>
            <a:ext cx="8043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8043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47560" y="304560"/>
            <a:ext cx="8043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47560" y="386856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200" y="386856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47560" y="3868560"/>
            <a:ext cx="8043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8043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47560" y="3868560"/>
            <a:ext cx="8043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47560" y="386856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200" y="386856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360" y="159984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87160" y="159984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47560" y="386856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360" y="386856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87160" y="3868560"/>
            <a:ext cx="2589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7560" y="304560"/>
            <a:ext cx="8043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7560" y="386856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200" y="386856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756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9250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7560" y="3868560"/>
            <a:ext cx="80438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Univers LT OMV 55 Roman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560" y="1599840"/>
            <a:ext cx="8043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Univers LT OMV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4" marL="2057400" indent="-228600">
              <a:spcBef>
                <a:spcPts val="499"/>
              </a:spcBef>
              <a:buClr>
                <a:srgbClr val="ffeb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" name="Line 7"/>
          <p:cNvSpPr/>
          <p:nvPr/>
        </p:nvSpPr>
        <p:spPr>
          <a:xfrm>
            <a:off x="547560" y="914400"/>
            <a:ext cx="804384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pic>
        <p:nvPicPr>
          <p:cNvPr id="3" name="Picture 13" descr="PTO Logo E -EN"/>
          <p:cNvPicPr/>
          <p:nvPr/>
        </p:nvPicPr>
        <p:blipFill>
          <a:blip r:embed="rId2"/>
          <a:stretch/>
        </p:blipFill>
        <p:spPr>
          <a:xfrm>
            <a:off x="7997760" y="6129360"/>
            <a:ext cx="649440" cy="5587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5"/>
          <p:cNvSpPr/>
          <p:nvPr/>
        </p:nvSpPr>
        <p:spPr>
          <a:xfrm>
            <a:off x="457200" y="6492960"/>
            <a:ext cx="47242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36FB049-137F-4C2C-A1B6-139E51F379F8}" type="slidenum">
              <a:rPr b="0" lang="en-GB" sz="1200" spc="-1" strike="noStrike">
                <a:solidFill>
                  <a:srgbClr val="003366"/>
                </a:solidFill>
                <a:latin typeface="Univers LT OMV 55 Roman"/>
              </a:rPr>
              <a:t>&lt;number&gt;</a:t>
            </a:fld>
            <a:r>
              <a:rPr b="0" lang="en-GB" sz="1200" spc="-1" strike="noStrike">
                <a:solidFill>
                  <a:srgbClr val="003366"/>
                </a:solidFill>
                <a:latin typeface="Univers LT OMV 55 Roman"/>
              </a:rPr>
              <a:t> | E&amp;P Petrom </a:t>
            </a: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| </a:t>
            </a:r>
            <a:endParaRPr b="1" lang="en-US" sz="12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TO bkg prez-coperta-1"/>
          <p:cNvPicPr/>
          <p:nvPr/>
        </p:nvPicPr>
        <p:blipFill>
          <a:blip r:embed="rId2"/>
          <a:stretch/>
        </p:blipFill>
        <p:spPr>
          <a:xfrm>
            <a:off x="-22320" y="-22320"/>
            <a:ext cx="9190080" cy="4572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PTO Logo E S-EN"/>
          <p:cNvPicPr/>
          <p:nvPr/>
        </p:nvPicPr>
        <p:blipFill>
          <a:blip r:embed="rId3"/>
          <a:stretch/>
        </p:blipFill>
        <p:spPr>
          <a:xfrm>
            <a:off x="5943600" y="5638680"/>
            <a:ext cx="2846520" cy="943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Univers LT OMV 55 Roman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47560" y="1599840"/>
            <a:ext cx="8043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Univers LT OMV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4" marL="2057400" indent="-228600">
              <a:spcBef>
                <a:spcPts val="499"/>
              </a:spcBef>
              <a:buClr>
                <a:srgbClr val="ffeb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Univers LT OMV 55 Roman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47560" y="1599840"/>
            <a:ext cx="8043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Univers LT OMV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4" marL="2057400" indent="-228600">
              <a:spcBef>
                <a:spcPts val="499"/>
              </a:spcBef>
              <a:buClr>
                <a:srgbClr val="ffeb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84" name="Line 7"/>
          <p:cNvSpPr/>
          <p:nvPr/>
        </p:nvSpPr>
        <p:spPr>
          <a:xfrm>
            <a:off x="547560" y="914400"/>
            <a:ext cx="804384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pic>
        <p:nvPicPr>
          <p:cNvPr id="85" name="Picture 13" descr="PTO Logo E -EN"/>
          <p:cNvPicPr/>
          <p:nvPr/>
        </p:nvPicPr>
        <p:blipFill>
          <a:blip r:embed="rId2"/>
          <a:stretch/>
        </p:blipFill>
        <p:spPr>
          <a:xfrm>
            <a:off x="7997760" y="6129360"/>
            <a:ext cx="649440" cy="5587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5"/>
          <p:cNvSpPr/>
          <p:nvPr/>
        </p:nvSpPr>
        <p:spPr>
          <a:xfrm>
            <a:off x="457200" y="6492960"/>
            <a:ext cx="47242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554D26B-213F-439C-A39F-EB2B4D98CE7A}" type="slidenum">
              <a:rPr b="0" lang="en-GB" sz="1200" spc="-1" strike="noStrike">
                <a:solidFill>
                  <a:srgbClr val="003366"/>
                </a:solidFill>
                <a:latin typeface="Univers LT OMV 55 Roman"/>
              </a:rPr>
              <a:t>&lt;number&gt;</a:t>
            </a:fld>
            <a:r>
              <a:rPr b="0" lang="en-GB" sz="1200" spc="-1" strike="noStrike">
                <a:solidFill>
                  <a:srgbClr val="003366"/>
                </a:solidFill>
                <a:latin typeface="Univers LT OMV 55 Roman"/>
              </a:rPr>
              <a:t> | E&amp;P Petrom </a:t>
            </a: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| Presentation to NAMR</a:t>
            </a:r>
            <a:endParaRPr b="1" lang="en-US" sz="12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Univers LT OMV 55 Roman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47560" y="1599840"/>
            <a:ext cx="8043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Univers LT OMV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4" marL="2057400" indent="-228600">
              <a:spcBef>
                <a:spcPts val="499"/>
              </a:spcBef>
              <a:buClr>
                <a:srgbClr val="ffeb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OMV 55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47560" y="914400"/>
            <a:ext cx="804384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pic>
        <p:nvPicPr>
          <p:cNvPr id="126" name="Picture 13" descr="PTO Logo E -EN"/>
          <p:cNvPicPr/>
          <p:nvPr/>
        </p:nvPicPr>
        <p:blipFill>
          <a:blip r:embed="rId2"/>
          <a:stretch/>
        </p:blipFill>
        <p:spPr>
          <a:xfrm>
            <a:off x="7997760" y="6129360"/>
            <a:ext cx="649440" cy="558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5"/>
          <p:cNvSpPr/>
          <p:nvPr/>
        </p:nvSpPr>
        <p:spPr>
          <a:xfrm>
            <a:off x="457200" y="6492960"/>
            <a:ext cx="47242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F649ADA9-DCE0-4408-AF30-ADE1D00D3C71}" type="slidenum">
              <a:rPr b="0" lang="en-GB" sz="1200" spc="-1" strike="noStrike">
                <a:solidFill>
                  <a:srgbClr val="003366"/>
                </a:solidFill>
                <a:latin typeface="Univers LT OMV 55 Roman"/>
              </a:rPr>
              <a:t>&lt;number&gt;</a:t>
            </a:fld>
            <a:r>
              <a:rPr b="0" lang="en-GB" sz="1200" spc="-1" strike="noStrike">
                <a:solidFill>
                  <a:srgbClr val="003366"/>
                </a:solidFill>
                <a:latin typeface="Univers LT OMV 55 Roman"/>
              </a:rPr>
              <a:t> | E&amp;P Petrom </a:t>
            </a: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| </a:t>
            </a:r>
            <a:endParaRPr b="1" lang="en-US" sz="12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33520" y="5024520"/>
            <a:ext cx="556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Univers LT OMV 55 Roman"/>
              </a:rPr>
              <a:t>May 28, 2009 - Bucharest</a:t>
            </a:r>
            <a:endParaRPr b="1" lang="en-US" sz="16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533520" y="230184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Univers LT OMV 55 Roman"/>
              </a:rPr>
              <a:t>PETROM S.A.</a:t>
            </a:r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Univers LT OMV 55 Roman"/>
              </a:rPr>
              <a:t>Exploration &amp; Production Division</a:t>
            </a:r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Univers LT OMV 55 Roman"/>
              </a:rPr>
              <a:t>Past, Present and Future in O&amp;G</a:t>
            </a:r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69880" y="591840"/>
            <a:ext cx="80042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3060"/>
                </a:solidFill>
                <a:latin typeface="Univers LT OMV 55 Roman"/>
              </a:rPr>
              <a:t>Requiring high level of investments E&amp;P Petrom Romania</a:t>
            </a:r>
            <a:endParaRPr b="1" lang="en-US" sz="2000" spc="-1" strike="noStrike">
              <a:solidFill>
                <a:srgbClr val="003366"/>
              </a:solidFill>
              <a:latin typeface="Univers LT OMV 55 Roman"/>
            </a:endParaRPr>
          </a:p>
        </p:txBody>
      </p:sp>
      <p:graphicFrame>
        <p:nvGraphicFramePr>
          <p:cNvPr id="278" name="Chart 3"/>
          <p:cNvGraphicFramePr/>
          <p:nvPr/>
        </p:nvGraphicFramePr>
        <p:xfrm>
          <a:off x="946080" y="1905120"/>
          <a:ext cx="6964560" cy="34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6080" y="1905120"/>
                    <a:ext cx="696456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Box 4"/>
          <p:cNvSpPr/>
          <p:nvPr/>
        </p:nvSpPr>
        <p:spPr>
          <a:xfrm rot="16200000">
            <a:off x="-247320" y="3451320"/>
            <a:ext cx="217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 LT OMV 55 Roman"/>
              </a:rPr>
              <a:t>Investments in € Million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295280"/>
            <a:ext cx="7543800" cy="337320"/>
          </a:xfrm>
          <a:prstGeom prst="rect">
            <a:avLst/>
          </a:prstGeom>
          <a:solidFill>
            <a:srgbClr val="00206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Univers LT OMV 55 Roman"/>
              </a:rPr>
              <a:t>Investments in Petrom E&amp;P Romania (without acquisitions)</a:t>
            </a:r>
            <a:endParaRPr b="1" lang="en-US" sz="16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Univers LT OMV 55 Roman"/>
              </a:rPr>
              <a:t>The results from our transformation are visible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7800" y="1295280"/>
            <a:ext cx="8032320" cy="3854880"/>
            <a:chOff x="577800" y="1295280"/>
            <a:chExt cx="8032320" cy="3854880"/>
          </a:xfrm>
        </p:grpSpPr>
        <p:sp>
          <p:nvSpPr>
            <p:cNvPr id="284" name="TextBox 16"/>
            <p:cNvSpPr/>
            <p:nvPr/>
          </p:nvSpPr>
          <p:spPr>
            <a:xfrm>
              <a:off x="577800" y="1981080"/>
              <a:ext cx="4069080" cy="31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343080" indent="-343080">
                <a:lnSpc>
                  <a:spcPct val="90000"/>
                </a:lnSpc>
                <a:spcBef>
                  <a:spcPts val="1199"/>
                </a:spcBef>
                <a:buClr>
                  <a:srgbClr val="003366"/>
                </a:buClr>
                <a:buSzPct val="90000"/>
                <a:buFont typeface="Wingdings 3" charset="2"/>
                <a:buChar char=""/>
                <a:tabLst>
                  <a:tab algn="l" pos="26820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Univers LT OMV 55 Roman"/>
                </a:rPr>
                <a:t>Oil production stabilised at 89,000 boe/d since June ‘07</a:t>
              </a:r>
              <a:endParaRPr b="1" lang="en-US" sz="1800" spc="-1" strike="noStrike">
                <a:solidFill>
                  <a:srgbClr val="000000"/>
                </a:solidFill>
                <a:latin typeface="Univers LT OMV 55 Roman"/>
              </a:endParaRPr>
            </a:p>
            <a:p>
              <a:pPr lvl="1" marL="343080" indent="-343080">
                <a:lnSpc>
                  <a:spcPct val="90000"/>
                </a:lnSpc>
                <a:spcBef>
                  <a:spcPts val="1199"/>
                </a:spcBef>
                <a:buClr>
                  <a:srgbClr val="003366"/>
                </a:buClr>
                <a:buSzPct val="90000"/>
                <a:buFont typeface="Wingdings 3" charset="2"/>
                <a:buChar char=""/>
                <a:tabLst>
                  <a:tab algn="l" pos="26820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Univers LT OMV 55 Roman"/>
                </a:rPr>
                <a:t>275 wells drilled in 2008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Univers LT OMV 55 Roman"/>
                </a:rPr>
                <a:t>[+50% vs 2007]</a:t>
              </a:r>
              <a:endParaRPr b="1" lang="en-US" sz="1800" spc="-1" strike="noStrike">
                <a:solidFill>
                  <a:srgbClr val="000000"/>
                </a:solidFill>
                <a:latin typeface="Univers LT OMV 55 Roman"/>
              </a:endParaRPr>
            </a:p>
            <a:p>
              <a:pPr lvl="1" marL="343080" indent="-343080">
                <a:lnSpc>
                  <a:spcPct val="90000"/>
                </a:lnSpc>
                <a:spcBef>
                  <a:spcPts val="1199"/>
                </a:spcBef>
                <a:buClr>
                  <a:srgbClr val="003366"/>
                </a:buClr>
                <a:buSzPct val="90000"/>
                <a:buFont typeface="Wingdings 3" charset="2"/>
                <a:buChar char=""/>
                <a:tabLst>
                  <a:tab algn="l" pos="26820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Univers LT OMV 55 Roman"/>
                </a:rPr>
                <a:t>+100 mm boe risked mean resources from exploration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Univers LT OMV 55 Roman"/>
                </a:rPr>
                <a:t>[since 2005]</a:t>
              </a:r>
              <a:endParaRPr b="1" lang="en-US" sz="1800" spc="-1" strike="noStrike">
                <a:solidFill>
                  <a:srgbClr val="000000"/>
                </a:solidFill>
                <a:latin typeface="Univers LT OMV 55 Roman"/>
              </a:endParaRPr>
            </a:p>
            <a:p>
              <a:pPr lvl="1" marL="343080" indent="-343080">
                <a:lnSpc>
                  <a:spcPct val="90000"/>
                </a:lnSpc>
                <a:spcBef>
                  <a:spcPts val="1199"/>
                </a:spcBef>
                <a:buClr>
                  <a:srgbClr val="003366"/>
                </a:buClr>
                <a:buSzPct val="90000"/>
                <a:buFont typeface="Wingdings 3" charset="2"/>
                <a:buChar char=""/>
                <a:tabLst>
                  <a:tab algn="l" pos="26820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Univers LT OMV 55 Roman"/>
                </a:rPr>
                <a:t>RRR  71% [0% in 2005]</a:t>
              </a:r>
              <a:endParaRPr b="1" lang="en-US" sz="1800" spc="-1" strike="noStrike">
                <a:solidFill>
                  <a:srgbClr val="000000"/>
                </a:solidFill>
                <a:latin typeface="Univers LT OMV 55 Roman"/>
              </a:endParaRPr>
            </a:p>
            <a:p>
              <a:pPr lvl="1" marL="343080" indent="-343080">
                <a:lnSpc>
                  <a:spcPct val="90000"/>
                </a:lnSpc>
                <a:spcBef>
                  <a:spcPts val="1199"/>
                </a:spcBef>
                <a:buClr>
                  <a:srgbClr val="003366"/>
                </a:buClr>
                <a:buSzPct val="90000"/>
                <a:buFont typeface="Wingdings 3" charset="2"/>
                <a:buChar char=""/>
                <a:tabLst>
                  <a:tab algn="l" pos="26820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Univers LT OMV 55 Roman"/>
                </a:rPr>
                <a:t>Well intervention reduced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Univers LT OMV 55 Roman"/>
                </a:rPr>
                <a:t>by 60%</a:t>
              </a:r>
              <a:endParaRPr b="1" lang="en-US" sz="18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85" name="AutoShape 15"/>
            <p:cNvSpPr/>
            <p:nvPr/>
          </p:nvSpPr>
          <p:spPr>
            <a:xfrm rot="5400000">
              <a:off x="4275360" y="-2379240"/>
              <a:ext cx="533160" cy="7882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882560"/>
                <a:gd name="textAreaBottom" fmla="*/ 7882920 h 788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Univers LT OMV 55 Roman"/>
                  <a:ea typeface="Arial"/>
                </a:rPr>
                <a:t>RESULTS</a:t>
              </a:r>
              <a:endParaRPr b="1" lang="en-US" sz="16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86" name="TextBox 16"/>
            <p:cNvSpPr/>
            <p:nvPr/>
          </p:nvSpPr>
          <p:spPr>
            <a:xfrm>
              <a:off x="4816800" y="1993680"/>
              <a:ext cx="3793320" cy="30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343080" indent="-343080">
                <a:lnSpc>
                  <a:spcPct val="90000"/>
                </a:lnSpc>
                <a:spcBef>
                  <a:spcPts val="1199"/>
                </a:spcBef>
                <a:buClr>
                  <a:srgbClr val="003366"/>
                </a:buClr>
                <a:buSzPct val="90000"/>
                <a:buFont typeface="Wingdings 3" charset="2"/>
                <a:buChar char=""/>
                <a:tabLst>
                  <a:tab algn="l" pos="26820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Univers LT OMV 55 Roman"/>
                </a:rPr>
                <a:t>Asset organization</a:t>
              </a:r>
              <a:endParaRPr b="1" lang="en-US" sz="1800" spc="-1" strike="noStrike">
                <a:solidFill>
                  <a:srgbClr val="000000"/>
                </a:solidFill>
                <a:latin typeface="Univers LT OMV 55 Roman"/>
              </a:endParaRPr>
            </a:p>
            <a:p>
              <a:pPr lvl="1" marL="343080" indent="-343080">
                <a:lnSpc>
                  <a:spcPct val="90000"/>
                </a:lnSpc>
                <a:spcBef>
                  <a:spcPts val="1199"/>
                </a:spcBef>
                <a:buClr>
                  <a:srgbClr val="003366"/>
                </a:buClr>
                <a:buSzPct val="90000"/>
                <a:buFont typeface="Wingdings 3" charset="2"/>
                <a:buChar char=""/>
                <a:tabLst>
                  <a:tab algn="l" pos="26820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Univers LT OMV 55 Roman"/>
                </a:rPr>
                <a:t>40 Key processes introduced</a:t>
              </a:r>
              <a:endParaRPr b="1" lang="en-US" sz="1800" spc="-1" strike="noStrike">
                <a:solidFill>
                  <a:srgbClr val="000000"/>
                </a:solidFill>
                <a:latin typeface="Univers LT OMV 55 Roman"/>
              </a:endParaRPr>
            </a:p>
            <a:p>
              <a:pPr lvl="1" marL="343080" indent="-343080">
                <a:lnSpc>
                  <a:spcPct val="90000"/>
                </a:lnSpc>
                <a:spcBef>
                  <a:spcPts val="1199"/>
                </a:spcBef>
                <a:buClr>
                  <a:srgbClr val="003366"/>
                </a:buClr>
                <a:buSzPct val="90000"/>
                <a:buFont typeface="Wingdings 3" charset="2"/>
                <a:buChar char=""/>
                <a:tabLst>
                  <a:tab algn="l" pos="26820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Univers LT OMV 55 Roman"/>
                </a:rPr>
                <a:t>5049 wells modernized</a:t>
              </a:r>
              <a:endParaRPr b="1" lang="en-US" sz="1800" spc="-1" strike="noStrike">
                <a:solidFill>
                  <a:srgbClr val="000000"/>
                </a:solidFill>
                <a:latin typeface="Univers LT OMV 55 Roman"/>
              </a:endParaRPr>
            </a:p>
            <a:p>
              <a:pPr lvl="1" marL="343080" indent="-343080">
                <a:lnSpc>
                  <a:spcPct val="90000"/>
                </a:lnSpc>
                <a:spcBef>
                  <a:spcPts val="1199"/>
                </a:spcBef>
                <a:buClr>
                  <a:srgbClr val="003366"/>
                </a:buClr>
                <a:buSzPct val="90000"/>
                <a:buFont typeface="Wingdings 3" charset="2"/>
                <a:buChar char=""/>
                <a:tabLst>
                  <a:tab algn="l" pos="26820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Univers LT OMV 55 Roman"/>
                </a:rPr>
                <a:t>JV with Exxon for deep water offshore exploration</a:t>
              </a:r>
              <a:endParaRPr b="1" lang="en-US" sz="1800" spc="-1" strike="noStrike">
                <a:solidFill>
                  <a:srgbClr val="000000"/>
                </a:solidFill>
                <a:latin typeface="Univers LT OMV 55 Roman"/>
              </a:endParaRPr>
            </a:p>
            <a:p>
              <a:pPr lvl="1" marL="343080" indent="-343080">
                <a:lnSpc>
                  <a:spcPct val="90000"/>
                </a:lnSpc>
                <a:spcBef>
                  <a:spcPts val="1199"/>
                </a:spcBef>
                <a:buClr>
                  <a:srgbClr val="003366"/>
                </a:buClr>
                <a:buSzPct val="90000"/>
                <a:buFont typeface="Wingdings 3" charset="2"/>
                <a:buChar char=""/>
                <a:tabLst>
                  <a:tab algn="l" pos="26820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Univers LT OMV 55 Roman"/>
                </a:rPr>
                <a:t>New Production Monitoring System PIMMS implemented</a:t>
              </a:r>
              <a:endParaRPr b="1" lang="en-US" sz="1800" spc="-1" strike="noStrike">
                <a:solidFill>
                  <a:srgbClr val="000000"/>
                </a:solidFill>
                <a:latin typeface="Univers LT OMV 55 Roman"/>
              </a:endParaRPr>
            </a:p>
            <a:p>
              <a:pPr lvl="1" marL="343080" indent="-343080">
                <a:lnSpc>
                  <a:spcPct val="90000"/>
                </a:lnSpc>
                <a:spcBef>
                  <a:spcPts val="1199"/>
                </a:spcBef>
                <a:buClr>
                  <a:srgbClr val="003366"/>
                </a:buClr>
                <a:buSzPct val="90000"/>
                <a:buFont typeface="Wingdings 3" charset="2"/>
                <a:buChar char=""/>
                <a:tabLst>
                  <a:tab algn="l" pos="26820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Univers LT OMV 55 Roman"/>
                </a:rPr>
                <a:t>SAP Modules (CO, PM, MM,…) integrated</a:t>
              </a:r>
              <a:endParaRPr b="1" lang="en-US" sz="18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</p:grpSp>
      <p:sp>
        <p:nvSpPr>
          <p:cNvPr id="287" name="TextBox 19"/>
          <p:cNvSpPr/>
          <p:nvPr/>
        </p:nvSpPr>
        <p:spPr>
          <a:xfrm>
            <a:off x="474840" y="9907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YE 2008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3"/>
          <p:cNvSpPr/>
          <p:nvPr/>
        </p:nvSpPr>
        <p:spPr>
          <a:xfrm>
            <a:off x="2916360" y="1360440"/>
            <a:ext cx="560376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26820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</a:rPr>
              <a:t>Access to large oil and gas reserves</a:t>
            </a:r>
            <a:endParaRPr b="1" lang="en-US" sz="1800" spc="-1" strike="noStrike">
              <a:solidFill>
                <a:srgbClr val="000000"/>
              </a:solidFill>
              <a:latin typeface="Univers LT OMV 55 Roman"/>
            </a:endParaRPr>
          </a:p>
          <a:p>
            <a:pPr lvl="1"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26820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</a:rPr>
              <a:t>Resources will last for several decades</a:t>
            </a:r>
            <a:endParaRPr b="1" lang="en-US" sz="1800" spc="-1" strike="noStrike">
              <a:solidFill>
                <a:srgbClr val="000000"/>
              </a:solidFill>
              <a:latin typeface="Univers LT OMV 55 Roman"/>
            </a:endParaRPr>
          </a:p>
          <a:p>
            <a:pPr lvl="1"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26820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</a:rPr>
              <a:t>Clear plans for field (re-)development and modernization</a:t>
            </a:r>
            <a:endParaRPr b="1" lang="en-US" sz="1800" spc="-1" strike="noStrike">
              <a:solidFill>
                <a:srgbClr val="000000"/>
              </a:solidFill>
              <a:latin typeface="Univers LT OMV 55 Roman"/>
            </a:endParaRPr>
          </a:p>
          <a:p>
            <a:pPr lvl="1"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26820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</a:rPr>
              <a:t>Modern E&amp;P technologies offer additional potential</a:t>
            </a:r>
            <a:endParaRPr b="1" lang="en-US" sz="1800" spc="-1" strike="noStrike">
              <a:solidFill>
                <a:srgbClr val="000000"/>
              </a:solidFill>
              <a:latin typeface="Univers LT OMV 55 Roman"/>
            </a:endParaRPr>
          </a:p>
          <a:p>
            <a:pPr lvl="1"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26820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</a:rPr>
              <a:t>Wide scope for further cost reductions and operational efficiency increases through modernization and process optimisation</a:t>
            </a:r>
            <a:endParaRPr b="1" lang="en-US" sz="1800" spc="-1" strike="noStrike">
              <a:solidFill>
                <a:srgbClr val="000000"/>
              </a:solidFill>
              <a:latin typeface="Univers LT OMV 55 Roman"/>
            </a:endParaRPr>
          </a:p>
          <a:p>
            <a:pPr lvl="1"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26820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</a:rPr>
              <a:t>Motivated and dedicated teams</a:t>
            </a:r>
            <a:endParaRPr b="1" lang="en-US" sz="1800" spc="-1" strike="noStrike">
              <a:solidFill>
                <a:srgbClr val="000000"/>
              </a:solidFill>
              <a:latin typeface="Univers LT OMV 55 Roman"/>
            </a:endParaRPr>
          </a:p>
          <a:p>
            <a:pPr lvl="1"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26820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</a:rPr>
              <a:t>Production growth in our international ventures</a:t>
            </a:r>
            <a:endParaRPr b="1" lang="en-US" sz="18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200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Univers LT OMV 55 Roman"/>
              </a:rPr>
              <a:t>Petrom E&amp;P has a promising future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pic>
        <p:nvPicPr>
          <p:cNvPr id="290" name="Picture 4" descr="1_rom_c_romoil_field_in_wine_field"/>
          <p:cNvPicPr/>
          <p:nvPr/>
        </p:nvPicPr>
        <p:blipFill>
          <a:blip r:embed="rId1"/>
          <a:stretch/>
        </p:blipFill>
        <p:spPr>
          <a:xfrm>
            <a:off x="642960" y="1219320"/>
            <a:ext cx="2000160" cy="1785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642960" y="303840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31800" y="4572000"/>
            <a:ext cx="2023920" cy="1881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Univers LT OMV 55 Roman"/>
              </a:rPr>
              <a:t>BACKUP</a:t>
            </a:r>
            <a:endParaRPr b="1" lang="en-US" sz="3600" spc="-1" strike="noStrike">
              <a:solidFill>
                <a:srgbClr val="003366"/>
              </a:solidFill>
              <a:latin typeface="Univers LT OMV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0" descr=""/>
          <p:cNvPicPr/>
          <p:nvPr/>
        </p:nvPicPr>
        <p:blipFill>
          <a:blip r:embed="rId1"/>
          <a:stretch/>
        </p:blipFill>
        <p:spPr>
          <a:xfrm>
            <a:off x="380880" y="1298520"/>
            <a:ext cx="28800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Univers LT OMV 55 Roman"/>
              </a:rPr>
              <a:t>E&amp;P’s assets are obsolete and require modernisation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pic>
        <p:nvPicPr>
          <p:cNvPr id="296" name="Picture 5" descr="slide 3_862"/>
          <p:cNvPicPr/>
          <p:nvPr/>
        </p:nvPicPr>
        <p:blipFill>
          <a:blip r:embed="rId2"/>
          <a:stretch/>
        </p:blipFill>
        <p:spPr>
          <a:xfrm>
            <a:off x="549360" y="3611520"/>
            <a:ext cx="287964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Picture 9" descr="PIG 10-11"/>
          <p:cNvPicPr/>
          <p:nvPr/>
        </p:nvPicPr>
        <p:blipFill>
          <a:blip r:embed="rId3"/>
          <a:stretch/>
        </p:blipFill>
        <p:spPr>
          <a:xfrm>
            <a:off x="3581280" y="4497480"/>
            <a:ext cx="28800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8" name="Picture 6" descr="C:\Documents and Settings\ana-maria_dinu\Desktop\Alba\Pictures\Asset 1 tankfarms_parks\Old Injection Bordei Verde .jpg"/>
          <p:cNvPicPr/>
          <p:nvPr/>
        </p:nvPicPr>
        <p:blipFill>
          <a:blip r:embed="rId4"/>
          <a:stretch/>
        </p:blipFill>
        <p:spPr>
          <a:xfrm>
            <a:off x="2819520" y="2289240"/>
            <a:ext cx="287964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9" name="Picture 7" descr="C:\Documents and Settings\ana-maria_dinu\Desktop\Alba\Pictures\Asset 1 tankfarms_parks\Old Tank Farm Independenta.jpg"/>
          <p:cNvPicPr/>
          <p:nvPr/>
        </p:nvPicPr>
        <p:blipFill>
          <a:blip r:embed="rId5"/>
          <a:stretch/>
        </p:blipFill>
        <p:spPr>
          <a:xfrm>
            <a:off x="5943600" y="2744640"/>
            <a:ext cx="287964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0" name="Picture 35" descr="C:\OMV\01_E&amp;Psupport\05_Office\presentations\standard presentation\pictures\well Mod\P1010902.JPG"/>
          <p:cNvPicPr/>
          <p:nvPr/>
        </p:nvPicPr>
        <p:blipFill>
          <a:blip r:embed="rId6"/>
          <a:stretch/>
        </p:blipFill>
        <p:spPr>
          <a:xfrm>
            <a:off x="4267080" y="992160"/>
            <a:ext cx="28800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Univers LT OMV 55 Roman"/>
              </a:rPr>
              <a:t>Perspectives for PETROM E&amp;P staff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3320" y="1318680"/>
            <a:ext cx="3989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</a:rPr>
              <a:t>Transformation of PETROM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</a:rPr>
              <a:t>into modern international oil and gas company</a:t>
            </a:r>
            <a:endParaRPr b="0" lang="en-US" sz="1800" spc="-1" strike="noStrike">
              <a:solidFill>
                <a:srgbClr val="000000"/>
              </a:solidFill>
              <a:latin typeface="Univers LT OMV 55 Roman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</a:rPr>
              <a:t>Leading positions will be predominantly filled with local staff</a:t>
            </a:r>
            <a:endParaRPr b="0" lang="en-US" sz="1800" spc="-1" strike="noStrike">
              <a:solidFill>
                <a:srgbClr val="000000"/>
              </a:solidFill>
              <a:latin typeface="Univers LT OMV 55 Roman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</a:rPr>
              <a:t>OMV is operating in 6 areas worldwide giving experts and managers the chance to go international</a:t>
            </a:r>
            <a:endParaRPr b="0" lang="en-US" sz="1800" spc="-1" strike="noStrike">
              <a:solidFill>
                <a:srgbClr val="000000"/>
              </a:solidFill>
              <a:latin typeface="Univers LT OMV 55 Roman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</a:rPr>
              <a:t>HSEQ on top of agenda</a:t>
            </a:r>
            <a:endParaRPr b="0" lang="en-US" sz="1800" spc="-1" strike="noStrike">
              <a:solidFill>
                <a:srgbClr val="000000"/>
              </a:solidFill>
              <a:latin typeface="Univers LT OMV 55 Roman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</a:rPr>
              <a:t>Exciting challenges ahead for coming decades</a:t>
            </a:r>
            <a:endParaRPr b="0" lang="en-US" sz="1800" spc="-1" strike="noStrike">
              <a:solidFill>
                <a:srgbClr val="000000"/>
              </a:solidFill>
              <a:latin typeface="Univers LT OMV 55 Roman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</a:rPr>
              <a:t>Top performers swiftly rising up the career ladder</a:t>
            </a:r>
            <a:endParaRPr b="0" lang="en-US" sz="1800" spc="-1" strike="noStrike">
              <a:solidFill>
                <a:srgbClr val="000000"/>
              </a:solidFill>
              <a:latin typeface="Univers LT OMV 55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073480" y="1268280"/>
            <a:ext cx="28512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Univers LT OMV 55 Roman"/>
                <a:ea typeface="Arial"/>
              </a:rPr>
              <a:t>Petrom</a:t>
            </a:r>
            <a:r>
              <a:rPr b="1" lang="en-GB" sz="2400" spc="-1" strike="noStrike">
                <a:solidFill>
                  <a:srgbClr val="003366"/>
                </a:solidFill>
                <a:latin typeface="Univers LT OMV 55 Roman"/>
              </a:rPr>
              <a:t> SA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graphicFrame>
        <p:nvGraphicFramePr>
          <p:cNvPr id="174" name="Object 9"/>
          <p:cNvGraphicFramePr/>
          <p:nvPr/>
        </p:nvGraphicFramePr>
        <p:xfrm>
          <a:off x="609480" y="4741920"/>
          <a:ext cx="3175200" cy="116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41920"/>
                    <a:ext cx="31752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Picture 10" descr=""/>
          <p:cNvPicPr/>
          <p:nvPr/>
        </p:nvPicPr>
        <p:blipFill>
          <a:blip r:embed="rId3"/>
          <a:stretch/>
        </p:blipFill>
        <p:spPr>
          <a:xfrm>
            <a:off x="6237360" y="1268280"/>
            <a:ext cx="2371680" cy="2881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4"/>
          <a:stretch/>
        </p:blipFill>
        <p:spPr>
          <a:xfrm>
            <a:off x="3598920" y="1268280"/>
            <a:ext cx="2268360" cy="2881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"/>
          <p:cNvPicPr/>
          <p:nvPr/>
        </p:nvPicPr>
        <p:blipFill>
          <a:blip r:embed="rId5"/>
          <a:stretch/>
        </p:blipFill>
        <p:spPr>
          <a:xfrm>
            <a:off x="603360" y="1268280"/>
            <a:ext cx="2597040" cy="2881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3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graphicFrame>
        <p:nvGraphicFramePr>
          <p:cNvPr id="180" name="Object 14"/>
          <p:cNvGraphicFramePr/>
          <p:nvPr/>
        </p:nvGraphicFramePr>
        <p:xfrm>
          <a:off x="4651200" y="4343400"/>
          <a:ext cx="4070520" cy="180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1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51200" y="4343400"/>
                    <a:ext cx="407052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POSTER"/>
          <p:cNvPicPr/>
          <p:nvPr/>
        </p:nvPicPr>
        <p:blipFill>
          <a:blip r:embed="rId1"/>
          <a:stretch/>
        </p:blipFill>
        <p:spPr>
          <a:xfrm>
            <a:off x="1306440" y="1596960"/>
            <a:ext cx="6623280" cy="44751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1"/>
          <p:cNvSpPr/>
          <p:nvPr/>
        </p:nvSpPr>
        <p:spPr>
          <a:xfrm>
            <a:off x="4911840" y="1000080"/>
            <a:ext cx="3875040" cy="3286080"/>
          </a:xfrm>
          <a:prstGeom prst="rect">
            <a:avLst/>
          </a:prstGeom>
          <a:solidFill>
            <a:srgbClr val="d0eb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0" y="6553080"/>
            <a:ext cx="4191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Univers LT OMV 55 Roman"/>
            </a:endParaRPr>
          </a:p>
        </p:txBody>
      </p:sp>
      <p:pic>
        <p:nvPicPr>
          <p:cNvPr id="185" name="Picture 4" descr="Mechanical Drilling Rig, 1861"/>
          <p:cNvPicPr/>
          <p:nvPr/>
        </p:nvPicPr>
        <p:blipFill>
          <a:blip r:embed="rId2"/>
          <a:stretch/>
        </p:blipFill>
        <p:spPr>
          <a:xfrm>
            <a:off x="685800" y="4495680"/>
            <a:ext cx="139392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Rectangle 5"/>
          <p:cNvSpPr/>
          <p:nvPr/>
        </p:nvSpPr>
        <p:spPr>
          <a:xfrm>
            <a:off x="533520" y="2295360"/>
            <a:ext cx="2209680" cy="520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First well mechanic drilled in 1861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533520" y="1660680"/>
            <a:ext cx="2209680" cy="520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First production (275 tons) in 1857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2057400" y="4572000"/>
            <a:ext cx="3086280" cy="533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541080" y="131760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Long History:</a:t>
            </a:r>
            <a:endParaRPr b="1" lang="en-US" sz="16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5037120" y="857160"/>
            <a:ext cx="3733920" cy="36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7960" indent="-237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d2d8a"/>
                </a:solidFill>
                <a:latin typeface="Univers LT OMV 55 Roman"/>
                <a:ea typeface="Arial"/>
              </a:rPr>
              <a:t>Petrom E&amp;P Romania 2008</a:t>
            </a:r>
            <a:endParaRPr b="1" lang="en-US" sz="1600" spc="-1" strike="noStrike">
              <a:solidFill>
                <a:srgbClr val="000000"/>
              </a:solidFill>
              <a:latin typeface="Univers LT OMV 55 Roman"/>
            </a:endParaRPr>
          </a:p>
          <a:p>
            <a:pPr marL="237960" indent="-237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d2d8a"/>
                </a:solidFill>
                <a:latin typeface="Univers LT OMV 55 Roman"/>
                <a:ea typeface="Arial"/>
              </a:rPr>
              <a:t>270 operated fields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  <a:p>
            <a:pPr marL="237960" indent="-237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d2d8a"/>
                </a:solidFill>
                <a:latin typeface="Univers LT OMV 55 Roman"/>
                <a:ea typeface="Arial"/>
              </a:rPr>
              <a:t>60,000 km2 exploration acreage*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  <a:p>
            <a:pPr marL="237960" indent="-237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d2d8a"/>
                </a:solidFill>
                <a:latin typeface="Univers LT OMV 55 Roman"/>
                <a:ea typeface="Arial"/>
              </a:rPr>
              <a:t>4,950 km2 production licenses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  <a:p>
            <a:pPr marL="237960" indent="-237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d2d8a"/>
                </a:solidFill>
                <a:latin typeface="Univers LT OMV 55 Roman"/>
                <a:ea typeface="Arial"/>
              </a:rPr>
              <a:t>863 mn boe proved reserves 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  <a:p>
            <a:pPr marL="237960" indent="-237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d2d8a"/>
                </a:solidFill>
                <a:latin typeface="Univers LT OMV 55 Roman"/>
                <a:ea typeface="Arial"/>
              </a:rPr>
              <a:t>~ 190,000 boe/d hydrocarbon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  <a:p>
            <a:pPr marL="237960" indent="-237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d2d8a"/>
                </a:solidFill>
                <a:latin typeface="Univers LT OMV 55 Roman"/>
                <a:ea typeface="Arial"/>
              </a:rPr>
              <a:t>    </a:t>
            </a:r>
            <a:r>
              <a:rPr b="0" lang="en-GB" sz="1400" spc="-1" strike="noStrike">
                <a:solidFill>
                  <a:srgbClr val="2d2d8a"/>
                </a:solidFill>
                <a:latin typeface="Univers LT OMV 55 Roman"/>
                <a:ea typeface="Arial"/>
              </a:rPr>
              <a:t>production 2008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  <a:p>
            <a:pPr marL="237960" indent="-237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d2d8a"/>
                </a:solidFill>
                <a:latin typeface="Univers LT OMV 55 Roman"/>
                <a:ea typeface="Arial"/>
              </a:rPr>
              <a:t>10,000 on- and offshore operated wells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  <a:p>
            <a:pPr marL="237960" indent="-237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d2d8a"/>
                </a:solidFill>
                <a:latin typeface="Univers LT OMV 55 Roman"/>
                <a:ea typeface="Arial"/>
              </a:rPr>
              <a:t>60 tank farms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  <a:p>
            <a:pPr marL="237960" indent="-237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d2d8a"/>
                </a:solidFill>
                <a:latin typeface="Univers LT OMV 55 Roman"/>
                <a:ea typeface="Arial"/>
              </a:rPr>
              <a:t>600 gathering stations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  <a:p>
            <a:pPr marL="237960" indent="-237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d2d8a"/>
                </a:solidFill>
                <a:latin typeface="Univers LT OMV 55 Roman"/>
                <a:ea typeface="Arial"/>
              </a:rPr>
              <a:t>13,454 employees**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609480" y="6072120"/>
            <a:ext cx="518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*   after relinquishment of 18 blocks and acquisition of 3 new blocks for 2007</a:t>
            </a:r>
            <a:endParaRPr b="1" lang="en-US" sz="1000" spc="-1" strike="noStrike">
              <a:solidFill>
                <a:srgbClr val="000000"/>
              </a:solidFill>
              <a:latin typeface="Univers LT OMV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** Source: HR Department – Staff level at Year end 2008</a:t>
            </a:r>
            <a:endParaRPr b="1" lang="en-US" sz="10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50436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3060"/>
                </a:solidFill>
                <a:latin typeface="Univers LT OMV 55 Roman"/>
              </a:rPr>
              <a:t>Petrom E&amp;P – key facts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Univers LT OMV 55 Roman"/>
              </a:rPr>
              <a:t>Challenges for Petrom E&amp;P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9480" y="1247760"/>
            <a:ext cx="1165320" cy="500076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741240" y="1392120"/>
            <a:ext cx="1500480" cy="146376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Resources</a:t>
            </a:r>
            <a:endParaRPr b="1" lang="en-US" sz="18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747720" y="3068640"/>
            <a:ext cx="1500120" cy="14652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Operations</a:t>
            </a:r>
            <a:endParaRPr b="1" lang="en-US" sz="18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747720" y="4724280"/>
            <a:ext cx="1500120" cy="14288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Culture</a:t>
            </a:r>
            <a:endParaRPr b="1" lang="en-US" sz="18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432160" y="1447920"/>
            <a:ext cx="648324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High production decline – mature fields</a:t>
            </a:r>
            <a:endParaRPr b="1" lang="en-US" sz="1700" spc="-1" strike="noStrike">
              <a:solidFill>
                <a:srgbClr val="000000"/>
              </a:solidFill>
              <a:latin typeface="Univers LT OMV 55 Roman"/>
            </a:endParaRPr>
          </a:p>
          <a:p>
            <a:pPr marL="344520" indent="-34452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Gas production restricted by seasonal gas demand, 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fertilizer industry and infrastructure limitations</a:t>
            </a:r>
            <a:endParaRPr b="1" lang="en-US" sz="1700" spc="-1" strike="noStrike">
              <a:solidFill>
                <a:srgbClr val="000000"/>
              </a:solidFill>
              <a:latin typeface="Univers LT OMV 55 Roman"/>
            </a:endParaRPr>
          </a:p>
          <a:p>
            <a:pPr marL="344520" indent="-34452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Surface facilities demand substantial modernization</a:t>
            </a:r>
            <a:endParaRPr b="1" lang="en-US" sz="17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2427120" y="3352680"/>
            <a:ext cx="6411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Complexity due to geographical spread </a:t>
            </a:r>
            <a:endParaRPr b="1" lang="en-US" sz="1700" spc="-1" strike="noStrike">
              <a:solidFill>
                <a:srgbClr val="000000"/>
              </a:solidFill>
              <a:latin typeface="Univers LT OMV 55 Roman"/>
            </a:endParaRPr>
          </a:p>
          <a:p>
            <a:pPr marL="344520" indent="-34452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Large number of mature fields</a:t>
            </a:r>
            <a:endParaRPr b="1" lang="en-US" sz="1700" spc="-1" strike="noStrike">
              <a:solidFill>
                <a:srgbClr val="000000"/>
              </a:solidFill>
              <a:latin typeface="Univers LT OMV 55 Roman"/>
            </a:endParaRPr>
          </a:p>
          <a:p>
            <a:pPr marL="344520" indent="-34452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Ongoing modernization of systems</a:t>
            </a:r>
            <a:endParaRPr b="1" lang="en-US" sz="17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427120" y="4876920"/>
            <a:ext cx="61833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Challenge to change mindset and attitudes </a:t>
            </a:r>
            <a:endParaRPr b="1" lang="en-US" sz="1700" spc="-1" strike="noStrike">
              <a:solidFill>
                <a:srgbClr val="000000"/>
              </a:solidFill>
              <a:latin typeface="Univers LT OMV 55 Roman"/>
            </a:endParaRPr>
          </a:p>
          <a:p>
            <a:pPr marL="344520" indent="-34452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New ways of working not yet fully cascaded down </a:t>
            </a:r>
            <a:endParaRPr b="1" lang="en-US" sz="1700" spc="-1" strike="noStrike">
              <a:solidFill>
                <a:srgbClr val="000000"/>
              </a:solidFill>
              <a:latin typeface="Univers LT OMV 55 Roman"/>
            </a:endParaRPr>
          </a:p>
          <a:p>
            <a:pPr marL="344520" indent="-34452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Missing HSEQ awareness</a:t>
            </a:r>
            <a:endParaRPr b="1" lang="en-US" sz="17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Univers LT OMV 55 Roman"/>
              </a:rPr>
              <a:t>Significant results from our transformation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graphicFrame>
        <p:nvGraphicFramePr>
          <p:cNvPr id="202" name="Object 10"/>
          <p:cNvGraphicFramePr/>
          <p:nvPr/>
        </p:nvGraphicFramePr>
        <p:xfrm>
          <a:off x="380880" y="1371600"/>
          <a:ext cx="7686720" cy="51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768672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13"/>
          <p:cNvSpPr/>
          <p:nvPr/>
        </p:nvSpPr>
        <p:spPr>
          <a:xfrm>
            <a:off x="6172200" y="3657600"/>
            <a:ext cx="2057400" cy="533520"/>
          </a:xfrm>
          <a:prstGeom prst="rect">
            <a:avLst/>
          </a:prstGeom>
          <a:solidFill>
            <a:srgbClr val="d0eb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LT OMV 55 Roman"/>
              </a:rPr>
              <a:t>Potential Upside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Univers LT OMV 55 Roman"/>
              </a:rPr>
              <a:t>with high investments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4998960" y="2278080"/>
            <a:ext cx="1938240" cy="609480"/>
          </a:xfrm>
          <a:prstGeom prst="rect">
            <a:avLst/>
          </a:prstGeom>
          <a:solidFill>
            <a:srgbClr val="d0eb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Univers LT OMV 55 Roman"/>
              </a:rPr>
              <a:t>Arrested Oil Decline</a:t>
            </a:r>
            <a:endParaRPr b="1" lang="en-US" sz="1200" spc="-1" strike="noStrike">
              <a:solidFill>
                <a:srgbClr val="000000"/>
              </a:solidFill>
              <a:latin typeface="Univers LT OMV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Univers LT OMV 55 Roman"/>
              </a:rPr>
              <a:t>in 2007 at 89,000 boe/d</a:t>
            </a:r>
            <a:endParaRPr b="1" lang="en-US" sz="12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533520" y="1025640"/>
            <a:ext cx="7543800" cy="337320"/>
          </a:xfrm>
          <a:prstGeom prst="rect">
            <a:avLst/>
          </a:prstGeom>
          <a:solidFill>
            <a:srgbClr val="00206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Univers LT OMV 55 Roman"/>
              </a:rPr>
              <a:t>Oil production history in Romania [bbl/day]</a:t>
            </a:r>
            <a:endParaRPr b="1" lang="en-US" sz="16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4191120"/>
            <a:ext cx="152280" cy="7617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2895480"/>
            <a:ext cx="381240" cy="19814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752480" y="3138480"/>
          <a:ext cx="3886200" cy="2043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138480"/>
                    <a:ext cx="388620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1" name="AutoShape 10"/>
          <p:cNvCxnSpPr/>
          <p:nvPr/>
        </p:nvCxnSpPr>
        <p:spPr>
          <a:xfrm>
            <a:off x="5231880" y="1485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" name="AutoShape 11"/>
          <p:cNvCxnSpPr/>
          <p:nvPr/>
        </p:nvCxnSpPr>
        <p:spPr>
          <a:xfrm>
            <a:off x="5231880" y="1485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AutoShape 12"/>
          <p:cNvCxnSpPr/>
          <p:nvPr/>
        </p:nvCxnSpPr>
        <p:spPr>
          <a:xfrm>
            <a:off x="5231880" y="1485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4" name="Rectangle 2"/>
          <p:cNvSpPr/>
          <p:nvPr/>
        </p:nvSpPr>
        <p:spPr>
          <a:xfrm>
            <a:off x="225360" y="47520"/>
            <a:ext cx="8501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pic>
        <p:nvPicPr>
          <p:cNvPr id="215" name="Picture 10" descr=""/>
          <p:cNvPicPr/>
          <p:nvPr/>
        </p:nvPicPr>
        <p:blipFill>
          <a:blip r:embed="rId1"/>
          <a:stretch/>
        </p:blipFill>
        <p:spPr>
          <a:xfrm>
            <a:off x="873000" y="3946680"/>
            <a:ext cx="7737480" cy="2428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467840" cy="22860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1"/>
          <p:cNvSpPr/>
          <p:nvPr/>
        </p:nvSpPr>
        <p:spPr>
          <a:xfrm>
            <a:off x="809640" y="9144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Oil production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809640" y="11430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[boe/d]</a:t>
            </a:r>
            <a:endParaRPr b="1" lang="en-US" sz="12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808200" y="37908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[boe/d]</a:t>
            </a:r>
            <a:endParaRPr b="1" lang="en-US" sz="12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816480" y="358128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Gas production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21" name="Text Box 60"/>
          <p:cNvSpPr/>
          <p:nvPr/>
        </p:nvSpPr>
        <p:spPr>
          <a:xfrm>
            <a:off x="4343040" y="6153120"/>
            <a:ext cx="2518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* w/o workover and intervention</a:t>
            </a:r>
            <a:endParaRPr b="1" lang="en-US" sz="12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58720" y="117000"/>
            <a:ext cx="8043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Univers LT OMV 55 Roman"/>
              </a:rPr>
              <a:t>Oil production stabilised, gas subject to limitations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1" descr="C:\OMV\01_E&amp;Psupport\05_Office\presentations\standard presentation\pictures\well Mod\Videle 2574 After Modern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191280" y="3994200"/>
            <a:ext cx="2595600" cy="1958760"/>
          </a:xfrm>
          <a:prstGeom prst="rect">
            <a:avLst/>
          </a:prstGeom>
          <a:ln w="0">
            <a:noFill/>
          </a:ln>
        </p:spPr>
      </p:pic>
      <p:pic>
        <p:nvPicPr>
          <p:cNvPr id="224" name="Chart 12" descr=""/>
          <p:cNvPicPr/>
          <p:nvPr/>
        </p:nvPicPr>
        <p:blipFill>
          <a:blip r:embed="rId2"/>
          <a:stretch/>
        </p:blipFill>
        <p:spPr>
          <a:xfrm>
            <a:off x="411120" y="1285920"/>
            <a:ext cx="5989680" cy="49291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Univers LT OMV 55 Roman"/>
              </a:rPr>
              <a:t>Modernisation of 5049 wells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203880" y="3684600"/>
            <a:ext cx="2583000" cy="3117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18000" tIns="72000" bIns="720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Univers LT OMV 55 Roman"/>
                <a:ea typeface="Arial"/>
              </a:rPr>
              <a:t>AFTER</a:t>
            </a:r>
            <a:endParaRPr b="1" lang="en-US" sz="11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6203880" y="1285920"/>
            <a:ext cx="2583000" cy="3117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18000" tIns="72000" bIns="720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Univers LT OMV 55 Roman"/>
                <a:ea typeface="Arial"/>
              </a:rPr>
              <a:t>BEFORE</a:t>
            </a:r>
            <a:endParaRPr b="1" lang="en-US" sz="11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28" name="TextBox 15"/>
          <p:cNvSpPr/>
          <p:nvPr/>
        </p:nvSpPr>
        <p:spPr>
          <a:xfrm>
            <a:off x="707040" y="4694400"/>
            <a:ext cx="63036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2007</a:t>
            </a:r>
            <a:endParaRPr b="1" lang="en-US" sz="1600" spc="-1" strike="noStrike">
              <a:solidFill>
                <a:srgbClr val="000000"/>
              </a:solidFill>
              <a:latin typeface="Univers LT OMV 55 Roman"/>
            </a:endParaRPr>
          </a:p>
        </p:txBody>
      </p:sp>
      <p:pic>
        <p:nvPicPr>
          <p:cNvPr id="229" name="Picture 12" descr="C:\OMV\01_E&amp;Psupport\05_Office\presentations\standard presentation\pictures\well Mod\Videle 2596 before Modern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6203880" y="1571760"/>
            <a:ext cx="2583000" cy="19634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1"/>
          <p:cNvSpPr/>
          <p:nvPr/>
        </p:nvSpPr>
        <p:spPr>
          <a:xfrm>
            <a:off x="357120" y="5091120"/>
            <a:ext cx="5857920" cy="9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Intervention rate: 1.5 interventions/well/year</a:t>
            </a:r>
            <a:endParaRPr b="1" lang="en-US" sz="1600" spc="-1" strike="noStrike">
              <a:solidFill>
                <a:srgbClr val="000000"/>
              </a:solidFill>
              <a:latin typeface="Univers LT OMV 55 Roman"/>
            </a:endParaRPr>
          </a:p>
          <a:p>
            <a:pPr marL="271440" indent="-27144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Well Modernization Program received “Romanian National Award on Project Excellence”</a:t>
            </a:r>
            <a:endParaRPr b="1" lang="en-US" sz="16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31" name="Straight Connector 14"/>
          <p:cNvSpPr/>
          <p:nvPr/>
        </p:nvSpPr>
        <p:spPr>
          <a:xfrm flipH="1">
            <a:off x="2084400" y="3025800"/>
            <a:ext cx="1440" cy="19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2091600" y="4697280"/>
            <a:ext cx="63036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2008</a:t>
            </a:r>
            <a:endParaRPr b="1" lang="en-US" sz="16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33" name="TextBox 19"/>
          <p:cNvSpPr/>
          <p:nvPr/>
        </p:nvSpPr>
        <p:spPr>
          <a:xfrm>
            <a:off x="558000" y="990720"/>
            <a:ext cx="413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Univers LT OMV 55 Roman"/>
                <a:ea typeface="Arial"/>
              </a:rPr>
              <a:t>RESULTS OF WELL MODERNIZATION PROGRAM</a:t>
            </a:r>
            <a:endParaRPr b="1" lang="en-US" sz="14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804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LT OMV 55 Roman"/>
              </a:rPr>
              <a:t>Clear improvement in E&amp;P drilling capability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graphicFrame>
        <p:nvGraphicFramePr>
          <p:cNvPr id="235" name="Object 2"/>
          <p:cNvGraphicFramePr/>
          <p:nvPr/>
        </p:nvGraphicFramePr>
        <p:xfrm>
          <a:off x="209520" y="1371600"/>
          <a:ext cx="8553600" cy="49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371600"/>
                    <a:ext cx="855360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Freeform 5"/>
          <p:cNvSpPr/>
          <p:nvPr/>
        </p:nvSpPr>
        <p:spPr>
          <a:xfrm>
            <a:off x="3886200" y="2819520"/>
            <a:ext cx="4191120" cy="1066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18"/>
          <p:cNvGrpSpPr/>
          <p:nvPr/>
        </p:nvGrpSpPr>
        <p:grpSpPr>
          <a:xfrm>
            <a:off x="1599120" y="3048120"/>
            <a:ext cx="5292360" cy="3376440"/>
            <a:chOff x="1599120" y="3048120"/>
            <a:chExt cx="5292360" cy="3376440"/>
          </a:xfrm>
        </p:grpSpPr>
        <p:pic>
          <p:nvPicPr>
            <p:cNvPr id="239" name="Picture 19" descr="2009_February_Romania Exp_Blocks"/>
            <p:cNvPicPr/>
            <p:nvPr/>
          </p:nvPicPr>
          <p:blipFill>
            <a:blip r:embed="rId1"/>
            <a:stretch/>
          </p:blipFill>
          <p:spPr>
            <a:xfrm>
              <a:off x="1633680" y="3048120"/>
              <a:ext cx="5257800" cy="337644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240" name="Oval 20"/>
            <p:cNvSpPr/>
            <p:nvPr/>
          </p:nvSpPr>
          <p:spPr>
            <a:xfrm>
              <a:off x="4910400" y="4795560"/>
              <a:ext cx="7632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5062680" y="5024160"/>
              <a:ext cx="76320" cy="75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42" name="Oval 22"/>
            <p:cNvSpPr/>
            <p:nvPr/>
          </p:nvSpPr>
          <p:spPr>
            <a:xfrm>
              <a:off x="4986720" y="5329080"/>
              <a:ext cx="75960" cy="75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43" name="Oval 23"/>
            <p:cNvSpPr/>
            <p:nvPr/>
          </p:nvSpPr>
          <p:spPr>
            <a:xfrm>
              <a:off x="5901120" y="5709960"/>
              <a:ext cx="75960" cy="75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3081600" y="5405400"/>
              <a:ext cx="7632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45" name="Oval 25"/>
            <p:cNvSpPr/>
            <p:nvPr/>
          </p:nvSpPr>
          <p:spPr>
            <a:xfrm>
              <a:off x="3157920" y="5709960"/>
              <a:ext cx="7596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46" name="Oval 26"/>
            <p:cNvSpPr/>
            <p:nvPr/>
          </p:nvSpPr>
          <p:spPr>
            <a:xfrm>
              <a:off x="3233880" y="5634000"/>
              <a:ext cx="76320" cy="756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47" name="Oval 27"/>
            <p:cNvSpPr/>
            <p:nvPr/>
          </p:nvSpPr>
          <p:spPr>
            <a:xfrm>
              <a:off x="3157920" y="5405400"/>
              <a:ext cx="75960" cy="756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48" name="Oval 28"/>
            <p:cNvSpPr/>
            <p:nvPr/>
          </p:nvSpPr>
          <p:spPr>
            <a:xfrm>
              <a:off x="4072320" y="5329080"/>
              <a:ext cx="7596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49" name="Oval 29"/>
            <p:cNvSpPr/>
            <p:nvPr/>
          </p:nvSpPr>
          <p:spPr>
            <a:xfrm>
              <a:off x="6282000" y="5634000"/>
              <a:ext cx="76320" cy="756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50" name="Oval 30"/>
            <p:cNvSpPr/>
            <p:nvPr/>
          </p:nvSpPr>
          <p:spPr>
            <a:xfrm>
              <a:off x="6053400" y="5634000"/>
              <a:ext cx="76320" cy="756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51" name="Oval 31"/>
            <p:cNvSpPr/>
            <p:nvPr/>
          </p:nvSpPr>
          <p:spPr>
            <a:xfrm>
              <a:off x="3462480" y="5562360"/>
              <a:ext cx="76320" cy="75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52" name="AutoShape 32"/>
            <p:cNvSpPr/>
            <p:nvPr/>
          </p:nvSpPr>
          <p:spPr>
            <a:xfrm>
              <a:off x="3452760" y="4719600"/>
              <a:ext cx="624600" cy="231120"/>
            </a:xfrm>
            <a:prstGeom prst="wedgeRectCallout">
              <a:avLst>
                <a:gd name="adj1" fmla="val 54259"/>
                <a:gd name="adj2" fmla="val 2282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Univers"/>
                </a:rPr>
                <a:t>Colibasi</a:t>
              </a:r>
              <a:endParaRPr b="1" lang="en-US" sz="9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53" name="AutoShape 33"/>
            <p:cNvSpPr/>
            <p:nvPr/>
          </p:nvSpPr>
          <p:spPr>
            <a:xfrm>
              <a:off x="4586760" y="4109760"/>
              <a:ext cx="636480" cy="231120"/>
            </a:xfrm>
            <a:prstGeom prst="wedgeRectCallout">
              <a:avLst>
                <a:gd name="adj1" fmla="val 5962"/>
                <a:gd name="adj2" fmla="val 257930"/>
              </a:avLst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Univers"/>
                </a:rPr>
                <a:t>Torcesti</a:t>
              </a:r>
              <a:endParaRPr b="1" lang="en-US" sz="9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54" name="AutoShape 34"/>
            <p:cNvSpPr/>
            <p:nvPr/>
          </p:nvSpPr>
          <p:spPr>
            <a:xfrm>
              <a:off x="5177160" y="4491000"/>
              <a:ext cx="982800" cy="231120"/>
            </a:xfrm>
            <a:prstGeom prst="wedgeRectCallout">
              <a:avLst>
                <a:gd name="adj1" fmla="val -54976"/>
                <a:gd name="adj2" fmla="val 189032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Univers"/>
                </a:rPr>
                <a:t>Independenta</a:t>
              </a:r>
              <a:endParaRPr b="1" lang="en-US" sz="9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55" name="AutoShape 35"/>
            <p:cNvSpPr/>
            <p:nvPr/>
          </p:nvSpPr>
          <p:spPr>
            <a:xfrm>
              <a:off x="5342400" y="4871880"/>
              <a:ext cx="836640" cy="231120"/>
            </a:xfrm>
            <a:prstGeom prst="wedgeRectCallout">
              <a:avLst>
                <a:gd name="adj1" fmla="val -82856"/>
                <a:gd name="adj2" fmla="val 15155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Univers"/>
                </a:rPr>
                <a:t>Oprisenesti</a:t>
              </a:r>
              <a:endParaRPr b="1" lang="en-US" sz="9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56" name="AutoShape 36"/>
            <p:cNvSpPr/>
            <p:nvPr/>
          </p:nvSpPr>
          <p:spPr>
            <a:xfrm>
              <a:off x="4758120" y="5709960"/>
              <a:ext cx="487080" cy="231120"/>
            </a:xfrm>
            <a:prstGeom prst="wedgeRectCallout">
              <a:avLst>
                <a:gd name="adj1" fmla="val 188699"/>
                <a:gd name="adj2" fmla="val -4487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Univers"/>
                </a:rPr>
                <a:t>Sinoe</a:t>
              </a:r>
              <a:endParaRPr b="1" lang="en-US" sz="9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57" name="AutoShape 37"/>
            <p:cNvSpPr/>
            <p:nvPr/>
          </p:nvSpPr>
          <p:spPr>
            <a:xfrm>
              <a:off x="5880240" y="5252760"/>
              <a:ext cx="486000" cy="231120"/>
            </a:xfrm>
            <a:prstGeom prst="wedgeRectCallout">
              <a:avLst>
                <a:gd name="adj1" fmla="val -7587"/>
                <a:gd name="adj2" fmla="val 12915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Univers"/>
                </a:rPr>
                <a:t>Delta</a:t>
              </a:r>
              <a:endParaRPr b="1" lang="en-US" sz="9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58" name="AutoShape 38"/>
            <p:cNvSpPr/>
            <p:nvPr/>
          </p:nvSpPr>
          <p:spPr>
            <a:xfrm>
              <a:off x="4135680" y="6167160"/>
              <a:ext cx="1177920" cy="231120"/>
            </a:xfrm>
            <a:prstGeom prst="wedgeRectCallout">
              <a:avLst>
                <a:gd name="adj1" fmla="val 137625"/>
                <a:gd name="adj2" fmla="val -265550"/>
              </a:avLst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Univers"/>
                </a:rPr>
                <a:t>Cobalcescu South</a:t>
              </a:r>
              <a:endParaRPr b="1" lang="en-US" sz="9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59" name="AutoShape 39"/>
            <p:cNvSpPr/>
            <p:nvPr/>
          </p:nvSpPr>
          <p:spPr>
            <a:xfrm>
              <a:off x="2766960" y="4719600"/>
              <a:ext cx="543960" cy="231120"/>
            </a:xfrm>
            <a:prstGeom prst="wedgeRectCallout">
              <a:avLst>
                <a:gd name="adj1" fmla="val 80023"/>
                <a:gd name="adj2" fmla="val 308319"/>
              </a:avLst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Univers"/>
                </a:rPr>
                <a:t>Mamu</a:t>
              </a:r>
              <a:endParaRPr b="1" lang="en-US" sz="9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60" name="AutoShape 40"/>
            <p:cNvSpPr/>
            <p:nvPr/>
          </p:nvSpPr>
          <p:spPr>
            <a:xfrm>
              <a:off x="1614600" y="5481360"/>
              <a:ext cx="1083240" cy="231120"/>
            </a:xfrm>
            <a:prstGeom prst="wedgeRectCallout">
              <a:avLst>
                <a:gd name="adj1" fmla="val 97305"/>
                <a:gd name="adj2" fmla="val 40356"/>
              </a:avLst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Univers"/>
                </a:rPr>
                <a:t>Sopot / Predesti</a:t>
              </a:r>
              <a:endParaRPr b="1" lang="en-US" sz="9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61" name="AutoShape 41"/>
            <p:cNvSpPr/>
            <p:nvPr/>
          </p:nvSpPr>
          <p:spPr>
            <a:xfrm>
              <a:off x="1599120" y="4795560"/>
              <a:ext cx="1115280" cy="231120"/>
            </a:xfrm>
            <a:prstGeom prst="wedgeRectCallout">
              <a:avLst>
                <a:gd name="adj1" fmla="val 86236"/>
                <a:gd name="adj2" fmla="val 232111"/>
              </a:avLst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Univers"/>
                </a:rPr>
                <a:t>Valeni / Paraieni</a:t>
              </a:r>
              <a:endParaRPr b="1" lang="en-US" sz="9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62" name="Text Box 42"/>
            <p:cNvSpPr/>
            <p:nvPr/>
          </p:nvSpPr>
          <p:spPr>
            <a:xfrm>
              <a:off x="1633680" y="3578040"/>
              <a:ext cx="298620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Univers"/>
                </a:rPr>
                <a:t>Key discoveries 2007 - 2008</a:t>
              </a:r>
              <a:endParaRPr b="1" lang="en-US" sz="14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043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Univers LT OMV 55 Roman"/>
              </a:rPr>
              <a:t>Exploration &amp; Appraisal rezults</a:t>
            </a:r>
            <a:endParaRPr b="1" lang="en-US" sz="2400" spc="-1" strike="noStrike">
              <a:solidFill>
                <a:srgbClr val="003366"/>
              </a:solidFill>
              <a:latin typeface="Univers LT OMV 55 Roman"/>
            </a:endParaRPr>
          </a:p>
        </p:txBody>
      </p:sp>
      <p:pic>
        <p:nvPicPr>
          <p:cNvPr id="264" name="Object 2" descr=""/>
          <p:cNvPicPr/>
          <p:nvPr/>
        </p:nvPicPr>
        <p:blipFill>
          <a:blip r:embed="rId2"/>
          <a:stretch/>
        </p:blipFill>
        <p:spPr>
          <a:xfrm>
            <a:off x="380880" y="974880"/>
            <a:ext cx="6842160" cy="2530440"/>
          </a:xfrm>
          <a:prstGeom prst="rect">
            <a:avLst/>
          </a:prstGeom>
          <a:ln w="0">
            <a:noFill/>
          </a:ln>
        </p:spPr>
      </p:pic>
      <p:sp>
        <p:nvSpPr>
          <p:cNvPr id="265" name="Line 5"/>
          <p:cNvSpPr/>
          <p:nvPr/>
        </p:nvSpPr>
        <p:spPr>
          <a:xfrm>
            <a:off x="4214880" y="1144440"/>
            <a:ext cx="0" cy="1981440"/>
          </a:xfrm>
          <a:prstGeom prst="line">
            <a:avLst/>
          </a:prstGeom>
          <a:ln w="38160">
            <a:solidFill>
              <a:srgbClr val="f61f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2959200" y="1346040"/>
            <a:ext cx="12189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2435400" y="108756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Univers LT OMV 55 Roman"/>
              </a:rPr>
              <a:t>Before privatization</a:t>
            </a:r>
            <a:endParaRPr b="1" lang="en-US" sz="12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68" name="Line 8"/>
          <p:cNvSpPr/>
          <p:nvPr/>
        </p:nvSpPr>
        <p:spPr>
          <a:xfrm>
            <a:off x="4202280" y="1338120"/>
            <a:ext cx="2666880" cy="0"/>
          </a:xfrm>
          <a:prstGeom prst="line">
            <a:avLst/>
          </a:prstGeom>
          <a:ln w="38160">
            <a:solidFill>
              <a:srgbClr val="f61f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Univers LT OMV 55 Roma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4314240" y="110952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61f08"/>
                </a:solidFill>
                <a:latin typeface="Univers LT OMV 55 Roman"/>
              </a:rPr>
              <a:t>Achieved after privatization</a:t>
            </a:r>
            <a:endParaRPr b="1" lang="en-US" sz="1200" spc="-1" strike="noStrike">
              <a:solidFill>
                <a:srgbClr val="000000"/>
              </a:solidFill>
              <a:latin typeface="Univers LT OMV 55 Roman"/>
            </a:endParaRPr>
          </a:p>
        </p:txBody>
      </p:sp>
      <p:grpSp>
        <p:nvGrpSpPr>
          <p:cNvPr id="270" name="Group 10"/>
          <p:cNvGrpSpPr/>
          <p:nvPr/>
        </p:nvGrpSpPr>
        <p:grpSpPr>
          <a:xfrm>
            <a:off x="7086600" y="4103640"/>
            <a:ext cx="1213560" cy="1012680"/>
            <a:chOff x="7086600" y="4103640"/>
            <a:chExt cx="1213560" cy="1012680"/>
          </a:xfrm>
        </p:grpSpPr>
        <p:sp>
          <p:nvSpPr>
            <p:cNvPr id="271" name="Oval 11"/>
            <p:cNvSpPr/>
            <p:nvPr/>
          </p:nvSpPr>
          <p:spPr>
            <a:xfrm>
              <a:off x="7162920" y="4179960"/>
              <a:ext cx="75960" cy="75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72" name="Oval 12"/>
            <p:cNvSpPr/>
            <p:nvPr/>
          </p:nvSpPr>
          <p:spPr>
            <a:xfrm>
              <a:off x="7162920" y="4408560"/>
              <a:ext cx="7596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73" name="AutoShape 13"/>
            <p:cNvSpPr/>
            <p:nvPr/>
          </p:nvSpPr>
          <p:spPr>
            <a:xfrm>
              <a:off x="7086600" y="4572000"/>
              <a:ext cx="1066680" cy="228600"/>
            </a:xfrm>
            <a:prstGeom prst="wedgeRectCallout">
              <a:avLst>
                <a:gd name="adj1" fmla="val 65180"/>
                <a:gd name="adj2" fmla="val -4861"/>
              </a:avLst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Univers"/>
                </a:rPr>
                <a:t>Gas discovery</a:t>
              </a:r>
              <a:endParaRPr b="1" lang="en-US" sz="9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74" name="AutoShape 14"/>
            <p:cNvSpPr/>
            <p:nvPr/>
          </p:nvSpPr>
          <p:spPr>
            <a:xfrm>
              <a:off x="7086600" y="4887720"/>
              <a:ext cx="1066680" cy="228600"/>
            </a:xfrm>
            <a:prstGeom prst="wedgeRectCallout">
              <a:avLst>
                <a:gd name="adj1" fmla="val 65180"/>
                <a:gd name="adj2" fmla="val -902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Univers"/>
                </a:rPr>
                <a:t>Oil Discovery</a:t>
              </a:r>
              <a:endParaRPr b="1" lang="en-US" sz="9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75" name="Text Box 15"/>
            <p:cNvSpPr/>
            <p:nvPr/>
          </p:nvSpPr>
          <p:spPr>
            <a:xfrm>
              <a:off x="7194240" y="4332240"/>
              <a:ext cx="110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Univers"/>
                </a:rPr>
                <a:t>exploration well</a:t>
              </a:r>
              <a:endParaRPr b="1" lang="en-US" sz="9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  <p:sp>
          <p:nvSpPr>
            <p:cNvPr id="276" name="Text Box 16"/>
            <p:cNvSpPr/>
            <p:nvPr/>
          </p:nvSpPr>
          <p:spPr>
            <a:xfrm>
              <a:off x="7238880" y="4103640"/>
              <a:ext cx="90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Univers"/>
                </a:rPr>
                <a:t>appraisal well</a:t>
              </a:r>
              <a:endParaRPr b="1" lang="en-US" sz="900" spc="-1" strike="noStrike">
                <a:solidFill>
                  <a:srgbClr val="000000"/>
                </a:solidFill>
                <a:latin typeface="Univers LT OMV 55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4:35:50Z</dcterms:created>
  <dc:creator>paul</dc:creator>
  <dc:description/>
  <dc:language>en-US</dc:language>
  <cp:lastModifiedBy>x01011927</cp:lastModifiedBy>
  <dcterms:modified xsi:type="dcterms:W3CDTF">2009-05-28T06:36:59Z</dcterms:modified>
  <cp:revision>85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