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CDD-0DB2-4A7F-8A13-8900F77B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269-6E0D-4F70-83A2-40807A3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7D7-2061-4805-9D4E-05FB4854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8F6-F73F-477C-A1AE-D2B771F5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1E1-EB9D-421E-AF6A-5107E47D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524-229C-4ADC-9ABA-99DA907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BE5-B9E5-44B0-8DC2-3BA825E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4DB-F00B-46D3-AAAD-C3C68953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C38-1753-477B-9931-BB52F6B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517-3802-449F-A9A5-2BD157F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39D-6815-4156-816C-C6DE40E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320-8088-4C9C-8DD0-2A3B0FA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321-A660-4DC7-B8D5-D8E373B7B9D2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04920" y="1523880"/>
            <a:ext cx="8534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 Antiqua"/>
              </a:rPr>
              <a:t>DIFICULTATI JURIDICE SI PRACTIC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 Antiqua"/>
              </a:rPr>
              <a:t>IN IMPLEMENTAREA PROIECTELOR DE PRODUCERE A ENERGIEI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Book Antiqua"/>
              </a:rPr>
              <a:t>DIN SURSE REGENERABILE DE ENERGI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Mediafax Talks about Energy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BUCURESTI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 mai 2009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9" name="Picture 29" descr="logoPNA_RO_1"/>
          <p:cNvPicPr/>
          <p:nvPr/>
        </p:nvPicPr>
        <p:blipFill>
          <a:blip r:embed="rId1"/>
          <a:stretch/>
        </p:blipFill>
        <p:spPr>
          <a:xfrm>
            <a:off x="5562720" y="0"/>
            <a:ext cx="3200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" name="Picture 10" descr="logoPNA_RO_1"/>
          <p:cNvPicPr/>
          <p:nvPr/>
        </p:nvPicPr>
        <p:blipFill>
          <a:blip r:embed="rId1"/>
          <a:stretch/>
        </p:blipFill>
        <p:spPr>
          <a:xfrm>
            <a:off x="6553080" y="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304920" y="838080"/>
            <a:ext cx="822960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ctr">
              <a:lnSpc>
                <a:spcPct val="13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I.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INTRODUCERE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biectivele curente impun ca ponderea energiei electrice produse din surse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 regenerabile de energie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 în totalul consumului brut de energie electrică să fie de: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33% în anul 2010;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35% în anul 2015; şi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38% în anul 2020.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Book Antiqua"/>
              <a:buAutoNum type="romanUcPeriod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45720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Ernest Virgil Popovici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Senior Partn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7" name="Picture 9" descr="logoPNA_RO_1"/>
          <p:cNvPicPr/>
          <p:nvPr/>
        </p:nvPicPr>
        <p:blipFill>
          <a:blip r:embed="rId1"/>
          <a:stretch/>
        </p:blipFill>
        <p:spPr>
          <a:xfrm>
            <a:off x="6553080" y="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304920" y="838080"/>
            <a:ext cx="822960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ctr">
              <a:lnSpc>
                <a:spcPct val="13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II.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900" spc="-1" strike="noStrike">
                <a:solidFill>
                  <a:srgbClr val="000000"/>
                </a:solidFill>
                <a:latin typeface="Book Antiqua"/>
              </a:rPr>
              <a:t>PRACTICA SI RECOMANDARI LA NIVEL UE PENTRU </a:t>
            </a:r>
            <a:r>
              <a:rPr b="1" lang="ro-RO" sz="1900" spc="-1" strike="noStrike">
                <a:solidFill>
                  <a:srgbClr val="000000"/>
                </a:solidFill>
                <a:latin typeface="Book Antiqua"/>
              </a:rPr>
              <a:t>PROMOVAREA SISTEMELOR BAZATE PE ENERGII REGENERABILE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ctr">
              <a:lnSpc>
                <a:spcPct val="13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recomandari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 ale Comisiei Europene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 privind procedurile administrative de autorizare a înfiinţării şi operării capacităţilor de producere a energiei din surse regenerabile de energie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o-RO" sz="1500" spc="-1" strike="noStrike">
                <a:solidFill>
                  <a:srgbClr val="000000"/>
                </a:solidFill>
                <a:latin typeface="Book Antiqua"/>
              </a:rPr>
              <a:t>proceduri administrative de autorizare a înfiinţării şi operării capacităţilor de producere a energiei din surse regenerabile de energie implementate </a:t>
            </a:r>
            <a:r>
              <a:rPr b="0" lang="en-US" sz="1500" spc="-1" strike="noStrike">
                <a:solidFill>
                  <a:srgbClr val="000000"/>
                </a:solidFill>
                <a:latin typeface="Book Antiqua"/>
              </a:rPr>
              <a:t> in state membre.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Book Antiqua"/>
              <a:buAutoNum type="romanUcPeriod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5720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Ernest Virgil Popovici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Senior Partn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7" name="Picture 9" descr="logoPNA_RO_1"/>
          <p:cNvPicPr/>
          <p:nvPr/>
        </p:nvPicPr>
        <p:blipFill>
          <a:blip r:embed="rId1"/>
          <a:stretch/>
        </p:blipFill>
        <p:spPr>
          <a:xfrm>
            <a:off x="6553080" y="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04920" y="838080"/>
            <a:ext cx="8229600" cy="65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ctr">
              <a:lnSpc>
                <a:spcPct val="13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III.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DIFICULTATI JURIDICE SI PRACTICE IN IMPLEMENTAREA PROIECTELOR DE PRODUCERE A ENERGIEI DIN SURSE REGENERABILE DE ENERGIE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BARIERE ADMINISTRATIVE IN DEZVOLTAREA PROIECTELOR DE PRODUCERE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A ENERGIEI ELECTRICE DIN SURSE REGENERABILE DE ENERGI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OBSTACOLE DECURGAND DIN ABSENTA INREGISTRARILOR CADASTRALE DE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BAZA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REGLEMENTARI NECORELATE / PARTIALE IN DOMENIUL PROTECTIEI 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MEDIULUI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Book Antiqua"/>
              <a:buAutoNum type="romanUcPeriod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45720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Ernest Virgil Popovici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Senior Partn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7" name="Picture 9" descr="logoPNA_RO_1"/>
          <p:cNvPicPr/>
          <p:nvPr/>
        </p:nvPicPr>
        <p:blipFill>
          <a:blip r:embed="rId1"/>
          <a:stretch/>
        </p:blipFill>
        <p:spPr>
          <a:xfrm>
            <a:off x="6553080" y="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04920" y="838080"/>
            <a:ext cx="8229600" cy="61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LIPSA NORMELOR SPECIFICE PENTRU APLICAREA DISPOZITIILOR PRIVIND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ACILITATILE ACORDATE PRODUCATORILOR DE ENERGIE DIN SURSE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REGENERABILE DE ENERGI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SUPRAINCARCAREA APARENTA A RETELELOR DE DISTRIBUTIE SI 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OLUTII LEGALE PENTRU SITUATIILE CARE IMPUN UTILIZAREA PARTIALA A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ERENURILOR APARTINAND TERTIL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LIPSA UNOR MĂSURI FINANCIARE DE SUSŢINERE A PROIECTELOR ŞI 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PROGRAMELOR DE CREŞTERE A EFICIENŢEI ENERGETICE ŞI DE UTILIZARE A 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SURSELOR REGENERABILE DE ENERGI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Book Antiqua"/>
              <a:buAutoNum type="romanUcPeriod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5720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Ernest Virgil Popovici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Senior Partn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828800" y="6858000"/>
            <a:ext cx="449568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7" name="Picture 9" descr="logoPNA_RO_1"/>
          <p:cNvPicPr/>
          <p:nvPr/>
        </p:nvPicPr>
        <p:blipFill>
          <a:blip r:embed="rId1"/>
          <a:stretch/>
        </p:blipFill>
        <p:spPr>
          <a:xfrm>
            <a:off x="6553080" y="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304920" y="838080"/>
            <a:ext cx="82296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ctr">
              <a:lnSpc>
                <a:spcPct val="13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IV.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o-RO" sz="1900" spc="-1" strike="noStrike">
                <a:solidFill>
                  <a:srgbClr val="000000"/>
                </a:solidFill>
                <a:latin typeface="Book Antiqua"/>
              </a:rPr>
              <a:t>CONCLUZII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asuri practice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e se impun p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entru promovarea eficientei energetice si utilizării surselor regenerabile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943280" indent="-457200" algn="just">
              <a:lnSpc>
                <a:spcPct val="13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Book Antiqua"/>
              <a:buAutoNum type="romanUcPeriod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Ernest Virgil Popovici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Senior Partne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1:46:10Z</dcterms:created>
  <dc:creator> </dc:creator>
  <dc:description/>
  <dc:language>en-US</dc:language>
  <cp:lastModifiedBy> </cp:lastModifiedBy>
  <dcterms:modified xsi:type="dcterms:W3CDTF">2009-05-28T05:09:43Z</dcterms:modified>
  <cp:revision>341</cp:revision>
  <dc:subject/>
  <dc:title>DEZVOLTARE IMOBILIARA (Elemente de analiza) Ernest Virgil Popovici Avocat asociat coordonator Popovici &amp; Asociatii SCA</dc:title>
</cp:coreProperties>
</file>