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32588" cy="9864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9080" y="393480"/>
            <a:ext cx="7578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74739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58720" y="3546720"/>
            <a:ext cx="74739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59080" y="393480"/>
            <a:ext cx="7578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5872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8876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59080" y="393480"/>
            <a:ext cx="7578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85560" y="10573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12760" y="10573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58720" y="35467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85560" y="35467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12760" y="35467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59080" y="393480"/>
            <a:ext cx="7578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58720" y="1057320"/>
            <a:ext cx="747396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59080" y="393480"/>
            <a:ext cx="7578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74739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59080" y="393480"/>
            <a:ext cx="7578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9080" y="393480"/>
            <a:ext cx="7578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59080" y="414000"/>
            <a:ext cx="757872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59080" y="393480"/>
            <a:ext cx="7578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5872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59080" y="393480"/>
            <a:ext cx="7578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58720" y="1057320"/>
            <a:ext cx="747396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59080" y="393480"/>
            <a:ext cx="7578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8876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59080" y="393480"/>
            <a:ext cx="7578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58720" y="3546720"/>
            <a:ext cx="74739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59080" y="393480"/>
            <a:ext cx="7578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74739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58720" y="3546720"/>
            <a:ext cx="74739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59080" y="393480"/>
            <a:ext cx="7578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5872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8876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59080" y="393480"/>
            <a:ext cx="7578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985560" y="10573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12760" y="10573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58720" y="35467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985560" y="35467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12760" y="3546720"/>
            <a:ext cx="240624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59080" y="393480"/>
            <a:ext cx="7578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74739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59080" y="393480"/>
            <a:ext cx="7578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59080" y="393480"/>
            <a:ext cx="7578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59080" y="414000"/>
            <a:ext cx="757872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9080" y="393480"/>
            <a:ext cx="7578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5872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9080" y="393480"/>
            <a:ext cx="7578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88760" y="35467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59080" y="393480"/>
            <a:ext cx="7578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88760" y="1057320"/>
            <a:ext cx="36471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58720" y="3546720"/>
            <a:ext cx="74739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58720" y="1057320"/>
            <a:ext cx="74739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SzPct val="6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8480" indent="-225360"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228600"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228600"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SzPct val="5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09680" indent="-22860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SzPct val="5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09680" indent="-22860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SzPct val="5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457280" y="228600"/>
            <a:ext cx="0" cy="685800"/>
          </a:xfrm>
          <a:prstGeom prst="line">
            <a:avLst/>
          </a:prstGeom>
          <a:ln w="158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8924400" y="6170760"/>
            <a:ext cx="1800" cy="280800"/>
          </a:xfrm>
          <a:prstGeom prst="line">
            <a:avLst/>
          </a:prstGeom>
          <a:ln w="158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582040" y="6149880"/>
            <a:ext cx="282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04EA-3EA3-4754-AB98-B4DBA2310312}" type="slidenum">
              <a:rPr b="1" lang="de-DE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50800" y="914400"/>
            <a:ext cx="7486920" cy="0"/>
          </a:xfrm>
          <a:prstGeom prst="line">
            <a:avLst/>
          </a:prstGeom>
          <a:ln w="3168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352720" y="6423120"/>
            <a:ext cx="5756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61C5-491A-4CCD-858D-C1885EB8300C}" type="datetime">
              <a:rPr b="0" lang="de-CH" sz="9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362960" y="6423480"/>
            <a:ext cx="211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Holcim Romania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1461600" y="6448320"/>
            <a:ext cx="7473960" cy="0"/>
          </a:xfrm>
          <a:prstGeom prst="line">
            <a:avLst/>
          </a:prstGeom>
          <a:ln w="3168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210960" y="5967360"/>
            <a:ext cx="1081440" cy="49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77800" y="1069560"/>
            <a:ext cx="6431040" cy="5302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txBody>
          <a:bodyPr lIns="46800" rIns="468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461600" y="6448320"/>
            <a:ext cx="7473960" cy="0"/>
          </a:xfrm>
          <a:prstGeom prst="line">
            <a:avLst/>
          </a:prstGeom>
          <a:ln w="3168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60360" y="3594240"/>
            <a:ext cx="933480" cy="2865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362960" y="6423480"/>
            <a:ext cx="211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Holcim Romania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3120" algn="ctr">
              <a:spcBef>
                <a:spcPts val="751"/>
              </a:spcBef>
              <a:buClr>
                <a:srgbClr val="ff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190440" algn="ctr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52280" algn="ctr">
              <a:spcBef>
                <a:spcPts val="499"/>
              </a:spcBef>
              <a:buClr>
                <a:srgbClr val="ff0000"/>
              </a:buClr>
              <a:buSzPct val="55000"/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52280">
              <a:spcBef>
                <a:spcPts val="499"/>
              </a:spcBef>
              <a:buClr>
                <a:srgbClr val="000000"/>
              </a:buClr>
              <a:buSzPct val="5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52280">
              <a:spcBef>
                <a:spcPts val="499"/>
              </a:spcBef>
              <a:buClr>
                <a:srgbClr val="000000"/>
              </a:buClr>
              <a:buSzPct val="5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conomist.com/world/europe/displayStory.cfm?source=hptextfeature&amp;story_id=12465279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77800" y="1069560"/>
            <a:ext cx="6431040" cy="5302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txBody>
          <a:bodyPr lIns="46800" rIns="468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beat this Cris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76000" y="55897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us Wirth, Holcim Roman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ch 3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709040" y="189000"/>
            <a:ext cx="1434960" cy="15112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hould the Government d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58720" y="1056960"/>
            <a:ext cx="7473960" cy="52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550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76360" y="1341360"/>
            <a:ext cx="640872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ff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 the contractual obligations 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 more overd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 payment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ff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ing with priority, through the state budget,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-financ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essary to the public projects financed from structural fund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ff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rastruc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a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ff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inforcing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AT proced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reimburse it to the companies and hence to give them this cash money on ti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ff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buil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fidence of foreign invest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o Rom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ff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w proced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administer and collect the taxes and social contributions efficiently from the different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 Infrastruc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981000"/>
            <a:ext cx="51465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25000"/>
              </a:lnSpc>
              <a:spcBef>
                <a:spcPts val="1125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creas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ibu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ublic investmen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infrastructure, to compensate the reduction of the GDP in the private secto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1125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frastructure remains the main driver for grow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pprox. 10 bn Euro foreseen in the budget for this year (transportation, environment, electricity, thermal rehabili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1125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t, in 2007-2008, most infrastructure projects delayed due to  lack of implementation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1125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beginning of 2009, new government adjustment period implied further del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62040" y="2781360"/>
            <a:ext cx="29768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867280" y="3141720"/>
            <a:ext cx="2756160" cy="180000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867280" y="189000"/>
            <a:ext cx="2737080" cy="1535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516720" y="4653000"/>
            <a:ext cx="2627280" cy="1800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6516720" y="1484280"/>
            <a:ext cx="2627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spending translates into demand for build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9200" y="6184800"/>
            <a:ext cx="287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Holcim data, pictures from google.com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4473720"/>
            <a:ext cx="744372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835360"/>
            <a:ext cx="744372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1197000"/>
            <a:ext cx="744372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909520" y="2852280"/>
            <a:ext cx="54500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00"/>
              </a:spcBef>
              <a:spcAft>
                <a:spcPts val="60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km of concrete tunnel (2x2 lane) requir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>
              <a:buClr>
                <a:srgbClr val="ff0000"/>
              </a:buClr>
              <a:buSzPct val="6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,000 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concre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>
              <a:buClr>
                <a:srgbClr val="ff0000"/>
              </a:buClr>
              <a:buSzPct val="6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,000 tonnes 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>
              <a:buClr>
                <a:srgbClr val="ff0000"/>
              </a:buClr>
              <a:buSzPct val="6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8,000 tonnes aggreg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09880" y="1217520"/>
            <a:ext cx="59817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00"/>
              </a:spcBef>
              <a:spcAft>
                <a:spcPts val="60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km of concrete pavement highway (2x2 lane) requir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>
              <a:buClr>
                <a:srgbClr val="ff0000"/>
              </a:buClr>
              <a:buSzPct val="6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,200 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concre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>
              <a:buClr>
                <a:srgbClr val="ff0000"/>
              </a:buClr>
              <a:buSzPct val="6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,300 tonnes 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>
              <a:buClr>
                <a:srgbClr val="ff0000"/>
              </a:buClr>
              <a:buSzPct val="6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5,000 tonnes aggreg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09880" y="4510080"/>
            <a:ext cx="59817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00"/>
              </a:spcBef>
              <a:spcAft>
                <a:spcPts val="60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 meter concrete bridge (2x2 lane) requir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>
              <a:buClr>
                <a:srgbClr val="ff0000"/>
              </a:buClr>
              <a:buSzPct val="6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,400 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concre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>
              <a:buClr>
                <a:srgbClr val="ff0000"/>
              </a:buClr>
              <a:buSzPct val="6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 tonnes 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>
              <a:buClr>
                <a:srgbClr val="ff0000"/>
              </a:buClr>
              <a:buSzPct val="6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,300 tonnes aggreg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63728" t="0" r="0" b="40071"/>
          <a:stretch/>
        </p:blipFill>
        <p:spPr>
          <a:xfrm>
            <a:off x="1531800" y="1252440"/>
            <a:ext cx="1177920" cy="1494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rcRect l="0" t="8163" r="67920" b="40834"/>
          <a:stretch/>
        </p:blipFill>
        <p:spPr>
          <a:xfrm>
            <a:off x="1521000" y="4527720"/>
            <a:ext cx="1195200" cy="1458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038040" y="2468520"/>
            <a:ext cx="193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example from Germ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2720" y="4125960"/>
            <a:ext cx="181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example from Croat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2720" y="5781600"/>
            <a:ext cx="181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example from Croat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514520" y="2876400"/>
            <a:ext cx="119700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752480"/>
            <a:ext cx="4843440" cy="622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es the Crisis 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76360" y="2819520"/>
            <a:ext cx="48434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…what do we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675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76360" y="4114800"/>
            <a:ext cx="48434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ole of the auth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76360" y="1773360"/>
            <a:ext cx="431640" cy="609480"/>
          </a:xfrm>
          <a:prstGeom prst="rect">
            <a:avLst/>
          </a:prstGeom>
          <a:solidFill>
            <a:srgbClr val="80808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76360" y="2819520"/>
            <a:ext cx="431640" cy="609480"/>
          </a:xfrm>
          <a:prstGeom prst="rect">
            <a:avLst/>
          </a:prstGeom>
          <a:solidFill>
            <a:srgbClr val="80808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4114800"/>
            <a:ext cx="431640" cy="609480"/>
          </a:xfrm>
          <a:prstGeom prst="rect">
            <a:avLst/>
          </a:prstGeom>
          <a:solidFill>
            <a:srgbClr val="80808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03280" y="1773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03280" y="285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0328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56040" cy="3760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044880" y="0"/>
            <a:ext cx="3039840" cy="3760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084720" y="0"/>
            <a:ext cx="3059280" cy="3760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0" y="3313080"/>
            <a:ext cx="3073320" cy="3544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6048360" y="3284640"/>
            <a:ext cx="3110040" cy="3573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3043080" y="3284640"/>
            <a:ext cx="30578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macro economic level, especially the Eastern European governments are in danger of credit-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716000" y="1052640"/>
            <a:ext cx="43196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lnSpc>
                <a:spcPct val="90000"/>
              </a:lnSpc>
              <a:spcBef>
                <a:spcPts val="788"/>
              </a:spcBef>
              <a:spcAft>
                <a:spcPts val="788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aring foreign investment causes gaping current-account defic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0000"/>
              </a:lnSpc>
              <a:spcBef>
                <a:spcPts val="788"/>
              </a:spcBef>
              <a:spcAft>
                <a:spcPts val="788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banks &amp; governments are unlikely to be able to muster the financial firepower now being deployed in the W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0000"/>
              </a:lnSpc>
              <a:spcBef>
                <a:spcPts val="788"/>
              </a:spcBef>
              <a:spcAft>
                <a:spcPts val="788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s have toppled, stock markets have plunged, wiping out years of savings and hitting balance-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0000"/>
              </a:lnSpc>
              <a:spcBef>
                <a:spcPts val="788"/>
              </a:spcBef>
              <a:spcAft>
                <a:spcPts val="788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 of credit-default swaps* ranges from the reassuring to the alarm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0000"/>
              </a:lnSpc>
              <a:spcBef>
                <a:spcPts val="788"/>
              </a:spcBef>
              <a:spcAft>
                <a:spcPts val="788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current-account deficits suggest they may be living beyond their m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0000"/>
              </a:lnSpc>
              <a:spcBef>
                <a:spcPts val="788"/>
              </a:spcBef>
              <a:spcAft>
                <a:spcPts val="788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&amp; private sectors with big foreign debts are hard to re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1054080"/>
            <a:ext cx="3254400" cy="5183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67000" y="6211800"/>
            <a:ext cx="711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The Economist, 23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f October, 200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= the market’s estimation of a borrower’s creditworth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only Holcim, everybody is fighting for cash of banks and customer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59080" y="2706480"/>
            <a:ext cx="2968560" cy="64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to credit has become extremely diffic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32000" y="1988640"/>
            <a:ext cx="41036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t on Cap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ending i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nd funds wise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here where the need &amp; leverage are hi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fo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WC &amp; liquid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nagement has priority: inventor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981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ite having great results in the previous years, most of the companies are facing the tough consequences of the cris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71400" y="5805360"/>
            <a:ext cx="5426280" cy="45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49"/>
              </a:spcBef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sh is King and the key to surviv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59080" y="4624560"/>
            <a:ext cx="2968560" cy="64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’s a buyer’s market out t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41720" y="4383000"/>
            <a:ext cx="39913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270000" indent="-2700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n to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m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‘offer a credible promis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 their nee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be there for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3742920" y="2923920"/>
            <a:ext cx="2016360" cy="21600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4248000" y="4841640"/>
            <a:ext cx="1006200" cy="21600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ction is the riskiest response to the uncertainties of an economic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58720" y="1057320"/>
            <a:ext cx="7473960" cy="53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rash or scattershot action can be nearly as dam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ing anxiety and the growing pressure to d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meth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ten produces a variety of uncoordinated moves th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ff0000"/>
              </a:buClr>
              <a:buSzPct val="6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the wrong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ff0000"/>
              </a:buClr>
              <a:buSzPct val="6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overshoot the right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ill distract people from seeing something crucially importa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ff0000"/>
              </a:buClr>
              <a:buSzPct val="6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dden but significant opportunities nestled among the bad economic n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ly, companies whose early responses to a downturn are tentative – i.e. modest belt-tightening – typically overreact later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ff0000"/>
              </a:buClr>
              <a:buSzPct val="6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results in an expensive recovery for the company when the economy reb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63760" y="6211800"/>
            <a:ext cx="338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BCG &amp; Harvard Business Review February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411280" y="2997000"/>
            <a:ext cx="5400720" cy="28728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74920" y="3573360"/>
            <a:ext cx="7418160" cy="2664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71680" y="0"/>
            <a:ext cx="7576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…what do w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1125360"/>
            <a:ext cx="7603920" cy="60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Holcim Romania is prepared to overcome the downtur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cutting and adjustment of fixed costs in all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ing new products – cement with mineral compon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w capital investments will be made to increase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nding on replacement and rationalization reduced to a     min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We are looking beyond the crisi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ed to meet the market requirements with the modern production capac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demand for construction materials and infrastructure projects - main driver of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We count on the understanding of the people, taking into 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lobal financial turm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buy-in of the situation/eng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defined 7 areas of action –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Prioriti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785760" y="1557360"/>
            <a:ext cx="535788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51"/>
              </a:spcBef>
              <a:spcAft>
                <a:spcPts val="675"/>
              </a:spcAft>
              <a:buClr>
                <a:srgbClr val="ff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compromise on OH&amp;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spcAft>
                <a:spcPts val="675"/>
              </a:spcAft>
              <a:buClr>
                <a:srgbClr val="ff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sh is ki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spcAft>
                <a:spcPts val="675"/>
              </a:spcAft>
              <a:buClr>
                <a:srgbClr val="ff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r clients are our protection against rec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spcAft>
                <a:spcPts val="675"/>
              </a:spcAft>
              <a:buClr>
                <a:srgbClr val="ff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rove efficiency and operational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spcAft>
                <a:spcPts val="675"/>
              </a:spcAft>
              <a:buClr>
                <a:srgbClr val="ff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ong cost management and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spcAft>
                <a:spcPts val="675"/>
              </a:spcAft>
              <a:buClr>
                <a:srgbClr val="ff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hands on dec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spcAft>
                <a:spcPts val="675"/>
              </a:spcAft>
              <a:buClr>
                <a:srgbClr val="ff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will maintain our portfolio for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4320" y="1874880"/>
            <a:ext cx="35240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59080" y="414000"/>
            <a:ext cx="7578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not about talking, it is about the walking!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le of the authoriti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6360" y="1135080"/>
            <a:ext cx="2232000" cy="398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vi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76360" y="3078000"/>
            <a:ext cx="2232000" cy="398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95280" y="1125360"/>
            <a:ext cx="49374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transparency in the public administration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 use of a database in order to improve the administrative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 everything on long term, set targets, allocate proper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400"/>
              </a:spcBef>
              <a:spcAft>
                <a:spcPts val="60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ign the existing economic, fiscal and monetary laws internally, considering the EU n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nsider bureaucratic systems and initiate re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best practices and initiatives of other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atic monitoring of the on-going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7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ities/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king the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’s about top-down execution and commi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7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7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4941720"/>
            <a:ext cx="2232000" cy="398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 for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35280" y="1700280"/>
            <a:ext cx="1512720" cy="71892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73080" y="1773360"/>
            <a:ext cx="1441800" cy="504720"/>
          </a:xfrm>
          <a:custGeom>
            <a:avLst/>
            <a:gdLst/>
            <a:ahLst/>
            <a:rect l="l" t="t" r="r" b="b"/>
            <a:pathLst>
              <a:path w="908" h="318">
                <a:moveTo>
                  <a:pt x="0" y="318"/>
                </a:moveTo>
                <a:cubicBezTo>
                  <a:pt x="26" y="261"/>
                  <a:pt x="53" y="205"/>
                  <a:pt x="91" y="182"/>
                </a:cubicBezTo>
                <a:cubicBezTo>
                  <a:pt x="129" y="159"/>
                  <a:pt x="189" y="175"/>
                  <a:pt x="227" y="182"/>
                </a:cubicBezTo>
                <a:cubicBezTo>
                  <a:pt x="265" y="189"/>
                  <a:pt x="280" y="234"/>
                  <a:pt x="318" y="227"/>
                </a:cubicBezTo>
                <a:cubicBezTo>
                  <a:pt x="356" y="220"/>
                  <a:pt x="416" y="167"/>
                  <a:pt x="454" y="137"/>
                </a:cubicBezTo>
                <a:cubicBezTo>
                  <a:pt x="492" y="107"/>
                  <a:pt x="500" y="46"/>
                  <a:pt x="545" y="46"/>
                </a:cubicBezTo>
                <a:cubicBezTo>
                  <a:pt x="590" y="46"/>
                  <a:pt x="688" y="99"/>
                  <a:pt x="726" y="137"/>
                </a:cubicBezTo>
                <a:cubicBezTo>
                  <a:pt x="764" y="175"/>
                  <a:pt x="748" y="273"/>
                  <a:pt x="771" y="273"/>
                </a:cubicBezTo>
                <a:cubicBezTo>
                  <a:pt x="794" y="273"/>
                  <a:pt x="839" y="183"/>
                  <a:pt x="862" y="137"/>
                </a:cubicBezTo>
                <a:cubicBezTo>
                  <a:pt x="885" y="91"/>
                  <a:pt x="896" y="45"/>
                  <a:pt x="908" y="0"/>
                </a:cubicBezTo>
              </a:path>
            </a:pathLst>
          </a:custGeom>
          <a:noFill/>
          <a:ln w="1908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73080" y="1844640"/>
            <a:ext cx="1441800" cy="563760"/>
          </a:xfrm>
          <a:custGeom>
            <a:avLst/>
            <a:gdLst/>
            <a:ahLst/>
            <a:rect l="l" t="t" r="r" b="b"/>
            <a:pathLst>
              <a:path w="908" h="355">
                <a:moveTo>
                  <a:pt x="0" y="136"/>
                </a:moveTo>
                <a:cubicBezTo>
                  <a:pt x="64" y="143"/>
                  <a:pt x="129" y="151"/>
                  <a:pt x="182" y="136"/>
                </a:cubicBezTo>
                <a:cubicBezTo>
                  <a:pt x="235" y="121"/>
                  <a:pt x="258" y="60"/>
                  <a:pt x="318" y="45"/>
                </a:cubicBezTo>
                <a:cubicBezTo>
                  <a:pt x="378" y="30"/>
                  <a:pt x="470" y="0"/>
                  <a:pt x="545" y="45"/>
                </a:cubicBezTo>
                <a:cubicBezTo>
                  <a:pt x="620" y="90"/>
                  <a:pt x="711" y="279"/>
                  <a:pt x="771" y="317"/>
                </a:cubicBezTo>
                <a:cubicBezTo>
                  <a:pt x="831" y="355"/>
                  <a:pt x="869" y="313"/>
                  <a:pt x="908" y="272"/>
                </a:cubicBezTo>
              </a:path>
            </a:pathLst>
          </a:custGeom>
          <a:noFill/>
          <a:ln w="1908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73080" y="1843200"/>
            <a:ext cx="1441800" cy="360360"/>
          </a:xfrm>
          <a:custGeom>
            <a:avLst/>
            <a:gdLst/>
            <a:ahLst/>
            <a:rect l="l" t="t" r="r" b="b"/>
            <a:pathLst>
              <a:path w="953" h="227">
                <a:moveTo>
                  <a:pt x="0" y="0"/>
                </a:moveTo>
                <a:cubicBezTo>
                  <a:pt x="170" y="72"/>
                  <a:pt x="340" y="144"/>
                  <a:pt x="499" y="182"/>
                </a:cubicBezTo>
                <a:cubicBezTo>
                  <a:pt x="658" y="220"/>
                  <a:pt x="805" y="223"/>
                  <a:pt x="953" y="227"/>
                </a:cubicBezTo>
              </a:path>
            </a:pathLst>
          </a:custGeom>
          <a:noFill/>
          <a:ln w="1908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3645000"/>
            <a:ext cx="1512720" cy="71892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873080" y="3716280"/>
            <a:ext cx="1441800" cy="504720"/>
          </a:xfrm>
          <a:custGeom>
            <a:avLst/>
            <a:gdLst/>
            <a:ahLst/>
            <a:rect l="l" t="t" r="r" b="b"/>
            <a:pathLst>
              <a:path w="908" h="318">
                <a:moveTo>
                  <a:pt x="0" y="318"/>
                </a:moveTo>
                <a:cubicBezTo>
                  <a:pt x="26" y="261"/>
                  <a:pt x="53" y="205"/>
                  <a:pt x="91" y="182"/>
                </a:cubicBezTo>
                <a:cubicBezTo>
                  <a:pt x="129" y="159"/>
                  <a:pt x="189" y="175"/>
                  <a:pt x="227" y="182"/>
                </a:cubicBezTo>
                <a:cubicBezTo>
                  <a:pt x="265" y="189"/>
                  <a:pt x="280" y="234"/>
                  <a:pt x="318" y="227"/>
                </a:cubicBezTo>
                <a:cubicBezTo>
                  <a:pt x="356" y="220"/>
                  <a:pt x="416" y="167"/>
                  <a:pt x="454" y="137"/>
                </a:cubicBezTo>
                <a:cubicBezTo>
                  <a:pt x="492" y="107"/>
                  <a:pt x="500" y="46"/>
                  <a:pt x="545" y="46"/>
                </a:cubicBezTo>
                <a:cubicBezTo>
                  <a:pt x="590" y="46"/>
                  <a:pt x="688" y="99"/>
                  <a:pt x="726" y="137"/>
                </a:cubicBezTo>
                <a:cubicBezTo>
                  <a:pt x="764" y="175"/>
                  <a:pt x="748" y="273"/>
                  <a:pt x="771" y="273"/>
                </a:cubicBezTo>
                <a:cubicBezTo>
                  <a:pt x="794" y="273"/>
                  <a:pt x="839" y="183"/>
                  <a:pt x="862" y="137"/>
                </a:cubicBezTo>
                <a:cubicBezTo>
                  <a:pt x="885" y="91"/>
                  <a:pt x="896" y="45"/>
                  <a:pt x="908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73080" y="3789360"/>
            <a:ext cx="1441800" cy="563400"/>
          </a:xfrm>
          <a:custGeom>
            <a:avLst/>
            <a:gdLst/>
            <a:ahLst/>
            <a:rect l="l" t="t" r="r" b="b"/>
            <a:pathLst>
              <a:path w="908" h="355">
                <a:moveTo>
                  <a:pt x="0" y="136"/>
                </a:moveTo>
                <a:cubicBezTo>
                  <a:pt x="64" y="143"/>
                  <a:pt x="129" y="151"/>
                  <a:pt x="182" y="136"/>
                </a:cubicBezTo>
                <a:cubicBezTo>
                  <a:pt x="235" y="121"/>
                  <a:pt x="258" y="60"/>
                  <a:pt x="318" y="45"/>
                </a:cubicBezTo>
                <a:cubicBezTo>
                  <a:pt x="378" y="30"/>
                  <a:pt x="470" y="0"/>
                  <a:pt x="545" y="45"/>
                </a:cubicBezTo>
                <a:cubicBezTo>
                  <a:pt x="620" y="90"/>
                  <a:pt x="711" y="279"/>
                  <a:pt x="771" y="317"/>
                </a:cubicBezTo>
                <a:cubicBezTo>
                  <a:pt x="831" y="355"/>
                  <a:pt x="869" y="313"/>
                  <a:pt x="908" y="272"/>
                </a:cubicBezTo>
              </a:path>
            </a:pathLst>
          </a:custGeom>
          <a:noFill/>
          <a:ln w="1908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73080" y="3787920"/>
            <a:ext cx="1441800" cy="360360"/>
          </a:xfrm>
          <a:custGeom>
            <a:avLst/>
            <a:gdLst/>
            <a:ahLst/>
            <a:rect l="l" t="t" r="r" b="b"/>
            <a:pathLst>
              <a:path w="953" h="227">
                <a:moveTo>
                  <a:pt x="0" y="0"/>
                </a:moveTo>
                <a:cubicBezTo>
                  <a:pt x="170" y="72"/>
                  <a:pt x="340" y="144"/>
                  <a:pt x="499" y="182"/>
                </a:cubicBezTo>
                <a:cubicBezTo>
                  <a:pt x="658" y="220"/>
                  <a:pt x="805" y="223"/>
                  <a:pt x="953" y="227"/>
                </a:cubicBezTo>
              </a:path>
            </a:pathLst>
          </a:custGeom>
          <a:noFill/>
          <a:ln w="1908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35280" y="5518080"/>
            <a:ext cx="1512720" cy="71928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73080" y="5587920"/>
            <a:ext cx="1441800" cy="505080"/>
          </a:xfrm>
          <a:custGeom>
            <a:avLst/>
            <a:gdLst/>
            <a:ahLst/>
            <a:rect l="l" t="t" r="r" b="b"/>
            <a:pathLst>
              <a:path w="908" h="318">
                <a:moveTo>
                  <a:pt x="0" y="318"/>
                </a:moveTo>
                <a:cubicBezTo>
                  <a:pt x="26" y="261"/>
                  <a:pt x="53" y="205"/>
                  <a:pt x="91" y="182"/>
                </a:cubicBezTo>
                <a:cubicBezTo>
                  <a:pt x="129" y="159"/>
                  <a:pt x="189" y="175"/>
                  <a:pt x="227" y="182"/>
                </a:cubicBezTo>
                <a:cubicBezTo>
                  <a:pt x="265" y="189"/>
                  <a:pt x="280" y="234"/>
                  <a:pt x="318" y="227"/>
                </a:cubicBezTo>
                <a:cubicBezTo>
                  <a:pt x="356" y="220"/>
                  <a:pt x="416" y="167"/>
                  <a:pt x="454" y="137"/>
                </a:cubicBezTo>
                <a:cubicBezTo>
                  <a:pt x="492" y="107"/>
                  <a:pt x="500" y="46"/>
                  <a:pt x="545" y="46"/>
                </a:cubicBezTo>
                <a:cubicBezTo>
                  <a:pt x="590" y="46"/>
                  <a:pt x="688" y="99"/>
                  <a:pt x="726" y="137"/>
                </a:cubicBezTo>
                <a:cubicBezTo>
                  <a:pt x="764" y="175"/>
                  <a:pt x="748" y="273"/>
                  <a:pt x="771" y="273"/>
                </a:cubicBezTo>
                <a:cubicBezTo>
                  <a:pt x="794" y="273"/>
                  <a:pt x="839" y="183"/>
                  <a:pt x="862" y="137"/>
                </a:cubicBezTo>
                <a:cubicBezTo>
                  <a:pt x="885" y="91"/>
                  <a:pt x="896" y="45"/>
                  <a:pt x="908" y="0"/>
                </a:cubicBezTo>
              </a:path>
            </a:pathLst>
          </a:custGeom>
          <a:noFill/>
          <a:ln w="1908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46280" y="1728720"/>
            <a:ext cx="792360" cy="6494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49"/>
              </a:spcBef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09:10:13Z</dcterms:created>
  <dc:creator>bschigt</dc:creator>
  <dc:description/>
  <dc:language>en-US</dc:language>
  <cp:lastModifiedBy>ioana.chira</cp:lastModifiedBy>
  <dcterms:modified xsi:type="dcterms:W3CDTF">2009-03-30T14:06:15Z</dcterms:modified>
  <cp:revision>192</cp:revision>
  <dc:subject/>
  <dc:title>Strategy Retreat</dc:title>
</cp:coreProperties>
</file>