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6B53-7CF0-4C43-B83B-82237FE8D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2941-2072-44E0-9EDE-641B99D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6BB8E-596B-4D12-B257-4995F33F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12813-7026-4D58-A9A9-A44549E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3F92C-E0EF-4BC0-A1E3-3152C84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AECFF-7A34-4E6F-8EE0-30A4105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6742F-A46F-4C0D-845B-1927FA7C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4500D-8AE2-44F3-ADB0-62886519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AAE76-F638-4FEE-AE7D-5BAC16EE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A1265-01CB-4E41-939A-B3C61EB4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B5EA8-E071-495E-801E-984D1CD4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10C07-E8B7-4B95-841B-76C2FCF2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C6B6-4D12-454A-B85E-BAA4398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93FA1-1CC6-4F1C-8BBA-5E96A423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897ED-716C-496B-BEC8-2CEDD08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DCC01-1D1C-4D77-8F23-1C4F371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1D8DB-B120-43D5-BA15-58FE0B1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88EE4-4886-4FEF-A439-DD23417E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E0773-5C7D-428D-AB52-535AE0F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DEEEE-A65A-4920-BA65-593DFB6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21748-6B44-4686-9AA6-91AA7F3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D0269-7EEC-4D79-B3BE-780CF41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11B34-9CDE-4D61-A656-9FF433C3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3AD3-ED7E-40A7-B39D-94E128E54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EF032-DE0D-4482-A668-6319BAD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73A4C-76E1-44B7-94B9-6E3BE6F3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22BB6-39FE-4324-B00D-08AAFB2B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8BBF3-45B8-40EE-BB6D-210A299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BFEE8-8E94-4CD9-9DA9-9995437C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EAC3E-413E-4185-80D0-82BAFD1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A2984-2F96-4AF4-8B3A-43BB3877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B19E8-32BF-490B-8F3A-B0572EB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FDBB6-A5B0-4BC4-ADAE-D3B1EF8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5831B-1B45-40DA-A373-9DA0646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889E3-ABB5-40BE-BAE8-DF7710F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B4852-D2E9-4F93-97CC-2D76BE8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2AE94-F433-422E-9954-365B3321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D58AD5-B963-489E-B9BA-574A152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40010-C74A-4F9E-9C76-4F6B8AB6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8BCE0-D384-481B-96A7-01600EB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9D18C-3CC0-46A8-A864-C2281353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E1937-126E-46D0-A16C-710905C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E962D-96ED-4D0E-B69D-290A2A61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722EE9-55D8-4865-B9DC-40C5E028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2278DD-3444-419B-9ED9-D1C1428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61797-632E-4F59-B810-07BA7AF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BA702-DA84-4741-A1C2-ADC04AB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95218-8A25-4E2A-9079-8D785A9D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7EF42-9261-42DE-AF63-5707A2EE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9892B-2D3F-4886-AE94-2E76031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D434A-14E8-4C40-BF9F-E8C9030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2F61C-80F8-461D-8CE0-30DF7DB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D1F79-538D-4A7F-B96B-EEDC6F7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211DF9-9613-4BFB-9809-25E31C8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9BCCD-EBBE-446A-BFC3-8B3010E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05EAE-9B9E-458E-9437-A1DA276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736B34-71B8-4085-BDCB-6B43F97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A94EB-7910-47D0-B73D-F5FFDA5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79768-5005-4D7D-8471-DBD2FBAD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B81C3-ED25-450F-89E3-9C1BD189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3D222-62FE-4E0D-A45D-F33C86C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1E01-0EF2-4B25-AE81-DC84C21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1E6E-C192-4179-8616-9DC4DCDA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528F-93FB-429F-884B-62FC6D2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E550-6264-4634-9FC2-FE96E1AE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E5B0-A0A5-48A2-9DCB-33BF20F6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BC0D6-2621-47EB-A255-1196561F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94A4-D2C2-44DB-BED8-F38F5CE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5E3B-6D9F-4E7D-B407-2FE05EF5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93DCC-44BC-4F33-932F-AE88BC41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17EEB-DE47-4E02-9414-CF20CE20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9A0F-70D8-4E90-92E2-747BD7E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9AB8-6360-49EF-B8F6-0626721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FB61C-0385-4511-9157-C300207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D7211-CC71-454B-BB2D-E0CAE6EE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C9C1-DDF9-43C8-8E24-225872A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1402-5AA5-46DF-BC16-D385333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70E9-EBA6-4F1A-B738-54712AD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8D27-A9A6-41FF-BCD5-78CE2E44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1EE06-5F0E-48C0-9753-09657B11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0DE76-FA18-4E74-ABD3-22D8F62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1F716-A3CB-421D-8E36-E1315B8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CB962-A47C-40E2-9EF5-FC1A65B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30AA4-9B3E-4769-9CB7-821A89D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B9165-99F6-4F98-AD3F-8BA1753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2AF54-22F2-457D-B730-6420F7E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B9DC-FF7A-475C-87D1-6A4CA79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9F053-2185-49EF-B5C3-946696C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3C21F-3C7A-4AFA-A39E-49AB0ED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4A0D2-F686-4352-A1DD-001F20D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8DBF8-37AE-4D18-87F2-933F2408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5B20D-E731-4B47-8308-F06053D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9495E-78AE-4B4A-92B4-CF68957E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2184A-FF53-430B-98C8-E3F9493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FB476-7813-4CC6-9B1D-B19E6D1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7F419-4604-40BB-A12E-5B55FB7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E1AEC-51BD-4EB3-8CFC-D561FBD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02D9-B788-4FE4-88AF-563F95A9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701B0-4ECE-4F87-B9C4-5E87E1E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3D951-8727-43D7-AF20-078E516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1FABA-C23C-4A18-80D3-4088D41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36059-B68E-4BBC-93F2-2F6FFEB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8068D-72C6-4870-BE10-29EF511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B9F1A-76B9-4126-A3BF-19D994F7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9089A-503A-4977-8ADA-A7BE5C9A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2AB2B-DA50-451B-8A55-99F2531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758ED-3007-4762-9468-41E88894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424FC-123C-482A-A1BD-2D127E9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hyperlink" Target="mailto:contact@ensight.ro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mailto:robert.maxim@ensight.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0A0-BE2D-4368-8A44-89BA137BF756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ftr" idx="15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16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7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E46D-2561-4292-BEE2-B8C4DA5FC0F6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8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19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0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185-DFF2-4F8C-8243-1B5F3388E43E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ftr" idx="21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dt" idx="22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3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8DC2-1DC4-42D0-912E-D25C15DF561C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dt" idx="25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26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C726-8CDE-4194-ADA0-F5BF8198B94F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523880" y="365760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0725"/>
                </a:solidFill>
                <a:latin typeface="Thoma"/>
              </a:rPr>
              <a:t>Multumim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230725"/>
                </a:solidFill>
                <a:latin typeface="Thoma"/>
              </a:rPr>
              <a:t>Pentru informatii suplimentare, va rugam sa ne contactati l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57" name="Line 10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1424160" y="2998800"/>
            <a:ext cx="2286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184-186 Traian St., 024045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Bucharest, Roman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Phone: +4 031 405546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contact@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 - 2008 by Ensight Management  Consulting. 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523880" y="365760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0725"/>
                </a:solidFill>
                <a:latin typeface="Thoma"/>
              </a:rPr>
              <a:t>Thank you!</a:t>
            </a:r>
            <a:r>
              <a:rPr b="1" sz="3200" spc="-1" strike="noStrike">
                <a:solidFill>
                  <a:srgbClr val="230725"/>
                </a:solidFill>
                <a:latin typeface="T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30725"/>
                </a:solidFill>
                <a:latin typeface="Thoma"/>
              </a:rPr>
              <a:t>For more information please contact us at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424160" y="2998800"/>
            <a:ext cx="2286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184-186 Traian St., 024045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Bucharest, Roman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Phone: +4 031 405546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contact@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 - 2008 by Ensight Management  Consulting. 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30725"/>
                </a:solidFill>
                <a:latin typeface="Thoma"/>
              </a:rPr>
              <a:t>Va multumim</a:t>
            </a:r>
            <a:r>
              <a:rPr b="1" sz="3200" spc="-1" strike="noStrike">
                <a:solidFill>
                  <a:srgbClr val="230725"/>
                </a:solidFill>
                <a:latin typeface="Thoma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230725"/>
                </a:solidFill>
                <a:latin typeface="Thoma"/>
              </a:rPr>
              <a:t>Pentru informatii suplimentare</a:t>
            </a:r>
            <a:r>
              <a:rPr b="0" i="1" sz="1400" spc="-1" strike="noStrike">
                <a:solidFill>
                  <a:srgbClr val="230725"/>
                </a:solidFill>
                <a:latin typeface="Thoma"/>
              </a:rPr>
              <a:t>, va rugam sa ne contactati</a:t>
            </a:r>
            <a:r>
              <a:rPr b="0" i="1" lang="en-US" sz="1400" spc="-1" strike="noStrike">
                <a:solidFill>
                  <a:srgbClr val="230725"/>
                </a:solidFill>
                <a:latin typeface="Thoma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146" name="Line 10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763560" y="6477120"/>
            <a:ext cx="390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ahoma"/>
              </a:rPr>
              <a:t>© 2009 by Ensight Management Consulting.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424160" y="2998800"/>
            <a:ext cx="22860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Str. Traian 184-186 ,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024045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Bucuresti, Roman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Tel:      +4 031 405546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3300"/>
                </a:solidFill>
                <a:uFillTx/>
                <a:latin typeface="Tahoma"/>
                <a:hlinkClick r:id="rId5"/>
              </a:rPr>
              <a:t>contact@ensight.ro</a:t>
            </a:r>
            <a:r>
              <a:rPr b="1" lang="en-US" sz="1000" spc="-1" strike="noStrike" u="sng">
                <a:solidFill>
                  <a:srgbClr val="230725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20" descr="2"/>
          <p:cNvPicPr/>
          <p:nvPr/>
        </p:nvPicPr>
        <p:blipFill>
          <a:blip r:embed="rId2"/>
          <a:stretch/>
        </p:blipFill>
        <p:spPr>
          <a:xfrm>
            <a:off x="0" y="428616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8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-2009 by Ensight Management Consulting.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30" descr="sigla"/>
          <p:cNvPicPr/>
          <p:nvPr/>
        </p:nvPicPr>
        <p:blipFill>
          <a:blip r:embed="rId3"/>
          <a:stretch/>
        </p:blipFill>
        <p:spPr>
          <a:xfrm>
            <a:off x="7924680" y="195120"/>
            <a:ext cx="1633680" cy="1640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4"/>
          <p:cNvSpPr/>
          <p:nvPr/>
        </p:nvSpPr>
        <p:spPr>
          <a:xfrm>
            <a:off x="776160" y="3130560"/>
            <a:ext cx="61722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homa"/>
              </a:rPr>
              <a:t>Bucuresti, 31 Martie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738360" y="2643120"/>
            <a:ext cx="79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iu companiile sa controleze costurile salaria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817560" y="3284640"/>
            <a:ext cx="748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03800" y="4676760"/>
            <a:ext cx="35290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abriela Popa: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+40 748 038765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gabriela.popa@ensight.r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dt" idx="4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5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4AE-6EAE-4C75-B787-29C0098D5EB9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6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dt" idx="7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8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7B2C-800D-462D-BB2E-258D175973B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9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dt" idx="10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1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5695-6085-4D98-81E5-D655522EB07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12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dt" idx="13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14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AEE-D784-4D71-A357-83733A84BFE4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880920" y="3071880"/>
            <a:ext cx="60040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660" name="Group 9"/>
          <p:cNvGrpSpPr/>
          <p:nvPr/>
        </p:nvGrpSpPr>
        <p:grpSpPr>
          <a:xfrm>
            <a:off x="200160" y="1916280"/>
            <a:ext cx="9474120" cy="3110760"/>
            <a:chOff x="200160" y="1916280"/>
            <a:chExt cx="9474120" cy="3110760"/>
          </a:xfrm>
        </p:grpSpPr>
        <p:sp>
          <p:nvSpPr>
            <p:cNvPr id="661" name="Rectangle 2"/>
            <p:cNvSpPr/>
            <p:nvPr/>
          </p:nvSpPr>
          <p:spPr>
            <a:xfrm>
              <a:off x="230040" y="2325600"/>
              <a:ext cx="9444240" cy="374040"/>
            </a:xfrm>
            <a:prstGeom prst="rect">
              <a:avLst/>
            </a:prstGeom>
            <a:solidFill>
              <a:srgbClr val="de4d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>
              <a:off x="200160" y="1916280"/>
              <a:ext cx="9448560" cy="31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oluri si responsabilitati 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trategii si tendinte in 2009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iscuri si avantaj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63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E776-71E8-4CD1-BC30-653AE006F73E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7775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Cine este interesat de costuri?</a:t>
            </a:r>
            <a:br>
              <a:rPr sz="2400"/>
            </a:b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Cine este responsabil pentru costuri?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B4D-0DF0-4072-9340-8C2DAB60942C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561960" y="1428840"/>
            <a:ext cx="1676520" cy="714240"/>
          </a:xfrm>
          <a:prstGeom prst="rect">
            <a:avLst/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Consiliul de administrat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2919240" y="1428840"/>
            <a:ext cx="1605240" cy="714240"/>
          </a:xfrm>
          <a:prstGeom prst="rect">
            <a:avLst/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Director Executiv (CE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5133960" y="1428840"/>
            <a:ext cx="1604880" cy="714240"/>
          </a:xfrm>
          <a:prstGeom prst="rect">
            <a:avLst/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Echip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Managerial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7419960" y="1428840"/>
            <a:ext cx="1604880" cy="714240"/>
          </a:xfrm>
          <a:prstGeom prst="rect">
            <a:avLst/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Angajat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595440" y="5429160"/>
            <a:ext cx="1604880" cy="71460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uditor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ight Arrow 17"/>
          <p:cNvSpPr/>
          <p:nvPr/>
        </p:nvSpPr>
        <p:spPr>
          <a:xfrm>
            <a:off x="2381400" y="16430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ight Arrow 18"/>
          <p:cNvSpPr/>
          <p:nvPr/>
        </p:nvSpPr>
        <p:spPr>
          <a:xfrm>
            <a:off x="4595760" y="16430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ight Arrow 19"/>
          <p:cNvSpPr/>
          <p:nvPr/>
        </p:nvSpPr>
        <p:spPr>
          <a:xfrm>
            <a:off x="6881760" y="16430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e4d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Box 31"/>
          <p:cNvSpPr/>
          <p:nvPr/>
        </p:nvSpPr>
        <p:spPr>
          <a:xfrm>
            <a:off x="380880" y="2500200"/>
            <a:ext cx="2071800" cy="2012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a buget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u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izuieste rapoartele financia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lizeaza variat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izeaza rapoartele de audi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Box 32"/>
          <p:cNvSpPr/>
          <p:nvPr/>
        </p:nvSpPr>
        <p:spPr>
          <a:xfrm>
            <a:off x="4952880" y="2471760"/>
            <a:ext cx="2071800" cy="2012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getea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izuieste costuri vs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buget aloc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Furnizeaz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etalii si explicatii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eferitor 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rapoartel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financia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ereaza venitur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Box 33"/>
          <p:cNvSpPr/>
          <p:nvPr/>
        </p:nvSpPr>
        <p:spPr>
          <a:xfrm>
            <a:off x="2666880" y="2468520"/>
            <a:ext cx="2071800" cy="2225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getea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izuieste cheltuieli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izuieste rapoartele financia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orteaza neregul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neaza si conduce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sonal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ul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ci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ereaza venitur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Box 34"/>
          <p:cNvSpPr/>
          <p:nvPr/>
        </p:nvSpPr>
        <p:spPr>
          <a:xfrm>
            <a:off x="7238880" y="2468520"/>
            <a:ext cx="2071800" cy="243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meza procesele de busines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pecta si aplica regulamentele inter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lizeaza timpul de munca in mod efic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Diamond 16"/>
          <p:cNvSpPr/>
          <p:nvPr/>
        </p:nvSpPr>
        <p:spPr>
          <a:xfrm>
            <a:off x="6238800" y="1928880"/>
            <a:ext cx="642960" cy="642960"/>
          </a:xfrm>
          <a:prstGeom prst="diamond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Box 17"/>
          <p:cNvSpPr/>
          <p:nvPr/>
        </p:nvSpPr>
        <p:spPr>
          <a:xfrm>
            <a:off x="6310440" y="207180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entre de cos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4024440" y="5429160"/>
            <a:ext cx="1643040" cy="71460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Bent-Up Arrow 19"/>
          <p:cNvSpPr/>
          <p:nvPr/>
        </p:nvSpPr>
        <p:spPr>
          <a:xfrm>
            <a:off x="5667480" y="4643280"/>
            <a:ext cx="642960" cy="121464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Bent-Up Arrow 20"/>
          <p:cNvSpPr/>
          <p:nvPr/>
        </p:nvSpPr>
        <p:spPr>
          <a:xfrm flipH="1">
            <a:off x="3381480" y="4643280"/>
            <a:ext cx="642960" cy="121464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Up Arrow 23"/>
          <p:cNvSpPr/>
          <p:nvPr/>
        </p:nvSpPr>
        <p:spPr>
          <a:xfrm>
            <a:off x="1095480" y="4572000"/>
            <a:ext cx="571320" cy="71424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5400" indent="-95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eft Arrow 24"/>
          <p:cNvSpPr/>
          <p:nvPr/>
        </p:nvSpPr>
        <p:spPr>
          <a:xfrm>
            <a:off x="2381400" y="542916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686" name="Group 9"/>
          <p:cNvGrpSpPr/>
          <p:nvPr/>
        </p:nvGrpSpPr>
        <p:grpSpPr>
          <a:xfrm>
            <a:off x="200160" y="1916280"/>
            <a:ext cx="9474120" cy="3110760"/>
            <a:chOff x="200160" y="1916280"/>
            <a:chExt cx="9474120" cy="3110760"/>
          </a:xfrm>
        </p:grpSpPr>
        <p:sp>
          <p:nvSpPr>
            <p:cNvPr id="687" name="Rectangle 2"/>
            <p:cNvSpPr/>
            <p:nvPr/>
          </p:nvSpPr>
          <p:spPr>
            <a:xfrm>
              <a:off x="230040" y="2801880"/>
              <a:ext cx="9444240" cy="374040"/>
            </a:xfrm>
            <a:prstGeom prst="rect">
              <a:avLst/>
            </a:prstGeom>
            <a:solidFill>
              <a:srgbClr val="de4d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Rectangle 4"/>
            <p:cNvSpPr/>
            <p:nvPr/>
          </p:nvSpPr>
          <p:spPr>
            <a:xfrm>
              <a:off x="200160" y="1916280"/>
              <a:ext cx="9448560" cy="31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oluri si 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sponsabilitati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trategii si tendinte in 2009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iscuri si avantaj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36C-3962-4308-8280-809FA720D7F4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77770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Costuri salariale – ce facem in 2009?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59E-600A-44C8-A617-B0F7F987EBDE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144440" y="4361040"/>
            <a:ext cx="14194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3160" indent="-17316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3" name="Picture 13" descr=""/>
          <p:cNvPicPr/>
          <p:nvPr/>
        </p:nvPicPr>
        <p:blipFill>
          <a:blip r:embed="rId1"/>
          <a:stretch/>
        </p:blipFill>
        <p:spPr>
          <a:xfrm>
            <a:off x="3313080" y="1857240"/>
            <a:ext cx="6153120" cy="314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4" name="TextBox 13"/>
          <p:cNvSpPr/>
          <p:nvPr/>
        </p:nvSpPr>
        <p:spPr>
          <a:xfrm>
            <a:off x="6881760" y="500076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rsa: Culpepper Pay Practices and Policies  Surve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Box 14"/>
          <p:cNvSpPr/>
          <p:nvPr/>
        </p:nvSpPr>
        <p:spPr>
          <a:xfrm>
            <a:off x="237960" y="1857240"/>
            <a:ext cx="292896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rategiile companiilor privind controlul costurilor salariale trebuie sa aiba la baza informatii din raportarile financiare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</a:rPr>
              <a:t> care sa fi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de4d1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rec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de4d1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tocmite la tim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de4d1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stificate si explica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de4d1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bunatati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23440" y="356760"/>
            <a:ext cx="77770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Monitorizarea constanta a costurilor salariale a devenit </a:t>
            </a:r>
            <a:br>
              <a:rPr sz="2400"/>
            </a:b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o cerinta fundamentala 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669C-04C8-480B-B953-0CD2E27F8B60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Freeform 3"/>
          <p:cNvSpPr/>
          <p:nvPr/>
        </p:nvSpPr>
        <p:spPr>
          <a:xfrm>
            <a:off x="1530360" y="1628640"/>
            <a:ext cx="8136000" cy="1801800"/>
          </a:xfrm>
          <a:prstGeom prst="pie">
            <a:avLst/>
          </a:prstGeom>
          <a:solidFill>
            <a:srgbClr val="a2a2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Freeform 4"/>
          <p:cNvSpPr/>
          <p:nvPr/>
        </p:nvSpPr>
        <p:spPr>
          <a:xfrm flipV="1">
            <a:off x="1530360" y="4304160"/>
            <a:ext cx="8136000" cy="1801800"/>
          </a:xfrm>
          <a:prstGeom prst="pie">
            <a:avLst/>
          </a:prstGeom>
          <a:solidFill>
            <a:srgbClr val="a2a2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Freeform 5"/>
          <p:cNvSpPr/>
          <p:nvPr/>
        </p:nvSpPr>
        <p:spPr>
          <a:xfrm>
            <a:off x="1604880" y="2563920"/>
            <a:ext cx="8061480" cy="1163520"/>
          </a:xfrm>
          <a:prstGeom prst="pie">
            <a:avLst/>
          </a:prstGeom>
          <a:solidFill>
            <a:srgbClr val="a2a2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Freeform 6"/>
          <p:cNvSpPr/>
          <p:nvPr/>
        </p:nvSpPr>
        <p:spPr>
          <a:xfrm>
            <a:off x="1604880" y="3962520"/>
            <a:ext cx="8061480" cy="1234800"/>
          </a:xfrm>
          <a:prstGeom prst="pie">
            <a:avLst/>
          </a:prstGeom>
          <a:solidFill>
            <a:srgbClr val="a2a2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reeform 7"/>
          <p:cNvSpPr/>
          <p:nvPr/>
        </p:nvSpPr>
        <p:spPr>
          <a:xfrm>
            <a:off x="1604880" y="3481560"/>
            <a:ext cx="8061480" cy="785520"/>
          </a:xfrm>
          <a:prstGeom prst="pie">
            <a:avLst/>
          </a:prstGeom>
          <a:solidFill>
            <a:srgbClr val="a2a2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227160" y="3035160"/>
            <a:ext cx="2288880" cy="1616040"/>
          </a:xfrm>
          <a:prstGeom prst="ellipse">
            <a:avLst/>
          </a:prstGeom>
          <a:solidFill>
            <a:srgbClr val="de4d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217440" y="3574440"/>
            <a:ext cx="2292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240" indent="-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onitorizarea costurilor salarial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3046320" y="1887120"/>
            <a:ext cx="66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26960" indent="-2444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Incadrare in buge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3046320" y="2829960"/>
            <a:ext cx="66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26960" indent="-2444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Oportunitati de optimiza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3046320" y="3746160"/>
            <a:ext cx="66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26960" indent="-2444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Identificarea si corectarea erorilor: de operare / </a:t>
            </a:r>
            <a:r>
              <a:rPr b="0" lang="ro-RO" sz="1700" spc="-1" strike="noStrike">
                <a:solidFill>
                  <a:srgbClr val="000000"/>
                </a:solidFill>
                <a:latin typeface="Tahoma"/>
                <a:ea typeface="Arial"/>
              </a:rPr>
              <a:t>de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sistem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Rectangle 13"/>
          <p:cNvSpPr/>
          <p:nvPr/>
        </p:nvSpPr>
        <p:spPr>
          <a:xfrm>
            <a:off x="3046320" y="4690440"/>
            <a:ext cx="66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26960" indent="-2444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Indentificarea eventualelor abuzuri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Rectangle 14"/>
          <p:cNvSpPr/>
          <p:nvPr/>
        </p:nvSpPr>
        <p:spPr>
          <a:xfrm>
            <a:off x="3024360" y="5503320"/>
            <a:ext cx="6602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26960" indent="-2444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Identificarea proceselor ineficiente (de Resurse Umane sau operationale)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200160" y="1916280"/>
            <a:ext cx="9474120" cy="2635560"/>
            <a:chOff x="200160" y="1916280"/>
            <a:chExt cx="9474120" cy="2635560"/>
          </a:xfrm>
        </p:grpSpPr>
        <p:sp>
          <p:nvSpPr>
            <p:cNvPr id="712" name="Rectangle 2"/>
            <p:cNvSpPr/>
            <p:nvPr/>
          </p:nvSpPr>
          <p:spPr>
            <a:xfrm>
              <a:off x="230040" y="3286080"/>
              <a:ext cx="9444240" cy="374760"/>
            </a:xfrm>
            <a:prstGeom prst="rect">
              <a:avLst/>
            </a:prstGeom>
            <a:solidFill>
              <a:srgbClr val="de4d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4"/>
            <p:cNvSpPr/>
            <p:nvPr/>
          </p:nvSpPr>
          <p:spPr>
            <a:xfrm>
              <a:off x="200160" y="1916280"/>
              <a:ext cx="9448560" cy="26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oluri si 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sponsabilati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trategii si tendinte in 2009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iscuri si avantaj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4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8FA-CCF2-40D6-81B5-65FC66605B13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777708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230725"/>
                </a:solidFill>
                <a:latin typeface="Tahoma"/>
              </a:rPr>
              <a:t>Frumoasa si bestia” in controlul costurilor salariale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5035680" y="1413000"/>
            <a:ext cx="4127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8697-BD3A-4B32-84FE-C44FE450D8EA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1523880" y="1306080"/>
            <a:ext cx="6357600" cy="5383080"/>
            <a:chOff x="1523880" y="1306080"/>
            <a:chExt cx="6357600" cy="5383080"/>
          </a:xfrm>
        </p:grpSpPr>
        <p:sp>
          <p:nvSpPr>
            <p:cNvPr id="719" name="Freeform 4"/>
            <p:cNvSpPr/>
            <p:nvPr/>
          </p:nvSpPr>
          <p:spPr>
            <a:xfrm>
              <a:off x="3877920" y="1857240"/>
              <a:ext cx="4003560" cy="41511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Freeform 5"/>
            <p:cNvSpPr/>
            <p:nvPr/>
          </p:nvSpPr>
          <p:spPr>
            <a:xfrm>
              <a:off x="1604160" y="1857240"/>
              <a:ext cx="3973680" cy="4149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Rectangle 6"/>
            <p:cNvSpPr/>
            <p:nvPr/>
          </p:nvSpPr>
          <p:spPr>
            <a:xfrm>
              <a:off x="1523880" y="1986120"/>
              <a:ext cx="2734920" cy="34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426960" indent="-24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ugetare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defectuoas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mensionare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incorecta a resurselor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resterea cheltuielilor (e.g. taxe angajator)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Favorizarea erorilor  si 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buzurilor (in modul de calcul)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mpromiterea planurilor de reorganizar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Rectangle 7"/>
            <p:cNvSpPr/>
            <p:nvPr/>
          </p:nvSpPr>
          <p:spPr>
            <a:xfrm>
              <a:off x="4850640" y="1306080"/>
              <a:ext cx="3030840" cy="53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ugetare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coerenta 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ificare</a:t>
              </a:r>
              <a:r>
                <a:rPr b="0" lang="ro-RO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eficient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ecizii in baza unor informatii corect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ducerea costurilor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lementarea de procese efiecient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imitarea / eliminarea expunerii fiscal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628560" indent="2858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linirea obiectivelor cu dept. de Resurse Umane si organizatii sindicale / reprezentanti ai angajatilor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59:59Z</dcterms:created>
  <dc:creator>Ioana Livezeanu</dc:creator>
  <dc:description/>
  <dc:language>en-US</dc:language>
  <cp:lastModifiedBy>cvr</cp:lastModifiedBy>
  <cp:lastPrinted>2002-09-24T00:35:35Z</cp:lastPrinted>
  <dcterms:modified xsi:type="dcterms:W3CDTF">2009-03-30T14:56:09Z</dcterms:modified>
  <cp:revision>138</cp:revision>
  <dc:subject/>
  <dc:title>Finantare nerambursabila prin Instrumentele Structu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viewer">
    <vt:lpwstr>TJ</vt:lpwstr>
  </property>
</Properties>
</file>