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3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268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4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3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268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9480" y="409320"/>
            <a:ext cx="76896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332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2680" y="136980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14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332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2680" y="3854160"/>
            <a:ext cx="25797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9480" y="409320"/>
            <a:ext cx="76896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9760" y="385416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432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9760" y="1369800"/>
            <a:ext cx="390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4320" y="3854160"/>
            <a:ext cx="80121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4320" y="1369800"/>
            <a:ext cx="80121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228600"/>
            <a:ext cx="32004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Sylfaen"/>
              </a:rPr>
              <a:t>Dragos Cabat, C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Sylfaen"/>
              </a:rPr>
              <a:t>Managing Partner, Financi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64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2880" y="3017880"/>
            <a:ext cx="370836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5080" indent="49320" algn="ctr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97080" indent="74520" algn="ctr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728720" indent="100080" algn="ctr">
              <a:spcBef>
                <a:spcPts val="476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28720" indent="10008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28720" indent="100080">
              <a:spcBef>
                <a:spcPts val="476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124080"/>
            <a:ext cx="3733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638680"/>
            <a:ext cx="48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Dragos  Cabat, C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Managing Partner, Financial View Consul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President, CFA  Rom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83808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Rockwell"/>
              </a:rPr>
              <a:t>Criza de lichiditati a companiil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3581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a criz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i anticr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uri oper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bcdc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finan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419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volutia crizei in Rom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ajul Financ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ul cvasi-inexistent la credite de investit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lungirea cu mare greutate a liniilor de creditare pentru capitalul de luc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area mult mai dificila a surselor de la fonduri de investit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asari de la clienti la termene tot mai lung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locajul incasarilor in relatia cu statu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sterea delincventei in relatia inter-companii si cu banc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derea cifrei de aface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 resimte cu putere incepand cu februarie – martie 20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fecteaza toate sectoarele de activitate si industri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33560" y="409320"/>
            <a:ext cx="510516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lutii anticri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u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uni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nii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30720" y="838080"/>
            <a:ext cx="401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suri Operation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area client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bilirea de limite pe clien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gerea furnizori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iterii cost/ calit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i salariale flex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ponibilizar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rea salariilor tuturor angajati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9480" y="409320"/>
            <a:ext cx="76896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lutii anticri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804960"/>
            <a:ext cx="51055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579132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agement Financiar Str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tizarea capitalului de luc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onarea optima a intrarilor si iesirilor de num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dbdcde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larea programelor de investitii cu resursele dispon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izarea companiilor din surse proprii/ at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ef1c2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ate de tip M&amp;A pentru eficientizare sau utilizarea oportunitatilor de expansiune a aface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33:53Z</dcterms:created>
  <dc:creator/>
  <dc:description/>
  <dc:language>en-US</dc:language>
  <cp:lastModifiedBy>ioana.chira</cp:lastModifiedBy>
  <cp:lastPrinted>2006-11-01T11:03:51Z</cp:lastPrinted>
  <dcterms:modified xsi:type="dcterms:W3CDTF">2009-03-30T15:25:30Z</dcterms:modified>
  <cp:revision>1760</cp:revision>
  <dc:subject/>
  <dc:title>Slide 1</dc:title>
</cp:coreProperties>
</file>