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907588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9000" y="-1440"/>
            <a:ext cx="411804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9"/>
          </p:nvPr>
        </p:nvSpPr>
        <p:spPr>
          <a:xfrm>
            <a:off x="5473440" y="-1440"/>
            <a:ext cx="411804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20"/>
          </p:nvPr>
        </p:nvSpPr>
        <p:spPr>
          <a:xfrm>
            <a:off x="90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1"/>
          </p:nvPr>
        </p:nvSpPr>
        <p:spPr>
          <a:xfrm>
            <a:off x="547344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  <a:defRPr b="0" i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4D336A5C-323B-4862-AEB0-D0873347130A}" type="slidenum">
              <a:rPr b="0" i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72720" bIns="727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Img"/>
          </p:nvPr>
        </p:nvSpPr>
        <p:spPr>
          <a:xfrm>
            <a:off x="2820600" y="552600"/>
            <a:ext cx="3954600" cy="273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4123800" y="7002360"/>
            <a:ext cx="12729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60F141B-73CE-48EE-A67F-78CEE8E335BF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oliennummernplatzhalt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1F0B14AF-AD18-4FDD-AD1A-CDA73250AD6E}" type="slidenum">
              <a:rPr b="0" i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CF814FE5-5702-4C76-9A53-7413FC061742}" type="slidenum">
              <a:rPr b="0" i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03A04264-A864-46C1-8DE9-5687682D493D}" type="slidenum">
              <a:rPr b="0" i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5"/>
          <p:cNvSpPr/>
          <p:nvPr/>
        </p:nvSpPr>
        <p:spPr>
          <a:xfrm>
            <a:off x="5475240" y="6912000"/>
            <a:ext cx="4116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D25E1E-9647-43C1-9C0A-A428842989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liennummernplatzhalt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F91DE9E3-2578-4505-8D4C-42C4C6D30C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5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D286ACD3-AB37-47D4-A53B-43CFC5531FBB}" type="slidenum">
              <a:rPr b="0" i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2824200" y="552600"/>
            <a:ext cx="3952800" cy="27381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1306080" y="3503520"/>
            <a:ext cx="6978600" cy="30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DE290125-737B-4108-88F3-0AADC5514C8F}" type="slidenum">
              <a:rPr b="0" i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0743DA99-4D66-41C8-8AE8-694F7802F763}" type="slidenum">
              <a:rPr b="0" i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820960" y="552600"/>
            <a:ext cx="3954600" cy="27381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81240" y="347940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5473800" y="6912000"/>
            <a:ext cx="4118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fld id="{402484A8-631F-49BC-B66D-75238D50D1D7}" type="slidenum">
              <a:rPr b="0" i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9428-1D3F-45EE-A041-63C1F7FD1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A4F2-4754-43EE-8594-34ED262419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7CEF0-1FEF-49DF-A7D7-EADB8A9481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E1983-781F-4E29-9CBA-5304FF2852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55A2B-B9EC-47B3-91A8-9F856BFAF6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2AB94-6C3C-48CE-B1BF-EB16CA6709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DA2E9-3719-4256-A389-D27FEC9FA2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999CC-0102-482B-8EB7-5233623D8A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82218-7C84-4419-A208-279C5D21CF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14E7E-DB5A-4C05-9BBD-05E77ACCC4E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BA6BD-BE18-4EC4-84DE-8953986AD8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484B44-2DC2-431D-9867-A68D49646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5D24-B05E-415B-B687-127902280D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654CF-6881-4672-9255-23242F5FC2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E493B-C44C-47E1-9498-34971CE181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EA7DD-7802-45DA-9C61-42FD7C7EEA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F4158-E1E2-4D33-9C57-40911012A0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45A6B-6AD8-482D-A118-0CD62B0F5E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CF3C8-8577-4264-8D05-BD1DF8C475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7812D-FC1C-4678-B490-FC3FC5B0B5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869519-DEAF-4833-B9A6-A79DBC3407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6B89F-EB47-49A5-95DE-BA702F4830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9036C-0D69-4C76-9C26-DF36F2684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AB0D-D4FA-40FA-AFD5-525BEFBCF8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6AE8E-FDB6-4CEB-974A-BF3831CEE1C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A78B-BA5B-4916-B76B-D59AF2764E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3C44-0AAE-4FAF-B089-A796037749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856A2-BFC8-4317-AFFE-AB83FA6E4A7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B1A5-5A9B-41C6-A721-39752C3E48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706C-B1C7-4262-A49A-F647540EA7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7AE31-14A4-47B9-B426-4CB88B1136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DB9B-CD6E-4149-9923-033238D547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06699-404C-44B2-9608-D52A87BBEB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DAE67-160C-4549-8C5A-CAC062DDB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055E-7F43-4253-B327-34D7F3D3E5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DBF4-48EA-473F-9D80-7B74C08B751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C619-66E7-45F6-8A52-2598CE8F78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FCC8-E886-431B-B657-5A47727ED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76BD-F5B3-4157-8798-A3D8003CB3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7FB72-06EB-4169-822A-727ED3E13F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1266B-5289-4D14-9125-CE40A8E9A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303DF-A389-419B-BCFE-976FAD6546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380DD-3940-4CB3-A4A6-B6A10BF92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4FE7-EF0C-4199-B4B8-F2B454FBBE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75E82-7DB7-45C0-8A5A-20FA2C19AE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A8EDC-FAF2-4DB8-BF46-4FDAC97852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340B-0204-4C43-8C22-00E4E3E9BB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1974C-77FC-4524-BBC8-3D4C239EB9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638D-C336-4DA2-AE00-8123EFCA42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007F-0A2A-4B04-8D61-643E38F96F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C21B-567B-4217-8E80-23C7C1ACBA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0166-0E89-45EB-A409-5CDA05A975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AB49-75B3-4FBE-ABA6-83024CCC48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387A-8E87-4C5A-9B99-B0AD1742D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BB72-EB0D-4E55-9927-28BF825A01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93B5-75C7-4238-B47A-DC0FBB2E39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0E49-E225-4CE6-BF08-D5116C62A0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D09-5EDE-4939-9A31-579C0C697B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BFF-5C5C-4249-A62D-0601D9D05A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549-2100-49E1-93B3-A4C3AF7012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9009-57D3-4990-8799-39D6A8549A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D89-B7AD-4C7C-9C20-441F8E9F54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DBD-809B-4228-BFAD-26AF362D0C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D67B-98A3-4BB7-9AEC-6CFC4B077C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72AF1-F5C4-43D3-835F-587428CFC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1EA3-AD0B-45B3-A9E1-A3CECFB328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0E6F7-C292-4E8B-AE35-E60AC11D24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048A5-FB2E-4F9D-A9B1-5C7E859431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9A7C3-832F-4051-AE09-72EFE9897A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4673E-2E1B-4D0D-B404-4E0B6548509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71EEA-B674-428B-A16D-0FFEED40DC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57585-C94E-4767-A57D-B320F093C4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80823-302C-442F-983E-5E3A9BA014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6CA7-2183-41C8-9F5D-B7588422AF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0C4CC-59CA-419D-BC1D-E92E18C0D6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1C720-B4D3-4D82-8D49-E86D02B29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9D1A-E9FF-49BC-AE29-EAEE9D244B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18412-23FD-4049-98E4-1381B540E6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BF7BF-05E6-4763-AEF2-73E4EF0B7D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82FC2-ABC0-476B-AF03-FB64ADFACC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BCC8E-479F-4DC8-B07F-B163D3BA3C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BFAB9-4E37-46E9-A7E0-0950342D79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6B669-2B5B-41C8-B669-D4D008224F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D4AAA-F42C-41ED-A204-FE2E0BC956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78626-116F-404B-86B4-C1E5E3CF00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A6F7A-1296-42C6-929D-F0D6D9525E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3FE50-6DC0-4769-8A0B-266DA6794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F6CA-EF05-48A2-999E-70B062535C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A37F7-2D6D-410E-B7B8-6F9AB61AC6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F0CE0-C449-4959-A97D-A1B739D68B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2A746-30DD-4D93-9D8B-9B5D634008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CFE4-8065-46DD-B54D-4B6ECD9AB5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4CEF-0657-49ED-A0B2-29AE5788EE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C0071-ED44-4167-994E-A278F55272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902A-2705-4C7B-A2AB-7A2B61055B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DA20-EADC-4606-AD2D-BB36ADD95A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9DF1-AEDB-4BED-8583-421C4C899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3891-9EFC-48C6-99FB-5ACAB7F92C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9448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879D-FAEA-4DCD-B2FD-BCB5AFF8B3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D520-4827-494B-BF20-908807E619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C19A-3802-42CE-AE37-DEB32125C1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DA4B-100A-48D1-97B4-CF774E3F8B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28240" y="2749320"/>
            <a:ext cx="9456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0A5D1-298E-47D8-A369-9FD862CA86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74200" y="138744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2824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74200" y="2749320"/>
            <a:ext cx="461484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10F3-7251-4D96-A526-26B804518B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42576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3280" y="138744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22824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42576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623280" y="2749320"/>
            <a:ext cx="3044880" cy="12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5B14-B03A-4B63-8678-2739CD8B00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0CA34-6527-4446-ADF2-D0A11030B2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B5EB2-ECC0-429B-82E4-B68F4BB1AA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036EC-47F3-45ED-8C61-ABE2E94FB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2B69-9D8F-485E-8C39-B0FC379F70AB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5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6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662-6AF0-4893-86AD-FA5FA3441C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7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18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A97-6B25-4F59-A0D1-9850F2D56A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228600" y="624852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6750000" y="6112440"/>
            <a:ext cx="297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© Horváth &amp; Partner 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6657840" y="1063800"/>
            <a:ext cx="2855880" cy="55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6"/>
          <p:cNvSpPr/>
          <p:nvPr/>
        </p:nvSpPr>
        <p:spPr>
          <a:xfrm>
            <a:off x="6746760" y="1871640"/>
            <a:ext cx="2971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100"/>
              </a:spcAft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tlanta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Barcelona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Berlin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Bucharest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Budapest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üsseldorf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Frankfurt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Munich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tuttgart</a:t>
            </a:r>
            <a:r>
              <a:rPr b="1" lang="ro-RO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Vienna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Zur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www.horvath-partner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2DE-C829-48E1-B899-C90211B644A8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6D1-9BDA-4CFF-B44E-CCF58CF00E47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7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8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EDB2-67EE-4E8F-BAB0-F944F3B94C29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9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0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264-9326-4280-BB25-AF318549F14F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pieren 3"/>
          <p:cNvGrpSpPr/>
          <p:nvPr/>
        </p:nvGrpSpPr>
        <p:grpSpPr>
          <a:xfrm>
            <a:off x="0" y="0"/>
            <a:ext cx="9885240" cy="6858000"/>
            <a:chOff x="0" y="0"/>
            <a:chExt cx="9885240" cy="6858000"/>
          </a:xfrm>
        </p:grpSpPr>
        <p:sp>
          <p:nvSpPr>
            <p:cNvPr id="268" name="Gerade Verbindung 5"/>
            <p:cNvSpPr/>
            <p:nvPr/>
          </p:nvSpPr>
          <p:spPr>
            <a:xfrm>
              <a:off x="0" y="0"/>
              <a:ext cx="9864720" cy="685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Gerade Verbindung 6"/>
            <p:cNvSpPr/>
            <p:nvPr/>
          </p:nvSpPr>
          <p:spPr>
            <a:xfrm flipH="1">
              <a:off x="20520" y="0"/>
              <a:ext cx="9864720" cy="685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1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2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B8C-6599-48CF-8D55-B1D4084A4F82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 flipH="1">
            <a:off x="228240" y="12193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228240" y="6369120"/>
            <a:ext cx="944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6" descr="C:\Dokumente und Einstellungen\pc04\Desktop\logo_rgb_1.tif"/>
          <p:cNvPicPr/>
          <p:nvPr/>
        </p:nvPicPr>
        <p:blipFill>
          <a:blip r:embed="rId2"/>
          <a:stretch/>
        </p:blipFill>
        <p:spPr>
          <a:xfrm>
            <a:off x="7672320" y="6416640"/>
            <a:ext cx="2082960" cy="403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28240" y="1387440"/>
            <a:ext cx="9456840" cy="260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3c58a1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13"/>
          </p:nvPr>
        </p:nvSpPr>
        <p:spPr>
          <a:xfrm>
            <a:off x="647280" y="6169320"/>
            <a:ext cx="139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add date and title of presentation please go to "insert" – header and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14"/>
          </p:nvPr>
        </p:nvSpPr>
        <p:spPr>
          <a:xfrm>
            <a:off x="223920" y="6624720"/>
            <a:ext cx="15696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09C-2232-484C-8B50-098268DF0A88}" type="slidenum">
              <a:rPr b="1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746400" y="2866680"/>
            <a:ext cx="297180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ra Cad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746400" y="3120840"/>
            <a:ext cx="296892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ucureşti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 marti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title"/>
          </p:nvPr>
        </p:nvSpPr>
        <p:spPr>
          <a:xfrm>
            <a:off x="228600" y="5537160"/>
            <a:ext cx="63244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ortunitati in vremuri turbulente. Cresteti lichiditatea cu dobanda z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58760" y="2867040"/>
            <a:ext cx="6394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lutie: Cea mai rapida metoda de generare a Cash flow-ului intern este recuperarea creante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228600" y="1523880"/>
            <a:ext cx="6248520" cy="4515120"/>
          </a:xfrm>
          <a:custGeom>
            <a:avLst/>
            <a:gdLst>
              <a:gd name="textAreaLeft" fmla="*/ 0 w 6248520"/>
              <a:gd name="textAreaRight" fmla="*/ 6248880 w 6248520"/>
              <a:gd name="textAreaTop" fmla="*/ 0 h 4515120"/>
              <a:gd name="textAreaBottom" fmla="*/ 4515120 h 451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1" y="0"/>
                </a:lnTo>
                <a:lnTo>
                  <a:pt x="21600" y="10800"/>
                </a:lnTo>
                <a:lnTo>
                  <a:pt x="201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04920" y="1600200"/>
            <a:ext cx="5784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3c58a1"/>
                </a:solidFill>
                <a:latin typeface="Arial"/>
              </a:rPr>
              <a:t>Reguli simple &amp; clare in acordarea termenelor de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ulile standardizate conduc la un comportament unitar fata de toti client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sturi scazute datorita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iza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304920" y="2673360"/>
            <a:ext cx="6186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3c58a1"/>
                </a:solidFill>
                <a:latin typeface="Arial"/>
              </a:rPr>
              <a:t>Structura si calitatea proceselor  de cred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ificarea periodica a bonitatii clientilor -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duce la atragerea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 clienti buni platn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igurarea suficienta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creditului – introducerea unui cost standard de ri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304920" y="3832200"/>
            <a:ext cx="6186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3c58a1"/>
                </a:solidFill>
                <a:latin typeface="Arial"/>
              </a:rPr>
              <a:t>Organiz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ze de date cli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ne intret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ormatiile detinute de ASM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 fie clar comunicate i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interiorul compani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304920" y="4975200"/>
            <a:ext cx="5784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3c58a1"/>
                </a:solidFill>
                <a:latin typeface="Arial"/>
              </a:rPr>
              <a:t>Contro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aportare suficient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evaluare a segmentelor de client, produse, divizii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tomatizarea rapoartelor periodic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duce la cel mai bu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228600" y="2629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228600" y="3784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228600" y="4915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457200" y="6249240"/>
            <a:ext cx="94489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42696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Dobanda: 10%, CA: 100Mil€, Pondere vanzari: 60%, Marja: 10%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liennummernplatzhalter 43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8C5-84DF-4387-82BC-97D8575E40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2"/>
          <p:cNvSpPr/>
          <p:nvPr/>
        </p:nvSpPr>
        <p:spPr>
          <a:xfrm>
            <a:off x="6491160" y="2274840"/>
            <a:ext cx="3186360" cy="30416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ocusul trebuie sa fie acum pe optimizarea managementului creante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rice vanzare &amp; livrare fara incasarea banilor pe loc reprezinta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acordarea unui credit clien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14A6-7C00-4C5C-B972-60550494CBEC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Gerade Verbindung 35"/>
          <p:cNvSpPr/>
          <p:nvPr/>
        </p:nvSpPr>
        <p:spPr>
          <a:xfrm flipV="1">
            <a:off x="5033160" y="1773360"/>
            <a:ext cx="644760" cy="132552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Gerade Verbindung 36"/>
          <p:cNvSpPr/>
          <p:nvPr/>
        </p:nvSpPr>
        <p:spPr>
          <a:xfrm flipH="1" flipV="1">
            <a:off x="5347800" y="4518000"/>
            <a:ext cx="995400" cy="128592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Gerade Verbindung 38"/>
          <p:cNvSpPr/>
          <p:nvPr/>
        </p:nvSpPr>
        <p:spPr>
          <a:xfrm flipH="1">
            <a:off x="2700360" y="3927600"/>
            <a:ext cx="1571760" cy="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feld 51"/>
          <p:cNvSpPr/>
          <p:nvPr/>
        </p:nvSpPr>
        <p:spPr>
          <a:xfrm>
            <a:off x="809640" y="1695600"/>
            <a:ext cx="281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ăsuri pentru optimizarea eficienţei 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feld 52"/>
          <p:cNvSpPr/>
          <p:nvPr/>
        </p:nvSpPr>
        <p:spPr>
          <a:xfrm>
            <a:off x="844560" y="4638600"/>
            <a:ext cx="35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ăsuri strategice de lungă durată pentru asigurarea şi crearea viito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feld 53"/>
          <p:cNvSpPr/>
          <p:nvPr/>
        </p:nvSpPr>
        <p:spPr>
          <a:xfrm>
            <a:off x="6343560" y="2701800"/>
            <a:ext cx="30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ăsuri de scurtă durată pentru îmbunătăţirea Cash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Gerade Verbindung 55"/>
          <p:cNvSpPr/>
          <p:nvPr/>
        </p:nvSpPr>
        <p:spPr>
          <a:xfrm>
            <a:off x="907920" y="2141640"/>
            <a:ext cx="27147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Gerade Verbindung 57"/>
          <p:cNvSpPr/>
          <p:nvPr/>
        </p:nvSpPr>
        <p:spPr>
          <a:xfrm>
            <a:off x="941400" y="5180040"/>
            <a:ext cx="27147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Gerade Verbindung 58"/>
          <p:cNvSpPr/>
          <p:nvPr/>
        </p:nvSpPr>
        <p:spPr>
          <a:xfrm>
            <a:off x="6429240" y="3219480"/>
            <a:ext cx="17859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feld 61"/>
          <p:cNvSpPr/>
          <p:nvPr/>
        </p:nvSpPr>
        <p:spPr>
          <a:xfrm>
            <a:off x="809640" y="2151000"/>
            <a:ext cx="328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timizarea, standardizarea şi armonizarea proceselo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 produs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ncepte integrate de reporting şi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feld 62"/>
          <p:cNvSpPr/>
          <p:nvPr/>
        </p:nvSpPr>
        <p:spPr>
          <a:xfrm>
            <a:off x="915840" y="5207040"/>
            <a:ext cx="453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timizarea modelelor de 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erea strategiei şi focusarea pe implementarea strategie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oritizarea dezvoltării şi distribuţiei pe baza pieţelor potenţi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feld 63"/>
          <p:cNvSpPr/>
          <p:nvPr/>
        </p:nvSpPr>
        <p:spPr>
          <a:xfrm>
            <a:off x="6572160" y="3290760"/>
            <a:ext cx="295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structu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ducerea costuri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nage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ergi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nagement-ul capitalului circulant şi optimizarea stocur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21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ista cateva parghii clare de actiune in aceasta perioad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4"/>
          <p:cNvGrpSpPr/>
          <p:nvPr/>
        </p:nvGrpSpPr>
        <p:grpSpPr>
          <a:xfrm>
            <a:off x="4098960" y="2917800"/>
            <a:ext cx="1579320" cy="1782000"/>
            <a:chOff x="4098960" y="2917800"/>
            <a:chExt cx="1579320" cy="1782000"/>
          </a:xfrm>
        </p:grpSpPr>
        <p:sp>
          <p:nvSpPr>
            <p:cNvPr id="771" name="Freeform 3"/>
            <p:cNvSpPr/>
            <p:nvPr/>
          </p:nvSpPr>
          <p:spPr>
            <a:xfrm>
              <a:off x="4098960" y="3903840"/>
              <a:ext cx="1347840" cy="74448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"/>
            <p:cNvSpPr/>
            <p:nvPr/>
          </p:nvSpPr>
          <p:spPr>
            <a:xfrm flipH="1">
              <a:off x="4993560" y="3097080"/>
              <a:ext cx="684360" cy="132912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"/>
            <p:cNvSpPr/>
            <p:nvPr/>
          </p:nvSpPr>
          <p:spPr>
            <a:xfrm flipH="1">
              <a:off x="4134600" y="2917800"/>
              <a:ext cx="1016280" cy="120204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"/>
            <p:cNvSpPr/>
            <p:nvPr/>
          </p:nvSpPr>
          <p:spPr>
            <a:xfrm rot="3517200">
              <a:off x="5007240" y="3574080"/>
              <a:ext cx="75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"/>
            <p:cNvSpPr/>
            <p:nvPr/>
          </p:nvSpPr>
          <p:spPr>
            <a:xfrm rot="1332000">
              <a:off x="4308120" y="4249440"/>
              <a:ext cx="82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000" spc="-1" strike="noStrike">
                  <a:solidFill>
                    <a:srgbClr val="000000"/>
                  </a:solidFill>
                  <a:latin typeface="Arial"/>
                </a:rPr>
                <a:t>Potenţiale de creşt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8"/>
            <p:cNvSpPr/>
            <p:nvPr/>
          </p:nvSpPr>
          <p:spPr>
            <a:xfrm rot="19026000">
              <a:off x="4192560" y="3440880"/>
              <a:ext cx="51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42"/>
          <p:cNvSpPr/>
          <p:nvPr/>
        </p:nvSpPr>
        <p:spPr>
          <a:xfrm>
            <a:off x="809640" y="4572000"/>
            <a:ext cx="4538520" cy="1805040"/>
          </a:xfrm>
          <a:prstGeom prst="rect">
            <a:avLst/>
          </a:prstGeom>
          <a:noFill/>
          <a:ln w="38160">
            <a:solidFill>
              <a:srgbClr val="3c58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238560" y="2253960"/>
            <a:ext cx="6438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 c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egmente de piaţ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rebuie să se pună accentu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e produs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rebuie să se pună accentu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otenţial de veni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află în spatele portofoliului de prod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duse ar trebui elimina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 portofoliul de prod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se poa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stribui mai b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sul nostr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99"/>
              </a:spcBef>
              <a:buClr>
                <a:srgbClr val="3c58a1"/>
              </a:buClr>
              <a:buFont typeface="Wingdings" charset="2"/>
              <a:buChar char="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e sun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sele de piat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e nu suntem prez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naliza orientată pe strategie răspunde la principalele întrebări legate d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itorul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ortofoliului de produs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i servici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3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2B4-A601-480A-BC52-C3C1ED403A8E}" type="slidenum">
              <a:rPr b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uppieren 27"/>
          <p:cNvGrpSpPr/>
          <p:nvPr/>
        </p:nvGrpSpPr>
        <p:grpSpPr>
          <a:xfrm>
            <a:off x="2636280" y="1643040"/>
            <a:ext cx="6498360" cy="4073400"/>
            <a:chOff x="2636280" y="1643040"/>
            <a:chExt cx="6498360" cy="4073400"/>
          </a:xfrm>
        </p:grpSpPr>
        <p:sp>
          <p:nvSpPr>
            <p:cNvPr id="783" name="Gerade Verbindung 13"/>
            <p:cNvSpPr/>
            <p:nvPr/>
          </p:nvSpPr>
          <p:spPr>
            <a:xfrm flipV="1">
              <a:off x="2636280" y="1643400"/>
              <a:ext cx="108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Gerade Verbindung 14"/>
            <p:cNvSpPr/>
            <p:nvPr/>
          </p:nvSpPr>
          <p:spPr>
            <a:xfrm flipH="1">
              <a:off x="2698920" y="4500360"/>
              <a:ext cx="36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Gerade Verbindung 17"/>
            <p:cNvSpPr/>
            <p:nvPr/>
          </p:nvSpPr>
          <p:spPr>
            <a:xfrm>
              <a:off x="2699280" y="5715000"/>
              <a:ext cx="643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Gerade Verbindung 18"/>
            <p:cNvSpPr/>
            <p:nvPr/>
          </p:nvSpPr>
          <p:spPr>
            <a:xfrm>
              <a:off x="2637360" y="1643040"/>
              <a:ext cx="649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Richtungspfeil 19"/>
          <p:cNvSpPr/>
          <p:nvPr/>
        </p:nvSpPr>
        <p:spPr>
          <a:xfrm>
            <a:off x="235080" y="2708280"/>
            <a:ext cx="2609640" cy="222732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0" y="0"/>
                </a:lnTo>
                <a:lnTo>
                  <a:pt x="21600" y="10800"/>
                </a:lnTo>
                <a:lnTo>
                  <a:pt x="183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uppieren 4"/>
          <p:cNvGrpSpPr/>
          <p:nvPr/>
        </p:nvGrpSpPr>
        <p:grpSpPr>
          <a:xfrm>
            <a:off x="326880" y="3000960"/>
            <a:ext cx="2107080" cy="1726560"/>
            <a:chOff x="326880" y="3000960"/>
            <a:chExt cx="2107080" cy="1726560"/>
          </a:xfrm>
        </p:grpSpPr>
        <p:sp>
          <p:nvSpPr>
            <p:cNvPr id="789" name="Freeform 1117"/>
            <p:cNvSpPr/>
            <p:nvPr/>
          </p:nvSpPr>
          <p:spPr>
            <a:xfrm>
              <a:off x="845280" y="3087360"/>
              <a:ext cx="1405080" cy="1284120"/>
            </a:xfrm>
            <a:prstGeom prst="pie">
              <a:avLst/>
            </a:prstGeom>
            <a:solidFill>
              <a:srgbClr val="9e9e9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18"/>
            <p:cNvSpPr/>
            <p:nvPr/>
          </p:nvSpPr>
          <p:spPr>
            <a:xfrm>
              <a:off x="845280" y="3242160"/>
              <a:ext cx="1404000" cy="1126440"/>
            </a:xfrm>
            <a:prstGeom prst="pie">
              <a:avLst/>
            </a:prstGeom>
            <a:solidFill>
              <a:srgbClr val="bcbcb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19"/>
            <p:cNvSpPr/>
            <p:nvPr/>
          </p:nvSpPr>
          <p:spPr>
            <a:xfrm>
              <a:off x="845280" y="394020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120"/>
            <p:cNvSpPr/>
            <p:nvPr/>
          </p:nvSpPr>
          <p:spPr>
            <a:xfrm>
              <a:off x="1312920" y="394020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121"/>
            <p:cNvSpPr/>
            <p:nvPr/>
          </p:nvSpPr>
          <p:spPr>
            <a:xfrm>
              <a:off x="1780920" y="3940200"/>
              <a:ext cx="46944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122"/>
            <p:cNvSpPr/>
            <p:nvPr/>
          </p:nvSpPr>
          <p:spPr>
            <a:xfrm>
              <a:off x="845280" y="3511440"/>
              <a:ext cx="46872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123"/>
            <p:cNvSpPr/>
            <p:nvPr/>
          </p:nvSpPr>
          <p:spPr>
            <a:xfrm>
              <a:off x="1312920" y="3511440"/>
              <a:ext cx="46872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124"/>
            <p:cNvSpPr/>
            <p:nvPr/>
          </p:nvSpPr>
          <p:spPr>
            <a:xfrm>
              <a:off x="1780920" y="3511440"/>
              <a:ext cx="46944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125"/>
            <p:cNvSpPr/>
            <p:nvPr/>
          </p:nvSpPr>
          <p:spPr>
            <a:xfrm>
              <a:off x="845280" y="308304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126"/>
            <p:cNvSpPr/>
            <p:nvPr/>
          </p:nvSpPr>
          <p:spPr>
            <a:xfrm>
              <a:off x="1312920" y="308304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127"/>
            <p:cNvSpPr/>
            <p:nvPr/>
          </p:nvSpPr>
          <p:spPr>
            <a:xfrm>
              <a:off x="1780920" y="3083040"/>
              <a:ext cx="46944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128"/>
            <p:cNvSpPr/>
            <p:nvPr/>
          </p:nvSpPr>
          <p:spPr>
            <a:xfrm>
              <a:off x="845280" y="3087360"/>
              <a:ext cx="1405080" cy="1284120"/>
            </a:xfrm>
            <a:prstGeom prst="pie">
              <a:avLst/>
            </a:prstGeom>
            <a:solidFill>
              <a:srgbClr val="9e9e9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29"/>
            <p:cNvSpPr/>
            <p:nvPr/>
          </p:nvSpPr>
          <p:spPr>
            <a:xfrm>
              <a:off x="845280" y="3242160"/>
              <a:ext cx="1404000" cy="1126440"/>
            </a:xfrm>
            <a:prstGeom prst="pie">
              <a:avLst/>
            </a:prstGeom>
            <a:solidFill>
              <a:srgbClr val="bcbcb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130"/>
            <p:cNvSpPr/>
            <p:nvPr/>
          </p:nvSpPr>
          <p:spPr>
            <a:xfrm>
              <a:off x="845280" y="394020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131"/>
            <p:cNvSpPr/>
            <p:nvPr/>
          </p:nvSpPr>
          <p:spPr>
            <a:xfrm>
              <a:off x="1312920" y="394020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132"/>
            <p:cNvSpPr/>
            <p:nvPr/>
          </p:nvSpPr>
          <p:spPr>
            <a:xfrm>
              <a:off x="1780920" y="3940200"/>
              <a:ext cx="46944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33"/>
            <p:cNvSpPr/>
            <p:nvPr/>
          </p:nvSpPr>
          <p:spPr>
            <a:xfrm>
              <a:off x="845280" y="3511440"/>
              <a:ext cx="46872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134"/>
            <p:cNvSpPr/>
            <p:nvPr/>
          </p:nvSpPr>
          <p:spPr>
            <a:xfrm>
              <a:off x="1312920" y="3511440"/>
              <a:ext cx="46872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135"/>
            <p:cNvSpPr/>
            <p:nvPr/>
          </p:nvSpPr>
          <p:spPr>
            <a:xfrm>
              <a:off x="1780920" y="3511440"/>
              <a:ext cx="469440" cy="42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136"/>
            <p:cNvSpPr/>
            <p:nvPr/>
          </p:nvSpPr>
          <p:spPr>
            <a:xfrm>
              <a:off x="845280" y="308304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37"/>
            <p:cNvSpPr/>
            <p:nvPr/>
          </p:nvSpPr>
          <p:spPr>
            <a:xfrm>
              <a:off x="1312920" y="3083040"/>
              <a:ext cx="46872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138"/>
            <p:cNvSpPr/>
            <p:nvPr/>
          </p:nvSpPr>
          <p:spPr>
            <a:xfrm>
              <a:off x="1780920" y="3083040"/>
              <a:ext cx="469440" cy="428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39"/>
            <p:cNvSpPr/>
            <p:nvPr/>
          </p:nvSpPr>
          <p:spPr>
            <a:xfrm>
              <a:off x="492480" y="3083040"/>
              <a:ext cx="720" cy="125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140"/>
            <p:cNvSpPr/>
            <p:nvPr/>
          </p:nvSpPr>
          <p:spPr>
            <a:xfrm>
              <a:off x="1359360" y="3543120"/>
              <a:ext cx="46872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141"/>
            <p:cNvSpPr/>
            <p:nvPr/>
          </p:nvSpPr>
          <p:spPr>
            <a:xfrm>
              <a:off x="469440" y="3273840"/>
              <a:ext cx="40968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142"/>
            <p:cNvSpPr/>
            <p:nvPr/>
          </p:nvSpPr>
          <p:spPr>
            <a:xfrm>
              <a:off x="552600" y="32785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143"/>
            <p:cNvSpPr/>
            <p:nvPr/>
          </p:nvSpPr>
          <p:spPr>
            <a:xfrm>
              <a:off x="469440" y="4020480"/>
              <a:ext cx="40968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144"/>
            <p:cNvSpPr/>
            <p:nvPr/>
          </p:nvSpPr>
          <p:spPr>
            <a:xfrm>
              <a:off x="552960" y="402516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145"/>
            <p:cNvSpPr/>
            <p:nvPr/>
          </p:nvSpPr>
          <p:spPr>
            <a:xfrm>
              <a:off x="677880" y="4535640"/>
              <a:ext cx="16862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146"/>
            <p:cNvSpPr/>
            <p:nvPr/>
          </p:nvSpPr>
          <p:spPr>
            <a:xfrm>
              <a:off x="894960" y="4390200"/>
              <a:ext cx="40968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47"/>
            <p:cNvSpPr/>
            <p:nvPr/>
          </p:nvSpPr>
          <p:spPr>
            <a:xfrm>
              <a:off x="977400" y="439488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148"/>
            <p:cNvSpPr/>
            <p:nvPr/>
          </p:nvSpPr>
          <p:spPr>
            <a:xfrm>
              <a:off x="1739520" y="4390200"/>
              <a:ext cx="40968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49"/>
            <p:cNvSpPr/>
            <p:nvPr/>
          </p:nvSpPr>
          <p:spPr>
            <a:xfrm>
              <a:off x="1853280" y="43948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7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50"/>
            <p:cNvSpPr/>
            <p:nvPr/>
          </p:nvSpPr>
          <p:spPr>
            <a:xfrm>
              <a:off x="677880" y="4547880"/>
              <a:ext cx="16873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51"/>
            <p:cNvSpPr/>
            <p:nvPr/>
          </p:nvSpPr>
          <p:spPr>
            <a:xfrm>
              <a:off x="1343520" y="455796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700" spc="-1" strike="noStrike">
                  <a:solidFill>
                    <a:srgbClr val="000000"/>
                  </a:solidFill>
                  <a:latin typeface="Arial"/>
                </a:rPr>
                <a:t>Market Fi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152"/>
            <p:cNvSpPr/>
            <p:nvPr/>
          </p:nvSpPr>
          <p:spPr>
            <a:xfrm>
              <a:off x="945360" y="4005360"/>
              <a:ext cx="117720" cy="10404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53"/>
            <p:cNvSpPr/>
            <p:nvPr/>
          </p:nvSpPr>
          <p:spPr>
            <a:xfrm>
              <a:off x="1698480" y="3206880"/>
              <a:ext cx="206280" cy="18144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1154"/>
            <p:cNvGrpSpPr/>
            <p:nvPr/>
          </p:nvGrpSpPr>
          <p:grpSpPr>
            <a:xfrm>
              <a:off x="1736280" y="3212280"/>
              <a:ext cx="189720" cy="287280"/>
              <a:chOff x="1736280" y="3212280"/>
              <a:chExt cx="189720" cy="287280"/>
            </a:xfrm>
          </p:grpSpPr>
          <p:sp>
            <p:nvSpPr>
              <p:cNvPr id="827" name="Rectangle 1155"/>
              <p:cNvSpPr/>
              <p:nvPr/>
            </p:nvSpPr>
            <p:spPr>
              <a:xfrm>
                <a:off x="1740600" y="3212280"/>
                <a:ext cx="181080" cy="1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1156"/>
              <p:cNvSpPr/>
              <p:nvPr/>
            </p:nvSpPr>
            <p:spPr>
              <a:xfrm>
                <a:off x="1736280" y="322488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Rectangle 1157"/>
            <p:cNvSpPr/>
            <p:nvPr/>
          </p:nvSpPr>
          <p:spPr>
            <a:xfrm>
              <a:off x="1737720" y="321156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58"/>
            <p:cNvSpPr/>
            <p:nvPr/>
          </p:nvSpPr>
          <p:spPr>
            <a:xfrm>
              <a:off x="1731240" y="320400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59"/>
            <p:cNvSpPr/>
            <p:nvPr/>
          </p:nvSpPr>
          <p:spPr>
            <a:xfrm>
              <a:off x="1726920" y="321624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1160"/>
            <p:cNvGrpSpPr/>
            <p:nvPr/>
          </p:nvGrpSpPr>
          <p:grpSpPr>
            <a:xfrm>
              <a:off x="1736280" y="3212280"/>
              <a:ext cx="189720" cy="287280"/>
              <a:chOff x="1736280" y="3212280"/>
              <a:chExt cx="189720" cy="287280"/>
            </a:xfrm>
          </p:grpSpPr>
          <p:sp>
            <p:nvSpPr>
              <p:cNvPr id="833" name="Rectangle 1161"/>
              <p:cNvSpPr/>
              <p:nvPr/>
            </p:nvSpPr>
            <p:spPr>
              <a:xfrm>
                <a:off x="1740600" y="3212280"/>
                <a:ext cx="181080" cy="1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1162"/>
              <p:cNvSpPr/>
              <p:nvPr/>
            </p:nvSpPr>
            <p:spPr>
              <a:xfrm>
                <a:off x="1736280" y="322488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Rectangle 1163"/>
            <p:cNvSpPr/>
            <p:nvPr/>
          </p:nvSpPr>
          <p:spPr>
            <a:xfrm>
              <a:off x="1737720" y="321156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164"/>
            <p:cNvSpPr/>
            <p:nvPr/>
          </p:nvSpPr>
          <p:spPr>
            <a:xfrm>
              <a:off x="1731240" y="320400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165"/>
            <p:cNvSpPr/>
            <p:nvPr/>
          </p:nvSpPr>
          <p:spPr>
            <a:xfrm>
              <a:off x="1726920" y="321624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166"/>
            <p:cNvSpPr/>
            <p:nvPr/>
          </p:nvSpPr>
          <p:spPr>
            <a:xfrm>
              <a:off x="1343520" y="3540600"/>
              <a:ext cx="137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167"/>
            <p:cNvSpPr/>
            <p:nvPr/>
          </p:nvSpPr>
          <p:spPr>
            <a:xfrm>
              <a:off x="1360440" y="3595320"/>
              <a:ext cx="8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1168"/>
            <p:cNvGrpSpPr/>
            <p:nvPr/>
          </p:nvGrpSpPr>
          <p:grpSpPr>
            <a:xfrm>
              <a:off x="1858680" y="3469680"/>
              <a:ext cx="381960" cy="332640"/>
              <a:chOff x="1858680" y="3469680"/>
              <a:chExt cx="381960" cy="332640"/>
            </a:xfrm>
          </p:grpSpPr>
          <p:sp>
            <p:nvSpPr>
              <p:cNvPr id="841" name="Oval 1169"/>
              <p:cNvSpPr/>
              <p:nvPr/>
            </p:nvSpPr>
            <p:spPr>
              <a:xfrm>
                <a:off x="1862640" y="3472920"/>
                <a:ext cx="374760" cy="32508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170"/>
              <p:cNvSpPr/>
              <p:nvPr/>
            </p:nvSpPr>
            <p:spPr>
              <a:xfrm>
                <a:off x="1982880" y="3469680"/>
                <a:ext cx="12744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171"/>
              <p:cNvSpPr/>
              <p:nvPr/>
            </p:nvSpPr>
            <p:spPr>
              <a:xfrm>
                <a:off x="1906920" y="3489120"/>
                <a:ext cx="554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172"/>
              <p:cNvSpPr/>
              <p:nvPr/>
            </p:nvSpPr>
            <p:spPr>
              <a:xfrm>
                <a:off x="1863720" y="3544200"/>
                <a:ext cx="3240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173"/>
              <p:cNvSpPr/>
              <p:nvPr/>
            </p:nvSpPr>
            <p:spPr>
              <a:xfrm>
                <a:off x="1858680" y="3622320"/>
                <a:ext cx="1476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174"/>
              <p:cNvSpPr/>
              <p:nvPr/>
            </p:nvSpPr>
            <p:spPr>
              <a:xfrm>
                <a:off x="1875240" y="3700440"/>
                <a:ext cx="4428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175"/>
              <p:cNvSpPr/>
              <p:nvPr/>
            </p:nvSpPr>
            <p:spPr>
              <a:xfrm>
                <a:off x="1933200" y="3761280"/>
                <a:ext cx="6300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176"/>
              <p:cNvSpPr/>
              <p:nvPr/>
            </p:nvSpPr>
            <p:spPr>
              <a:xfrm>
                <a:off x="2019600" y="3791160"/>
                <a:ext cx="673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177"/>
              <p:cNvSpPr/>
              <p:nvPr/>
            </p:nvSpPr>
            <p:spPr>
              <a:xfrm>
                <a:off x="2109240" y="3758400"/>
                <a:ext cx="6300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178"/>
              <p:cNvSpPr/>
              <p:nvPr/>
            </p:nvSpPr>
            <p:spPr>
              <a:xfrm>
                <a:off x="2185200" y="3695040"/>
                <a:ext cx="410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179"/>
              <p:cNvSpPr/>
              <p:nvPr/>
            </p:nvSpPr>
            <p:spPr>
              <a:xfrm>
                <a:off x="2226960" y="3615840"/>
                <a:ext cx="13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180"/>
              <p:cNvSpPr/>
              <p:nvPr/>
            </p:nvSpPr>
            <p:spPr>
              <a:xfrm>
                <a:off x="2199960" y="3538440"/>
                <a:ext cx="345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181"/>
              <p:cNvSpPr/>
              <p:nvPr/>
            </p:nvSpPr>
            <p:spPr>
              <a:xfrm>
                <a:off x="2130480" y="3487320"/>
                <a:ext cx="58680" cy="3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Group 1182"/>
            <p:cNvGrpSpPr/>
            <p:nvPr/>
          </p:nvGrpSpPr>
          <p:grpSpPr>
            <a:xfrm>
              <a:off x="1625760" y="3411720"/>
              <a:ext cx="213120" cy="188640"/>
              <a:chOff x="1625760" y="3411720"/>
              <a:chExt cx="213120" cy="188640"/>
            </a:xfrm>
          </p:grpSpPr>
          <p:sp>
            <p:nvSpPr>
              <p:cNvPr id="855" name="Oval 1183"/>
              <p:cNvSpPr/>
              <p:nvPr/>
            </p:nvSpPr>
            <p:spPr>
              <a:xfrm>
                <a:off x="1629720" y="3415320"/>
                <a:ext cx="205920" cy="182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184"/>
              <p:cNvSpPr/>
              <p:nvPr/>
            </p:nvSpPr>
            <p:spPr>
              <a:xfrm>
                <a:off x="1667880" y="3411720"/>
                <a:ext cx="658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185"/>
              <p:cNvSpPr/>
              <p:nvPr/>
            </p:nvSpPr>
            <p:spPr>
              <a:xfrm>
                <a:off x="1625760" y="3447000"/>
                <a:ext cx="295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186"/>
              <p:cNvSpPr/>
              <p:nvPr/>
            </p:nvSpPr>
            <p:spPr>
              <a:xfrm>
                <a:off x="1629000" y="3525120"/>
                <a:ext cx="396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187"/>
              <p:cNvSpPr/>
              <p:nvPr/>
            </p:nvSpPr>
            <p:spPr>
              <a:xfrm>
                <a:off x="1685880" y="3584880"/>
                <a:ext cx="669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188"/>
              <p:cNvSpPr/>
              <p:nvPr/>
            </p:nvSpPr>
            <p:spPr>
              <a:xfrm>
                <a:off x="1775160" y="3545640"/>
                <a:ext cx="5148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189"/>
              <p:cNvSpPr/>
              <p:nvPr/>
            </p:nvSpPr>
            <p:spPr>
              <a:xfrm>
                <a:off x="1822320" y="3467520"/>
                <a:ext cx="1656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190"/>
              <p:cNvSpPr/>
              <p:nvPr/>
            </p:nvSpPr>
            <p:spPr>
              <a:xfrm>
                <a:off x="1758240" y="3415320"/>
                <a:ext cx="5760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Oval 1191"/>
            <p:cNvSpPr/>
            <p:nvPr/>
          </p:nvSpPr>
          <p:spPr>
            <a:xfrm>
              <a:off x="1932480" y="3531960"/>
              <a:ext cx="234720" cy="20772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1192"/>
            <p:cNvGrpSpPr/>
            <p:nvPr/>
          </p:nvGrpSpPr>
          <p:grpSpPr>
            <a:xfrm>
              <a:off x="1997640" y="3568320"/>
              <a:ext cx="189720" cy="288360"/>
              <a:chOff x="1997640" y="3568320"/>
              <a:chExt cx="189720" cy="288360"/>
            </a:xfrm>
          </p:grpSpPr>
          <p:sp>
            <p:nvSpPr>
              <p:cNvPr id="865" name="Rectangle 1193"/>
              <p:cNvSpPr/>
              <p:nvPr/>
            </p:nvSpPr>
            <p:spPr>
              <a:xfrm>
                <a:off x="2001960" y="3568320"/>
                <a:ext cx="18216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Rectangle 1194"/>
              <p:cNvSpPr/>
              <p:nvPr/>
            </p:nvSpPr>
            <p:spPr>
              <a:xfrm>
                <a:off x="1997640" y="358200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Rectangle 1195"/>
            <p:cNvSpPr/>
            <p:nvPr/>
          </p:nvSpPr>
          <p:spPr>
            <a:xfrm>
              <a:off x="1998720" y="356652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196"/>
            <p:cNvSpPr/>
            <p:nvPr/>
          </p:nvSpPr>
          <p:spPr>
            <a:xfrm>
              <a:off x="1992600" y="355896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97"/>
            <p:cNvSpPr/>
            <p:nvPr/>
          </p:nvSpPr>
          <p:spPr>
            <a:xfrm>
              <a:off x="1988280" y="357120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1198"/>
            <p:cNvGrpSpPr/>
            <p:nvPr/>
          </p:nvGrpSpPr>
          <p:grpSpPr>
            <a:xfrm>
              <a:off x="1997640" y="3568320"/>
              <a:ext cx="189720" cy="288360"/>
              <a:chOff x="1997640" y="3568320"/>
              <a:chExt cx="189720" cy="288360"/>
            </a:xfrm>
          </p:grpSpPr>
          <p:sp>
            <p:nvSpPr>
              <p:cNvPr id="871" name="Rectangle 1199"/>
              <p:cNvSpPr/>
              <p:nvPr/>
            </p:nvSpPr>
            <p:spPr>
              <a:xfrm>
                <a:off x="2001960" y="3568320"/>
                <a:ext cx="18216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200"/>
              <p:cNvSpPr/>
              <p:nvPr/>
            </p:nvSpPr>
            <p:spPr>
              <a:xfrm>
                <a:off x="1997640" y="358200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Rectangle 1201"/>
            <p:cNvSpPr/>
            <p:nvPr/>
          </p:nvSpPr>
          <p:spPr>
            <a:xfrm>
              <a:off x="1998720" y="356652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202"/>
            <p:cNvSpPr/>
            <p:nvPr/>
          </p:nvSpPr>
          <p:spPr>
            <a:xfrm>
              <a:off x="1992600" y="355896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203"/>
            <p:cNvSpPr/>
            <p:nvPr/>
          </p:nvSpPr>
          <p:spPr>
            <a:xfrm>
              <a:off x="1988280" y="357120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204"/>
            <p:cNvSpPr/>
            <p:nvPr/>
          </p:nvSpPr>
          <p:spPr>
            <a:xfrm>
              <a:off x="1749240" y="3972960"/>
              <a:ext cx="175680" cy="15552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05"/>
            <p:cNvSpPr/>
            <p:nvPr/>
          </p:nvSpPr>
          <p:spPr>
            <a:xfrm>
              <a:off x="1581840" y="3857400"/>
              <a:ext cx="154800" cy="13788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06"/>
            <p:cNvSpPr/>
            <p:nvPr/>
          </p:nvSpPr>
          <p:spPr>
            <a:xfrm>
              <a:off x="1614240" y="3829320"/>
              <a:ext cx="111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207"/>
            <p:cNvSpPr/>
            <p:nvPr/>
          </p:nvSpPr>
          <p:spPr>
            <a:xfrm>
              <a:off x="1613880" y="3836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6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208"/>
            <p:cNvSpPr/>
            <p:nvPr/>
          </p:nvSpPr>
          <p:spPr>
            <a:xfrm>
              <a:off x="1795680" y="3964320"/>
              <a:ext cx="1116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209"/>
            <p:cNvSpPr/>
            <p:nvPr/>
          </p:nvSpPr>
          <p:spPr>
            <a:xfrm>
              <a:off x="1795320" y="39729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6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Group 1210"/>
            <p:cNvGrpSpPr/>
            <p:nvPr/>
          </p:nvGrpSpPr>
          <p:grpSpPr>
            <a:xfrm>
              <a:off x="1116000" y="4132080"/>
              <a:ext cx="213120" cy="189000"/>
              <a:chOff x="1116000" y="4132080"/>
              <a:chExt cx="213120" cy="189000"/>
            </a:xfrm>
          </p:grpSpPr>
          <p:sp>
            <p:nvSpPr>
              <p:cNvPr id="883" name="Freeform 1211"/>
              <p:cNvSpPr/>
              <p:nvPr/>
            </p:nvSpPr>
            <p:spPr>
              <a:xfrm>
                <a:off x="1157760" y="4132080"/>
                <a:ext cx="6624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212"/>
              <p:cNvSpPr/>
              <p:nvPr/>
            </p:nvSpPr>
            <p:spPr>
              <a:xfrm>
                <a:off x="1116000" y="4167360"/>
                <a:ext cx="291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213"/>
              <p:cNvSpPr/>
              <p:nvPr/>
            </p:nvSpPr>
            <p:spPr>
              <a:xfrm>
                <a:off x="1118880" y="4245480"/>
                <a:ext cx="39960" cy="5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214"/>
              <p:cNvSpPr/>
              <p:nvPr/>
            </p:nvSpPr>
            <p:spPr>
              <a:xfrm>
                <a:off x="1175760" y="4305240"/>
                <a:ext cx="673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215"/>
              <p:cNvSpPr/>
              <p:nvPr/>
            </p:nvSpPr>
            <p:spPr>
              <a:xfrm>
                <a:off x="1265400" y="4267080"/>
                <a:ext cx="514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216"/>
              <p:cNvSpPr/>
              <p:nvPr/>
            </p:nvSpPr>
            <p:spPr>
              <a:xfrm>
                <a:off x="1312560" y="4187880"/>
                <a:ext cx="16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17"/>
              <p:cNvSpPr/>
              <p:nvPr/>
            </p:nvSpPr>
            <p:spPr>
              <a:xfrm>
                <a:off x="1248480" y="4135680"/>
                <a:ext cx="5760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Freeform 1218"/>
            <p:cNvSpPr/>
            <p:nvPr/>
          </p:nvSpPr>
          <p:spPr>
            <a:xfrm>
              <a:off x="1145520" y="4111560"/>
              <a:ext cx="178920" cy="201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19"/>
            <p:cNvSpPr/>
            <p:nvPr/>
          </p:nvSpPr>
          <p:spPr>
            <a:xfrm>
              <a:off x="1150920" y="4123800"/>
              <a:ext cx="151560" cy="201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220"/>
            <p:cNvSpPr/>
            <p:nvPr/>
          </p:nvSpPr>
          <p:spPr>
            <a:xfrm>
              <a:off x="1145520" y="4111560"/>
              <a:ext cx="178920" cy="201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21"/>
            <p:cNvSpPr/>
            <p:nvPr/>
          </p:nvSpPr>
          <p:spPr>
            <a:xfrm>
              <a:off x="1150920" y="4123800"/>
              <a:ext cx="151560" cy="201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1222"/>
            <p:cNvGrpSpPr/>
            <p:nvPr/>
          </p:nvGrpSpPr>
          <p:grpSpPr>
            <a:xfrm>
              <a:off x="1659600" y="3423960"/>
              <a:ext cx="189720" cy="287280"/>
              <a:chOff x="1659600" y="3423960"/>
              <a:chExt cx="189720" cy="287280"/>
            </a:xfrm>
          </p:grpSpPr>
          <p:sp>
            <p:nvSpPr>
              <p:cNvPr id="895" name="Rectangle 1223"/>
              <p:cNvSpPr/>
              <p:nvPr/>
            </p:nvSpPr>
            <p:spPr>
              <a:xfrm>
                <a:off x="1663920" y="3423960"/>
                <a:ext cx="182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1224"/>
              <p:cNvSpPr/>
              <p:nvPr/>
            </p:nvSpPr>
            <p:spPr>
              <a:xfrm>
                <a:off x="1659600" y="343656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Rectangle 1225"/>
            <p:cNvSpPr/>
            <p:nvPr/>
          </p:nvSpPr>
          <p:spPr>
            <a:xfrm>
              <a:off x="1660680" y="342216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226"/>
            <p:cNvSpPr/>
            <p:nvPr/>
          </p:nvSpPr>
          <p:spPr>
            <a:xfrm>
              <a:off x="1654200" y="341460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227"/>
            <p:cNvSpPr/>
            <p:nvPr/>
          </p:nvSpPr>
          <p:spPr>
            <a:xfrm>
              <a:off x="1649880" y="342684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Group 1228"/>
            <p:cNvGrpSpPr/>
            <p:nvPr/>
          </p:nvGrpSpPr>
          <p:grpSpPr>
            <a:xfrm>
              <a:off x="1659600" y="3423960"/>
              <a:ext cx="189720" cy="287280"/>
              <a:chOff x="1659600" y="3423960"/>
              <a:chExt cx="189720" cy="287280"/>
            </a:xfrm>
          </p:grpSpPr>
          <p:sp>
            <p:nvSpPr>
              <p:cNvPr id="901" name="Rectangle 1229"/>
              <p:cNvSpPr/>
              <p:nvPr/>
            </p:nvSpPr>
            <p:spPr>
              <a:xfrm>
                <a:off x="1663920" y="3423960"/>
                <a:ext cx="182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230"/>
              <p:cNvSpPr/>
              <p:nvPr/>
            </p:nvSpPr>
            <p:spPr>
              <a:xfrm>
                <a:off x="1659600" y="3436560"/>
                <a:ext cx="18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ro-RO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Rectangle 1231"/>
            <p:cNvSpPr/>
            <p:nvPr/>
          </p:nvSpPr>
          <p:spPr>
            <a:xfrm>
              <a:off x="1660680" y="3422160"/>
              <a:ext cx="182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232"/>
            <p:cNvSpPr/>
            <p:nvPr/>
          </p:nvSpPr>
          <p:spPr>
            <a:xfrm>
              <a:off x="1654200" y="3414600"/>
              <a:ext cx="14112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233"/>
            <p:cNvSpPr/>
            <p:nvPr/>
          </p:nvSpPr>
          <p:spPr>
            <a:xfrm>
              <a:off x="1649880" y="3426840"/>
              <a:ext cx="18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ro-RO" sz="1800" spc="-1" strike="noStrike">
                  <a:solidFill>
                    <a:srgbClr val="00ff0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1234"/>
            <p:cNvGrpSpPr/>
            <p:nvPr/>
          </p:nvGrpSpPr>
          <p:grpSpPr>
            <a:xfrm>
              <a:off x="936000" y="3960720"/>
              <a:ext cx="178920" cy="212760"/>
              <a:chOff x="936000" y="3960720"/>
              <a:chExt cx="178920" cy="212760"/>
            </a:xfrm>
          </p:grpSpPr>
          <p:sp>
            <p:nvSpPr>
              <p:cNvPr id="907" name="Freeform 1235"/>
              <p:cNvSpPr/>
              <p:nvPr/>
            </p:nvSpPr>
            <p:spPr>
              <a:xfrm>
                <a:off x="936000" y="3960720"/>
                <a:ext cx="178920" cy="201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236"/>
              <p:cNvSpPr/>
              <p:nvPr/>
            </p:nvSpPr>
            <p:spPr>
              <a:xfrm>
                <a:off x="939960" y="3972600"/>
                <a:ext cx="152280" cy="200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237"/>
              <p:cNvSpPr/>
              <p:nvPr/>
            </p:nvSpPr>
            <p:spPr>
              <a:xfrm>
                <a:off x="936000" y="3960720"/>
                <a:ext cx="178920" cy="201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238"/>
              <p:cNvSpPr/>
              <p:nvPr/>
            </p:nvSpPr>
            <p:spPr>
              <a:xfrm>
                <a:off x="939960" y="3972600"/>
                <a:ext cx="152280" cy="200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Oval 1243"/>
            <p:cNvSpPr/>
            <p:nvPr/>
          </p:nvSpPr>
          <p:spPr>
            <a:xfrm>
              <a:off x="973800" y="3407040"/>
              <a:ext cx="287280" cy="254160"/>
            </a:xfrm>
            <a:prstGeom prst="ellipse">
              <a:avLst/>
            </a:prstGeom>
            <a:solidFill>
              <a:srgbClr val="3c58a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6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Group 1256"/>
            <p:cNvGrpSpPr/>
            <p:nvPr/>
          </p:nvGrpSpPr>
          <p:grpSpPr>
            <a:xfrm>
              <a:off x="972720" y="3134880"/>
              <a:ext cx="270000" cy="238320"/>
              <a:chOff x="972720" y="3134880"/>
              <a:chExt cx="270000" cy="238320"/>
            </a:xfrm>
          </p:grpSpPr>
          <p:sp>
            <p:nvSpPr>
              <p:cNvPr id="913" name="Oval 1257"/>
              <p:cNvSpPr/>
              <p:nvPr/>
            </p:nvSpPr>
            <p:spPr>
              <a:xfrm>
                <a:off x="976680" y="3138480"/>
                <a:ext cx="26208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258"/>
              <p:cNvSpPr/>
              <p:nvPr/>
            </p:nvSpPr>
            <p:spPr>
              <a:xfrm>
                <a:off x="1040040" y="3134880"/>
                <a:ext cx="67320" cy="21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259"/>
              <p:cNvSpPr/>
              <p:nvPr/>
            </p:nvSpPr>
            <p:spPr>
              <a:xfrm>
                <a:off x="981000" y="3163680"/>
                <a:ext cx="43200" cy="54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260"/>
              <p:cNvSpPr/>
              <p:nvPr/>
            </p:nvSpPr>
            <p:spPr>
              <a:xfrm>
                <a:off x="972720" y="3237480"/>
                <a:ext cx="16560" cy="61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261"/>
              <p:cNvSpPr/>
              <p:nvPr/>
            </p:nvSpPr>
            <p:spPr>
              <a:xfrm>
                <a:off x="995760" y="3314520"/>
                <a:ext cx="5436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262"/>
              <p:cNvSpPr/>
              <p:nvPr/>
            </p:nvSpPr>
            <p:spPr>
              <a:xfrm>
                <a:off x="1071360" y="3362040"/>
                <a:ext cx="69120" cy="11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263"/>
              <p:cNvSpPr/>
              <p:nvPr/>
            </p:nvSpPr>
            <p:spPr>
              <a:xfrm>
                <a:off x="1162080" y="3316320"/>
                <a:ext cx="55440" cy="45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264"/>
              <p:cNvSpPr/>
              <p:nvPr/>
            </p:nvSpPr>
            <p:spPr>
              <a:xfrm>
                <a:off x="1224000" y="3240000"/>
                <a:ext cx="18720" cy="61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265"/>
              <p:cNvSpPr/>
              <p:nvPr/>
            </p:nvSpPr>
            <p:spPr>
              <a:xfrm>
                <a:off x="1193760" y="3165480"/>
                <a:ext cx="41760" cy="54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266"/>
              <p:cNvSpPr/>
              <p:nvPr/>
            </p:nvSpPr>
            <p:spPr>
              <a:xfrm>
                <a:off x="1110600" y="3134880"/>
                <a:ext cx="67320" cy="23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Rectangle 1267"/>
            <p:cNvSpPr/>
            <p:nvPr/>
          </p:nvSpPr>
          <p:spPr>
            <a:xfrm>
              <a:off x="1028880" y="3118320"/>
              <a:ext cx="2469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6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268"/>
            <p:cNvSpPr/>
            <p:nvPr/>
          </p:nvSpPr>
          <p:spPr>
            <a:xfrm rot="16200000">
              <a:off x="106920" y="364824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800" spc="-1" strike="noStrike">
                  <a:solidFill>
                    <a:srgbClr val="000000"/>
                  </a:solidFill>
                  <a:latin typeface="Arial"/>
                </a:rPr>
                <a:t>Strategy F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271"/>
            <p:cNvSpPr/>
            <p:nvPr/>
          </p:nvSpPr>
          <p:spPr>
            <a:xfrm rot="2317800">
              <a:off x="766080" y="3970800"/>
              <a:ext cx="781560" cy="374400"/>
            </a:xfrm>
            <a:prstGeom prst="ellipse">
              <a:avLst/>
            </a:prstGeom>
            <a:noFill/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69"/>
            <p:cNvSpPr/>
            <p:nvPr/>
          </p:nvSpPr>
          <p:spPr>
            <a:xfrm rot="2026200">
              <a:off x="1450080" y="3209760"/>
              <a:ext cx="912960" cy="532080"/>
            </a:xfrm>
            <a:prstGeom prst="ellipse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70"/>
            <p:cNvSpPr/>
            <p:nvPr/>
          </p:nvSpPr>
          <p:spPr>
            <a:xfrm rot="2317800">
              <a:off x="811440" y="3599280"/>
              <a:ext cx="1320840" cy="3744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uppieren 66"/>
          <p:cNvGrpSpPr/>
          <p:nvPr/>
        </p:nvGrpSpPr>
        <p:grpSpPr>
          <a:xfrm>
            <a:off x="5199120" y="2133360"/>
            <a:ext cx="3643200" cy="3000240"/>
            <a:chOff x="5199120" y="2133360"/>
            <a:chExt cx="3643200" cy="3000240"/>
          </a:xfrm>
        </p:grpSpPr>
        <p:sp>
          <p:nvSpPr>
            <p:cNvPr id="929" name="Rechtwinkliges Dreieck 23"/>
            <p:cNvSpPr/>
            <p:nvPr/>
          </p:nvSpPr>
          <p:spPr>
            <a:xfrm>
              <a:off x="5199120" y="2133720"/>
              <a:ext cx="3643200" cy="2999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8c8c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htwinkliges Dreieck 24"/>
            <p:cNvSpPr/>
            <p:nvPr/>
          </p:nvSpPr>
          <p:spPr>
            <a:xfrm flipH="1" flipV="1">
              <a:off x="5199120" y="2133000"/>
              <a:ext cx="3643200" cy="2999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8c8c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Gruppieren 27" descr=""/>
            <p:cNvPicPr/>
            <p:nvPr/>
          </p:nvPicPr>
          <p:blipFill>
            <a:blip r:embed="rId1"/>
            <a:stretch/>
          </p:blipFill>
          <p:spPr>
            <a:xfrm>
              <a:off x="5364360" y="2194560"/>
              <a:ext cx="296280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feld 29"/>
            <p:cNvSpPr/>
            <p:nvPr/>
          </p:nvSpPr>
          <p:spPr>
            <a:xfrm>
              <a:off x="5203800" y="4857120"/>
              <a:ext cx="78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rategi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feld 30"/>
            <p:cNvSpPr/>
            <p:nvPr/>
          </p:nvSpPr>
          <p:spPr>
            <a:xfrm>
              <a:off x="8080920" y="213372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perat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2DC1-2BD7-443D-8DD0-F9CF13408FF7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feld 8"/>
          <p:cNvSpPr/>
          <p:nvPr/>
        </p:nvSpPr>
        <p:spPr>
          <a:xfrm>
            <a:off x="380880" y="2128680"/>
            <a:ext cx="448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oar considerearea tuturor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mentelor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asigură succesul companiei pe termen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46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pa ce ne asiguram lichiditatea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e facem dupa ce se termina criz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0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liennummernplatzhalter 4"/>
          <p:cNvSpPr/>
          <p:nvPr/>
        </p:nvSpPr>
        <p:spPr>
          <a:xfrm>
            <a:off x="-1224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DA8-9C2C-4D4D-A534-7C45EDEBB3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3" descr="C:\Dokumente und Einstellungen\pc04\Desktop\Schultern.jpg"/>
          <p:cNvPicPr/>
          <p:nvPr/>
        </p:nvPicPr>
        <p:blipFill>
          <a:blip r:embed="rId1"/>
          <a:stretch/>
        </p:blipFill>
        <p:spPr>
          <a:xfrm>
            <a:off x="227160" y="1276200"/>
            <a:ext cx="9447120" cy="503712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 mulţumim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6"/>
          <p:cNvSpPr/>
          <p:nvPr/>
        </p:nvSpPr>
        <p:spPr>
          <a:xfrm>
            <a:off x="380880" y="3227400"/>
            <a:ext cx="350532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rváth &amp; Partners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Consulting S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. Cretei, nr.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4154 Bucureş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.: 031 620 18 88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x: 031 620 18 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charest@horvath-partners.com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horvath-partners.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6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AF7-3E58-409C-AC4C-DA5835A98DFC}" type="slidenum">
              <a:rPr b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240" y="1387080"/>
            <a:ext cx="9448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noze de crestere / scadere a industriilor din Rom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iar si in aceste vremuri anumite industrii vor creste in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228240" y="5729040"/>
            <a:ext cx="944892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438120"/>
                <a:tab algn="l" pos="47628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: "Hotspot Rumänien: Wirtschaftsnews" (wko.at); "Wirtschaftstrends Rumänien" (Germany Trade &amp; Inv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liennummernplatzhalter 4"/>
          <p:cNvSpPr/>
          <p:nvPr/>
        </p:nvSpPr>
        <p:spPr>
          <a:xfrm>
            <a:off x="504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F76-354D-48EF-B204-45912F227BB9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feld 6"/>
          <p:cNvSpPr/>
          <p:nvPr/>
        </p:nvSpPr>
        <p:spPr>
          <a:xfrm>
            <a:off x="882720" y="1785960"/>
            <a:ext cx="45702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lecomunicat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imente, tut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sigurari (+10 – 2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ii de curierat (+10 – 3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ert, consultanta (+1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feil nach oben 9"/>
          <p:cNvSpPr/>
          <p:nvPr/>
        </p:nvSpPr>
        <p:spPr>
          <a:xfrm>
            <a:off x="225360" y="1951200"/>
            <a:ext cx="655560" cy="27144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feld 10"/>
          <p:cNvSpPr/>
          <p:nvPr/>
        </p:nvSpPr>
        <p:spPr>
          <a:xfrm>
            <a:off x="5452920" y="1785960"/>
            <a:ext cx="41436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structii (+12,8 % in 2009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loc de +28% in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obili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1001"/>
              </a:spcBef>
              <a:buClr>
                <a:srgbClr val="3c58a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ctrocasnice (bis – 5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feil nach oben 11"/>
          <p:cNvSpPr/>
          <p:nvPr/>
        </p:nvSpPr>
        <p:spPr>
          <a:xfrm flipV="1">
            <a:off x="8940960" y="1951920"/>
            <a:ext cx="655560" cy="2714760"/>
          </a:xfrm>
          <a:prstGeom prst="up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tuatia actuala. Vremuri turbulente in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mpani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l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n Rom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liennummernplatzhalter 5"/>
          <p:cNvSpPr/>
          <p:nvPr/>
        </p:nvSpPr>
        <p:spPr>
          <a:xfrm>
            <a:off x="-4716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313-6940-48AC-B6FC-1F0EBFC25F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MESSAGE TEXT"/>
          <p:cNvSpPr/>
          <p:nvPr/>
        </p:nvSpPr>
        <p:spPr>
          <a:xfrm>
            <a:off x="5715000" y="1434960"/>
            <a:ext cx="3962520" cy="317520"/>
          </a:xfrm>
          <a:prstGeom prst="rect">
            <a:avLst/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PMingLiU"/>
              </a:rPr>
              <a:t>Modul de a vedea lucrur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7209000" y="4413240"/>
            <a:ext cx="715680" cy="1176480"/>
            <a:chOff x="7209000" y="4413240"/>
            <a:chExt cx="715680" cy="1176480"/>
          </a:xfrm>
        </p:grpSpPr>
        <p:sp>
          <p:nvSpPr>
            <p:cNvPr id="511" name="Freeform 5"/>
            <p:cNvSpPr/>
            <p:nvPr/>
          </p:nvSpPr>
          <p:spPr>
            <a:xfrm>
              <a:off x="7209000" y="4413240"/>
              <a:ext cx="715680" cy="117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7409880" y="4427280"/>
              <a:ext cx="340200" cy="190440"/>
            </a:xfrm>
            <a:prstGeom prst="pie">
              <a:avLst/>
            </a:prstGeom>
            <a:solidFill>
              <a:srgbClr val="7a7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7425720" y="4514400"/>
              <a:ext cx="329760" cy="313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7519320" y="4529880"/>
              <a:ext cx="673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7605000" y="4545000"/>
              <a:ext cx="6480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7504920" y="4588560"/>
              <a:ext cx="80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7523280" y="4588560"/>
              <a:ext cx="16092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"/>
            <p:cNvSpPr/>
            <p:nvPr/>
          </p:nvSpPr>
          <p:spPr>
            <a:xfrm>
              <a:off x="7606080" y="4590720"/>
              <a:ext cx="45360" cy="27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3"/>
            <p:cNvSpPr/>
            <p:nvPr/>
          </p:nvSpPr>
          <p:spPr>
            <a:xfrm>
              <a:off x="7524360" y="4593240"/>
              <a:ext cx="53280" cy="313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"/>
            <p:cNvSpPr/>
            <p:nvPr/>
          </p:nvSpPr>
          <p:spPr>
            <a:xfrm>
              <a:off x="7409880" y="4614840"/>
              <a:ext cx="45360" cy="489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5"/>
            <p:cNvSpPr/>
            <p:nvPr/>
          </p:nvSpPr>
          <p:spPr>
            <a:xfrm>
              <a:off x="7515000" y="4619160"/>
              <a:ext cx="5580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6"/>
            <p:cNvSpPr/>
            <p:nvPr/>
          </p:nvSpPr>
          <p:spPr>
            <a:xfrm>
              <a:off x="7714080" y="4621320"/>
              <a:ext cx="3240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7610040" y="4624560"/>
              <a:ext cx="6120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8"/>
            <p:cNvSpPr/>
            <p:nvPr/>
          </p:nvSpPr>
          <p:spPr>
            <a:xfrm>
              <a:off x="7768440" y="4710960"/>
              <a:ext cx="21960" cy="140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9"/>
            <p:cNvSpPr/>
            <p:nvPr/>
          </p:nvSpPr>
          <p:spPr>
            <a:xfrm>
              <a:off x="7664760" y="4720680"/>
              <a:ext cx="145080" cy="188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>
              <a:off x="7746480" y="4721760"/>
              <a:ext cx="14400" cy="129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>
              <a:off x="7785720" y="4721760"/>
              <a:ext cx="756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2"/>
            <p:cNvSpPr/>
            <p:nvPr/>
          </p:nvSpPr>
          <p:spPr>
            <a:xfrm>
              <a:off x="7356600" y="4722840"/>
              <a:ext cx="178200" cy="198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3"/>
            <p:cNvSpPr/>
            <p:nvPr/>
          </p:nvSpPr>
          <p:spPr>
            <a:xfrm>
              <a:off x="7722000" y="4725000"/>
              <a:ext cx="165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4"/>
            <p:cNvSpPr/>
            <p:nvPr/>
          </p:nvSpPr>
          <p:spPr>
            <a:xfrm>
              <a:off x="7805160" y="4726080"/>
              <a:ext cx="468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5"/>
            <p:cNvSpPr/>
            <p:nvPr/>
          </p:nvSpPr>
          <p:spPr>
            <a:xfrm>
              <a:off x="7403400" y="4728240"/>
              <a:ext cx="792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7755480" y="4728240"/>
              <a:ext cx="1152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7"/>
            <p:cNvSpPr/>
            <p:nvPr/>
          </p:nvSpPr>
          <p:spPr>
            <a:xfrm>
              <a:off x="7415280" y="4730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8"/>
            <p:cNvSpPr/>
            <p:nvPr/>
          </p:nvSpPr>
          <p:spPr>
            <a:xfrm>
              <a:off x="7442640" y="473616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9"/>
            <p:cNvSpPr/>
            <p:nvPr/>
          </p:nvSpPr>
          <p:spPr>
            <a:xfrm>
              <a:off x="7808760" y="4736160"/>
              <a:ext cx="360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0"/>
            <p:cNvSpPr/>
            <p:nvPr/>
          </p:nvSpPr>
          <p:spPr>
            <a:xfrm>
              <a:off x="7543800" y="4740120"/>
              <a:ext cx="131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1"/>
            <p:cNvSpPr/>
            <p:nvPr/>
          </p:nvSpPr>
          <p:spPr>
            <a:xfrm>
              <a:off x="7481520" y="4750200"/>
              <a:ext cx="25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2"/>
            <p:cNvSpPr/>
            <p:nvPr/>
          </p:nvSpPr>
          <p:spPr>
            <a:xfrm>
              <a:off x="7558200" y="4766400"/>
              <a:ext cx="9072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7541280" y="4829760"/>
              <a:ext cx="114120" cy="3240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4"/>
            <p:cNvSpPr/>
            <p:nvPr/>
          </p:nvSpPr>
          <p:spPr>
            <a:xfrm>
              <a:off x="7524360" y="4852440"/>
              <a:ext cx="45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5"/>
            <p:cNvSpPr/>
            <p:nvPr/>
          </p:nvSpPr>
          <p:spPr>
            <a:xfrm>
              <a:off x="7619040" y="4852440"/>
              <a:ext cx="428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>
              <a:off x="7610040" y="4864680"/>
              <a:ext cx="123120" cy="232200"/>
            </a:xfrm>
            <a:prstGeom prst="pie">
              <a:avLst/>
            </a:prstGeom>
            <a:solidFill>
              <a:srgbClr val="978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>
              <a:off x="7567200" y="4866840"/>
              <a:ext cx="43920" cy="399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8"/>
            <p:cNvSpPr/>
            <p:nvPr/>
          </p:nvSpPr>
          <p:spPr>
            <a:xfrm>
              <a:off x="7294680" y="4890960"/>
              <a:ext cx="303840" cy="229680"/>
            </a:xfrm>
            <a:prstGeom prst="pie">
              <a:avLst/>
            </a:prstGeom>
            <a:solidFill>
              <a:srgbClr val="978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9"/>
            <p:cNvSpPr/>
            <p:nvPr/>
          </p:nvSpPr>
          <p:spPr>
            <a:xfrm>
              <a:off x="7539840" y="4896360"/>
              <a:ext cx="3636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0"/>
            <p:cNvSpPr/>
            <p:nvPr/>
          </p:nvSpPr>
          <p:spPr>
            <a:xfrm>
              <a:off x="7412760" y="4897080"/>
              <a:ext cx="76320" cy="5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1"/>
            <p:cNvSpPr/>
            <p:nvPr/>
          </p:nvSpPr>
          <p:spPr>
            <a:xfrm>
              <a:off x="7610040" y="4900320"/>
              <a:ext cx="51840" cy="14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"/>
            <p:cNvSpPr/>
            <p:nvPr/>
          </p:nvSpPr>
          <p:spPr>
            <a:xfrm>
              <a:off x="7722000" y="4903920"/>
              <a:ext cx="142560" cy="188280"/>
            </a:xfrm>
            <a:prstGeom prst="pie">
              <a:avLst/>
            </a:prstGeom>
            <a:solidFill>
              <a:srgbClr val="978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"/>
            <p:cNvSpPr/>
            <p:nvPr/>
          </p:nvSpPr>
          <p:spPr>
            <a:xfrm>
              <a:off x="7707600" y="4912560"/>
              <a:ext cx="6876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4"/>
            <p:cNvSpPr/>
            <p:nvPr/>
          </p:nvSpPr>
          <p:spPr>
            <a:xfrm>
              <a:off x="7552800" y="4914720"/>
              <a:ext cx="84240" cy="12384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5"/>
            <p:cNvSpPr/>
            <p:nvPr/>
          </p:nvSpPr>
          <p:spPr>
            <a:xfrm>
              <a:off x="7466040" y="5076000"/>
              <a:ext cx="363600" cy="313920"/>
            </a:xfrm>
            <a:prstGeom prst="pie">
              <a:avLst/>
            </a:prstGeom>
            <a:solidFill>
              <a:srgbClr val="978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6"/>
            <p:cNvSpPr/>
            <p:nvPr/>
          </p:nvSpPr>
          <p:spPr>
            <a:xfrm>
              <a:off x="7323120" y="5090400"/>
              <a:ext cx="191880" cy="309600"/>
            </a:xfrm>
            <a:prstGeom prst="pie">
              <a:avLst/>
            </a:prstGeom>
            <a:solidFill>
              <a:srgbClr val="978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7"/>
            <p:cNvSpPr/>
            <p:nvPr/>
          </p:nvSpPr>
          <p:spPr>
            <a:xfrm>
              <a:off x="7650360" y="5150160"/>
              <a:ext cx="262440" cy="3794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8"/>
            <p:cNvSpPr/>
            <p:nvPr/>
          </p:nvSpPr>
          <p:spPr>
            <a:xfrm>
              <a:off x="7220160" y="5157000"/>
              <a:ext cx="273960" cy="3859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"/>
            <p:cNvSpPr/>
            <p:nvPr/>
          </p:nvSpPr>
          <p:spPr>
            <a:xfrm>
              <a:off x="7481520" y="5167800"/>
              <a:ext cx="211680" cy="2754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0"/>
            <p:cNvSpPr/>
            <p:nvPr/>
          </p:nvSpPr>
          <p:spPr>
            <a:xfrm>
              <a:off x="7606080" y="5361840"/>
              <a:ext cx="80640" cy="66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1"/>
            <p:cNvSpPr/>
            <p:nvPr/>
          </p:nvSpPr>
          <p:spPr>
            <a:xfrm>
              <a:off x="7440120" y="5375880"/>
              <a:ext cx="66240" cy="57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2"/>
            <p:cNvSpPr/>
            <p:nvPr/>
          </p:nvSpPr>
          <p:spPr>
            <a:xfrm>
              <a:off x="7557120" y="5393520"/>
              <a:ext cx="156960" cy="109800"/>
            </a:xfrm>
            <a:prstGeom prst="pie">
              <a:avLst/>
            </a:prstGeom>
            <a:solidFill>
              <a:srgbClr val="9c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3"/>
            <p:cNvSpPr/>
            <p:nvPr/>
          </p:nvSpPr>
          <p:spPr>
            <a:xfrm>
              <a:off x="7407360" y="5417640"/>
              <a:ext cx="243000" cy="166320"/>
            </a:xfrm>
            <a:prstGeom prst="pie">
              <a:avLst/>
            </a:prstGeom>
            <a:solidFill>
              <a:srgbClr val="9c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4"/>
            <p:cNvSpPr/>
            <p:nvPr/>
          </p:nvSpPr>
          <p:spPr>
            <a:xfrm>
              <a:off x="7421760" y="4470840"/>
              <a:ext cx="327240" cy="146880"/>
            </a:xfrm>
            <a:prstGeom prst="pie">
              <a:avLst/>
            </a:prstGeom>
            <a:solidFill>
              <a:srgbClr val="5e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5"/>
            <p:cNvSpPr/>
            <p:nvPr/>
          </p:nvSpPr>
          <p:spPr>
            <a:xfrm>
              <a:off x="7409880" y="4451400"/>
              <a:ext cx="340200" cy="93600"/>
            </a:xfrm>
            <a:prstGeom prst="pie">
              <a:avLst/>
            </a:prstGeom>
            <a:solidFill>
              <a:srgbClr val="a39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6"/>
            <p:cNvSpPr/>
            <p:nvPr/>
          </p:nvSpPr>
          <p:spPr>
            <a:xfrm>
              <a:off x="7526880" y="4690080"/>
              <a:ext cx="126000" cy="34560"/>
            </a:xfrm>
            <a:prstGeom prst="pie">
              <a:avLst/>
            </a:prstGeom>
            <a:solidFill>
              <a:srgbClr val="d6cc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7"/>
            <p:cNvSpPr/>
            <p:nvPr/>
          </p:nvSpPr>
          <p:spPr>
            <a:xfrm>
              <a:off x="7526880" y="4690080"/>
              <a:ext cx="1260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8"/>
            <p:cNvSpPr/>
            <p:nvPr/>
          </p:nvSpPr>
          <p:spPr>
            <a:xfrm>
              <a:off x="7560720" y="4662000"/>
              <a:ext cx="64800" cy="35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9"/>
            <p:cNvSpPr/>
            <p:nvPr/>
          </p:nvSpPr>
          <p:spPr>
            <a:xfrm>
              <a:off x="7564680" y="4663800"/>
              <a:ext cx="59760" cy="30600"/>
            </a:xfrm>
            <a:prstGeom prst="pie">
              <a:avLst/>
            </a:prstGeom>
            <a:solidFill>
              <a:srgbClr val="fff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0"/>
            <p:cNvSpPr/>
            <p:nvPr/>
          </p:nvSpPr>
          <p:spPr>
            <a:xfrm>
              <a:off x="7567200" y="4665960"/>
              <a:ext cx="54360" cy="25920"/>
            </a:xfrm>
            <a:prstGeom prst="pie">
              <a:avLst/>
            </a:prstGeom>
            <a:solidFill>
              <a:srgbClr val="fff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1"/>
            <p:cNvSpPr/>
            <p:nvPr/>
          </p:nvSpPr>
          <p:spPr>
            <a:xfrm>
              <a:off x="7570080" y="4668120"/>
              <a:ext cx="50400" cy="21600"/>
            </a:xfrm>
            <a:prstGeom prst="pie">
              <a:avLst/>
            </a:prstGeom>
            <a:solidFill>
              <a:srgbClr val="fff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2"/>
            <p:cNvSpPr/>
            <p:nvPr/>
          </p:nvSpPr>
          <p:spPr>
            <a:xfrm>
              <a:off x="7575120" y="4670640"/>
              <a:ext cx="42840" cy="18360"/>
            </a:xfrm>
            <a:prstGeom prst="pie">
              <a:avLst/>
            </a:prstGeom>
            <a:solidFill>
              <a:srgbClr val="fff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3"/>
            <p:cNvSpPr/>
            <p:nvPr/>
          </p:nvSpPr>
          <p:spPr>
            <a:xfrm>
              <a:off x="7577640" y="4672800"/>
              <a:ext cx="37440" cy="14040"/>
            </a:xfrm>
            <a:prstGeom prst="pie">
              <a:avLst/>
            </a:pr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4"/>
            <p:cNvSpPr/>
            <p:nvPr/>
          </p:nvSpPr>
          <p:spPr>
            <a:xfrm>
              <a:off x="7510320" y="4577760"/>
              <a:ext cx="172440" cy="5436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5"/>
            <p:cNvSpPr/>
            <p:nvPr/>
          </p:nvSpPr>
          <p:spPr>
            <a:xfrm>
              <a:off x="7512840" y="4588560"/>
              <a:ext cx="712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6"/>
            <p:cNvSpPr/>
            <p:nvPr/>
          </p:nvSpPr>
          <p:spPr>
            <a:xfrm>
              <a:off x="7597080" y="4588560"/>
              <a:ext cx="8280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"/>
            <p:cNvSpPr/>
            <p:nvPr/>
          </p:nvSpPr>
          <p:spPr>
            <a:xfrm>
              <a:off x="7425720" y="4701960"/>
              <a:ext cx="320760" cy="12636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8"/>
            <p:cNvSpPr/>
            <p:nvPr/>
          </p:nvSpPr>
          <p:spPr>
            <a:xfrm>
              <a:off x="7542720" y="4736160"/>
              <a:ext cx="136080" cy="2700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9"/>
            <p:cNvSpPr/>
            <p:nvPr/>
          </p:nvSpPr>
          <p:spPr>
            <a:xfrm>
              <a:off x="7554240" y="4740120"/>
              <a:ext cx="11808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0"/>
            <p:cNvSpPr/>
            <p:nvPr/>
          </p:nvSpPr>
          <p:spPr>
            <a:xfrm>
              <a:off x="7563600" y="4761000"/>
              <a:ext cx="87840" cy="2268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1"/>
            <p:cNvSpPr/>
            <p:nvPr/>
          </p:nvSpPr>
          <p:spPr>
            <a:xfrm>
              <a:off x="7564680" y="4766400"/>
              <a:ext cx="7920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2"/>
            <p:cNvSpPr/>
            <p:nvPr/>
          </p:nvSpPr>
          <p:spPr>
            <a:xfrm>
              <a:off x="7356600" y="4817520"/>
              <a:ext cx="175320" cy="10332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3"/>
            <p:cNvSpPr/>
            <p:nvPr/>
          </p:nvSpPr>
          <p:spPr>
            <a:xfrm>
              <a:off x="7694640" y="4807800"/>
              <a:ext cx="105120" cy="75960"/>
            </a:xfrm>
            <a:prstGeom prst="pie">
              <a:avLst/>
            </a:prstGeom>
            <a:solidFill>
              <a:srgbClr val="d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4"/>
            <p:cNvSpPr/>
            <p:nvPr/>
          </p:nvSpPr>
          <p:spPr>
            <a:xfrm>
              <a:off x="7665840" y="4799160"/>
              <a:ext cx="46800" cy="45720"/>
            </a:xfrm>
            <a:prstGeom prst="pie">
              <a:avLst/>
            </a:pr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5"/>
            <p:cNvSpPr/>
            <p:nvPr/>
          </p:nvSpPr>
          <p:spPr>
            <a:xfrm>
              <a:off x="7472520" y="4812120"/>
              <a:ext cx="62280" cy="34560"/>
            </a:xfrm>
            <a:prstGeom prst="pie">
              <a:avLst/>
            </a:pr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6"/>
            <p:cNvSpPr/>
            <p:nvPr/>
          </p:nvSpPr>
          <p:spPr>
            <a:xfrm>
              <a:off x="7294680" y="4938840"/>
              <a:ext cx="302400" cy="181800"/>
            </a:xfrm>
            <a:prstGeom prst="pie">
              <a:avLst/>
            </a:prstGeom>
            <a:solidFill>
              <a:srgbClr val="787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7"/>
            <p:cNvSpPr/>
            <p:nvPr/>
          </p:nvSpPr>
          <p:spPr>
            <a:xfrm>
              <a:off x="7610040" y="4864680"/>
              <a:ext cx="123120" cy="232200"/>
            </a:xfrm>
            <a:prstGeom prst="pie">
              <a:avLst/>
            </a:prstGeom>
            <a:solidFill>
              <a:srgbClr val="787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8"/>
            <p:cNvSpPr/>
            <p:nvPr/>
          </p:nvSpPr>
          <p:spPr>
            <a:xfrm>
              <a:off x="7722000" y="4944240"/>
              <a:ext cx="133560" cy="147960"/>
            </a:xfrm>
            <a:prstGeom prst="pie">
              <a:avLst/>
            </a:prstGeom>
            <a:solidFill>
              <a:srgbClr val="787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9"/>
            <p:cNvSpPr/>
            <p:nvPr/>
          </p:nvSpPr>
          <p:spPr>
            <a:xfrm>
              <a:off x="7323120" y="5128560"/>
              <a:ext cx="191880" cy="271440"/>
            </a:xfrm>
            <a:prstGeom prst="pie">
              <a:avLst/>
            </a:prstGeom>
            <a:solidFill>
              <a:srgbClr val="787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0"/>
            <p:cNvSpPr/>
            <p:nvPr/>
          </p:nvSpPr>
          <p:spPr>
            <a:xfrm>
              <a:off x="7476120" y="5110920"/>
              <a:ext cx="353160" cy="279000"/>
            </a:xfrm>
            <a:prstGeom prst="pie">
              <a:avLst/>
            </a:prstGeom>
            <a:solidFill>
              <a:srgbClr val="787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1"/>
            <p:cNvSpPr/>
            <p:nvPr/>
          </p:nvSpPr>
          <p:spPr>
            <a:xfrm>
              <a:off x="7342560" y="5090400"/>
              <a:ext cx="133560" cy="21888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2"/>
            <p:cNvSpPr/>
            <p:nvPr/>
          </p:nvSpPr>
          <p:spPr>
            <a:xfrm>
              <a:off x="7466040" y="5093640"/>
              <a:ext cx="244080" cy="3564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3"/>
            <p:cNvSpPr/>
            <p:nvPr/>
          </p:nvSpPr>
          <p:spPr>
            <a:xfrm>
              <a:off x="7615440" y="5076000"/>
              <a:ext cx="211680" cy="25092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4"/>
            <p:cNvSpPr/>
            <p:nvPr/>
          </p:nvSpPr>
          <p:spPr>
            <a:xfrm>
              <a:off x="7295760" y="4897080"/>
              <a:ext cx="127080" cy="15588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5"/>
            <p:cNvSpPr/>
            <p:nvPr/>
          </p:nvSpPr>
          <p:spPr>
            <a:xfrm>
              <a:off x="7476120" y="4890960"/>
              <a:ext cx="109080" cy="17424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6"/>
            <p:cNvSpPr/>
            <p:nvPr/>
          </p:nvSpPr>
          <p:spPr>
            <a:xfrm>
              <a:off x="7752960" y="4903920"/>
              <a:ext cx="107640" cy="144720"/>
            </a:xfrm>
            <a:prstGeom prst="pie">
              <a:avLst/>
            </a:prstGeom>
            <a:solidFill>
              <a:srgbClr val="a6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7"/>
            <p:cNvSpPr/>
            <p:nvPr/>
          </p:nvSpPr>
          <p:spPr>
            <a:xfrm>
              <a:off x="7227000" y="5203800"/>
              <a:ext cx="267120" cy="339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8"/>
            <p:cNvSpPr/>
            <p:nvPr/>
          </p:nvSpPr>
          <p:spPr>
            <a:xfrm>
              <a:off x="7220160" y="5157000"/>
              <a:ext cx="93600" cy="2844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9"/>
            <p:cNvSpPr/>
            <p:nvPr/>
          </p:nvSpPr>
          <p:spPr>
            <a:xfrm>
              <a:off x="7481520" y="5167800"/>
              <a:ext cx="211680" cy="2754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0"/>
            <p:cNvSpPr/>
            <p:nvPr/>
          </p:nvSpPr>
          <p:spPr>
            <a:xfrm>
              <a:off x="7650360" y="5197320"/>
              <a:ext cx="249480" cy="3322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1"/>
            <p:cNvSpPr/>
            <p:nvPr/>
          </p:nvSpPr>
          <p:spPr>
            <a:xfrm>
              <a:off x="7840080" y="5150160"/>
              <a:ext cx="72720" cy="2682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AutoShape 92"/>
          <p:cNvSpPr/>
          <p:nvPr/>
        </p:nvSpPr>
        <p:spPr>
          <a:xfrm rot="5400000">
            <a:off x="6049080" y="3029760"/>
            <a:ext cx="1365120" cy="71280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 vert="eaVert" rot="10800000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93"/>
          <p:cNvSpPr/>
          <p:nvPr/>
        </p:nvSpPr>
        <p:spPr>
          <a:xfrm rot="5400000">
            <a:off x="6905160" y="3028680"/>
            <a:ext cx="1365120" cy="71460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 vert="eaVert" rot="10800000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pier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iu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cu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4"/>
          <p:cNvSpPr/>
          <p:nvPr/>
        </p:nvSpPr>
        <p:spPr>
          <a:xfrm rot="5400000">
            <a:off x="7762320" y="3029760"/>
            <a:ext cx="1365120" cy="71280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 vert="eaVert" rot="10800000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duce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uri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actiu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2"/>
          <p:cNvSpPr/>
          <p:nvPr/>
        </p:nvSpPr>
        <p:spPr>
          <a:xfrm>
            <a:off x="5715000" y="1905120"/>
            <a:ext cx="396252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5"/>
          <p:cNvSpPr/>
          <p:nvPr/>
        </p:nvSpPr>
        <p:spPr>
          <a:xfrm>
            <a:off x="6375240" y="2286000"/>
            <a:ext cx="2426040" cy="30168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ait and Se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6"/>
          <p:cNvSpPr/>
          <p:nvPr/>
        </p:nvSpPr>
        <p:spPr>
          <a:xfrm>
            <a:off x="6949440" y="5626080"/>
            <a:ext cx="1373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TEP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3"/>
          <p:cNvSpPr/>
          <p:nvPr/>
        </p:nvSpPr>
        <p:spPr>
          <a:xfrm rot="5400000">
            <a:off x="6080400" y="3004200"/>
            <a:ext cx="1365120" cy="77292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60" y="0"/>
                </a:lnTo>
                <a:lnTo>
                  <a:pt x="21600" y="10800"/>
                </a:lnTo>
                <a:lnTo>
                  <a:pt x="157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 vert="eaVert" rot="10800000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steptar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na trec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9"/>
          <p:cNvSpPr/>
          <p:nvPr/>
        </p:nvSpPr>
        <p:spPr>
          <a:xfrm>
            <a:off x="293760" y="1584360"/>
            <a:ext cx="1322280" cy="11192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Scădere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ererii şi a marjelor de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10"/>
          <p:cNvSpPr/>
          <p:nvPr/>
        </p:nvSpPr>
        <p:spPr>
          <a:xfrm>
            <a:off x="2178000" y="1584360"/>
            <a:ext cx="1322280" cy="11192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cces redus l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redite şi finan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1"/>
          <p:cNvSpPr/>
          <p:nvPr/>
        </p:nvSpPr>
        <p:spPr>
          <a:xfrm>
            <a:off x="3914640" y="1643040"/>
            <a:ext cx="1486080" cy="1751400"/>
          </a:xfrm>
          <a:prstGeom prst="rect">
            <a:avLst/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ondiţii mai dure impuse de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urniz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2"/>
          <p:cNvSpPr/>
          <p:nvPr/>
        </p:nvSpPr>
        <p:spPr>
          <a:xfrm>
            <a:off x="3041640" y="4638600"/>
            <a:ext cx="2394000" cy="1465560"/>
          </a:xfrm>
          <a:prstGeom prst="rect">
            <a:avLst/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de ne sunt clientii?</a:t>
            </a:r>
            <a:r>
              <a:rPr b="1" lang="de-DE" sz="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e ce nu mai au nevoie de produsele/ serviciile noast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5"/>
          <p:cNvSpPr/>
          <p:nvPr/>
        </p:nvSpPr>
        <p:spPr>
          <a:xfrm>
            <a:off x="312840" y="2855880"/>
            <a:ext cx="2606400" cy="11192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lientii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si platesc cu intarziere facturile sau nu platesc de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8"/>
          <p:cNvSpPr/>
          <p:nvPr/>
        </p:nvSpPr>
        <p:spPr>
          <a:xfrm>
            <a:off x="3324240" y="3605040"/>
            <a:ext cx="2076480" cy="368280"/>
          </a:xfrm>
          <a:prstGeom prst="rect">
            <a:avLst/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resc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to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20"/>
          <p:cNvSpPr/>
          <p:nvPr/>
        </p:nvSpPr>
        <p:spPr>
          <a:xfrm>
            <a:off x="297000" y="4638600"/>
            <a:ext cx="2558880" cy="1477080"/>
          </a:xfrm>
          <a:prstGeom prst="rect">
            <a:avLst/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are sunt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dusele si clientii profitabili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1"/>
          <p:cNvSpPr/>
          <p:nvPr/>
        </p:nvSpPr>
        <p:spPr>
          <a:xfrm>
            <a:off x="223920" y="1434960"/>
            <a:ext cx="5275080" cy="2638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2"/>
          <p:cNvSpPr/>
          <p:nvPr/>
        </p:nvSpPr>
        <p:spPr>
          <a:xfrm>
            <a:off x="230040" y="4284720"/>
            <a:ext cx="5275440" cy="1946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uppieren 66"/>
          <p:cNvGrpSpPr/>
          <p:nvPr/>
        </p:nvGrpSpPr>
        <p:grpSpPr>
          <a:xfrm>
            <a:off x="5199120" y="1825560"/>
            <a:ext cx="3643200" cy="3000240"/>
            <a:chOff x="5199120" y="1825560"/>
            <a:chExt cx="3643200" cy="3000240"/>
          </a:xfrm>
        </p:grpSpPr>
        <p:sp>
          <p:nvSpPr>
            <p:cNvPr id="615" name="Rechtwinkliges Dreieck 23"/>
            <p:cNvSpPr/>
            <p:nvPr/>
          </p:nvSpPr>
          <p:spPr>
            <a:xfrm>
              <a:off x="5199120" y="1825560"/>
              <a:ext cx="3643200" cy="3000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8c8c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htwinkliges Dreieck 24"/>
            <p:cNvSpPr/>
            <p:nvPr/>
          </p:nvSpPr>
          <p:spPr>
            <a:xfrm flipH="1" flipV="1">
              <a:off x="5199120" y="1825560"/>
              <a:ext cx="3643200" cy="3000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8c8c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Gruppieren 27" descr=""/>
            <p:cNvPicPr/>
            <p:nvPr/>
          </p:nvPicPr>
          <p:blipFill>
            <a:blip r:embed="rId1"/>
            <a:stretch/>
          </p:blipFill>
          <p:spPr>
            <a:xfrm>
              <a:off x="5364360" y="1889640"/>
              <a:ext cx="2962800" cy="28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feld 29"/>
            <p:cNvSpPr/>
            <p:nvPr/>
          </p:nvSpPr>
          <p:spPr>
            <a:xfrm>
              <a:off x="5203800" y="4549320"/>
              <a:ext cx="78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rategi</a:t>
              </a:r>
              <a:r>
                <a:rPr b="0" lang="ro-RO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feld 30"/>
            <p:cNvSpPr/>
            <p:nvPr/>
          </p:nvSpPr>
          <p:spPr>
            <a:xfrm>
              <a:off x="8080920" y="182556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perat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96F-8BC8-436A-A508-B63F9BBFB7CC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erade Verbindung 6"/>
          <p:cNvSpPr/>
          <p:nvPr/>
        </p:nvSpPr>
        <p:spPr>
          <a:xfrm>
            <a:off x="4778280" y="1611360"/>
            <a:ext cx="444204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feld 8"/>
          <p:cNvSpPr/>
          <p:nvPr/>
        </p:nvSpPr>
        <p:spPr>
          <a:xfrm>
            <a:off x="380880" y="2873520"/>
            <a:ext cx="448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are este punctul cel mai vulnerabil acum in compan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feld 31"/>
          <p:cNvSpPr/>
          <p:nvPr/>
        </p:nvSpPr>
        <p:spPr>
          <a:xfrm>
            <a:off x="5315040" y="49687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Doar considerearea tutur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mponentelor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asigură succesul companiei pe termen 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46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vremuri turbulente momentul schimbarii este cel mai oport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223920" y="1514520"/>
            <a:ext cx="207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ma intrebare in descoperirea oportunitatil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liennummernplatzhalter 5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59F-AD0B-4D6A-97CC-4B72A129A612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Gerade Verbindung 35"/>
          <p:cNvSpPr/>
          <p:nvPr/>
        </p:nvSpPr>
        <p:spPr>
          <a:xfrm flipV="1">
            <a:off x="5033160" y="1773360"/>
            <a:ext cx="644760" cy="132552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Gerade Verbindung 36"/>
          <p:cNvSpPr/>
          <p:nvPr/>
        </p:nvSpPr>
        <p:spPr>
          <a:xfrm flipH="1" flipV="1">
            <a:off x="5347800" y="4518000"/>
            <a:ext cx="995400" cy="128592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Gerade Verbindung 38"/>
          <p:cNvSpPr/>
          <p:nvPr/>
        </p:nvSpPr>
        <p:spPr>
          <a:xfrm flipH="1">
            <a:off x="2700360" y="3927600"/>
            <a:ext cx="1571760" cy="0"/>
          </a:xfrm>
          <a:prstGeom prst="line">
            <a:avLst/>
          </a:prstGeom>
          <a:ln w="9360">
            <a:solidFill>
              <a:srgbClr val="8c8c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feld 51"/>
          <p:cNvSpPr/>
          <p:nvPr/>
        </p:nvSpPr>
        <p:spPr>
          <a:xfrm>
            <a:off x="809640" y="1609560"/>
            <a:ext cx="281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ăsuri pentru optimizarea eficienţei 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feld 52"/>
          <p:cNvSpPr/>
          <p:nvPr/>
        </p:nvSpPr>
        <p:spPr>
          <a:xfrm>
            <a:off x="844560" y="4638600"/>
            <a:ext cx="35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ăsuri strategice de lungă durată pentru asigurarea şi crearea viito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feld 53"/>
          <p:cNvSpPr/>
          <p:nvPr/>
        </p:nvSpPr>
        <p:spPr>
          <a:xfrm>
            <a:off x="6343560" y="2701800"/>
            <a:ext cx="30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ăsuri de scurtă durată pentru îmbunătăţirea Cash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Gerade Verbindung 55"/>
          <p:cNvSpPr/>
          <p:nvPr/>
        </p:nvSpPr>
        <p:spPr>
          <a:xfrm>
            <a:off x="907920" y="2141640"/>
            <a:ext cx="27147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Gerade Verbindung 57"/>
          <p:cNvSpPr/>
          <p:nvPr/>
        </p:nvSpPr>
        <p:spPr>
          <a:xfrm>
            <a:off x="941400" y="5180040"/>
            <a:ext cx="27147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Gerade Verbindung 58"/>
          <p:cNvSpPr/>
          <p:nvPr/>
        </p:nvSpPr>
        <p:spPr>
          <a:xfrm>
            <a:off x="6429240" y="3219480"/>
            <a:ext cx="1785960" cy="1440"/>
          </a:xfrm>
          <a:prstGeom prst="line">
            <a:avLst/>
          </a:prstGeom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feld 61"/>
          <p:cNvSpPr/>
          <p:nvPr/>
        </p:nvSpPr>
        <p:spPr>
          <a:xfrm>
            <a:off x="809640" y="2151000"/>
            <a:ext cx="328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timizarea, standardizarea şi armonizarea proceselo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 produse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ncepte integrate de reporting şi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feld 62"/>
          <p:cNvSpPr/>
          <p:nvPr/>
        </p:nvSpPr>
        <p:spPr>
          <a:xfrm>
            <a:off x="915840" y="5207040"/>
            <a:ext cx="453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timizarea modelelor de 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erea strategiei şi focusarea pe implementarea strategie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oritizarea dezvoltării şi distribuţiei pe baza pieţelor potenţi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feld 63"/>
          <p:cNvSpPr/>
          <p:nvPr/>
        </p:nvSpPr>
        <p:spPr>
          <a:xfrm>
            <a:off x="6572160" y="3290760"/>
            <a:ext cx="295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structu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ducerea costuri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ergi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3c58a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c58a1"/>
                </a:solidFill>
                <a:latin typeface="Arial"/>
              </a:rPr>
              <a:t>Management-ul capitalului circulant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i optimizarea stocur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21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ista cateva parghii clare de actiune in aceasta perioad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54"/>
          <p:cNvGrpSpPr/>
          <p:nvPr/>
        </p:nvGrpSpPr>
        <p:grpSpPr>
          <a:xfrm>
            <a:off x="4098960" y="2917800"/>
            <a:ext cx="1579320" cy="1782000"/>
            <a:chOff x="4098960" y="2917800"/>
            <a:chExt cx="1579320" cy="1782000"/>
          </a:xfrm>
        </p:grpSpPr>
        <p:sp>
          <p:nvSpPr>
            <p:cNvPr id="643" name="Freeform 3"/>
            <p:cNvSpPr/>
            <p:nvPr/>
          </p:nvSpPr>
          <p:spPr>
            <a:xfrm>
              <a:off x="4098960" y="3903840"/>
              <a:ext cx="1347840" cy="74448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"/>
            <p:cNvSpPr/>
            <p:nvPr/>
          </p:nvSpPr>
          <p:spPr>
            <a:xfrm flipH="1">
              <a:off x="4993560" y="3097080"/>
              <a:ext cx="684360" cy="132912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"/>
            <p:cNvSpPr/>
            <p:nvPr/>
          </p:nvSpPr>
          <p:spPr>
            <a:xfrm flipH="1">
              <a:off x="4134600" y="2917800"/>
              <a:ext cx="1016280" cy="1202040"/>
            </a:xfrm>
            <a:prstGeom prst="pi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"/>
            <p:cNvSpPr/>
            <p:nvPr/>
          </p:nvSpPr>
          <p:spPr>
            <a:xfrm rot="3517200">
              <a:off x="5007240" y="3574080"/>
              <a:ext cx="75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7"/>
            <p:cNvSpPr/>
            <p:nvPr/>
          </p:nvSpPr>
          <p:spPr>
            <a:xfrm rot="1332000">
              <a:off x="4308120" y="4249440"/>
              <a:ext cx="82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ro-RO" sz="1000" spc="-1" strike="noStrike">
                  <a:solidFill>
                    <a:srgbClr val="000000"/>
                  </a:solidFill>
                  <a:latin typeface="Arial"/>
                </a:rPr>
                <a:t>Potenţiale de creşte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8"/>
            <p:cNvSpPr/>
            <p:nvPr/>
          </p:nvSpPr>
          <p:spPr>
            <a:xfrm rot="19026000">
              <a:off x="4192560" y="3440880"/>
              <a:ext cx="51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42"/>
          <p:cNvSpPr/>
          <p:nvPr/>
        </p:nvSpPr>
        <p:spPr>
          <a:xfrm>
            <a:off x="5991120" y="2433600"/>
            <a:ext cx="3737160" cy="2274840"/>
          </a:xfrm>
          <a:prstGeom prst="rect">
            <a:avLst/>
          </a:prstGeom>
          <a:noFill/>
          <a:ln w="38160">
            <a:solidFill>
              <a:srgbClr val="3c58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ea mai usor accesibila sursa de cash este in interiorul companiei – activitatea oper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5240" y="3033720"/>
            <a:ext cx="14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sh Flo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368440" y="1365120"/>
            <a:ext cx="2584440" cy="97812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n activitatea operationala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“Operating Activit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368440" y="4336920"/>
            <a:ext cx="2584440" cy="97812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n activitatea financiara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“Financing Activit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295280" y="1815840"/>
            <a:ext cx="9144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1447920" y="3187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1219320" y="3568680"/>
            <a:ext cx="9903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7861320" y="1359000"/>
            <a:ext cx="1663560" cy="243828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ee Cash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ffc000"/>
                </a:solidFill>
                <a:latin typeface="Arial"/>
              </a:rPr>
              <a:t>(indicator pent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c000"/>
                </a:solidFill>
                <a:latin typeface="Arial"/>
              </a:rPr>
              <a:t>puter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c000"/>
                </a:solidFill>
                <a:latin typeface="Arial"/>
              </a:rPr>
              <a:t>finantare in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4800600" y="334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7315200" y="2120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7315200" y="158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3"/>
          <p:cNvSpPr/>
          <p:nvPr/>
        </p:nvSpPr>
        <p:spPr>
          <a:xfrm>
            <a:off x="2286000" y="5473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2362320" y="5626080"/>
            <a:ext cx="3467160" cy="38088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Modificarea gradului de lichid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2368440" y="2813040"/>
            <a:ext cx="2584440" cy="97776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n investitii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“Investing Activit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6"/>
          <p:cNvSpPr/>
          <p:nvPr/>
        </p:nvSpPr>
        <p:spPr>
          <a:xfrm>
            <a:off x="5499000" y="1359000"/>
            <a:ext cx="1968480" cy="45720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in P&amp;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7"/>
          <p:cNvSpPr/>
          <p:nvPr/>
        </p:nvSpPr>
        <p:spPr>
          <a:xfrm>
            <a:off x="5486400" y="1892160"/>
            <a:ext cx="1981080" cy="45720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in Working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8"/>
          <p:cNvSpPr/>
          <p:nvPr/>
        </p:nvSpPr>
        <p:spPr>
          <a:xfrm>
            <a:off x="2286000" y="55119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9"/>
          <p:cNvGrpSpPr/>
          <p:nvPr/>
        </p:nvGrpSpPr>
        <p:grpSpPr>
          <a:xfrm>
            <a:off x="1895400" y="2416320"/>
            <a:ext cx="390600" cy="390240"/>
            <a:chOff x="1895400" y="2416320"/>
            <a:chExt cx="390600" cy="390240"/>
          </a:xfrm>
        </p:grpSpPr>
        <p:sp>
          <p:nvSpPr>
            <p:cNvPr id="668" name="Oval 20"/>
            <p:cNvSpPr/>
            <p:nvPr/>
          </p:nvSpPr>
          <p:spPr>
            <a:xfrm>
              <a:off x="1895400" y="2416320"/>
              <a:ext cx="390600" cy="3902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1"/>
            <p:cNvSpPr/>
            <p:nvPr/>
          </p:nvSpPr>
          <p:spPr>
            <a:xfrm rot="16200000">
              <a:off x="1983240" y="2589840"/>
              <a:ext cx="213120" cy="4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2"/>
            <p:cNvSpPr/>
            <p:nvPr/>
          </p:nvSpPr>
          <p:spPr>
            <a:xfrm flipH="1" rot="10800000">
              <a:off x="1982880" y="2589480"/>
              <a:ext cx="21348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3"/>
          <p:cNvGrpSpPr/>
          <p:nvPr/>
        </p:nvGrpSpPr>
        <p:grpSpPr>
          <a:xfrm>
            <a:off x="1905120" y="3863880"/>
            <a:ext cx="390240" cy="390600"/>
            <a:chOff x="1905120" y="3863880"/>
            <a:chExt cx="390240" cy="390600"/>
          </a:xfrm>
        </p:grpSpPr>
        <p:sp>
          <p:nvSpPr>
            <p:cNvPr id="672" name="Oval 24"/>
            <p:cNvSpPr/>
            <p:nvPr/>
          </p:nvSpPr>
          <p:spPr>
            <a:xfrm>
              <a:off x="1905120" y="3863880"/>
              <a:ext cx="390240" cy="39060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25"/>
            <p:cNvSpPr/>
            <p:nvPr/>
          </p:nvSpPr>
          <p:spPr>
            <a:xfrm rot="16200000">
              <a:off x="1992960" y="4037760"/>
              <a:ext cx="213480" cy="4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6"/>
            <p:cNvSpPr/>
            <p:nvPr/>
          </p:nvSpPr>
          <p:spPr>
            <a:xfrm flipH="1" rot="10800000">
              <a:off x="1993320" y="4037400"/>
              <a:ext cx="2131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27"/>
          <p:cNvGrpSpPr/>
          <p:nvPr/>
        </p:nvGrpSpPr>
        <p:grpSpPr>
          <a:xfrm>
            <a:off x="1905120" y="5626080"/>
            <a:ext cx="380880" cy="380880"/>
            <a:chOff x="1905120" y="5626080"/>
            <a:chExt cx="380880" cy="380880"/>
          </a:xfrm>
        </p:grpSpPr>
        <p:sp>
          <p:nvSpPr>
            <p:cNvPr id="676" name="Oval 28"/>
            <p:cNvSpPr/>
            <p:nvPr/>
          </p:nvSpPr>
          <p:spPr>
            <a:xfrm flipH="1">
              <a:off x="1905120" y="5626080"/>
              <a:ext cx="380880" cy="38088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29"/>
            <p:cNvGrpSpPr/>
            <p:nvPr/>
          </p:nvGrpSpPr>
          <p:grpSpPr>
            <a:xfrm>
              <a:off x="1991520" y="5763960"/>
              <a:ext cx="208080" cy="104760"/>
              <a:chOff x="1991520" y="5763960"/>
              <a:chExt cx="208080" cy="104760"/>
            </a:xfrm>
          </p:grpSpPr>
          <p:sp>
            <p:nvSpPr>
              <p:cNvPr id="678" name="Rectangle 30"/>
              <p:cNvSpPr/>
              <p:nvPr/>
            </p:nvSpPr>
            <p:spPr>
              <a:xfrm flipH="1">
                <a:off x="1991520" y="5827680"/>
                <a:ext cx="20808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1"/>
              <p:cNvSpPr/>
              <p:nvPr/>
            </p:nvSpPr>
            <p:spPr>
              <a:xfrm rot="10800000">
                <a:off x="1991520" y="5763960"/>
                <a:ext cx="208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0" name="Group 32"/>
          <p:cNvGrpSpPr/>
          <p:nvPr/>
        </p:nvGrpSpPr>
        <p:grpSpPr>
          <a:xfrm>
            <a:off x="5029200" y="1701720"/>
            <a:ext cx="380880" cy="381240"/>
            <a:chOff x="5029200" y="1701720"/>
            <a:chExt cx="380880" cy="381240"/>
          </a:xfrm>
        </p:grpSpPr>
        <p:sp>
          <p:nvSpPr>
            <p:cNvPr id="681" name="Oval 33"/>
            <p:cNvSpPr/>
            <p:nvPr/>
          </p:nvSpPr>
          <p:spPr>
            <a:xfrm flipH="1">
              <a:off x="5029200" y="1701720"/>
              <a:ext cx="380880" cy="3812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34"/>
            <p:cNvGrpSpPr/>
            <p:nvPr/>
          </p:nvGrpSpPr>
          <p:grpSpPr>
            <a:xfrm>
              <a:off x="5115600" y="1839600"/>
              <a:ext cx="208080" cy="104760"/>
              <a:chOff x="5115600" y="1839600"/>
              <a:chExt cx="208080" cy="104760"/>
            </a:xfrm>
          </p:grpSpPr>
          <p:sp>
            <p:nvSpPr>
              <p:cNvPr id="683" name="Rectangle 35"/>
              <p:cNvSpPr/>
              <p:nvPr/>
            </p:nvSpPr>
            <p:spPr>
              <a:xfrm flipH="1">
                <a:off x="5115600" y="1903320"/>
                <a:ext cx="20808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36"/>
              <p:cNvSpPr/>
              <p:nvPr/>
            </p:nvSpPr>
            <p:spPr>
              <a:xfrm rot="10800000">
                <a:off x="5115600" y="1839600"/>
                <a:ext cx="208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Rectangle 37"/>
          <p:cNvSpPr/>
          <p:nvPr/>
        </p:nvSpPr>
        <p:spPr>
          <a:xfrm>
            <a:off x="5494320" y="3111480"/>
            <a:ext cx="1968480" cy="45720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ixed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8"/>
          <p:cNvSpPr/>
          <p:nvPr/>
        </p:nvSpPr>
        <p:spPr>
          <a:xfrm>
            <a:off x="5494320" y="4559400"/>
            <a:ext cx="1968480" cy="457200"/>
          </a:xfrm>
          <a:prstGeom prst="rect">
            <a:avLst/>
          </a:prstGeom>
          <a:solidFill>
            <a:srgbClr val="3c58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ts val="1599"/>
              </a:lnSpc>
              <a:spcBef>
                <a:spcPts val="238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Arial"/>
              </a:rPr>
              <a:t>din capital imprumut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238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Arial"/>
              </a:rPr>
              <a:t>si propri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39"/>
          <p:cNvGrpSpPr/>
          <p:nvPr/>
        </p:nvGrpSpPr>
        <p:grpSpPr>
          <a:xfrm>
            <a:off x="5029200" y="4559400"/>
            <a:ext cx="380880" cy="380880"/>
            <a:chOff x="5029200" y="4559400"/>
            <a:chExt cx="380880" cy="380880"/>
          </a:xfrm>
        </p:grpSpPr>
        <p:sp>
          <p:nvSpPr>
            <p:cNvPr id="688" name="Oval 40"/>
            <p:cNvSpPr/>
            <p:nvPr/>
          </p:nvSpPr>
          <p:spPr>
            <a:xfrm flipH="1">
              <a:off x="5029200" y="4559400"/>
              <a:ext cx="380880" cy="38088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41"/>
            <p:cNvGrpSpPr/>
            <p:nvPr/>
          </p:nvGrpSpPr>
          <p:grpSpPr>
            <a:xfrm>
              <a:off x="5115600" y="4697280"/>
              <a:ext cx="208080" cy="104760"/>
              <a:chOff x="5115600" y="4697280"/>
              <a:chExt cx="208080" cy="104760"/>
            </a:xfrm>
          </p:grpSpPr>
          <p:sp>
            <p:nvSpPr>
              <p:cNvPr id="690" name="Rectangle 42"/>
              <p:cNvSpPr/>
              <p:nvPr/>
            </p:nvSpPr>
            <p:spPr>
              <a:xfrm flipH="1">
                <a:off x="5115600" y="4761000"/>
                <a:ext cx="20808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43"/>
              <p:cNvSpPr/>
              <p:nvPr/>
            </p:nvSpPr>
            <p:spPr>
              <a:xfrm rot="10800000">
                <a:off x="5115600" y="4697280"/>
                <a:ext cx="208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Text Box 45"/>
          <p:cNvSpPr/>
          <p:nvPr/>
        </p:nvSpPr>
        <p:spPr>
          <a:xfrm>
            <a:off x="214560" y="6111720"/>
            <a:ext cx="1694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conform SFAS 95 si IAS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47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21A5-A151-4BDE-89A9-02E814A511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2120760" y="1279440"/>
            <a:ext cx="5534280" cy="113688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vocarea &amp; oportunitatea acum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ste reducerea perioadei de blocare 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chiditat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-1152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273B-39CB-4AAF-BDB6-7765687CBCF8}" type="slidenum">
              <a:rPr b="1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361800" y="1692360"/>
            <a:ext cx="9139320" cy="36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2243160" y="2832120"/>
            <a:ext cx="2441520" cy="47160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roducţ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69720" y="1424160"/>
            <a:ext cx="363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ocesu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arii venit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920880" y="2832120"/>
            <a:ext cx="1322280" cy="47160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tocu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4687920" y="2832120"/>
            <a:ext cx="1919160" cy="47160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pozitare produse 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6607080" y="2832120"/>
            <a:ext cx="1967040" cy="471600"/>
          </a:xfrm>
          <a:prstGeom prst="rect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Încasarea creanţ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3327480" y="2887560"/>
            <a:ext cx="1214280" cy="41616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Prefabr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8"/>
          <p:cNvSpPr/>
          <p:nvPr/>
        </p:nvSpPr>
        <p:spPr>
          <a:xfrm>
            <a:off x="920880" y="3303720"/>
            <a:ext cx="208584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tor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9"/>
          <p:cNvSpPr/>
          <p:nvPr/>
        </p:nvSpPr>
        <p:spPr>
          <a:xfrm>
            <a:off x="3006720" y="3303720"/>
            <a:ext cx="5567400" cy="4730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otential de blocare a lichiditat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2276640" y="3949560"/>
            <a:ext cx="17121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eşiri de lichid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5"/>
          <p:cNvSpPr/>
          <p:nvPr/>
        </p:nvSpPr>
        <p:spPr>
          <a:xfrm>
            <a:off x="7663680" y="3949560"/>
            <a:ext cx="1812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ntrări de lichid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6"/>
          <p:cNvSpPr/>
          <p:nvPr/>
        </p:nvSpPr>
        <p:spPr>
          <a:xfrm>
            <a:off x="2894040" y="3778200"/>
            <a:ext cx="235080" cy="181080"/>
          </a:xfrm>
          <a:prstGeom prst="triangle">
            <a:avLst>
              <a:gd name="adj" fmla="val 50000"/>
            </a:avLst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1520" bIns="-1152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7"/>
          <p:cNvSpPr/>
          <p:nvPr/>
        </p:nvSpPr>
        <p:spPr>
          <a:xfrm>
            <a:off x="8451720" y="3778200"/>
            <a:ext cx="235080" cy="181080"/>
          </a:xfrm>
          <a:prstGeom prst="triangle">
            <a:avLst>
              <a:gd name="adj" fmla="val 50000"/>
            </a:avLst>
          </a:prstGeom>
          <a:solidFill>
            <a:srgbClr val="3c5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1520" bIns="-1152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8"/>
          <p:cNvSpPr/>
          <p:nvPr/>
        </p:nvSpPr>
        <p:spPr>
          <a:xfrm>
            <a:off x="968400" y="5141880"/>
            <a:ext cx="200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9"/>
          <p:cNvSpPr/>
          <p:nvPr/>
        </p:nvSpPr>
        <p:spPr>
          <a:xfrm>
            <a:off x="1230480" y="4844880"/>
            <a:ext cx="1242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provizio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0"/>
          <p:cNvSpPr/>
          <p:nvPr/>
        </p:nvSpPr>
        <p:spPr>
          <a:xfrm>
            <a:off x="3056040" y="5141880"/>
            <a:ext cx="5467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1"/>
          <p:cNvSpPr/>
          <p:nvPr/>
        </p:nvSpPr>
        <p:spPr>
          <a:xfrm>
            <a:off x="4910040" y="4802040"/>
            <a:ext cx="3266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erioada de blocare a capitalul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42"/>
          <p:cNvSpPr/>
          <p:nvPr/>
        </p:nvSpPr>
        <p:spPr>
          <a:xfrm>
            <a:off x="4533840" y="5005440"/>
            <a:ext cx="282600" cy="307800"/>
          </a:xfrm>
          <a:prstGeom prst="pie">
            <a:avLst/>
          </a:prstGeom>
          <a:solidFill>
            <a:srgbClr val="e7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28160" bIns="12816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291960" y="1481040"/>
            <a:ext cx="6843960" cy="4589640"/>
          </a:xfrm>
          <a:custGeom>
            <a:avLst/>
            <a:gdLst>
              <a:gd name="textAreaLeft" fmla="*/ 0 w 6843960"/>
              <a:gd name="textAreaRight" fmla="*/ 6844320 w 6843960"/>
              <a:gd name="textAreaTop" fmla="*/ 0 h 4589640"/>
              <a:gd name="textAreaBottom" fmla="*/ 4590000 h 458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1" y="0"/>
                </a:lnTo>
                <a:lnTo>
                  <a:pt x="21600" y="10800"/>
                </a:lnTo>
                <a:lnTo>
                  <a:pt x="198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umite puncte critice ale businessului conduc la blocarea lichiditat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749600"/>
            <a:ext cx="6321600" cy="38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rtofoliu de clienti si produse prea compl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- varietate de conditii comerciale si cresterea stocu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ditiile de plata variat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 de somatie ine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psa de comunicare / sincronizar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e aprovizionare, productie, vanzari si contabi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nzarile nu sunt implicat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colectarea datoriilor de la cl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 se raporteaz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mod regulat evolutia lichiditatii si a componentel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 sunt clar defini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abilitati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ntru fiecare componenta a lichidit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6978600" y="1473120"/>
            <a:ext cx="268596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ca cresc stocurile si timpii de incasare a creantelor, atunci 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.creste volumul capitalului blo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. cresc costurile pentru capitalul invest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. lipseste capitalul pentru investitiile im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100080">
              <a:lnSpc>
                <a:spcPct val="90000"/>
              </a:lnSpc>
              <a:spcBef>
                <a:spcPts val="400"/>
              </a:spcBef>
              <a:buClr>
                <a:srgbClr val="3c58a1"/>
              </a:buClr>
              <a:buSzPct val="80000"/>
              <a:buFont typeface="Wingdings" charset="2"/>
              <a:buChar char="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. scade rentabilitatea si valoarea compani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liennummernplatzhalter 7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AEC-B9A1-4243-9BD6-2631BE3C64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5730840" y="1495440"/>
            <a:ext cx="3944880" cy="46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5730840" y="1496880"/>
            <a:ext cx="3944880" cy="676440"/>
          </a:xfrm>
          <a:prstGeom prst="rect">
            <a:avLst/>
          </a:prstGeom>
          <a:solidFill>
            <a:srgbClr val="3c5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6080040" y="2384280"/>
            <a:ext cx="32641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chiditati supli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080040" y="1575720"/>
            <a:ext cx="325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fecte ale optimizarii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orking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3824280" y="3152880"/>
            <a:ext cx="2203560" cy="1336680"/>
          </a:xfrm>
          <a:custGeom>
            <a:avLst/>
            <a:gdLst>
              <a:gd name="textAreaLeft" fmla="*/ 0 w 2203560"/>
              <a:gd name="textAreaRight" fmla="*/ 2203920 w 220356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1" y="0"/>
                </a:lnTo>
                <a:lnTo>
                  <a:pt x="21600" y="10800"/>
                </a:lnTo>
                <a:lnTo>
                  <a:pt x="187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t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7"/>
          <p:cNvSpPr/>
          <p:nvPr/>
        </p:nvSpPr>
        <p:spPr>
          <a:xfrm>
            <a:off x="228600" y="1509840"/>
            <a:ext cx="3903840" cy="4620960"/>
          </a:xfrm>
          <a:custGeom>
            <a:avLst/>
            <a:gdLst>
              <a:gd name="textAreaLeft" fmla="*/ 0 w 3903840"/>
              <a:gd name="textAreaRight" fmla="*/ 3904200 w 3903840"/>
              <a:gd name="textAreaTop" fmla="*/ 0 h 4620960"/>
              <a:gd name="textAreaBottom" fmla="*/ 4621320 h 46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13" y="0"/>
                </a:lnTo>
                <a:lnTo>
                  <a:pt x="21600" y="10800"/>
                </a:lnTo>
                <a:lnTo>
                  <a:pt x="168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8"/>
          <p:cNvSpPr/>
          <p:nvPr/>
        </p:nvSpPr>
        <p:spPr>
          <a:xfrm>
            <a:off x="228600" y="1509840"/>
            <a:ext cx="3294000" cy="676080"/>
          </a:xfrm>
          <a:prstGeom prst="pie">
            <a:avLst/>
          </a:prstGeom>
          <a:solidFill>
            <a:srgbClr val="3c58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958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cum este momentul unui mai bun management al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lectarii datoriilor de la clienti si renegocierea conditiilor oferite de furnizo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382680" y="2771640"/>
            <a:ext cx="2906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9000" indent="-18756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mizarea surselor de cash di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c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nte cl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-189000">
              <a:lnSpc>
                <a:spcPct val="100000"/>
              </a:lnSpc>
              <a:spcBef>
                <a:spcPts val="901"/>
              </a:spcBef>
              <a:buClr>
                <a:srgbClr val="3c58a1"/>
              </a:buClr>
              <a:buSzPct val="80000"/>
              <a:buFont typeface="Wingding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orii furnizori si serv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303120" y="1575720"/>
            <a:ext cx="2986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Obiectivele optimizarii working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6175440" y="3598560"/>
            <a:ext cx="0" cy="19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6175440" y="5546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4"/>
          <p:cNvSpPr/>
          <p:nvPr/>
        </p:nvSpPr>
        <p:spPr>
          <a:xfrm>
            <a:off x="6175440" y="4500720"/>
            <a:ext cx="1298520" cy="10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7473960" y="4502160"/>
            <a:ext cx="503280" cy="1044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6181560" y="4108320"/>
            <a:ext cx="1293840" cy="398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7"/>
          <p:cNvSpPr/>
          <p:nvPr/>
        </p:nvSpPr>
        <p:spPr>
          <a:xfrm flipV="1">
            <a:off x="6757920" y="4732200"/>
            <a:ext cx="478080" cy="478080"/>
          </a:xfrm>
          <a:prstGeom prst="pie">
            <a:avLst/>
          </a:prstGeom>
          <a:solidFill>
            <a:srgbClr val="bcbc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6200" bIns="162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8"/>
          <p:cNvSpPr/>
          <p:nvPr/>
        </p:nvSpPr>
        <p:spPr>
          <a:xfrm>
            <a:off x="6237720" y="3554280"/>
            <a:ext cx="1469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urile capitalului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irc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9"/>
          <p:cNvSpPr/>
          <p:nvPr/>
        </p:nvSpPr>
        <p:spPr>
          <a:xfrm>
            <a:off x="8231400" y="5149800"/>
            <a:ext cx="781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chidi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20"/>
          <p:cNvSpPr/>
          <p:nvPr/>
        </p:nvSpPr>
        <p:spPr>
          <a:xfrm>
            <a:off x="7937640" y="3152880"/>
            <a:ext cx="1595160" cy="1218960"/>
          </a:xfrm>
          <a:prstGeom prst="wedgeRoundRectCallout">
            <a:avLst>
              <a:gd name="adj1" fmla="val -58555"/>
              <a:gd name="adj2" fmla="val 736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rea pe alte segmente de cli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3c58a1"/>
              </a:buClr>
              <a:buSzPct val="80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te servic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6622920" y="4114800"/>
            <a:ext cx="3351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2"/>
          <p:cNvSpPr/>
          <p:nvPr/>
        </p:nvSpPr>
        <p:spPr>
          <a:xfrm>
            <a:off x="7524360" y="4849920"/>
            <a:ext cx="387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liennummernplatzhalter 24"/>
          <p:cNvSpPr/>
          <p:nvPr/>
        </p:nvSpPr>
        <p:spPr>
          <a:xfrm>
            <a:off x="-3600" y="66261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092-6FEE-4699-97F6-F40F27B281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9:59:10Z</dcterms:created>
  <dc:creator>Horvath &amp; Partners</dc:creator>
  <dc:description/>
  <cp:keywords/>
  <dc:language>en-US</dc:language>
  <cp:lastModifiedBy>Horvath &amp; Partner Gruppe</cp:lastModifiedBy>
  <cp:lastPrinted>2003-07-07T11:21:57Z</cp:lastPrinted>
  <dcterms:modified xsi:type="dcterms:W3CDTF">2009-03-31T08:53:23Z</dcterms:modified>
  <cp:revision>203</cp:revision>
  <dc:subject>Powerpoint Präsentation</dc:subject>
  <dc:title>How to survive the economic crisis?</dc:title>
</cp:coreProperties>
</file>