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2.jpeg" ContentType="image/jpe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jpeg" ContentType="image/jpeg"/>
  <Override PartName="/ppt/media/image32.png" ContentType="image/png"/>
  <Override PartName="/ppt/media/image69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59.png" ContentType="image/png"/>
  <Override PartName="/ppt/media/image4.wmf" ContentType="image/x-wmf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16.png" ContentType="image/png"/>
  <Override PartName="/ppt/media/image1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.png" ContentType="image/png"/>
  <Override PartName="/ppt/media/image38.png" ContentType="image/png"/>
  <Override PartName="/ppt/media/image80.png" ContentType="image/png"/>
  <Override PartName="/ppt/media/image15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051D-6A0A-4A8C-8A98-993D68723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437BE-8817-48EE-A355-70BC864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7F566B-FC7D-4737-B426-4FC4E037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9597D-52E4-4D76-A3AD-FAAA31A8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0713AB-7339-4BEA-ABCC-D4787BF0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29417-F6C7-4204-AE1D-C7CFE211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761ADE-5D70-420F-9D10-9078ED9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C2BD2-198F-4D0F-84CE-8576CF1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C0B6E-B96C-4F33-A266-686A4772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36BE9-5568-480E-BC9E-69B5EA6D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AA61DD-3A25-4214-B803-FA365AC9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A9860A-FC85-472A-85D9-9CBF4E39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E4494-FF99-4426-88A3-81A453B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E07C4-FECD-4279-A1D9-E8E0A865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758D9-6812-46A7-800D-EEB5141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A918B-9F5C-4B2B-BDAA-2E63523E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FA748-272C-4063-AC7D-E8C13960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2F6F3-A4E9-4E6A-958A-8983636A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5EF3D-AFDF-4134-B439-D2AC7F94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E71B4D-83C4-412E-87C9-BE38D67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14C055-F1B0-4DFA-A4EA-BBD41ADC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67077-ED9E-41FE-ADCF-5948BEC0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12ECC-D829-4B20-B262-33EE4E5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FD51-8447-4748-A9EA-25C675829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40F720-1A8C-4B0E-A8EB-AB415B1F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B4296-07A0-4BA6-947A-5445C407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D53EA6-881F-4BC6-8415-CD5FD8A4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12E4A-5498-408A-A97D-4DD9FDAF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79AA13-3D7F-4711-90E1-3076B243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AA179D-EBBD-4E88-90B1-92DC6A7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D8E4F-2F34-484F-8C63-7C7AFA1C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0BAFA-8D57-439C-A4D2-6167CB25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36A272-91D4-4F9B-A0D7-D8B16376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6817B5-5C0A-4D94-88ED-F3A3935F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B9786-C408-4E7B-9B39-BA7869B7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D6FB0-CE9A-4DF6-B70F-9D85180B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DBCD88-02BB-4333-A4AB-0E6166C1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4FC331-A5E4-4474-8D81-E3970064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49563-3D9C-47CE-B516-2B729804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B5F75-5DE0-459A-B69E-DCB0CCA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FA52C5-51A7-4400-A638-6F1ACDA1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4E5E04-BE89-45E5-9838-B06CE61C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EF7AA-1B4F-454E-8248-998D1C49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D04697-3483-4284-8724-1CF310B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F5406-8AC0-4E43-BC70-69780D4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9666E1-EBC9-40BA-B4C6-64B100F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EAE05-A8A1-4040-9EA5-6FA723FB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7EAB2A-7CF6-4432-8D52-B90970E4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B68C39-DA8E-404A-859C-D2E286A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70A616-774A-4D96-A9FF-D714AB27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ED1FE9-8057-4DCE-AD7B-E708D2B9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79DFE4-70C3-4E40-B849-42D26A3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2FBDC5-2BBE-49BD-840B-EBE08BFF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8CB8CC-0BAC-4E2D-A159-36A24B08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136AC-7575-416B-A464-7A65F5D0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DF0484-C6B2-4502-B859-000AE75F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C233AA-84FC-466F-9D20-1BF55026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30C4D-0D1F-4FCD-9B3E-4FA71D0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9D683E-9477-4DF5-B17B-8E9EA2BE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FF552-DD84-472E-8CDC-FE0C74F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5F6347-18DD-440E-B0BF-2045695B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72F40-401C-450E-85D7-C18F4C5C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AAD9-3D9A-47BC-ABD7-A385773A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417F-93A3-4686-A310-405DB8B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4AAEF-41BC-4234-92D1-C2EC2CE8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8ED6-C193-4C5D-8582-309946AB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34C29-8F98-43D4-B3B8-567C2C74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5F2A-6837-42F3-82B7-C9476F44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54CBA-51DC-42F7-853A-4D3E6ED2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74A41-0F6B-4C77-A5C1-1F52699B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E7248-76BF-4367-BAE8-9EC0292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FFDEE-D829-425A-BF1C-BBEBFFD7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8685B-46D0-42E5-B7C9-188A9716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CB568-E1B4-4D24-B174-F634D302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0DB76-B280-4040-B963-AF4D735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81E9-0DB6-498F-A956-C8A28C80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7D0A6-89E1-4DF0-BF75-B1DACDD7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29F9B-8A06-4DE0-8257-83B1178C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CEA08-FA0D-4B12-BA7E-E098CCAB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9EFBD4-8555-482B-91EA-3FA3D646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57834-87E5-48AC-9D75-8371178C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488BE-34AE-4867-B876-EE30E77E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7A74B-30EE-4475-A0B7-0074EF9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A6511-5535-47C1-8EF5-5396460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816C5-2DD7-45BC-B214-0CFA4613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068E6-113E-40B7-B4BF-2A04F9DF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4CAE-FD3B-4E19-A9D7-C4C47F73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4B9C1-510A-4861-BEC4-7286DE87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F5C78-C094-4B4B-B40D-F56534EF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609A16-2716-422C-A215-CB3D9C1E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5BD6B-28FB-4542-AB29-7D9A456E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C3464D-734A-43BF-B002-765A8694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EB83E8-9E17-4AB7-AF48-DD953CF0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7A0F6E-2AF8-4181-9786-5F603463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0645A6-6688-4230-A019-0009D81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55899-C2ED-434F-A358-83EDAE3D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4BEE07-5B1E-4EEE-B7A6-6EB2B83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4E12D-3D04-43C4-A767-6DB2E2C3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44EC1-6695-4333-8C8A-76D33B79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9F0A1-BA76-4694-B5F3-9DFE05AF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9847D-8B7D-41DF-BB76-4C61BB35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5864CC-B830-4E42-90B8-36CDC8DB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8F0A7-FE98-4E2A-B14B-0721A371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171E6-EC9A-4F54-81D4-C21EFD43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41E1B-91EF-4053-8CE3-DDBC5F88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09CBF3-B442-431F-B016-907AFD77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C316C0-26F5-4E9A-B694-3476999E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708D68-6AB0-47CB-821B-72375B1E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hyperlink" Target="mailto:contact@ensight.ro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mailto:andreea.enache@ensight.ro" TargetMode="External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2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2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75D7-2538-437E-94FC-451C84ABA43E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5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dt" idx="16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17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5D34-FCB1-491A-B181-4E1739155428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7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18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dt" idx="19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0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A5D-8DE4-4692-A370-7157890C1149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15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0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ftr" idx="21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dt" idx="22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23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BD09-11B2-412F-A665-9BCF87428D2A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reeform 15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Freeform 16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Freeform 17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18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3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4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5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6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71D-864B-4F2D-8F1B-A951DAC54932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4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1523880" y="365760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0725"/>
                </a:solidFill>
                <a:latin typeface="Thoma"/>
              </a:rPr>
              <a:t>Multumim!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230725"/>
                </a:solidFill>
                <a:latin typeface="Thoma"/>
              </a:rPr>
              <a:t>Pentru informatii suplimentare, va rugam sa ne contactati la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55" name="Line 10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1424160" y="2998800"/>
            <a:ext cx="2286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184-186 Traian St., 024045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Bucharest, Romani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Phone: +4 031 4055468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contact@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 - 2008 by Ensight Management  Consulting.  All rights reserved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23880" y="365760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30725"/>
                </a:solidFill>
                <a:latin typeface="Thoma"/>
              </a:rPr>
              <a:t>Thank you!</a:t>
            </a:r>
            <a:r>
              <a:rPr b="1" sz="3200" spc="-1" strike="noStrike">
                <a:solidFill>
                  <a:srgbClr val="230725"/>
                </a:solidFill>
                <a:latin typeface="T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30725"/>
                </a:solidFill>
                <a:latin typeface="Thoma"/>
              </a:rPr>
              <a:t>For more information please contact us at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100" name="Line 7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1424160" y="2998800"/>
            <a:ext cx="22860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184-186 Traian St., 024045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Bucharest, Romani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Phone: +4 031 4055468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5321"/>
                </a:solidFill>
                <a:latin typeface="Tahoma"/>
              </a:rPr>
              <a:t>contact@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 - 2008 by Ensight Management  Consulting.  All rights reserved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373040" y="1700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30725"/>
                </a:solidFill>
                <a:latin typeface="Thoma"/>
              </a:rPr>
              <a:t>Va multumim</a:t>
            </a:r>
            <a:r>
              <a:rPr b="1" sz="3200" spc="-1" strike="noStrike">
                <a:solidFill>
                  <a:srgbClr val="230725"/>
                </a:solidFill>
                <a:latin typeface="Thoma"/>
              </a:rPr>
              <a:t>!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373040" y="2236680"/>
            <a:ext cx="77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400" spc="-1" strike="noStrike">
                <a:solidFill>
                  <a:srgbClr val="230725"/>
                </a:solidFill>
                <a:latin typeface="Thoma"/>
              </a:rPr>
              <a:t>Pentru informatii suplimentare</a:t>
            </a:r>
            <a:r>
              <a:rPr b="0" i="1" sz="1400" spc="-1" strike="noStrike">
                <a:solidFill>
                  <a:srgbClr val="230725"/>
                </a:solidFill>
                <a:latin typeface="Thoma"/>
              </a:rPr>
              <a:t>, va rugam sa ne contactati</a:t>
            </a:r>
            <a:r>
              <a:rPr b="0" i="1" lang="en-US" sz="1400" spc="-1" strike="noStrike">
                <a:solidFill>
                  <a:srgbClr val="230725"/>
                </a:solidFill>
                <a:latin typeface="Thoma"/>
              </a:rPr>
              <a:t>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6" descr="sigla"/>
          <p:cNvPicPr/>
          <p:nvPr/>
        </p:nvPicPr>
        <p:blipFill>
          <a:blip r:embed="rId3"/>
          <a:stretch/>
        </p:blipFill>
        <p:spPr>
          <a:xfrm>
            <a:off x="7924680" y="189000"/>
            <a:ext cx="1633680" cy="16398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>
            <a:off x="1496880" y="2238480"/>
            <a:ext cx="47516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1" descr=""/>
          <p:cNvPicPr/>
          <p:nvPr/>
        </p:nvPicPr>
        <p:blipFill>
          <a:blip r:embed="rId4"/>
          <a:stretch/>
        </p:blipFill>
        <p:spPr>
          <a:xfrm>
            <a:off x="6172200" y="5334120"/>
            <a:ext cx="3273480" cy="5173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63560" y="6477120"/>
            <a:ext cx="390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ahoma"/>
              </a:rPr>
              <a:t>© 2009 by Ensight Management Consulting. All rights reserved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424160" y="2998800"/>
            <a:ext cx="22860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Niro Business Center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Str. Traian 184-186 ,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024045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Bucuresti, Romania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Tel:      +4 031 4055468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230725"/>
                </a:solidFill>
                <a:latin typeface="Tahoma"/>
              </a:rPr>
              <a:t>Fax:      +4 031 4055467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3300"/>
                </a:solidFill>
                <a:uFillTx/>
                <a:latin typeface="Tahoma"/>
                <a:hlinkClick r:id="rId5"/>
              </a:rPr>
              <a:t>contact@ensight.ro</a:t>
            </a:r>
            <a:r>
              <a:rPr b="1" lang="en-US" sz="1000" spc="-1" strike="noStrike" u="sng">
                <a:solidFill>
                  <a:srgbClr val="230725"/>
                </a:solidFill>
                <a:uFillTx/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ee5321"/>
                </a:solidFill>
                <a:latin typeface="Tahoma"/>
              </a:rPr>
              <a:t>www.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0" descr="2"/>
          <p:cNvPicPr/>
          <p:nvPr/>
        </p:nvPicPr>
        <p:blipFill>
          <a:blip r:embed="rId2"/>
          <a:stretch/>
        </p:blipFill>
        <p:spPr>
          <a:xfrm>
            <a:off x="0" y="4284720"/>
            <a:ext cx="6095880" cy="2573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8"/>
          <p:cNvSpPr/>
          <p:nvPr/>
        </p:nvSpPr>
        <p:spPr>
          <a:xfrm>
            <a:off x="763560" y="6483240"/>
            <a:ext cx="469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© 2000-2009 by Ensight Management Consulting. All rights reserved.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0" descr="sigla"/>
          <p:cNvPicPr/>
          <p:nvPr/>
        </p:nvPicPr>
        <p:blipFill>
          <a:blip r:embed="rId3"/>
          <a:stretch/>
        </p:blipFill>
        <p:spPr>
          <a:xfrm>
            <a:off x="7924680" y="195120"/>
            <a:ext cx="1633680" cy="16401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4"/>
          <p:cNvSpPr/>
          <p:nvPr/>
        </p:nvSpPr>
        <p:spPr>
          <a:xfrm>
            <a:off x="776160" y="3130560"/>
            <a:ext cx="617220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homa"/>
              </a:rPr>
              <a:t>Bucuresti, 31 Martie 2009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26"/>
          <p:cNvSpPr/>
          <p:nvPr/>
        </p:nvSpPr>
        <p:spPr>
          <a:xfrm>
            <a:off x="754200" y="2205000"/>
            <a:ext cx="7627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unicarea proceselor de restructur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est” marketing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817560" y="3284640"/>
            <a:ext cx="7488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22"/>
          <p:cNvSpPr/>
          <p:nvPr/>
        </p:nvSpPr>
        <p:spPr>
          <a:xfrm>
            <a:off x="6103800" y="4676760"/>
            <a:ext cx="35290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Andreea Enache: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+40 749 040502 </a:t>
            </a:r>
            <a:r>
              <a:rPr b="1" lang="en-US" sz="1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ndreea.enache@ensight.ro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1258920" indent="-1258920">
              <a:spcAft>
                <a:spcPts val="62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2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3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dt" idx="4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5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CCF6-DABE-4C03-9EC9-6422BE339294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6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dt" idx="7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8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01B3-29FF-403C-BE7E-D5DD25399AA7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8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9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dt" idx="10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1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E68A-C869-49AC-809F-F84D60B19A13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3"/>
          <p:cNvSpPr/>
          <p:nvPr/>
        </p:nvSpPr>
        <p:spPr>
          <a:xfrm>
            <a:off x="7456320" y="2552760"/>
            <a:ext cx="1116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Freeform 4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Freeform 5"/>
          <p:cNvSpPr/>
          <p:nvPr/>
        </p:nvSpPr>
        <p:spPr>
          <a:xfrm>
            <a:off x="2430360" y="4297320"/>
            <a:ext cx="9720" cy="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Freeform 6"/>
          <p:cNvSpPr/>
          <p:nvPr/>
        </p:nvSpPr>
        <p:spPr>
          <a:xfrm>
            <a:off x="2430360" y="2552760"/>
            <a:ext cx="97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19"/>
          <p:cNvSpPr/>
          <p:nvPr/>
        </p:nvSpPr>
        <p:spPr>
          <a:xfrm>
            <a:off x="449280" y="6504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© 2000 - 2009 by Ensight Management Consulting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All rights reserved</a:t>
            </a: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Freeform 20"/>
          <p:cNvSpPr/>
          <p:nvPr/>
        </p:nvSpPr>
        <p:spPr>
          <a:xfrm>
            <a:off x="7209000" y="5973840"/>
            <a:ext cx="1080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1"/>
          <p:cNvSpPr/>
          <p:nvPr/>
        </p:nvSpPr>
        <p:spPr>
          <a:xfrm>
            <a:off x="3219480" y="5791320"/>
            <a:ext cx="581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22"/>
          <p:cNvSpPr/>
          <p:nvPr/>
        </p:nvSpPr>
        <p:spPr>
          <a:xfrm flipV="1">
            <a:off x="2913120" y="655488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26"/>
          <p:cNvSpPr/>
          <p:nvPr/>
        </p:nvSpPr>
        <p:spPr>
          <a:xfrm>
            <a:off x="0" y="1271520"/>
            <a:ext cx="8193240" cy="0"/>
          </a:xfrm>
          <a:prstGeom prst="line">
            <a:avLst/>
          </a:prstGeom>
          <a:ln w="19080">
            <a:solidFill>
              <a:srgbClr val="e22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Picture 28" descr="sigla"/>
          <p:cNvPicPr/>
          <p:nvPr/>
        </p:nvPicPr>
        <p:blipFill>
          <a:blip r:embed="rId2"/>
          <a:stretch/>
        </p:blipFill>
        <p:spPr>
          <a:xfrm>
            <a:off x="8458200" y="87480"/>
            <a:ext cx="1228680" cy="12348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2"/>
          <p:cNvSpPr/>
          <p:nvPr/>
        </p:nvSpPr>
        <p:spPr>
          <a:xfrm>
            <a:off x="0" y="-1440"/>
            <a:ext cx="344520" cy="1269720"/>
          </a:xfrm>
          <a:prstGeom prst="rect">
            <a:avLst/>
          </a:prstGeom>
          <a:solidFill>
            <a:srgbClr val="de4d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495000" y="13510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-3240">
              <a:spcBef>
                <a:spcPts val="425"/>
              </a:spcBef>
              <a:buClr>
                <a:srgbClr val="de4d1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spcBef>
                <a:spcPts val="42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085760" indent="-120600">
              <a:spcBef>
                <a:spcPts val="425"/>
              </a:spcBef>
              <a:buClr>
                <a:srgbClr val="de4d1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25"/>
              </a:spcBef>
              <a:buClr>
                <a:srgbClr val="fa7902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25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2072880" y="620280"/>
            <a:ext cx="626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12"/>
          </p:nvPr>
        </p:nvSpPr>
        <p:spPr>
          <a:xfrm>
            <a:off x="2432160" y="6237360"/>
            <a:ext cx="181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Prep. by IG, D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. by 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dt" idx="13"/>
          </p:nvPr>
        </p:nvSpPr>
        <p:spPr>
          <a:xfrm>
            <a:off x="4447800" y="6237000"/>
            <a:ext cx="3605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Client] – [Misiun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4"/>
          </p:nvPr>
        </p:nvSpPr>
        <p:spPr>
          <a:xfrm>
            <a:off x="-130680" y="523800"/>
            <a:ext cx="4748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E422-C729-4932-B602-4A90555AD280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2.png"/><Relationship Id="rId3" Type="http://schemas.openxmlformats.org/officeDocument/2006/relationships/image" Target="../media/image40.png"/><Relationship Id="rId4" Type="http://schemas.openxmlformats.org/officeDocument/2006/relationships/image" Target="../media/image43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61.png"/><Relationship Id="rId8" Type="http://schemas.openxmlformats.org/officeDocument/2006/relationships/image" Target="../media/image62.png"/><Relationship Id="rId9" Type="http://schemas.openxmlformats.org/officeDocument/2006/relationships/image" Target="../media/image63.png"/><Relationship Id="rId10" Type="http://schemas.openxmlformats.org/officeDocument/2006/relationships/image" Target="../media/image64.png"/><Relationship Id="rId11" Type="http://schemas.openxmlformats.org/officeDocument/2006/relationships/image" Target="../media/image65.png"/><Relationship Id="rId12" Type="http://schemas.openxmlformats.org/officeDocument/2006/relationships/image" Target="../media/image66.png"/><Relationship Id="rId13" Type="http://schemas.openxmlformats.org/officeDocument/2006/relationships/image" Target="../media/image65.png"/><Relationship Id="rId14" Type="http://schemas.openxmlformats.org/officeDocument/2006/relationships/image" Target="../media/image67.png"/><Relationship Id="rId15" Type="http://schemas.openxmlformats.org/officeDocument/2006/relationships/image" Target="../media/image60.png"/><Relationship Id="rId16" Type="http://schemas.openxmlformats.org/officeDocument/2006/relationships/image" Target="../media/image68.png"/><Relationship Id="rId17" Type="http://schemas.openxmlformats.org/officeDocument/2006/relationships/image" Target="../media/image69.png"/><Relationship Id="rId18" Type="http://schemas.openxmlformats.org/officeDocument/2006/relationships/image" Target="../media/image70.png"/><Relationship Id="rId19" Type="http://schemas.openxmlformats.org/officeDocument/2006/relationships/image" Target="../media/image70.png"/><Relationship Id="rId20" Type="http://schemas.openxmlformats.org/officeDocument/2006/relationships/image" Target="../media/image71.png"/><Relationship Id="rId21" Type="http://schemas.openxmlformats.org/officeDocument/2006/relationships/image" Target="../media/image71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77.png"/><Relationship Id="rId7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3"/>
          <p:cNvSpPr/>
          <p:nvPr/>
        </p:nvSpPr>
        <p:spPr>
          <a:xfrm>
            <a:off x="880920" y="3071880"/>
            <a:ext cx="60040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7775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Strategia si planul de comunicare sunt elemente-cheie in designul procesului de restructurare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FE08-7E24-4660-8089-7EBDF99FD836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0" name="Group 38"/>
          <p:cNvGrpSpPr/>
          <p:nvPr/>
        </p:nvGrpSpPr>
        <p:grpSpPr>
          <a:xfrm>
            <a:off x="219240" y="1449000"/>
            <a:ext cx="6749640" cy="259560"/>
            <a:chOff x="219240" y="1449000"/>
            <a:chExt cx="6749640" cy="259560"/>
          </a:xfrm>
        </p:grpSpPr>
        <p:sp>
          <p:nvSpPr>
            <p:cNvPr id="881" name="Line 21"/>
            <p:cNvSpPr/>
            <p:nvPr/>
          </p:nvSpPr>
          <p:spPr>
            <a:xfrm>
              <a:off x="219240" y="1579320"/>
              <a:ext cx="67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Rectangle 22"/>
            <p:cNvSpPr/>
            <p:nvPr/>
          </p:nvSpPr>
          <p:spPr>
            <a:xfrm>
              <a:off x="1712160" y="1449000"/>
              <a:ext cx="3820680" cy="25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0" bIns="0" anchor="ctr">
              <a:spAutoFit/>
            </a:bodyPr>
            <a:p>
              <a:pPr marL="3240" indent="-3240"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</a:rPr>
                <a:t>Designul procesului de restructur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3" name="AutoShape 26"/>
          <p:cNvGrpSpPr/>
          <p:nvPr/>
        </p:nvGrpSpPr>
        <p:grpSpPr>
          <a:xfrm>
            <a:off x="2432160" y="1792440"/>
            <a:ext cx="2481120" cy="834840"/>
            <a:chOff x="2432160" y="1792440"/>
            <a:chExt cx="2481120" cy="834840"/>
          </a:xfrm>
        </p:grpSpPr>
        <p:pic>
          <p:nvPicPr>
            <p:cNvPr id="884" name="AutoShape 26" descr=""/>
            <p:cNvPicPr/>
            <p:nvPr/>
          </p:nvPicPr>
          <p:blipFill>
            <a:blip r:embed="rId1"/>
            <a:stretch/>
          </p:blipFill>
          <p:spPr>
            <a:xfrm>
              <a:off x="2432160" y="1792440"/>
              <a:ext cx="2481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2697120" y="1817640"/>
              <a:ext cx="1959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6" name="Rectangle 27"/>
          <p:cNvGrpSpPr/>
          <p:nvPr/>
        </p:nvGrpSpPr>
        <p:grpSpPr>
          <a:xfrm>
            <a:off x="2773440" y="1785960"/>
            <a:ext cx="2060640" cy="811080"/>
            <a:chOff x="2773440" y="1785960"/>
            <a:chExt cx="2060640" cy="811080"/>
          </a:xfrm>
        </p:grpSpPr>
        <p:pic>
          <p:nvPicPr>
            <p:cNvPr id="887" name="Rectangle 27" descr=""/>
            <p:cNvPicPr/>
            <p:nvPr/>
          </p:nvPicPr>
          <p:blipFill>
            <a:blip r:embed="rId2"/>
            <a:stretch/>
          </p:blipFill>
          <p:spPr>
            <a:xfrm>
              <a:off x="2773440" y="1785960"/>
              <a:ext cx="20606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"/>
            <p:cNvSpPr/>
            <p:nvPr/>
          </p:nvSpPr>
          <p:spPr>
            <a:xfrm>
              <a:off x="2792520" y="1805760"/>
              <a:ext cx="20286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Abordare strategica si tactic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9" name="AutoShape 30"/>
          <p:cNvGrpSpPr/>
          <p:nvPr/>
        </p:nvGrpSpPr>
        <p:grpSpPr>
          <a:xfrm>
            <a:off x="4675320" y="1792440"/>
            <a:ext cx="2481120" cy="834840"/>
            <a:chOff x="4675320" y="1792440"/>
            <a:chExt cx="2481120" cy="834840"/>
          </a:xfrm>
        </p:grpSpPr>
        <p:pic>
          <p:nvPicPr>
            <p:cNvPr id="890" name="AutoShape 30" descr=""/>
            <p:cNvPicPr/>
            <p:nvPr/>
          </p:nvPicPr>
          <p:blipFill>
            <a:blip r:embed="rId3"/>
            <a:stretch/>
          </p:blipFill>
          <p:spPr>
            <a:xfrm>
              <a:off x="4675320" y="1792440"/>
              <a:ext cx="2481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941720" y="1817640"/>
              <a:ext cx="1959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2" name="Rectangle 31"/>
          <p:cNvGrpSpPr/>
          <p:nvPr/>
        </p:nvGrpSpPr>
        <p:grpSpPr>
          <a:xfrm>
            <a:off x="4979880" y="1914480"/>
            <a:ext cx="2060640" cy="547560"/>
            <a:chOff x="4979880" y="1914480"/>
            <a:chExt cx="2060640" cy="547560"/>
          </a:xfrm>
        </p:grpSpPr>
        <p:pic>
          <p:nvPicPr>
            <p:cNvPr id="893" name="Rectangle 31" descr=""/>
            <p:cNvPicPr/>
            <p:nvPr/>
          </p:nvPicPr>
          <p:blipFill>
            <a:blip r:embed="rId4"/>
            <a:stretch/>
          </p:blipFill>
          <p:spPr>
            <a:xfrm>
              <a:off x="4979880" y="1914480"/>
              <a:ext cx="20606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4998960" y="1934640"/>
              <a:ext cx="2028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Plan de implement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5" name="AutoShape 32"/>
          <p:cNvGrpSpPr/>
          <p:nvPr/>
        </p:nvGrpSpPr>
        <p:grpSpPr>
          <a:xfrm>
            <a:off x="7211880" y="1792440"/>
            <a:ext cx="2486160" cy="834840"/>
            <a:chOff x="7211880" y="1792440"/>
            <a:chExt cx="2486160" cy="834840"/>
          </a:xfrm>
        </p:grpSpPr>
        <p:pic>
          <p:nvPicPr>
            <p:cNvPr id="896" name="AutoShape 32" descr=""/>
            <p:cNvPicPr/>
            <p:nvPr/>
          </p:nvPicPr>
          <p:blipFill>
            <a:blip r:embed="rId5"/>
            <a:stretch/>
          </p:blipFill>
          <p:spPr>
            <a:xfrm>
              <a:off x="7211880" y="1792440"/>
              <a:ext cx="2486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7481880" y="1817640"/>
              <a:ext cx="19591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8" name="Rectangle 33"/>
          <p:cNvGrpSpPr/>
          <p:nvPr/>
        </p:nvGrpSpPr>
        <p:grpSpPr>
          <a:xfrm>
            <a:off x="7454880" y="2048040"/>
            <a:ext cx="2176560" cy="287280"/>
            <a:chOff x="7454880" y="2048040"/>
            <a:chExt cx="2176560" cy="287280"/>
          </a:xfrm>
        </p:grpSpPr>
        <p:pic>
          <p:nvPicPr>
            <p:cNvPr id="899" name="Rectangle 33" descr=""/>
            <p:cNvPicPr/>
            <p:nvPr/>
          </p:nvPicPr>
          <p:blipFill>
            <a:blip r:embed="rId6"/>
            <a:stretch/>
          </p:blipFill>
          <p:spPr>
            <a:xfrm>
              <a:off x="7454880" y="2048040"/>
              <a:ext cx="21765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7473960" y="2063520"/>
              <a:ext cx="2147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Implement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1" name="Rectangle 34"/>
          <p:cNvSpPr/>
          <p:nvPr/>
        </p:nvSpPr>
        <p:spPr>
          <a:xfrm>
            <a:off x="57240" y="2733840"/>
            <a:ext cx="24303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tabilirea functiilor / rolurilor / posturilor / departamentelor / echipelor care vor fi eliminate din organizarea curent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obiectivelor procesului de restructurare (in conditii de timp si buget limitate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Rectangle 35"/>
          <p:cNvSpPr/>
          <p:nvPr/>
        </p:nvSpPr>
        <p:spPr>
          <a:xfrm>
            <a:off x="2505240" y="2733840"/>
            <a:ext cx="23605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criteriilor pe baza carora se va face restructurare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laborarea strategiei de restructurare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principalelor tactic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Rectangle 36"/>
          <p:cNvSpPr/>
          <p:nvPr/>
        </p:nvSpPr>
        <p:spPr>
          <a:xfrm>
            <a:off x="4665600" y="2733840"/>
            <a:ext cx="22273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laborarea planului detaliat de tranziti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laborarea planului de management al crizei / planuri de contingent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e4d14"/>
                </a:solidFill>
                <a:latin typeface="Tahoma"/>
                <a:ea typeface="Arial"/>
              </a:rPr>
              <a:t>Elaborarea strategiei si planului de comunica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 care va sustine procesul de restructur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Rectangle 42"/>
          <p:cNvSpPr/>
          <p:nvPr/>
        </p:nvSpPr>
        <p:spPr>
          <a:xfrm>
            <a:off x="272880" y="5514840"/>
            <a:ext cx="6767640" cy="166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Trebuie sa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tina cont de strategia si obiectivele procesului de restructurare in ansamblu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iba in vedere toti actorii procesului de restructurare (stakeholderi de proces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ntina planuri de contingenta si sa se bazeze pe scenarii multip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ermita definirea unor indicatori de performanta pentru succesul implementari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5" name="Rectangle 43"/>
          <p:cNvGrpSpPr/>
          <p:nvPr/>
        </p:nvGrpSpPr>
        <p:grpSpPr>
          <a:xfrm>
            <a:off x="255600" y="5194440"/>
            <a:ext cx="6815160" cy="261720"/>
            <a:chOff x="255600" y="5194440"/>
            <a:chExt cx="6815160" cy="261720"/>
          </a:xfrm>
        </p:grpSpPr>
        <p:pic>
          <p:nvPicPr>
            <p:cNvPr id="906" name="Rectangle 43" descr=""/>
            <p:cNvPicPr/>
            <p:nvPr/>
          </p:nvPicPr>
          <p:blipFill>
            <a:blip r:embed="rId7"/>
            <a:stretch/>
          </p:blipFill>
          <p:spPr>
            <a:xfrm>
              <a:off x="255600" y="5194440"/>
              <a:ext cx="68151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282600" y="5216400"/>
              <a:ext cx="67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trategia si planul de comunica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08" name="Rectangle 19"/>
          <p:cNvSpPr/>
          <p:nvPr/>
        </p:nvSpPr>
        <p:spPr>
          <a:xfrm>
            <a:off x="7238880" y="2679840"/>
            <a:ext cx="2571840" cy="278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actori cheie de succes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icarea din timp a sindicatelor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gocierea unor solutii comun aceptate pentru evitarea “conflictelor sociale”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lianta cu legislatia in vigoare si contractul colectiv de munca (criterii de selectie, informarea autoritatilor etc).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TextBox 20"/>
          <p:cNvSpPr/>
          <p:nvPr/>
        </p:nvSpPr>
        <p:spPr>
          <a:xfrm>
            <a:off x="9393480" y="312732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0" name="AutoShape 30"/>
          <p:cNvGrpSpPr/>
          <p:nvPr/>
        </p:nvGrpSpPr>
        <p:grpSpPr>
          <a:xfrm>
            <a:off x="165240" y="1785960"/>
            <a:ext cx="2481120" cy="834840"/>
            <a:chOff x="165240" y="1785960"/>
            <a:chExt cx="2481120" cy="834840"/>
          </a:xfrm>
        </p:grpSpPr>
        <p:pic>
          <p:nvPicPr>
            <p:cNvPr id="911" name="AutoShape 30" descr=""/>
            <p:cNvPicPr/>
            <p:nvPr/>
          </p:nvPicPr>
          <p:blipFill>
            <a:blip r:embed="rId8"/>
            <a:stretch/>
          </p:blipFill>
          <p:spPr>
            <a:xfrm>
              <a:off x="165240" y="1785960"/>
              <a:ext cx="2481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430200" y="1812960"/>
              <a:ext cx="1959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3" name="Rectangle 31"/>
          <p:cNvGrpSpPr/>
          <p:nvPr/>
        </p:nvGrpSpPr>
        <p:grpSpPr>
          <a:xfrm>
            <a:off x="469800" y="1914480"/>
            <a:ext cx="2060640" cy="547560"/>
            <a:chOff x="469800" y="1914480"/>
            <a:chExt cx="2060640" cy="547560"/>
          </a:xfrm>
        </p:grpSpPr>
        <p:pic>
          <p:nvPicPr>
            <p:cNvPr id="914" name="Rectangle 31" descr=""/>
            <p:cNvPicPr/>
            <p:nvPr/>
          </p:nvPicPr>
          <p:blipFill>
            <a:blip r:embed="rId9"/>
            <a:stretch/>
          </p:blipFill>
          <p:spPr>
            <a:xfrm>
              <a:off x="469800" y="1914480"/>
              <a:ext cx="20606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487440" y="1932120"/>
              <a:ext cx="202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Definirea nevoilor de restructur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Rectangle 2"/>
          <p:cNvGrpSpPr/>
          <p:nvPr/>
        </p:nvGrpSpPr>
        <p:grpSpPr>
          <a:xfrm>
            <a:off x="208080" y="3243240"/>
            <a:ext cx="9485280" cy="420840"/>
            <a:chOff x="208080" y="3243240"/>
            <a:chExt cx="9485280" cy="420840"/>
          </a:xfrm>
        </p:grpSpPr>
        <p:pic>
          <p:nvPicPr>
            <p:cNvPr id="917" name="Rectangle 2" descr=""/>
            <p:cNvPicPr/>
            <p:nvPr/>
          </p:nvPicPr>
          <p:blipFill>
            <a:blip r:embed="rId1"/>
            <a:stretch/>
          </p:blipFill>
          <p:spPr>
            <a:xfrm>
              <a:off x="208080" y="3243240"/>
              <a:ext cx="9485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230040" y="3270240"/>
              <a:ext cx="94442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19" name="Rectangle 4"/>
          <p:cNvGrpSpPr/>
          <p:nvPr/>
        </p:nvGrpSpPr>
        <p:grpSpPr>
          <a:xfrm>
            <a:off x="182520" y="1895400"/>
            <a:ext cx="9479160" cy="3131640"/>
            <a:chOff x="182520" y="1895400"/>
            <a:chExt cx="9479160" cy="3131640"/>
          </a:xfrm>
        </p:grpSpPr>
        <p:pic>
          <p:nvPicPr>
            <p:cNvPr id="920" name="Rectangle 4" descr=""/>
            <p:cNvPicPr/>
            <p:nvPr/>
          </p:nvPicPr>
          <p:blipFill>
            <a:blip r:embed="rId2"/>
            <a:stretch/>
          </p:blipFill>
          <p:spPr>
            <a:xfrm>
              <a:off x="182520" y="1895400"/>
              <a:ext cx="947916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200160" y="1916280"/>
              <a:ext cx="9448560" cy="31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rile: cine, cat, de ce?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tapele procesului de restructur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trategia de comunic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rea: scurt ghid de utiliz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23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DFBB-2E6C-4EBC-8D1F-626A42447D64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88880" y="275760"/>
            <a:ext cx="79646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Respectarea regulilor de comunicare este un element decisiv care poate garanta succesul restructurarii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26" name="Rectangle 3"/>
          <p:cNvSpPr/>
          <p:nvPr/>
        </p:nvSpPr>
        <p:spPr>
          <a:xfrm>
            <a:off x="326880" y="1327320"/>
            <a:ext cx="78487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ahoma"/>
              </a:rPr>
              <a:t>Strategia de comunicare implica decizii legate de: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73B5-F5F4-4CE6-BF2D-DA7C5ED6F724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8" name="Rectangle 28"/>
          <p:cNvGrpSpPr/>
          <p:nvPr/>
        </p:nvGrpSpPr>
        <p:grpSpPr>
          <a:xfrm>
            <a:off x="285840" y="1676520"/>
            <a:ext cx="2865240" cy="688680"/>
            <a:chOff x="285840" y="1676520"/>
            <a:chExt cx="2865240" cy="688680"/>
          </a:xfrm>
        </p:grpSpPr>
        <p:pic>
          <p:nvPicPr>
            <p:cNvPr id="929" name="Rectangle 28" descr=""/>
            <p:cNvPicPr/>
            <p:nvPr/>
          </p:nvPicPr>
          <p:blipFill>
            <a:blip r:embed="rId1"/>
            <a:stretch/>
          </p:blipFill>
          <p:spPr>
            <a:xfrm>
              <a:off x="285840" y="1676520"/>
              <a:ext cx="286524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309600" y="1700280"/>
              <a:ext cx="28256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95400" indent="17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radul de transparenta al procesului de restructura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1" name="Rectangle 29"/>
          <p:cNvGrpSpPr/>
          <p:nvPr/>
        </p:nvGrpSpPr>
        <p:grpSpPr>
          <a:xfrm>
            <a:off x="3438360" y="1676520"/>
            <a:ext cx="2779920" cy="688680"/>
            <a:chOff x="3438360" y="1676520"/>
            <a:chExt cx="2779920" cy="688680"/>
          </a:xfrm>
        </p:grpSpPr>
        <p:pic>
          <p:nvPicPr>
            <p:cNvPr id="932" name="Rectangle 29" descr=""/>
            <p:cNvPicPr/>
            <p:nvPr/>
          </p:nvPicPr>
          <p:blipFill>
            <a:blip r:embed="rId2"/>
            <a:stretch/>
          </p:blipFill>
          <p:spPr>
            <a:xfrm>
              <a:off x="3438360" y="1676520"/>
              <a:ext cx="27799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3" name=""/>
            <p:cNvSpPr/>
            <p:nvPr/>
          </p:nvSpPr>
          <p:spPr>
            <a:xfrm>
              <a:off x="3460680" y="1700280"/>
              <a:ext cx="2737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95400" indent="17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radul si modul de implicare al actorilor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4" name="Rectangle 30"/>
          <p:cNvGrpSpPr/>
          <p:nvPr/>
        </p:nvGrpSpPr>
        <p:grpSpPr>
          <a:xfrm>
            <a:off x="6480000" y="1676520"/>
            <a:ext cx="2713320" cy="688680"/>
            <a:chOff x="6480000" y="1676520"/>
            <a:chExt cx="2713320" cy="688680"/>
          </a:xfrm>
        </p:grpSpPr>
        <p:pic>
          <p:nvPicPr>
            <p:cNvPr id="935" name="Rectangle 30" descr=""/>
            <p:cNvPicPr/>
            <p:nvPr/>
          </p:nvPicPr>
          <p:blipFill>
            <a:blip r:embed="rId3"/>
            <a:stretch/>
          </p:blipFill>
          <p:spPr>
            <a:xfrm>
              <a:off x="6480000" y="1676520"/>
              <a:ext cx="27133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6" name=""/>
            <p:cNvSpPr/>
            <p:nvPr/>
          </p:nvSpPr>
          <p:spPr>
            <a:xfrm>
              <a:off x="6507000" y="1700280"/>
              <a:ext cx="266544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95400" indent="17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laborarea si difuzarea mesajelor-chei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37" name="Rectangle 24"/>
          <p:cNvSpPr/>
          <p:nvPr/>
        </p:nvSpPr>
        <p:spPr>
          <a:xfrm>
            <a:off x="291960" y="2479680"/>
            <a:ext cx="2803680" cy="951120"/>
          </a:xfrm>
          <a:prstGeom prst="rect">
            <a:avLst/>
          </a:prstGeom>
          <a:noFill/>
          <a:ln w="9360">
            <a:solidFill>
              <a:srgbClr val="fa79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trategia transparentei total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 preteaza atunci cand procesul este dictat de factori externi care nu pot fi controlati sau influentati de management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8" name="Rectangle 25"/>
          <p:cNvSpPr/>
          <p:nvPr/>
        </p:nvSpPr>
        <p:spPr>
          <a:xfrm>
            <a:off x="3232080" y="2482920"/>
            <a:ext cx="3006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Frecventa implicarii in comunicare a stakeholderil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Gradul de detaliu al comunicarii cu diversi stakeholder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Continutul comunicarii cu fiecare categorie de stakeholder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Modul de implicare al stakeholderilor: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ctori pasivi – receptori de informati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ctori interactivi – primesc si transmit informatii relevante in procesul de restructur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ctori activi – emitenti si prescriptori  - agenti ai schimbarii care preiau informatiile / mesajele si le difuzeaza catre grupurile in care sunt influenti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Rectangle 26"/>
          <p:cNvSpPr/>
          <p:nvPr/>
        </p:nvSpPr>
        <p:spPr>
          <a:xfrm>
            <a:off x="6381720" y="2479680"/>
            <a:ext cx="3214800" cy="32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gmentarea continutului comunicarii si formularea lui in functie de :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takeholderi (profil, nevoi de informare, asteptari, interese etc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Obiectiv (comportament asteptat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Etapa in procesul de restructur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Comunicari anterio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lectia canalelor si instrumentelor de comunic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Definirea dependentelor de proces, factorilor cheie de succes si a riscurilor majore in procesul de comunic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0" name="Rectangle 30"/>
          <p:cNvGrpSpPr/>
          <p:nvPr/>
        </p:nvGrpSpPr>
        <p:grpSpPr>
          <a:xfrm>
            <a:off x="6480000" y="5546880"/>
            <a:ext cx="2706840" cy="1188720"/>
            <a:chOff x="6480000" y="5546880"/>
            <a:chExt cx="2706840" cy="1188720"/>
          </a:xfrm>
        </p:grpSpPr>
        <p:pic>
          <p:nvPicPr>
            <p:cNvPr id="941" name="Rectangle 30" descr=""/>
            <p:cNvPicPr/>
            <p:nvPr/>
          </p:nvPicPr>
          <p:blipFill>
            <a:blip r:embed="rId4"/>
            <a:stretch/>
          </p:blipFill>
          <p:spPr>
            <a:xfrm>
              <a:off x="6480000" y="5546880"/>
              <a:ext cx="270684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2" name=""/>
            <p:cNvSpPr/>
            <p:nvPr/>
          </p:nvSpPr>
          <p:spPr>
            <a:xfrm>
              <a:off x="6505560" y="5572080"/>
              <a:ext cx="26654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95400" indent="1728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gulile de comunicare: cine, ce, despre ce, cat, cum si, mai ales, cand vorbeste?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3" name="TextBox 11"/>
          <p:cNvGrpSpPr/>
          <p:nvPr/>
        </p:nvGrpSpPr>
        <p:grpSpPr>
          <a:xfrm>
            <a:off x="9425160" y="5840280"/>
            <a:ext cx="322200" cy="493920"/>
            <a:chOff x="9425160" y="5840280"/>
            <a:chExt cx="322200" cy="493920"/>
          </a:xfrm>
        </p:grpSpPr>
        <p:pic>
          <p:nvPicPr>
            <p:cNvPr id="944" name="TextBox 11" descr=""/>
            <p:cNvPicPr/>
            <p:nvPr/>
          </p:nvPicPr>
          <p:blipFill>
            <a:blip r:embed="rId5"/>
            <a:stretch/>
          </p:blipFill>
          <p:spPr>
            <a:xfrm>
              <a:off x="9425160" y="5840280"/>
              <a:ext cx="32220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"/>
            <p:cNvSpPr/>
            <p:nvPr/>
          </p:nvSpPr>
          <p:spPr>
            <a:xfrm>
              <a:off x="9455400" y="5857920"/>
              <a:ext cx="2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ahoma"/>
                </a:rPr>
                <a:t>!</a:t>
              </a: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6" name="Rectangle 24"/>
          <p:cNvSpPr/>
          <p:nvPr/>
        </p:nvSpPr>
        <p:spPr>
          <a:xfrm>
            <a:off x="291960" y="3843360"/>
            <a:ext cx="2803680" cy="1498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trategia transparentei partial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este necesara atunci cand motivatiile reale ale procesului de restructurare nu pot fi facute publice; trebuie asigurata transparenta asupra criteriilor de disponibilizare si a procesului de restructurare in ansamblu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Rectangle 24"/>
          <p:cNvSpPr/>
          <p:nvPr/>
        </p:nvSpPr>
        <p:spPr>
          <a:xfrm>
            <a:off x="291960" y="5656320"/>
            <a:ext cx="2803680" cy="951120"/>
          </a:xfrm>
          <a:prstGeom prst="rect">
            <a:avLst/>
          </a:prstGeom>
          <a:solidFill>
            <a:srgbClr val="7f7f7f"/>
          </a:solidFill>
          <a:ln w="9360">
            <a:solidFill>
              <a:srgbClr val="2307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Strategia informarii minimale   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00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Arial"/>
              </a:rPr>
              <a:t>este ceruta uneori pentru a reduce riscuri semnificative: legale, financiare, operationale sau de imagine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Ideinficarea si profiling-ul stakeholderilor din proces ne ajuta sa intelegem cu cine, despre ce si cum trebuie sa vorbim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E52-8602-43BC-95F3-06061911EB55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Freeform 24"/>
          <p:cNvSpPr/>
          <p:nvPr/>
        </p:nvSpPr>
        <p:spPr>
          <a:xfrm flipH="1" flipV="1">
            <a:off x="767520" y="5353200"/>
            <a:ext cx="3646440" cy="52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Freeform 25"/>
          <p:cNvSpPr/>
          <p:nvPr/>
        </p:nvSpPr>
        <p:spPr>
          <a:xfrm flipH="1">
            <a:off x="767520" y="3476520"/>
            <a:ext cx="3646440" cy="528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Freeform 26"/>
          <p:cNvSpPr/>
          <p:nvPr/>
        </p:nvSpPr>
        <p:spPr>
          <a:xfrm flipH="1">
            <a:off x="767520" y="4278240"/>
            <a:ext cx="3646440" cy="528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Freeform 27"/>
          <p:cNvSpPr/>
          <p:nvPr/>
        </p:nvSpPr>
        <p:spPr>
          <a:xfrm flipH="1" flipV="1">
            <a:off x="767520" y="4551480"/>
            <a:ext cx="3646440" cy="52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Freeform 28"/>
          <p:cNvSpPr/>
          <p:nvPr/>
        </p:nvSpPr>
        <p:spPr>
          <a:xfrm flipV="1">
            <a:off x="5492880" y="5353200"/>
            <a:ext cx="3646440" cy="52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Freeform 29"/>
          <p:cNvSpPr/>
          <p:nvPr/>
        </p:nvSpPr>
        <p:spPr>
          <a:xfrm>
            <a:off x="5492880" y="3476520"/>
            <a:ext cx="3646440" cy="528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Rectangle 30"/>
          <p:cNvSpPr/>
          <p:nvPr/>
        </p:nvSpPr>
        <p:spPr>
          <a:xfrm>
            <a:off x="7570080" y="3141000"/>
            <a:ext cx="1622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 algn="r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Comunitat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Rectangle 31"/>
          <p:cNvSpPr/>
          <p:nvPr/>
        </p:nvSpPr>
        <p:spPr>
          <a:xfrm>
            <a:off x="469080" y="3040920"/>
            <a:ext cx="3780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Angajati (disponibilizati/ pastrati)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Rectangle 32"/>
          <p:cNvSpPr/>
          <p:nvPr/>
        </p:nvSpPr>
        <p:spPr>
          <a:xfrm>
            <a:off x="8100000" y="3939480"/>
            <a:ext cx="1067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 algn="r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Clienti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Rectangle 33"/>
          <p:cNvSpPr/>
          <p:nvPr/>
        </p:nvSpPr>
        <p:spPr>
          <a:xfrm>
            <a:off x="7553880" y="4739400"/>
            <a:ext cx="1648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 algn="r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Distribuitori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Rectangle 34"/>
          <p:cNvSpPr/>
          <p:nvPr/>
        </p:nvSpPr>
        <p:spPr>
          <a:xfrm>
            <a:off x="7848360" y="5547600"/>
            <a:ext cx="133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 algn="r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Furnizori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Rectangle 35"/>
          <p:cNvSpPr/>
          <p:nvPr/>
        </p:nvSpPr>
        <p:spPr>
          <a:xfrm>
            <a:off x="519840" y="5547600"/>
            <a:ext cx="133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Actionari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Rectangle 36"/>
          <p:cNvSpPr/>
          <p:nvPr/>
        </p:nvSpPr>
        <p:spPr>
          <a:xfrm>
            <a:off x="533160" y="4739400"/>
            <a:ext cx="1407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Sindicate 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Rectangle 37"/>
          <p:cNvSpPr/>
          <p:nvPr/>
        </p:nvSpPr>
        <p:spPr>
          <a:xfrm>
            <a:off x="472320" y="3898080"/>
            <a:ext cx="341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>
              <a:lnSpc>
                <a:spcPct val="100000"/>
              </a:lnSpc>
              <a:spcBef>
                <a:spcPts val="425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Management (direct/indirect)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Freeform 38"/>
          <p:cNvSpPr/>
          <p:nvPr/>
        </p:nvSpPr>
        <p:spPr>
          <a:xfrm>
            <a:off x="5492880" y="4278240"/>
            <a:ext cx="3646440" cy="528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Freeform 39"/>
          <p:cNvSpPr/>
          <p:nvPr/>
        </p:nvSpPr>
        <p:spPr>
          <a:xfrm flipV="1">
            <a:off x="5492880" y="4551480"/>
            <a:ext cx="3646440" cy="528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6" name="Oval 40"/>
          <p:cNvGrpSpPr/>
          <p:nvPr/>
        </p:nvGrpSpPr>
        <p:grpSpPr>
          <a:xfrm>
            <a:off x="3902040" y="3614760"/>
            <a:ext cx="2097000" cy="2090880"/>
            <a:chOff x="3902040" y="3614760"/>
            <a:chExt cx="2097000" cy="2090880"/>
          </a:xfrm>
        </p:grpSpPr>
        <p:pic>
          <p:nvPicPr>
            <p:cNvPr id="967" name="Oval 40" descr=""/>
            <p:cNvPicPr/>
            <p:nvPr/>
          </p:nvPicPr>
          <p:blipFill>
            <a:blip r:embed="rId1"/>
            <a:stretch/>
          </p:blipFill>
          <p:spPr>
            <a:xfrm>
              <a:off x="3902040" y="3614760"/>
              <a:ext cx="2097000" cy="20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4229280" y="3936960"/>
              <a:ext cx="144936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9" name="Rectangle 41"/>
          <p:cNvSpPr/>
          <p:nvPr/>
        </p:nvSpPr>
        <p:spPr>
          <a:xfrm>
            <a:off x="4024440" y="4403160"/>
            <a:ext cx="18572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3240" indent="-324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Stakeholderi de proces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Rectangle 42"/>
          <p:cNvSpPr/>
          <p:nvPr/>
        </p:nvSpPr>
        <p:spPr>
          <a:xfrm>
            <a:off x="7435080" y="6241320"/>
            <a:ext cx="1744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1" marL="426960" indent="-244440" algn="r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MASS MEDIA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Rectangle 43"/>
          <p:cNvSpPr/>
          <p:nvPr/>
        </p:nvSpPr>
        <p:spPr>
          <a:xfrm>
            <a:off x="585720" y="1768320"/>
            <a:ext cx="6767640" cy="72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Trebuie sa tina cont de structura si dinamica intereselor diverselor grupur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Un segment este un grup de indivizi animati de interese / aspiratii si nevoi simil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i care vor reactiona cel mai probabil in mod similar la anumiti stimul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2" name="Rectangle 44"/>
          <p:cNvGrpSpPr/>
          <p:nvPr/>
        </p:nvGrpSpPr>
        <p:grpSpPr>
          <a:xfrm>
            <a:off x="573120" y="1444680"/>
            <a:ext cx="6808680" cy="268200"/>
            <a:chOff x="573120" y="1444680"/>
            <a:chExt cx="6808680" cy="268200"/>
          </a:xfrm>
        </p:grpSpPr>
        <p:pic>
          <p:nvPicPr>
            <p:cNvPr id="973" name="Rectangle 44" descr=""/>
            <p:cNvPicPr/>
            <p:nvPr/>
          </p:nvPicPr>
          <p:blipFill>
            <a:blip r:embed="rId2"/>
            <a:stretch/>
          </p:blipFill>
          <p:spPr>
            <a:xfrm>
              <a:off x="573120" y="1444680"/>
              <a:ext cx="680868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595440" y="1469880"/>
              <a:ext cx="676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egmentarea grupurilor tinta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75" name="TextBox 25"/>
          <p:cNvSpPr/>
          <p:nvPr/>
        </p:nvSpPr>
        <p:spPr>
          <a:xfrm>
            <a:off x="189360" y="189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Matricea de comunicare ofera o imagine de ansamblu asupra stakeholderilor, canalelor si instrumentelor de comunicare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77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C086-264D-4E09-848D-465EFF4485B2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78" name=""/>
          <p:cNvGraphicFramePr/>
          <p:nvPr/>
        </p:nvGraphicFramePr>
        <p:xfrm>
          <a:off x="380880" y="1857240"/>
          <a:ext cx="9144000" cy="2489400"/>
        </p:xfrm>
        <a:graphic>
          <a:graphicData uri="http://schemas.openxmlformats.org/drawingml/2006/table">
            <a:tbl>
              <a:tblPr/>
              <a:tblGrid>
                <a:gridCol w="1636920"/>
                <a:gridCol w="1160280"/>
                <a:gridCol w="1082880"/>
                <a:gridCol w="1060200"/>
                <a:gridCol w="1168560"/>
                <a:gridCol w="801720"/>
                <a:gridCol w="1268280"/>
                <a:gridCol w="965160"/>
              </a:tblGrid>
              <a:tr h="766800">
                <a:tc>
                  <a:txBody>
                    <a:bodyPr lIns="90000" rIns="90000" tIns="82800" bIns="82800" anchor="t">
                      <a:noAutofit/>
                    </a:bodyPr>
                    <a:p>
                      <a:pPr algn="r"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230725"/>
                          </a:solidFill>
                          <a:latin typeface="Tahoma"/>
                          <a:ea typeface="Arial"/>
                        </a:rPr>
                        <a:t>                </a:t>
                      </a:r>
                      <a:r>
                        <a:rPr b="1" i="1" lang="en-US" sz="1100" spc="-1" strike="noStrike">
                          <a:solidFill>
                            <a:srgbClr val="230725"/>
                          </a:solidFill>
                          <a:latin typeface="Tahoma"/>
                          <a:ea typeface="Arial"/>
                        </a:rPr>
                        <a:t>Media &amp; instrument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230725"/>
                          </a:solidFill>
                          <a:latin typeface="Tahoma"/>
                          <a:ea typeface="Arial"/>
                        </a:rPr>
                        <a:t>Stake-</a:t>
                      </a:r>
                      <a:br>
                        <a:rPr sz="1100"/>
                      </a:br>
                      <a:r>
                        <a:rPr b="1" i="1" lang="en-US" sz="1100" spc="-1" strike="noStrike">
                          <a:solidFill>
                            <a:srgbClr val="230725"/>
                          </a:solidFill>
                          <a:latin typeface="Tahoma"/>
                          <a:ea typeface="Arial"/>
                        </a:rPr>
                        <a:t>holder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ezentar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gocier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nfo fai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iscutii individua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-ma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Info paper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tatus repor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a7902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Executive Boar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anagemen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indicat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utoritat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ngajat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</a:tr>
              <a:tr h="333360"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lienti intern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4d14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  <a:tc>
                  <a:txBody>
                    <a:bodyPr lIns="90000" rIns="90000" tIns="82800" bIns="82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6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2a27e"/>
                    </a:solidFill>
                  </a:tcPr>
                </a:tc>
              </a:tr>
            </a:tbl>
          </a:graphicData>
        </a:graphic>
      </p:graphicFrame>
      <p:sp>
        <p:nvSpPr>
          <p:cNvPr id="979" name="Rectangle 16"/>
          <p:cNvSpPr/>
          <p:nvPr/>
        </p:nvSpPr>
        <p:spPr>
          <a:xfrm>
            <a:off x="523800" y="1434960"/>
            <a:ext cx="78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atricea de comunicare interna in procesul de restructurare (exemplu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43"/>
          <p:cNvSpPr/>
          <p:nvPr/>
        </p:nvSpPr>
        <p:spPr>
          <a:xfrm>
            <a:off x="360360" y="4941720"/>
            <a:ext cx="6767640" cy="158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obilizarea are loc atunci cand receptorii sunt implicati activ si sunt invitati sa se exprime si sa devina initiatori ai procesului de comunic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municare directa, prin discutii fata in fata, este cruciala in procesul de restructur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ulegerea feedback-ului diversilor stakeholderi fata de anumite etape-cheie din procesul de restructurare este vitala pentru intelegerea modului in care comunicarea ar trebui re-calibrata pentru atingerea obiectivel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1" name="Rectangle 44"/>
          <p:cNvGrpSpPr/>
          <p:nvPr/>
        </p:nvGrpSpPr>
        <p:grpSpPr>
          <a:xfrm>
            <a:off x="347760" y="4621320"/>
            <a:ext cx="6808680" cy="261720"/>
            <a:chOff x="347760" y="4621320"/>
            <a:chExt cx="6808680" cy="261720"/>
          </a:xfrm>
        </p:grpSpPr>
        <p:pic>
          <p:nvPicPr>
            <p:cNvPr id="982" name="Rectangle 44" descr=""/>
            <p:cNvPicPr/>
            <p:nvPr/>
          </p:nvPicPr>
          <p:blipFill>
            <a:blip r:embed="rId1"/>
            <a:stretch/>
          </p:blipFill>
          <p:spPr>
            <a:xfrm>
              <a:off x="347760" y="4621320"/>
              <a:ext cx="68086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369720" y="4643280"/>
              <a:ext cx="67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Comunicare vs mobiliza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84" name="TextBox 8"/>
          <p:cNvSpPr/>
          <p:nvPr/>
        </p:nvSpPr>
        <p:spPr>
          <a:xfrm>
            <a:off x="35280" y="50720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In comunicarea cu angajatii, complianta cu masurile si actiunile propuse devine obiectivul principal in caz de restructurare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986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1E64-B9D2-406E-8F3F-A19B85BEAE44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7" name="Rectangle 26"/>
          <p:cNvGrpSpPr/>
          <p:nvPr/>
        </p:nvGrpSpPr>
        <p:grpSpPr>
          <a:xfrm>
            <a:off x="7126200" y="2432160"/>
            <a:ext cx="2567160" cy="4017960"/>
            <a:chOff x="7126200" y="2432160"/>
            <a:chExt cx="2567160" cy="4017960"/>
          </a:xfrm>
        </p:grpSpPr>
        <p:pic>
          <p:nvPicPr>
            <p:cNvPr id="988" name="Rectangle 26" descr=""/>
            <p:cNvPicPr/>
            <p:nvPr/>
          </p:nvPicPr>
          <p:blipFill>
            <a:blip r:embed="rId1"/>
            <a:stretch/>
          </p:blipFill>
          <p:spPr>
            <a:xfrm>
              <a:off x="7126200" y="2432160"/>
              <a:ext cx="2567160" cy="40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"/>
            <p:cNvSpPr/>
            <p:nvPr/>
          </p:nvSpPr>
          <p:spPr>
            <a:xfrm>
              <a:off x="7151760" y="2457360"/>
              <a:ext cx="2522520" cy="39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0" name="Text Box 27"/>
          <p:cNvGrpSpPr/>
          <p:nvPr/>
        </p:nvGrpSpPr>
        <p:grpSpPr>
          <a:xfrm>
            <a:off x="7132680" y="2444760"/>
            <a:ext cx="1803240" cy="3992400"/>
            <a:chOff x="7132680" y="2444760"/>
            <a:chExt cx="1803240" cy="3992400"/>
          </a:xfrm>
        </p:grpSpPr>
        <p:pic>
          <p:nvPicPr>
            <p:cNvPr id="991" name="Text Box 27" descr=""/>
            <p:cNvPicPr/>
            <p:nvPr/>
          </p:nvPicPr>
          <p:blipFill>
            <a:blip r:embed="rId2"/>
            <a:stretch/>
          </p:blipFill>
          <p:spPr>
            <a:xfrm>
              <a:off x="7132680" y="2444760"/>
              <a:ext cx="1803240" cy="39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>
              <a:off x="7151760" y="2462040"/>
              <a:ext cx="1771560" cy="39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57160"/>
                  <a:tab algn="l" pos="1714680"/>
                  <a:tab algn="l" pos="2571840"/>
                  <a:tab algn="l" pos="3429000"/>
                  <a:tab algn="l" pos="4286160"/>
                  <a:tab algn="l" pos="5143680"/>
                  <a:tab algn="l" pos="6000840"/>
                  <a:tab algn="l" pos="6858000"/>
                  <a:tab algn="l" pos="7715160"/>
                  <a:tab algn="l" pos="8572680"/>
                  <a:tab algn="l" pos="9429840"/>
                  <a:tab algn="l" pos="102870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3" name="AutoShape 29"/>
          <p:cNvGrpSpPr/>
          <p:nvPr/>
        </p:nvGrpSpPr>
        <p:grpSpPr>
          <a:xfrm>
            <a:off x="3346560" y="2432160"/>
            <a:ext cx="4413240" cy="1927080"/>
            <a:chOff x="3346560" y="2432160"/>
            <a:chExt cx="4413240" cy="1927080"/>
          </a:xfrm>
        </p:grpSpPr>
        <p:pic>
          <p:nvPicPr>
            <p:cNvPr id="994" name="AutoShape 29" descr=""/>
            <p:cNvPicPr/>
            <p:nvPr/>
          </p:nvPicPr>
          <p:blipFill>
            <a:blip r:embed="rId3"/>
            <a:stretch/>
          </p:blipFill>
          <p:spPr>
            <a:xfrm>
              <a:off x="3346560" y="2432160"/>
              <a:ext cx="4413240" cy="19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3368520" y="2457360"/>
              <a:ext cx="42372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6" name="AutoShape 30"/>
          <p:cNvGrpSpPr/>
          <p:nvPr/>
        </p:nvGrpSpPr>
        <p:grpSpPr>
          <a:xfrm>
            <a:off x="3346560" y="4522680"/>
            <a:ext cx="4413240" cy="1927440"/>
            <a:chOff x="3346560" y="4522680"/>
            <a:chExt cx="4413240" cy="1927440"/>
          </a:xfrm>
        </p:grpSpPr>
        <p:pic>
          <p:nvPicPr>
            <p:cNvPr id="997" name="AutoShape 30" descr=""/>
            <p:cNvPicPr/>
            <p:nvPr/>
          </p:nvPicPr>
          <p:blipFill>
            <a:blip r:embed="rId4"/>
            <a:stretch/>
          </p:blipFill>
          <p:spPr>
            <a:xfrm>
              <a:off x="3346560" y="4522680"/>
              <a:ext cx="441324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8" name=""/>
            <p:cNvSpPr/>
            <p:nvPr/>
          </p:nvSpPr>
          <p:spPr>
            <a:xfrm>
              <a:off x="3368520" y="4546440"/>
              <a:ext cx="42372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9" name="Rectangle 28"/>
          <p:cNvGrpSpPr/>
          <p:nvPr/>
        </p:nvGrpSpPr>
        <p:grpSpPr>
          <a:xfrm>
            <a:off x="195120" y="2432160"/>
            <a:ext cx="2949840" cy="920520"/>
            <a:chOff x="195120" y="2432160"/>
            <a:chExt cx="2949840" cy="920520"/>
          </a:xfrm>
        </p:grpSpPr>
        <p:pic>
          <p:nvPicPr>
            <p:cNvPr id="1000" name="Rectangle 28" descr=""/>
            <p:cNvPicPr/>
            <p:nvPr/>
          </p:nvPicPr>
          <p:blipFill>
            <a:blip r:embed="rId5"/>
            <a:stretch/>
          </p:blipFill>
          <p:spPr>
            <a:xfrm>
              <a:off x="195120" y="2432160"/>
              <a:ext cx="294984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1" name=""/>
            <p:cNvSpPr/>
            <p:nvPr/>
          </p:nvSpPr>
          <p:spPr>
            <a:xfrm>
              <a:off x="217440" y="2457360"/>
              <a:ext cx="290988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2" name="Rectangle 31"/>
          <p:cNvGrpSpPr/>
          <p:nvPr/>
        </p:nvGrpSpPr>
        <p:grpSpPr>
          <a:xfrm>
            <a:off x="311040" y="2523960"/>
            <a:ext cx="2706840" cy="285840"/>
            <a:chOff x="311040" y="2523960"/>
            <a:chExt cx="2706840" cy="285840"/>
          </a:xfrm>
        </p:grpSpPr>
        <p:pic>
          <p:nvPicPr>
            <p:cNvPr id="1003" name="Rectangle 31" descr=""/>
            <p:cNvPicPr/>
            <p:nvPr/>
          </p:nvPicPr>
          <p:blipFill>
            <a:blip r:embed="rId6"/>
            <a:stretch/>
          </p:blipFill>
          <p:spPr>
            <a:xfrm>
              <a:off x="311040" y="2523960"/>
              <a:ext cx="270684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"/>
            <p:cNvSpPr/>
            <p:nvPr/>
          </p:nvSpPr>
          <p:spPr>
            <a:xfrm>
              <a:off x="330120" y="2541240"/>
              <a:ext cx="267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Atenti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5" name="Rectangle 33"/>
          <p:cNvGrpSpPr/>
          <p:nvPr/>
        </p:nvGrpSpPr>
        <p:grpSpPr>
          <a:xfrm>
            <a:off x="3267000" y="2505240"/>
            <a:ext cx="3895920" cy="287280"/>
            <a:chOff x="3267000" y="2505240"/>
            <a:chExt cx="3895920" cy="287280"/>
          </a:xfrm>
        </p:grpSpPr>
        <p:pic>
          <p:nvPicPr>
            <p:cNvPr id="1006" name="Rectangle 33" descr=""/>
            <p:cNvPicPr/>
            <p:nvPr/>
          </p:nvPicPr>
          <p:blipFill>
            <a:blip r:embed="rId7"/>
            <a:stretch/>
          </p:blipFill>
          <p:spPr>
            <a:xfrm>
              <a:off x="3267000" y="2505240"/>
              <a:ext cx="38959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3282840" y="2521080"/>
              <a:ext cx="386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onstientiz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8" name="Rectangle 34"/>
          <p:cNvGrpSpPr/>
          <p:nvPr/>
        </p:nvGrpSpPr>
        <p:grpSpPr>
          <a:xfrm>
            <a:off x="3267000" y="4591080"/>
            <a:ext cx="3895920" cy="291960"/>
            <a:chOff x="3267000" y="4591080"/>
            <a:chExt cx="3895920" cy="291960"/>
          </a:xfrm>
        </p:grpSpPr>
        <p:pic>
          <p:nvPicPr>
            <p:cNvPr id="1009" name="Rectangle 34" descr=""/>
            <p:cNvPicPr/>
            <p:nvPr/>
          </p:nvPicPr>
          <p:blipFill>
            <a:blip r:embed="rId8"/>
            <a:stretch/>
          </p:blipFill>
          <p:spPr>
            <a:xfrm>
              <a:off x="3267000" y="4591080"/>
              <a:ext cx="3895920" cy="29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3282840" y="4610160"/>
              <a:ext cx="3868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um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1" name="Rectangle 35"/>
          <p:cNvGrpSpPr/>
          <p:nvPr/>
        </p:nvGrpSpPr>
        <p:grpSpPr>
          <a:xfrm>
            <a:off x="7888320" y="3511440"/>
            <a:ext cx="1798560" cy="1859040"/>
            <a:chOff x="7888320" y="3511440"/>
            <a:chExt cx="1798560" cy="1859040"/>
          </a:xfrm>
        </p:grpSpPr>
        <p:pic>
          <p:nvPicPr>
            <p:cNvPr id="1012" name="Rectangle 35" descr=""/>
            <p:cNvPicPr/>
            <p:nvPr/>
          </p:nvPicPr>
          <p:blipFill>
            <a:blip r:embed="rId9"/>
            <a:stretch/>
          </p:blipFill>
          <p:spPr>
            <a:xfrm>
              <a:off x="7888320" y="3511440"/>
              <a:ext cx="1798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3" name=""/>
            <p:cNvSpPr/>
            <p:nvPr/>
          </p:nvSpPr>
          <p:spPr>
            <a:xfrm>
              <a:off x="7905600" y="3529080"/>
              <a:ext cx="1768680" cy="18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odelul AID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daptat l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“</a:t>
              </a: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EST Option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vailable”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ernal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arketing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4" name="Rectangle 37"/>
          <p:cNvGrpSpPr/>
          <p:nvPr/>
        </p:nvGrpSpPr>
        <p:grpSpPr>
          <a:xfrm>
            <a:off x="195120" y="3438360"/>
            <a:ext cx="2949840" cy="920880"/>
            <a:chOff x="195120" y="3438360"/>
            <a:chExt cx="2949840" cy="920880"/>
          </a:xfrm>
        </p:grpSpPr>
        <p:pic>
          <p:nvPicPr>
            <p:cNvPr id="1015" name="Rectangle 37" descr=""/>
            <p:cNvPicPr/>
            <p:nvPr/>
          </p:nvPicPr>
          <p:blipFill>
            <a:blip r:embed="rId10"/>
            <a:stretch/>
          </p:blipFill>
          <p:spPr>
            <a:xfrm>
              <a:off x="195120" y="3438360"/>
              <a:ext cx="294984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219240" y="3465360"/>
              <a:ext cx="2909880" cy="87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7" name="Rectangle 38"/>
          <p:cNvGrpSpPr/>
          <p:nvPr/>
        </p:nvGrpSpPr>
        <p:grpSpPr>
          <a:xfrm>
            <a:off x="311040" y="3529080"/>
            <a:ext cx="2713320" cy="293760"/>
            <a:chOff x="311040" y="3529080"/>
            <a:chExt cx="2713320" cy="293760"/>
          </a:xfrm>
        </p:grpSpPr>
        <p:pic>
          <p:nvPicPr>
            <p:cNvPr id="1018" name="Rectangle 38" descr=""/>
            <p:cNvPicPr/>
            <p:nvPr/>
          </p:nvPicPr>
          <p:blipFill>
            <a:blip r:embed="rId11"/>
            <a:stretch/>
          </p:blipFill>
          <p:spPr>
            <a:xfrm>
              <a:off x="311040" y="3529080"/>
              <a:ext cx="271332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9" name=""/>
            <p:cNvSpPr/>
            <p:nvPr/>
          </p:nvSpPr>
          <p:spPr>
            <a:xfrm>
              <a:off x="331920" y="3549240"/>
              <a:ext cx="267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Interes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0" name="Rectangle 39"/>
          <p:cNvGrpSpPr/>
          <p:nvPr/>
        </p:nvGrpSpPr>
        <p:grpSpPr>
          <a:xfrm>
            <a:off x="195120" y="4522680"/>
            <a:ext cx="2949840" cy="914400"/>
            <a:chOff x="195120" y="4522680"/>
            <a:chExt cx="2949840" cy="914400"/>
          </a:xfrm>
        </p:grpSpPr>
        <p:pic>
          <p:nvPicPr>
            <p:cNvPr id="1021" name="Rectangle 39" descr=""/>
            <p:cNvPicPr/>
            <p:nvPr/>
          </p:nvPicPr>
          <p:blipFill>
            <a:blip r:embed="rId12"/>
            <a:stretch/>
          </p:blipFill>
          <p:spPr>
            <a:xfrm>
              <a:off x="195120" y="4522680"/>
              <a:ext cx="29498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"/>
            <p:cNvSpPr/>
            <p:nvPr/>
          </p:nvSpPr>
          <p:spPr>
            <a:xfrm>
              <a:off x="219240" y="4545000"/>
              <a:ext cx="290988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3" name="Rectangle 40"/>
          <p:cNvGrpSpPr/>
          <p:nvPr/>
        </p:nvGrpSpPr>
        <p:grpSpPr>
          <a:xfrm>
            <a:off x="311040" y="4608360"/>
            <a:ext cx="2713320" cy="292320"/>
            <a:chOff x="311040" y="4608360"/>
            <a:chExt cx="2713320" cy="292320"/>
          </a:xfrm>
        </p:grpSpPr>
        <p:pic>
          <p:nvPicPr>
            <p:cNvPr id="1024" name="Rectangle 40" descr=""/>
            <p:cNvPicPr/>
            <p:nvPr/>
          </p:nvPicPr>
          <p:blipFill>
            <a:blip r:embed="rId13"/>
            <a:stretch/>
          </p:blipFill>
          <p:spPr>
            <a:xfrm>
              <a:off x="311040" y="4608360"/>
              <a:ext cx="271332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331920" y="4628880"/>
              <a:ext cx="267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Dorint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6" name="Rectangle 41"/>
          <p:cNvGrpSpPr/>
          <p:nvPr/>
        </p:nvGrpSpPr>
        <p:grpSpPr>
          <a:xfrm>
            <a:off x="195120" y="5529240"/>
            <a:ext cx="2955960" cy="920880"/>
            <a:chOff x="195120" y="5529240"/>
            <a:chExt cx="2955960" cy="920880"/>
          </a:xfrm>
        </p:grpSpPr>
        <p:pic>
          <p:nvPicPr>
            <p:cNvPr id="1027" name="Rectangle 41" descr=""/>
            <p:cNvPicPr/>
            <p:nvPr/>
          </p:nvPicPr>
          <p:blipFill>
            <a:blip r:embed="rId14"/>
            <a:stretch/>
          </p:blipFill>
          <p:spPr>
            <a:xfrm>
              <a:off x="195120" y="5529240"/>
              <a:ext cx="29559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220680" y="5553000"/>
              <a:ext cx="290988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9" name="Rectangle 42"/>
          <p:cNvGrpSpPr/>
          <p:nvPr/>
        </p:nvGrpSpPr>
        <p:grpSpPr>
          <a:xfrm>
            <a:off x="317520" y="5619600"/>
            <a:ext cx="2706840" cy="287640"/>
            <a:chOff x="317520" y="5619600"/>
            <a:chExt cx="2706840" cy="287640"/>
          </a:xfrm>
        </p:grpSpPr>
        <p:pic>
          <p:nvPicPr>
            <p:cNvPr id="1030" name="Rectangle 42" descr=""/>
            <p:cNvPicPr/>
            <p:nvPr/>
          </p:nvPicPr>
          <p:blipFill>
            <a:blip r:embed="rId15"/>
            <a:stretch/>
          </p:blipFill>
          <p:spPr>
            <a:xfrm>
              <a:off x="317520" y="5619600"/>
              <a:ext cx="2706840" cy="2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333360" y="5636880"/>
              <a:ext cx="2678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Actiun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2" name="Rectangle 43"/>
          <p:cNvGrpSpPr/>
          <p:nvPr/>
        </p:nvGrpSpPr>
        <p:grpSpPr>
          <a:xfrm>
            <a:off x="3279600" y="3462480"/>
            <a:ext cx="3902400" cy="287280"/>
            <a:chOff x="3279600" y="3462480"/>
            <a:chExt cx="3902400" cy="287280"/>
          </a:xfrm>
        </p:grpSpPr>
        <p:pic>
          <p:nvPicPr>
            <p:cNvPr id="1033" name="Rectangle 43" descr=""/>
            <p:cNvPicPr/>
            <p:nvPr/>
          </p:nvPicPr>
          <p:blipFill>
            <a:blip r:embed="rId16"/>
            <a:stretch/>
          </p:blipFill>
          <p:spPr>
            <a:xfrm>
              <a:off x="3279600" y="3462480"/>
              <a:ext cx="390240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/>
            <p:cNvSpPr/>
            <p:nvPr/>
          </p:nvSpPr>
          <p:spPr>
            <a:xfrm>
              <a:off x="3297240" y="3478320"/>
              <a:ext cx="386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ccept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5" name="Rectangle 45"/>
          <p:cNvGrpSpPr/>
          <p:nvPr/>
        </p:nvGrpSpPr>
        <p:grpSpPr>
          <a:xfrm>
            <a:off x="3279600" y="5675400"/>
            <a:ext cx="3902400" cy="457200"/>
            <a:chOff x="3279600" y="5675400"/>
            <a:chExt cx="3902400" cy="457200"/>
          </a:xfrm>
        </p:grpSpPr>
        <p:pic>
          <p:nvPicPr>
            <p:cNvPr id="1036" name="Rectangle 45" descr=""/>
            <p:cNvPicPr/>
            <p:nvPr/>
          </p:nvPicPr>
          <p:blipFill>
            <a:blip r:embed="rId17"/>
            <a:stretch/>
          </p:blipFill>
          <p:spPr>
            <a:xfrm>
              <a:off x="3279600" y="5675400"/>
              <a:ext cx="39024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7" name=""/>
            <p:cNvSpPr/>
            <p:nvPr/>
          </p:nvSpPr>
          <p:spPr>
            <a:xfrm>
              <a:off x="3297240" y="5691240"/>
              <a:ext cx="3868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425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Compliant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8" name="AutoShape 46"/>
          <p:cNvGrpSpPr/>
          <p:nvPr/>
        </p:nvGrpSpPr>
        <p:grpSpPr>
          <a:xfrm>
            <a:off x="1463760" y="3236760"/>
            <a:ext cx="206280" cy="335160"/>
            <a:chOff x="1463760" y="3236760"/>
            <a:chExt cx="206280" cy="335160"/>
          </a:xfrm>
        </p:grpSpPr>
        <p:pic>
          <p:nvPicPr>
            <p:cNvPr id="1039" name="AutoShape 46" descr=""/>
            <p:cNvPicPr/>
            <p:nvPr/>
          </p:nvPicPr>
          <p:blipFill>
            <a:blip r:embed="rId18"/>
            <a:stretch/>
          </p:blipFill>
          <p:spPr>
            <a:xfrm>
              <a:off x="1463760" y="3236760"/>
              <a:ext cx="206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>
              <a:off x="1533600" y="3260880"/>
              <a:ext cx="7128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1" name="AutoShape 47"/>
          <p:cNvGrpSpPr/>
          <p:nvPr/>
        </p:nvGrpSpPr>
        <p:grpSpPr>
          <a:xfrm>
            <a:off x="1463760" y="4243320"/>
            <a:ext cx="206280" cy="335160"/>
            <a:chOff x="1463760" y="4243320"/>
            <a:chExt cx="206280" cy="335160"/>
          </a:xfrm>
        </p:grpSpPr>
        <p:pic>
          <p:nvPicPr>
            <p:cNvPr id="1042" name="AutoShape 47" descr=""/>
            <p:cNvPicPr/>
            <p:nvPr/>
          </p:nvPicPr>
          <p:blipFill>
            <a:blip r:embed="rId19"/>
            <a:stretch/>
          </p:blipFill>
          <p:spPr>
            <a:xfrm>
              <a:off x="1463760" y="4243320"/>
              <a:ext cx="20628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1533600" y="4270320"/>
              <a:ext cx="71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4" name="AutoShape 48"/>
          <p:cNvGrpSpPr/>
          <p:nvPr/>
        </p:nvGrpSpPr>
        <p:grpSpPr>
          <a:xfrm>
            <a:off x="1463760" y="5327640"/>
            <a:ext cx="206280" cy="330120"/>
            <a:chOff x="1463760" y="5327640"/>
            <a:chExt cx="206280" cy="330120"/>
          </a:xfrm>
        </p:grpSpPr>
        <p:pic>
          <p:nvPicPr>
            <p:cNvPr id="1045" name="AutoShape 48" descr=""/>
            <p:cNvPicPr/>
            <p:nvPr/>
          </p:nvPicPr>
          <p:blipFill>
            <a:blip r:embed="rId20"/>
            <a:stretch/>
          </p:blipFill>
          <p:spPr>
            <a:xfrm>
              <a:off x="1463760" y="5327640"/>
              <a:ext cx="2062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"/>
            <p:cNvSpPr/>
            <p:nvPr/>
          </p:nvSpPr>
          <p:spPr>
            <a:xfrm>
              <a:off x="1533600" y="5349960"/>
              <a:ext cx="712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47" name="AutoShape 49"/>
          <p:cNvGrpSpPr/>
          <p:nvPr/>
        </p:nvGrpSpPr>
        <p:grpSpPr>
          <a:xfrm>
            <a:off x="4127400" y="2951280"/>
            <a:ext cx="206640" cy="328320"/>
            <a:chOff x="4127400" y="2951280"/>
            <a:chExt cx="206640" cy="328320"/>
          </a:xfrm>
        </p:grpSpPr>
        <p:pic>
          <p:nvPicPr>
            <p:cNvPr id="1048" name="AutoShape 49" descr=""/>
            <p:cNvPicPr/>
            <p:nvPr/>
          </p:nvPicPr>
          <p:blipFill>
            <a:blip r:embed="rId21"/>
            <a:stretch/>
          </p:blipFill>
          <p:spPr>
            <a:xfrm>
              <a:off x="4127400" y="2951280"/>
              <a:ext cx="206640" cy="32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>
              <a:off x="4197240" y="2973240"/>
              <a:ext cx="7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AutoShape 50"/>
          <p:cNvGrpSpPr/>
          <p:nvPr/>
        </p:nvGrpSpPr>
        <p:grpSpPr>
          <a:xfrm>
            <a:off x="4127400" y="4243320"/>
            <a:ext cx="206640" cy="335160"/>
            <a:chOff x="4127400" y="4243320"/>
            <a:chExt cx="206640" cy="335160"/>
          </a:xfrm>
        </p:grpSpPr>
        <p:pic>
          <p:nvPicPr>
            <p:cNvPr id="1051" name="AutoShape 50" descr=""/>
            <p:cNvPicPr/>
            <p:nvPr/>
          </p:nvPicPr>
          <p:blipFill>
            <a:blip r:embed="rId22"/>
            <a:stretch/>
          </p:blipFill>
          <p:spPr>
            <a:xfrm>
              <a:off x="4127400" y="4243320"/>
              <a:ext cx="20664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/>
            <p:nvPr/>
          </p:nvSpPr>
          <p:spPr>
            <a:xfrm>
              <a:off x="4197240" y="4270320"/>
              <a:ext cx="7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3" name="AutoShape 51"/>
          <p:cNvGrpSpPr/>
          <p:nvPr/>
        </p:nvGrpSpPr>
        <p:grpSpPr>
          <a:xfrm>
            <a:off x="4127400" y="5327640"/>
            <a:ext cx="206640" cy="330120"/>
            <a:chOff x="4127400" y="5327640"/>
            <a:chExt cx="206640" cy="330120"/>
          </a:xfrm>
        </p:grpSpPr>
        <p:pic>
          <p:nvPicPr>
            <p:cNvPr id="1054" name="AutoShape 51" descr=""/>
            <p:cNvPicPr/>
            <p:nvPr/>
          </p:nvPicPr>
          <p:blipFill>
            <a:blip r:embed="rId23"/>
            <a:stretch/>
          </p:blipFill>
          <p:spPr>
            <a:xfrm>
              <a:off x="4127400" y="5327640"/>
              <a:ext cx="2066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4197240" y="5349960"/>
              <a:ext cx="7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6" name="Rectangle 16"/>
          <p:cNvSpPr/>
          <p:nvPr/>
        </p:nvSpPr>
        <p:spPr>
          <a:xfrm>
            <a:off x="237960" y="1419120"/>
            <a:ext cx="9429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Strategia de comunicare “BEST Option Available“ se bazeaza pe ideea ca explicarea si argumentarea obiectiva a masurilor de restructurare sunt un instrument foarte puternic care va facilita acceptarea si in cele din urma complianta cu masurile de restructurare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88520" y="40428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Comunicarea constructiva (vs defensiva) se bazeaza pe ideea de minimizare a pierderilor si pe beneficiile procesului de restructurare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058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4F7D-4F21-4419-98FD-C960161C29B4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9" name="Rectangle 5"/>
          <p:cNvGrpSpPr/>
          <p:nvPr/>
        </p:nvGrpSpPr>
        <p:grpSpPr>
          <a:xfrm>
            <a:off x="317520" y="2048040"/>
            <a:ext cx="1438200" cy="555480"/>
            <a:chOff x="317520" y="2048040"/>
            <a:chExt cx="1438200" cy="555480"/>
          </a:xfrm>
        </p:grpSpPr>
        <p:pic>
          <p:nvPicPr>
            <p:cNvPr id="1060" name="Rectangle 5" descr=""/>
            <p:cNvPicPr/>
            <p:nvPr/>
          </p:nvPicPr>
          <p:blipFill>
            <a:blip r:embed="rId1"/>
            <a:stretch/>
          </p:blipFill>
          <p:spPr>
            <a:xfrm>
              <a:off x="317520" y="2048040"/>
              <a:ext cx="14382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344520" y="2071800"/>
              <a:ext cx="13921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takeholder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2" name="Rectangle 6"/>
          <p:cNvGrpSpPr/>
          <p:nvPr/>
        </p:nvGrpSpPr>
        <p:grpSpPr>
          <a:xfrm>
            <a:off x="1768320" y="2048040"/>
            <a:ext cx="1455840" cy="555480"/>
            <a:chOff x="1768320" y="2048040"/>
            <a:chExt cx="1455840" cy="555480"/>
          </a:xfrm>
        </p:grpSpPr>
        <p:pic>
          <p:nvPicPr>
            <p:cNvPr id="1063" name="Rectangle 6" descr=""/>
            <p:cNvPicPr/>
            <p:nvPr/>
          </p:nvPicPr>
          <p:blipFill>
            <a:blip r:embed="rId2"/>
            <a:stretch/>
          </p:blipFill>
          <p:spPr>
            <a:xfrm>
              <a:off x="1768320" y="2048040"/>
              <a:ext cx="145584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1793880" y="2071800"/>
              <a:ext cx="14097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nteres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5" name="Rectangle 7"/>
          <p:cNvGrpSpPr/>
          <p:nvPr/>
        </p:nvGrpSpPr>
        <p:grpSpPr>
          <a:xfrm>
            <a:off x="3236760" y="2048040"/>
            <a:ext cx="2090880" cy="555480"/>
            <a:chOff x="3236760" y="2048040"/>
            <a:chExt cx="2090880" cy="555480"/>
          </a:xfrm>
        </p:grpSpPr>
        <p:pic>
          <p:nvPicPr>
            <p:cNvPr id="1066" name="Rectangle 7" descr=""/>
            <p:cNvPicPr/>
            <p:nvPr/>
          </p:nvPicPr>
          <p:blipFill>
            <a:blip r:embed="rId3"/>
            <a:stretch/>
          </p:blipFill>
          <p:spPr>
            <a:xfrm>
              <a:off x="3236760" y="2048040"/>
              <a:ext cx="20908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259080" y="2071800"/>
              <a:ext cx="20512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mpact pozitiv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68" name="Rectangle 8"/>
          <p:cNvGrpSpPr/>
          <p:nvPr/>
        </p:nvGrpSpPr>
        <p:grpSpPr>
          <a:xfrm>
            <a:off x="5357880" y="2048040"/>
            <a:ext cx="2043000" cy="555480"/>
            <a:chOff x="5357880" y="2048040"/>
            <a:chExt cx="2043000" cy="555480"/>
          </a:xfrm>
        </p:grpSpPr>
        <p:pic>
          <p:nvPicPr>
            <p:cNvPr id="1069" name="Rectangle 8" descr=""/>
            <p:cNvPicPr/>
            <p:nvPr/>
          </p:nvPicPr>
          <p:blipFill>
            <a:blip r:embed="rId4"/>
            <a:stretch/>
          </p:blipFill>
          <p:spPr>
            <a:xfrm>
              <a:off x="5357880" y="2048040"/>
              <a:ext cx="20430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5381640" y="2071800"/>
              <a:ext cx="20001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Impact negativ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71" name="Rectangle 9"/>
          <p:cNvSpPr/>
          <p:nvPr/>
        </p:nvSpPr>
        <p:spPr>
          <a:xfrm>
            <a:off x="344520" y="2654280"/>
            <a:ext cx="139212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10"/>
          <p:cNvSpPr/>
          <p:nvPr/>
        </p:nvSpPr>
        <p:spPr>
          <a:xfrm>
            <a:off x="1793880" y="2654280"/>
            <a:ext cx="14097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Rectangle 11"/>
          <p:cNvSpPr/>
          <p:nvPr/>
        </p:nvSpPr>
        <p:spPr>
          <a:xfrm>
            <a:off x="3259080" y="2654280"/>
            <a:ext cx="20512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Rectangle 12"/>
          <p:cNvSpPr/>
          <p:nvPr/>
        </p:nvSpPr>
        <p:spPr>
          <a:xfrm>
            <a:off x="5381640" y="2654280"/>
            <a:ext cx="200016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Rectangle 13"/>
          <p:cNvSpPr/>
          <p:nvPr/>
        </p:nvSpPr>
        <p:spPr>
          <a:xfrm>
            <a:off x="344520" y="3584520"/>
            <a:ext cx="1392120" cy="9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gajat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Rectangle 14"/>
          <p:cNvSpPr/>
          <p:nvPr/>
        </p:nvSpPr>
        <p:spPr>
          <a:xfrm>
            <a:off x="1793880" y="3584520"/>
            <a:ext cx="1409760" cy="9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Rectangle 15"/>
          <p:cNvSpPr/>
          <p:nvPr/>
        </p:nvSpPr>
        <p:spPr>
          <a:xfrm>
            <a:off x="3259080" y="3584520"/>
            <a:ext cx="2051280" cy="9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Rectangle 16"/>
          <p:cNvSpPr/>
          <p:nvPr/>
        </p:nvSpPr>
        <p:spPr>
          <a:xfrm>
            <a:off x="5381640" y="3584520"/>
            <a:ext cx="2000160" cy="9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Rectangle 17"/>
          <p:cNvSpPr/>
          <p:nvPr/>
        </p:nvSpPr>
        <p:spPr>
          <a:xfrm>
            <a:off x="344520" y="4530600"/>
            <a:ext cx="139212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i intern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Rectangle 18"/>
          <p:cNvSpPr/>
          <p:nvPr/>
        </p:nvSpPr>
        <p:spPr>
          <a:xfrm>
            <a:off x="1793880" y="4530600"/>
            <a:ext cx="140976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Rectangle 19"/>
          <p:cNvSpPr/>
          <p:nvPr/>
        </p:nvSpPr>
        <p:spPr>
          <a:xfrm>
            <a:off x="3259080" y="4530600"/>
            <a:ext cx="205128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Rectangle 20"/>
          <p:cNvSpPr/>
          <p:nvPr/>
        </p:nvSpPr>
        <p:spPr>
          <a:xfrm>
            <a:off x="5381640" y="4530600"/>
            <a:ext cx="200016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Rectangle 22"/>
          <p:cNvSpPr/>
          <p:nvPr/>
        </p:nvSpPr>
        <p:spPr>
          <a:xfrm>
            <a:off x="345960" y="5460840"/>
            <a:ext cx="139248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dicate / autoritati et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Rectangle 23"/>
          <p:cNvSpPr/>
          <p:nvPr/>
        </p:nvSpPr>
        <p:spPr>
          <a:xfrm>
            <a:off x="1797120" y="5460840"/>
            <a:ext cx="140976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Rectangle 24"/>
          <p:cNvSpPr/>
          <p:nvPr/>
        </p:nvSpPr>
        <p:spPr>
          <a:xfrm>
            <a:off x="3262320" y="5460840"/>
            <a:ext cx="205092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Rectangle 25"/>
          <p:cNvSpPr/>
          <p:nvPr/>
        </p:nvSpPr>
        <p:spPr>
          <a:xfrm>
            <a:off x="5384880" y="5460840"/>
            <a:ext cx="2000160" cy="96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95400" indent="-95400">
              <a:spcBef>
                <a:spcPts val="300"/>
              </a:spcBef>
              <a:buClr>
                <a:srgbClr val="fa79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Rectangle 16"/>
          <p:cNvSpPr/>
          <p:nvPr/>
        </p:nvSpPr>
        <p:spPr>
          <a:xfrm>
            <a:off x="344520" y="1419120"/>
            <a:ext cx="7037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Identificarea beneficiilor pentru stakeholderi poate echilibra comunicarea si va conduce la un proces de restructurare mult mai usor de acceptat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Rectangle 24"/>
          <p:cNvSpPr/>
          <p:nvPr/>
        </p:nvSpPr>
        <p:spPr>
          <a:xfrm>
            <a:off x="7524720" y="2662200"/>
            <a:ext cx="2000160" cy="376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anurile de suport in cariera post-restructurare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tructurarea pe baza de criterii obiective de performant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sterea productivitatii, eficientei si calitatii la nivel de proces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de4d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rificarea rolurilor si responsabilitatil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9" name="Rectangle 8"/>
          <p:cNvGrpSpPr/>
          <p:nvPr/>
        </p:nvGrpSpPr>
        <p:grpSpPr>
          <a:xfrm>
            <a:off x="7497720" y="2189160"/>
            <a:ext cx="2048040" cy="414360"/>
            <a:chOff x="7497720" y="2189160"/>
            <a:chExt cx="2048040" cy="414360"/>
          </a:xfrm>
        </p:grpSpPr>
        <p:pic>
          <p:nvPicPr>
            <p:cNvPr id="1090" name="Rectangle 8" descr=""/>
            <p:cNvPicPr/>
            <p:nvPr/>
          </p:nvPicPr>
          <p:blipFill>
            <a:blip r:embed="rId5"/>
            <a:stretch/>
          </p:blipFill>
          <p:spPr>
            <a:xfrm>
              <a:off x="7497720" y="2189160"/>
              <a:ext cx="204804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524720" y="2214720"/>
              <a:ext cx="200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eneficii potential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2" name="Rectangle 8"/>
          <p:cNvGrpSpPr/>
          <p:nvPr/>
        </p:nvGrpSpPr>
        <p:grpSpPr>
          <a:xfrm>
            <a:off x="7497720" y="1401840"/>
            <a:ext cx="2048040" cy="615960"/>
            <a:chOff x="7497720" y="1401840"/>
            <a:chExt cx="2048040" cy="615960"/>
          </a:xfrm>
        </p:grpSpPr>
        <p:pic>
          <p:nvPicPr>
            <p:cNvPr id="1093" name="Rectangle 8" descr=""/>
            <p:cNvPicPr/>
            <p:nvPr/>
          </p:nvPicPr>
          <p:blipFill>
            <a:blip r:embed="rId6"/>
            <a:stretch/>
          </p:blipFill>
          <p:spPr>
            <a:xfrm>
              <a:off x="7497720" y="1401840"/>
              <a:ext cx="2048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7524720" y="142884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rategia “BEST Option Available”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5" name="TextBox 27"/>
          <p:cNvSpPr/>
          <p:nvPr/>
        </p:nvSpPr>
        <p:spPr>
          <a:xfrm>
            <a:off x="8280000" y="1857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Rectangle 2"/>
          <p:cNvGrpSpPr/>
          <p:nvPr/>
        </p:nvGrpSpPr>
        <p:grpSpPr>
          <a:xfrm>
            <a:off x="208080" y="3676680"/>
            <a:ext cx="9485280" cy="419040"/>
            <a:chOff x="208080" y="3676680"/>
            <a:chExt cx="9485280" cy="419040"/>
          </a:xfrm>
        </p:grpSpPr>
        <p:pic>
          <p:nvPicPr>
            <p:cNvPr id="1097" name="Rectangle 2" descr=""/>
            <p:cNvPicPr/>
            <p:nvPr/>
          </p:nvPicPr>
          <p:blipFill>
            <a:blip r:embed="rId1"/>
            <a:stretch/>
          </p:blipFill>
          <p:spPr>
            <a:xfrm>
              <a:off x="208080" y="3676680"/>
              <a:ext cx="948528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8" name=""/>
            <p:cNvSpPr/>
            <p:nvPr/>
          </p:nvSpPr>
          <p:spPr>
            <a:xfrm>
              <a:off x="230040" y="3701880"/>
              <a:ext cx="94442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9" name="Rectangle 4"/>
          <p:cNvSpPr/>
          <p:nvPr/>
        </p:nvSpPr>
        <p:spPr>
          <a:xfrm>
            <a:off x="200160" y="1916280"/>
            <a:ext cx="944856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Restructurarile: cine, cat, de ce?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Procesul de restructurar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Arial"/>
              </a:rPr>
              <a:t>Strategia de comunicare 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  <a:ea typeface="Arial"/>
              </a:rPr>
              <a:t>Restructurarea: scurt ghid de utilizar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1701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1101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64A8-337E-4C2C-B8B6-8E9644E2E8F6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Slide Number Placeholder 2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E674-270F-4850-9E54-8CD6516EB25F}" type="slidenum">
              <a:rPr b="0" lang="ro-R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Rectangle 36"/>
          <p:cNvSpPr/>
          <p:nvPr/>
        </p:nvSpPr>
        <p:spPr>
          <a:xfrm>
            <a:off x="488880" y="404640"/>
            <a:ext cx="8178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Practicile utilizate de Ensight in designul si comunicarea proceselor  de restructurare se bazeaza pe o vasta experienta in acest tip de proiec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Rectangle 15"/>
          <p:cNvSpPr/>
          <p:nvPr/>
        </p:nvSpPr>
        <p:spPr>
          <a:xfrm>
            <a:off x="344520" y="2290680"/>
            <a:ext cx="4392720" cy="39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Analiza organizationala (extensiva si intensiva) inainte de declansarea procesului de restructurar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Proiectarea foarte clara a modelului organizational TO BE (atat structural, cat si functional). Acesta va servi ca reper pentru implementare si va minimiza riscul unor deviatii foarte mari de la obiectivele setate anterior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cceptare si suport la cel mai inalt nivel pentru modelul organizational TO BE si pentru strategia si planul de implementare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Planificare detaliata a procesului de restructurare si etapizare a schimbarilor majore pentru a facilita asimilarea lor reala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Urmarirea progresului in implementare si alocarea unor resurse dedicate proiectului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Folosirea strategiilor de mobilizare (vs comunicare)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6" name="Rectangle 9"/>
          <p:cNvGrpSpPr/>
          <p:nvPr/>
        </p:nvGrpSpPr>
        <p:grpSpPr>
          <a:xfrm>
            <a:off x="317520" y="1762200"/>
            <a:ext cx="4449600" cy="542880"/>
            <a:chOff x="317520" y="1762200"/>
            <a:chExt cx="4449600" cy="542880"/>
          </a:xfrm>
        </p:grpSpPr>
        <p:pic>
          <p:nvPicPr>
            <p:cNvPr id="1107" name="Rectangle 9" descr=""/>
            <p:cNvPicPr/>
            <p:nvPr/>
          </p:nvPicPr>
          <p:blipFill>
            <a:blip r:embed="rId1"/>
            <a:stretch/>
          </p:blipFill>
          <p:spPr>
            <a:xfrm>
              <a:off x="317520" y="1762200"/>
              <a:ext cx="44496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344520" y="1785960"/>
              <a:ext cx="44053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Bune practici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Rectangle 9"/>
          <p:cNvGrpSpPr/>
          <p:nvPr/>
        </p:nvGrpSpPr>
        <p:grpSpPr>
          <a:xfrm>
            <a:off x="5138640" y="1762200"/>
            <a:ext cx="4438800" cy="542880"/>
            <a:chOff x="5138640" y="1762200"/>
            <a:chExt cx="4438800" cy="542880"/>
          </a:xfrm>
        </p:grpSpPr>
        <p:pic>
          <p:nvPicPr>
            <p:cNvPr id="1110" name="Rectangle 9" descr=""/>
            <p:cNvPicPr/>
            <p:nvPr/>
          </p:nvPicPr>
          <p:blipFill>
            <a:blip r:embed="rId2"/>
            <a:stretch/>
          </p:blipFill>
          <p:spPr>
            <a:xfrm>
              <a:off x="5138640" y="1762200"/>
              <a:ext cx="44388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1" name=""/>
            <p:cNvSpPr/>
            <p:nvPr/>
          </p:nvSpPr>
          <p:spPr>
            <a:xfrm>
              <a:off x="5162400" y="1785960"/>
              <a:ext cx="439596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Tahoma"/>
                </a:rPr>
                <a:t>Factori cheie de succes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2" name="Rectangle 12"/>
          <p:cNvSpPr/>
          <p:nvPr/>
        </p:nvSpPr>
        <p:spPr>
          <a:xfrm>
            <a:off x="5164200" y="2290680"/>
            <a:ext cx="4397400" cy="39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Nu este suficient ca regulile de comunicare in restructurare sa fie stabilite. Respectarea lor trebuie urmarita si „facilitata“.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Implicarea din timp a tuturor stakeholderilor de proces este un element–cheie pentru finalizarea la timp a actiunilor propuse. Orice omisiune pe acest subiect va compromite respectarea termenelor initial asumate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Consultarea, infomarea si receptarea feedback-ului tuturor actorilor implicati faciliteaza adaptarea din mers a strategiei si planului de comunicare sau activarea planurilor de contingenta / scenariilor alternative. 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Mesajele-cheie legate de procesul de restructurare trebuie sa fie clar definite si sa fie coerente si consistente, alcatuind o retorica persuasiva si realista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90000"/>
              </a:lnSpc>
              <a:spcBef>
                <a:spcPts val="300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ahoma"/>
                <a:ea typeface="Arial"/>
              </a:rPr>
              <a:t>Identificarea beneficiarilor si a beneficiilor procesului de restructurare poate facilita atingerea in timp mai scurt si cu un cost redus a obiectivelor asumate.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Rectangle 2"/>
          <p:cNvGrpSpPr/>
          <p:nvPr/>
        </p:nvGrpSpPr>
        <p:grpSpPr>
          <a:xfrm>
            <a:off x="208080" y="2298600"/>
            <a:ext cx="9485280" cy="420840"/>
            <a:chOff x="208080" y="2298600"/>
            <a:chExt cx="9485280" cy="420840"/>
          </a:xfrm>
        </p:grpSpPr>
        <p:pic>
          <p:nvPicPr>
            <p:cNvPr id="706" name="Rectangle 2" descr=""/>
            <p:cNvPicPr/>
            <p:nvPr/>
          </p:nvPicPr>
          <p:blipFill>
            <a:blip r:embed="rId1"/>
            <a:stretch/>
          </p:blipFill>
          <p:spPr>
            <a:xfrm>
              <a:off x="208080" y="2298600"/>
              <a:ext cx="9485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230040" y="2325600"/>
              <a:ext cx="94442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08" name="Rectangle 4"/>
          <p:cNvGrpSpPr/>
          <p:nvPr/>
        </p:nvGrpSpPr>
        <p:grpSpPr>
          <a:xfrm>
            <a:off x="182520" y="1895400"/>
            <a:ext cx="9479160" cy="3131640"/>
            <a:chOff x="182520" y="1895400"/>
            <a:chExt cx="9479160" cy="3131640"/>
          </a:xfrm>
        </p:grpSpPr>
        <p:pic>
          <p:nvPicPr>
            <p:cNvPr id="709" name="Rectangle 4" descr=""/>
            <p:cNvPicPr/>
            <p:nvPr/>
          </p:nvPicPr>
          <p:blipFill>
            <a:blip r:embed="rId2"/>
            <a:stretch/>
          </p:blipFill>
          <p:spPr>
            <a:xfrm>
              <a:off x="182520" y="1895400"/>
              <a:ext cx="947916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200160" y="1916280"/>
              <a:ext cx="9448560" cy="31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tructurarile: de ce, cine, cat?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tapele procesului de restructur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trategia de comunic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rea: scurt ghid de utiliz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8096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712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0D48-F519-4C1A-93C5-E3816A310442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8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8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5" name="Rectangle 12"/>
          <p:cNvGrpSpPr/>
          <p:nvPr/>
        </p:nvGrpSpPr>
        <p:grpSpPr>
          <a:xfrm>
            <a:off x="1328760" y="2541600"/>
            <a:ext cx="4359240" cy="3786120"/>
            <a:chOff x="1328760" y="2541600"/>
            <a:chExt cx="4359240" cy="3786120"/>
          </a:xfrm>
        </p:grpSpPr>
        <p:pic>
          <p:nvPicPr>
            <p:cNvPr id="716" name="Rectangle 12" descr=""/>
            <p:cNvPicPr/>
            <p:nvPr/>
          </p:nvPicPr>
          <p:blipFill>
            <a:blip r:embed="rId1"/>
            <a:stretch/>
          </p:blipFill>
          <p:spPr>
            <a:xfrm>
              <a:off x="1328760" y="2541600"/>
              <a:ext cx="4359240" cy="37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352520" y="2565360"/>
              <a:ext cx="4318200" cy="37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tructurari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generate 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criza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209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Restructurarile apar in diverse contexte – in ultima perioada se remarca preponderenta celor impuse de criza 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DFB-9938-4903-A512-407BB2FF59F5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0" name="Rectangle 6"/>
          <p:cNvGrpSpPr/>
          <p:nvPr/>
        </p:nvGrpSpPr>
        <p:grpSpPr>
          <a:xfrm>
            <a:off x="255600" y="2828880"/>
            <a:ext cx="1817640" cy="755640"/>
            <a:chOff x="255600" y="2828880"/>
            <a:chExt cx="1817640" cy="755640"/>
          </a:xfrm>
        </p:grpSpPr>
        <p:pic>
          <p:nvPicPr>
            <p:cNvPr id="721" name="Rectangle 6" descr=""/>
            <p:cNvPicPr/>
            <p:nvPr/>
          </p:nvPicPr>
          <p:blipFill>
            <a:blip r:embed="rId2"/>
            <a:stretch/>
          </p:blipFill>
          <p:spPr>
            <a:xfrm>
              <a:off x="255600" y="2828880"/>
              <a:ext cx="1817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282600" y="2851200"/>
              <a:ext cx="17733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Offshoring /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elocaliza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3" name="Rectangle 8"/>
          <p:cNvGrpSpPr/>
          <p:nvPr/>
        </p:nvGrpSpPr>
        <p:grpSpPr>
          <a:xfrm>
            <a:off x="2127240" y="2828880"/>
            <a:ext cx="1725480" cy="755640"/>
            <a:chOff x="2127240" y="2828880"/>
            <a:chExt cx="1725480" cy="755640"/>
          </a:xfrm>
        </p:grpSpPr>
        <p:pic>
          <p:nvPicPr>
            <p:cNvPr id="724" name="Rectangle 8" descr=""/>
            <p:cNvPicPr/>
            <p:nvPr/>
          </p:nvPicPr>
          <p:blipFill>
            <a:blip r:embed="rId3"/>
            <a:stretch/>
          </p:blipFill>
          <p:spPr>
            <a:xfrm>
              <a:off x="2127240" y="2828880"/>
              <a:ext cx="17254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2154240" y="2851200"/>
              <a:ext cx="1677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utare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6" name="Rectangle 9"/>
          <p:cNvGrpSpPr/>
          <p:nvPr/>
        </p:nvGrpSpPr>
        <p:grpSpPr>
          <a:xfrm>
            <a:off x="3925800" y="2828880"/>
            <a:ext cx="1768680" cy="755640"/>
            <a:chOff x="3925800" y="2828880"/>
            <a:chExt cx="1768680" cy="755640"/>
          </a:xfrm>
        </p:grpSpPr>
        <p:pic>
          <p:nvPicPr>
            <p:cNvPr id="727" name="Rectangle 9" descr=""/>
            <p:cNvPicPr/>
            <p:nvPr/>
          </p:nvPicPr>
          <p:blipFill>
            <a:blip r:embed="rId4"/>
            <a:stretch/>
          </p:blipFill>
          <p:spPr>
            <a:xfrm>
              <a:off x="3925800" y="282888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3948120" y="2851200"/>
              <a:ext cx="17254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Fuziune /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Achiziti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29" name="Rectangle 10"/>
          <p:cNvGrpSpPr/>
          <p:nvPr/>
        </p:nvGrpSpPr>
        <p:grpSpPr>
          <a:xfrm>
            <a:off x="255600" y="3614760"/>
            <a:ext cx="1817640" cy="755640"/>
            <a:chOff x="255600" y="3614760"/>
            <a:chExt cx="1817640" cy="755640"/>
          </a:xfrm>
        </p:grpSpPr>
        <p:pic>
          <p:nvPicPr>
            <p:cNvPr id="730" name="Rectangle 10" descr=""/>
            <p:cNvPicPr/>
            <p:nvPr/>
          </p:nvPicPr>
          <p:blipFill>
            <a:blip r:embed="rId5"/>
            <a:stretch/>
          </p:blipFill>
          <p:spPr>
            <a:xfrm>
              <a:off x="255600" y="3614760"/>
              <a:ext cx="1817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82600" y="3637080"/>
              <a:ext cx="17715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xternaliza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2" name="Rectangle 11"/>
          <p:cNvGrpSpPr/>
          <p:nvPr/>
        </p:nvGrpSpPr>
        <p:grpSpPr>
          <a:xfrm>
            <a:off x="2127240" y="3614760"/>
            <a:ext cx="1725480" cy="755640"/>
            <a:chOff x="2127240" y="3614760"/>
            <a:chExt cx="1725480" cy="755640"/>
          </a:xfrm>
        </p:grpSpPr>
        <p:pic>
          <p:nvPicPr>
            <p:cNvPr id="733" name="Rectangle 11" descr=""/>
            <p:cNvPicPr/>
            <p:nvPr/>
          </p:nvPicPr>
          <p:blipFill>
            <a:blip r:embed="rId6"/>
            <a:stretch/>
          </p:blipFill>
          <p:spPr>
            <a:xfrm>
              <a:off x="2127240" y="3614760"/>
              <a:ext cx="17254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2154240" y="3637080"/>
              <a:ext cx="1677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Internationa-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liza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5" name="Rectangle 6"/>
          <p:cNvGrpSpPr/>
          <p:nvPr/>
        </p:nvGrpSpPr>
        <p:grpSpPr>
          <a:xfrm>
            <a:off x="255600" y="2036880"/>
            <a:ext cx="1817640" cy="755640"/>
            <a:chOff x="255600" y="2036880"/>
            <a:chExt cx="1817640" cy="755640"/>
          </a:xfrm>
        </p:grpSpPr>
        <p:pic>
          <p:nvPicPr>
            <p:cNvPr id="736" name="Rectangle 6" descr=""/>
            <p:cNvPicPr/>
            <p:nvPr/>
          </p:nvPicPr>
          <p:blipFill>
            <a:blip r:embed="rId7"/>
            <a:stretch/>
          </p:blipFill>
          <p:spPr>
            <a:xfrm>
              <a:off x="255600" y="2036880"/>
              <a:ext cx="1817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282600" y="2060640"/>
              <a:ext cx="17733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xtinderea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companiei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38" name="Rectangle 8"/>
          <p:cNvGrpSpPr/>
          <p:nvPr/>
        </p:nvGrpSpPr>
        <p:grpSpPr>
          <a:xfrm>
            <a:off x="2127240" y="2036880"/>
            <a:ext cx="1725480" cy="755640"/>
            <a:chOff x="2127240" y="2036880"/>
            <a:chExt cx="1725480" cy="755640"/>
          </a:xfrm>
        </p:grpSpPr>
        <p:pic>
          <p:nvPicPr>
            <p:cNvPr id="739" name="Rectangle 8" descr=""/>
            <p:cNvPicPr/>
            <p:nvPr/>
          </p:nvPicPr>
          <p:blipFill>
            <a:blip r:embed="rId8"/>
            <a:stretch/>
          </p:blipFill>
          <p:spPr>
            <a:xfrm>
              <a:off x="2127240" y="2036880"/>
              <a:ext cx="17254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154240" y="2060640"/>
              <a:ext cx="1677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tructura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interna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1" name="Rectangle 9"/>
          <p:cNvGrpSpPr/>
          <p:nvPr/>
        </p:nvGrpSpPr>
        <p:grpSpPr>
          <a:xfrm>
            <a:off x="3925800" y="2036880"/>
            <a:ext cx="1768680" cy="755640"/>
            <a:chOff x="3925800" y="2036880"/>
            <a:chExt cx="1768680" cy="755640"/>
          </a:xfrm>
        </p:grpSpPr>
        <p:pic>
          <p:nvPicPr>
            <p:cNvPr id="742" name="Rectangle 9" descr=""/>
            <p:cNvPicPr/>
            <p:nvPr/>
          </p:nvPicPr>
          <p:blipFill>
            <a:blip r:embed="rId9"/>
            <a:stretch/>
          </p:blipFill>
          <p:spPr>
            <a:xfrm>
              <a:off x="3925800" y="2036880"/>
              <a:ext cx="17686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3948120" y="2060640"/>
              <a:ext cx="17254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Faliment /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Inchide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4" name="TextBox 4"/>
          <p:cNvSpPr/>
          <p:nvPr/>
        </p:nvSpPr>
        <p:spPr>
          <a:xfrm>
            <a:off x="420840" y="1428840"/>
            <a:ext cx="4032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Tipuri de restructurari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AutoShape 25"/>
          <p:cNvGrpSpPr/>
          <p:nvPr/>
        </p:nvGrpSpPr>
        <p:grpSpPr>
          <a:xfrm>
            <a:off x="5718240" y="4761000"/>
            <a:ext cx="480960" cy="280800"/>
            <a:chOff x="5718240" y="4761000"/>
            <a:chExt cx="480960" cy="280800"/>
          </a:xfrm>
        </p:grpSpPr>
        <p:pic>
          <p:nvPicPr>
            <p:cNvPr id="746" name="AutoShape 25" descr=""/>
            <p:cNvPicPr/>
            <p:nvPr/>
          </p:nvPicPr>
          <p:blipFill>
            <a:blip r:embed="rId10"/>
            <a:stretch/>
          </p:blipFill>
          <p:spPr>
            <a:xfrm>
              <a:off x="5718240" y="4761000"/>
              <a:ext cx="480960" cy="2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5745240" y="4851360"/>
              <a:ext cx="377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48" name="Rectangle 26"/>
          <p:cNvGrpSpPr/>
          <p:nvPr/>
        </p:nvGrpSpPr>
        <p:grpSpPr>
          <a:xfrm>
            <a:off x="6224760" y="2036880"/>
            <a:ext cx="3552480" cy="4290840"/>
            <a:chOff x="6224760" y="2036880"/>
            <a:chExt cx="3552480" cy="4290840"/>
          </a:xfrm>
        </p:grpSpPr>
        <p:pic>
          <p:nvPicPr>
            <p:cNvPr id="749" name="Rectangle 26" descr=""/>
            <p:cNvPicPr/>
            <p:nvPr/>
          </p:nvPicPr>
          <p:blipFill>
            <a:blip r:embed="rId11"/>
            <a:stretch/>
          </p:blipFill>
          <p:spPr>
            <a:xfrm>
              <a:off x="6224760" y="2036880"/>
              <a:ext cx="3552480" cy="42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6248520" y="2060640"/>
              <a:ext cx="351288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1" name="Text Box 27"/>
          <p:cNvGrpSpPr/>
          <p:nvPr/>
        </p:nvGrpSpPr>
        <p:grpSpPr>
          <a:xfrm>
            <a:off x="6156360" y="2255760"/>
            <a:ext cx="3616200" cy="4443480"/>
            <a:chOff x="6156360" y="2255760"/>
            <a:chExt cx="3616200" cy="4443480"/>
          </a:xfrm>
        </p:grpSpPr>
        <p:pic>
          <p:nvPicPr>
            <p:cNvPr id="752" name="Text Box 27" descr=""/>
            <p:cNvPicPr/>
            <p:nvPr/>
          </p:nvPicPr>
          <p:blipFill>
            <a:blip r:embed="rId12"/>
            <a:stretch/>
          </p:blipFill>
          <p:spPr>
            <a:xfrm>
              <a:off x="6156360" y="2255760"/>
              <a:ext cx="361620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176880" y="2276640"/>
              <a:ext cx="3584520" cy="44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rategii de reducere a costurilor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rategii de crestere a productivitatii si eficientei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organizarea / redesignul proceselor de afaceri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trangerea activitatii (eliminarea unor activitati considerate superflue / non-core)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nzarea activelor non-co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nuntarea la linii de business / linii de produse neperformante financiar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4" name="Rectangle 11"/>
          <p:cNvGrpSpPr/>
          <p:nvPr/>
        </p:nvGrpSpPr>
        <p:grpSpPr>
          <a:xfrm>
            <a:off x="3925800" y="3621240"/>
            <a:ext cx="1762200" cy="755640"/>
            <a:chOff x="3925800" y="3621240"/>
            <a:chExt cx="1762200" cy="755640"/>
          </a:xfrm>
        </p:grpSpPr>
        <p:pic>
          <p:nvPicPr>
            <p:cNvPr id="755" name="Rectangle 11" descr=""/>
            <p:cNvPicPr/>
            <p:nvPr/>
          </p:nvPicPr>
          <p:blipFill>
            <a:blip r:embed="rId13"/>
            <a:stretch/>
          </p:blipFill>
          <p:spPr>
            <a:xfrm>
              <a:off x="3925800" y="3621240"/>
              <a:ext cx="176220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3952800" y="3643200"/>
              <a:ext cx="1714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ared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ervices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7" name="Rectangle 10"/>
          <p:cNvGrpSpPr/>
          <p:nvPr/>
        </p:nvGrpSpPr>
        <p:grpSpPr>
          <a:xfrm>
            <a:off x="249120" y="4406760"/>
            <a:ext cx="1817640" cy="755640"/>
            <a:chOff x="249120" y="4406760"/>
            <a:chExt cx="1817640" cy="755640"/>
          </a:xfrm>
        </p:grpSpPr>
        <p:pic>
          <p:nvPicPr>
            <p:cNvPr id="758" name="Rectangle 10" descr=""/>
            <p:cNvPicPr/>
            <p:nvPr/>
          </p:nvPicPr>
          <p:blipFill>
            <a:blip r:embed="rId14"/>
            <a:stretch/>
          </p:blipFill>
          <p:spPr>
            <a:xfrm>
              <a:off x="249120" y="4406760"/>
              <a:ext cx="18176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272880" y="4429080"/>
              <a:ext cx="17719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chimbarea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trategiei d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iata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60" name="Rectangle 10"/>
          <p:cNvGrpSpPr/>
          <p:nvPr/>
        </p:nvGrpSpPr>
        <p:grpSpPr>
          <a:xfrm>
            <a:off x="2120760" y="4406760"/>
            <a:ext cx="1744920" cy="755640"/>
            <a:chOff x="2120760" y="4406760"/>
            <a:chExt cx="1744920" cy="755640"/>
          </a:xfrm>
        </p:grpSpPr>
        <p:pic>
          <p:nvPicPr>
            <p:cNvPr id="761" name="Rectangle 10" descr=""/>
            <p:cNvPicPr/>
            <p:nvPr/>
          </p:nvPicPr>
          <p:blipFill>
            <a:blip r:embed="rId15"/>
            <a:stretch/>
          </p:blipFill>
          <p:spPr>
            <a:xfrm>
              <a:off x="2120760" y="4406760"/>
              <a:ext cx="1744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2147760" y="4429080"/>
              <a:ext cx="17002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dimensio-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narea afacerii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Slide Number Placeholder 4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60EC-46A8-42A1-BDAD-4F47EE069E32}" type="slidenum">
              <a:rPr b="0" lang="ro-R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4" name="Content Placeholder 8" descr=""/>
          <p:cNvPicPr/>
          <p:nvPr/>
        </p:nvPicPr>
        <p:blipFill>
          <a:blip r:embed="rId1"/>
          <a:stretch/>
        </p:blipFill>
        <p:spPr>
          <a:xfrm>
            <a:off x="452520" y="1714680"/>
            <a:ext cx="6357960" cy="4371840"/>
          </a:xfrm>
          <a:prstGeom prst="rect">
            <a:avLst/>
          </a:prstGeom>
          <a:ln w="0">
            <a:noFill/>
          </a:ln>
        </p:spPr>
      </p:pic>
      <p:sp>
        <p:nvSpPr>
          <p:cNvPr id="765" name="Date Placeholder 1"/>
          <p:cNvSpPr/>
          <p:nvPr/>
        </p:nvSpPr>
        <p:spPr>
          <a:xfrm>
            <a:off x="666720" y="6237360"/>
            <a:ext cx="528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urce: European Restructuring Monit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7464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Impactul crizei asupra evolutiei numarului de locuri de munca desfiintate este indiscutabil 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grpSp>
        <p:nvGrpSpPr>
          <p:cNvPr id="767" name="Rectangle 9"/>
          <p:cNvGrpSpPr/>
          <p:nvPr/>
        </p:nvGrpSpPr>
        <p:grpSpPr>
          <a:xfrm>
            <a:off x="7620120" y="1878120"/>
            <a:ext cx="2163600" cy="2023920"/>
            <a:chOff x="7620120" y="1878120"/>
            <a:chExt cx="2163600" cy="2023920"/>
          </a:xfrm>
        </p:grpSpPr>
        <p:pic>
          <p:nvPicPr>
            <p:cNvPr id="768" name="Rectangle 9" descr=""/>
            <p:cNvPicPr/>
            <p:nvPr/>
          </p:nvPicPr>
          <p:blipFill>
            <a:blip r:embed="rId2"/>
            <a:stretch/>
          </p:blipFill>
          <p:spPr>
            <a:xfrm>
              <a:off x="7620120" y="1878120"/>
              <a:ext cx="21636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7738920" y="2000160"/>
              <a:ext cx="1928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umarul de locuri d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unca nou create in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erioada sept 08-mar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09 este de 2,5 ori mai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ic decat acum un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n.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0" name="Rectangle 9"/>
          <p:cNvGrpSpPr/>
          <p:nvPr/>
        </p:nvGrpSpPr>
        <p:grpSpPr>
          <a:xfrm>
            <a:off x="7620120" y="3932280"/>
            <a:ext cx="2163600" cy="2023920"/>
            <a:chOff x="7620120" y="3932280"/>
            <a:chExt cx="2163600" cy="2023920"/>
          </a:xfrm>
        </p:grpSpPr>
        <p:pic>
          <p:nvPicPr>
            <p:cNvPr id="771" name="Rectangle 9" descr=""/>
            <p:cNvPicPr/>
            <p:nvPr/>
          </p:nvPicPr>
          <p:blipFill>
            <a:blip r:embed="rId3"/>
            <a:stretch/>
          </p:blipFill>
          <p:spPr>
            <a:xfrm>
              <a:off x="7620120" y="3932280"/>
              <a:ext cx="21636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"/>
            <p:cNvSpPr/>
            <p:nvPr/>
          </p:nvSpPr>
          <p:spPr>
            <a:xfrm>
              <a:off x="7738920" y="4051440"/>
              <a:ext cx="1928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aportat la perioada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imilara 07-08,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numarul locurilor d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unca desfiintate in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omania dupa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eclansarea crizei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ste de 3 ori mai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mare.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Date Placeholder 1"/>
          <p:cNvSpPr/>
          <p:nvPr/>
        </p:nvSpPr>
        <p:spPr>
          <a:xfrm>
            <a:off x="666720" y="6237360"/>
            <a:ext cx="528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rsa: European Restructuring Monitor, 1 Octombrie – 31 Decembrie  200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Slide Number Placeholder 2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3154-1DB0-456E-A506-EEA0ED249787}" type="slidenum">
              <a:rPr b="0" lang="ro-R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5" name="Chart 3" descr=""/>
          <p:cNvPicPr/>
          <p:nvPr/>
        </p:nvPicPr>
        <p:blipFill>
          <a:blip r:embed="rId1"/>
          <a:stretch/>
        </p:blipFill>
        <p:spPr>
          <a:xfrm>
            <a:off x="380880" y="1928880"/>
            <a:ext cx="7072560" cy="40003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523800" y="3636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tructurarile sunt deja un fenomen obisnuit la nivel european, si Romania se plaseaza in jumatatea cea mai afect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7" name="Rectangle 9"/>
          <p:cNvGrpSpPr/>
          <p:nvPr/>
        </p:nvGrpSpPr>
        <p:grpSpPr>
          <a:xfrm>
            <a:off x="7620120" y="1878120"/>
            <a:ext cx="2163600" cy="2023920"/>
            <a:chOff x="7620120" y="1878120"/>
            <a:chExt cx="2163600" cy="2023920"/>
          </a:xfrm>
        </p:grpSpPr>
        <p:pic>
          <p:nvPicPr>
            <p:cNvPr id="778" name="Rectangle 9" descr=""/>
            <p:cNvPicPr/>
            <p:nvPr/>
          </p:nvPicPr>
          <p:blipFill>
            <a:blip r:embed="rId2"/>
            <a:stretch/>
          </p:blipFill>
          <p:spPr>
            <a:xfrm>
              <a:off x="7620120" y="1878120"/>
              <a:ext cx="21636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9" name=""/>
            <p:cNvSpPr/>
            <p:nvPr/>
          </p:nvSpPr>
          <p:spPr>
            <a:xfrm>
              <a:off x="7738920" y="2000160"/>
              <a:ext cx="1928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omania ocupa locul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7 intr-un clasament la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ivel european in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functie de numarul d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ocuri de munca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te.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0" name="Rectangle 9"/>
          <p:cNvGrpSpPr/>
          <p:nvPr/>
        </p:nvGrpSpPr>
        <p:grpSpPr>
          <a:xfrm>
            <a:off x="7620120" y="3932280"/>
            <a:ext cx="2163600" cy="2023920"/>
            <a:chOff x="7620120" y="3932280"/>
            <a:chExt cx="2163600" cy="2023920"/>
          </a:xfrm>
        </p:grpSpPr>
        <p:pic>
          <p:nvPicPr>
            <p:cNvPr id="781" name="Rectangle 9" descr=""/>
            <p:cNvPicPr/>
            <p:nvPr/>
          </p:nvPicPr>
          <p:blipFill>
            <a:blip r:embed="rId3"/>
            <a:stretch/>
          </p:blipFill>
          <p:spPr>
            <a:xfrm>
              <a:off x="7620120" y="3932280"/>
              <a:ext cx="216360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2" name=""/>
            <p:cNvSpPr/>
            <p:nvPr/>
          </p:nvSpPr>
          <p:spPr>
            <a:xfrm>
              <a:off x="7738920" y="4051440"/>
              <a:ext cx="192888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Daca avem in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vedere si numarul d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locuitori, Romania s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claseaza pe locul 11. 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3"/>
          <p:cNvSpPr/>
          <p:nvPr/>
        </p:nvSpPr>
        <p:spPr>
          <a:xfrm>
            <a:off x="480960" y="495360"/>
            <a:ext cx="8115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 restructurare facuta la timp e mai buna decat un faliment aman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4" name="Picture 4" descr="http://news.holidayhypermarket.co.uk/Images/18312286/Cunard_Will_Build_Queen_Elizabeth_Vessel_large.jpg"/>
          <p:cNvPicPr/>
          <p:nvPr/>
        </p:nvPicPr>
        <p:blipFill>
          <a:blip r:embed="rId1"/>
          <a:stretch/>
        </p:blipFill>
        <p:spPr>
          <a:xfrm>
            <a:off x="380880" y="13572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785" name="Rectangle 26"/>
          <p:cNvGrpSpPr/>
          <p:nvPr/>
        </p:nvGrpSpPr>
        <p:grpSpPr>
          <a:xfrm>
            <a:off x="3425760" y="1335240"/>
            <a:ext cx="5688000" cy="1968480"/>
            <a:chOff x="3425760" y="1335240"/>
            <a:chExt cx="5688000" cy="1968480"/>
          </a:xfrm>
        </p:grpSpPr>
        <p:pic>
          <p:nvPicPr>
            <p:cNvPr id="786" name="Rectangle 26" descr=""/>
            <p:cNvPicPr/>
            <p:nvPr/>
          </p:nvPicPr>
          <p:blipFill>
            <a:blip r:embed="rId2"/>
            <a:stretch/>
          </p:blipFill>
          <p:spPr>
            <a:xfrm>
              <a:off x="3425760" y="1335240"/>
              <a:ext cx="5688000" cy="19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>
              <a:off x="3452760" y="1357200"/>
              <a:ext cx="564372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88" name="TextBox 11"/>
          <p:cNvSpPr/>
          <p:nvPr/>
        </p:nvSpPr>
        <p:spPr>
          <a:xfrm>
            <a:off x="5810400" y="1214280"/>
            <a:ext cx="78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TextBox 12"/>
          <p:cNvSpPr/>
          <p:nvPr/>
        </p:nvSpPr>
        <p:spPr>
          <a:xfrm>
            <a:off x="3636720" y="2610000"/>
            <a:ext cx="50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 % este o rata buna de salva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90" name="Rectangle 6"/>
          <p:cNvGrpSpPr/>
          <p:nvPr/>
        </p:nvGrpSpPr>
        <p:grpSpPr>
          <a:xfrm>
            <a:off x="353880" y="4334040"/>
            <a:ext cx="2901960" cy="755640"/>
            <a:chOff x="353880" y="4334040"/>
            <a:chExt cx="2901960" cy="755640"/>
          </a:xfrm>
        </p:grpSpPr>
        <p:pic>
          <p:nvPicPr>
            <p:cNvPr id="791" name="Rectangle 6" descr=""/>
            <p:cNvPicPr/>
            <p:nvPr/>
          </p:nvPicPr>
          <p:blipFill>
            <a:blip r:embed="rId3"/>
            <a:stretch/>
          </p:blipFill>
          <p:spPr>
            <a:xfrm>
              <a:off x="353880" y="4334040"/>
              <a:ext cx="290196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380880" y="4357800"/>
              <a:ext cx="285768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Pe timp de criza,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lvl="2" marL="95400" indent="-9540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restructurarile sunt: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3" name="Text Box 27"/>
          <p:cNvGrpSpPr/>
          <p:nvPr/>
        </p:nvGrpSpPr>
        <p:grpSpPr>
          <a:xfrm>
            <a:off x="3432240" y="3767040"/>
            <a:ext cx="5675400" cy="1852560"/>
            <a:chOff x="3432240" y="3767040"/>
            <a:chExt cx="5675400" cy="1852560"/>
          </a:xfrm>
        </p:grpSpPr>
        <p:pic>
          <p:nvPicPr>
            <p:cNvPr id="794" name="Text Box 27" descr=""/>
            <p:cNvPicPr/>
            <p:nvPr/>
          </p:nvPicPr>
          <p:blipFill>
            <a:blip r:embed="rId4"/>
            <a:stretch/>
          </p:blipFill>
          <p:spPr>
            <a:xfrm>
              <a:off x="3432240" y="3767040"/>
              <a:ext cx="5675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3452760" y="3786120"/>
              <a:ext cx="5643720" cy="18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olutii, nu problem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male si sanatoa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cesar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spcBef>
                  <a:spcPts val="1599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ponderent pozitive, daca sunt facute la timp si daca se restructureaza SMAR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6" name="Right Arrow 15"/>
          <p:cNvGrpSpPr/>
          <p:nvPr/>
        </p:nvGrpSpPr>
        <p:grpSpPr>
          <a:xfrm>
            <a:off x="378000" y="5967360"/>
            <a:ext cx="901440" cy="561960"/>
            <a:chOff x="378000" y="5967360"/>
            <a:chExt cx="901440" cy="561960"/>
          </a:xfrm>
        </p:grpSpPr>
        <p:pic>
          <p:nvPicPr>
            <p:cNvPr id="797" name="Right Arrow 15" descr=""/>
            <p:cNvPicPr/>
            <p:nvPr/>
          </p:nvPicPr>
          <p:blipFill>
            <a:blip r:embed="rId5"/>
            <a:stretch/>
          </p:blipFill>
          <p:spPr>
            <a:xfrm>
              <a:off x="378000" y="5967360"/>
              <a:ext cx="9014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401760" y="6126120"/>
              <a:ext cx="73188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9" name="TextBox 16"/>
          <p:cNvGrpSpPr/>
          <p:nvPr/>
        </p:nvGrpSpPr>
        <p:grpSpPr>
          <a:xfrm>
            <a:off x="1432080" y="5840280"/>
            <a:ext cx="7675560" cy="736560"/>
            <a:chOff x="1432080" y="5840280"/>
            <a:chExt cx="7675560" cy="736560"/>
          </a:xfrm>
        </p:grpSpPr>
        <p:pic>
          <p:nvPicPr>
            <p:cNvPr id="800" name="TextBox 16" descr=""/>
            <p:cNvPicPr/>
            <p:nvPr/>
          </p:nvPicPr>
          <p:blipFill>
            <a:blip r:embed="rId6"/>
            <a:stretch/>
          </p:blipFill>
          <p:spPr>
            <a:xfrm>
              <a:off x="1432080" y="5840280"/>
              <a:ext cx="767556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452600" y="5857920"/>
              <a:ext cx="764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omunicarea restructurarilor poate fi facuta sub semnul “BEST” option available marketing (vs “PEST” marketing)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2" name="Slide Number Placeholder 2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6472-A787-48D9-B74A-39BC501B3017}" type="slidenum">
              <a:rPr b="0" lang="ro-R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Rectangle 2"/>
          <p:cNvGrpSpPr/>
          <p:nvPr/>
        </p:nvGrpSpPr>
        <p:grpSpPr>
          <a:xfrm>
            <a:off x="208080" y="2755800"/>
            <a:ext cx="9485280" cy="420840"/>
            <a:chOff x="208080" y="2755800"/>
            <a:chExt cx="9485280" cy="420840"/>
          </a:xfrm>
        </p:grpSpPr>
        <p:pic>
          <p:nvPicPr>
            <p:cNvPr id="804" name="Rectangle 2" descr=""/>
            <p:cNvPicPr/>
            <p:nvPr/>
          </p:nvPicPr>
          <p:blipFill>
            <a:blip r:embed="rId1"/>
            <a:stretch/>
          </p:blipFill>
          <p:spPr>
            <a:xfrm>
              <a:off x="208080" y="2755800"/>
              <a:ext cx="94852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230040" y="2781360"/>
              <a:ext cx="94442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06" name="Rectangle 4"/>
          <p:cNvGrpSpPr/>
          <p:nvPr/>
        </p:nvGrpSpPr>
        <p:grpSpPr>
          <a:xfrm>
            <a:off x="182520" y="1895400"/>
            <a:ext cx="9479160" cy="3606840"/>
            <a:chOff x="182520" y="1895400"/>
            <a:chExt cx="9479160" cy="3606840"/>
          </a:xfrm>
        </p:grpSpPr>
        <p:pic>
          <p:nvPicPr>
            <p:cNvPr id="807" name="Rectangle 4" descr=""/>
            <p:cNvPicPr/>
            <p:nvPr/>
          </p:nvPicPr>
          <p:blipFill>
            <a:blip r:embed="rId2"/>
            <a:stretch/>
          </p:blipFill>
          <p:spPr>
            <a:xfrm>
              <a:off x="182520" y="1895400"/>
              <a:ext cx="9479160" cy="35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8" name=""/>
            <p:cNvSpPr/>
            <p:nvPr/>
          </p:nvSpPr>
          <p:spPr>
            <a:xfrm>
              <a:off x="200160" y="1916280"/>
              <a:ext cx="9448560" cy="35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rile: cine, cat, de ce?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Etapele procesului de restructur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trategia de comunic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structurarea: scurt ghid de utilizare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 lvl="1" marL="426960" indent="-244440">
                <a:lnSpc>
                  <a:spcPct val="100000"/>
                </a:lnSpc>
                <a:spcBef>
                  <a:spcPts val="1701"/>
                </a:spcBef>
                <a:buClr>
                  <a:srgbClr val="de4d14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88880" y="404280"/>
            <a:ext cx="56865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Agenda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810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FAD-3357-456C-9BC3-FDB2F25E9489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Rectangle 6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000" y="1998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0725"/>
                </a:solidFill>
                <a:latin typeface="Tahoma"/>
              </a:rPr>
              <a:t>Amploarea, durata si profunzimea impactului restructurarilor asupra unei organizatii impun o atenta planificare strategica a procesului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813" name="AutoShape 25"/>
          <p:cNvSpPr/>
          <p:nvPr/>
        </p:nvSpPr>
        <p:spPr>
          <a:xfrm flipV="1" rot="16200000">
            <a:off x="4110840" y="3491640"/>
            <a:ext cx="2162160" cy="392400"/>
          </a:xfrm>
          <a:prstGeom prst="triangle">
            <a:avLst>
              <a:gd name="adj" fmla="val 50000"/>
            </a:avLst>
          </a:prstGeom>
          <a:solidFill>
            <a:srgbClr val="a2a2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Rectangle 27"/>
          <p:cNvSpPr/>
          <p:nvPr/>
        </p:nvSpPr>
        <p:spPr>
          <a:xfrm>
            <a:off x="5796000" y="2131920"/>
            <a:ext cx="3585960" cy="408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62000" tIns="46800" bIns="46800" anchor="t">
            <a:noAutofit/>
          </a:bodyPr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fecteaza organizatia pe termen lung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e impact la nivelul intregii organizatii chiar si atunci cand nu este restructurat decat un departament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are un impact profund si genereaza schimbari de structura, procese si si</a:t>
            </a:r>
            <a:r>
              <a:rPr b="1" lang="ro-RO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eme, precum si modificari la nivelul comportamentelor si atitudinilor angajatilor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mplica un nivel foarte inalt de incertitudine pentru angajati si management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genereaza de obicei team</a:t>
            </a:r>
            <a:r>
              <a:rPr b="1" lang="ro-RO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, rezistenta si “depresii” organizationale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Rectangle 28"/>
          <p:cNvSpPr/>
          <p:nvPr/>
        </p:nvSpPr>
        <p:spPr>
          <a:xfrm>
            <a:off x="5796000" y="1700280"/>
            <a:ext cx="3585960" cy="384120"/>
          </a:xfrm>
          <a:prstGeom prst="rect">
            <a:avLst/>
          </a:prstGeom>
          <a:solidFill>
            <a:srgbClr val="de4d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rocesul de restructurare …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6" name="Group 28"/>
          <p:cNvGrpSpPr/>
          <p:nvPr/>
        </p:nvGrpSpPr>
        <p:grpSpPr>
          <a:xfrm>
            <a:off x="395280" y="2128680"/>
            <a:ext cx="5010120" cy="3611520"/>
            <a:chOff x="395280" y="2128680"/>
            <a:chExt cx="5010120" cy="3611520"/>
          </a:xfrm>
        </p:grpSpPr>
        <p:sp>
          <p:nvSpPr>
            <p:cNvPr id="817" name="Line 4"/>
            <p:cNvSpPr/>
            <p:nvPr/>
          </p:nvSpPr>
          <p:spPr>
            <a:xfrm>
              <a:off x="1206720" y="5428080"/>
              <a:ext cx="30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8" name="Rectangle 5"/>
            <p:cNvSpPr/>
            <p:nvPr/>
          </p:nvSpPr>
          <p:spPr>
            <a:xfrm>
              <a:off x="1742040" y="5463720"/>
              <a:ext cx="210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368280" indent="-18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urata schimbari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9" name="Line 6"/>
            <p:cNvSpPr/>
            <p:nvPr/>
          </p:nvSpPr>
          <p:spPr>
            <a:xfrm flipV="1">
              <a:off x="797040" y="2219040"/>
              <a:ext cx="0" cy="29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Rectangle 7"/>
            <p:cNvSpPr/>
            <p:nvPr/>
          </p:nvSpPr>
          <p:spPr>
            <a:xfrm rot="16200000">
              <a:off x="-582840" y="3605040"/>
              <a:ext cx="223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190440" indent="-18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mploarea schimbari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utoShape 8"/>
            <p:cNvSpPr/>
            <p:nvPr/>
          </p:nvSpPr>
          <p:spPr>
            <a:xfrm>
              <a:off x="1369440" y="3840480"/>
              <a:ext cx="12362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AutoShape 9"/>
            <p:cNvSpPr/>
            <p:nvPr/>
          </p:nvSpPr>
          <p:spPr>
            <a:xfrm>
              <a:off x="2322360" y="384048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AutoShape 10"/>
            <p:cNvSpPr/>
            <p:nvPr/>
          </p:nvSpPr>
          <p:spPr>
            <a:xfrm>
              <a:off x="3241080" y="384048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utoShape 11"/>
            <p:cNvSpPr/>
            <p:nvPr/>
          </p:nvSpPr>
          <p:spPr>
            <a:xfrm>
              <a:off x="1369440" y="3008520"/>
              <a:ext cx="12362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AutoShape 12"/>
            <p:cNvSpPr/>
            <p:nvPr/>
          </p:nvSpPr>
          <p:spPr>
            <a:xfrm>
              <a:off x="2322360" y="300852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AutoShape 13"/>
            <p:cNvSpPr/>
            <p:nvPr/>
          </p:nvSpPr>
          <p:spPr>
            <a:xfrm>
              <a:off x="3241080" y="300852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AutoShape 14"/>
            <p:cNvSpPr/>
            <p:nvPr/>
          </p:nvSpPr>
          <p:spPr>
            <a:xfrm>
              <a:off x="1369440" y="2178720"/>
              <a:ext cx="12362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AutoShape 15"/>
            <p:cNvSpPr/>
            <p:nvPr/>
          </p:nvSpPr>
          <p:spPr>
            <a:xfrm>
              <a:off x="2322360" y="217872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utoShape 16"/>
            <p:cNvSpPr/>
            <p:nvPr/>
          </p:nvSpPr>
          <p:spPr>
            <a:xfrm>
              <a:off x="3241080" y="2178720"/>
              <a:ext cx="1238040" cy="1106640"/>
            </a:xfrm>
            <a:prstGeom prst="cube">
              <a:avLst>
                <a:gd name="adj" fmla="val 25000"/>
              </a:avLst>
            </a:prstGeom>
            <a:solidFill>
              <a:srgbClr val="a2a27e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Line 17"/>
            <p:cNvSpPr/>
            <p:nvPr/>
          </p:nvSpPr>
          <p:spPr>
            <a:xfrm flipV="1">
              <a:off x="4318920" y="4698720"/>
              <a:ext cx="488880" cy="484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Rectangle 18"/>
            <p:cNvSpPr/>
            <p:nvPr/>
          </p:nvSpPr>
          <p:spPr>
            <a:xfrm rot="16200000">
              <a:off x="596880" y="4348800"/>
              <a:ext cx="107172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n department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Rectangle 19"/>
            <p:cNvSpPr/>
            <p:nvPr/>
          </p:nvSpPr>
          <p:spPr>
            <a:xfrm rot="16200000">
              <a:off x="480600" y="3383280"/>
              <a:ext cx="11415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+ departamente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20"/>
            <p:cNvSpPr/>
            <p:nvPr/>
          </p:nvSpPr>
          <p:spPr>
            <a:xfrm>
              <a:off x="1369440" y="5043240"/>
              <a:ext cx="900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ermen scurt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21"/>
            <p:cNvSpPr/>
            <p:nvPr/>
          </p:nvSpPr>
          <p:spPr>
            <a:xfrm>
              <a:off x="2309760" y="5062680"/>
              <a:ext cx="981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ermen mediu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Rectangle 22"/>
            <p:cNvSpPr/>
            <p:nvPr/>
          </p:nvSpPr>
          <p:spPr>
            <a:xfrm>
              <a:off x="3409200" y="5075280"/>
              <a:ext cx="900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ermen lung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Rectangle 23"/>
            <p:cNvSpPr/>
            <p:nvPr/>
          </p:nvSpPr>
          <p:spPr>
            <a:xfrm rot="16200000">
              <a:off x="587160" y="2419920"/>
              <a:ext cx="92880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ntreaga 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lvl="2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  <a:ea typeface="Arial"/>
                </a:rPr>
                <a:t>organizatie</a:t>
              </a:r>
              <a:endParaRPr b="1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Text Box 24"/>
            <p:cNvSpPr/>
            <p:nvPr/>
          </p:nvSpPr>
          <p:spPr>
            <a:xfrm>
              <a:off x="3029760" y="2615040"/>
              <a:ext cx="15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ahoma"/>
                </a:rPr>
                <a:t>Restructura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Text Box 29"/>
            <p:cNvSpPr/>
            <p:nvPr/>
          </p:nvSpPr>
          <p:spPr>
            <a:xfrm rot="18789000">
              <a:off x="4410360" y="4946040"/>
              <a:ext cx="98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mpactul 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schimbarii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9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AEC3-BCAF-4996-9093-70541D24E972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7775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30725"/>
                </a:solidFill>
                <a:latin typeface="Tahoma"/>
              </a:rPr>
              <a:t>Etapele de analiza si design organizational ne ajuta sa intelegem unde si cat trebuie sa restructuram</a:t>
            </a:r>
            <a:endParaRPr b="0" lang="en-US" sz="2000" spc="-1" strike="noStrike">
              <a:solidFill>
                <a:srgbClr val="230725"/>
              </a:solidFill>
              <a:latin typeface="Tahoma"/>
            </a:endParaRPr>
          </a:p>
        </p:txBody>
      </p:sp>
      <p:sp>
        <p:nvSpPr>
          <p:cNvPr id="841" name="Slide Number Placeholder 5"/>
          <p:cNvSpPr/>
          <p:nvPr/>
        </p:nvSpPr>
        <p:spPr>
          <a:xfrm>
            <a:off x="-130320" y="523800"/>
            <a:ext cx="4748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DC5-D55A-45D2-AF5B-09B605785418}" type="slidenum">
              <a:rPr b="0" lang="ro-RO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33"/>
          <p:cNvSpPr/>
          <p:nvPr/>
        </p:nvSpPr>
        <p:spPr>
          <a:xfrm>
            <a:off x="217440" y="2760840"/>
            <a:ext cx="235908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ocese si procedur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Roluri si responsabilitat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Alocarea activitatilor pe divizii / depart. / echipe / indiviz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lienti interni si extern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anagementul, comunicarea si organizarea activitatilor etc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34"/>
          <p:cNvSpPr/>
          <p:nvPr/>
        </p:nvSpPr>
        <p:spPr>
          <a:xfrm>
            <a:off x="2448000" y="2760840"/>
            <a:ext cx="23605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aluarea performantei individuale / de grup in functie de KPIs deja setati / elaborati in cadrul proiectulu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valuarea competentelor: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lnSpc>
                <a:spcPct val="100000"/>
              </a:lnSpc>
              <a:spcBef>
                <a:spcPts val="27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Arial"/>
              </a:rPr>
              <a:t>Soft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lnSpc>
                <a:spcPct val="100000"/>
              </a:lnSpc>
              <a:spcBef>
                <a:spcPts val="27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Arial"/>
              </a:rPr>
              <a:t>Tehnice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2" marL="785880" indent="-179280">
              <a:lnSpc>
                <a:spcPct val="100000"/>
              </a:lnSpc>
              <a:spcBef>
                <a:spcPts val="275"/>
              </a:spcBef>
              <a:buClr>
                <a:srgbClr val="de4d14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Arial"/>
              </a:rPr>
              <a:t>Functionale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35"/>
          <p:cNvSpPr/>
          <p:nvPr/>
        </p:nvSpPr>
        <p:spPr>
          <a:xfrm>
            <a:off x="4978440" y="2760840"/>
            <a:ext cx="24224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rolurilor si responsabilitatilor TO BE (divizionale, departamentale, de echipa, individuale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competentelor TO B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profilelor de rol ideale; elaborarea fiselor de post viito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laborarea de noi procese si proceduri care sa sustina rolul si responsabilitatile viito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proceselor si procedurilor de management, comunicare, organiza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36"/>
          <p:cNvSpPr/>
          <p:nvPr/>
        </p:nvSpPr>
        <p:spPr>
          <a:xfrm>
            <a:off x="7405560" y="2760840"/>
            <a:ext cx="2227320" cy="13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finirea noilor structuri organizationa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buClr>
                <a:srgbClr val="de4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tabilirea numarului de angajati / element structura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Line 37"/>
          <p:cNvSpPr/>
          <p:nvPr/>
        </p:nvSpPr>
        <p:spPr>
          <a:xfrm>
            <a:off x="217440" y="1585800"/>
            <a:ext cx="445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38"/>
          <p:cNvSpPr/>
          <p:nvPr/>
        </p:nvSpPr>
        <p:spPr>
          <a:xfrm>
            <a:off x="1050120" y="1455480"/>
            <a:ext cx="280872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marL="3240" indent="-324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naliza organizare curenta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Line 39"/>
          <p:cNvSpPr/>
          <p:nvPr/>
        </p:nvSpPr>
        <p:spPr>
          <a:xfrm>
            <a:off x="4915080" y="1585800"/>
            <a:ext cx="445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40"/>
          <p:cNvSpPr/>
          <p:nvPr/>
        </p:nvSpPr>
        <p:spPr>
          <a:xfrm>
            <a:off x="5771880" y="1455480"/>
            <a:ext cx="2765880" cy="2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ctr">
            <a:spAutoFit/>
          </a:bodyPr>
          <a:p>
            <a:pPr marL="3240" indent="-324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esign organizare viitoar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0" name="AutoShape 42"/>
          <p:cNvGrpSpPr/>
          <p:nvPr/>
        </p:nvGrpSpPr>
        <p:grpSpPr>
          <a:xfrm>
            <a:off x="2432160" y="1798560"/>
            <a:ext cx="2481120" cy="835200"/>
            <a:chOff x="2432160" y="1798560"/>
            <a:chExt cx="2481120" cy="835200"/>
          </a:xfrm>
        </p:grpSpPr>
        <p:pic>
          <p:nvPicPr>
            <p:cNvPr id="851" name="AutoShape 42" descr=""/>
            <p:cNvPicPr/>
            <p:nvPr/>
          </p:nvPicPr>
          <p:blipFill>
            <a:blip r:embed="rId1"/>
            <a:stretch/>
          </p:blipFill>
          <p:spPr>
            <a:xfrm>
              <a:off x="2432160" y="1798560"/>
              <a:ext cx="2481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2697120" y="1824120"/>
              <a:ext cx="1959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3" name="Rectangle 43"/>
          <p:cNvGrpSpPr/>
          <p:nvPr/>
        </p:nvGrpSpPr>
        <p:grpSpPr>
          <a:xfrm>
            <a:off x="2773440" y="2054160"/>
            <a:ext cx="2060640" cy="287280"/>
            <a:chOff x="2773440" y="2054160"/>
            <a:chExt cx="2060640" cy="287280"/>
          </a:xfrm>
        </p:grpSpPr>
        <p:pic>
          <p:nvPicPr>
            <p:cNvPr id="854" name="Rectangle 43" descr=""/>
            <p:cNvPicPr/>
            <p:nvPr/>
          </p:nvPicPr>
          <p:blipFill>
            <a:blip r:embed="rId2"/>
            <a:stretch/>
          </p:blipFill>
          <p:spPr>
            <a:xfrm>
              <a:off x="2773440" y="2054160"/>
              <a:ext cx="206064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>
              <a:off x="2792520" y="2069640"/>
              <a:ext cx="2028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Analiza oamenil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6" name="AutoShape 47"/>
          <p:cNvGrpSpPr/>
          <p:nvPr/>
        </p:nvGrpSpPr>
        <p:grpSpPr>
          <a:xfrm>
            <a:off x="4986360" y="1798560"/>
            <a:ext cx="2487600" cy="835200"/>
            <a:chOff x="4986360" y="1798560"/>
            <a:chExt cx="2487600" cy="835200"/>
          </a:xfrm>
        </p:grpSpPr>
        <p:pic>
          <p:nvPicPr>
            <p:cNvPr id="857" name="AutoShape 47" descr=""/>
            <p:cNvPicPr/>
            <p:nvPr/>
          </p:nvPicPr>
          <p:blipFill>
            <a:blip r:embed="rId3"/>
            <a:stretch/>
          </p:blipFill>
          <p:spPr>
            <a:xfrm>
              <a:off x="4986360" y="1798560"/>
              <a:ext cx="24876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5256360" y="1824120"/>
              <a:ext cx="19587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9" name="Rectangle 48"/>
          <p:cNvGrpSpPr/>
          <p:nvPr/>
        </p:nvGrpSpPr>
        <p:grpSpPr>
          <a:xfrm>
            <a:off x="5297400" y="2054160"/>
            <a:ext cx="2054160" cy="287280"/>
            <a:chOff x="5297400" y="2054160"/>
            <a:chExt cx="2054160" cy="287280"/>
          </a:xfrm>
        </p:grpSpPr>
        <p:pic>
          <p:nvPicPr>
            <p:cNvPr id="860" name="Rectangle 48" descr=""/>
            <p:cNvPicPr/>
            <p:nvPr/>
          </p:nvPicPr>
          <p:blipFill>
            <a:blip r:embed="rId4"/>
            <a:stretch/>
          </p:blipFill>
          <p:spPr>
            <a:xfrm>
              <a:off x="5297400" y="2054160"/>
              <a:ext cx="20541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5313240" y="2069640"/>
              <a:ext cx="202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Design functional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2" name="AutoShape 49"/>
          <p:cNvGrpSpPr/>
          <p:nvPr/>
        </p:nvGrpSpPr>
        <p:grpSpPr>
          <a:xfrm>
            <a:off x="7211880" y="1798560"/>
            <a:ext cx="2486160" cy="835200"/>
            <a:chOff x="7211880" y="1798560"/>
            <a:chExt cx="2486160" cy="835200"/>
          </a:xfrm>
        </p:grpSpPr>
        <p:pic>
          <p:nvPicPr>
            <p:cNvPr id="863" name="AutoShape 49" descr=""/>
            <p:cNvPicPr/>
            <p:nvPr/>
          </p:nvPicPr>
          <p:blipFill>
            <a:blip r:embed="rId5"/>
            <a:stretch/>
          </p:blipFill>
          <p:spPr>
            <a:xfrm>
              <a:off x="7211880" y="1798560"/>
              <a:ext cx="24861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7481880" y="1824120"/>
              <a:ext cx="1959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5" name="Rectangle 50"/>
          <p:cNvGrpSpPr/>
          <p:nvPr/>
        </p:nvGrpSpPr>
        <p:grpSpPr>
          <a:xfrm>
            <a:off x="7454880" y="2054160"/>
            <a:ext cx="2176560" cy="287280"/>
            <a:chOff x="7454880" y="2054160"/>
            <a:chExt cx="2176560" cy="287280"/>
          </a:xfrm>
        </p:grpSpPr>
        <p:pic>
          <p:nvPicPr>
            <p:cNvPr id="866" name="Rectangle 50" descr=""/>
            <p:cNvPicPr/>
            <p:nvPr/>
          </p:nvPicPr>
          <p:blipFill>
            <a:blip r:embed="rId6"/>
            <a:stretch/>
          </p:blipFill>
          <p:spPr>
            <a:xfrm>
              <a:off x="7454880" y="2054160"/>
              <a:ext cx="21765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>
              <a:off x="7473960" y="2069640"/>
              <a:ext cx="2147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Design de structura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8" name="Rectangle 69"/>
          <p:cNvSpPr/>
          <p:nvPr/>
        </p:nvSpPr>
        <p:spPr>
          <a:xfrm>
            <a:off x="344520" y="5514840"/>
            <a:ext cx="4497480" cy="188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= &gt; atat rezultatele analizei activitatii, cat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i cele ale analizei de performanta/competente pot f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mparate cu standardul din industrie pentru a ghid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designul modelului viitor de organizare structurala si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426960" indent="-2444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functionala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9" name="Rectangle 85"/>
          <p:cNvGrpSpPr/>
          <p:nvPr/>
        </p:nvGrpSpPr>
        <p:grpSpPr>
          <a:xfrm>
            <a:off x="328680" y="5194440"/>
            <a:ext cx="4541760" cy="261720"/>
            <a:chOff x="328680" y="5194440"/>
            <a:chExt cx="4541760" cy="261720"/>
          </a:xfrm>
        </p:grpSpPr>
        <p:pic>
          <p:nvPicPr>
            <p:cNvPr id="870" name="Rectangle 85" descr=""/>
            <p:cNvPicPr/>
            <p:nvPr/>
          </p:nvPicPr>
          <p:blipFill>
            <a:blip r:embed="rId7"/>
            <a:stretch/>
          </p:blipFill>
          <p:spPr>
            <a:xfrm>
              <a:off x="328680" y="5194440"/>
              <a:ext cx="4541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>
              <a:off x="353880" y="5216400"/>
              <a:ext cx="449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426960" indent="-2444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  <a:ea typeface="Arial"/>
                </a:rPr>
                <a:t>Benchmarking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AutoShape 47"/>
          <p:cNvGrpSpPr/>
          <p:nvPr/>
        </p:nvGrpSpPr>
        <p:grpSpPr>
          <a:xfrm>
            <a:off x="176040" y="1792440"/>
            <a:ext cx="2481480" cy="834840"/>
            <a:chOff x="176040" y="1792440"/>
            <a:chExt cx="2481480" cy="834840"/>
          </a:xfrm>
        </p:grpSpPr>
        <p:pic>
          <p:nvPicPr>
            <p:cNvPr id="873" name="AutoShape 47" descr=""/>
            <p:cNvPicPr/>
            <p:nvPr/>
          </p:nvPicPr>
          <p:blipFill>
            <a:blip r:embed="rId8"/>
            <a:stretch/>
          </p:blipFill>
          <p:spPr>
            <a:xfrm>
              <a:off x="176040" y="1792440"/>
              <a:ext cx="248148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442800" y="1819440"/>
              <a:ext cx="19591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5" name="Rectangle 48"/>
          <p:cNvGrpSpPr/>
          <p:nvPr/>
        </p:nvGrpSpPr>
        <p:grpSpPr>
          <a:xfrm>
            <a:off x="480960" y="2048040"/>
            <a:ext cx="2060640" cy="293400"/>
            <a:chOff x="480960" y="2048040"/>
            <a:chExt cx="2060640" cy="293400"/>
          </a:xfrm>
        </p:grpSpPr>
        <p:pic>
          <p:nvPicPr>
            <p:cNvPr id="876" name="Rectangle 48" descr=""/>
            <p:cNvPicPr/>
            <p:nvPr/>
          </p:nvPicPr>
          <p:blipFill>
            <a:blip r:embed="rId9"/>
            <a:stretch/>
          </p:blipFill>
          <p:spPr>
            <a:xfrm>
              <a:off x="480960" y="2048040"/>
              <a:ext cx="206064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"/>
            <p:cNvSpPr/>
            <p:nvPr/>
          </p:nvSpPr>
          <p:spPr>
            <a:xfrm>
              <a:off x="500040" y="2065680"/>
              <a:ext cx="202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3240" indent="-3240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</a:rPr>
                <a:t>Analiza activitatii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4:59:59Z</dcterms:created>
  <dc:creator>Ioana Livezeanu</dc:creator>
  <dc:description/>
  <dc:language>en-US</dc:language>
  <cp:lastModifiedBy>ioana.chira</cp:lastModifiedBy>
  <cp:lastPrinted>2002-09-24T00:35:35Z</cp:lastPrinted>
  <dcterms:modified xsi:type="dcterms:W3CDTF">2009-03-30T16:51:54Z</dcterms:modified>
  <cp:revision>269</cp:revision>
  <dc:subject/>
  <dc:title>Finantare nerambursabila prin Instrumentele Structura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Reviewer">
    <vt:lpwstr>TJ</vt:lpwstr>
  </property>
</Properties>
</file>