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A2C-F2DC-4C12-90EE-C5D7393B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B1D-838B-49DD-8F00-D3FEA3FB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116-2E9E-4634-B055-36D1A96B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0FB-6066-4A81-8814-F68A35B6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5E21-3501-4B80-8BFE-9F1DA534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A91A-CC8C-4092-9DB7-0DCB54C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F1AD-2A24-4322-8775-60392DDC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3CCB-31DA-497B-A0EA-DB60F4DA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314A-84CD-4822-9B19-CD237D41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C6EB-25EC-4448-B8BC-48F8E33C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3779-48CB-4FDF-9A70-50AFC181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18F-D7A2-4CAA-9D80-41A9F86C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30D3-1341-475B-A161-F919634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FA57-FA79-4EBC-9682-607990D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66F2-5486-4FBC-B6D3-6B09D31E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8B32-98FA-4E35-ABC4-F6059AF9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D5EF-78C1-43E7-9B43-D20915B6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E80-C7EE-4D49-B54C-45BF9FF3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440-0E11-4C73-9A70-CE4B7F9E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398-3B3B-4438-804C-27CE46E4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FBE-62A0-4724-86BF-36F99EB4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237-B808-4E68-8CCD-C718B534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F3B-6309-4CFE-B76A-CD3E3F88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AC5-01C4-4CAB-87BC-DB8581F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D02A-6186-4546-B6C5-F5FE9EF14010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29EA-D9BD-4654-A5BD-FFB09A746701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2707920"/>
            <a:ext cx="72388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INŢA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F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6666"/>
                </a:solidFill>
                <a:latin typeface="Verdana"/>
              </a:rPr>
              <a:t>TALKS ABOUT CONSTRUCTIONS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Verdana"/>
              </a:rPr>
              <a:t>Adevăr sau provocare ?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MARTIE 201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CUREŞ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1417680" cy="144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24000" y="692280"/>
            <a:ext cx="676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1120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5486400" y="2685960"/>
          <a:ext cx="3657600" cy="28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2685960"/>
                    <a:ext cx="3657600" cy="28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-612720" y="1557360"/>
            <a:ext cx="705636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CURT ISTO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ociatia a fost fondata d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panii specializate in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decembrie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stellar"/>
              </a:rPr>
              <a:t>ANPFR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ociatie nationala a producatorilor de ferestre , usi, fat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elemente de vitraje izolante din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na la sfarsitul anului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 dintre cele mai active companii din bran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au devenit membri ai asociati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sfarsitul anulu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a schimbat statutul juridic al asociatiei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P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ganizati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a reprezentativa a patronilor din industr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restrelor, usilor fatadelor si vitrajelor izolante din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60280"/>
            <a:ext cx="676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913120" cy="2189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61200" y="5084640"/>
            <a:ext cx="8693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Volumul productiei anuale in industria de feres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prox.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00.000.000 -1.000.000.00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 mult de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60%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a de companii membre PP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95280" y="4941720"/>
            <a:ext cx="1363680" cy="136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2060640"/>
            <a:ext cx="6335640" cy="28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estere anual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construc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ca 25%-30%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n noiembrie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cepe perioada crizei econom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te 5000 produc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te 40.000 muncitori angajati ac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t informativ pentru fere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 - 150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040" y="1717560"/>
            <a:ext cx="4624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PIA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TA ROMANEASCA DE FER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60280"/>
            <a:ext cx="676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00720" y="1989000"/>
            <a:ext cx="5256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riterii 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ertificarea profesio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ntru companiile producatoar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rcaj 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stemul de management al calitati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cc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99cccc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99cccc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ISO 9001:2001(200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tilizarea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echipamentelor </a:t>
            </a:r>
            <a:r>
              <a:rPr b="1" lang="en-US" sz="1700" spc="-1" strike="noStrike">
                <a:solidFill>
                  <a:srgbClr val="99cccc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ecesa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ntru fabricarea acestor produ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alificarea personalului</a:t>
            </a:r>
            <a:r>
              <a:rPr b="1" lang="en-US" sz="1700" spc="-1" strike="noStrike">
                <a:solidFill>
                  <a:srgbClr val="99cccc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mplica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procesul de produc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nitate financia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0280" y="5805360"/>
            <a:ext cx="802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recunoscut de mediul de afaceri pe piata de ferestre romanea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garantie a produselor finale de cal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8480" y="1662120"/>
            <a:ext cx="5351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TESTARE PROFESIO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260280"/>
            <a:ext cx="676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3889440" cy="285588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1989000"/>
            <a:ext cx="56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Verdana"/>
              </a:rPr>
              <a:t>REPREZENTARE NATIO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Verdana"/>
              </a:rPr>
              <a:t>a companiilor memb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200" y="3957480"/>
            <a:ext cx="84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STERUL DEZVOLTARII REGIONALE  SI TURISM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4797360"/>
            <a:ext cx="892980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Comitetul Tehnic Specializat CT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g. Valentin PETRES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g. Harilaus KILAIDIT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h. Anca P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258920" y="2784600"/>
            <a:ext cx="6553080" cy="1152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40000" y="260280"/>
            <a:ext cx="64087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12720" y="5229360"/>
            <a:ext cx="9570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g. Alexandru TEODORES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g. IRINA VRANCEA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160720" cy="119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8713800" cy="127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16000" y="33336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87280" y="1989000"/>
            <a:ext cx="5689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Verdana"/>
              </a:rPr>
              <a:t>REPREZENTARE EUROPE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Verdana"/>
              </a:rPr>
              <a:t>a companiilor memb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260280"/>
            <a:ext cx="64087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87280" y="1989000"/>
            <a:ext cx="5689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Verdana"/>
              </a:rPr>
              <a:t>REPREZENTARE EUROPE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Verdana"/>
              </a:rPr>
              <a:t>a companiilor memb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3168720" cy="1047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2852640"/>
            <a:ext cx="85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 TC 33 - windows, doors, blinds and shutters, hardware, curtain wall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WG 1+2(windows and doors) &amp; WG 6 (curtain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948360" y="4869000"/>
            <a:ext cx="1314720" cy="139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612720" y="580536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T Rosenheim - Institut fur Fenstertech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189000"/>
            <a:ext cx="64087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26920" y="1484280"/>
            <a:ext cx="568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Verdana"/>
              </a:rPr>
              <a:t>marcaj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Verdana"/>
              </a:rPr>
              <a:t>pentru produse din industria ferestrel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2421000"/>
            <a:ext cx="5327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R EN 1279 – 4,5,6 / 200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icla in constructii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mente de vitraje izolante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RTIE 200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R EN 12608:200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rofi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VC-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ntru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abric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restr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lasific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inte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meto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de incerc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R EN 13830:2004  Pereti Cortina. Standard de prod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ANUARIE 200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R EN 14351:200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restre si usi – Standard de produs. Performante  si caracteristic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BRUARIE 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827280" cy="67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280" y="5877000"/>
            <a:ext cx="826920" cy="676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827280" cy="676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012000" y="2260440"/>
            <a:ext cx="2808000" cy="186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012000" y="4437000"/>
            <a:ext cx="2881080" cy="1913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35280" y="260280"/>
            <a:ext cx="6913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9280" y="537372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Verdana"/>
              </a:rPr>
              <a:t>Va multumim pentru atenti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4213080" cy="3448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08000" y="260280"/>
            <a:ext cx="6840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7:24:15Z</dcterms:created>
  <dc:creator>Anca Popa</dc:creator>
  <dc:description/>
  <dc:language>en-US</dc:language>
  <cp:lastModifiedBy>Anca Popa</cp:lastModifiedBy>
  <dcterms:modified xsi:type="dcterms:W3CDTF">2010-03-03T08:08:38Z</dcterms:modified>
  <cp:revision>18</cp:revision>
  <dc:subject/>
  <dc:title>Slide 1</dc:title>
</cp:coreProperties>
</file>