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1B880-90F6-4A16-9397-8B33B20D1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86034-CEA3-41E8-BDE4-62347A8F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A004B-315A-4ECD-99F9-69C1AB464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82E6D-E5DC-4EEC-B587-DC2A8D141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3638-9CEC-4E74-8196-05CE581E0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C970-A61E-466C-A93E-C84197FD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234B-3F82-42FB-BAD3-2B49F6F4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97CD-2344-478C-AAA5-AB71A59E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5326-46C5-4B38-BBFB-8FF2CCC4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E070-37FE-4096-A1D6-A702A7E4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C8D3-FF7C-4885-8C08-F225E9B4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2FF89-3D10-433A-AFD9-E8E99929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B7BF-C1C6-49FE-A4EA-863884B7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6656-D752-4533-BDF3-A846124B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9E74-1E25-44DA-A510-A3A6A6A7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7EE2-A0B3-45DC-B203-CCDB6E137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516A-5BA7-415B-88C2-E3DB3C488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C7EE8-83F1-4281-B945-C17EEBBB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B6634-8663-435C-9FE0-10F1FDB9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E163B-EF59-4037-A458-45DCBB07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D8F0A-30C6-437C-8D66-CCB8502C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7D911-F511-4C62-9021-E8C86E4C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83706-C8FA-401C-B911-E537A81E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C5ABD-FF7C-4045-B1DD-1E7F5B40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B157-D458-46FB-8556-473F4F0407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118A-395C-47DB-B100-A75011844F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../../../Documents%20and%20Settings/GAVRILESCUR/Sintact%202.0/cache/Legislatie/temp/00131587.htm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09480" y="1143000"/>
            <a:ext cx="7925040" cy="1281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ro-RO" sz="1200" spc="-1" strike="noStrike">
                <a:solidFill>
                  <a:srgbClr val="0000cc"/>
                </a:solidFill>
                <a:latin typeface="Arial Black"/>
                <a:ea typeface="Times New Roman"/>
              </a:rPr>
              <a:t>PATRONATUL DIN INDUSTRIA CIMENTULUI </a:t>
            </a:r>
            <a:br>
              <a:rPr sz="1200"/>
            </a:br>
            <a:r>
              <a:rPr b="1" lang="en-US" sz="1200" spc="-1" strike="noStrike">
                <a:solidFill>
                  <a:srgbClr val="0000cc"/>
                </a:solidFill>
                <a:latin typeface="Arial Black"/>
                <a:ea typeface="Times New Roman"/>
              </a:rPr>
              <a:t>S</a:t>
            </a:r>
            <a:r>
              <a:rPr b="1" lang="ro-RO" sz="1200" spc="-1" strike="noStrike">
                <a:solidFill>
                  <a:srgbClr val="0000cc"/>
                </a:solidFill>
                <a:latin typeface="Arial Black"/>
                <a:ea typeface="Times New Roman"/>
              </a:rPr>
              <a:t>I ALTOR PRODUSE MINERALE PENTRU CONSTRUC</a:t>
            </a:r>
            <a:r>
              <a:rPr b="1" lang="en-US" sz="1200" spc="-1" strike="noStrike">
                <a:solidFill>
                  <a:srgbClr val="0000cc"/>
                </a:solidFill>
                <a:latin typeface="Arial Black"/>
                <a:ea typeface="Times New Roman"/>
              </a:rPr>
              <a:t>T</a:t>
            </a:r>
            <a:r>
              <a:rPr b="1" lang="ro-RO" sz="1200" spc="-1" strike="noStrike">
                <a:solidFill>
                  <a:srgbClr val="0000cc"/>
                </a:solidFill>
                <a:latin typeface="Arial Black"/>
                <a:ea typeface="Times New Roman"/>
              </a:rPr>
              <a:t>II DIN ROMÂNIA</a:t>
            </a:r>
            <a:r>
              <a:rPr b="0" lang="ro-RO" sz="1200" spc="-1" strike="noStrike">
                <a:solidFill>
                  <a:srgbClr val="0000cc"/>
                </a:solidFill>
                <a:latin typeface="Arial Blac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5410080"/>
            <a:ext cx="853452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ihai Rohan - Presedinte CIROM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Romania Construct Forum, 11 noiembrie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733920" y="1371600"/>
            <a:ext cx="1600200" cy="457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523880" y="2895480"/>
            <a:ext cx="5791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 Black"/>
              </a:rPr>
              <a:t>Propunerile CIROM pentru revitalizarea pietei constructiil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51055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IR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841C4-AFE7-43B9-A516-4D040AEC067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ropuneri in domeniul producerii betonului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. Inceperea demersurilor pentru realizarea unei norme nationale privind controlul calitatii betonului turnat in structuri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conformitate cu prevederile europene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vand urmatoarele efecte direc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larea intre reglementarile nationale (in vigoare) si cele europe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igurarea unui control riguros al calitatii betonului turnat, cu consecinte evident benefice asupra durabilitatii constructiilor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. Adoptarea reglementarilor europene pe plan national si implementarea acestora in practica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ces la care CIROM doreste sa fie partener al Autoritatil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IR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80BB8-1C43-4D0D-AC25-D577151053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ropuneri in domeniul constructiilor civile si hidroteh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3352680"/>
            <a:ext cx="3903840" cy="29210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572000" y="3352680"/>
            <a:ext cx="3902040" cy="2925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IR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7A22D-6776-4A34-AF9D-9589D1E507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ropuneri in domeniul constructiilor civile </a:t>
            </a:r>
            <a:br>
              <a:rPr sz="2000"/>
            </a:b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i hidrotehnice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am necesar un cadru legislativ care sa preva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untarea la utilizarea chirpiciului si a sindrilei la construirea caselor in regie proprie, datorita redusei lor durabilitati si rezistente la fo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rajarea si sprijinirea realizarii de locuinte sociale si de interventie in caz de dezastre in sistem modular - prefabrica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derea pereurilor de beton, impermeabile, la digurile de protectie existente si nou construite, ca garantie a durabilitatii acestora in situatii except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IR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DC191-5ED6-4DC2-985D-F92C7A5FBF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33520" y="-3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ropuneri in domeniu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rumurilor judetene si comuna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(construite din bugete loca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48320" y="3276720"/>
            <a:ext cx="3903480" cy="2921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04920" y="3352680"/>
            <a:ext cx="3902040" cy="2925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696080" y="5867280"/>
            <a:ext cx="914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5943600"/>
            <a:ext cx="838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IR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1BF0A-87C7-4EF4-AA68-AAC33C26F2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86200" y="6400800"/>
            <a:ext cx="1600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ropuneri in domeniul drumurilor judetene si comunal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5867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vizuirea prevederilor legale in vigoare urmarindu-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rea ca solutie tehnica (alternativa) a drumurilor din beton de ciment,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o solutie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urabila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si cu materiale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100% “made in Romani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area de catre MDRL a         HG 717/2010(*)  cu standarde de cost aferente drumurilor judetene si comunale din beton de c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6172200"/>
            <a:ext cx="86104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*)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HOTĂRÂRE nr. 717 din 14 iulie 2010 pentru modificarea şi completarea Hotărârii Guvernului nr. </a:t>
            </a:r>
            <a:r>
              <a:rPr b="0" lang="ro-RO" sz="1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363/2010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ivind aprobarea standardelor de cost pentru obiective de investiţii finanţate din fonduri publ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867280" y="3657600"/>
            <a:ext cx="3124440" cy="23414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867280" y="1244520"/>
            <a:ext cx="3094200" cy="23194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28600" y="61722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IR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B7BB0-B794-4B5F-A9DC-C1BE757C44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33520" y="228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ropuneri in domeniu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infrastructurii de 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(bugetul de st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514600" y="3276720"/>
            <a:ext cx="3902040" cy="2925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IR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5A165-3FD7-4057-84F2-D7E7E9294A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bele solutii (“asfalt” si “beton de ciment”) isi gasesc aplicabilitatea pentru noile trasee de autostrazi si sosele de centu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ortant este sa nu se renunte artificial la una din ele, mai ales ca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“betonul de ciment” a trecut testul durabilitatii in conditiile de mediu si trafic din Romani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86200" y="6400800"/>
            <a:ext cx="1600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33520" y="3733920"/>
            <a:ext cx="3902040" cy="2925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724280" y="3733920"/>
            <a:ext cx="3902040" cy="2925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IR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91BD3-6C00-4E5F-A53F-34869DB726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ropuneri in domeniul infrastructurii de transport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e necesara stabilirea de standarde de cost si pentru autostrazi executate in solutia “beton de ciment” nu doar pentru “asfalt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 actuala forma a HG privind standardele de cost, solutia de autostrada din “beton de ciment” 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este exclusa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si este adoptata masiv pe alte retele rutier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incipalele avantaje pentru Romania ale realizarii autostrazilor in solutia “beton de ciment” sunt, 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in actuala conjunctura economica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, urmatoare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ele mai reduse costuri de investit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 folosesc 100% produse “made in Romani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urata de exploatare dubla decat solutia in “asfal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IR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AE6D4-DB03-4F44-B535-68B4306C85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utostrazi din “beton de ciment”</a:t>
            </a:r>
            <a:br>
              <a:rPr sz="2000"/>
            </a:b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Cele mai reduse costuri de investiti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uri ale structurilor rutiere, conform HG care prezinta standarde de co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52280" y="1981080"/>
          <a:ext cx="4038840" cy="2889360"/>
        </p:xfrm>
        <a:graphic>
          <a:graphicData uri="http://schemas.openxmlformats.org/drawingml/2006/table">
            <a:tbl>
              <a:tblPr/>
              <a:tblGrid>
                <a:gridCol w="2590920"/>
                <a:gridCol w="144792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strada,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sfalt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”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u o platforma de 26m, construita in zona de 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bracaminti rutiere si strat de ba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67.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datie si strat de fo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6.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[EUR/Km]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(pretul se refera la 1Km construit, latime 26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.413.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4343400" y="1981080"/>
          <a:ext cx="4343400" cy="3351240"/>
        </p:xfrm>
        <a:graphic>
          <a:graphicData uri="http://schemas.openxmlformats.org/drawingml/2006/table">
            <a:tbl>
              <a:tblPr/>
              <a:tblGrid>
                <a:gridCol w="2971800"/>
                <a:gridCol w="1371600"/>
              </a:tblGrid>
              <a:tr h="916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sta aeroportuara,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beton de ciment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”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u o latime portanta de 45m, aeronave de medie importanta, PCN=65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bracaminti ruti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.9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stu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2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ast stabiliz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.4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ast + geotext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.3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[EUR/Km]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(pretul se refera la 100m construiti, latime 45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91.0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3200400" y="4572000"/>
            <a:ext cx="533520" cy="106668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772400" y="5029200"/>
            <a:ext cx="533520" cy="685800"/>
          </a:xfrm>
          <a:prstGeom prst="downArrow">
            <a:avLst>
              <a:gd name="adj1" fmla="val 50000"/>
              <a:gd name="adj2" fmla="val 3213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38280" y="5715000"/>
            <a:ext cx="2133720" cy="459720"/>
          </a:xfrm>
          <a:prstGeom prst="rect">
            <a:avLst/>
          </a:prstGeom>
          <a:solidFill>
            <a:srgbClr val="cccc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92,8 EUR/m</a:t>
            </a:r>
            <a:r>
              <a:rPr b="1" lang="en-US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5715000"/>
            <a:ext cx="2133720" cy="45972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86,9 EUR/m</a:t>
            </a:r>
            <a:r>
              <a:rPr b="1" lang="en-US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6248520"/>
            <a:ext cx="88488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+ 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IR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8E85E-22AE-46C4-B040-6F2E868C84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od evident o structura aeroportuara este supradimensionata fata de cerintele unei autostraz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La nivel de costuri de investitie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, daca se decide ca autostrada sa fie construita in “beton de ciment”, se face o economie de minim 6 EURO (minim 7%) la fiecare metru patrat de structura rutier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La 100Km de autostrada din “beton de ciment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o economie de minim 15,6 milioane EURO (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n aeroport !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 folosesc integral produse “Made in Romania”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unt costuri minime de intretinere, specifice betonului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 obtine o imbracaminte rutiera cu o durata normala de functionare dubla fata de asfa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utostrazi din “beton de ciment”</a:t>
            </a:r>
            <a:br>
              <a:rPr sz="2000"/>
            </a:b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Cele mai reduse costuri de investiti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IR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8055D-EF66-470A-B187-3C53D9BF0F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457200" y="685800"/>
          <a:ext cx="8229600" cy="2057400"/>
        </p:xfrm>
        <a:graphic>
          <a:graphicData uri="http://schemas.openxmlformats.org/drawingml/2006/table">
            <a:tbl>
              <a:tblPr/>
              <a:tblGrid>
                <a:gridCol w="3048120"/>
                <a:gridCol w="1523880"/>
                <a:gridCol w="1600200"/>
                <a:gridCol w="20574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/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. 2010/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. 2011/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ata constructii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(20-2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(5-1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ata cimentulu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(10-12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 Locui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.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380880" y="3733920"/>
          <a:ext cx="8382240" cy="1990440"/>
        </p:xfrm>
        <a:graphic>
          <a:graphicData uri="http://schemas.openxmlformats.org/drawingml/2006/table">
            <a:tbl>
              <a:tblPr/>
              <a:tblGrid>
                <a:gridCol w="2971800"/>
                <a:gridCol w="914400"/>
                <a:gridCol w="990720"/>
                <a:gridCol w="1143000"/>
                <a:gridCol w="965160"/>
                <a:gridCol w="1397160"/>
              </a:tblGrid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ile Est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 Locuinte noi/1000 lo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rafata/loc. (mp/lo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2819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oare lucrari constructii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14,5 (2008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,6 (2009)         10 (2010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mld EUR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IR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6BF76-9659-4C58-BC0F-72E25DBECA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uneri 2011 - 20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itizarea lucrarilor (46.000 santiere in derulare in 2010) de investitii si oprirea celor fara finant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ragerea fondurilor europene prin asigurarea confinantar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sarea unor proiecte mari in parteneriat public-pri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strazi si sos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IR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42FCD-86F7-42BF-A4D4-0257E9BA92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Va multumesc pentru atenti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www.cirom.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office@cirom.ro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IR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3DC5C-46F2-44D7-9423-3B68EF229B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Revitalizarea pietei constructiilor </a:t>
            </a:r>
            <a:br>
              <a:rPr sz="2000"/>
            </a:b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rin reorientarea catre durabilitate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O constructie durabila a reprezentat intotdeauna cea mai buna investitie pe termen lu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ndiferent de tipul constructie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rivit unor statistici (*) recente aproximativ 40% din totalul productiei de materiale de constructie se indreapta catre reparatii sau lucrari de intretin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talizarea industriei trebuie sa se faca urmarindu-se, ca obiective strategice, 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cresterea durabilitatii constructiilor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respectarea mediului inconjurator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adaptarea la schimbarile clima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6400800"/>
            <a:ext cx="7010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(*) – Baron &amp; Olivier, La durabilite des beton, Presses Ponts et Chausses, Par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62485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IR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D97BC-B191-4502-98B9-C4BC384D3D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80880" y="1066680"/>
            <a:ext cx="8457840" cy="4953240"/>
            <a:chOff x="380880" y="1066680"/>
            <a:chExt cx="8457840" cy="495324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390560" y="1066680"/>
              <a:ext cx="4448160" cy="495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380880" y="1066680"/>
              <a:ext cx="3900960" cy="495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BETONUL – Protectie la foc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IR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E6CBD-19EC-439A-ACF0-3FE25F3D36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3693960" cy="5857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018040" y="533520"/>
            <a:ext cx="3668760" cy="586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IR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2738D-6329-4602-8190-2C6A27DE56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3674880" cy="5867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045040" y="533520"/>
            <a:ext cx="3641760" cy="586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IR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F5717-2BC8-464D-8236-CCF8B62ACA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575080" y="533520"/>
            <a:ext cx="4046400" cy="586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IR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8F571-E435-4102-A6E0-4AD88988D1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-22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ropuneri in domeniul producerii betonul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334120" y="2666880"/>
            <a:ext cx="2800080" cy="3733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143000" y="2666880"/>
            <a:ext cx="2857680" cy="381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IR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33DCF-74CB-4AD6-821D-993B97F3F4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ropuneri in domeniul producerii betonului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unem Ministerului Dezvoltarii Regionale si Turismului (prin Directia Generala Tehnica in Constructii) urmatoare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. Deblocarea procedurii privind certificarea conformitatii betonulu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n asteptare de aproximativ 2 ani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vand urmatoarele efecte direc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aritia in piata a posibilitatii de selectare pe criterii de competenta profesionala a producatorilor de beton (statii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mularea investitiilor tehnologice in domeniu s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area legislatiei nationale la practica europeana in domeni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B. Intrarea in vigoare a NE 012/2 privind executarea lucrarilor de beton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vand urmatoarele efecte direc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igurarea coerentei legislative pe tot traseul betonului, de la producere si pana la punerea sa in ope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rirea exigentelor calitative in etapa de proiectare si in executie, pe santie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IR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5065D-F93C-4912-B90B-12795A4761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NAUTUB</cp:lastModifiedBy>
  <dcterms:modified xsi:type="dcterms:W3CDTF">2010-11-11T06:50:38Z</dcterms:modified>
  <cp:revision>4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