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563-7B17-413E-AA29-8B4EF426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F3B-B3C0-4342-902B-3E061A78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8F6-BC2C-4999-9527-9E4372B4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CEC-F3FB-4D9F-A461-608DA6F7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72B-987B-463E-B345-12F54429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691-37CB-446E-A286-757554DE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299-2D90-4A67-BF72-A0795C13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5D92-BE89-4076-8F65-295FC953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DF5-FF49-4865-946F-B1B9BFED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E315-679A-49D0-94DB-A31BB227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25D-30EC-4861-B1EF-54F4D5E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EA3-94D7-4E8C-B702-CEF4362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307A-6004-478E-9535-0D8F6AAA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drl.ro/_documente/constructii/legislatie/oug_18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5410080" y="274320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226080" y="3123360"/>
            <a:ext cx="87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VOCARILE OUG 69/2010 PENTRU SECTORUL PUBLIC SI PRIVAT</a:t>
            </a:r>
            <a:r>
              <a:rPr b="1" lang="pt-BR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380880" y="193788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poate vedea ca pentru o asociatie de proprietari poate parea dificil, daca nu imposibil sa aplice prevederile acestei ordon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otodata si pentru producatorii de materiale pare un lucru imposibil sa se incadreze in noul si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cest sens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K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incheiat un parteneriat cu una din  bancile care au intrat in  acest program, parteneriat prin care oferim solutii complete asociatiile de proprieta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est parteneriat este completat de asocierea cu firmele de constructii la nivel national, astfel incat sa putem oferi si o solutie cu privire la garantia  lucrarilor de anvelopare te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2260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neriatul  trebuie sa furnizeze asociatiilor de proprietari , calcule de cost, calcule de economii, comparatiile de compensare a costurilor cu economiile si sa le ajute cu actele necesare pentru a obtine sprijinul membri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mbrii asociatiilor pot fi reticenti in a contracta un serviciu care li se cere sa plateasca pentru un serviciu care practic  a fost gratuit pana in anul 2010, si in timpul recesiun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52280" y="251532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utiile oferite se refera 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aluari tehn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rtificarea energet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udit energeti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iectarea de lucrari de reabilitare termic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iect de dosar şi a Certificatului de Urbanis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tinerea autorizatie de constructie pentru condomini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iect de dosar si obtinerea aprobarii de imprumut de la ban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registrarea de imprumut in registrul cadastral, pentru fiecare apartament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295280" y="152316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um vine DEKO PROFESSIONAL in ajutorul Dv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04920" y="257508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rticipa la intalniri si prezinta avantajele folosirii unui sistem comp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defavoarea sistemelor hibrid. Pe langa avantajele  de ordin tehnic, trebuie avute in vedere faptul 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▪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dusele DEKO au o garantie foarte lunga in timp, ajungandu-se si pana la 30 de ani. Astfel, populatia trebuie sa ia in considerare si factorul “timp” in calculul de pret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38080" y="53341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62120" y="297180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KO PROFESSIONAL sustine cu incredere acest proiec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200400" y="4451400"/>
            <a:ext cx="609588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multumes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Andrusca – Manager DE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04920" y="1331280"/>
            <a:ext cx="548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joritatea blocurilor de locuinte din Romania, construite dupa proiecte elaborate in perioada 1950-1990, prezinta un nivel scazut de izolare termica, iar aceasta se traduce in facturi mari pentru incalzire in perioda rece si consum ridicat de energie electrica pentru climatizare pe timpul v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bilitarea termica a blocului in care locuiti va reduce factura de intretinere pe perioada iernii cu pana la 40%,iar pe timpul verii asigura confort ter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vechi 02"/>
          <p:cNvPicPr/>
          <p:nvPr/>
        </p:nvPicPr>
        <p:blipFill>
          <a:blip r:embed="rId2"/>
          <a:stretch/>
        </p:blipFill>
        <p:spPr>
          <a:xfrm>
            <a:off x="5943600" y="190512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533520" y="198108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tem vorbi desp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UG 69/201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a despre o consecinta favorabila a directivelor Parlamentului European privind aplicarea unor masuri financiare in sprijinul reducerii consumurilor energetice si a cresterii numarului de cladiri cu consum redus de energie din sursele clas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3520" y="36576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 modificarile legislative succesive, Romania nu a schimbat niciun moment aspectele de ordin tehnic ale reabilitarii termice, doar a modificat cadrul legislativ al modului de finantare a lucrarilor de reabilitare ter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80880" y="1251000"/>
            <a:ext cx="807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in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RDONANTA DE URGENTA nr. 18/4.03.2009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ivind cresterea performantei energetice a blocurilor de locuinte cu documentele subsecvente, se prevede faptul ca Execuţia lucrărilor de intervenţie se finanţează astf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251424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ociaţia de proprietari plateste 20%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in costul total al executarii lucrarilor de intervent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04920" y="3429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tul de 80%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in costul total al executarii lucrarilor de interventie este asigurat de la bugetul de stat si cel lo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5800" y="4114800"/>
            <a:ext cx="624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0% de la bugetul de sta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rin Ministerul Dezvoltarii Regionale si Locuintei, in limita fondurilor aprobate 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0% de la bugetul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% pot fi suportati de prima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152280" y="1569600"/>
            <a:ext cx="883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rmare a acestei ordonante, s-au inceput lucrari de reabilitare termica, cu precadere in marile orase, iar in scurt timp au inceput sa fie vizibile deficientele programului de reabilitare termica cum ar f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terea foarte mare a costurilor de reabilitare term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osirea sistemelor hibrid de anvelopare termica in locul celor agrementa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umarea rapida a fondurilor alocate de Guvern in cadrul acestui program si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ptul ca doar o parte nesemnificativa a  putut accesa fonduri pentru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bilitare termica pe fondul crizei economi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implicarea populatiei in alegerea termosistemelor agrementate si compani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structie care au executat lucrarile de anvelopare term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sibilitatea asociatilor de proprietari din majoritatea oraselor de a acces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st program datorita lipsei de fonduri din  bugetele primarii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80880" y="121896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e sunt pasii pe care o asociatie de proprietari ar trebui sa ii faca pentru a beneficia de prevederile Ordonantei de urgenta 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uvernului nr. 69/201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28600" y="2548080"/>
            <a:ext cx="830592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neficiarul/Asociatia de Proprieta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a decizia de reabilitare termica a blocului de locu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runeste Adunarea Generala a proprietarilor, care hotaraste cu votul a minimum 90% dintre membrii aceste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hotararea Adunarii Generale a proprietarilor se anexeaza lista proprietarilor, care cuprinde datele de identificare ale proprietarilor si acordul acestora cu privire la reabilitarea termica a blocului de locuinte si contractarea unui imprumut ban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135504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1222560"/>
            <a:ext cx="8305920" cy="60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dintele Asociatiei de Proprieta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e obligatia de a instiinta toti proprietarii din condominiu, prin afisarea hotararii adunarii generale a asociatiei de proprietari la avizierul asociati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otararea Adunarii Generale a proprietarilor se redacteaza, se semneaza si stampileaza de presedintele asociatiei de proprieta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neficiarul solicita expertiza tehnica unui expert atest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neficiarul solicita certificatul de performanta energetica a cladirii existente de la primaria in raza careia se afla situat blocul de locuinte in baza auditului energetic elabor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eficiarul solicita, elaborarea proiectului tehnic si detaliile de execut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eficiarul isi finanteaza singur, din surse proprii, cheltuielile cuprinse la pct anterioar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eficiarul selecteaza un constructor eligibi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eficiarul se prezinta la orice unitate teritoriala bancara agreata in progra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neficiarul cat si constructorul deschid cate un cont curent la banca agre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52280" y="1829520"/>
            <a:ext cx="86108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n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zeaza documentatia depusa si incadrarea clientului in conditiile de eligibilitate si acorda decizia de aprobare/respingere cre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logo DEKO new1"/>
          <p:cNvPicPr/>
          <p:nvPr/>
        </p:nvPicPr>
        <p:blipFill>
          <a:blip r:embed="rId1"/>
          <a:stretch/>
        </p:blipFill>
        <p:spPr>
          <a:xfrm>
            <a:off x="838080" y="228600"/>
            <a:ext cx="7315200" cy="746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533520" y="5943600"/>
            <a:ext cx="723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762120" y="97524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re sunt caracteristicile si oportunitatile oferite de noul sistem de creditare cu garantie guvernament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1447920"/>
          <a:ext cx="6476760" cy="4771800"/>
        </p:xfrm>
        <a:graphic>
          <a:graphicData uri="http://schemas.openxmlformats.org/drawingml/2006/table">
            <a:tbl>
              <a:tblPr/>
              <a:tblGrid>
                <a:gridCol w="2152440"/>
                <a:gridCol w="4324320"/>
              </a:tblGrid>
              <a:tr h="426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it cu garantie guvernamentala si dobanda subvention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n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OR la 3 luni + marja fixa de 1.9% pe 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anda este subventionata integral de stat, clientul nu plateste dobanda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are maxima 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 90% din devizul de executare a lucrarilor, dar nu mai mult decat echivalentul in lei, inclusiv TVA, a 1,850 eur/camera locu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ibutie proprie cl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 10% din valoarea de executie a lucrarilor de interven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ada de credi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im 5 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sion de analiza dos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sion de gestiu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sion de rambursare anticip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sion de neutiliz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nt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Garantia FNGCI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ision de gestiune datorat FNGCIM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bilit conform ordinului Ministrului Finantelor Publice, platit anual de Banca si recuperat ulterior de la beneficiarul garantiei guvernament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990720" y="6248520"/>
          <a:ext cx="6476760" cy="569880"/>
        </p:xfrm>
        <a:graphic>
          <a:graphicData uri="http://schemas.openxmlformats.org/drawingml/2006/table">
            <a:tbl>
              <a:tblPr/>
              <a:tblGrid>
                <a:gridCol w="2152440"/>
                <a:gridCol w="4324320"/>
              </a:tblGrid>
              <a:tr h="25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mburs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 lunare, egale si consecu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ada de tragere 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. 6 luni, cf. OUG 69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18:22Z</dcterms:created>
  <dc:creator>alexandra.niculescu</dc:creator>
  <dc:description/>
  <dc:language>en-US</dc:language>
  <cp:lastModifiedBy> </cp:lastModifiedBy>
  <dcterms:modified xsi:type="dcterms:W3CDTF">2010-11-11T07:12:48Z</dcterms:modified>
  <cp:revision>82</cp:revision>
  <dc:subject/>
  <dc:title>Slide 1</dc:title>
</cp:coreProperties>
</file>