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3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33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002960" y="728640"/>
            <a:ext cx="4815000" cy="364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611600"/>
            <a:ext cx="544824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9223200"/>
            <a:ext cx="29336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9223200"/>
            <a:ext cx="29336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BBDE6-5021-4ACB-9E93-F5B7B4D0206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43080" y="738360"/>
            <a:ext cx="25700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03320" y="728640"/>
            <a:ext cx="48528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03320" y="728640"/>
            <a:ext cx="48528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03320" y="728640"/>
            <a:ext cx="48528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03320" y="728640"/>
            <a:ext cx="48528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03320" y="728640"/>
            <a:ext cx="48528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43080" y="738360"/>
            <a:ext cx="25700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06F-EB4C-4B3F-8B9B-CDECAF00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1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191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2CE-4281-4A7D-80D6-940DD6CD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4440" y="39650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471-9C77-4F96-AE2F-7700DBB2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6680" y="15998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6520" y="15998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6680" y="39650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6520" y="39650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421-7C4A-4C5B-9B40-EB4C196B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BF4A-6AB5-4ABB-855F-332B2F66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914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6529-4981-42D5-9091-E657A45A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14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6659-F2C3-4B5D-A062-1CB8F33C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DFF5-1C4E-435C-9C8F-2E7FD7B3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C362-4DDF-4E19-9C5F-08183163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191440" cy="51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9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5374-A99C-4513-A21B-F69644F6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165E-06A7-475F-B98B-30CE59B8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914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664-E127-4212-AFC2-F0D7D520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4440" y="39650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6492-D145-4BC0-B0F8-667D9B7D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191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85E1-B088-4153-B442-2894E212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1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191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CBC1-59AC-4F41-AEE2-92A809C3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4440" y="39650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5C83-FC6E-4722-9072-B8789CCF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6680" y="15998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6520" y="15998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6680" y="39650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6520" y="39650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28D7-5D82-442A-95C0-3FB771D3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14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940-7C5C-44B1-BB7A-CF8D246A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1C7-48D9-46AC-850F-607AB062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74A-1482-45E2-9BF4-223BF1A6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191440" cy="51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9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CE0-D1A5-43A7-A51D-E9AFC87E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4FF-154E-49D1-9233-111DE690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4440" y="39650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2EB-DCD7-4640-8FFF-87B14D87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191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FFE-4ACF-46DB-AA31-EC12F33E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914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9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325440">
              <a:lnSpc>
                <a:spcPct val="19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-325440">
              <a:lnSpc>
                <a:spcPct val="19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01760" indent="-290520">
              <a:lnSpc>
                <a:spcPct val="19000"/>
              </a:lnSpc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43040" indent="-325440">
              <a:lnSpc>
                <a:spcPct val="19000"/>
              </a:lnSpc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43040" indent="-325440">
              <a:lnSpc>
                <a:spcPct val="1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43040" indent="-325440">
              <a:lnSpc>
                <a:spcPct val="1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095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576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095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FC1FA-371A-4941-A92D-D70A3259F83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58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095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57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095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E758DD-C4AB-47E8-B42A-CFF0BC8A436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05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19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325440">
              <a:lnSpc>
                <a:spcPct val="19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-325440">
              <a:lnSpc>
                <a:spcPct val="19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01760" indent="-290520">
              <a:lnSpc>
                <a:spcPct val="19000"/>
              </a:lnSpc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43040" indent="-325440">
              <a:lnSpc>
                <a:spcPct val="19000"/>
              </a:lnSpc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43040" indent="-325440">
              <a:lnSpc>
                <a:spcPct val="1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43040" indent="-325440">
              <a:lnSpc>
                <a:spcPct val="1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26028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d2868"/>
                </a:solidFill>
                <a:latin typeface="Times New Roman"/>
              </a:rPr>
              <a:t>PATRONATUL SOCIETĂŢILOR DIN CONSTRUC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1079640" cy="2079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308720" y="1116000"/>
            <a:ext cx="1330560" cy="1224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84464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d2868"/>
                </a:solidFill>
                <a:latin typeface="Arial"/>
              </a:rPr>
              <a:t>Uniunii Europene a Promotorilor Construc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692280"/>
            <a:ext cx="662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1d2868"/>
                </a:solidFill>
                <a:latin typeface="Times New Roman"/>
              </a:rPr>
              <a:t>Proiectare, cercetare, consultanţă, execuţie, producători de materiale de construcţii şi uti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1413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1d2868"/>
                </a:solidFill>
                <a:latin typeface="Times New Roman"/>
              </a:rPr>
              <a:t>Membru 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637000"/>
            <a:ext cx="8209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ROMANIA CONSTRUCT FORUM Bucuresti 22 octombri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79640" y="5219640"/>
            <a:ext cx="2998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GANIZA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219640" y="5219640"/>
            <a:ext cx="360036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9280" y="236520"/>
            <a:ext cx="75596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280099"/>
                </a:solidFill>
                <a:latin typeface="Garamond"/>
              </a:rPr>
              <a:t>PATRONATUL SOCIETATILOR DIN CONSTRUCTI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3333ff"/>
                </a:solidFill>
                <a:latin typeface="Garamond"/>
              </a:rPr>
              <a:t>Fondurile Structurale si Programul de Reabilitare Termica in opinia publica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519280"/>
            <a:ext cx="82296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 u="sng">
                <a:solidFill>
                  <a:srgbClr val="ff3300"/>
                </a:solidFill>
                <a:uFillTx/>
                <a:latin typeface="Arial"/>
              </a:rPr>
              <a:t>Informatia costa, dar mai scumpa este lipsa ei!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– motto – ul sub egida caruia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st realizat prezentul sondaj de opinie, din dorinta de a afla cat de in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ste “omul de rand” despre aspecte care il privesc, mai mult sau mai putin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d direct, precum si gradul de interes al acestuia fata de imbunatatir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fortului propriu de vi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zentul studiu de cercetare a fost realizat in perioada 10 – 19 octombrie 2009,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ivel national, pe un esantion de 3000 de persoane cu varste peste 18 ani (din to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tegoriile sociale), avand o marja de eroare 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,79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artener de promovare</a:t>
            </a:r>
            <a:r>
              <a:rPr b="1" i="1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719280" cy="1621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919840" y="5873760"/>
            <a:ext cx="2539800" cy="245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380360" y="720720"/>
            <a:ext cx="125892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280099"/>
                </a:solidFill>
                <a:latin typeface="Garamond"/>
              </a:rPr>
              <a:t>PATRONATUL SOCIETATILOR DIN CONSTRUCTI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3333ff"/>
                </a:solidFill>
                <a:latin typeface="Garamond"/>
              </a:rPr>
              <a:t>Conform statisticii furnizate de AVANGARDE (Centrul de Stiinte Sociocomportamentale), s-au inregistrat datele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71a"/>
                </a:solidFill>
                <a:latin typeface="Arial"/>
              </a:rPr>
              <a:t>Ati primit consultanta privind posibilitatea de accesare a fondurilor structura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0% dintre cei chestionati nu au primit consultanta pe Fonduri Structurale, la polu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us, cu un procent de 3%, situandu-se persoane care au avut acces la informatiile d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est domeniu. Totodata, un numar destul de mare de subiecti (20%) nu cunoaste 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ume reprezinta  Fondurile Structur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artener de promov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719280" cy="1621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919840" y="5873760"/>
            <a:ext cx="2539800" cy="245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391520" y="609480"/>
            <a:ext cx="1258920" cy="10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533520" y="3581280"/>
          <a:ext cx="7848360" cy="297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581280"/>
                    <a:ext cx="78483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9280" y="236520"/>
            <a:ext cx="75596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280099"/>
                </a:solidFill>
                <a:latin typeface="Garamond"/>
              </a:rPr>
              <a:t>PATRONATUL SOCIETATILOR DIN CONSTRUCTI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3333ff"/>
                </a:solidFill>
                <a:latin typeface="Garamond"/>
              </a:rPr>
              <a:t>Implicarea “subtire” a organismelor competente in informarea populatiei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1120" y="20030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 intrebarea 2.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“Daca da, DE LA CINE?”,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dresata procentului de 3% dint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biectii care au raspuns afirmativ la intrebarea anterioara, rezultatele ind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mplicarea “minima” sau chiar lipsa acesteia din partea organismelor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pecialit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stf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utoritatile guvernamentale si public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locale ocupa un procent de 1% in furnizar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ormatiilor catre cetaten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 aceeasi treapta ( 1%) se situeaza si </a:t>
            </a:r>
            <a:r>
              <a:rPr b="1" i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irmele de consultant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in domeniu, in tim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e un procent de 96% nu precizeaza sursa de inform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artener de promovar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719280" cy="1621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19840" y="5873760"/>
            <a:ext cx="2539800" cy="245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380360" y="720720"/>
            <a:ext cx="125892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9280" y="236520"/>
            <a:ext cx="75596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280099"/>
                </a:solidFill>
                <a:latin typeface="Garamond"/>
              </a:rPr>
              <a:t>PATRONATUL SOCIETATILOR DIN CONSTRUCTI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3333ff"/>
                </a:solidFill>
                <a:latin typeface="Garamond"/>
              </a:rPr>
              <a:t>I</a:t>
            </a:r>
            <a:r>
              <a:rPr b="1" i="1" lang="en-GB" sz="2400" spc="-1" strike="noStrike">
                <a:solidFill>
                  <a:srgbClr val="0047ff"/>
                </a:solidFill>
                <a:latin typeface="Garamond"/>
              </a:rPr>
              <a:t>ncredere in firmele autohtone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entru executarea unor proiecte de infrastructura, aveti mai multa incredere 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NS/N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Firme romanesti + stra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%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rme romane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rme stra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artener de promovar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719280" cy="162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919840" y="5873760"/>
            <a:ext cx="2539800" cy="245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380360" y="720720"/>
            <a:ext cx="1258920" cy="1081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9480" y="2819520"/>
            <a:ext cx="4953240" cy="228600"/>
          </a:xfrm>
          <a:prstGeom prst="rightArrow">
            <a:avLst>
              <a:gd name="adj1" fmla="val 50000"/>
              <a:gd name="adj2" fmla="val 54169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3505320"/>
            <a:ext cx="2057400" cy="228600"/>
          </a:xfrm>
          <a:prstGeom prst="rightArrow">
            <a:avLst>
              <a:gd name="adj1" fmla="val 50000"/>
              <a:gd name="adj2" fmla="val 2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191120"/>
            <a:ext cx="7086600" cy="228600"/>
          </a:xfrm>
          <a:prstGeom prst="rightArrow">
            <a:avLst>
              <a:gd name="adj1" fmla="val 50000"/>
              <a:gd name="adj2" fmla="val 77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029200"/>
            <a:ext cx="2590920" cy="228600"/>
          </a:xfrm>
          <a:prstGeom prst="rightArrow">
            <a:avLst>
              <a:gd name="adj1" fmla="val 50000"/>
              <a:gd name="adj2" fmla="val 28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09480" y="289512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9280" y="236520"/>
            <a:ext cx="75596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280099"/>
                </a:solidFill>
                <a:latin typeface="Garamond"/>
              </a:rPr>
              <a:t>PATRONATUL SOCIETATILOR DIN CONSTRUCTI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3333ff"/>
                </a:solidFill>
                <a:latin typeface="Garamond"/>
              </a:rPr>
              <a:t>C</a:t>
            </a:r>
            <a:r>
              <a:rPr b="1" i="1" lang="en-GB" sz="2400" spc="-1" strike="noStrike">
                <a:solidFill>
                  <a:srgbClr val="0047ff"/>
                </a:solidFill>
                <a:latin typeface="Garamond"/>
              </a:rPr>
              <a:t>onfort sporit cu costuri reduse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4. In vederea maririi performantei energetice a locuintei dumneavoastra, 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uma sunteti dispus sa cheltuiti, stiind ca aceasta se amortizeaz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S/N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STE 1000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RE 500 si 1000 EUR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RE 200 si 500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B 200 de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artener de promovare</a:t>
            </a: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719280" cy="1621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919840" y="5873760"/>
            <a:ext cx="2539800" cy="245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380360" y="720720"/>
            <a:ext cx="1258920" cy="1081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3200400"/>
            <a:ext cx="65530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886200"/>
            <a:ext cx="9144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648320"/>
            <a:ext cx="91440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257800"/>
            <a:ext cx="22096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791320"/>
            <a:ext cx="3124080" cy="228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200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8920" y="26028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d2868"/>
                </a:solidFill>
                <a:latin typeface="Times New Roman"/>
              </a:rPr>
              <a:t>PATRONATUL SOCIETĂŢILOR DIN CONSTRUC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1079640" cy="2079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308720" y="1116000"/>
            <a:ext cx="1330560" cy="1224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258920" y="184464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d2868"/>
                </a:solidFill>
                <a:latin typeface="Arial"/>
              </a:rPr>
              <a:t>Uniunii Europene a Promotorilor Construc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3640" y="692280"/>
            <a:ext cx="662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1d2868"/>
                </a:solidFill>
                <a:latin typeface="Times New Roman"/>
              </a:rPr>
              <a:t>Proiectare, cercetare, consultanţă, execuţie, producători de materiale de construcţii şi uti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1413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1d2868"/>
                </a:solidFill>
                <a:latin typeface="Times New Roman"/>
              </a:rPr>
              <a:t>Membru 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2637000"/>
            <a:ext cx="8209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ă mulţumim pentru atenţi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3333ff"/>
                </a:solidFill>
                <a:latin typeface="Arial"/>
              </a:rPr>
              <a:t>Cristian Erba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3333ff"/>
                </a:solidFill>
                <a:latin typeface="Arial"/>
              </a:rPr>
              <a:t>Presedinte P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919840" y="5873760"/>
            <a:ext cx="2539800" cy="245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79640" y="5580000"/>
            <a:ext cx="2998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tener de promov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anca</cp:lastModifiedBy>
  <dcterms:modified xsi:type="dcterms:W3CDTF">2009-10-21T22:14:42Z</dcterms:modified>
  <cp:revision>42</cp:revision>
  <dc:subject/>
  <dc:title>Slide 1</dc:title>
</cp:coreProperties>
</file>