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DD8-16EC-4A7A-93F6-629F95D5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457-A231-496E-887A-03497C22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EEF-F4C6-4F18-B121-FAC1B758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A1A-DFE5-4A9E-AA8D-488D328C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049-9361-4AE2-A254-B2FAC9E5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B3B-5BE3-4C93-BE52-93A2E219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457-7D16-4971-BA68-C223557B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11E-91F0-4DF4-B420-2855895D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31F-5DC5-44D1-877E-06A8E47F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675-5EB3-4951-B1CF-A957852B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C60-2CA1-4E21-8D4C-D3AE4CDD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704-D9A9-40EC-B7D4-C120A2DC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C72C-5209-4D9C-8C8C-2B2F2B805503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571680" y="785880"/>
            <a:ext cx="814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 Black"/>
              </a:rPr>
              <a:t>2008-2009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 Black"/>
              </a:rPr>
              <a:t>Cifrele vorbesc 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5"/>
          <p:cNvSpPr/>
          <p:nvPr/>
        </p:nvSpPr>
        <p:spPr>
          <a:xfrm>
            <a:off x="5000760" y="5000760"/>
            <a:ext cx="38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002060"/>
                </a:solidFill>
                <a:latin typeface="Arial Black"/>
              </a:rPr>
              <a:t>Vă aşteptăm!</a:t>
            </a:r>
            <a:r>
              <a:rPr b="0" lang="ro-RO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Afis conferinta 6.jpg"/>
          <p:cNvPicPr/>
          <p:nvPr/>
        </p:nvPicPr>
        <p:blipFill>
          <a:blip r:embed="rId1"/>
          <a:stretch/>
        </p:blipFill>
        <p:spPr>
          <a:xfrm>
            <a:off x="357120" y="214200"/>
            <a:ext cx="4496040" cy="6357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5000760" y="500040"/>
            <a:ext cx="37861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0000"/>
                </a:solidFill>
                <a:latin typeface="Arial Black"/>
              </a:rPr>
              <a:t>Pe termen scur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 Black"/>
              </a:rPr>
              <a:t>O</a:t>
            </a:r>
            <a:r>
              <a:rPr b="0" lang="ro-RO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 Black"/>
              </a:rPr>
              <a:t>soluţie comun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5929200" y="2857680"/>
            <a:ext cx="235764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CRIZA.jpg"/>
          <p:cNvPicPr/>
          <p:nvPr/>
        </p:nvPicPr>
        <p:blipFill>
          <a:blip r:embed="rId1"/>
          <a:stretch/>
        </p:blipFill>
        <p:spPr>
          <a:xfrm>
            <a:off x="285840" y="285840"/>
            <a:ext cx="8683560" cy="6286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5143680" y="357120"/>
            <a:ext cx="37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0000"/>
                </a:solidFill>
                <a:latin typeface="Arial Black"/>
              </a:rPr>
              <a:t>Pe term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0000"/>
                </a:solidFill>
                <a:latin typeface="Arial Black"/>
              </a:rPr>
              <a:t>Medi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iclu EEE.jpg"/>
          <p:cNvPicPr/>
          <p:nvPr/>
        </p:nvPicPr>
        <p:blipFill>
          <a:blip r:embed="rId1"/>
          <a:stretch/>
        </p:blipFill>
        <p:spPr>
          <a:xfrm>
            <a:off x="642960" y="2214720"/>
            <a:ext cx="8072280" cy="4189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571680" y="21420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0000"/>
                </a:solidFill>
                <a:latin typeface="Arial Black"/>
              </a:rPr>
              <a:t>Folosirea principiilor Economiei Eco Efic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0000"/>
                </a:solidFill>
                <a:latin typeface="Arial Black"/>
              </a:rPr>
              <a:t>în industria construcţii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7643880" y="5857920"/>
            <a:ext cx="9270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b050"/>
                </a:solidFill>
                <a:latin typeface="Arial Black"/>
              </a:rPr>
              <a:t>În loc de .......Concluzie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57120" y="1643040"/>
            <a:ext cx="8501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b050"/>
                </a:solidFill>
                <a:latin typeface="Arial Black"/>
              </a:rPr>
              <a:t>Romania are 237 500 Kmp din care teren agricol peste 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b050"/>
                </a:solidFill>
                <a:latin typeface="Arial Black"/>
              </a:rPr>
              <a:t>Consultaţi statisticile să vedeţi cât din terenul agricol s-a lucrat în acest a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b050"/>
                </a:solidFill>
                <a:latin typeface="Arial Black"/>
              </a:rPr>
              <a:t>Vedeţi cât pierdem noi şi ... copiii copiilor noştr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b050"/>
                </a:solidFill>
                <a:latin typeface="Arial Black"/>
              </a:rPr>
              <a:t>Nu trebuie să le lăsăm în loc de resurse...Datorii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b050"/>
                </a:solidFill>
                <a:latin typeface="Arial Black"/>
              </a:rPr>
              <a:t>Dezvoltarea Durabilă nu trebuie să fie o poveste, ci ....un impera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Arial Black"/>
              </a:rPr>
              <a:t>EEE este unul din motoarele acestei dezvoltări !                     Să-l porni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7643880" y="5857920"/>
            <a:ext cx="9270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000160" y="642960"/>
            <a:ext cx="4857840" cy="417204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642960" y="4929120"/>
            <a:ext cx="750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10253f"/>
                </a:solidFill>
                <a:latin typeface="Arial Black"/>
              </a:rPr>
              <a:t>Vă mulţumesc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14240" y="1071720"/>
          <a:ext cx="6739200" cy="3857400"/>
        </p:xfrm>
        <a:graphic>
          <a:graphicData uri="http://schemas.openxmlformats.org/drawingml/2006/table">
            <a:tbl>
              <a:tblPr/>
              <a:tblGrid>
                <a:gridCol w="487440"/>
                <a:gridCol w="486000"/>
                <a:gridCol w="669600"/>
                <a:gridCol w="782640"/>
                <a:gridCol w="1106640"/>
                <a:gridCol w="628560"/>
                <a:gridCol w="1117800"/>
                <a:gridCol w="487080"/>
                <a:gridCol w="486000"/>
                <a:gridCol w="487440"/>
              </a:tblGrid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dicii productiei industrial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ţă de luna preced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dust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e de construcţi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Chart 5" descr=""/>
          <p:cNvPicPr/>
          <p:nvPr/>
        </p:nvPicPr>
        <p:blipFill>
          <a:blip r:embed="rId1"/>
          <a:stretch/>
        </p:blipFill>
        <p:spPr>
          <a:xfrm>
            <a:off x="3492360" y="1133640"/>
            <a:ext cx="5078520" cy="3931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7286760" y="5079960"/>
            <a:ext cx="13525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857160" y="1071720"/>
          <a:ext cx="6096240" cy="3431880"/>
        </p:xfrm>
        <a:graphic>
          <a:graphicData uri="http://schemas.openxmlformats.org/drawingml/2006/table">
            <a:tbl>
              <a:tblPr/>
              <a:tblGrid>
                <a:gridCol w="439920"/>
                <a:gridCol w="441360"/>
                <a:gridCol w="604800"/>
                <a:gridCol w="709560"/>
                <a:gridCol w="998640"/>
                <a:gridCol w="569880"/>
                <a:gridCol w="1011240"/>
                <a:gridCol w="439560"/>
                <a:gridCol w="441360"/>
                <a:gridCol w="439920"/>
              </a:tblGrid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dicii productiei industri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ţă de luna corespunzatoare anului preced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 rowSpan="19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dust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e de construcţi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7" name="Chart 8" descr=""/>
          <p:cNvPicPr/>
          <p:nvPr/>
        </p:nvPicPr>
        <p:blipFill>
          <a:blip r:embed="rId1"/>
          <a:stretch/>
        </p:blipFill>
        <p:spPr>
          <a:xfrm>
            <a:off x="3419640" y="1494000"/>
            <a:ext cx="5065560" cy="3571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7213680" y="5133960"/>
            <a:ext cx="14256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art 5" descr=""/>
          <p:cNvPicPr/>
          <p:nvPr/>
        </p:nvPicPr>
        <p:blipFill>
          <a:blip r:embed="rId1"/>
          <a:stretch/>
        </p:blipFill>
        <p:spPr>
          <a:xfrm>
            <a:off x="3352680" y="2206800"/>
            <a:ext cx="4584960" cy="3279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1386000" y="1143000"/>
            <a:ext cx="39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Indicii valorici ai cifrei de aface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71720" y="1928880"/>
          <a:ext cx="2070000" cy="3638520"/>
        </p:xfrm>
        <a:graphic>
          <a:graphicData uri="http://schemas.openxmlformats.org/drawingml/2006/table">
            <a:tbl>
              <a:tblPr/>
              <a:tblGrid>
                <a:gridCol w="607680"/>
                <a:gridCol w="676440"/>
                <a:gridCol w="785880"/>
              </a:tblGrid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ţă de luna precede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dustr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e de construcţi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6858000" y="5500800"/>
            <a:ext cx="117648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1386000" y="1143000"/>
            <a:ext cx="39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Indicii valorici ai cifrei de aface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00040" y="1714680"/>
          <a:ext cx="6095880" cy="3463920"/>
        </p:xfrm>
        <a:graphic>
          <a:graphicData uri="http://schemas.openxmlformats.org/drawingml/2006/table">
            <a:tbl>
              <a:tblPr/>
              <a:tblGrid>
                <a:gridCol w="425520"/>
                <a:gridCol w="426960"/>
                <a:gridCol w="473040"/>
                <a:gridCol w="550800"/>
                <a:gridCol w="966960"/>
                <a:gridCol w="579240"/>
                <a:gridCol w="968400"/>
                <a:gridCol w="427320"/>
                <a:gridCol w="425160"/>
                <a:gridCol w="425520"/>
                <a:gridCol w="426960"/>
              </a:tblGrid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ţă de luna corespunzatoare anului preced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 rowSpan="18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dust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e de construcţi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5" name="Chart 6" descr=""/>
          <p:cNvPicPr/>
          <p:nvPr/>
        </p:nvPicPr>
        <p:blipFill>
          <a:blip r:embed="rId1"/>
          <a:stretch/>
        </p:blipFill>
        <p:spPr>
          <a:xfrm>
            <a:off x="2992320" y="1706400"/>
            <a:ext cx="5310360" cy="373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6858000" y="5500800"/>
            <a:ext cx="117648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28760" y="1500120"/>
          <a:ext cx="6095880" cy="3686400"/>
        </p:xfrm>
        <a:graphic>
          <a:graphicData uri="http://schemas.openxmlformats.org/drawingml/2006/table">
            <a:tbl>
              <a:tblPr/>
              <a:tblGrid>
                <a:gridCol w="433080"/>
                <a:gridCol w="432000"/>
                <a:gridCol w="433440"/>
                <a:gridCol w="901800"/>
                <a:gridCol w="433080"/>
                <a:gridCol w="432000"/>
                <a:gridCol w="433440"/>
                <a:gridCol w="433440"/>
                <a:gridCol w="431640"/>
                <a:gridCol w="433440"/>
                <a:gridCol w="433440"/>
                <a:gridCol w="431640"/>
                <a:gridCol w="433440"/>
              </a:tblGrid>
              <a:tr h="223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dicii preţuri producţi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 rowSpan="21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ţă de luna preced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dust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e de construcţi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Chart 4" descr=""/>
          <p:cNvPicPr/>
          <p:nvPr/>
        </p:nvPicPr>
        <p:blipFill>
          <a:blip r:embed="rId1"/>
          <a:stretch/>
        </p:blipFill>
        <p:spPr>
          <a:xfrm>
            <a:off x="3139920" y="1779480"/>
            <a:ext cx="5205600" cy="4060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7572240" y="285840"/>
            <a:ext cx="117648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hart 5" descr=""/>
          <p:cNvPicPr/>
          <p:nvPr/>
        </p:nvPicPr>
        <p:blipFill>
          <a:blip r:embed="rId1"/>
          <a:stretch/>
        </p:blipFill>
        <p:spPr>
          <a:xfrm>
            <a:off x="3992400" y="1852560"/>
            <a:ext cx="4565880" cy="358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857160" y="1285920"/>
          <a:ext cx="2898720" cy="4079880"/>
        </p:xfrm>
        <a:graphic>
          <a:graphicData uri="http://schemas.openxmlformats.org/drawingml/2006/table">
            <a:tbl>
              <a:tblPr/>
              <a:tblGrid>
                <a:gridCol w="538200"/>
                <a:gridCol w="539640"/>
                <a:gridCol w="698760"/>
                <a:gridCol w="1122120"/>
              </a:tblGrid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dicii preţuri producţi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ţă de luna corespunzatoare anului precede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7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dust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e de construcţi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7358040" y="285840"/>
            <a:ext cx="117648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Evoluţia forţei de muncă 2008-20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71760" y="1285920"/>
          <a:ext cx="5822640" cy="5032440"/>
        </p:xfrm>
        <a:graphic>
          <a:graphicData uri="http://schemas.openxmlformats.org/drawingml/2006/table">
            <a:tbl>
              <a:tblPr/>
              <a:tblGrid>
                <a:gridCol w="647640"/>
                <a:gridCol w="646200"/>
                <a:gridCol w="647640"/>
                <a:gridCol w="645840"/>
                <a:gridCol w="648000"/>
                <a:gridCol w="645840"/>
                <a:gridCol w="648000"/>
                <a:gridCol w="645840"/>
                <a:gridCol w="647640"/>
              </a:tblGrid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 salariaţi ( mii pers 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.  N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 pt. Const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7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9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33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1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8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7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34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4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7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91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8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38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8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6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36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1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92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4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54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9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3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4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9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4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6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8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7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cadere angajaţi  ( mii pers 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6,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42,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0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,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cadere numar angajaţi  ( % 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2,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4,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5,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4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ducere Personal ( %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,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,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,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5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429680" y="2786040"/>
            <a:ext cx="117612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56800" y="2499840"/>
            <a:ext cx="690084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600" spc="-1" strike="noStrike">
                <a:solidFill>
                  <a:srgbClr val="ff0000"/>
                </a:solidFill>
                <a:latin typeface="Arial Black"/>
              </a:rPr>
              <a:t>2010...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7286760" y="5143680"/>
            <a:ext cx="11761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6:32:40Z</dcterms:created>
  <dc:creator>eXPerience</dc:creator>
  <dc:description/>
  <dc:language>en-US</dc:language>
  <cp:lastModifiedBy>ioana</cp:lastModifiedBy>
  <dcterms:modified xsi:type="dcterms:W3CDTF">2009-10-22T10:34:03Z</dcterms:modified>
  <cp:revision>31</cp:revision>
  <dc:subject/>
  <dc:title>Slide 1</dc:title>
</cp:coreProperties>
</file>