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709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09200"/>
              <a:gd name="textAreaBottom" fmla="*/ 9708840 h 9709200"/>
            </a:gdLst>
            <a:ahLst/>
            <a:rect l="textAreaLeft" t="textAreaTop" r="textAreaRight" b="textAreaBottom"/>
            <a:pathLst>
              <a:path w="21600" h="30580">
                <a:moveTo>
                  <a:pt x="5" y="0"/>
                </a:moveTo>
                <a:arcTo wR="5" hR="5" stAng="16200000" swAng="-5400000"/>
                <a:lnTo>
                  <a:pt x="0" y="30575"/>
                </a:lnTo>
                <a:arcTo wR="5" hR="5" stAng="10800000" swAng="-5400000"/>
                <a:lnTo>
                  <a:pt x="21595" y="305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002960" y="728640"/>
            <a:ext cx="4815000" cy="36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611600"/>
            <a:ext cx="544824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9223200"/>
            <a:ext cx="29336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9223200"/>
            <a:ext cx="29336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1990C-07B2-4C74-880C-0B67D31FE3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43080" y="738360"/>
            <a:ext cx="25700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03320" y="728640"/>
            <a:ext cx="48528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611600"/>
            <a:ext cx="5450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B3E-C8DF-4605-9A71-8DD42C0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398-689D-493E-AD54-BE6E7BD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623-E974-4A98-A23E-D2F1E140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668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652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668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652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0A9-2482-48D9-AAC9-678AE5AE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2E01-A643-4FCC-845E-C7DC8A9E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BCD-E3CA-469B-A566-FA06A912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E979-0B6D-4CDB-93AC-6FDB295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B51D-EE11-4EAD-8D9A-5A952133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83A-4631-4CFC-A434-FEE4A80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91440" cy="51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2272-CFE3-4835-9610-329104F3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B72-BC6A-4281-9C7B-D37B438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0E9-E2D5-49A1-805D-D4D471D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E5A4-1535-44C4-B3B3-3D43908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E5C-2313-464A-A5A0-9A89D9C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B0C8-FC3C-477E-8C80-EA817340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C8D-9892-4AA2-B09E-C0381145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668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6520" y="15998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668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6520" y="3965040"/>
            <a:ext cx="2637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3C3-C977-4F7F-9F4E-3ECB36B6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EB5-A3DB-4BE2-9986-006FD15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39F-C3D4-49C1-8AF5-89F25C1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A13-CFEA-401F-8C4B-C099201B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91440" cy="51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826-B494-488F-8AAF-F80F3BBE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120-8E62-47BC-A927-B50D429D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4440" y="39650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163-8B4B-4B81-A5FA-078D459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4440" y="1599840"/>
            <a:ext cx="39970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9144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775-C79A-42A2-9E49-A4D24BF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914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1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2544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01760" indent="-29052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4304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57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B5070-938A-4E88-94E2-EADC08EF45AF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58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57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5DD9FA-638D-4271-9062-2544C64F3D4E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25440">
              <a:lnSpc>
                <a:spcPct val="19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01760" indent="-29052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43040" indent="-325440">
              <a:lnSpc>
                <a:spcPct val="19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43040" indent="-325440">
              <a:lnSpc>
                <a:spcPct val="1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26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d2868"/>
                </a:solidFill>
                <a:latin typeface="Times New Roman"/>
              </a:rPr>
              <a:t>PATRONATUL SOCIETĂŢILOR DIN CONSTRUC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08720" y="1116000"/>
            <a:ext cx="1330560" cy="1224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8446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d2868"/>
                </a:solidFill>
                <a:latin typeface="Arial"/>
              </a:rPr>
              <a:t>Uniunii Europene a Promotorilor Construc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69228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1d2868"/>
                </a:solidFill>
                <a:latin typeface="Times New Roman"/>
              </a:rPr>
              <a:t>Proiectare, cercetare, consultanţă, execuţie, producători de materiale de construcţii şi uti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413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d2868"/>
                </a:solidFill>
                <a:latin typeface="Times New Roman"/>
              </a:rPr>
              <a:t>Membru 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8209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ROMANIA CONSTRUCT FORUM Bucuresti 22 octombri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9640" y="5219640"/>
            <a:ext cx="299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RGANIZ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19640" y="5219640"/>
            <a:ext cx="360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7559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STRATEGII PENTRU CRESTEREA EFICIENTEI ENERGETICE IN ROMANI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lementarea directivelor europene prin imbunatatirea legislatiei inter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ificarea modului de abordare a problem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e finantate din fonduri structurale si de la bugetul de st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zvoltarea pietei ( reducerea costurilor si asigurarea calitatii prin competitivita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260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d2868"/>
                </a:solidFill>
                <a:latin typeface="Times New Roman"/>
              </a:rPr>
              <a:t>PATRONATUL SOCIETĂŢILOR DIN CONSTRUC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308720" y="1116000"/>
            <a:ext cx="1330560" cy="1224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58920" y="18446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1d2868"/>
                </a:solidFill>
                <a:latin typeface="Arial"/>
              </a:rPr>
              <a:t>Uniunii Europene a Promotorilor Construc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69228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1d2868"/>
                </a:solidFill>
                <a:latin typeface="Times New Roman"/>
              </a:rPr>
              <a:t>Proiectare, cercetare, consultanţă, execuţie, producători de materiale de construcţii şi uti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1413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1d2868"/>
                </a:solidFill>
                <a:latin typeface="Times New Roman"/>
              </a:rPr>
              <a:t>Membru 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637000"/>
            <a:ext cx="8209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ă mulţumim pentru atenţ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g.Adriana If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879640" y="5580000"/>
            <a:ext cx="2998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CONJUNCTURA EUROPEAN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1928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trivit Planului de Actiune pentru Eficienta Energetica din 2006 UE s-a angajat ca pana in anul 2020 sa reduca consumul de energie cu 20%, ceea ce ar insemna o economie de 100 mld euro in fiecar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a de modernizare in Germania  peste 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a de modernizare in Europa de Est sub 1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a de modernizare in Romania in 2009 ( propusa) 0,018% doar blocuri de locui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ntru a atinge telul propus de UE, Romania trebuie sa creasca rata de modernizare  la 5%, adica sa se intensifice de peste 270 de ori ritmul de reabilita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7559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FONDUL DE LOCUINTE EXISTENT -</a:t>
            </a: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POTENTIAL PENTRU EFICIENTA ENERGETIC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1120" y="2519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619280" y="2879640"/>
          <a:ext cx="5761080" cy="252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2879640"/>
                    <a:ext cx="57610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CONCEPTIE EUROPEAN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1120" y="20030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n Planul de Actiune privind Eficienta Energetica din 2006, UE si-a propus reduce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umului de energie cu 20% pana in 2020, reducerea costului cu energia cu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iarde euro si crearea a 100 milioane de noi locuri de mun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ul vizeaza interventia globala pe tot sistemul de incalzire , nu numai pe cladi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lude cu precadere locuintele individu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CONCEPTIE ROMANEASC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veloparea blocurilor de locuit multietajate – termosistem, inlocuirea tamplar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rio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recieri stra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drul legal nu este clar, coerent, durabil elaborat si da posibilitatea u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pretari particulare ulterioare (elv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u se abordeaza sistemul in ansamblu, nu exista informatii, specialistii nu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nosc problematica (ger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Economisirea energetica in Europa de Est nu este sustinuta prin masur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ecvate ( IWO - Germa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COSTURI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rmania            23.000 euro/ap din care 8.500 pentru eficientizare energe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onia                6.400 euro/ap ( 25-26 euro/luna timp de 20 an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hia                  6.500 euro/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mania            3.000 - 3500 euro/ap – pret elect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POLONI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ul a inceput in anul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t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E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nduri proprii ale investitorilor + cre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38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nduri publice - Politica Nationala Ecolo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gram guvernamental de reabilitare termica si reparat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e colaboreaza cu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A PENTRU PROTEJAREA MEDIULUI INCONJUR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redite preferent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ima de reabilitare termica ( sprijin public) 20% din valoarea creditului atr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nu mai mult de 16% din valoarea totala a programulu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236520"/>
            <a:ext cx="75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GERMANIA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ul a inceput in anul 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t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nduri de la bugetul de stat ( „Strategia Berli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onduri publice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program international BEEN – la nivelul tarilor bal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8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infiinteaza Institutul pentru Energie in cadrul Universitatii Tehnice din Dresden care se ocupa cu studiul eficientei energetice si care a furnizat datele pentru elaborarea programelor nationale de reabilitare term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ezent mai sunt de reabilitat doar 15% din totalul imobile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7559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280099"/>
                </a:solidFill>
                <a:latin typeface="Garamond"/>
              </a:rPr>
              <a:t>PATRONATUL SOCIETATILOR DIN CONSTRUCTII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47ff"/>
                </a:solidFill>
                <a:latin typeface="Arial"/>
              </a:rPr>
              <a:t>EFICIENTA ENERGETICA – SCOP MULTINATIONAL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1120" y="25192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esterea eficientei energetice trebuie sa fie o prioritate poli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dialog permanent intre beneficiar, administratia locala, guvern si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reparatii urgente si renovarea tuturor imobilelor pas cu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ampanii de informare si avertiza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diatizarea a proiectelor de suc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olutionarea problemei auditorilor energet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0">
              <a:lnSpc>
                <a:spcPct val="35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rtener de promovar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719280" cy="162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19840" y="5873760"/>
            <a:ext cx="2539800" cy="245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380360" y="720720"/>
            <a:ext cx="12589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