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12430-129D-40BB-9B95-C6A20F40D8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800" y="1980720"/>
            <a:ext cx="73152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8800" y="3573000"/>
            <a:ext cx="73152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D6AE7-F29D-46EC-98F5-43951A4AAF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8800" y="1980720"/>
            <a:ext cx="35697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77480" y="1980720"/>
            <a:ext cx="35697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8800" y="3573000"/>
            <a:ext cx="35697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77480" y="3573000"/>
            <a:ext cx="35697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3500B-2D81-4A96-BD67-D7F40273EA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800" y="1980720"/>
            <a:ext cx="235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02000" y="1980720"/>
            <a:ext cx="235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75200" y="1980720"/>
            <a:ext cx="235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8800" y="3573000"/>
            <a:ext cx="235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02000" y="3573000"/>
            <a:ext cx="235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75200" y="3573000"/>
            <a:ext cx="235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0D1F2-D5B4-4ADA-A310-A6599AADC0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828800" y="1980720"/>
            <a:ext cx="73152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828800" y="1980720"/>
            <a:ext cx="7315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28800" y="1980720"/>
            <a:ext cx="35697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577480" y="1980720"/>
            <a:ext cx="35697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828800" y="1980720"/>
            <a:ext cx="35697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577480" y="1980720"/>
            <a:ext cx="35697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828800" y="3573000"/>
            <a:ext cx="35697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8800" y="1980720"/>
            <a:ext cx="73152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9E4F2-3A49-4EB4-A3B6-457395C54E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8800" y="1980720"/>
            <a:ext cx="35697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577480" y="1980720"/>
            <a:ext cx="35697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577480" y="3573000"/>
            <a:ext cx="35697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828800" y="1980720"/>
            <a:ext cx="35697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577480" y="1980720"/>
            <a:ext cx="35697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828800" y="3573000"/>
            <a:ext cx="73152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828800" y="1980720"/>
            <a:ext cx="73152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828800" y="3573000"/>
            <a:ext cx="73152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828800" y="1980720"/>
            <a:ext cx="35697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577480" y="1980720"/>
            <a:ext cx="35697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828800" y="3573000"/>
            <a:ext cx="35697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577480" y="3573000"/>
            <a:ext cx="35697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828800" y="1980720"/>
            <a:ext cx="235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02000" y="1980720"/>
            <a:ext cx="235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775200" y="1980720"/>
            <a:ext cx="235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828800" y="3573000"/>
            <a:ext cx="235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02000" y="3573000"/>
            <a:ext cx="235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775200" y="3573000"/>
            <a:ext cx="235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8800" y="1980720"/>
            <a:ext cx="7315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4D80B-AA3E-4EFA-8141-E971E6C22A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8800" y="1980720"/>
            <a:ext cx="35697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77480" y="1980720"/>
            <a:ext cx="35697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E96CD-47AC-46F6-839F-BE197954CC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52195-E47C-4681-987C-0518F10F23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69272-6BFC-4A43-A5B8-02B48D2CAA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800" y="1980720"/>
            <a:ext cx="35697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77480" y="1980720"/>
            <a:ext cx="35697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8800" y="3573000"/>
            <a:ext cx="35697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5A436-59C7-4FB1-868D-677CF19F73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8800" y="1980720"/>
            <a:ext cx="35697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77480" y="1980720"/>
            <a:ext cx="35697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77480" y="3573000"/>
            <a:ext cx="35697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9E08F-49C1-4A90-899A-7D5377F5A8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8800" y="1980720"/>
            <a:ext cx="35697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77480" y="1980720"/>
            <a:ext cx="35697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8800" y="3573000"/>
            <a:ext cx="73152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35E94-0475-43DB-B6F1-8C62F81851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828800" y="1980720"/>
            <a:ext cx="7315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24"/>
              </a:spcBef>
              <a:buClr>
                <a:srgbClr val="0000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  <a:p>
            <a:pPr lvl="1" marL="698400" indent="-268560">
              <a:spcBef>
                <a:spcPts val="624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  <a:p>
            <a:pPr lvl="2" marL="1074240" indent="-214560">
              <a:spcBef>
                <a:spcPts val="624"/>
              </a:spcBef>
              <a:buClr>
                <a:srgbClr val="189e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  <a:p>
            <a:pPr lvl="3" marL="1504080" indent="-214560">
              <a:spcBef>
                <a:spcPts val="624"/>
              </a:spcBef>
              <a:buClr>
                <a:srgbClr val="00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  <a:p>
            <a:pPr lvl="4" marL="1933920" indent="-214560">
              <a:spcBef>
                <a:spcPts val="624"/>
              </a:spcBef>
              <a:buClr>
                <a:srgbClr val="0033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  <a:p>
            <a:pPr lvl="5" marL="1933920" indent="-214560">
              <a:spcBef>
                <a:spcPts val="624"/>
              </a:spcBef>
              <a:buClr>
                <a:srgbClr val="0033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  <a:p>
            <a:pPr lvl="6" marL="1933920" indent="-214560">
              <a:spcBef>
                <a:spcPts val="624"/>
              </a:spcBef>
              <a:buClr>
                <a:srgbClr val="0033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4140360" y="6356520"/>
            <a:ext cx="58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1AD8-4FBD-49E4-8DCB-4BDBF980FA56}" type="slidenum">
              <a:rPr b="0" lang="en-US" sz="12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596360" y="6308640"/>
            <a:ext cx="1352520" cy="4860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50920" y="549360"/>
            <a:ext cx="87120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79280" y="6237360"/>
            <a:ext cx="878544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95120" y="24379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76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549360"/>
            <a:ext cx="87120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6237360"/>
            <a:ext cx="878544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594560" y="6237360"/>
            <a:ext cx="1352520" cy="485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3399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189eac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33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33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11280" y="220500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Piata imobiliara din Romania – intre perceptie si cifr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82920" y="5445000"/>
            <a:ext cx="4465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Dr. Lucian Anghel – Economist Sef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Banca Comerciala Romana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08000" y="21276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Land market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81200" y="1440"/>
            <a:ext cx="701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81200" y="1440"/>
            <a:ext cx="704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81200" y="1440"/>
            <a:ext cx="704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81200" y="1440"/>
            <a:ext cx="701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81200" y="1440"/>
            <a:ext cx="706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81200" y="1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32360" y="4581360"/>
            <a:ext cx="403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source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est, Anuntul Telefonic, BCR Rese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436760" y="692280"/>
            <a:ext cx="6014880" cy="363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ED1A8-D5CE-4AF7-B578-FC93C16E9B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08000" y="212760"/>
            <a:ext cx="38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Construction sector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81200" y="1440"/>
            <a:ext cx="701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81200" y="1440"/>
            <a:ext cx="704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81200" y="1440"/>
            <a:ext cx="704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81200" y="1440"/>
            <a:ext cx="701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81200" y="1440"/>
            <a:ext cx="706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81200" y="1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403280" y="1125360"/>
            <a:ext cx="6048360" cy="35197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124000" y="820800"/>
            <a:ext cx="47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nstruction sector, 1Q 2008 (annual increase)</a:t>
            </a:r>
            <a:r>
              <a:rPr b="1" lang="en-GB" sz="1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56360" y="458136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source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stat, BCR Rese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0D7E4-4EFB-4CFA-BDA4-FCCEA20015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08000" y="212760"/>
            <a:ext cx="38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Construction sector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81200" y="1440"/>
            <a:ext cx="701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81200" y="1440"/>
            <a:ext cx="704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81200" y="1440"/>
            <a:ext cx="704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81200" y="1440"/>
            <a:ext cx="701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81200" y="1440"/>
            <a:ext cx="706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81200" y="1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59280" y="4797360"/>
            <a:ext cx="410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source: National Bank of Romania,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CR Rese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908000" y="765000"/>
            <a:ext cx="5543640" cy="39592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771640" y="213516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ff"/>
                </a:solidFill>
                <a:latin typeface="Arial"/>
              </a:rPr>
              <a:t>Czech Republic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843280" y="2349360"/>
            <a:ext cx="86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ff"/>
                </a:solidFill>
                <a:latin typeface="Arial"/>
              </a:rPr>
              <a:t>Hungary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71640" y="306864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ff"/>
                </a:solidFill>
                <a:latin typeface="Arial"/>
              </a:rPr>
              <a:t>Slovakia 200</a:t>
            </a:r>
            <a:r>
              <a:rPr b="0" lang="ro-RO" sz="10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00360" y="3141720"/>
            <a:ext cx="108000" cy="10800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700360" y="2421000"/>
            <a:ext cx="144360" cy="1443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698920" y="2205000"/>
            <a:ext cx="144360" cy="1443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7896D-AE8A-4C08-955E-1A0B2AB80E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681200" y="1440"/>
            <a:ext cx="701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81200" y="1440"/>
            <a:ext cx="704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81200" y="1440"/>
            <a:ext cx="704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81200" y="1440"/>
            <a:ext cx="701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81200" y="1440"/>
            <a:ext cx="706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81200" y="1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700360" y="212868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hank you !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0F4FC-3FDA-4B52-9DAA-6E28724580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81080" y="212760"/>
            <a:ext cx="827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Residential market – “What is more agreeable than one’s home ?” (Cicero)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81200" y="1440"/>
            <a:ext cx="701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81200" y="1440"/>
            <a:ext cx="704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81200" y="1440"/>
            <a:ext cx="704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81200" y="1440"/>
            <a:ext cx="701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81200" y="1440"/>
            <a:ext cx="706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81200" y="1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24000" y="820800"/>
            <a:ext cx="47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omania – housing completions per 1,000 inhabitants</a:t>
            </a:r>
            <a:r>
              <a:rPr b="1" lang="en-GB" sz="1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56360" y="4809960"/>
            <a:ext cx="27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source: INSSE, BCR Research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08000" y="1197000"/>
            <a:ext cx="5257800" cy="3527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56000" y="1413000"/>
            <a:ext cx="201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number of new houses finished in rural area after the floods  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35280" y="1989000"/>
            <a:ext cx="86544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30CB2-C643-4E78-B6E1-BAECFF54DC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81080" y="212760"/>
            <a:ext cx="295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Residential market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81200" y="1440"/>
            <a:ext cx="701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81200" y="1440"/>
            <a:ext cx="704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81200" y="1440"/>
            <a:ext cx="704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81200" y="1440"/>
            <a:ext cx="701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81200" y="1440"/>
            <a:ext cx="706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81200" y="1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8000" y="836640"/>
            <a:ext cx="547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verage price per sqm (existing apartments) vs. GDP per capita in selected countries</a:t>
            </a:r>
            <a:r>
              <a:rPr b="1" lang="en-GB" sz="1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5040360" cy="3456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724360" y="4916520"/>
            <a:ext cx="32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source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n Council of Real Estate Professions, Eurostat, BCR Rese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33667-F038-4E5B-8730-CA7DBA8A9C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81080" y="212760"/>
            <a:ext cx="295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Residential market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81200" y="1440"/>
            <a:ext cx="701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81200" y="1440"/>
            <a:ext cx="704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81200" y="1440"/>
            <a:ext cx="704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81200" y="1440"/>
            <a:ext cx="701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81200" y="1440"/>
            <a:ext cx="706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81200" y="1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836640"/>
            <a:ext cx="54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omania – ratio between the average price for an apartment and the wage income for a family with 2 members (years)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906560" y="1557360"/>
            <a:ext cx="5113440" cy="3311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268360" y="2997360"/>
            <a:ext cx="475164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60720" y="19890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92360" y="2276640"/>
            <a:ext cx="3589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56360" y="4797360"/>
            <a:ext cx="27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source: INSSE, BCR Research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04CB7-4EB3-4B45-A518-D3A6E5A89B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81080" y="212760"/>
            <a:ext cx="295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Office market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81200" y="1440"/>
            <a:ext cx="701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81200" y="1440"/>
            <a:ext cx="704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81200" y="1440"/>
            <a:ext cx="704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81200" y="1440"/>
            <a:ext cx="701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81200" y="1440"/>
            <a:ext cx="706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81200" y="1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16360" y="83664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acancy rate – country comparison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5761080" cy="3313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292720" y="4738680"/>
            <a:ext cx="35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source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nes Lang LaSalle, BCR Research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14813-9245-4658-A99E-5552728EE3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81080" y="212760"/>
            <a:ext cx="295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Office market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81200" y="1440"/>
            <a:ext cx="701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81200" y="1440"/>
            <a:ext cx="704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81200" y="1440"/>
            <a:ext cx="704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81200" y="1440"/>
            <a:ext cx="701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81200" y="1440"/>
            <a:ext cx="706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81200" y="1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27280" y="83664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ime office rents in Europe (4Q 2007)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6048720" cy="3456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292720" y="4738680"/>
            <a:ext cx="35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source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nes Lang LaSalle, BCR Research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F6D91-FFC5-49C9-9A83-7AA0A136A4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81080" y="212760"/>
            <a:ext cx="295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Retail market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81200" y="1440"/>
            <a:ext cx="701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81200" y="1440"/>
            <a:ext cx="704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81200" y="1440"/>
            <a:ext cx="704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81200" y="1440"/>
            <a:ext cx="701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81200" y="1440"/>
            <a:ext cx="706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81200" y="1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95640" y="892080"/>
            <a:ext cx="49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xisting shopping centre stock per 1,000 inhabitants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5832360" cy="3456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292720" y="4738680"/>
            <a:ext cx="35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source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nes Lang LaSalle, BCR Research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F7BB3-FFDD-4328-9845-BC13968029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08000" y="39600"/>
            <a:ext cx="903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Industrial market – “Industry is the soul of business and the keystone of prosperity” (Charles Dickens)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81200" y="1440"/>
            <a:ext cx="701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81200" y="1440"/>
            <a:ext cx="704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81200" y="1440"/>
            <a:ext cx="704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81200" y="1440"/>
            <a:ext cx="701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81200" y="1440"/>
            <a:ext cx="706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81200" y="1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19640" y="4653000"/>
            <a:ext cx="38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source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liers, King Sturges, BCR Rese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476360" y="765000"/>
            <a:ext cx="6120000" cy="367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67AD6-9525-46CD-BE70-1CBFB197EF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08000" y="212760"/>
            <a:ext cx="87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Land market – “Buy land, they’re not making it anymore” (Mark Twain) 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81200" y="1440"/>
            <a:ext cx="701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81200" y="1440"/>
            <a:ext cx="704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81200" y="1440"/>
            <a:ext cx="704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81200" y="1440"/>
            <a:ext cx="701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81200" y="1440"/>
            <a:ext cx="706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81200" y="1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08720" y="4653000"/>
            <a:ext cx="35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source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liers, Realtime, BCR Rese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547640" y="765000"/>
            <a:ext cx="5904000" cy="357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1C064-0632-40B8-A819-FFB02962F7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2T09:51:36Z</dcterms:created>
  <dc:creator>Dulgheru Dumitru Teodor</dc:creator>
  <dc:description/>
  <dc:language>en-US</dc:language>
  <cp:lastModifiedBy>florineugen.sinca</cp:lastModifiedBy>
  <dcterms:modified xsi:type="dcterms:W3CDTF">2008-09-29T13:34:32Z</dcterms:modified>
  <cp:revision>510</cp:revision>
  <dc:subject/>
  <dc:title>Slide 1</dc:title>
</cp:coreProperties>
</file>