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B94F-1777-4C48-A08C-BF33AAF1C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4633-7043-4A4D-B183-C6D5BFF2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F843-D2C5-4A40-A052-1F70D58F3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F824-8CE2-4024-BEA6-C8BF90EEE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8ADC-3178-4D13-85CF-D1E62267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0EEC-B5D8-44BA-B616-42D346BD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99D9-C6F7-4C5C-BDCC-F399ADCC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07AD-44E9-478C-AA46-4A8F2846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4839-9741-49BA-B083-A04AF72B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83DB-6581-4C95-A3E5-5A45CF77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021F-EE0F-48B6-8C67-33DCDC9C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1D0D-44DB-4FBE-8237-C8D0AB14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D68B-8B8F-4158-BAD4-E2A21A0384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142720"/>
            <a:ext cx="7772400" cy="335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 Black"/>
              </a:rPr>
              <a:t>Ce elemente influenţează creşterea preţului materialelor de construcţii şi cine achită nota de plată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Sigla2008APCMR.jpg"/>
          <p:cNvPicPr/>
          <p:nvPr/>
        </p:nvPicPr>
        <p:blipFill>
          <a:blip r:embed="rId1"/>
          <a:stretch/>
        </p:blipFill>
        <p:spPr>
          <a:xfrm>
            <a:off x="785880" y="500040"/>
            <a:ext cx="114300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Sigla2008APCMR.jpg"/>
          <p:cNvPicPr/>
          <p:nvPr/>
        </p:nvPicPr>
        <p:blipFill>
          <a:blip r:embed="rId1"/>
          <a:stretch/>
        </p:blipFill>
        <p:spPr>
          <a:xfrm>
            <a:off x="785880" y="500040"/>
            <a:ext cx="1143000" cy="1251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1329120" y="2071800"/>
            <a:ext cx="709200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 Black"/>
              </a:rPr>
              <a:t>Concluzi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 Black"/>
              </a:rPr>
              <a:t>Preţurile vor creşte în funcţie de echilibrul cererii şi ofer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 Black"/>
              </a:rPr>
              <a:t>ş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 Black"/>
              </a:rPr>
              <a:t>de elemente conjuncturale (energie,et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Sigla2008APCMR.jpg"/>
          <p:cNvPicPr/>
          <p:nvPr/>
        </p:nvPicPr>
        <p:blipFill>
          <a:blip r:embed="rId1"/>
          <a:stretch/>
        </p:blipFill>
        <p:spPr>
          <a:xfrm>
            <a:off x="785880" y="500040"/>
            <a:ext cx="1143000" cy="1251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2000160" y="1643040"/>
            <a:ext cx="6303960" cy="428472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2500200" y="928800"/>
            <a:ext cx="542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0000"/>
                </a:solidFill>
                <a:latin typeface="Arial Black"/>
              </a:rPr>
              <a:t>PIAŢA, </a:t>
            </a:r>
            <a:r>
              <a:rPr b="0" lang="ro-RO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o-RO" sz="3200" spc="-1" strike="noStrike">
                <a:solidFill>
                  <a:srgbClr val="1f497d"/>
                </a:solidFill>
                <a:latin typeface="Arial Black"/>
              </a:rPr>
              <a:t>PIAŢA</a:t>
            </a:r>
            <a:r>
              <a:rPr b="0" lang="ro-RO" sz="3200" spc="-1" strike="noStrike">
                <a:solidFill>
                  <a:srgbClr val="000000"/>
                </a:solidFill>
                <a:latin typeface="Arial Black"/>
              </a:rPr>
              <a:t>,  </a:t>
            </a:r>
            <a:r>
              <a:rPr b="0" lang="ro-RO" sz="3200" spc="-1" strike="noStrike">
                <a:solidFill>
                  <a:srgbClr val="ff0000"/>
                </a:solidFill>
                <a:latin typeface="Arial Black"/>
              </a:rPr>
              <a:t>PIAŢA 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Sigla2008APCMR.jpg"/>
          <p:cNvPicPr/>
          <p:nvPr/>
        </p:nvPicPr>
        <p:blipFill>
          <a:blip r:embed="rId1"/>
          <a:stretch/>
        </p:blipFill>
        <p:spPr>
          <a:xfrm>
            <a:off x="785880" y="500040"/>
            <a:ext cx="1143000" cy="1251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1393920" y="1928880"/>
            <a:ext cx="63212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 Black"/>
              </a:rPr>
              <a:t>Cerere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 Black"/>
              </a:rPr>
              <a:t>Puterea financiară a pieţe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 Black"/>
              </a:rPr>
              <a:t>Situaţia demografic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 Black"/>
              </a:rPr>
              <a:t>Fondul de locuinţe exist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 Black"/>
              </a:rPr>
              <a:t>Creşterea nivelului de trai individu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1357200" y="3770280"/>
            <a:ext cx="7236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 Black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 Black"/>
              </a:rPr>
              <a:t>Existenţa cerer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 Black"/>
              </a:rPr>
              <a:t>Capacitatea tehnologică a producătoril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 Black"/>
              </a:rPr>
              <a:t>Rentabilitatea producătoril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 Black"/>
              </a:rPr>
              <a:t>Puterea financiară a dezvoltatoril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Sigla2008APCMR.jpg"/>
          <p:cNvPicPr/>
          <p:nvPr/>
        </p:nvPicPr>
        <p:blipFill>
          <a:blip r:embed="rId1"/>
          <a:stretch/>
        </p:blipFill>
        <p:spPr>
          <a:xfrm>
            <a:off x="785880" y="500040"/>
            <a:ext cx="1143000" cy="1251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1908000" y="2276640"/>
            <a:ext cx="5832720" cy="28098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1428840" y="1785960"/>
            <a:ext cx="6791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Evolutia preţurilor pentru construcţia unei locuinţe 1999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Sigla2008APCMR.jpg"/>
          <p:cNvPicPr/>
          <p:nvPr/>
        </p:nvPicPr>
        <p:blipFill>
          <a:blip r:embed="rId1"/>
          <a:stretch/>
        </p:blipFill>
        <p:spPr>
          <a:xfrm>
            <a:off x="785880" y="500040"/>
            <a:ext cx="1143000" cy="125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0" y="2143080"/>
            <a:ext cx="2892600" cy="3722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3"/>
          <a:stretch/>
        </p:blipFill>
        <p:spPr>
          <a:xfrm>
            <a:off x="3214800" y="2151000"/>
            <a:ext cx="2728800" cy="3500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4"/>
          <a:stretch/>
        </p:blipFill>
        <p:spPr>
          <a:xfrm>
            <a:off x="6072120" y="2000160"/>
            <a:ext cx="2870280" cy="37148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1428840" y="1785960"/>
            <a:ext cx="6791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Evolutia preţurilor pentru construcţia unei locuinţe 1999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Sigla2008APCMR.jpg"/>
          <p:cNvPicPr/>
          <p:nvPr/>
        </p:nvPicPr>
        <p:blipFill>
          <a:blip r:embed="rId1"/>
          <a:stretch/>
        </p:blipFill>
        <p:spPr>
          <a:xfrm>
            <a:off x="785880" y="500040"/>
            <a:ext cx="1143000" cy="1251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3286080" y="1571760"/>
            <a:ext cx="3429000" cy="44272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2000160" y="1071720"/>
            <a:ext cx="6791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Evolutia preţurilor pentru construcţia unei locuinţe 1999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Sigla2008APCMR.jpg"/>
          <p:cNvPicPr/>
          <p:nvPr/>
        </p:nvPicPr>
        <p:blipFill>
          <a:blip r:embed="rId1"/>
          <a:stretch/>
        </p:blipFill>
        <p:spPr>
          <a:xfrm>
            <a:off x="785880" y="500040"/>
            <a:ext cx="1143000" cy="1251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2114640" y="1000080"/>
            <a:ext cx="664848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Sigla2008APCMR.jpg"/>
          <p:cNvPicPr/>
          <p:nvPr/>
        </p:nvPicPr>
        <p:blipFill>
          <a:blip r:embed="rId1"/>
          <a:stretch/>
        </p:blipFill>
        <p:spPr>
          <a:xfrm>
            <a:off x="785880" y="500040"/>
            <a:ext cx="1143000" cy="1251000"/>
          </a:xfrm>
          <a:prstGeom prst="rect">
            <a:avLst/>
          </a:prstGeom>
          <a:ln w="0">
            <a:noFill/>
          </a:ln>
        </p:spPr>
      </p:pic>
      <p:pic>
        <p:nvPicPr>
          <p:cNvPr id="63" name="Chart 2" descr=""/>
          <p:cNvPicPr/>
          <p:nvPr/>
        </p:nvPicPr>
        <p:blipFill>
          <a:blip r:embed="rId2"/>
          <a:stretch/>
        </p:blipFill>
        <p:spPr>
          <a:xfrm>
            <a:off x="928800" y="1785960"/>
            <a:ext cx="71197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Sigla2008APCMR.jpg"/>
          <p:cNvPicPr/>
          <p:nvPr/>
        </p:nvPicPr>
        <p:blipFill>
          <a:blip r:embed="rId1"/>
          <a:stretch/>
        </p:blipFill>
        <p:spPr>
          <a:xfrm>
            <a:off x="785880" y="500040"/>
            <a:ext cx="1143000" cy="125100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1705320" y="2286000"/>
            <a:ext cx="64458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Black"/>
              </a:rPr>
              <a:t>Menţinerea preţurilor la un nivel acceptabi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 Black"/>
              </a:rPr>
              <a:t>O politică de dezvoltare pe termen mediu şi l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o-RO" sz="1800" spc="-1" strike="noStrike">
                <a:solidFill>
                  <a:srgbClr val="000000"/>
                </a:solidFill>
                <a:latin typeface="Arial Black"/>
              </a:rPr>
              <a:t>( imobiliar - raportul propietaţi / chirie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 Black"/>
              </a:rPr>
              <a:t>Adoptarea de noi tehnologii în construcţ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5:13:26Z</dcterms:created>
  <dc:creator>CLAPE</dc:creator>
  <dc:description/>
  <dc:language>en-US</dc:language>
  <cp:lastModifiedBy>CLAPE</cp:lastModifiedBy>
  <dcterms:modified xsi:type="dcterms:W3CDTF">2008-09-30T08:14:48Z</dcterms:modified>
  <cp:revision>19</cp:revision>
  <dc:subject/>
  <dc:title>Ce elemente influenţează creşterea preţului materialelor de construcţii şi cine achită nota de plată?</dc:title>
</cp:coreProperties>
</file>