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AA9DF-1A5C-4AFF-B27C-11AFDAF2080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*predi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D4AD-E261-47C5-9CAC-798ABBF06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ED0C-3FCC-42F3-90EA-5A2A029A9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6660-0FA2-4FB1-820B-46C8A9E80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F8A3-8B22-452D-8DDB-849A69B7D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37F6-751F-4504-B7C5-D382AF842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E326-ACC5-4CC6-955E-27CA6F544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0836-6DA6-4BC4-9D46-D897D23A6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2197-4614-4186-B7CF-F522616C7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0FE6-5668-45ED-9D87-975E63BB1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F1B5-8A25-431A-B7A7-293B9598D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59B5-D2F0-4E93-9E45-5CF56B6E6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7C99-5917-45AE-AA42-DEF0DE2B4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9480E-7F12-40D5-BCB9-07BC3C7998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ambwe@bukareszt.ro" TargetMode="External"/><Relationship Id="rId2" Type="http://schemas.openxmlformats.org/officeDocument/2006/relationships/hyperlink" Target="mailto:weh@pol.ro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ruction production grow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63680" y="1600200"/>
          <a:ext cx="821520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1600200"/>
                    <a:ext cx="82152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ber of construction perm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63680" y="1600200"/>
          <a:ext cx="821520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1600200"/>
                    <a:ext cx="82152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umber of newly built apartments in Poland between 1991- 200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63680" y="1600200"/>
          <a:ext cx="821520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1600200"/>
                    <a:ext cx="82152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441360" y="6056280"/>
            <a:ext cx="2301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6248520"/>
            <a:ext cx="3581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*predi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welling credits - va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63680" y="1600200"/>
          <a:ext cx="821520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1600200"/>
                    <a:ext cx="82152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ices per square metre (PL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63680" y="1600200"/>
          <a:ext cx="821520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1600200"/>
                    <a:ext cx="82152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uction materials – prices annual grow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63680" y="1600200"/>
          <a:ext cx="821520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1600200"/>
                    <a:ext cx="82152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bassy of the Republic of Po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onomic Section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mbwe@bukareszt.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Commercial Se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eh@pol.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uprowicz </cp:lastModifiedBy>
  <dcterms:modified xsi:type="dcterms:W3CDTF">2007-12-04T00:08:59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