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661CE4-093F-4803-8A9E-7E1229CA288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pul Lafarge este producator de talie mondia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 tari, 77.000 angajati, 5 continente, 16 mld.Euro cifra de afaceri in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FOR HUMANITY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e neguvernamentala care dezvolta programe pentru constructia de locuinte decente, …… (ajuta-ma, Adrian!) si accesibile ca pret in tari in care nu au eradicat locuirea saracacio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eneriatul se bazeaza pe donatii in MATERIALE, BANI, TRAINING si VOLUNTARIAT AL ANGAJATILOR LAFARGE pe santierele de constructii ale H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trecere in revista rapida a principalelor momente ale parteneriatului pana in prez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a dezvoltarii durabile a Grupului este construita pe credinta ca pentru a-su mentine si intari lidershipul in afaceri, trebuie sa contribuie la protectia mediului inconjurator, la bunastarea economica si sociala a comunitatilor in care desfasoara operatiuni industri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5, odata cu semnarea acordului global de parteneriat, Lafarge si HfH au ridicat fiecare profilul etic al angajamentelor strategice privind bunastarea comunitatilor loca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farge si Habitat sunt parteneri NATUR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trecere in revista rapida a principalelor momente ale parteneriatului pana in prez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trecere in revista rapida a principalelor momente ale parteneriatului pana in prez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trecere in revista rapida a principalelor momente ale parteneriatului pana in prez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D:/SOURCES/Sommaire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46280" y="895320"/>
            <a:ext cx="7650000" cy="5440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912960" y="1500120"/>
            <a:ext cx="1304640" cy="4399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612880" y="1473120"/>
            <a:ext cx="1444680" cy="486000"/>
          </a:xfrm>
          <a:prstGeom prst="rect">
            <a:avLst/>
          </a:prstGeom>
          <a:ln w="0">
            <a:noFill/>
          </a:ln>
        </p:spPr>
      </p:pic>
      <p:sp>
        <p:nvSpPr>
          <p:cNvPr id="3" name="">
            <a:hlinkClick r:id="rId5"/>
          </p:cNvPr>
          <p:cNvSpPr/>
          <p:nvPr/>
        </p:nvSpPr>
        <p:spPr>
          <a:xfrm>
            <a:off x="766800" y="896760"/>
            <a:ext cx="170640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7560" y="2670120"/>
            <a:ext cx="168444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e5e8"/>
                </a:solidFill>
                <a:latin typeface="Arial"/>
                <a:ea typeface="Times New Roman"/>
              </a:rPr>
              <a:t>De ce parteneriat pe termen mediu cu Habitat for Humanity Roman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900" spc="-1" strike="noStrike">
                <a:solidFill>
                  <a:srgbClr val="d9e5e8"/>
                </a:solidFill>
                <a:latin typeface="Arial"/>
              </a:rPr>
              <a:t>De ce voluntariat corporatist</a:t>
            </a:r>
            <a:r>
              <a:rPr b="1" lang="en-US" sz="900" spc="-1" strike="noStrike">
                <a:solidFill>
                  <a:srgbClr val="d9e5e8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82520" y="4587840"/>
            <a:ext cx="11145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Benefic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Avant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Factori de s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Dezavant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Lim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hyperlink" Target="file:///D:/SOURCES/Sommaire.ppt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hyperlink" Target="file:///D:/SOURCES/Sommaire.ppt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12.jpeg"/><Relationship Id="rId9" Type="http://schemas.openxmlformats.org/officeDocument/2006/relationships/hyperlink" Target="file:///D:/SOURCES/Sommaire.ppt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4200" y="898560"/>
            <a:ext cx="7634160" cy="515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2960" y="1500120"/>
            <a:ext cx="1304640" cy="4399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235400" y="1320840"/>
            <a:ext cx="3927240" cy="1078560"/>
            <a:chOff x="4235400" y="1320840"/>
            <a:chExt cx="3927240" cy="1078560"/>
          </a:xfrm>
        </p:grpSpPr>
        <p:sp>
          <p:nvSpPr>
            <p:cNvPr id="88" name=""/>
            <p:cNvSpPr/>
            <p:nvPr/>
          </p:nvSpPr>
          <p:spPr>
            <a:xfrm>
              <a:off x="4235400" y="1320840"/>
              <a:ext cx="392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Arial"/>
                </a:rPr>
                <a:t>ATELIER 1B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3120" y="1695600"/>
              <a:ext cx="3086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ffffff"/>
                  </a:solidFill>
                  <a:latin typeface="Arial"/>
                </a:rPr>
                <a:t>CSR metode si mecanisme de implic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12200" y="6049800"/>
            <a:ext cx="847440" cy="3286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934760" y="6106680"/>
            <a:ext cx="166320" cy="173880"/>
            <a:chOff x="7934760" y="6106680"/>
            <a:chExt cx="166320" cy="173880"/>
          </a:xfrm>
        </p:grpSpPr>
        <p:sp>
          <p:nvSpPr>
            <p:cNvPr id="92" name=""/>
            <p:cNvSpPr/>
            <p:nvPr/>
          </p:nvSpPr>
          <p:spPr>
            <a:xfrm rot="8007600">
              <a:off x="7926840" y="614700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8007600">
              <a:off x="7976880" y="617580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8007600">
              <a:off x="7978320" y="6140160"/>
              <a:ext cx="9936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192160" y="6107400"/>
            <a:ext cx="166320" cy="173520"/>
            <a:chOff x="8192160" y="6107400"/>
            <a:chExt cx="166320" cy="173520"/>
          </a:xfrm>
        </p:grpSpPr>
        <p:sp>
          <p:nvSpPr>
            <p:cNvPr id="96" name=""/>
            <p:cNvSpPr/>
            <p:nvPr/>
          </p:nvSpPr>
          <p:spPr>
            <a:xfrm rot="19006800">
              <a:off x="8238960" y="620964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006800">
              <a:off x="8286840" y="610308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9006800">
              <a:off x="8215200" y="613980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169120" y="60642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5240" y="927000"/>
            <a:ext cx="1655640" cy="1656000"/>
          </a:xfrm>
          <a:prstGeom prst="rect">
            <a:avLst/>
          </a:prstGeom>
          <a:solidFill>
            <a:srgbClr val="dae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612880" y="1473120"/>
            <a:ext cx="1444680" cy="4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47880" y="3789360"/>
            <a:ext cx="284040" cy="59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57240" y="4406760"/>
            <a:ext cx="284040" cy="59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949320" y="2768760"/>
            <a:ext cx="284040" cy="593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68320" y="3551400"/>
            <a:ext cx="3891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949320" y="3828960"/>
            <a:ext cx="1343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949320" y="4476600"/>
            <a:ext cx="102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"/>
          </p:cNvPr>
          <p:cNvSpPr/>
          <p:nvPr/>
        </p:nvSpPr>
        <p:spPr>
          <a:xfrm>
            <a:off x="766800" y="896760"/>
            <a:ext cx="170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2881440"/>
            <a:ext cx="11383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teneriat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AF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HABITAT FOR HUMANITY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87520" y="627120"/>
            <a:ext cx="395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918920" y="6100560"/>
            <a:ext cx="166320" cy="173520"/>
            <a:chOff x="7918920" y="6100560"/>
            <a:chExt cx="166320" cy="173520"/>
          </a:xfrm>
        </p:grpSpPr>
        <p:sp>
          <p:nvSpPr>
            <p:cNvPr id="284" name=""/>
            <p:cNvSpPr/>
            <p:nvPr/>
          </p:nvSpPr>
          <p:spPr>
            <a:xfrm rot="8007600">
              <a:off x="7911000" y="614088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8007600">
              <a:off x="7961040" y="616932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8007600">
              <a:off x="7962840" y="613404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176320" y="6101280"/>
            <a:ext cx="166320" cy="173520"/>
            <a:chOff x="8176320" y="6101280"/>
            <a:chExt cx="166320" cy="173520"/>
          </a:xfrm>
        </p:grpSpPr>
        <p:sp>
          <p:nvSpPr>
            <p:cNvPr id="288" name=""/>
            <p:cNvSpPr/>
            <p:nvPr/>
          </p:nvSpPr>
          <p:spPr>
            <a:xfrm rot="19006800">
              <a:off x="8223120" y="620352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9006800">
              <a:off x="8271000" y="609696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006800">
              <a:off x="8199360" y="613368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153280" y="6058080"/>
            <a:ext cx="219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7896240" y="60768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61000" y="1050840"/>
            <a:ext cx="1749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Story RO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70baf2"/>
                </a:solidFill>
                <a:latin typeface="Arial"/>
              </a:rPr>
              <a:t>UN PARTENERIAT BE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2003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73080" y="695160"/>
            <a:ext cx="11988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81120" y="917640"/>
            <a:ext cx="16988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194000" y="1023840"/>
            <a:ext cx="2125800" cy="1411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487680" y="3135240"/>
            <a:ext cx="39769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 MULTUMES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lia SAVO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amentul Comuni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1-3075300, 3075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unicare@lafarge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ea Modrogan 20, sect.1, BUCURE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4200" y="898560"/>
            <a:ext cx="7634160" cy="515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82520" y="4587840"/>
            <a:ext cx="11145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Benefic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Avant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Factori de s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Dezavant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f8d"/>
                </a:solidFill>
                <a:latin typeface="Arial"/>
              </a:rPr>
              <a:t>Lim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1515960" y="627120"/>
            <a:ext cx="385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560" y="2670120"/>
            <a:ext cx="168444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d9e5e8"/>
                </a:solidFill>
                <a:latin typeface="Arial"/>
                <a:ea typeface="Times New Roman"/>
              </a:rPr>
              <a:t>De ce voluntariat corporatist</a:t>
            </a:r>
            <a:r>
              <a:rPr b="1" lang="en-US" sz="1400" spc="-1" strike="noStrike">
                <a:solidFill>
                  <a:srgbClr val="d9e5e8"/>
                </a:solidFill>
                <a:latin typeface="Arial"/>
                <a:ea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e5e8"/>
                </a:solidFill>
                <a:latin typeface="Arial"/>
                <a:ea typeface="Times New Roman"/>
              </a:rPr>
              <a:t>De ce parteneriat pe termen mediu cu Habitat for Humanity Roman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693880" y="3564000"/>
            <a:ext cx="138240" cy="133200"/>
            <a:chOff x="2693880" y="3564000"/>
            <a:chExt cx="138240" cy="133200"/>
          </a:xfrm>
        </p:grpSpPr>
        <p:sp>
          <p:nvSpPr>
            <p:cNvPr id="115" name=""/>
            <p:cNvSpPr/>
            <p:nvPr/>
          </p:nvSpPr>
          <p:spPr>
            <a:xfrm>
              <a:off x="2693880" y="3661200"/>
              <a:ext cx="137880" cy="3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7560" y="3564000"/>
              <a:ext cx="345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03600" y="3565440"/>
              <a:ext cx="109440" cy="11808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03600" y="3262320"/>
            <a:ext cx="137520" cy="133200"/>
            <a:chOff x="2703600" y="3262320"/>
            <a:chExt cx="137520" cy="133200"/>
          </a:xfrm>
        </p:grpSpPr>
        <p:sp>
          <p:nvSpPr>
            <p:cNvPr id="119" name=""/>
            <p:cNvSpPr/>
            <p:nvPr/>
          </p:nvSpPr>
          <p:spPr>
            <a:xfrm>
              <a:off x="2703600" y="3359520"/>
              <a:ext cx="137520" cy="3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06920" y="3262320"/>
              <a:ext cx="342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3320" y="3263760"/>
              <a:ext cx="109080" cy="11808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84520" y="3895560"/>
            <a:ext cx="137520" cy="133560"/>
            <a:chOff x="2684520" y="3895560"/>
            <a:chExt cx="137520" cy="133560"/>
          </a:xfrm>
        </p:grpSpPr>
        <p:sp>
          <p:nvSpPr>
            <p:cNvPr id="123" name=""/>
            <p:cNvSpPr/>
            <p:nvPr/>
          </p:nvSpPr>
          <p:spPr>
            <a:xfrm>
              <a:off x="2684520" y="3993120"/>
              <a:ext cx="137520" cy="3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7840" y="3895560"/>
              <a:ext cx="342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94240" y="3897000"/>
              <a:ext cx="109080" cy="11844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494080" y="2643120"/>
            <a:ext cx="5924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2586"/>
                </a:solidFill>
                <a:latin typeface="Arial"/>
                <a:ea typeface="Times New Roman"/>
              </a:rPr>
              <a:t>2005 Parteneriatul global LAFARGE - Habitat for Humanity Internationa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55880" y="3432240"/>
            <a:ext cx="54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586"/>
                </a:solidFill>
                <a:latin typeface="Arial"/>
              </a:rPr>
              <a:t>a fost semnat bazandu-se pe 12 acorduri de parteneriat lo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709040" y="3678120"/>
            <a:ext cx="628560" cy="609480"/>
            <a:chOff x="7709040" y="3678120"/>
            <a:chExt cx="628560" cy="609480"/>
          </a:xfrm>
        </p:grpSpPr>
        <p:sp>
          <p:nvSpPr>
            <p:cNvPr id="129" name=""/>
            <p:cNvSpPr/>
            <p:nvPr/>
          </p:nvSpPr>
          <p:spPr>
            <a:xfrm>
              <a:off x="7709040" y="4122720"/>
              <a:ext cx="627120" cy="164880"/>
            </a:xfrm>
            <a:prstGeom prst="rect">
              <a:avLst/>
            </a:pr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80640" y="3678120"/>
              <a:ext cx="156960" cy="557280"/>
            </a:xfrm>
            <a:prstGeom prst="rect">
              <a:avLst/>
            </a:pr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3680" y="3686040"/>
              <a:ext cx="496800" cy="53964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12960" y="1500120"/>
            <a:ext cx="1304640" cy="439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612200" y="6049800"/>
            <a:ext cx="847440" cy="32868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934760" y="6106680"/>
            <a:ext cx="166320" cy="173880"/>
            <a:chOff x="7934760" y="6106680"/>
            <a:chExt cx="166320" cy="173880"/>
          </a:xfrm>
        </p:grpSpPr>
        <p:sp>
          <p:nvSpPr>
            <p:cNvPr id="135" name=""/>
            <p:cNvSpPr/>
            <p:nvPr/>
          </p:nvSpPr>
          <p:spPr>
            <a:xfrm rot="8007600">
              <a:off x="7926840" y="614700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8007600">
              <a:off x="7976880" y="617580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8007600">
              <a:off x="7978320" y="6140160"/>
              <a:ext cx="9936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192160" y="6107400"/>
            <a:ext cx="166320" cy="173520"/>
            <a:chOff x="8192160" y="6107400"/>
            <a:chExt cx="166320" cy="173520"/>
          </a:xfrm>
        </p:grpSpPr>
        <p:sp>
          <p:nvSpPr>
            <p:cNvPr id="139" name=""/>
            <p:cNvSpPr/>
            <p:nvPr/>
          </p:nvSpPr>
          <p:spPr>
            <a:xfrm rot="19006800">
              <a:off x="8238960" y="620964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006800">
              <a:off x="8286840" y="610308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006800">
              <a:off x="8215200" y="613980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169120" y="60642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7912080" y="608328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30440" y="1031760"/>
            <a:ext cx="1630440" cy="1489320"/>
          </a:xfrm>
          <a:prstGeom prst="rect">
            <a:avLst/>
          </a:prstGeom>
          <a:solidFill>
            <a:srgbClr val="dae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612880" y="1473120"/>
            <a:ext cx="1444680" cy="4860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2494080" y="879480"/>
            <a:ext cx="170964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7" action="ppaction://hlinksldjump"/>
          </p:cNvPr>
          <p:cNvSpPr/>
          <p:nvPr/>
        </p:nvSpPr>
        <p:spPr>
          <a:xfrm>
            <a:off x="903240" y="5391000"/>
            <a:ext cx="7952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82880" y="3673440"/>
            <a:ext cx="490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586"/>
                </a:solidFill>
                <a:latin typeface="Arial"/>
                <a:ea typeface="Times New Roman"/>
              </a:rPr>
              <a:t>are o componenta unica care ofera o abordare de tip « castig – castig » celor doua parti: conceptul de voluntar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8"/>
          </p:cNvPr>
          <p:cNvSpPr/>
          <p:nvPr/>
        </p:nvSpPr>
        <p:spPr>
          <a:xfrm>
            <a:off x="766800" y="896760"/>
            <a:ext cx="170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81440" y="3137040"/>
            <a:ext cx="542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este element central al strategiei de dezvoltare durabila a Grup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487520" y="627120"/>
            <a:ext cx="395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918920" y="6100560"/>
            <a:ext cx="166320" cy="173520"/>
            <a:chOff x="7918920" y="6100560"/>
            <a:chExt cx="166320" cy="173520"/>
          </a:xfrm>
        </p:grpSpPr>
        <p:sp>
          <p:nvSpPr>
            <p:cNvPr id="153" name=""/>
            <p:cNvSpPr/>
            <p:nvPr/>
          </p:nvSpPr>
          <p:spPr>
            <a:xfrm rot="8007600">
              <a:off x="7911000" y="614088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8007600">
              <a:off x="7961040" y="616932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007600">
              <a:off x="7962840" y="613404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8176320" y="6101280"/>
            <a:ext cx="166320" cy="173520"/>
            <a:chOff x="8176320" y="6101280"/>
            <a:chExt cx="166320" cy="173520"/>
          </a:xfrm>
        </p:grpSpPr>
        <p:sp>
          <p:nvSpPr>
            <p:cNvPr id="157" name=""/>
            <p:cNvSpPr/>
            <p:nvPr/>
          </p:nvSpPr>
          <p:spPr>
            <a:xfrm rot="19006800">
              <a:off x="8223120" y="620352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006800">
              <a:off x="8271000" y="609696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006800">
              <a:off x="8199360" y="613368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153280" y="6058080"/>
            <a:ext cx="219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896240" y="60768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1000" y="1050840"/>
            <a:ext cx="1749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Story RO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70baf2"/>
                </a:solidFill>
                <a:latin typeface="Arial"/>
              </a:rPr>
              <a:t>UN PARTENERIAT BE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2003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1873080" y="695160"/>
            <a:ext cx="11988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2481120" y="917640"/>
            <a:ext cx="16988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194000" y="1023840"/>
            <a:ext cx="2125800" cy="1411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860560" y="2817720"/>
            <a:ext cx="534852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 – actiune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3 – mai, semnare acord de parteneri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3 – octombrie, prima echipa de voluntari Lafarge – Beius, jud.Bi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– octombrie, a doua echipa de voluntari – Radauti, jud.Suce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– mai/iunie + octombrie, doua echipe de voluntari – Radauti si Oarja, jud.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– mai, o echipa de voluntari – Oarja, 16 apartamente (renov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 – EUROHABITAT, 20 voluntari, 4 case Lafarge (din 27 construite) in 5 z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e de constructii, inclusiv transportul ac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ipamente de prote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lte si instrument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jin financ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1496880" y="627120"/>
            <a:ext cx="424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918920" y="6100560"/>
            <a:ext cx="166320" cy="173520"/>
            <a:chOff x="7918920" y="6100560"/>
            <a:chExt cx="166320" cy="173520"/>
          </a:xfrm>
        </p:grpSpPr>
        <p:sp>
          <p:nvSpPr>
            <p:cNvPr id="169" name=""/>
            <p:cNvSpPr/>
            <p:nvPr/>
          </p:nvSpPr>
          <p:spPr>
            <a:xfrm rot="8007600">
              <a:off x="7911000" y="614088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8007600">
              <a:off x="7961040" y="616932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8007600">
              <a:off x="7962840" y="613404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176320" y="6101280"/>
            <a:ext cx="166320" cy="173520"/>
            <a:chOff x="8176320" y="6101280"/>
            <a:chExt cx="166320" cy="173520"/>
          </a:xfrm>
        </p:grpSpPr>
        <p:sp>
          <p:nvSpPr>
            <p:cNvPr id="173" name=""/>
            <p:cNvSpPr/>
            <p:nvPr/>
          </p:nvSpPr>
          <p:spPr>
            <a:xfrm rot="19006800">
              <a:off x="8223120" y="620352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9006800">
              <a:off x="8271000" y="609696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006800">
              <a:off x="8199360" y="613368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153280" y="6058080"/>
            <a:ext cx="219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7896240" y="60768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39000" y="1285920"/>
            <a:ext cx="2038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Beneficii - Avant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1873080" y="695160"/>
            <a:ext cx="1208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30440" y="1031760"/>
            <a:ext cx="1630440" cy="1489320"/>
          </a:xfrm>
          <a:prstGeom prst="rect">
            <a:avLst/>
          </a:prstGeom>
          <a:solidFill>
            <a:srgbClr val="dae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612880" y="1473120"/>
            <a:ext cx="1444680" cy="48600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4" action="ppaction://hlinksldjump"/>
          </p:cNvPr>
          <p:cNvSpPr/>
          <p:nvPr/>
        </p:nvSpPr>
        <p:spPr>
          <a:xfrm>
            <a:off x="2481120" y="879480"/>
            <a:ext cx="169884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5" action="ppaction://hlinksldjump"/>
          </p:cNvPr>
          <p:cNvSpPr/>
          <p:nvPr/>
        </p:nvSpPr>
        <p:spPr>
          <a:xfrm>
            <a:off x="723960" y="5356080"/>
            <a:ext cx="171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00280" y="2743200"/>
            <a:ext cx="576432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AF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a organizat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program pe termen mediu, cu posibilitate de prelungire (termen lung) – anticipare planuri de actiuni, evaluare si actualizare contin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oportunitati si beneficii privind comunicarea interna/ex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vizibilitate si prestigiu in randul stakeholders/ parteneri / factori de int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pilon pentru dezvoltare filiale locale – discutii initiate in comunitate (Hoghiz si Medgi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ontributie directa la constructii durabile, s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In ultimul tim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beneficii derivate din existenta unui parteneriat global incheiat intre doua organizatii cu anvergura internationa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ontributii/donatii globale – regionale – lo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instrumente comune, unitare (ghid, vizual, retel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208400" y="901800"/>
            <a:ext cx="1306440" cy="1738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1496880" y="627120"/>
            <a:ext cx="424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18920" y="6100560"/>
            <a:ext cx="166320" cy="173520"/>
            <a:chOff x="7918920" y="6100560"/>
            <a:chExt cx="166320" cy="173520"/>
          </a:xfrm>
        </p:grpSpPr>
        <p:sp>
          <p:nvSpPr>
            <p:cNvPr id="188" name=""/>
            <p:cNvSpPr/>
            <p:nvPr/>
          </p:nvSpPr>
          <p:spPr>
            <a:xfrm rot="8007600">
              <a:off x="7911000" y="614088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8007600">
              <a:off x="7961040" y="616932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8007600">
              <a:off x="7962840" y="613404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176320" y="6101280"/>
            <a:ext cx="166320" cy="173520"/>
            <a:chOff x="8176320" y="6101280"/>
            <a:chExt cx="166320" cy="173520"/>
          </a:xfrm>
        </p:grpSpPr>
        <p:sp>
          <p:nvSpPr>
            <p:cNvPr id="192" name=""/>
            <p:cNvSpPr/>
            <p:nvPr/>
          </p:nvSpPr>
          <p:spPr>
            <a:xfrm rot="19006800">
              <a:off x="8223120" y="620352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006800">
              <a:off x="8271000" y="609696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006800">
              <a:off x="8199360" y="613368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153280" y="6058080"/>
            <a:ext cx="219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7896240" y="60768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30880" y="1285920"/>
            <a:ext cx="1846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Beneficii - Avant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1873080" y="695160"/>
            <a:ext cx="1208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30440" y="1031760"/>
            <a:ext cx="1630440" cy="1489320"/>
          </a:xfrm>
          <a:prstGeom prst="rect">
            <a:avLst/>
          </a:prstGeom>
          <a:solidFill>
            <a:srgbClr val="dae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612880" y="1473120"/>
            <a:ext cx="1444680" cy="486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4" action="ppaction://hlinksldjump"/>
          </p:cNvPr>
          <p:cNvSpPr/>
          <p:nvPr/>
        </p:nvSpPr>
        <p:spPr>
          <a:xfrm>
            <a:off x="2481120" y="879480"/>
            <a:ext cx="169884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5" action="ppaction://hlinksldjump"/>
          </p:cNvPr>
          <p:cNvSpPr/>
          <p:nvPr/>
        </p:nvSpPr>
        <p:spPr>
          <a:xfrm>
            <a:off x="723960" y="5356080"/>
            <a:ext cx="171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8880" y="2786040"/>
            <a:ext cx="562464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AF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entru colaboratori/angaja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limat intern favorab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formare si incurajare volun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movare interna; stimularea mandriei si cultivarea imaginii de buni cetate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ucru in echipe transversale: cross business, cross countries,    cross functions = mobilizare si un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rsare/dezvoltare abilitati practice 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ucru cu materiale produse de Laf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viziune privind politica CSR prin practicare efectiva in comunitati lo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implicare directa in schimbarea ce vizeaza semeni/ co-natio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raining si exemplu personal (safe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194000" y="1042920"/>
            <a:ext cx="1967040" cy="1455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1496880" y="627120"/>
            <a:ext cx="424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918920" y="6100560"/>
            <a:ext cx="166320" cy="173520"/>
            <a:chOff x="7918920" y="6100560"/>
            <a:chExt cx="166320" cy="173520"/>
          </a:xfrm>
        </p:grpSpPr>
        <p:sp>
          <p:nvSpPr>
            <p:cNvPr id="207" name=""/>
            <p:cNvSpPr/>
            <p:nvPr/>
          </p:nvSpPr>
          <p:spPr>
            <a:xfrm rot="8007600">
              <a:off x="7911000" y="614088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8007600">
              <a:off x="7961040" y="616932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8007600">
              <a:off x="7962840" y="613404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176320" y="6101280"/>
            <a:ext cx="166320" cy="173520"/>
            <a:chOff x="8176320" y="6101280"/>
            <a:chExt cx="166320" cy="173520"/>
          </a:xfrm>
        </p:grpSpPr>
        <p:sp>
          <p:nvSpPr>
            <p:cNvPr id="211" name=""/>
            <p:cNvSpPr/>
            <p:nvPr/>
          </p:nvSpPr>
          <p:spPr>
            <a:xfrm rot="19006800">
              <a:off x="8223120" y="620352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006800">
              <a:off x="8271000" y="609696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006800">
              <a:off x="8199360" y="613368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153280" y="6058080"/>
            <a:ext cx="219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7896240" y="60768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9000" y="1285920"/>
            <a:ext cx="2038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Factori de suc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1873080" y="695160"/>
            <a:ext cx="1208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30440" y="1031760"/>
            <a:ext cx="1630440" cy="1489320"/>
          </a:xfrm>
          <a:prstGeom prst="rect">
            <a:avLst/>
          </a:prstGeom>
          <a:solidFill>
            <a:srgbClr val="dae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612880" y="1473120"/>
            <a:ext cx="1444680" cy="48600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rId4" action="ppaction://hlinksldjump"/>
          </p:cNvPr>
          <p:cNvSpPr/>
          <p:nvPr/>
        </p:nvSpPr>
        <p:spPr>
          <a:xfrm>
            <a:off x="2481120" y="879480"/>
            <a:ext cx="169884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5" action="ppaction://hlinksldjump"/>
          </p:cNvPr>
          <p:cNvSpPr/>
          <p:nvPr/>
        </p:nvSpPr>
        <p:spPr>
          <a:xfrm>
            <a:off x="723960" y="5356080"/>
            <a:ext cx="171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4000" y="3116160"/>
            <a:ext cx="547668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PAR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LO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UNI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UMARE RESPONSABIL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OCARE RES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EMNARE UNUI REPREZENTANT UNIC CU MANDAT C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RE DIN PROGRAM A COMPONENTEI DE PROMOVARE  COMERCI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4192560" y="909720"/>
            <a:ext cx="1698480" cy="1711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1496880" y="627120"/>
            <a:ext cx="405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39000" y="1486080"/>
            <a:ext cx="199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Dezavant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Li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873080" y="695160"/>
            <a:ext cx="11797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612200" y="6049800"/>
            <a:ext cx="847440" cy="32868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7934760" y="6106680"/>
            <a:ext cx="166320" cy="173880"/>
            <a:chOff x="7934760" y="6106680"/>
            <a:chExt cx="166320" cy="173880"/>
          </a:xfrm>
        </p:grpSpPr>
        <p:sp>
          <p:nvSpPr>
            <p:cNvPr id="229" name=""/>
            <p:cNvSpPr/>
            <p:nvPr/>
          </p:nvSpPr>
          <p:spPr>
            <a:xfrm rot="8007600">
              <a:off x="7926840" y="614700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8007600">
              <a:off x="7976880" y="617580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8007600">
              <a:off x="7978320" y="6140160"/>
              <a:ext cx="9936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92160" y="6107400"/>
            <a:ext cx="166320" cy="173520"/>
            <a:chOff x="8192160" y="6107400"/>
            <a:chExt cx="166320" cy="173520"/>
          </a:xfrm>
        </p:grpSpPr>
        <p:sp>
          <p:nvSpPr>
            <p:cNvPr id="233" name=""/>
            <p:cNvSpPr/>
            <p:nvPr/>
          </p:nvSpPr>
          <p:spPr>
            <a:xfrm rot="19006800">
              <a:off x="8238960" y="620964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9006800">
              <a:off x="8286840" y="610308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9006800">
              <a:off x="8215200" y="613980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169120" y="60642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7912080" y="608328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30440" y="1031760"/>
            <a:ext cx="1630440" cy="1489320"/>
          </a:xfrm>
          <a:prstGeom prst="rect">
            <a:avLst/>
          </a:prstGeom>
          <a:solidFill>
            <a:srgbClr val="dae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612880" y="1473120"/>
            <a:ext cx="1444680" cy="48600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5" action="ppaction://hlinksldjump"/>
          </p:cNvPr>
          <p:cNvSpPr/>
          <p:nvPr/>
        </p:nvSpPr>
        <p:spPr>
          <a:xfrm>
            <a:off x="2481120" y="879480"/>
            <a:ext cx="1711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6" action="ppaction://hlinksldjump"/>
          </p:cNvPr>
          <p:cNvSpPr/>
          <p:nvPr/>
        </p:nvSpPr>
        <p:spPr>
          <a:xfrm>
            <a:off x="760320" y="5380200"/>
            <a:ext cx="17208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13040" y="2892600"/>
            <a:ext cx="5391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spectiva Laf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tanta fata de filialele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a « resurse umane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filul, obiectivele si prioritatile « receptorului » - in prima faza (cont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noasterea prealabila a structurii si responsabilitatilor persoanelor cheie din organiz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ensitatea componentei ecum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7" action="ppaction://hlinksldjump"/>
          </p:cNvPr>
          <p:cNvSpPr/>
          <p:nvPr/>
        </p:nvSpPr>
        <p:spPr>
          <a:xfrm>
            <a:off x="3409920" y="4103640"/>
            <a:ext cx="1176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70160" y="4756320"/>
            <a:ext cx="665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78080" y="5197320"/>
            <a:ext cx="51120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4192560" y="909720"/>
            <a:ext cx="1698480" cy="171108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9"/>
          </p:cNvPr>
          <p:cNvSpPr/>
          <p:nvPr/>
        </p:nvSpPr>
        <p:spPr>
          <a:xfrm>
            <a:off x="731880" y="687240"/>
            <a:ext cx="696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1487520" y="627120"/>
            <a:ext cx="395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918920" y="6100560"/>
            <a:ext cx="166320" cy="173520"/>
            <a:chOff x="7918920" y="6100560"/>
            <a:chExt cx="166320" cy="173520"/>
          </a:xfrm>
        </p:grpSpPr>
        <p:sp>
          <p:nvSpPr>
            <p:cNvPr id="250" name=""/>
            <p:cNvSpPr/>
            <p:nvPr/>
          </p:nvSpPr>
          <p:spPr>
            <a:xfrm rot="8007600">
              <a:off x="7911000" y="614088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8007600">
              <a:off x="7961040" y="616932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8007600">
              <a:off x="7962840" y="613404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8176320" y="6101280"/>
            <a:ext cx="166320" cy="173520"/>
            <a:chOff x="8176320" y="6101280"/>
            <a:chExt cx="166320" cy="173520"/>
          </a:xfrm>
        </p:grpSpPr>
        <p:sp>
          <p:nvSpPr>
            <p:cNvPr id="254" name=""/>
            <p:cNvSpPr/>
            <p:nvPr/>
          </p:nvSpPr>
          <p:spPr>
            <a:xfrm rot="19006800">
              <a:off x="8223120" y="620352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9006800">
              <a:off x="8271000" y="609696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9006800">
              <a:off x="8199360" y="613368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8153280" y="6058080"/>
            <a:ext cx="219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7896240" y="60768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61000" y="1050840"/>
            <a:ext cx="1749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Story RO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70baf2"/>
                </a:solidFill>
                <a:latin typeface="Arial"/>
              </a:rPr>
              <a:t>UN PARTENERIAT BE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2003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1873080" y="695160"/>
            <a:ext cx="11988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2481120" y="917640"/>
            <a:ext cx="16988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4194000" y="1023840"/>
            <a:ext cx="2125800" cy="14115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860560" y="2817720"/>
            <a:ext cx="5156280" cy="1680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 – actiune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3 – mai, semnare acord de parteneri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3 – octombrie, prima echipa de voluntari Lafarge – Beius, jud.Bi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– octombrie, a doua echipa de voluntari – Radauti, jud.Suce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– mai/iunie + octombrie, doua echipe de voluntari – Radauti si Oarja, jud.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4764240"/>
            <a:ext cx="50925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 – DOUA ECHIPE DE VOLUNTARI – Oarja si Crai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 – DOUA ECHIPE DE VOLUNTARI si participare la program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Global Village “ CONSTRUIND EUROPA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” cu materiale si volunta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1487520" y="627120"/>
            <a:ext cx="395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918920" y="6100560"/>
            <a:ext cx="166320" cy="173520"/>
            <a:chOff x="7918920" y="6100560"/>
            <a:chExt cx="166320" cy="173520"/>
          </a:xfrm>
        </p:grpSpPr>
        <p:sp>
          <p:nvSpPr>
            <p:cNvPr id="267" name=""/>
            <p:cNvSpPr/>
            <p:nvPr/>
          </p:nvSpPr>
          <p:spPr>
            <a:xfrm rot="8007600">
              <a:off x="7911000" y="614088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8007600">
              <a:off x="7961040" y="616932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8007600">
              <a:off x="7962840" y="613404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8176320" y="6101280"/>
            <a:ext cx="166320" cy="173520"/>
            <a:chOff x="8176320" y="6101280"/>
            <a:chExt cx="166320" cy="173520"/>
          </a:xfrm>
        </p:grpSpPr>
        <p:sp>
          <p:nvSpPr>
            <p:cNvPr id="271" name=""/>
            <p:cNvSpPr/>
            <p:nvPr/>
          </p:nvSpPr>
          <p:spPr>
            <a:xfrm rot="19006800">
              <a:off x="8223120" y="6203520"/>
              <a:ext cx="125280" cy="3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9006800">
              <a:off x="8271000" y="6096960"/>
              <a:ext cx="31320" cy="11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9006800">
              <a:off x="8199360" y="6133680"/>
              <a:ext cx="99000" cy="10692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66" y="0"/>
                  </a:moveTo>
                  <a:lnTo>
                    <a:pt x="313" y="247"/>
                  </a:lnTo>
                  <a:lnTo>
                    <a:pt x="269" y="340"/>
                  </a:lnTo>
                  <a:lnTo>
                    <a:pt x="0" y="7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153280" y="6058080"/>
            <a:ext cx="219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7896240" y="6076800"/>
            <a:ext cx="219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61000" y="1050840"/>
            <a:ext cx="1749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Story RO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70baf2"/>
                </a:solidFill>
                <a:latin typeface="Arial"/>
              </a:rPr>
              <a:t>UN PARTENERIAT BE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baf2"/>
                </a:solidFill>
                <a:latin typeface="Arial"/>
              </a:rPr>
              <a:t>2003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1873080" y="695160"/>
            <a:ext cx="11988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1120" y="917640"/>
            <a:ext cx="16988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194000" y="1023840"/>
            <a:ext cx="2125800" cy="1411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2622600" y="286236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506840" y="3701880"/>
            <a:ext cx="3392640" cy="2068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7:56:29Z</dcterms:created>
  <dc:creator/>
  <dc:description/>
  <dc:language>en-US</dc:language>
  <cp:lastModifiedBy>Camelia Savoiu</cp:lastModifiedBy>
  <cp:lastPrinted>2005-08-10T13:11:05Z</cp:lastPrinted>
  <dcterms:modified xsi:type="dcterms:W3CDTF">2007-11-26T07:41:03Z</dcterms:modified>
  <cp:revision>675</cp:revision>
  <dc:subject/>
  <dc:title>Présentation PowerPoint</dc:title>
</cp:coreProperties>
</file>