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media/image6.wmf" ContentType="image/x-wmf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C438-3C5F-44DA-98C8-74B36908B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D666-7755-449D-AE86-B6FA1B320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1412-1B53-4F44-99B9-5DD273F00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2B5C-CFA9-4995-A45E-CD3222546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FC7C-3CD4-4010-B34D-28C4802B8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8D17-5078-42E5-A116-83C70E6E3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D16F-E147-49D1-B379-30756AD25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0E9F-B7C0-4F07-B994-D8AE3491B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FB0D-C8DA-4FB1-82E7-48F017269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7FD2-839B-4942-9D0A-1DBB97622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38E0-4C5D-428F-BED2-5ADC73716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976F-C8C7-4481-BC5D-D105079F0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16C1-8EF2-43A0-8830-2B59FBAA0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5640" y="151920"/>
            <a:ext cx="737388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240" y="1479600"/>
            <a:ext cx="87454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240" y="4127400"/>
            <a:ext cx="87454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5640" y="151920"/>
            <a:ext cx="737388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479600"/>
            <a:ext cx="426744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09520" y="1479600"/>
            <a:ext cx="426744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240" y="4127400"/>
            <a:ext cx="426744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09520" y="4127400"/>
            <a:ext cx="426744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5640" y="151920"/>
            <a:ext cx="737388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479600"/>
            <a:ext cx="281592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85280" y="1479600"/>
            <a:ext cx="281592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42320" y="1479600"/>
            <a:ext cx="281592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240" y="4127400"/>
            <a:ext cx="281592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85280" y="4127400"/>
            <a:ext cx="281592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42320" y="4127400"/>
            <a:ext cx="281592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5640" y="151920"/>
            <a:ext cx="737388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479600"/>
            <a:ext cx="874548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5640" y="151920"/>
            <a:ext cx="737388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479600"/>
            <a:ext cx="87454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5640" y="151920"/>
            <a:ext cx="737388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479600"/>
            <a:ext cx="4267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9520" y="1479600"/>
            <a:ext cx="4267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5640" y="151920"/>
            <a:ext cx="737388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15640" y="151920"/>
            <a:ext cx="7373880" cy="36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5640" y="151920"/>
            <a:ext cx="737388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479600"/>
            <a:ext cx="426744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9520" y="1479600"/>
            <a:ext cx="4267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4127400"/>
            <a:ext cx="426744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5640" y="151920"/>
            <a:ext cx="737388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240" y="1479600"/>
            <a:ext cx="874548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5640" y="151920"/>
            <a:ext cx="737388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479600"/>
            <a:ext cx="4267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9520" y="1479600"/>
            <a:ext cx="426744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9520" y="4127400"/>
            <a:ext cx="426744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5640" y="151920"/>
            <a:ext cx="737388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479600"/>
            <a:ext cx="426744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9520" y="1479600"/>
            <a:ext cx="426744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4127400"/>
            <a:ext cx="87454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5640" y="151920"/>
            <a:ext cx="737388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479600"/>
            <a:ext cx="87454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4127400"/>
            <a:ext cx="87454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5640" y="151920"/>
            <a:ext cx="737388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479600"/>
            <a:ext cx="426744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9520" y="1479600"/>
            <a:ext cx="426744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4127400"/>
            <a:ext cx="426744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9520" y="4127400"/>
            <a:ext cx="426744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5640" y="151920"/>
            <a:ext cx="737388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479600"/>
            <a:ext cx="281592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5280" y="1479600"/>
            <a:ext cx="281592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42320" y="1479600"/>
            <a:ext cx="281592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4127400"/>
            <a:ext cx="281592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5280" y="4127400"/>
            <a:ext cx="281592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42320" y="4127400"/>
            <a:ext cx="281592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5640" y="151920"/>
            <a:ext cx="737388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479600"/>
            <a:ext cx="87454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5640" y="151920"/>
            <a:ext cx="737388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479600"/>
            <a:ext cx="4267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9520" y="1479600"/>
            <a:ext cx="4267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5640" y="151920"/>
            <a:ext cx="737388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5640" y="151920"/>
            <a:ext cx="7373880" cy="36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5640" y="151920"/>
            <a:ext cx="737388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479600"/>
            <a:ext cx="426744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9520" y="1479600"/>
            <a:ext cx="4267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240" y="4127400"/>
            <a:ext cx="426744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5640" y="151920"/>
            <a:ext cx="737388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240" y="1479600"/>
            <a:ext cx="4267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9520" y="1479600"/>
            <a:ext cx="426744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09520" y="4127400"/>
            <a:ext cx="426744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5640" y="151920"/>
            <a:ext cx="737388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479600"/>
            <a:ext cx="426744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9520" y="1479600"/>
            <a:ext cx="426744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27400"/>
            <a:ext cx="87454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b4b4b4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5640" y="151920"/>
            <a:ext cx="737388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479600"/>
            <a:ext cx="87454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fabryo black"/>
          <p:cNvPicPr/>
          <p:nvPr/>
        </p:nvPicPr>
        <p:blipFill>
          <a:blip r:embed="rId2"/>
          <a:stretch/>
        </p:blipFill>
        <p:spPr>
          <a:xfrm>
            <a:off x="7848720" y="152280"/>
            <a:ext cx="914400" cy="793800"/>
          </a:xfrm>
          <a:prstGeom prst="rect">
            <a:avLst/>
          </a:prstGeom>
          <a:ln w="0">
            <a:noFill/>
          </a:ln>
        </p:spPr>
      </p:pic>
      <p:grpSp>
        <p:nvGrpSpPr>
          <p:cNvPr id="4" name="Group 17"/>
          <p:cNvGrpSpPr/>
          <p:nvPr/>
        </p:nvGrpSpPr>
        <p:grpSpPr>
          <a:xfrm>
            <a:off x="0" y="1123920"/>
            <a:ext cx="9144000" cy="6480"/>
            <a:chOff x="0" y="1123920"/>
            <a:chExt cx="9144000" cy="6480"/>
          </a:xfrm>
        </p:grpSpPr>
        <p:sp>
          <p:nvSpPr>
            <p:cNvPr id="5" name="Line 9"/>
            <p:cNvSpPr/>
            <p:nvPr/>
          </p:nvSpPr>
          <p:spPr>
            <a:xfrm>
              <a:off x="0" y="1130400"/>
              <a:ext cx="15177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0"/>
            <p:cNvSpPr/>
            <p:nvPr/>
          </p:nvSpPr>
          <p:spPr>
            <a:xfrm>
              <a:off x="1517760" y="1130400"/>
              <a:ext cx="1517400" cy="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1"/>
            <p:cNvSpPr/>
            <p:nvPr/>
          </p:nvSpPr>
          <p:spPr>
            <a:xfrm>
              <a:off x="3035160" y="1127160"/>
              <a:ext cx="151776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2"/>
            <p:cNvSpPr/>
            <p:nvPr/>
          </p:nvSpPr>
          <p:spPr>
            <a:xfrm>
              <a:off x="4552920" y="1127160"/>
              <a:ext cx="1517760" cy="0"/>
            </a:xfrm>
            <a:prstGeom prst="line">
              <a:avLst/>
            </a:prstGeom>
            <a:ln w="507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3"/>
            <p:cNvSpPr/>
            <p:nvPr/>
          </p:nvSpPr>
          <p:spPr>
            <a:xfrm>
              <a:off x="6072120" y="1127160"/>
              <a:ext cx="1517760" cy="0"/>
            </a:xfrm>
            <a:prstGeom prst="line">
              <a:avLst/>
            </a:prstGeom>
            <a:ln w="507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4"/>
            <p:cNvSpPr/>
            <p:nvPr/>
          </p:nvSpPr>
          <p:spPr>
            <a:xfrm>
              <a:off x="7589880" y="1123920"/>
              <a:ext cx="1554120" cy="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b4b4b4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fabryo black"/>
          <p:cNvPicPr/>
          <p:nvPr/>
        </p:nvPicPr>
        <p:blipFill>
          <a:blip r:embed="rId2"/>
          <a:stretch/>
        </p:blipFill>
        <p:spPr>
          <a:xfrm>
            <a:off x="406440" y="2401920"/>
            <a:ext cx="2209680" cy="1917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5640" y="151920"/>
            <a:ext cx="737388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240" y="1479600"/>
            <a:ext cx="87454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2130120"/>
            <a:ext cx="6019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steme termoi</a:t>
            </a: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zolan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de la Fabry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123720" y="3886200"/>
            <a:ext cx="552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iembrie 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6000" y="151920"/>
            <a:ext cx="759456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Componentel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rmosistemului SAVANA</a:t>
            </a: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479600"/>
            <a:ext cx="54975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olistiren expand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 densitatea de minim 15 kg/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³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rezistenţă la compresiune de 80N/m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Dibluri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Lungimi diferite în funcţie de tipul de faţadă şi grosimea polistirenulu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deziv pentru polisti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lasă de arm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 greutatea de 145g/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_DSC0067"/>
          <p:cNvPicPr/>
          <p:nvPr/>
        </p:nvPicPr>
        <p:blipFill>
          <a:blip r:embed="rId1"/>
          <a:stretch/>
        </p:blipFill>
        <p:spPr>
          <a:xfrm>
            <a:off x="5745240" y="1590840"/>
            <a:ext cx="3367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6000" y="151920"/>
            <a:ext cx="759456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Componentel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rmosistemului SAVANA</a:t>
            </a: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479600"/>
            <a:ext cx="54975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imer pentru tencuieli şi vopsele decorative structur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lorat în culoarea stratului fin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encuieli sintetice decorative structura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tencuial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ă pe bază de granule de cuarţ sau VD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u granulaţii de 1,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2,0–2,5 m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se pot colora în 1000 de nuanţe conform cartelei Savana sau în oricare altă culoare a unei mostre da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file de colţ cu plasă, profile de soclu, profile cu picurator e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_DSC0067"/>
          <p:cNvPicPr/>
          <p:nvPr/>
        </p:nvPicPr>
        <p:blipFill>
          <a:blip r:embed="rId1"/>
          <a:stretch/>
        </p:blipFill>
        <p:spPr>
          <a:xfrm>
            <a:off x="5745240" y="1590840"/>
            <a:ext cx="3367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28240" y="1479600"/>
            <a:ext cx="87454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VĂ MULŢUM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5640" y="151920"/>
            <a:ext cx="737388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prins </a:t>
            </a: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479600"/>
            <a:ext cx="491004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ele de termoizol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ţie – avantaje funcţionale şi este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i generatori de pierderi term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tapele realizări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Termoizolarea faţadel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omponentele sistemulu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_DSC0050"/>
          <p:cNvPicPr/>
          <p:nvPr/>
        </p:nvPicPr>
        <p:blipFill>
          <a:blip r:embed="rId1"/>
          <a:stretch/>
        </p:blipFill>
        <p:spPr>
          <a:xfrm>
            <a:off x="5342040" y="1589040"/>
            <a:ext cx="339732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5640" y="151920"/>
            <a:ext cx="737388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Avantaje funcţional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638000"/>
            <a:ext cx="524016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rea costurilor generale d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r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r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care în scurt timp amortizează investiţia în termosi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acturile scad c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0% dacă se izolează toţi factorii generatori de pierderi term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onfortul term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onservarea structurii clădirii prin evitarea erodării generată de apa provenită din conde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4" descr="_DSC0057"/>
          <p:cNvPicPr/>
          <p:nvPr/>
        </p:nvPicPr>
        <p:blipFill>
          <a:blip r:embed="rId1"/>
          <a:stretch/>
        </p:blipFill>
        <p:spPr>
          <a:xfrm>
            <a:off x="5673600" y="1638360"/>
            <a:ext cx="31878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5640" y="151920"/>
            <a:ext cx="737388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Avantaje estetic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250640"/>
            <a:ext cx="524016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Majoritatea blocuri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in Bucureşti au fost construite în urmă cu 30-40 de ani, fără a se lua în calcul necesitatea unui sistem de termoizolaţie, pe atunci neinteresa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oncentraţia de familii locuind în blocuri este foarte mare, motiv pentru care şansele ca aceste blocuri să fie înlocuite sunt mi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Un sistem de termoizolaţie reprezintă soluţia perfectă pentru un exterior cu o planeitate perfect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şi aspect plăc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imobil-unirii"/>
          <p:cNvPicPr/>
          <p:nvPr/>
        </p:nvPicPr>
        <p:blipFill>
          <a:blip r:embed="rId1"/>
          <a:stretch/>
        </p:blipFill>
        <p:spPr>
          <a:xfrm>
            <a:off x="5676840" y="1638360"/>
            <a:ext cx="31845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5640" y="151920"/>
            <a:ext cx="737388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Factori generatori de pierderi termic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479600"/>
            <a:ext cx="4592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undaţia clădiril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ereţii exteriori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paţiile vitr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ircuitele de utilităţ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nergie electric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pă,  căldură 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analiz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Mansarda, podul sau te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fiecare s-au perfectat procedee specifice de termoizolaţi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4529160" y="1479600"/>
            <a:ext cx="433548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6000" y="151920"/>
            <a:ext cx="759456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Etapele realizării termoizolării – Expertiza termic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479600"/>
            <a:ext cx="41259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Se prezintă structura construcţiei, a instalaţiilor, bilanţul energetic anu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Se iau în calcul caracteristicile climatice ale zonei, regimul de utilizare şi necesarul de energie în starea actuală a clădiri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Se eliberează un certificat energet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Imobilul se încadrează într-o clasă de eficienţ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Se prezintă soluţiile pentru eficientiz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4354560" y="2550960"/>
            <a:ext cx="462132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5640" y="151920"/>
            <a:ext cx="737388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Etapele realizării termoizolării – Proiect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479600"/>
            <a:ext cx="4692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n funcţie de imobilul în cauză, experţii Fabryo recomandă un anumit sistem de termoizolaţi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cest sistem de termoizolaţie poate avea o grosime mai mare sau mai mică, în funcţi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zona geografică în care este amplasat imobil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şezarea acestuia comparativ cu punctele cardi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ensitatea imobilelor învec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ul de zid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e din care a fost constr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300px-Rankin_house_looking_up_path_2005"/>
          <p:cNvPicPr/>
          <p:nvPr/>
        </p:nvPicPr>
        <p:blipFill>
          <a:blip r:embed="rId1"/>
          <a:stretch/>
        </p:blipFill>
        <p:spPr>
          <a:xfrm>
            <a:off x="5137200" y="1871640"/>
            <a:ext cx="376056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5640" y="151920"/>
            <a:ext cx="737388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Etapele realizării termoizolării - Execuţ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479600"/>
            <a:ext cx="4707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icarea plane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 per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or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fixarea punctelor de re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plicarea plăcilor de polisti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ontarea dibluri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plicarea primului strat de adeziv, pentru plasa de arm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ontarea plasei de arm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plicarea celui de-al 2 lea strat de adeziv, peste plasa cu rol de egaliz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plicarea primer-ului dupa 5-6 z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plicarea stratului decorativ 24 de ore mai târziu (tencuială decorativă structurat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5"/>
          <p:cNvGraphicFramePr/>
          <p:nvPr/>
        </p:nvGraphicFramePr>
        <p:xfrm>
          <a:off x="4935600" y="1660680"/>
          <a:ext cx="387828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0" y="1660680"/>
                    <a:ext cx="387828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6000" y="151920"/>
            <a:ext cx="759456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Termoizolarea faţadelor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479600"/>
            <a:ext cx="5681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stemul în care polistirenul expandat este folosit ca izolator este cel mai întâln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Oferă un coeficient foarte bun de transfer ter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 mai bun raport calitate-pr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n totalul sistemelor de termoizolare folo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stemul trebuie să fie agremen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Toate componentele trebuie să fie parte al aceluiaşi si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ndiferent de calitate, componentele nu pot fi eficiente independent, din pricina compatibilităţii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_DSC0064"/>
          <p:cNvPicPr/>
          <p:nvPr/>
        </p:nvPicPr>
        <p:blipFill>
          <a:blip r:embed="rId1"/>
          <a:stretch/>
        </p:blipFill>
        <p:spPr>
          <a:xfrm>
            <a:off x="5910120" y="4948200"/>
            <a:ext cx="2835360" cy="1677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_DSC0061"/>
          <p:cNvPicPr/>
          <p:nvPr/>
        </p:nvPicPr>
        <p:blipFill>
          <a:blip r:embed="rId2"/>
          <a:stretch/>
        </p:blipFill>
        <p:spPr>
          <a:xfrm>
            <a:off x="5910120" y="1504800"/>
            <a:ext cx="2835360" cy="1677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_DSC0063"/>
          <p:cNvPicPr/>
          <p:nvPr/>
        </p:nvPicPr>
        <p:blipFill>
          <a:blip r:embed="rId3"/>
          <a:stretch/>
        </p:blipFill>
        <p:spPr>
          <a:xfrm>
            <a:off x="5910120" y="3228840"/>
            <a:ext cx="283536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12:47:27Z</dcterms:created>
  <dc:creator>Andrei Savu</dc:creator>
  <dc:description/>
  <dc:language>en-US</dc:language>
  <cp:lastModifiedBy>Marga</cp:lastModifiedBy>
  <dcterms:modified xsi:type="dcterms:W3CDTF">2007-11-26T10:27:38Z</dcterms:modified>
  <cp:revision>239</cp:revision>
  <dc:subject/>
  <dc:title>Slide 1</dc:title>
</cp:coreProperties>
</file>