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867900" cy="6718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83A-3D75-43E4-A449-3FDC417A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764-0463-4EF5-BFAD-9FEF52E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B15-4E5D-46C0-8AE2-840F5B84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F9D-416A-4002-A2BC-8904C994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EF6-A0C5-42BF-A358-6D4F445E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EEE-71CD-4AB2-854D-FA0136FB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A85-C481-4720-850C-53E85B7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B42-EBE8-4621-BBB8-C074B024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B3F-EA54-4002-9D06-C9541628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199-201E-4485-8303-5F602CA0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0CF-B336-49B3-9A13-D304AEC0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0AA-D4E3-4C41-AECC-0F0A465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2201-E544-47E7-AB49-F08A41E0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5400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21036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1905120"/>
            <a:ext cx="55627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1ba00"/>
                </a:solidFill>
                <a:latin typeface="Arial"/>
              </a:rPr>
              <a:t>CASE PA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1ba00"/>
                </a:solidFill>
                <a:latin typeface="Arial"/>
              </a:rPr>
              <a:t>CALITATE SI EFICIENTA IN CONSTRUCTI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295280"/>
            <a:ext cx="365760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Conditia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OIZOLAREA EFICIENTA SI COMPENSAREA PUNTILOR TERM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= 0,13 W/(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57600" cy="362736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533520" y="4724280"/>
            <a:ext cx="3429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rosimea termoizolatiei este intre 35 - 40 cm, in functie de mai multi parametri specifici zonei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1219320"/>
            <a:ext cx="6324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Izolarea fundatii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78160" y="2209680"/>
            <a:ext cx="4199040" cy="371808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990720" y="2286000"/>
            <a:ext cx="25905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 conformare corecta a termoizolatiei fundatiilor elimina pierderile de ener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371600"/>
            <a:ext cx="6324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Izolarea peretilor exterio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438280"/>
            <a:ext cx="441972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diferent de tipul, de structura sau de modul de conformare al fatadei, termoizolatia conduce atat la conservarea energiei cat si la protectia structurii de rezist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809800" cy="411480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1295280"/>
            <a:ext cx="457200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Conditia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RESTRE SUPER IZOL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647800"/>
            <a:ext cx="4190760" cy="314352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09480" y="49528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am triplu, low-e, Ar.  Profile de lemn, aluminiu, PVC in alcatuiri complexe.  Conditia U&lt;= 0.8 W/(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2647800"/>
            <a:ext cx="1524240" cy="139716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38280" y="2647800"/>
            <a:ext cx="1824120" cy="205740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219320"/>
            <a:ext cx="75438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Conditia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I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alzirea (racirea) este posibila exclusiv cu sistem de ventil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arul de aer: 30 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h/persoa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 casa obisnuita: 120 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95680" y="2895480"/>
            <a:ext cx="3505320" cy="216396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1981080" cy="214956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1295280"/>
            <a:ext cx="7620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Conditia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ANSAREA LA AER - CONDITIE “SINE QUA N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743200"/>
            <a:ext cx="2895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ine aparitia condensului implicit pastrarea nealterata a elementelor constr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zolare 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ta sistemului de venti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54560" y="3054240"/>
            <a:ext cx="4103640" cy="273708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600200"/>
            <a:ext cx="47242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Managementul costuri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apt pentru o casa obisnuita costul pe metru patrat este normat aproximativ la 48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erea si proiectarea acesteia in sistem casa pasiva poate mari costurile cu pana la 60-80 EUR/mp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628720" cy="289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1279440"/>
            <a:ext cx="64008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Rezultatul se masoara tot in ba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447920"/>
            <a:ext cx="70102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ba00"/>
                </a:solidFill>
                <a:latin typeface="Arial"/>
              </a:rPr>
              <a:t>Costul de intretinere al unei case pasive cu suprafata de 200 m</a:t>
            </a:r>
            <a:r>
              <a:rPr b="1" lang="en-US" sz="2200" spc="-1" strike="noStrike" baseline="30000">
                <a:solidFill>
                  <a:srgbClr val="21ba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21ba00"/>
                </a:solidFill>
                <a:latin typeface="Arial"/>
              </a:rPr>
              <a:t>: aprox. 100 EUR / an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257800" cy="329436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1447920"/>
            <a:ext cx="624852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Multumesc pentru atenti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7600"/>
                </a:solidFill>
                <a:latin typeface="Arial"/>
              </a:rPr>
              <a:t>Prezentare realizata de BICA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7600"/>
                </a:solidFill>
                <a:latin typeface="Arial"/>
              </a:rPr>
              <a:t>WWW.BICAU.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81240"/>
            <a:ext cx="75438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Fond de locuinte in Rom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n totalul fondului de locuinţe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nderea locuinţelor proprietate privată reprezintă 97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creşterea datorandu-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primul rand vanzarii locuintelor din fondul locativ de stat, retrocedarii proprietatil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cum si construirii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i loc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72040" y="3346560"/>
          <a:ext cx="4133880" cy="274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2040" y="3346560"/>
                    <a:ext cx="413388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981080" y="4344840"/>
          <a:ext cx="1905120" cy="1222560"/>
        </p:xfrm>
        <a:graphic>
          <a:graphicData uri="http://schemas.openxmlformats.org/drawingml/2006/table">
            <a:tbl>
              <a:tblPr/>
              <a:tblGrid>
                <a:gridCol w="1340640"/>
                <a:gridCol w="564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Peste 55 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40-55 ani vech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20-40 ani vech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10-20 ani vech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sub 10 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ba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371600"/>
            <a:ext cx="75438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Situatia actuala in Rom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Arial"/>
              </a:rPr>
              <a:t>Ponderea consumurilor energetic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Arial"/>
              </a:rPr>
              <a:t>n Rom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Arial"/>
              </a:rPr>
              <a:t>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nual, energia term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entr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zi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 preparare a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cal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menaj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- cca 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e ansamblul c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irilor de locuit din R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ia, efici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 utili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rii 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durii pentr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zire, a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cal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 prepararea hranei - 43% din cantitatea de 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d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furniz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de s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entru municipiul Buc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ti - 6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1219320"/>
            <a:ext cx="7315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ba00"/>
                </a:solidFill>
                <a:latin typeface="Arial"/>
              </a:rPr>
              <a:t>Structura consumurilor energetice pentru un apartament mediu construit intre 1970 - 198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57440" y="2286000"/>
          <a:ext cx="596268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2286000"/>
                    <a:ext cx="596268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295280"/>
            <a:ext cx="79250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Experienta internation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grame naţionale de protecţie termică în ţările UE au condus la economii substanţiale de energie pentru încălzire, realizate în etape progresi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German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în 2001 faţă de 1978: </a:t>
            </a:r>
            <a:r>
              <a:rPr b="0" lang="en-GB" sz="2200" spc="-1" strike="noStrike">
                <a:solidFill>
                  <a:srgbClr val="21ba00"/>
                </a:solidFill>
                <a:latin typeface="Wingdings"/>
                <a:ea typeface="Wingdings"/>
              </a:rPr>
              <a:t>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 6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Ita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1994 faţă de 1978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21ba00"/>
                </a:solidFill>
                <a:latin typeface="Wingdings"/>
                <a:ea typeface="Wingdings"/>
              </a:rPr>
              <a:t>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u 4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Aust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1997 faţă de 1984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21ba00"/>
                </a:solidFill>
                <a:latin typeface="Wingdings"/>
                <a:ea typeface="Wingdings"/>
              </a:rPr>
              <a:t>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u 5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Franţ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2001 faţă de 1974: </a:t>
            </a:r>
            <a:r>
              <a:rPr b="0" lang="en-GB" sz="2200" spc="-1" strike="noStrike">
                <a:solidFill>
                  <a:srgbClr val="21ba00"/>
                </a:solidFill>
                <a:latin typeface="Wingdings"/>
                <a:ea typeface="Wingdings"/>
              </a:rPr>
              <a:t>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u 6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Sued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în 1990 faţă de 1976: </a:t>
            </a:r>
            <a:r>
              <a:rPr b="0" lang="en-GB" sz="2200" spc="-1" strike="noStrike">
                <a:solidFill>
                  <a:srgbClr val="21ba00"/>
                </a:solidFill>
                <a:latin typeface="Wingdings"/>
                <a:ea typeface="Wingdings"/>
              </a:rPr>
              <a:t>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u 65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371600"/>
            <a:ext cx="289548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Comparatie privind eficienta termoizolarii intre diverse materiale de construct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4800600" cy="425160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219320"/>
            <a:ext cx="853452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Termoizolarea are un scop: </a:t>
            </a:r>
            <a:r>
              <a:rPr b="1" lang="en-US" sz="3000" spc="-1" strike="noStrike" u="sng">
                <a:solidFill>
                  <a:srgbClr val="21ba00"/>
                </a:solidFill>
                <a:uFillTx/>
                <a:latin typeface="Arial"/>
              </a:rPr>
              <a:t>casa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iectivul este economia de energie, deci de b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334120"/>
            <a:ext cx="33526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ssivhaus Institut Dr. Wolfgang Feist din Darmstadt este unul dintre promotorii conceptulu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147840" cy="297180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07964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ba00"/>
                </a:solidFill>
                <a:latin typeface="Arial"/>
              </a:rPr>
              <a:t>Locuinte insiruite construite in Darmstadt in 2004 folosind conceptul de “casa pasiv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50160" cy="403848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600200"/>
            <a:ext cx="7010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ba00"/>
                </a:solidFill>
                <a:latin typeface="Arial"/>
              </a:rPr>
              <a:t>Casa pasiva: cerinte de ba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ort termic ridicat si calitatea ae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r de intretin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hnologie simpla dar efici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lent raport calitate pr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55:33Z</dcterms:created>
  <dc:creator>TSU02</dc:creator>
  <dc:description/>
  <dc:language>en-US</dc:language>
  <cp:lastModifiedBy>Administrator</cp:lastModifiedBy>
  <dcterms:modified xsi:type="dcterms:W3CDTF">2007-11-26T10:31:18Z</dcterms:modified>
  <cp:revision>112</cp:revision>
  <dc:subject/>
  <dc:title>Slide 1</dc:title>
</cp:coreProperties>
</file>