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36BE778-6A18-4F65-BC1A-76BDE0AF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1AC-6DF8-40BA-A4BE-4EE75C762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1ED-5449-42B6-95D4-AC988BDA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C9F-B28E-4352-BB94-B5876747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705-1C63-402D-9FAF-245EB76F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0680" y="3952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36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60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14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06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60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14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36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0680" y="3952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36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60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1480" y="172368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806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60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1480" y="3952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360" y="3952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360" y="17236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0680" y="3952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3080" y="5934240"/>
            <a:ext cx="914400" cy="77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1204920" y="6172200"/>
            <a:ext cx="7329600" cy="0"/>
          </a:xfrm>
          <a:prstGeom prst="line">
            <a:avLst/>
          </a:prstGeom>
          <a:ln w="3240">
            <a:solidFill>
              <a:srgbClr val="96a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2920" y="1368360"/>
            <a:ext cx="8169120" cy="0"/>
          </a:xfrm>
          <a:prstGeom prst="line">
            <a:avLst/>
          </a:prstGeom>
          <a:ln w="28440">
            <a:solidFill>
              <a:srgbClr val="96a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78000" y="6284880"/>
            <a:ext cx="6620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Source/Sursa: 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SOCIATIA DE 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EASING SI SERVICII FINANCIARE NE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ANC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38360" y="1762200"/>
            <a:ext cx="2346480" cy="2136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28560" y="598320"/>
            <a:ext cx="777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6a3cc"/>
                </a:solidFill>
                <a:latin typeface="Tahoma"/>
              </a:rPr>
              <a:t>A</a:t>
            </a:r>
            <a:r>
              <a:rPr b="0" lang="en-US" sz="1700" spc="-1" strike="noStrike">
                <a:solidFill>
                  <a:srgbClr val="96a3cc"/>
                </a:solidFill>
                <a:latin typeface="Tahoma"/>
              </a:rPr>
              <a:t>SOCIA</a:t>
            </a:r>
            <a:r>
              <a:rPr b="0" lang="ro-RO" sz="1700" spc="-1" strike="noStrike">
                <a:solidFill>
                  <a:srgbClr val="96a3cc"/>
                </a:solidFill>
                <a:latin typeface="Tahoma"/>
              </a:rPr>
              <a:t>ŢIA DE </a:t>
            </a:r>
            <a:r>
              <a:rPr b="1" lang="ro-RO" sz="1700" spc="-1" strike="noStrike">
                <a:solidFill>
                  <a:srgbClr val="96a3cc"/>
                </a:solidFill>
                <a:latin typeface="Tahoma"/>
              </a:rPr>
              <a:t>L</a:t>
            </a:r>
            <a:r>
              <a:rPr b="0" lang="ro-RO" sz="1700" spc="-1" strike="noStrike">
                <a:solidFill>
                  <a:srgbClr val="96a3cc"/>
                </a:solidFill>
                <a:latin typeface="Tahoma"/>
              </a:rPr>
              <a:t>EASING ŞI SERVICII FINANCIARE NE</a:t>
            </a:r>
            <a:r>
              <a:rPr b="1" lang="ro-RO" sz="1700" spc="-1" strike="noStrike">
                <a:solidFill>
                  <a:srgbClr val="96a3cc"/>
                </a:solidFill>
                <a:latin typeface="Tahoma"/>
              </a:rPr>
              <a:t>B</a:t>
            </a:r>
            <a:r>
              <a:rPr b="0" lang="ro-RO" sz="1700" spc="-1" strike="noStrike">
                <a:solidFill>
                  <a:srgbClr val="96a3cc"/>
                </a:solidFill>
                <a:latin typeface="Tahoma"/>
              </a:rPr>
              <a:t>AN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55120" y="209160"/>
            <a:ext cx="8001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ata Societatilor de Leasing - Dupa Categoria Societatilor de Leasing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manian Leasing Market by Type of Less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62040" y="1419120"/>
          <a:ext cx="7677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419120"/>
                    <a:ext cx="7677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64840" y="3618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ndere Segment Bunuri Finantate din Total Piata de Leas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Weight Per Good Segment out of Total Leasing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92280" y="1447920"/>
          <a:ext cx="760572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47920"/>
                    <a:ext cx="76057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90640" y="1336680"/>
          <a:ext cx="7315200" cy="47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336680"/>
                    <a:ext cx="731520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676440" y="285840"/>
            <a:ext cx="753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nderea Categoriilor pe Tipuri Societati de Leasing Total Piata L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ight per Leasing Company Category Total Leasing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islative Frame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 28/2006 approved by Law 266/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t of Norms and regulations issued by NBR related to accounting, provisions, supervision of great exposures, own funds, internal organization of NBFI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levels of supervision: Special and General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T and insurance legislation applicable to leasing contr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Legislation of NBFIs (leasing law, consumer credit law, micro credit law, mortgage legislation, factoring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protection legis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Leasing Volumes in Euro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3643200" y="295200"/>
            <a:ext cx="5322960" cy="5661000"/>
            <a:chOff x="3643200" y="295200"/>
            <a:chExt cx="5322960" cy="5661000"/>
          </a:xfrm>
        </p:grpSpPr>
        <p:sp>
          <p:nvSpPr>
            <p:cNvPr id="92" name="Freeform 4"/>
            <p:cNvSpPr/>
            <p:nvPr/>
          </p:nvSpPr>
          <p:spPr>
            <a:xfrm>
              <a:off x="3852720" y="4579920"/>
              <a:ext cx="1571760" cy="12603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3643200" y="4813200"/>
              <a:ext cx="549360" cy="814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3852720" y="4579920"/>
              <a:ext cx="1571760" cy="1260360"/>
            </a:xfrm>
            <a:prstGeom prst="pie">
              <a:avLst/>
            </a:prstGeom>
            <a:gradFill rotWithShape="0">
              <a:gsLst>
                <a:gs pos="0">
                  <a:srgbClr val="666699">
                    <a:alpha val="86274"/>
                  </a:srgbClr>
                </a:gs>
                <a:gs pos="100000">
                  <a:srgbClr val="2f2f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3643200" y="4813200"/>
              <a:ext cx="549360" cy="814320"/>
            </a:xfrm>
            <a:prstGeom prst="pie">
              <a:avLst/>
            </a:prstGeom>
            <a:gradFill rotWithShape="0">
              <a:gsLst>
                <a:gs pos="0">
                  <a:srgbClr val="666699">
                    <a:alpha val="86274"/>
                  </a:srgbClr>
                </a:gs>
                <a:gs pos="100000">
                  <a:srgbClr val="2f2f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4147920" y="2803320"/>
              <a:ext cx="517680" cy="5400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4491000" y="2835000"/>
              <a:ext cx="263520" cy="1908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4556160" y="2336760"/>
              <a:ext cx="868320" cy="13446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4491000" y="2835000"/>
              <a:ext cx="263520" cy="190800"/>
            </a:xfrm>
            <a:prstGeom prst="pie">
              <a:avLst/>
            </a:prstGeom>
            <a:gradFill rotWithShape="0">
              <a:gsLst>
                <a:gs pos="0">
                  <a:srgbClr val="cc0000">
                    <a:alpha val="86274"/>
                  </a:srgbClr>
                </a:gs>
                <a:gs pos="100000">
                  <a:srgbClr val="1818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4556160" y="2336760"/>
              <a:ext cx="868320" cy="1344600"/>
            </a:xfrm>
            <a:prstGeom prst="pie">
              <a:avLst/>
            </a:prstGeom>
            <a:gradFill rotWithShape="0">
              <a:gsLst>
                <a:gs pos="0">
                  <a:srgbClr val="cc0000">
                    <a:alpha val="86274"/>
                  </a:srgbClr>
                </a:gs>
                <a:gs pos="100000">
                  <a:srgbClr val="1818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6283440" y="2930400"/>
              <a:ext cx="87120" cy="842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6283440" y="2930400"/>
              <a:ext cx="87120" cy="842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6283440" y="2930400"/>
              <a:ext cx="87120" cy="8424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6404040" y="2844720"/>
              <a:ext cx="142920" cy="2332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6656400" y="5659200"/>
              <a:ext cx="428400" cy="2764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6404040" y="2844720"/>
              <a:ext cx="142920" cy="23328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6656400" y="5659200"/>
              <a:ext cx="428400" cy="276480"/>
            </a:xfrm>
            <a:prstGeom prst="pie">
              <a:avLst/>
            </a:prstGeom>
            <a:gradFill rotWithShape="0">
              <a:gsLst>
                <a:gs pos="0">
                  <a:srgbClr val="99ccff">
                    <a:alpha val="86274"/>
                  </a:srgbClr>
                </a:gs>
                <a:gs pos="100000">
                  <a:srgbClr val="475e7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8285040" y="5860800"/>
              <a:ext cx="406440" cy="954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6062760" y="5214960"/>
              <a:ext cx="220680" cy="3808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8285040" y="5860800"/>
              <a:ext cx="406440" cy="95400"/>
            </a:xfrm>
            <a:prstGeom prst="pie">
              <a:avLst/>
            </a:prstGeom>
            <a:gradFill rotWithShape="0">
              <a:gsLst>
                <a:gs pos="0">
                  <a:srgbClr val="666699">
                    <a:alpha val="86274"/>
                  </a:srgbClr>
                </a:gs>
                <a:gs pos="100000">
                  <a:srgbClr val="2f2f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6062760" y="5214960"/>
              <a:ext cx="220680" cy="380880"/>
            </a:xfrm>
            <a:prstGeom prst="pie">
              <a:avLst/>
            </a:prstGeom>
            <a:gradFill rotWithShape="0">
              <a:gsLst>
                <a:gs pos="0">
                  <a:srgbClr val="99ccff">
                    <a:alpha val="86274"/>
                  </a:srgbClr>
                </a:gs>
                <a:gs pos="100000">
                  <a:srgbClr val="475e7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6118200" y="4929120"/>
              <a:ext cx="131760" cy="2538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6118200" y="4929120"/>
              <a:ext cx="131760" cy="253800"/>
            </a:xfrm>
            <a:prstGeom prst="pie">
              <a:avLst/>
            </a:prstGeom>
            <a:gradFill rotWithShape="0">
              <a:gsLst>
                <a:gs pos="0">
                  <a:srgbClr val="66ff99">
                    <a:alpha val="86274"/>
                  </a:srgbClr>
                </a:gs>
                <a:gs pos="100000">
                  <a:srgbClr val="2f76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5897520" y="4284720"/>
              <a:ext cx="1539720" cy="14284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4600440" y="3606840"/>
              <a:ext cx="1495440" cy="14396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5897520" y="4284720"/>
              <a:ext cx="1539720" cy="1428480"/>
            </a:xfrm>
            <a:prstGeom prst="pie">
              <a:avLst/>
            </a:prstGeom>
            <a:gradFill rotWithShape="0">
              <a:gsLst>
                <a:gs pos="0">
                  <a:srgbClr val="99ccff">
                    <a:alpha val="86274"/>
                  </a:srgbClr>
                </a:gs>
                <a:gs pos="100000">
                  <a:srgbClr val="475e7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4600440" y="3606840"/>
              <a:ext cx="1495440" cy="1439640"/>
            </a:xfrm>
            <a:prstGeom prst="pie">
              <a:avLst/>
            </a:prstGeom>
            <a:gradFill rotWithShape="0">
              <a:gsLst>
                <a:gs pos="0">
                  <a:srgbClr val="66ff99">
                    <a:alpha val="86274"/>
                  </a:srgbClr>
                </a:gs>
                <a:gs pos="100000">
                  <a:srgbClr val="2f76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5468760" y="3574800"/>
              <a:ext cx="428760" cy="308160"/>
            </a:xfrm>
            <a:prstGeom prst="pie">
              <a:avLst/>
            </a:prstGeom>
            <a:gradFill rotWithShape="0">
              <a:gsLst>
                <a:gs pos="0">
                  <a:srgbClr val="008080">
                    <a:alpha val="86274"/>
                  </a:srgbClr>
                </a:gs>
                <a:gs pos="100000">
                  <a:srgbClr val="003b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5832360" y="3787560"/>
              <a:ext cx="76320" cy="1047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5567400" y="3257280"/>
              <a:ext cx="439560" cy="4240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5832360" y="3787560"/>
              <a:ext cx="76320" cy="1047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5567400" y="3257280"/>
              <a:ext cx="439560" cy="424080"/>
            </a:xfrm>
            <a:prstGeom prst="pie">
              <a:avLst/>
            </a:prstGeom>
            <a:gradFill rotWithShape="0">
              <a:gsLst>
                <a:gs pos="0">
                  <a:srgbClr val="008080">
                    <a:alpha val="86274"/>
                  </a:srgbClr>
                </a:gs>
                <a:gs pos="100000">
                  <a:srgbClr val="003b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6107040" y="2612880"/>
              <a:ext cx="274680" cy="4539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5859360" y="3062160"/>
              <a:ext cx="979560" cy="11746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6107040" y="2612880"/>
              <a:ext cx="274680" cy="45396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5853240" y="3057480"/>
              <a:ext cx="979200" cy="1174680"/>
            </a:xfrm>
            <a:prstGeom prst="pie">
              <a:avLst/>
            </a:prstGeom>
            <a:gradFill rotWithShape="0">
              <a:gsLst>
                <a:gs pos="0">
                  <a:srgbClr val="3366ff">
                    <a:alpha val="86274"/>
                  </a:srgbClr>
                </a:gs>
                <a:gs pos="100000">
                  <a:srgbClr val="182f7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5819760" y="4178160"/>
              <a:ext cx="550800" cy="3081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6249960" y="3956040"/>
              <a:ext cx="890640" cy="4125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5819760" y="4178160"/>
              <a:ext cx="550800" cy="308160"/>
            </a:xfrm>
            <a:prstGeom prst="pie">
              <a:avLst/>
            </a:prstGeom>
            <a:gradFill rotWithShape="0">
              <a:gsLst>
                <a:gs pos="0">
                  <a:srgbClr val="008080">
                    <a:alpha val="86274"/>
                  </a:srgbClr>
                </a:gs>
                <a:gs pos="100000">
                  <a:srgbClr val="003b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6249960" y="3956040"/>
              <a:ext cx="890640" cy="412560"/>
            </a:xfrm>
            <a:prstGeom prst="pie">
              <a:avLst/>
            </a:prstGeom>
            <a:gradFill rotWithShape="0">
              <a:gsLst>
                <a:gs pos="0">
                  <a:srgbClr val="008080">
                    <a:alpha val="86274"/>
                  </a:srgbClr>
                </a:gs>
                <a:gs pos="100000">
                  <a:srgbClr val="003b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6535800" y="3628800"/>
              <a:ext cx="758880" cy="41292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6734160" y="4273560"/>
              <a:ext cx="363600" cy="2649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6745320" y="4348080"/>
              <a:ext cx="714240" cy="5493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6734160" y="4273560"/>
              <a:ext cx="363600" cy="26496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6745320" y="4348080"/>
              <a:ext cx="714240" cy="5493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7008840" y="4527360"/>
              <a:ext cx="506520" cy="4240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7040520" y="3956040"/>
              <a:ext cx="747720" cy="4874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7008840" y="4527360"/>
              <a:ext cx="506520" cy="42408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7040520" y="3956040"/>
              <a:ext cx="747720" cy="48744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7634160" y="3956040"/>
              <a:ext cx="34920" cy="111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7669080" y="3967200"/>
              <a:ext cx="22320" cy="14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 flipV="1">
              <a:off x="7656480" y="3955680"/>
              <a:ext cx="349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 flipV="1">
              <a:off x="7656480" y="3955680"/>
              <a:ext cx="349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7624800" y="395604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7294680" y="3828960"/>
              <a:ext cx="33120" cy="22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7624800" y="395604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7294680" y="3828960"/>
              <a:ext cx="33120" cy="22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7097760" y="3819600"/>
              <a:ext cx="625320" cy="3063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7383600" y="4348080"/>
              <a:ext cx="571320" cy="6667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7097760" y="3819600"/>
              <a:ext cx="625320" cy="30636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7383600" y="4348080"/>
              <a:ext cx="571320" cy="66672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7515360" y="4908600"/>
              <a:ext cx="272880" cy="4651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7691400" y="4908600"/>
              <a:ext cx="790560" cy="9316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7515360" y="4908600"/>
              <a:ext cx="272880" cy="4651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7691400" y="4908600"/>
              <a:ext cx="790560" cy="931680"/>
            </a:xfrm>
            <a:prstGeom prst="pie">
              <a:avLst/>
            </a:prstGeom>
            <a:gradFill rotWithShape="0">
              <a:gsLst>
                <a:gs pos="0">
                  <a:srgbClr val="666699">
                    <a:alpha val="86274"/>
                  </a:srgbClr>
                </a:gs>
                <a:gs pos="100000">
                  <a:srgbClr val="2f2f47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7691400" y="4919400"/>
              <a:ext cx="317520" cy="2541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7866000" y="4518000"/>
              <a:ext cx="770040" cy="5382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7691400" y="4919400"/>
              <a:ext cx="317520" cy="2541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7866000" y="4518000"/>
              <a:ext cx="770040" cy="53820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8439120" y="4824360"/>
              <a:ext cx="474480" cy="814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8439120" y="4824360"/>
              <a:ext cx="471600" cy="814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8493120" y="4929120"/>
              <a:ext cx="403200" cy="2444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7547040" y="3882960"/>
              <a:ext cx="1164960" cy="7826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8218440" y="3828960"/>
              <a:ext cx="461880" cy="4446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7547040" y="3882960"/>
              <a:ext cx="1164960" cy="78264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8218440" y="3828960"/>
              <a:ext cx="461880" cy="4446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6723000" y="3003480"/>
              <a:ext cx="1122480" cy="868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7305480" y="2919240"/>
              <a:ext cx="274680" cy="1476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6723000" y="3003480"/>
              <a:ext cx="1122480" cy="86832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7305480" y="2908080"/>
              <a:ext cx="274680" cy="14940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7361280" y="2676600"/>
              <a:ext cx="593640" cy="4222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7691400" y="3078000"/>
              <a:ext cx="1263600" cy="12272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7361280" y="2665440"/>
              <a:ext cx="593640" cy="42372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7691400" y="3066840"/>
              <a:ext cx="1263600" cy="122868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7678800" y="2644560"/>
              <a:ext cx="946080" cy="7938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7348320" y="2422440"/>
              <a:ext cx="694080" cy="3697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7678800" y="2633400"/>
              <a:ext cx="946080" cy="7938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7348320" y="2411280"/>
              <a:ext cx="694080" cy="37008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7493040" y="2146320"/>
              <a:ext cx="439560" cy="32832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7502400" y="295200"/>
              <a:ext cx="1463760" cy="290988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7493040" y="2136600"/>
              <a:ext cx="439560" cy="32724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7502400" y="307800"/>
              <a:ext cx="1455840" cy="2897280"/>
            </a:xfrm>
            <a:prstGeom prst="pie">
              <a:avLst/>
            </a:prstGeom>
            <a:gradFill rotWithShape="0">
              <a:gsLst>
                <a:gs pos="0">
                  <a:srgbClr val="339966">
                    <a:alpha val="86274"/>
                  </a:srgbClr>
                </a:gs>
                <a:gs pos="100000">
                  <a:srgbClr val="1847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6964200" y="485640"/>
              <a:ext cx="1044720" cy="168264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6404040" y="718920"/>
              <a:ext cx="901440" cy="224316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6964200" y="474480"/>
              <a:ext cx="1044720" cy="168300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6404040" y="707760"/>
              <a:ext cx="901440" cy="224316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5853240" y="306360"/>
              <a:ext cx="1749240" cy="2232000"/>
            </a:xfrm>
            <a:prstGeom prst="pie">
              <a:avLst/>
            </a:prstGeom>
            <a:gradFill rotWithShape="0">
              <a:gsLst>
                <a:gs pos="0">
                  <a:srgbClr val="dddddd">
                    <a:alpha val="86274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5853240" y="295200"/>
              <a:ext cx="1749240" cy="2232000"/>
            </a:xfrm>
            <a:prstGeom prst="pie">
              <a:avLst/>
            </a:prstGeom>
            <a:gradFill rotWithShape="0">
              <a:gsLst>
                <a:gs pos="0">
                  <a:srgbClr val="000066">
                    <a:alpha val="86274"/>
                  </a:srgbClr>
                </a:gs>
                <a:gs pos="100000">
                  <a:srgbClr val="00002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01"/>
          <p:cNvSpPr/>
          <p:nvPr/>
        </p:nvSpPr>
        <p:spPr>
          <a:xfrm>
            <a:off x="324000" y="1881360"/>
            <a:ext cx="431640" cy="366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2"/>
          <p:cNvSpPr/>
          <p:nvPr/>
        </p:nvSpPr>
        <p:spPr>
          <a:xfrm>
            <a:off x="826920" y="18493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K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55.0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3"/>
          <p:cNvSpPr/>
          <p:nvPr/>
        </p:nvSpPr>
        <p:spPr>
          <a:xfrm>
            <a:off x="324000" y="2355840"/>
            <a:ext cx="431640" cy="3668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4"/>
          <p:cNvSpPr/>
          <p:nvPr/>
        </p:nvSpPr>
        <p:spPr>
          <a:xfrm>
            <a:off x="826920" y="23749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Germany </a:t>
            </a:r>
            <a:r>
              <a:rPr b="1" lang="en-US" sz="2000" spc="-1" strike="noStrike">
                <a:solidFill>
                  <a:srgbClr val="3366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 50.4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5"/>
          <p:cNvSpPr/>
          <p:nvPr/>
        </p:nvSpPr>
        <p:spPr>
          <a:xfrm>
            <a:off x="324000" y="2805120"/>
            <a:ext cx="431640" cy="366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6"/>
          <p:cNvSpPr/>
          <p:nvPr/>
        </p:nvSpPr>
        <p:spPr>
          <a:xfrm>
            <a:off x="814320" y="2789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Italy </a:t>
            </a:r>
            <a:r>
              <a:rPr b="1" lang="en-US" sz="20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48.1 bio€</a:t>
            </a:r>
            <a:r>
              <a:rPr b="1" lang="en-US" sz="2000" spc="-1" strike="noStrike">
                <a:solidFill>
                  <a:srgbClr val="a3b2c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7"/>
          <p:cNvSpPr/>
          <p:nvPr/>
        </p:nvSpPr>
        <p:spPr>
          <a:xfrm>
            <a:off x="324000" y="3265560"/>
            <a:ext cx="431640" cy="366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8"/>
          <p:cNvSpPr/>
          <p:nvPr/>
        </p:nvSpPr>
        <p:spPr>
          <a:xfrm>
            <a:off x="763560" y="32259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France </a:t>
            </a:r>
            <a:r>
              <a:rPr b="1" lang="en-US" sz="2000" spc="-1" strike="noStrike">
                <a:solidFill>
                  <a:srgbClr val="99ff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 36.1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9"/>
          <p:cNvSpPr/>
          <p:nvPr/>
        </p:nvSpPr>
        <p:spPr>
          <a:xfrm>
            <a:off x="324000" y="3714840"/>
            <a:ext cx="431640" cy="366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0"/>
          <p:cNvSpPr/>
          <p:nvPr/>
        </p:nvSpPr>
        <p:spPr>
          <a:xfrm>
            <a:off x="789120" y="36957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CEE </a:t>
            </a:r>
            <a:r>
              <a:rPr b="1" lang="en-US" sz="2000" spc="-1" strike="noStrike">
                <a:solidFill>
                  <a:srgbClr val="33996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33.4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1"/>
          <p:cNvSpPr/>
          <p:nvPr/>
        </p:nvSpPr>
        <p:spPr>
          <a:xfrm>
            <a:off x="324000" y="4164120"/>
            <a:ext cx="431640" cy="366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2"/>
          <p:cNvSpPr/>
          <p:nvPr/>
        </p:nvSpPr>
        <p:spPr>
          <a:xfrm>
            <a:off x="826920" y="4869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3"/>
          <p:cNvSpPr/>
          <p:nvPr/>
        </p:nvSpPr>
        <p:spPr>
          <a:xfrm>
            <a:off x="738360" y="411948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enelux, CH, AT </a:t>
            </a:r>
            <a:r>
              <a:rPr b="1" lang="en-US" sz="20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28.8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4"/>
          <p:cNvSpPr/>
          <p:nvPr/>
        </p:nvSpPr>
        <p:spPr>
          <a:xfrm>
            <a:off x="331920" y="4610160"/>
            <a:ext cx="431640" cy="3664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5"/>
          <p:cNvSpPr/>
          <p:nvPr/>
        </p:nvSpPr>
        <p:spPr>
          <a:xfrm>
            <a:off x="755640" y="45878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d </a:t>
            </a:r>
            <a:r>
              <a:rPr b="1" lang="en-US" sz="2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28.8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6"/>
          <p:cNvSpPr/>
          <p:nvPr/>
        </p:nvSpPr>
        <p:spPr>
          <a:xfrm>
            <a:off x="341280" y="5052960"/>
            <a:ext cx="432000" cy="36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7"/>
          <p:cNvSpPr/>
          <p:nvPr/>
        </p:nvSpPr>
        <p:spPr>
          <a:xfrm>
            <a:off x="755640" y="503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dic </a:t>
            </a:r>
            <a:r>
              <a:rPr b="1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8.1 bio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8"/>
          <p:cNvSpPr/>
          <p:nvPr/>
        </p:nvSpPr>
        <p:spPr>
          <a:xfrm>
            <a:off x="0" y="14335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New Leasing Volumes per Cluster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29484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 in Europ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11120" y="1413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otal New Volumes: Annual Growth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28720" y="6583320"/>
            <a:ext cx="62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alculated based on a homogenous sample of members reporting in the previous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"/>
          <p:cNvPicPr/>
          <p:nvPr/>
        </p:nvPicPr>
        <p:blipFill>
          <a:blip r:embed="rId1"/>
          <a:stretch/>
        </p:blipFill>
        <p:spPr>
          <a:xfrm>
            <a:off x="336600" y="1811160"/>
            <a:ext cx="8639280" cy="4583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>
            <a:off x="6791400" y="5222880"/>
            <a:ext cx="1914480" cy="631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200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r RE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8172360" y="4863960"/>
            <a:ext cx="432000" cy="4255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14" descr=""/>
          <p:cNvPicPr/>
          <p:nvPr/>
        </p:nvPicPr>
        <p:blipFill>
          <a:blip r:embed="rId1"/>
          <a:stretch/>
        </p:blipFill>
        <p:spPr>
          <a:xfrm>
            <a:off x="1131840" y="1481040"/>
            <a:ext cx="6751800" cy="4878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5"/>
          <p:cNvSpPr/>
          <p:nvPr/>
        </p:nvSpPr>
        <p:spPr>
          <a:xfrm>
            <a:off x="1866960" y="3882960"/>
            <a:ext cx="720720" cy="6426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85.5 bio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Leasing Volumes in Euro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03"/>
          <p:cNvSpPr/>
          <p:nvPr/>
        </p:nvSpPr>
        <p:spPr>
          <a:xfrm>
            <a:off x="725400" y="128412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tal New Leasing Volumes Reported in Leaseurope Annual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4"/>
          <p:cNvSpPr/>
          <p:nvPr/>
        </p:nvSpPr>
        <p:spPr>
          <a:xfrm>
            <a:off x="1028880" y="6521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Automotive long term rental members figures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8"/>
          <p:cNvSpPr/>
          <p:nvPr/>
        </p:nvSpPr>
        <p:spPr>
          <a:xfrm flipV="1">
            <a:off x="2611440" y="1981080"/>
            <a:ext cx="4341960" cy="2309760"/>
          </a:xfrm>
          <a:prstGeom prst="line">
            <a:avLst/>
          </a:prstGeom>
          <a:ln w="3168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3"/>
          <p:cNvSpPr/>
          <p:nvPr/>
        </p:nvSpPr>
        <p:spPr>
          <a:xfrm>
            <a:off x="7683480" y="1484280"/>
            <a:ext cx="863640" cy="6426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297.5 bio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199800"/>
            <a:ext cx="80010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Leasing Volumes in Euro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12920" y="13636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Equipment &amp; Real E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77880" y="1401840"/>
            <a:ext cx="6775560" cy="48988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6948360" y="3141720"/>
            <a:ext cx="1871640" cy="1198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Share of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877080" y="3141720"/>
            <a:ext cx="1871640" cy="1198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Share of Equ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606760" y="3137040"/>
            <a:ext cx="865080" cy="3682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4572000" y="2171880"/>
            <a:ext cx="843120" cy="3682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059280" y="3586320"/>
            <a:ext cx="0" cy="718920"/>
          </a:xfrm>
          <a:prstGeom prst="line">
            <a:avLst/>
          </a:prstGeom>
          <a:ln w="190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5003640" y="2565360"/>
            <a:ext cx="0" cy="719280"/>
          </a:xfrm>
          <a:prstGeom prst="line">
            <a:avLst/>
          </a:prstGeom>
          <a:ln w="190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627280" y="2421000"/>
            <a:ext cx="7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ff"/>
                </a:solidFill>
                <a:uFillTx/>
                <a:latin typeface="Arial"/>
              </a:rPr>
              <a:t>High: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72000" y="1547640"/>
            <a:ext cx="79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ff"/>
                </a:solidFill>
                <a:uFillTx/>
                <a:latin typeface="Arial"/>
              </a:rPr>
              <a:t>Low: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ata de Leasing din Romania / Romanian Leasing Mark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Valoare Total Active / Total Asset Valu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3120" y="1359000"/>
          <a:ext cx="832500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359000"/>
                    <a:ext cx="83250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nderea Sectorului Imobiliar in Piata Totala de Leas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ight of Real Estate out of Total Leasing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09640" y="1366920"/>
          <a:ext cx="72946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366920"/>
                    <a:ext cx="7294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nderea Echipamente in Piata Totala de Lea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Equipments' Weight out of Total Leasing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74640" y="1362240"/>
          <a:ext cx="7755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362240"/>
                    <a:ext cx="7755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nderea Vehiculelor in Piata Totala de Leasing / Vehicles' Weight out of Total Leasing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 - 2007 (estimat pentru 2007 / estimated for 31.12.2007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16040" y="1446120"/>
          <a:ext cx="766908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446120"/>
                    <a:ext cx="766908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4:47:43Z</dcterms:created>
  <dc:creator>Server</dc:creator>
  <dc:description/>
  <dc:language>en-US</dc:language>
  <cp:lastModifiedBy>ALSFN</cp:lastModifiedBy>
  <dcterms:modified xsi:type="dcterms:W3CDTF">2007-11-23T18:25:22Z</dcterms:modified>
  <cp:revision>290</cp:revision>
  <dc:subject/>
  <dc:title>ASOCIATIA DE LEASING BANC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4471548</vt:r8>
  </property>
  <property fmtid="{D5CDD505-2E9C-101B-9397-08002B2CF9AE}" pid="3" name="_AuthorEmail">
    <vt:lpwstr>ionut.iancu@alb-leasing.ro</vt:lpwstr>
  </property>
  <property fmtid="{D5CDD505-2E9C-101B-9397-08002B2CF9AE}" pid="4" name="_AuthorEmailDisplayName">
    <vt:lpwstr>Ionut Iancu</vt:lpwstr>
  </property>
  <property fmtid="{D5CDD505-2E9C-101B-9397-08002B2CF9AE}" pid="5" name="_EmailSubject">
    <vt:lpwstr>prezentare</vt:lpwstr>
  </property>
  <property fmtid="{D5CDD505-2E9C-101B-9397-08002B2CF9AE}" pid="6" name="_ReviewingToolsShownOnce">
    <vt:lpwstr/>
  </property>
</Properties>
</file>