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4EF7-7218-489D-AA50-6ED3C83F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0E16-3E11-40B2-8EF0-63083C4F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D208-BFEA-469A-8173-B051FF73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06AB-695D-4796-90F0-6F5BC27E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6165-6667-4932-B4EF-F65B86AD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CB1-8E36-4E6C-AEF2-A3AF2A598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FB8A-78D8-4B30-98AA-4041F0CB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4BF-4CD6-4258-B4AB-CF7F88E3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92C1-50BE-4773-A36D-A10D4513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6A0D-C8DD-4A68-9843-2D0D108C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ED6-EB46-485D-A72A-D0E0BA25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0E30-CC87-43F4-8220-1CCF6C6C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558B-E2FE-4597-86F6-223D360B8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51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408800" y="5938920"/>
            <a:ext cx="1733760" cy="9223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276720" y="64371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- CONFIDENTIAL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352872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d Romania National Sales Company- background and out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Documents and Settings\andrei.nicolae\Desktop\Romania Ford Map.JPG"/>
          <p:cNvPicPr/>
          <p:nvPr/>
        </p:nvPicPr>
        <p:blipFill>
          <a:blip r:embed="rId1"/>
          <a:stretch/>
        </p:blipFill>
        <p:spPr>
          <a:xfrm>
            <a:off x="3059280" y="2565360"/>
            <a:ext cx="47750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Ford Romania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ident – Dioni Camp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ufacturing and Craiova Plant and Export operations for Ro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aging Director – Paul Flana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les, Marketing and Public Affairs - spokesperson for Ford in Roma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Romania – Ford Sales Opport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th largest country in EU - 22 million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 member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GDP and car ownership upside growth (current car density at 249 vehicles per 1,000 peop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ustry forecast to grow to 500k by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6600"/>
                </a:solidFill>
                <a:latin typeface="Arial"/>
              </a:rPr>
              <a:t>Total Industry Volume 2006 -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5373720"/>
            <a:ext cx="69850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0% industry decline due to the economical turmoil starting in Q4 2008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very from 2011; industry expected to reach 500k by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762920" y="4869000"/>
            <a:ext cx="5850000" cy="276480"/>
            <a:chOff x="1762920" y="4869000"/>
            <a:chExt cx="5850000" cy="276480"/>
          </a:xfrm>
        </p:grpSpPr>
        <p:sp>
          <p:nvSpPr>
            <p:cNvPr id="54" name=""/>
            <p:cNvSpPr/>
            <p:nvPr/>
          </p:nvSpPr>
          <p:spPr>
            <a:xfrm>
              <a:off x="1762920" y="48690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37840" y="48690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14200" y="48690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90200" y="48690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37840" y="48690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14200" y="48690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07840" y="48690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938200" y="48690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14560" y="48690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90920" y="48690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1000" y="1027080"/>
            <a:ext cx="7669440" cy="4340160"/>
            <a:chOff x="441000" y="1027080"/>
            <a:chExt cx="7669440" cy="4340160"/>
          </a:xfrm>
        </p:grpSpPr>
        <p:sp>
          <p:nvSpPr>
            <p:cNvPr id="65" name=""/>
            <p:cNvSpPr/>
            <p:nvPr/>
          </p:nvSpPr>
          <p:spPr>
            <a:xfrm>
              <a:off x="441000" y="1027080"/>
              <a:ext cx="7669440" cy="4340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92280" y="1509840"/>
              <a:ext cx="6100560" cy="3355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592280" y="4865760"/>
              <a:ext cx="6100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592280" y="4495680"/>
              <a:ext cx="6100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1592280" y="4124160"/>
              <a:ext cx="6100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592280" y="3745080"/>
              <a:ext cx="6100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592280" y="3373560"/>
              <a:ext cx="6100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1592280" y="3002040"/>
              <a:ext cx="6100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1592280" y="2631960"/>
              <a:ext cx="6100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592280" y="2251080"/>
              <a:ext cx="6100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592280" y="1881360"/>
              <a:ext cx="6100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592280" y="1509840"/>
              <a:ext cx="6100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92280" y="1509840"/>
              <a:ext cx="6100560" cy="33559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11040" y="2567160"/>
              <a:ext cx="65160" cy="2271600"/>
            </a:xfrm>
            <a:custGeom>
              <a:avLst/>
              <a:gdLst/>
              <a:ahLst/>
              <a:rect l="l" t="t" r="r" b="b"/>
              <a:pathLst>
                <a:path w="41" h="1431">
                  <a:moveTo>
                    <a:pt x="0" y="1431"/>
                  </a:moveTo>
                  <a:lnTo>
                    <a:pt x="0" y="29"/>
                  </a:lnTo>
                  <a:lnTo>
                    <a:pt x="41" y="0"/>
                  </a:lnTo>
                  <a:lnTo>
                    <a:pt x="41" y="1402"/>
                  </a:lnTo>
                  <a:lnTo>
                    <a:pt x="0" y="1431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35000" y="2612880"/>
              <a:ext cx="176040" cy="22258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35000" y="2567160"/>
              <a:ext cx="241200" cy="45720"/>
            </a:xfrm>
            <a:custGeom>
              <a:avLst/>
              <a:gdLst/>
              <a:ahLst/>
              <a:rect l="l" t="t" r="r" b="b"/>
              <a:pathLst>
                <a:path w="152" h="29">
                  <a:moveTo>
                    <a:pt x="111" y="29"/>
                  </a:moveTo>
                  <a:lnTo>
                    <a:pt x="152" y="0"/>
                  </a:lnTo>
                  <a:lnTo>
                    <a:pt x="41" y="0"/>
                  </a:lnTo>
                  <a:lnTo>
                    <a:pt x="0" y="29"/>
                  </a:lnTo>
                  <a:lnTo>
                    <a:pt x="111" y="29"/>
                  </a:lnTo>
                  <a:close/>
                </a:path>
              </a:pathLst>
            </a:custGeom>
            <a:solidFill>
              <a:srgbClr val="004d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21960" y="2297160"/>
              <a:ext cx="41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97.16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22320" y="2048040"/>
              <a:ext cx="55800" cy="2790720"/>
            </a:xfrm>
            <a:custGeom>
              <a:avLst/>
              <a:gdLst/>
              <a:ahLst/>
              <a:rect l="l" t="t" r="r" b="b"/>
              <a:pathLst>
                <a:path w="35" h="1758">
                  <a:moveTo>
                    <a:pt x="0" y="1758"/>
                  </a:moveTo>
                  <a:lnTo>
                    <a:pt x="0" y="29"/>
                  </a:lnTo>
                  <a:lnTo>
                    <a:pt x="35" y="0"/>
                  </a:lnTo>
                  <a:lnTo>
                    <a:pt x="35" y="1729"/>
                  </a:lnTo>
                  <a:lnTo>
                    <a:pt x="0" y="1758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46280" y="2093760"/>
              <a:ext cx="176040" cy="274500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46280" y="2048040"/>
              <a:ext cx="231840" cy="45720"/>
            </a:xfrm>
            <a:custGeom>
              <a:avLst/>
              <a:gdLst/>
              <a:ahLst/>
              <a:rect l="l" t="t" r="r" b="b"/>
              <a:pathLst>
                <a:path w="146" h="29">
                  <a:moveTo>
                    <a:pt x="111" y="29"/>
                  </a:moveTo>
                  <a:lnTo>
                    <a:pt x="146" y="0"/>
                  </a:lnTo>
                  <a:lnTo>
                    <a:pt x="41" y="0"/>
                  </a:lnTo>
                  <a:lnTo>
                    <a:pt x="0" y="29"/>
                  </a:lnTo>
                  <a:lnTo>
                    <a:pt x="111" y="29"/>
                  </a:lnTo>
                  <a:close/>
                </a:path>
              </a:pathLst>
            </a:custGeom>
            <a:solidFill>
              <a:srgbClr val="004d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33240" y="1881360"/>
              <a:ext cx="41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66.817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35040" y="2371680"/>
              <a:ext cx="55800" cy="2467080"/>
            </a:xfrm>
            <a:custGeom>
              <a:avLst/>
              <a:gdLst/>
              <a:ahLst/>
              <a:rect l="l" t="t" r="r" b="b"/>
              <a:pathLst>
                <a:path w="35" h="1554">
                  <a:moveTo>
                    <a:pt x="0" y="1554"/>
                  </a:moveTo>
                  <a:lnTo>
                    <a:pt x="0" y="29"/>
                  </a:lnTo>
                  <a:lnTo>
                    <a:pt x="35" y="0"/>
                  </a:lnTo>
                  <a:lnTo>
                    <a:pt x="35" y="1525"/>
                  </a:lnTo>
                  <a:lnTo>
                    <a:pt x="0" y="1554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59000" y="2417760"/>
              <a:ext cx="176040" cy="242100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59000" y="2371680"/>
              <a:ext cx="231840" cy="46080"/>
            </a:xfrm>
            <a:custGeom>
              <a:avLst/>
              <a:gdLst/>
              <a:ahLst/>
              <a:rect l="l" t="t" r="r" b="b"/>
              <a:pathLst>
                <a:path w="146" h="29">
                  <a:moveTo>
                    <a:pt x="111" y="29"/>
                  </a:moveTo>
                  <a:lnTo>
                    <a:pt x="146" y="0"/>
                  </a:lnTo>
                  <a:lnTo>
                    <a:pt x="35" y="0"/>
                  </a:lnTo>
                  <a:lnTo>
                    <a:pt x="0" y="29"/>
                  </a:lnTo>
                  <a:lnTo>
                    <a:pt x="111" y="29"/>
                  </a:lnTo>
                  <a:close/>
                </a:path>
              </a:pathLst>
            </a:custGeom>
            <a:solidFill>
              <a:srgbClr val="004d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63240" y="2065320"/>
              <a:ext cx="41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24.08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46320" y="3651120"/>
              <a:ext cx="55440" cy="1187640"/>
            </a:xfrm>
            <a:custGeom>
              <a:avLst/>
              <a:gdLst/>
              <a:ahLst/>
              <a:rect l="l" t="t" r="r" b="b"/>
              <a:pathLst>
                <a:path w="35" h="748">
                  <a:moveTo>
                    <a:pt x="0" y="748"/>
                  </a:moveTo>
                  <a:lnTo>
                    <a:pt x="0" y="24"/>
                  </a:lnTo>
                  <a:lnTo>
                    <a:pt x="35" y="0"/>
                  </a:lnTo>
                  <a:lnTo>
                    <a:pt x="35" y="719"/>
                  </a:lnTo>
                  <a:lnTo>
                    <a:pt x="0" y="748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70280" y="3689280"/>
              <a:ext cx="176040" cy="11494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70280" y="3651120"/>
              <a:ext cx="231480" cy="38160"/>
            </a:xfrm>
            <a:custGeom>
              <a:avLst/>
              <a:gdLst/>
              <a:ahLst/>
              <a:rect l="l" t="t" r="r" b="b"/>
              <a:pathLst>
                <a:path w="146" h="24">
                  <a:moveTo>
                    <a:pt x="111" y="24"/>
                  </a:moveTo>
                  <a:lnTo>
                    <a:pt x="146" y="0"/>
                  </a:lnTo>
                  <a:lnTo>
                    <a:pt x="35" y="0"/>
                  </a:lnTo>
                  <a:lnTo>
                    <a:pt x="0" y="24"/>
                  </a:lnTo>
                  <a:lnTo>
                    <a:pt x="111" y="24"/>
                  </a:lnTo>
                  <a:close/>
                </a:path>
              </a:pathLst>
            </a:custGeom>
            <a:solidFill>
              <a:srgbClr val="004d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675960" y="3409920"/>
              <a:ext cx="41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53.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59040" y="3624120"/>
              <a:ext cx="55800" cy="1214640"/>
            </a:xfrm>
            <a:custGeom>
              <a:avLst/>
              <a:gdLst/>
              <a:ahLst/>
              <a:rect l="l" t="t" r="r" b="b"/>
              <a:pathLst>
                <a:path w="35" h="765">
                  <a:moveTo>
                    <a:pt x="0" y="765"/>
                  </a:moveTo>
                  <a:lnTo>
                    <a:pt x="0" y="29"/>
                  </a:lnTo>
                  <a:lnTo>
                    <a:pt x="35" y="0"/>
                  </a:lnTo>
                  <a:lnTo>
                    <a:pt x="35" y="736"/>
                  </a:lnTo>
                  <a:lnTo>
                    <a:pt x="0" y="765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83000" y="3670200"/>
              <a:ext cx="176040" cy="11685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83000" y="3624120"/>
              <a:ext cx="231840" cy="46080"/>
            </a:xfrm>
            <a:custGeom>
              <a:avLst/>
              <a:gdLst/>
              <a:ahLst/>
              <a:rect l="l" t="t" r="r" b="b"/>
              <a:pathLst>
                <a:path w="146" h="29">
                  <a:moveTo>
                    <a:pt x="111" y="29"/>
                  </a:moveTo>
                  <a:lnTo>
                    <a:pt x="146" y="0"/>
                  </a:lnTo>
                  <a:lnTo>
                    <a:pt x="35" y="0"/>
                  </a:lnTo>
                  <a:lnTo>
                    <a:pt x="0" y="29"/>
                  </a:lnTo>
                  <a:lnTo>
                    <a:pt x="111" y="29"/>
                  </a:lnTo>
                  <a:close/>
                </a:path>
              </a:pathLst>
            </a:custGeom>
            <a:solidFill>
              <a:srgbClr val="004d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87240" y="3429000"/>
              <a:ext cx="41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56.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70320" y="3160800"/>
              <a:ext cx="55440" cy="1677960"/>
            </a:xfrm>
            <a:custGeom>
              <a:avLst/>
              <a:gdLst/>
              <a:ahLst/>
              <a:rect l="l" t="t" r="r" b="b"/>
              <a:pathLst>
                <a:path w="35" h="1057">
                  <a:moveTo>
                    <a:pt x="0" y="1057"/>
                  </a:moveTo>
                  <a:lnTo>
                    <a:pt x="0" y="29"/>
                  </a:lnTo>
                  <a:lnTo>
                    <a:pt x="35" y="0"/>
                  </a:lnTo>
                  <a:lnTo>
                    <a:pt x="35" y="1028"/>
                  </a:lnTo>
                  <a:lnTo>
                    <a:pt x="0" y="1057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94280" y="3206880"/>
              <a:ext cx="176040" cy="16318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94280" y="3160800"/>
              <a:ext cx="231480" cy="46080"/>
            </a:xfrm>
            <a:custGeom>
              <a:avLst/>
              <a:gdLst/>
              <a:ahLst/>
              <a:rect l="l" t="t" r="r" b="b"/>
              <a:pathLst>
                <a:path w="146" h="29">
                  <a:moveTo>
                    <a:pt x="111" y="29"/>
                  </a:moveTo>
                  <a:lnTo>
                    <a:pt x="146" y="0"/>
                  </a:lnTo>
                  <a:lnTo>
                    <a:pt x="35" y="0"/>
                  </a:lnTo>
                  <a:lnTo>
                    <a:pt x="0" y="29"/>
                  </a:lnTo>
                  <a:lnTo>
                    <a:pt x="111" y="29"/>
                  </a:lnTo>
                  <a:close/>
                </a:path>
              </a:pathLst>
            </a:custGeom>
            <a:solidFill>
              <a:srgbClr val="004d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99960" y="2817720"/>
              <a:ext cx="41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18.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73680" y="2733840"/>
              <a:ext cx="65160" cy="2104920"/>
            </a:xfrm>
            <a:custGeom>
              <a:avLst/>
              <a:gdLst/>
              <a:ahLst/>
              <a:rect l="l" t="t" r="r" b="b"/>
              <a:pathLst>
                <a:path w="41" h="1326">
                  <a:moveTo>
                    <a:pt x="0" y="1326"/>
                  </a:moveTo>
                  <a:lnTo>
                    <a:pt x="0" y="29"/>
                  </a:lnTo>
                  <a:lnTo>
                    <a:pt x="41" y="0"/>
                  </a:lnTo>
                  <a:lnTo>
                    <a:pt x="41" y="1297"/>
                  </a:lnTo>
                  <a:lnTo>
                    <a:pt x="0" y="1326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07000" y="2779560"/>
              <a:ext cx="166680" cy="205920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07000" y="2733840"/>
              <a:ext cx="231840" cy="45720"/>
            </a:xfrm>
            <a:custGeom>
              <a:avLst/>
              <a:gdLst/>
              <a:ahLst/>
              <a:rect l="l" t="t" r="r" b="b"/>
              <a:pathLst>
                <a:path w="146" h="29">
                  <a:moveTo>
                    <a:pt x="105" y="29"/>
                  </a:moveTo>
                  <a:lnTo>
                    <a:pt x="146" y="0"/>
                  </a:lnTo>
                  <a:lnTo>
                    <a:pt x="35" y="0"/>
                  </a:lnTo>
                  <a:lnTo>
                    <a:pt x="0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4d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11240" y="2446200"/>
              <a:ext cx="41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75.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84600" y="2400480"/>
              <a:ext cx="65160" cy="2438280"/>
            </a:xfrm>
            <a:custGeom>
              <a:avLst/>
              <a:gdLst/>
              <a:ahLst/>
              <a:rect l="l" t="t" r="r" b="b"/>
              <a:pathLst>
                <a:path w="41" h="1536">
                  <a:moveTo>
                    <a:pt x="0" y="1536"/>
                  </a:moveTo>
                  <a:lnTo>
                    <a:pt x="0" y="29"/>
                  </a:lnTo>
                  <a:lnTo>
                    <a:pt x="41" y="0"/>
                  </a:lnTo>
                  <a:lnTo>
                    <a:pt x="41" y="1507"/>
                  </a:lnTo>
                  <a:lnTo>
                    <a:pt x="0" y="1536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17920" y="2446200"/>
              <a:ext cx="166680" cy="23925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17920" y="2400480"/>
              <a:ext cx="231840" cy="45720"/>
            </a:xfrm>
            <a:custGeom>
              <a:avLst/>
              <a:gdLst/>
              <a:ahLst/>
              <a:rect l="l" t="t" r="r" b="b"/>
              <a:pathLst>
                <a:path w="146" h="29">
                  <a:moveTo>
                    <a:pt x="105" y="29"/>
                  </a:moveTo>
                  <a:lnTo>
                    <a:pt x="146" y="0"/>
                  </a:lnTo>
                  <a:lnTo>
                    <a:pt x="35" y="0"/>
                  </a:lnTo>
                  <a:lnTo>
                    <a:pt x="0" y="29"/>
                  </a:lnTo>
                  <a:lnTo>
                    <a:pt x="105" y="29"/>
                  </a:lnTo>
                  <a:close/>
                </a:path>
              </a:pathLst>
            </a:custGeom>
            <a:solidFill>
              <a:srgbClr val="004d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23960" y="2093760"/>
              <a:ext cx="41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20.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97680" y="2028960"/>
              <a:ext cx="64800" cy="2809800"/>
            </a:xfrm>
            <a:custGeom>
              <a:avLst/>
              <a:gdLst/>
              <a:ahLst/>
              <a:rect l="l" t="t" r="r" b="b"/>
              <a:pathLst>
                <a:path w="41" h="1770">
                  <a:moveTo>
                    <a:pt x="0" y="1770"/>
                  </a:moveTo>
                  <a:lnTo>
                    <a:pt x="0" y="29"/>
                  </a:lnTo>
                  <a:lnTo>
                    <a:pt x="41" y="0"/>
                  </a:lnTo>
                  <a:lnTo>
                    <a:pt x="41" y="1741"/>
                  </a:lnTo>
                  <a:lnTo>
                    <a:pt x="0" y="177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21280" y="2075040"/>
              <a:ext cx="176400" cy="276372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21280" y="2028960"/>
              <a:ext cx="241200" cy="46080"/>
            </a:xfrm>
            <a:custGeom>
              <a:avLst/>
              <a:gdLst/>
              <a:ahLst/>
              <a:rect l="l" t="t" r="r" b="b"/>
              <a:pathLst>
                <a:path w="152" h="29">
                  <a:moveTo>
                    <a:pt x="111" y="29"/>
                  </a:moveTo>
                  <a:lnTo>
                    <a:pt x="152" y="0"/>
                  </a:lnTo>
                  <a:lnTo>
                    <a:pt x="41" y="0"/>
                  </a:lnTo>
                  <a:lnTo>
                    <a:pt x="0" y="29"/>
                  </a:lnTo>
                  <a:lnTo>
                    <a:pt x="111" y="29"/>
                  </a:lnTo>
                  <a:close/>
                </a:path>
              </a:pathLst>
            </a:custGeom>
            <a:solidFill>
              <a:srgbClr val="004d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35240" y="1862280"/>
              <a:ext cx="41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70.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10400" y="1731960"/>
              <a:ext cx="63360" cy="3106800"/>
            </a:xfrm>
            <a:custGeom>
              <a:avLst/>
              <a:gdLst/>
              <a:ahLst/>
              <a:rect l="l" t="t" r="r" b="b"/>
              <a:pathLst>
                <a:path w="40" h="1957">
                  <a:moveTo>
                    <a:pt x="0" y="1957"/>
                  </a:moveTo>
                  <a:lnTo>
                    <a:pt x="0" y="23"/>
                  </a:lnTo>
                  <a:lnTo>
                    <a:pt x="40" y="0"/>
                  </a:lnTo>
                  <a:lnTo>
                    <a:pt x="40" y="1928"/>
                  </a:lnTo>
                  <a:lnTo>
                    <a:pt x="0" y="1957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34000" y="1768320"/>
              <a:ext cx="176400" cy="307044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34000" y="1731960"/>
              <a:ext cx="239760" cy="36360"/>
            </a:xfrm>
            <a:custGeom>
              <a:avLst/>
              <a:gdLst/>
              <a:ahLst/>
              <a:rect l="l" t="t" r="r" b="b"/>
              <a:pathLst>
                <a:path w="151" h="23">
                  <a:moveTo>
                    <a:pt x="111" y="23"/>
                  </a:moveTo>
                  <a:lnTo>
                    <a:pt x="151" y="0"/>
                  </a:lnTo>
                  <a:lnTo>
                    <a:pt x="40" y="0"/>
                  </a:lnTo>
                  <a:lnTo>
                    <a:pt x="0" y="23"/>
                  </a:lnTo>
                  <a:lnTo>
                    <a:pt x="111" y="23"/>
                  </a:lnTo>
                  <a:close/>
                </a:path>
              </a:pathLst>
            </a:custGeom>
            <a:solidFill>
              <a:srgbClr val="004d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08280" y="1536840"/>
              <a:ext cx="41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10.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592280" y="1509840"/>
              <a:ext cx="0" cy="335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534680" y="4865760"/>
              <a:ext cx="57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1534680" y="4495680"/>
              <a:ext cx="57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534680" y="4124160"/>
              <a:ext cx="57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534680" y="3745080"/>
              <a:ext cx="57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534680" y="3373560"/>
              <a:ext cx="57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534680" y="3002040"/>
              <a:ext cx="57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534680" y="2631960"/>
              <a:ext cx="57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534680" y="2251080"/>
              <a:ext cx="57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1534680" y="1881360"/>
              <a:ext cx="57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534680" y="1509840"/>
              <a:ext cx="57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23080" y="47829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50840" y="4411800"/>
              <a:ext cx="47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0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65880" y="404172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0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65880" y="366084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0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65880" y="328932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65880" y="291924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0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65880" y="254808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0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65880" y="216864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50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65880" y="179712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0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65880" y="142560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50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55240" y="1147680"/>
              <a:ext cx="30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ni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1000" y="1027080"/>
              <a:ext cx="7669440" cy="4340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Romania – Early Observations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aler Facilities above European A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need to focus on increasing customer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ilability of well educated and enthusiastic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ed for one measure of Marke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ck of used car sales holding back Dealer Profi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d Romania–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ch 21, 2008- Ford takes over the facility in Craio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tember 8, 2009- Ford launches first Craiova produced veh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ril 2010 - Office open in Pip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2010 – Staff in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ne 2010 – National Dealer Meeting in Bucha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ugust 1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– National Sales Company starts selling vehi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Romania NSC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it as easy as possible for Dealers to sell veh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it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 product line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 Margin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stomer Service will be key for Dealers going for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Romania – Ford Dealer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state:  34 sales&amp; service; 3 sales; 4 auth repair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ge 1: Take on 4 Dealers that have been on hold awaiting NSC la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ge 2: Fill Open Points in Following Coun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TOSANI, SLOBOZIA, TULCEA, GIURGIU, ZALAU, VASLUI, CALARA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ge 3: Look for further opportunities as Market reco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ord Roman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t = Style and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omanian Production with German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d is proud to be making Romania its Eastern European hub and look forward to working together to share in a brighter economic future for Roman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0:51:41Z</dcterms:created>
  <dc:creator> </dc:creator>
  <dc:description> </dc:description>
  <cp:keywords/>
  <dc:language>en-US</dc:language>
  <cp:lastModifiedBy>Romania</cp:lastModifiedBy>
  <dcterms:modified xsi:type="dcterms:W3CDTF">2010-04-27T09:17:58Z</dcterms:modified>
  <cp:revision>27</cp:revision>
  <dc:subject> </dc:subject>
  <dc:title> </dc:title>
</cp:coreProperties>
</file>