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424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A51-4BFF-46F0-8517-8A8F648DBD5E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D92-EB02-46F5-84BA-33224903EE2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0D1-40BC-4642-A61E-3BE31EAC80B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000" y="37386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320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76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00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320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76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33000" y="240840"/>
            <a:ext cx="84596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76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000" y="37386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76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320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3760" y="11538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300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320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3760" y="3738600"/>
            <a:ext cx="272376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3000" y="240840"/>
            <a:ext cx="845964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86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53800"/>
            <a:ext cx="412812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000" y="3738600"/>
            <a:ext cx="8459640" cy="2360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42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logo renault"/>
          <p:cNvPicPr/>
          <p:nvPr/>
        </p:nvPicPr>
        <p:blipFill>
          <a:blip r:embed="rId2"/>
          <a:stretch/>
        </p:blipFill>
        <p:spPr>
          <a:xfrm>
            <a:off x="8589960" y="6296040"/>
            <a:ext cx="39384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Text Box 64"/>
          <p:cNvSpPr/>
          <p:nvPr/>
        </p:nvSpPr>
        <p:spPr>
          <a:xfrm>
            <a:off x="333360" y="6250320"/>
            <a:ext cx="1797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7 aprili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237440" y="6359400"/>
            <a:ext cx="1314360" cy="28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165240" y="3997440"/>
            <a:ext cx="8932680" cy="2050920"/>
            <a:chOff x="165240" y="3997440"/>
            <a:chExt cx="8932680" cy="2050920"/>
          </a:xfrm>
        </p:grpSpPr>
        <p:sp>
          <p:nvSpPr>
            <p:cNvPr id="42" name="Rectangle 19"/>
            <p:cNvSpPr/>
            <p:nvPr/>
          </p:nvSpPr>
          <p:spPr>
            <a:xfrm>
              <a:off x="165240" y="3997440"/>
              <a:ext cx="8800920" cy="1946160"/>
            </a:xfrm>
            <a:prstGeom prst="rect">
              <a:avLst/>
            </a:prstGeom>
            <a:solidFill>
              <a:srgbClr val="f7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8424720" y="5419800"/>
              <a:ext cx="673200" cy="62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Picture 15" descr="ONGLET"/>
            <p:cNvPicPr/>
            <p:nvPr/>
          </p:nvPicPr>
          <p:blipFill>
            <a:blip r:embed="rId2"/>
            <a:srcRect l="24108" t="24010" r="24108" b="24010"/>
            <a:stretch/>
          </p:blipFill>
          <p:spPr>
            <a:xfrm>
              <a:off x="8424720" y="5419800"/>
              <a:ext cx="540000" cy="5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Picture 20" descr="logo renault"/>
          <p:cNvPicPr/>
          <p:nvPr/>
        </p:nvPicPr>
        <p:blipFill>
          <a:blip r:embed="rId3"/>
          <a:stretch/>
        </p:blipFill>
        <p:spPr>
          <a:xfrm>
            <a:off x="8424720" y="6149880"/>
            <a:ext cx="540000" cy="540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3"/>
          <p:cNvSpPr/>
          <p:nvPr/>
        </p:nvSpPr>
        <p:spPr>
          <a:xfrm>
            <a:off x="166680" y="166680"/>
            <a:ext cx="880128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42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72200" y="6323040"/>
            <a:ext cx="1314720" cy="28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5800" y="6340320"/>
            <a:ext cx="15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7 aprilie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1800" y="1711440"/>
            <a:ext cx="8361360" cy="46656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3800"/>
            </a:br>
            <a:r>
              <a:rPr b="0" lang="fr-FR" sz="3800" spc="-1" strike="noStrike">
                <a:solidFill>
                  <a:srgbClr val="212424"/>
                </a:solidFill>
                <a:latin typeface="Arial"/>
              </a:rPr>
              <a:t>GRUPUL RENAULT IN ROMANIA</a:t>
            </a:r>
            <a:br>
              <a:rPr sz="3800"/>
            </a:br>
            <a:r>
              <a:rPr b="0" lang="fr-FR" sz="3800" spc="-1" strike="noStrike">
                <a:solidFill>
                  <a:srgbClr val="212424"/>
                </a:solidFill>
                <a:latin typeface="Arial"/>
              </a:rPr>
              <a:t>PERSPECTIVE 2010</a:t>
            </a:r>
            <a:r>
              <a:rPr b="0" lang="ro-RO" sz="3800" spc="-1" strike="noStrike">
                <a:solidFill>
                  <a:srgbClr val="212424"/>
                </a:solidFill>
                <a:latin typeface="Arial"/>
              </a:rPr>
              <a:t> </a:t>
            </a:r>
            <a:br>
              <a:rPr sz="3800"/>
            </a:br>
            <a:br>
              <a:rPr sz="3800"/>
            </a:br>
            <a:r>
              <a:rPr b="0" lang="fr-FR" sz="2700" spc="-1" strike="noStrike">
                <a:solidFill>
                  <a:srgbClr val="212424"/>
                </a:solidFill>
                <a:latin typeface="Arial"/>
              </a:rPr>
              <a:t>CONFERINT</a:t>
            </a:r>
            <a:r>
              <a:rPr b="0" lang="ro-RO" sz="2700" spc="-1" strike="noStrike">
                <a:solidFill>
                  <a:srgbClr val="212424"/>
                </a:solidFill>
                <a:latin typeface="Arial"/>
              </a:rPr>
              <a:t>A MEDIAFAX</a:t>
            </a:r>
            <a:br>
              <a:rPr sz="2700"/>
            </a:br>
            <a:br>
              <a:rPr sz="2700"/>
            </a:br>
            <a:endParaRPr b="1" lang="en-US" sz="2700" spc="-1" strike="noStrike">
              <a:solidFill>
                <a:srgbClr val="2124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ESTINATI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IA 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graphicFrame>
        <p:nvGraphicFramePr>
          <p:cNvPr id="114" name="Rectangle 3"/>
          <p:cNvGraphicFramePr/>
          <p:nvPr/>
        </p:nvGraphicFramePr>
        <p:xfrm>
          <a:off x="333360" y="1625760"/>
          <a:ext cx="845964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625760"/>
                    <a:ext cx="845964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394080" y="3943440"/>
            <a:ext cx="5170320" cy="752040"/>
          </a:xfrm>
          <a:prstGeom prst="rect">
            <a:avLst/>
          </a:prstGeom>
          <a:solidFill>
            <a:srgbClr val="ffff99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proape 80 000 vehicule Dacia exportate în primul trimestru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1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ITII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9560" y="1342800"/>
            <a:ext cx="9207360" cy="4958640"/>
            <a:chOff x="169560" y="1342800"/>
            <a:chExt cx="9207360" cy="4958640"/>
          </a:xfrm>
        </p:grpSpPr>
        <p:grpSp>
          <p:nvGrpSpPr>
            <p:cNvPr id="119" name=""/>
            <p:cNvGrpSpPr/>
            <p:nvPr/>
          </p:nvGrpSpPr>
          <p:grpSpPr>
            <a:xfrm>
              <a:off x="1160640" y="2047680"/>
              <a:ext cx="5943600" cy="3957480"/>
              <a:chOff x="1160640" y="2047680"/>
              <a:chExt cx="5943600" cy="3957480"/>
            </a:xfrm>
          </p:grpSpPr>
          <p:sp>
            <p:nvSpPr>
              <p:cNvPr id="120" name=""/>
              <p:cNvSpPr/>
              <p:nvPr/>
            </p:nvSpPr>
            <p:spPr>
              <a:xfrm>
                <a:off x="1160640" y="5849640"/>
                <a:ext cx="12600" cy="15552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73240" y="5849640"/>
                <a:ext cx="12600" cy="15552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85840" y="5849640"/>
                <a:ext cx="12600" cy="15552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98440" y="5849640"/>
                <a:ext cx="14400" cy="15552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2840" y="5849640"/>
                <a:ext cx="12600" cy="15552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25440" y="5849640"/>
                <a:ext cx="12960" cy="15552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38400" y="5849640"/>
                <a:ext cx="12600" cy="155520"/>
              </a:xfrm>
              <a:prstGeom prst="rect">
                <a:avLst/>
              </a:prstGeom>
              <a:solidFill>
                <a:srgbClr val="587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51000" y="5849640"/>
                <a:ext cx="12600" cy="15552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63600" y="5849640"/>
                <a:ext cx="12960" cy="155520"/>
              </a:xfrm>
              <a:prstGeom prst="rect">
                <a:avLst/>
              </a:prstGeom>
              <a:solidFill>
                <a:srgbClr val="6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76560" y="5849640"/>
                <a:ext cx="14040" cy="155520"/>
              </a:xfrm>
              <a:prstGeom prst="rect">
                <a:avLst/>
              </a:prstGeom>
              <a:solidFill>
                <a:srgbClr val="658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90600" y="5849640"/>
                <a:ext cx="12960" cy="155520"/>
              </a:xfrm>
              <a:prstGeom prst="rect">
                <a:avLst/>
              </a:prstGeom>
              <a:solidFill>
                <a:srgbClr val="6a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03560" y="5849640"/>
                <a:ext cx="12600" cy="155520"/>
              </a:xfrm>
              <a:prstGeom prst="rect">
                <a:avLst/>
              </a:prstGeom>
              <a:solidFill>
                <a:srgbClr val="6f9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316160" y="5849640"/>
                <a:ext cx="12600" cy="155520"/>
              </a:xfrm>
              <a:prstGeom prst="rect">
                <a:avLst/>
              </a:prstGeom>
              <a:solidFill>
                <a:srgbClr val="74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28760" y="5849640"/>
                <a:ext cx="12600" cy="155520"/>
              </a:xfrm>
              <a:prstGeom prst="rect">
                <a:avLst/>
              </a:prstGeom>
              <a:solidFill>
                <a:srgbClr val="79a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41360" y="5849640"/>
                <a:ext cx="12960" cy="15552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54320" y="5849640"/>
                <a:ext cx="12600" cy="155520"/>
              </a:xfrm>
              <a:prstGeom prst="rect">
                <a:avLst/>
              </a:prstGeom>
              <a:solidFill>
                <a:srgbClr val="81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66920" y="5849640"/>
                <a:ext cx="14400" cy="155520"/>
              </a:xfrm>
              <a:prstGeom prst="rect">
                <a:avLst/>
              </a:prstGeom>
              <a:solidFill>
                <a:srgbClr val="85b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81320" y="5849640"/>
                <a:ext cx="12600" cy="155520"/>
              </a:xfrm>
              <a:prstGeom prst="rect">
                <a:avLst/>
              </a:prstGeom>
              <a:solidFill>
                <a:srgbClr val="89b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393920" y="5849640"/>
                <a:ext cx="12600" cy="15552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06520" y="5849640"/>
                <a:ext cx="12600" cy="155520"/>
              </a:xfrm>
              <a:prstGeom prst="rect">
                <a:avLst/>
              </a:prstGeom>
              <a:solidFill>
                <a:srgbClr val="8f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19120" y="5849640"/>
                <a:ext cx="12960" cy="155520"/>
              </a:xfrm>
              <a:prstGeom prst="rect">
                <a:avLst/>
              </a:prstGeom>
              <a:solidFill>
                <a:srgbClr val="91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32080" y="5849640"/>
                <a:ext cx="12600" cy="15552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4680" y="5849640"/>
                <a:ext cx="14400" cy="155520"/>
              </a:xfrm>
              <a:prstGeom prst="rect">
                <a:avLst/>
              </a:prstGeom>
              <a:solidFill>
                <a:srgbClr val="95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59080" y="5849640"/>
                <a:ext cx="12600" cy="15552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71680" y="5849640"/>
                <a:ext cx="12600" cy="1555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84280" y="5849640"/>
                <a:ext cx="12960" cy="15552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97240" y="5849640"/>
                <a:ext cx="12600" cy="15552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60640" y="5849640"/>
                <a:ext cx="349200" cy="15552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01960" y="5095800"/>
                <a:ext cx="12600" cy="90936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14560" y="5095800"/>
                <a:ext cx="12600" cy="90936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27160" y="5095800"/>
                <a:ext cx="14400" cy="90936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041560" y="5095800"/>
                <a:ext cx="12600" cy="909360"/>
              </a:xfrm>
              <a:prstGeom prst="rect">
                <a:avLst/>
              </a:prstGeom>
              <a:solidFill>
                <a:srgbClr val="4e6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054160" y="5095800"/>
                <a:ext cx="12960" cy="909360"/>
              </a:xfrm>
              <a:prstGeom prst="rect">
                <a:avLst/>
              </a:prstGeom>
              <a:solidFill>
                <a:srgbClr val="516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067120" y="5095800"/>
                <a:ext cx="12600" cy="909360"/>
              </a:xfrm>
              <a:prstGeom prst="rect">
                <a:avLst/>
              </a:prstGeom>
              <a:solidFill>
                <a:srgbClr val="557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079720" y="5095800"/>
                <a:ext cx="12600" cy="909360"/>
              </a:xfrm>
              <a:prstGeom prst="rect">
                <a:avLst/>
              </a:prstGeom>
              <a:solidFill>
                <a:srgbClr val="597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92320" y="5095800"/>
                <a:ext cx="12600" cy="909360"/>
              </a:xfrm>
              <a:prstGeom prst="rect">
                <a:avLst/>
              </a:prstGeom>
              <a:solidFill>
                <a:srgbClr val="5d7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104920" y="5095800"/>
                <a:ext cx="14400" cy="909360"/>
              </a:xfrm>
              <a:prstGeom prst="rect">
                <a:avLst/>
              </a:prstGeom>
              <a:solidFill>
                <a:srgbClr val="62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9320" y="5095800"/>
                <a:ext cx="12600" cy="909360"/>
              </a:xfrm>
              <a:prstGeom prst="rect">
                <a:avLst/>
              </a:prstGeom>
              <a:solidFill>
                <a:srgbClr val="678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31920" y="5095800"/>
                <a:ext cx="12960" cy="909360"/>
              </a:xfrm>
              <a:prstGeom prst="rect">
                <a:avLst/>
              </a:prstGeom>
              <a:solidFill>
                <a:srgbClr val="6c9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4880" y="5095800"/>
                <a:ext cx="12600" cy="909360"/>
              </a:xfrm>
              <a:prstGeom prst="rect">
                <a:avLst/>
              </a:prstGeom>
              <a:solidFill>
                <a:srgbClr val="719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57480" y="5095800"/>
                <a:ext cx="12600" cy="909360"/>
              </a:xfrm>
              <a:prstGeom prst="rect">
                <a:avLst/>
              </a:prstGeom>
              <a:solidFill>
                <a:srgbClr val="76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70080" y="5095800"/>
                <a:ext cx="12960" cy="90936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83040" y="5095800"/>
                <a:ext cx="14040" cy="909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97080" y="5095800"/>
                <a:ext cx="12600" cy="909360"/>
              </a:xfrm>
              <a:prstGeom prst="rect">
                <a:avLst/>
              </a:prstGeom>
              <a:solidFill>
                <a:srgbClr val="84b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09680" y="5095800"/>
                <a:ext cx="12960" cy="909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22640" y="5095800"/>
                <a:ext cx="12600" cy="909360"/>
              </a:xfrm>
              <a:prstGeom prst="rect">
                <a:avLst/>
              </a:prstGeom>
              <a:solidFill>
                <a:srgbClr val="8b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35240" y="5095800"/>
                <a:ext cx="12600" cy="909360"/>
              </a:xfrm>
              <a:prstGeom prst="rect">
                <a:avLst/>
              </a:prstGeom>
              <a:solidFill>
                <a:srgbClr val="8e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47840" y="5095800"/>
                <a:ext cx="12960" cy="9093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60800" y="5095800"/>
                <a:ext cx="12600" cy="909360"/>
              </a:xfrm>
              <a:prstGeom prst="rect">
                <a:avLst/>
              </a:prstGeom>
              <a:solidFill>
                <a:srgbClr val="93c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3400" y="5095800"/>
                <a:ext cx="14400" cy="909360"/>
              </a:xfrm>
              <a:prstGeom prst="rect">
                <a:avLst/>
              </a:prstGeom>
              <a:solidFill>
                <a:srgbClr val="94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7800" y="5095800"/>
                <a:ext cx="12600" cy="9093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00400" y="5095800"/>
                <a:ext cx="12600" cy="909360"/>
              </a:xfrm>
              <a:prstGeom prst="rect">
                <a:avLst/>
              </a:prstGeom>
              <a:solidFill>
                <a:srgbClr val="97c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13000" y="5095800"/>
                <a:ext cx="12600" cy="90936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25600" y="5095800"/>
                <a:ext cx="12960" cy="90936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01960" y="5095800"/>
                <a:ext cx="336600" cy="90936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30680" y="4654440"/>
                <a:ext cx="12600" cy="135072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43280" y="4654440"/>
                <a:ext cx="14400" cy="135072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57680" y="4654440"/>
                <a:ext cx="12600" cy="135072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0280" y="4654440"/>
                <a:ext cx="12600" cy="135072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82880" y="4654440"/>
                <a:ext cx="12600" cy="135072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95480" y="4654440"/>
                <a:ext cx="12960" cy="135072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08440" y="4654440"/>
                <a:ext cx="12600" cy="1350720"/>
              </a:xfrm>
              <a:prstGeom prst="rect">
                <a:avLst/>
              </a:prstGeom>
              <a:solidFill>
                <a:srgbClr val="587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21040" y="4654440"/>
                <a:ext cx="12600" cy="135072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33640" y="4654440"/>
                <a:ext cx="14400" cy="1350720"/>
              </a:xfrm>
              <a:prstGeom prst="rect">
                <a:avLst/>
              </a:prstGeom>
              <a:solidFill>
                <a:srgbClr val="6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48040" y="4654440"/>
                <a:ext cx="12600" cy="1350720"/>
              </a:xfrm>
              <a:prstGeom prst="rect">
                <a:avLst/>
              </a:prstGeom>
              <a:solidFill>
                <a:srgbClr val="658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60640" y="4654440"/>
                <a:ext cx="12960" cy="1350720"/>
              </a:xfrm>
              <a:prstGeom prst="rect">
                <a:avLst/>
              </a:prstGeom>
              <a:solidFill>
                <a:srgbClr val="6a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73600" y="4654440"/>
                <a:ext cx="12600" cy="1350720"/>
              </a:xfrm>
              <a:prstGeom prst="rect">
                <a:avLst/>
              </a:prstGeom>
              <a:solidFill>
                <a:srgbClr val="6f9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86200" y="4654440"/>
                <a:ext cx="12600" cy="1350720"/>
              </a:xfrm>
              <a:prstGeom prst="rect">
                <a:avLst/>
              </a:prstGeom>
              <a:solidFill>
                <a:srgbClr val="74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98800" y="4654440"/>
                <a:ext cx="12600" cy="1350720"/>
              </a:xfrm>
              <a:prstGeom prst="rect">
                <a:avLst/>
              </a:prstGeom>
              <a:solidFill>
                <a:srgbClr val="79a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11400" y="4654440"/>
                <a:ext cx="14400" cy="135072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5800" y="4654440"/>
                <a:ext cx="12600" cy="1350720"/>
              </a:xfrm>
              <a:prstGeom prst="rect">
                <a:avLst/>
              </a:prstGeom>
              <a:solidFill>
                <a:srgbClr val="81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38400" y="4654440"/>
                <a:ext cx="12960" cy="1350720"/>
              </a:xfrm>
              <a:prstGeom prst="rect">
                <a:avLst/>
              </a:prstGeom>
              <a:solidFill>
                <a:srgbClr val="85b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51360" y="4654440"/>
                <a:ext cx="12600" cy="1350720"/>
              </a:xfrm>
              <a:prstGeom prst="rect">
                <a:avLst/>
              </a:prstGeom>
              <a:solidFill>
                <a:srgbClr val="89b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63960" y="4654440"/>
                <a:ext cx="12600" cy="135072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76560" y="4654440"/>
                <a:ext cx="12600" cy="1350720"/>
              </a:xfrm>
              <a:prstGeom prst="rect">
                <a:avLst/>
              </a:prstGeom>
              <a:solidFill>
                <a:srgbClr val="8f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89160" y="4654440"/>
                <a:ext cx="14400" cy="1350720"/>
              </a:xfrm>
              <a:prstGeom prst="rect">
                <a:avLst/>
              </a:prstGeom>
              <a:solidFill>
                <a:srgbClr val="91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03560" y="4654440"/>
                <a:ext cx="12600" cy="135072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16160" y="4654440"/>
                <a:ext cx="12960" cy="1350720"/>
              </a:xfrm>
              <a:prstGeom prst="rect">
                <a:avLst/>
              </a:prstGeom>
              <a:solidFill>
                <a:srgbClr val="95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29120" y="4654440"/>
                <a:ext cx="12600" cy="135072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41720" y="4654440"/>
                <a:ext cx="12600" cy="135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54320" y="4654440"/>
                <a:ext cx="12960" cy="135072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67280" y="4654440"/>
                <a:ext cx="12600" cy="135072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30680" y="4654440"/>
                <a:ext cx="349200" cy="135072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2000" y="3458880"/>
                <a:ext cx="14400" cy="254628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86400" y="3458880"/>
                <a:ext cx="12600" cy="254628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99000" y="3458880"/>
                <a:ext cx="12600" cy="254628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11600" y="3458880"/>
                <a:ext cx="12600" cy="254628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24200" y="3458880"/>
                <a:ext cx="12960" cy="254628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7160" y="3458880"/>
                <a:ext cx="12600" cy="254628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9760" y="3458880"/>
                <a:ext cx="14400" cy="2546280"/>
              </a:xfrm>
              <a:prstGeom prst="rect">
                <a:avLst/>
              </a:prstGeom>
              <a:solidFill>
                <a:srgbClr val="587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64160" y="3458880"/>
                <a:ext cx="12600" cy="254628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76760" y="3458880"/>
                <a:ext cx="12600" cy="2546280"/>
              </a:xfrm>
              <a:prstGeom prst="rect">
                <a:avLst/>
              </a:prstGeom>
              <a:solidFill>
                <a:srgbClr val="6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89360" y="3458880"/>
                <a:ext cx="12600" cy="2546280"/>
              </a:xfrm>
              <a:prstGeom prst="rect">
                <a:avLst/>
              </a:prstGeom>
              <a:solidFill>
                <a:srgbClr val="658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01960" y="3458880"/>
                <a:ext cx="12960" cy="2546280"/>
              </a:xfrm>
              <a:prstGeom prst="rect">
                <a:avLst/>
              </a:prstGeom>
              <a:solidFill>
                <a:srgbClr val="6a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14920" y="3458880"/>
                <a:ext cx="12600" cy="2546280"/>
              </a:xfrm>
              <a:prstGeom prst="rect">
                <a:avLst/>
              </a:prstGeom>
              <a:solidFill>
                <a:srgbClr val="6f9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27520" y="3458880"/>
                <a:ext cx="12600" cy="2546280"/>
              </a:xfrm>
              <a:prstGeom prst="rect">
                <a:avLst/>
              </a:prstGeom>
              <a:solidFill>
                <a:srgbClr val="74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40120" y="3458880"/>
                <a:ext cx="14400" cy="2546280"/>
              </a:xfrm>
              <a:prstGeom prst="rect">
                <a:avLst/>
              </a:prstGeom>
              <a:solidFill>
                <a:srgbClr val="79a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54520" y="3458880"/>
                <a:ext cx="12600" cy="254628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67120" y="3458880"/>
                <a:ext cx="12960" cy="2546280"/>
              </a:xfrm>
              <a:prstGeom prst="rect">
                <a:avLst/>
              </a:prstGeom>
              <a:solidFill>
                <a:srgbClr val="81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80080" y="3458880"/>
                <a:ext cx="12600" cy="2546280"/>
              </a:xfrm>
              <a:prstGeom prst="rect">
                <a:avLst/>
              </a:prstGeom>
              <a:solidFill>
                <a:srgbClr val="85b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92680" y="3458880"/>
                <a:ext cx="12600" cy="2546280"/>
              </a:xfrm>
              <a:prstGeom prst="rect">
                <a:avLst/>
              </a:prstGeom>
              <a:solidFill>
                <a:srgbClr val="89b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05280" y="3458880"/>
                <a:ext cx="12600" cy="254628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17880" y="3458880"/>
                <a:ext cx="14400" cy="2546280"/>
              </a:xfrm>
              <a:prstGeom prst="rect">
                <a:avLst/>
              </a:prstGeom>
              <a:solidFill>
                <a:srgbClr val="8f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32280" y="3458880"/>
                <a:ext cx="12600" cy="2546280"/>
              </a:xfrm>
              <a:prstGeom prst="rect">
                <a:avLst/>
              </a:prstGeom>
              <a:solidFill>
                <a:srgbClr val="91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44880" y="3458880"/>
                <a:ext cx="12960" cy="254628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57840" y="3458880"/>
                <a:ext cx="12600" cy="2546280"/>
              </a:xfrm>
              <a:prstGeom prst="rect">
                <a:avLst/>
              </a:prstGeom>
              <a:solidFill>
                <a:srgbClr val="95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70440" y="3458880"/>
                <a:ext cx="12600" cy="254628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83040" y="3458880"/>
                <a:ext cx="12600" cy="254628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95640" y="3458880"/>
                <a:ext cx="14400" cy="254628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010040" y="3458880"/>
                <a:ext cx="12600" cy="254628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72000" y="3458880"/>
                <a:ext cx="350640" cy="254628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14760" y="3625560"/>
                <a:ext cx="12960" cy="237960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27720" y="3625560"/>
                <a:ext cx="12600" cy="237960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40320" y="3625560"/>
                <a:ext cx="12600" cy="237960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52920" y="3625560"/>
                <a:ext cx="12960" cy="237960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880" y="3625560"/>
                <a:ext cx="12600" cy="237960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78480" y="3625560"/>
                <a:ext cx="14040" cy="237960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92520" y="3625560"/>
                <a:ext cx="12960" cy="2379600"/>
              </a:xfrm>
              <a:prstGeom prst="rect">
                <a:avLst/>
              </a:prstGeom>
              <a:solidFill>
                <a:srgbClr val="587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05480" y="3625560"/>
                <a:ext cx="12600" cy="237960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18080" y="3625560"/>
                <a:ext cx="12600" cy="2379600"/>
              </a:xfrm>
              <a:prstGeom prst="rect">
                <a:avLst/>
              </a:prstGeom>
              <a:solidFill>
                <a:srgbClr val="6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30680" y="3625560"/>
                <a:ext cx="12960" cy="2379600"/>
              </a:xfrm>
              <a:prstGeom prst="rect">
                <a:avLst/>
              </a:prstGeom>
              <a:solidFill>
                <a:srgbClr val="658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43640" y="3625560"/>
                <a:ext cx="12600" cy="2379600"/>
              </a:xfrm>
              <a:prstGeom prst="rect">
                <a:avLst/>
              </a:prstGeom>
              <a:solidFill>
                <a:srgbClr val="6a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56240" y="3625560"/>
                <a:ext cx="14400" cy="2379600"/>
              </a:xfrm>
              <a:prstGeom prst="rect">
                <a:avLst/>
              </a:prstGeom>
              <a:solidFill>
                <a:srgbClr val="6f9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70640" y="3625560"/>
                <a:ext cx="12600" cy="2379600"/>
              </a:xfrm>
              <a:prstGeom prst="rect">
                <a:avLst/>
              </a:prstGeom>
              <a:solidFill>
                <a:srgbClr val="74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83240" y="3625560"/>
                <a:ext cx="12600" cy="2379600"/>
              </a:xfrm>
              <a:prstGeom prst="rect">
                <a:avLst/>
              </a:prstGeom>
              <a:solidFill>
                <a:srgbClr val="79a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695840" y="3625560"/>
                <a:ext cx="12600" cy="237960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08440" y="3625560"/>
                <a:ext cx="12960" cy="2379600"/>
              </a:xfrm>
              <a:prstGeom prst="rect">
                <a:avLst/>
              </a:prstGeom>
              <a:solidFill>
                <a:srgbClr val="81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21400" y="3625560"/>
                <a:ext cx="12600" cy="2379600"/>
              </a:xfrm>
              <a:prstGeom prst="rect">
                <a:avLst/>
              </a:prstGeom>
              <a:solidFill>
                <a:srgbClr val="85b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34000" y="3625560"/>
                <a:ext cx="12600" cy="2379600"/>
              </a:xfrm>
              <a:prstGeom prst="rect">
                <a:avLst/>
              </a:prstGeom>
              <a:solidFill>
                <a:srgbClr val="89b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46600" y="3625560"/>
                <a:ext cx="14400" cy="237960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61000" y="3625560"/>
                <a:ext cx="12600" cy="2379600"/>
              </a:xfrm>
              <a:prstGeom prst="rect">
                <a:avLst/>
              </a:prstGeom>
              <a:solidFill>
                <a:srgbClr val="8f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73600" y="3625560"/>
                <a:ext cx="12600" cy="2379600"/>
              </a:xfrm>
              <a:prstGeom prst="rect">
                <a:avLst/>
              </a:prstGeom>
              <a:solidFill>
                <a:srgbClr val="91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86200" y="3625560"/>
                <a:ext cx="12960" cy="23796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99160" y="3625560"/>
                <a:ext cx="12600" cy="2379600"/>
              </a:xfrm>
              <a:prstGeom prst="rect">
                <a:avLst/>
              </a:prstGeom>
              <a:solidFill>
                <a:srgbClr val="95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11760" y="3625560"/>
                <a:ext cx="12600" cy="237960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24360" y="3625560"/>
                <a:ext cx="14400" cy="237960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38760" y="3625560"/>
                <a:ext cx="12600" cy="23796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51360" y="3625560"/>
                <a:ext cx="12960" cy="237960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14760" y="3625560"/>
                <a:ext cx="349560" cy="237960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56440" y="3206520"/>
                <a:ext cx="12600" cy="279864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69040" y="3206520"/>
                <a:ext cx="12600" cy="279864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81640" y="3206520"/>
                <a:ext cx="12600" cy="279864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4240" y="3206520"/>
                <a:ext cx="12960" cy="2798640"/>
              </a:xfrm>
              <a:prstGeom prst="rect">
                <a:avLst/>
              </a:prstGeom>
              <a:solidFill>
                <a:srgbClr val="4e6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07200" y="3206520"/>
                <a:ext cx="14040" cy="2798640"/>
              </a:xfrm>
              <a:prstGeom prst="rect">
                <a:avLst/>
              </a:prstGeom>
              <a:solidFill>
                <a:srgbClr val="516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21240" y="3206520"/>
                <a:ext cx="12960" cy="2798640"/>
              </a:xfrm>
              <a:prstGeom prst="rect">
                <a:avLst/>
              </a:prstGeom>
              <a:solidFill>
                <a:srgbClr val="5570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34200" y="3206520"/>
                <a:ext cx="12600" cy="2798640"/>
              </a:xfrm>
              <a:prstGeom prst="rect">
                <a:avLst/>
              </a:prstGeom>
              <a:solidFill>
                <a:srgbClr val="597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46800" y="3206520"/>
                <a:ext cx="12600" cy="2798640"/>
              </a:xfrm>
              <a:prstGeom prst="rect">
                <a:avLst/>
              </a:prstGeom>
              <a:solidFill>
                <a:srgbClr val="5d7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459400" y="3206520"/>
                <a:ext cx="12600" cy="2798640"/>
              </a:xfrm>
              <a:prstGeom prst="rect">
                <a:avLst/>
              </a:prstGeom>
              <a:solidFill>
                <a:srgbClr val="6282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2000" y="3206520"/>
                <a:ext cx="12960" cy="2798640"/>
              </a:xfrm>
              <a:prstGeom prst="rect">
                <a:avLst/>
              </a:prstGeom>
              <a:solidFill>
                <a:srgbClr val="678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484960" y="3206520"/>
                <a:ext cx="14040" cy="2798640"/>
              </a:xfrm>
              <a:prstGeom prst="rect">
                <a:avLst/>
              </a:prstGeom>
              <a:solidFill>
                <a:srgbClr val="6c9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99000" y="3206520"/>
                <a:ext cx="12960" cy="2798640"/>
              </a:xfrm>
              <a:prstGeom prst="rect">
                <a:avLst/>
              </a:prstGeom>
              <a:solidFill>
                <a:srgbClr val="719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11960" y="3206520"/>
                <a:ext cx="12600" cy="2798640"/>
              </a:xfrm>
              <a:prstGeom prst="rect">
                <a:avLst/>
              </a:prstGeom>
              <a:solidFill>
                <a:srgbClr val="769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24560" y="3206520"/>
                <a:ext cx="12600" cy="279864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37160" y="3206520"/>
                <a:ext cx="12960" cy="279864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50120" y="3206520"/>
                <a:ext cx="12600" cy="2798640"/>
              </a:xfrm>
              <a:prstGeom prst="rect">
                <a:avLst/>
              </a:prstGeom>
              <a:solidFill>
                <a:srgbClr val="84b0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62720" y="3206520"/>
                <a:ext cx="14400" cy="279864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577120" y="3206520"/>
                <a:ext cx="12600" cy="2798640"/>
              </a:xfrm>
              <a:prstGeom prst="rect">
                <a:avLst/>
              </a:prstGeom>
              <a:solidFill>
                <a:srgbClr val="8b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89720" y="3206520"/>
                <a:ext cx="12600" cy="2798640"/>
              </a:xfrm>
              <a:prstGeom prst="rect">
                <a:avLst/>
              </a:prstGeom>
              <a:solidFill>
                <a:srgbClr val="8e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602320" y="3206520"/>
                <a:ext cx="12600" cy="279864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614920" y="3206520"/>
                <a:ext cx="12960" cy="2798640"/>
              </a:xfrm>
              <a:prstGeom prst="rect">
                <a:avLst/>
              </a:prstGeom>
              <a:solidFill>
                <a:srgbClr val="93c3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27880" y="3206520"/>
                <a:ext cx="12600" cy="2798640"/>
              </a:xfrm>
              <a:prstGeom prst="rect">
                <a:avLst/>
              </a:prstGeom>
              <a:solidFill>
                <a:srgbClr val="94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40480" y="3206520"/>
                <a:ext cx="12600" cy="279864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53080" y="3206520"/>
                <a:ext cx="14400" cy="2798640"/>
              </a:xfrm>
              <a:prstGeom prst="rect">
                <a:avLst/>
              </a:prstGeom>
              <a:solidFill>
                <a:srgbClr val="97c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67480" y="3206520"/>
                <a:ext cx="12600" cy="279864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80080" y="3206520"/>
                <a:ext cx="12600" cy="279864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56440" y="3206520"/>
                <a:ext cx="336240" cy="279864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4800" y="3422520"/>
                <a:ext cx="12960" cy="258264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97760" y="3422520"/>
                <a:ext cx="12600" cy="258264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3422520"/>
                <a:ext cx="12600" cy="258264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22960" y="3422520"/>
                <a:ext cx="14400" cy="258264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37360" y="3422520"/>
                <a:ext cx="12600" cy="258264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49960" y="3422520"/>
                <a:ext cx="12960" cy="258264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62920" y="3422520"/>
                <a:ext cx="12600" cy="2582640"/>
              </a:xfrm>
              <a:prstGeom prst="rect">
                <a:avLst/>
              </a:prstGeom>
              <a:solidFill>
                <a:srgbClr val="587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75520" y="3422520"/>
                <a:ext cx="12600" cy="2582640"/>
              </a:xfrm>
              <a:prstGeom prst="rect">
                <a:avLst/>
              </a:prstGeom>
              <a:solidFill>
                <a:srgbClr val="5c7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88120" y="3422520"/>
                <a:ext cx="12600" cy="2582640"/>
              </a:xfrm>
              <a:prstGeom prst="rect">
                <a:avLst/>
              </a:prstGeom>
              <a:solidFill>
                <a:srgbClr val="6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00720" y="3422520"/>
                <a:ext cx="12960" cy="2582640"/>
              </a:xfrm>
              <a:prstGeom prst="rect">
                <a:avLst/>
              </a:prstGeom>
              <a:solidFill>
                <a:srgbClr val="658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13680" y="3422520"/>
                <a:ext cx="14040" cy="2582640"/>
              </a:xfrm>
              <a:prstGeom prst="rect">
                <a:avLst/>
              </a:prstGeom>
              <a:solidFill>
                <a:srgbClr val="6a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27720" y="3422520"/>
                <a:ext cx="12960" cy="2582640"/>
              </a:xfrm>
              <a:prstGeom prst="rect">
                <a:avLst/>
              </a:prstGeom>
              <a:solidFill>
                <a:srgbClr val="6f9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40680" y="3422520"/>
                <a:ext cx="12600" cy="2582640"/>
              </a:xfrm>
              <a:prstGeom prst="rect">
                <a:avLst/>
              </a:prstGeom>
              <a:solidFill>
                <a:srgbClr val="749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53280" y="3422520"/>
                <a:ext cx="12600" cy="2582640"/>
              </a:xfrm>
              <a:prstGeom prst="rect">
                <a:avLst/>
              </a:prstGeom>
              <a:solidFill>
                <a:srgbClr val="79a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65880" y="3422520"/>
                <a:ext cx="12600" cy="258264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78480" y="3422520"/>
                <a:ext cx="12960" cy="2582640"/>
              </a:xfrm>
              <a:prstGeom prst="rect">
                <a:avLst/>
              </a:prstGeom>
              <a:solidFill>
                <a:srgbClr val="81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91440" y="3422520"/>
                <a:ext cx="14040" cy="2582640"/>
              </a:xfrm>
              <a:prstGeom prst="rect">
                <a:avLst/>
              </a:prstGeom>
              <a:solidFill>
                <a:srgbClr val="85b2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05480" y="3422520"/>
                <a:ext cx="12960" cy="2582640"/>
              </a:xfrm>
              <a:prstGeom prst="rect">
                <a:avLst/>
              </a:prstGeom>
              <a:solidFill>
                <a:srgbClr val="89b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418440" y="3422520"/>
                <a:ext cx="12600" cy="258264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31040" y="3422520"/>
                <a:ext cx="12600" cy="2582640"/>
              </a:xfrm>
              <a:prstGeom prst="rect">
                <a:avLst/>
              </a:prstGeom>
              <a:solidFill>
                <a:srgbClr val="8f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43640" y="3422520"/>
                <a:ext cx="12600" cy="2582640"/>
              </a:xfrm>
              <a:prstGeom prst="rect">
                <a:avLst/>
              </a:prstGeom>
              <a:solidFill>
                <a:srgbClr val="91c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56240" y="3422520"/>
                <a:ext cx="12960" cy="258264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469200" y="3422520"/>
                <a:ext cx="14040" cy="2582640"/>
              </a:xfrm>
              <a:prstGeom prst="rect">
                <a:avLst/>
              </a:prstGeom>
              <a:solidFill>
                <a:srgbClr val="95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83240" y="3422520"/>
                <a:ext cx="12960" cy="2582640"/>
              </a:xfrm>
              <a:prstGeom prst="rect">
                <a:avLst/>
              </a:prstGeom>
              <a:solidFill>
                <a:srgbClr val="96c8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96200" y="3422520"/>
                <a:ext cx="12600" cy="258264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08800" y="3422520"/>
                <a:ext cx="12600" cy="258264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1400" y="3422520"/>
                <a:ext cx="12960" cy="2582640"/>
              </a:xfrm>
              <a:prstGeom prst="rect">
                <a:avLst/>
              </a:prstGeom>
              <a:solidFill>
                <a:srgbClr val="99c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84800" y="3422520"/>
                <a:ext cx="349560" cy="2582640"/>
              </a:xfrm>
              <a:prstGeom prst="rect">
                <a:avLst/>
              </a:prstGeom>
              <a:noFill/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26480" y="2047680"/>
                <a:ext cx="12600" cy="3957480"/>
              </a:xfrm>
              <a:prstGeom prst="rect">
                <a:avLst/>
              </a:prstGeom>
              <a:solidFill>
                <a:srgbClr val="485f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039080" y="2047680"/>
                <a:ext cx="12600" cy="3957480"/>
              </a:xfrm>
              <a:prstGeom prst="rect">
                <a:avLst/>
              </a:prstGeom>
              <a:solidFill>
                <a:srgbClr val="4961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051680" y="2047680"/>
                <a:ext cx="14400" cy="3957480"/>
              </a:xfrm>
              <a:prstGeom prst="rect">
                <a:avLst/>
              </a:prstGeom>
              <a:solidFill>
                <a:srgbClr val="4b6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066080" y="2047680"/>
                <a:ext cx="12600" cy="3957480"/>
              </a:xfrm>
              <a:prstGeom prst="rect">
                <a:avLst/>
              </a:prstGeom>
              <a:solidFill>
                <a:srgbClr val="4d6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78680" y="2047680"/>
                <a:ext cx="12600" cy="3957480"/>
              </a:xfrm>
              <a:prstGeom prst="rect">
                <a:avLst/>
              </a:prstGeom>
              <a:solidFill>
                <a:srgbClr val="506b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91280" y="2047680"/>
                <a:ext cx="12960" cy="3957480"/>
              </a:xfrm>
              <a:prstGeom prst="rect">
                <a:avLst/>
              </a:prstGeom>
              <a:solidFill>
                <a:srgbClr val="546f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04240" y="2047680"/>
              <a:ext cx="12600" cy="3957480"/>
            </a:xfrm>
            <a:prstGeom prst="rect">
              <a:avLst/>
            </a:prstGeom>
            <a:solidFill>
              <a:srgbClr val="58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16840" y="2047680"/>
              <a:ext cx="12600" cy="3957480"/>
            </a:xfrm>
            <a:prstGeom prst="rect">
              <a:avLst/>
            </a:prstGeom>
            <a:solidFill>
              <a:srgbClr val="5c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29440" y="2047680"/>
              <a:ext cx="14400" cy="3957480"/>
            </a:xfrm>
            <a:prstGeom prst="rect">
              <a:avLst/>
            </a:prstGeom>
            <a:solidFill>
              <a:srgbClr val="6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3840" y="2047680"/>
              <a:ext cx="12600" cy="3957480"/>
            </a:xfrm>
            <a:prstGeom prst="rect">
              <a:avLst/>
            </a:prstGeom>
            <a:solidFill>
              <a:srgbClr val="658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56440" y="2047680"/>
              <a:ext cx="12600" cy="3957480"/>
            </a:xfrm>
            <a:prstGeom prst="rect">
              <a:avLst/>
            </a:prstGeom>
            <a:solidFill>
              <a:srgbClr val="6a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9040" y="2047680"/>
              <a:ext cx="12960" cy="3957480"/>
            </a:xfrm>
            <a:prstGeom prst="rect">
              <a:avLst/>
            </a:prstGeom>
            <a:solidFill>
              <a:srgbClr val="6f9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82000" y="2047680"/>
              <a:ext cx="12600" cy="3957480"/>
            </a:xfrm>
            <a:prstGeom prst="rect">
              <a:avLst/>
            </a:prstGeom>
            <a:solidFill>
              <a:srgbClr val="7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94600" y="2047680"/>
              <a:ext cx="12600" cy="395748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7200" y="2047680"/>
              <a:ext cx="12960" cy="3957480"/>
            </a:xfrm>
            <a:prstGeom prst="rect">
              <a:avLst/>
            </a:prstGeom>
            <a:solidFill>
              <a:srgbClr val="7d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20160" y="2047680"/>
              <a:ext cx="14040" cy="3957480"/>
            </a:xfrm>
            <a:prstGeom prst="rect">
              <a:avLst/>
            </a:prstGeom>
            <a:solidFill>
              <a:srgbClr val="81a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234200" y="2047680"/>
              <a:ext cx="12960" cy="3957480"/>
            </a:xfrm>
            <a:prstGeom prst="rect">
              <a:avLst/>
            </a:prstGeom>
            <a:solidFill>
              <a:srgbClr val="85b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47160" y="2047680"/>
              <a:ext cx="12600" cy="395748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9760" y="2047680"/>
              <a:ext cx="12600" cy="3957480"/>
            </a:xfrm>
            <a:prstGeom prst="rect">
              <a:avLst/>
            </a:prstGeom>
            <a:solidFill>
              <a:srgbClr val="8c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72360" y="2047680"/>
              <a:ext cx="12600" cy="3957480"/>
            </a:xfrm>
            <a:prstGeom prst="rect">
              <a:avLst/>
            </a:prstGeom>
            <a:solidFill>
              <a:srgbClr val="8f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84960" y="2047680"/>
              <a:ext cx="12960" cy="3957480"/>
            </a:xfrm>
            <a:prstGeom prst="rect">
              <a:avLst/>
            </a:prstGeom>
            <a:solidFill>
              <a:srgbClr val="91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7920" y="2047680"/>
              <a:ext cx="14040" cy="3957480"/>
            </a:xfrm>
            <a:prstGeom prst="rect">
              <a:avLst/>
            </a:prstGeom>
            <a:solidFill>
              <a:srgbClr val="93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1960" y="2047680"/>
              <a:ext cx="12960" cy="3957480"/>
            </a:xfrm>
            <a:prstGeom prst="rect">
              <a:avLst/>
            </a:prstGeom>
            <a:solidFill>
              <a:srgbClr val="95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24920" y="2047680"/>
              <a:ext cx="12600" cy="395748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37520" y="2047680"/>
              <a:ext cx="12600" cy="3957480"/>
            </a:xfrm>
            <a:prstGeom prst="rect">
              <a:avLst/>
            </a:prstGeom>
            <a:solidFill>
              <a:srgbClr val="97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50120" y="2047680"/>
              <a:ext cx="12600" cy="3957480"/>
            </a:xfrm>
            <a:prstGeom prst="rect">
              <a:avLst/>
            </a:prstGeom>
            <a:solidFill>
              <a:srgbClr val="98c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62720" y="2047680"/>
              <a:ext cx="12960" cy="3957480"/>
            </a:xfrm>
            <a:prstGeom prst="rect">
              <a:avLst/>
            </a:prstGeom>
            <a:solidFill>
              <a:srgbClr val="99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26480" y="2047680"/>
              <a:ext cx="349200" cy="3957480"/>
            </a:xfrm>
            <a:prstGeom prst="rect">
              <a:avLst/>
            </a:prstGeom>
            <a:noFill/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67800" y="4055760"/>
              <a:ext cx="14040" cy="194940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81840" y="4055760"/>
              <a:ext cx="12960" cy="1949400"/>
            </a:xfrm>
            <a:prstGeom prst="rect">
              <a:avLst/>
            </a:prstGeom>
            <a:solidFill>
              <a:srgbClr val="49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94800" y="4055760"/>
              <a:ext cx="12600" cy="194940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7400" y="4055760"/>
              <a:ext cx="12600" cy="1949400"/>
            </a:xfrm>
            <a:prstGeom prst="rect">
              <a:avLst/>
            </a:prstGeom>
            <a:solidFill>
              <a:srgbClr val="4e68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20000" y="4055760"/>
              <a:ext cx="12960" cy="1949400"/>
            </a:xfrm>
            <a:prstGeom prst="rect">
              <a:avLst/>
            </a:prstGeom>
            <a:solidFill>
              <a:srgbClr val="516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32960" y="4055760"/>
              <a:ext cx="12600" cy="1949400"/>
            </a:xfrm>
            <a:prstGeom prst="rect">
              <a:avLst/>
            </a:prstGeom>
            <a:solidFill>
              <a:srgbClr val="557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45560" y="4055760"/>
              <a:ext cx="12600" cy="1949400"/>
            </a:xfrm>
            <a:prstGeom prst="rect">
              <a:avLst/>
            </a:prstGeom>
            <a:solidFill>
              <a:srgbClr val="597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58160" y="4055760"/>
              <a:ext cx="14400" cy="1949400"/>
            </a:xfrm>
            <a:prstGeom prst="rect">
              <a:avLst/>
            </a:prstGeom>
            <a:solidFill>
              <a:srgbClr val="5d7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72560" y="4055760"/>
              <a:ext cx="12600" cy="1949400"/>
            </a:xfrm>
            <a:prstGeom prst="rect">
              <a:avLst/>
            </a:prstGeom>
            <a:solidFill>
              <a:srgbClr val="62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85160" y="4055760"/>
              <a:ext cx="12600" cy="1949400"/>
            </a:xfrm>
            <a:prstGeom prst="rect">
              <a:avLst/>
            </a:prstGeom>
            <a:solidFill>
              <a:srgbClr val="678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97760" y="4055760"/>
              <a:ext cx="12960" cy="1949400"/>
            </a:xfrm>
            <a:prstGeom prst="rect">
              <a:avLst/>
            </a:prstGeom>
            <a:solidFill>
              <a:srgbClr val="6c9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10720" y="4055760"/>
              <a:ext cx="12600" cy="1949400"/>
            </a:xfrm>
            <a:prstGeom prst="rect">
              <a:avLst/>
            </a:prstGeom>
            <a:solidFill>
              <a:srgbClr val="719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23320" y="4055760"/>
              <a:ext cx="12600" cy="1949400"/>
            </a:xfrm>
            <a:prstGeom prst="rect">
              <a:avLst/>
            </a:prstGeom>
            <a:solidFill>
              <a:srgbClr val="769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35920" y="4055760"/>
              <a:ext cx="14400" cy="1949400"/>
            </a:xfrm>
            <a:prstGeom prst="rect">
              <a:avLst/>
            </a:prstGeom>
            <a:solidFill>
              <a:srgbClr val="7ba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50320" y="4055760"/>
              <a:ext cx="12600" cy="1949400"/>
            </a:xfrm>
            <a:prstGeom prst="rect">
              <a:avLst/>
            </a:prstGeom>
            <a:solidFill>
              <a:srgbClr val="7fa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062920" y="4055760"/>
              <a:ext cx="12600" cy="1949400"/>
            </a:xfrm>
            <a:prstGeom prst="rect">
              <a:avLst/>
            </a:prstGeom>
            <a:solidFill>
              <a:srgbClr val="84b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75520" y="4055760"/>
              <a:ext cx="12960" cy="1949400"/>
            </a:xfrm>
            <a:prstGeom prst="rect">
              <a:avLst/>
            </a:prstGeom>
            <a:solidFill>
              <a:srgbClr val="88b5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88480" y="4055760"/>
              <a:ext cx="12600" cy="1949400"/>
            </a:xfrm>
            <a:prstGeom prst="rect">
              <a:avLst/>
            </a:prstGeom>
            <a:solidFill>
              <a:srgbClr val="8bb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01080" y="4055760"/>
              <a:ext cx="12600" cy="1949400"/>
            </a:xfrm>
            <a:prstGeom prst="rect">
              <a:avLst/>
            </a:prstGeom>
            <a:solidFill>
              <a:srgbClr val="8e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13680" y="4055760"/>
              <a:ext cx="12960" cy="1949400"/>
            </a:xfrm>
            <a:prstGeom prst="rect">
              <a:avLst/>
            </a:prstGeom>
            <a:solidFill>
              <a:srgbClr val="9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26640" y="4055760"/>
              <a:ext cx="14040" cy="1949400"/>
            </a:xfrm>
            <a:prstGeom prst="rect">
              <a:avLst/>
            </a:prstGeom>
            <a:solidFill>
              <a:srgbClr val="93c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40680" y="4055760"/>
              <a:ext cx="12600" cy="1949400"/>
            </a:xfrm>
            <a:prstGeom prst="rect">
              <a:avLst/>
            </a:prstGeom>
            <a:solidFill>
              <a:srgbClr val="94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53280" y="4055760"/>
              <a:ext cx="12960" cy="1949400"/>
            </a:xfrm>
            <a:prstGeom prst="rect">
              <a:avLst/>
            </a:prstGeom>
            <a:solidFill>
              <a:srgbClr val="96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66240" y="4055760"/>
              <a:ext cx="12600" cy="1949400"/>
            </a:xfrm>
            <a:prstGeom prst="rect">
              <a:avLst/>
            </a:prstGeom>
            <a:solidFill>
              <a:srgbClr val="97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78840" y="4055760"/>
              <a:ext cx="12600" cy="1949400"/>
            </a:xfrm>
            <a:prstGeom prst="rect">
              <a:avLst/>
            </a:prstGeom>
            <a:solidFill>
              <a:srgbClr val="98c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91440" y="4055760"/>
              <a:ext cx="12960" cy="1949400"/>
            </a:xfrm>
            <a:prstGeom prst="rect">
              <a:avLst/>
            </a:prstGeom>
            <a:solidFill>
              <a:srgbClr val="99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7800" y="4055760"/>
              <a:ext cx="336600" cy="1949400"/>
            </a:xfrm>
            <a:prstGeom prst="rect">
              <a:avLst/>
            </a:prstGeom>
            <a:noFill/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96520" y="4176360"/>
              <a:ext cx="14040" cy="1828800"/>
            </a:xfrm>
            <a:prstGeom prst="rect">
              <a:avLst/>
            </a:prstGeom>
            <a:solidFill>
              <a:srgbClr val="48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10560" y="4176360"/>
              <a:ext cx="12960" cy="1828800"/>
            </a:xfrm>
            <a:prstGeom prst="rect">
              <a:avLst/>
            </a:prstGeom>
            <a:solidFill>
              <a:srgbClr val="49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23520" y="4176360"/>
              <a:ext cx="12600" cy="1828800"/>
            </a:xfrm>
            <a:prstGeom prst="rect">
              <a:avLst/>
            </a:prstGeom>
            <a:solidFill>
              <a:srgbClr val="4b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36120" y="4176360"/>
              <a:ext cx="12600" cy="1828800"/>
            </a:xfrm>
            <a:prstGeom prst="rect">
              <a:avLst/>
            </a:prstGeom>
            <a:solidFill>
              <a:srgbClr val="4d6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48720" y="4176360"/>
              <a:ext cx="12600" cy="1828800"/>
            </a:xfrm>
            <a:prstGeom prst="rect">
              <a:avLst/>
            </a:prstGeom>
            <a:solidFill>
              <a:srgbClr val="50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61320" y="4176360"/>
              <a:ext cx="12960" cy="1828800"/>
            </a:xfrm>
            <a:prstGeom prst="rect">
              <a:avLst/>
            </a:prstGeom>
            <a:solidFill>
              <a:srgbClr val="546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74280" y="4176360"/>
              <a:ext cx="14040" cy="1828800"/>
            </a:xfrm>
            <a:prstGeom prst="rect">
              <a:avLst/>
            </a:prstGeom>
            <a:solidFill>
              <a:srgbClr val="587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88320" y="4176360"/>
              <a:ext cx="12960" cy="1828800"/>
            </a:xfrm>
            <a:prstGeom prst="rect">
              <a:avLst/>
            </a:prstGeom>
            <a:solidFill>
              <a:srgbClr val="5c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01280" y="4176360"/>
              <a:ext cx="12600" cy="1828800"/>
            </a:xfrm>
            <a:prstGeom prst="rect">
              <a:avLst/>
            </a:prstGeom>
            <a:solidFill>
              <a:srgbClr val="6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813880" y="4176360"/>
              <a:ext cx="12600" cy="1828800"/>
            </a:xfrm>
            <a:prstGeom prst="rect">
              <a:avLst/>
            </a:prstGeom>
            <a:solidFill>
              <a:srgbClr val="658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826480" y="4176360"/>
              <a:ext cx="12600" cy="1828800"/>
            </a:xfrm>
            <a:prstGeom prst="rect">
              <a:avLst/>
            </a:prstGeom>
            <a:solidFill>
              <a:srgbClr val="6a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39080" y="4176360"/>
              <a:ext cx="12960" cy="1828800"/>
            </a:xfrm>
            <a:prstGeom prst="rect">
              <a:avLst/>
            </a:prstGeom>
            <a:solidFill>
              <a:srgbClr val="6f9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52040" y="4176360"/>
              <a:ext cx="12600" cy="1828800"/>
            </a:xfrm>
            <a:prstGeom prst="rect">
              <a:avLst/>
            </a:prstGeom>
            <a:solidFill>
              <a:srgbClr val="74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64640" y="4176360"/>
              <a:ext cx="14400" cy="182880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79040" y="4176360"/>
              <a:ext cx="12600" cy="1828800"/>
            </a:xfrm>
            <a:prstGeom prst="rect">
              <a:avLst/>
            </a:prstGeom>
            <a:solidFill>
              <a:srgbClr val="7d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91640" y="4176360"/>
              <a:ext cx="12600" cy="1828800"/>
            </a:xfrm>
            <a:prstGeom prst="rect">
              <a:avLst/>
            </a:prstGeom>
            <a:solidFill>
              <a:srgbClr val="81ad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904240" y="4176360"/>
              <a:ext cx="12960" cy="1828800"/>
            </a:xfrm>
            <a:prstGeom prst="rect">
              <a:avLst/>
            </a:prstGeom>
            <a:solidFill>
              <a:srgbClr val="85b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17200" y="4176360"/>
              <a:ext cx="12600" cy="1828800"/>
            </a:xfrm>
            <a:prstGeom prst="rect">
              <a:avLst/>
            </a:prstGeom>
            <a:solidFill>
              <a:srgbClr val="89b7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29800" y="4176360"/>
              <a:ext cx="12600" cy="1828800"/>
            </a:xfrm>
            <a:prstGeom prst="rect">
              <a:avLst/>
            </a:prstGeom>
            <a:solidFill>
              <a:srgbClr val="8c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42400" y="4176360"/>
              <a:ext cx="14400" cy="1828800"/>
            </a:xfrm>
            <a:prstGeom prst="rect">
              <a:avLst/>
            </a:prstGeom>
            <a:solidFill>
              <a:srgbClr val="8f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56800" y="4176360"/>
              <a:ext cx="12600" cy="1828800"/>
            </a:xfrm>
            <a:prstGeom prst="rect">
              <a:avLst/>
            </a:prstGeom>
            <a:solidFill>
              <a:srgbClr val="91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969400" y="4176360"/>
              <a:ext cx="12600" cy="1828800"/>
            </a:xfrm>
            <a:prstGeom prst="rect">
              <a:avLst/>
            </a:prstGeom>
            <a:solidFill>
              <a:srgbClr val="93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982000" y="4176360"/>
              <a:ext cx="12960" cy="1828800"/>
            </a:xfrm>
            <a:prstGeom prst="rect">
              <a:avLst/>
            </a:prstGeom>
            <a:solidFill>
              <a:srgbClr val="95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994960" y="4176360"/>
              <a:ext cx="12600" cy="1828800"/>
            </a:xfrm>
            <a:prstGeom prst="rect">
              <a:avLst/>
            </a:prstGeom>
            <a:solidFill>
              <a:srgbClr val="96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07560" y="4176360"/>
              <a:ext cx="12600" cy="1828800"/>
            </a:xfrm>
            <a:prstGeom prst="rect">
              <a:avLst/>
            </a:prstGeom>
            <a:solidFill>
              <a:srgbClr val="97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20160" y="4176360"/>
              <a:ext cx="12600" cy="1828800"/>
            </a:xfrm>
            <a:prstGeom prst="rect">
              <a:avLst/>
            </a:prstGeom>
            <a:solidFill>
              <a:srgbClr val="98c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032760" y="4176360"/>
              <a:ext cx="14400" cy="1828800"/>
            </a:xfrm>
            <a:prstGeom prst="rect">
              <a:avLst/>
            </a:prstGeom>
            <a:solidFill>
              <a:srgbClr val="99c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96520" y="4176360"/>
              <a:ext cx="350640" cy="1828800"/>
            </a:xfrm>
            <a:prstGeom prst="rect">
              <a:avLst/>
            </a:prstGeom>
            <a:noFill/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1438200"/>
              <a:ext cx="1800" cy="45669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2200" y="600516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2200" y="584964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2200" y="570672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2200" y="555120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2200" y="539568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2200" y="524016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2200" y="509580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2200" y="494172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62200" y="478620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62200" y="463068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2200" y="448596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2200" y="433044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62200" y="417636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2200" y="402084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2200" y="387648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2200" y="372096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2200" y="356544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2200" y="342252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2200" y="326700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62200" y="311112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2200" y="295560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2200" y="281268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2200" y="265716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2200" y="250164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2200" y="234612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2200" y="2203200"/>
              <a:ext cx="522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62200" y="204768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2200" y="189216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2200" y="173664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2200" y="159372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2200" y="1438200"/>
              <a:ext cx="52200" cy="144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14400" y="6005160"/>
              <a:ext cx="8379000" cy="18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91440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75572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258444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42576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4268880" y="6004800"/>
              <a:ext cx="144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110200" y="6004800"/>
              <a:ext cx="144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938920" y="6004800"/>
              <a:ext cx="144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780240" y="6004800"/>
              <a:ext cx="144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156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8450280" y="6004800"/>
              <a:ext cx="180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9293400" y="6004800"/>
              <a:ext cx="1440" cy="4788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24760" y="4797360"/>
              <a:ext cx="881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53480" y="4354200"/>
              <a:ext cx="881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43680" y="315900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6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85000" y="332712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26320" y="290808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8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55040" y="312408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6360" y="174924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2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39480" y="375732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68200" y="3876480"/>
              <a:ext cx="980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6760" y="5551200"/>
              <a:ext cx="881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1720" y="5910120"/>
              <a:ext cx="768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0640" y="575460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640" y="560988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0640" y="545436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0640" y="529884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0640" y="514476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0640" y="500040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0640" y="484488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0640" y="468936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0640" y="4533840"/>
              <a:ext cx="853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560" y="439092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9560" y="423540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9560" y="407952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560" y="392400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560" y="378108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9560" y="362556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9560" y="347004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9560" y="332712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560" y="317160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560" y="301608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1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9560" y="286056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9560" y="271764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9560" y="256212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9560" y="240660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9560" y="225072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9560" y="210816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9560" y="195228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9560" y="179676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560" y="164124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560" y="149688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560" y="1342800"/>
              <a:ext cx="9392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388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64520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8688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1524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5692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9968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4100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6972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1104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52360" y="6136920"/>
              <a:ext cx="1024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f5f5f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32080" y="1449000"/>
              <a:ext cx="1333440" cy="31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09840" y="1557000"/>
              <a:ext cx="12600" cy="108000"/>
            </a:xfrm>
            <a:prstGeom prst="rect">
              <a:avLst/>
            </a:prstGeom>
            <a:solidFill>
              <a:srgbClr val="49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2440" y="1557000"/>
              <a:ext cx="14400" cy="108000"/>
            </a:xfrm>
            <a:prstGeom prst="rect">
              <a:avLst/>
            </a:prstGeom>
            <a:solidFill>
              <a:srgbClr val="50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36840" y="1557000"/>
              <a:ext cx="12600" cy="108000"/>
            </a:xfrm>
            <a:prstGeom prst="rect">
              <a:avLst/>
            </a:prstGeom>
            <a:solidFill>
              <a:srgbClr val="5c7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9440" y="1557000"/>
              <a:ext cx="12600" cy="108000"/>
            </a:xfrm>
            <a:prstGeom prst="rect">
              <a:avLst/>
            </a:prstGeom>
            <a:solidFill>
              <a:srgbClr val="6a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62040" y="1557000"/>
              <a:ext cx="12960" cy="108000"/>
            </a:xfrm>
            <a:prstGeom prst="rect">
              <a:avLst/>
            </a:prstGeom>
            <a:solidFill>
              <a:srgbClr val="79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75000" y="1557000"/>
              <a:ext cx="12600" cy="108000"/>
            </a:xfrm>
            <a:prstGeom prst="rect">
              <a:avLst/>
            </a:prstGeom>
            <a:solidFill>
              <a:srgbClr val="85b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87600" y="1557000"/>
              <a:ext cx="12600" cy="108000"/>
            </a:xfrm>
            <a:prstGeom prst="rect">
              <a:avLst/>
            </a:prstGeom>
            <a:solidFill>
              <a:srgbClr val="8f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00200" y="1557000"/>
              <a:ext cx="12600" cy="108000"/>
            </a:xfrm>
            <a:prstGeom prst="rect">
              <a:avLst/>
            </a:prstGeom>
            <a:solidFill>
              <a:srgbClr val="95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12800" y="1557000"/>
              <a:ext cx="14400" cy="108000"/>
            </a:xfrm>
            <a:prstGeom prst="rect">
              <a:avLst/>
            </a:prstGeom>
            <a:solidFill>
              <a:srgbClr val="98c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09840" y="1557000"/>
              <a:ext cx="117360" cy="108000"/>
            </a:xfrm>
            <a:prstGeom prst="rect">
              <a:avLst/>
            </a:prstGeom>
            <a:noFill/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47120" y="1496880"/>
              <a:ext cx="160668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1280" indent="-3412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5f5f5f"/>
                  </a:solidFill>
                  <a:latin typeface="Arial"/>
                </a:rPr>
                <a:t>Milioane 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-55440" y="13824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2424"/>
                </a:solidFill>
                <a:latin typeface="Arial"/>
              </a:rPr>
              <a:t>INVESTITII </a:t>
            </a:r>
            <a:r>
              <a:rPr b="1" lang="en-US" sz="2400" spc="-1" strike="noStrike">
                <a:solidFill>
                  <a:srgbClr val="212424"/>
                </a:solidFill>
                <a:latin typeface="Arial"/>
                <a:ea typeface="Arial"/>
              </a:rPr>
              <a:t>DE LA PRELUAREA </a:t>
            </a:r>
            <a:r>
              <a:rPr b="1" lang="fr-FR" sz="2400" spc="-1" strike="noStrike">
                <a:solidFill>
                  <a:srgbClr val="212424"/>
                </a:solidFill>
                <a:latin typeface="Arial"/>
              </a:rPr>
              <a:t>DACIA DE CATRE REN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6400" y="7095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,5 miliarde Euro cumul la sfarsitul anului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IECT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VESTITII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2010</a:t>
            </a:r>
            <a:br>
              <a:rPr sz="2400"/>
            </a:b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5440" y="2019240"/>
            <a:ext cx="39751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Industrializare D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in prezent o</a:t>
            </a: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 cadenta de 260 unit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ti/zi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; p</a:t>
            </a: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osibilitate de cre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ter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e </a:t>
            </a: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la 460 unitati/zi in a doua jumătate a an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Industrializare cutii de viteze 4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0120" y="1027080"/>
            <a:ext cx="556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utomobile Dacia : 73 milioane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Rectangle 3" descr=""/>
          <p:cNvPicPr/>
          <p:nvPr/>
        </p:nvPicPr>
        <p:blipFill>
          <a:blip r:embed="rId1"/>
          <a:stretch/>
        </p:blipFill>
        <p:spPr>
          <a:xfrm>
            <a:off x="4300560" y="2019240"/>
            <a:ext cx="46782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Gulim"/>
              </a:rPr>
              <a:t>PROIECTE INVESTITII 2010</a:t>
            </a:r>
            <a:endParaRPr b="1" lang="en-US" sz="2800" spc="-1" strike="noStrike">
              <a:solidFill>
                <a:srgbClr val="212424"/>
              </a:solidFill>
              <a:latin typeface="Arial"/>
            </a:endParaRPr>
          </a:p>
        </p:txBody>
      </p:sp>
      <p:pic>
        <p:nvPicPr>
          <p:cNvPr id="511" name="Rectangle 3" descr=""/>
          <p:cNvPicPr/>
          <p:nvPr/>
        </p:nvPicPr>
        <p:blipFill>
          <a:blip r:embed="rId1"/>
          <a:stretch/>
        </p:blipFill>
        <p:spPr>
          <a:xfrm>
            <a:off x="333360" y="2208240"/>
            <a:ext cx="8458200" cy="28386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17400" y="1209600"/>
            <a:ext cx="8277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R – Centrul Tehnic Titu:   75 Milioane Eu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3987720"/>
            <a:ext cx="229860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Suprafaţa totală: 350 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Suprafaţa clădirilor: 40.000 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32 km de pi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100 de bancuri de încercări</a:t>
            </a:r>
            <a:r>
              <a:rPr b="1" lang="ro-RO" sz="1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USTRIA AUTO, MOTOR AL ECONOMIEI 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49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ustria cu cel mai puternic efect structurant la nivelul economiei nation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49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: 800 furnizori ai Grupului Renault in Rom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USTRIA AUTO, MOTOR AL ECONOMIEI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evoia de atragere si de incurajare a unor noi investitii in s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suri neces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ualizarea legislatiei la nevoile reale ale intreprinderil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eliorarea si dezvoltarea infrastructurii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ruti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ferov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- port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DUSTRIA AUTO, MOTOR AL ECONOMIEI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evoia de sustinere a productiei nation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asuri neces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tinuarea in 2011 a programului de reînnoire a parcului au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entinerea si in 2011 a taxei de poluare pentru limitarea importurilor de vehicule vechi de ocaz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II. PERSPECTIVE IN INDUSTRIA AU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AUTOMOBILUL PRIETENOS CU MEDIUL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33000" y="203004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otorizări ecolog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ia – al doilea constructor european de vehicule G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andero GPL - cel mai vândut model din categoria sa în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Franţa (68% din segment în trimestrul I 201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0" t="24133" r="0" b="0"/>
          <a:stretch/>
        </p:blipFill>
        <p:spPr>
          <a:xfrm>
            <a:off x="5541840" y="1776240"/>
            <a:ext cx="2962440" cy="13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500" spc="-1" strike="noStrike">
                <a:solidFill>
                  <a:srgbClr val="212424"/>
                </a:solidFill>
                <a:latin typeface="Arial"/>
              </a:rPr>
              <a:t>Jérôme OLIVE</a:t>
            </a:r>
            <a:endParaRPr b="1" lang="en-US" sz="45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 algn="ctr">
              <a:spcBef>
                <a:spcPts val="18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 GENERAL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GROUPE RENAULT ROMAN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VOLUTIA ELECTRICA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pic>
        <p:nvPicPr>
          <p:cNvPr id="525" name="Rectangle 3" descr=""/>
          <p:cNvPicPr/>
          <p:nvPr/>
        </p:nvPicPr>
        <p:blipFill>
          <a:blip r:embed="rId1"/>
          <a:stretch/>
        </p:blipFill>
        <p:spPr>
          <a:xfrm>
            <a:off x="1314360" y="2514600"/>
            <a:ext cx="2305080" cy="16495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5473800" y="2514600"/>
            <a:ext cx="2439720" cy="16286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1224000"/>
            <a:ext cx="9127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Peste 40 de parteneriate semnate de Alianta Renault Niss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5f5f5f"/>
                </a:solidFill>
                <a:latin typeface="Arial"/>
              </a:rPr>
              <a:t>in intreaga lume pentru dezvoltarea vehiculelor electrice</a:t>
            </a:r>
            <a:r>
              <a:rPr b="0" lang="fr-FR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4549680"/>
            <a:ext cx="9572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omania are sansa de a participa la aceasta revoluti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ointa politica de a sustine pri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imulen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fiscal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ut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mplicare in dezvoltarea infrastructurilor de al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br>
              <a:rPr sz="4200"/>
            </a:br>
            <a:endParaRPr b="1" lang="en-US" sz="42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 algn="ctr">
              <a:spcBef>
                <a:spcPts val="18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37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NTREB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/RA</a:t>
            </a:r>
            <a:r>
              <a:rPr b="0" lang="ro-RO" sz="4200" spc="-1" strike="noStrike">
                <a:solidFill>
                  <a:srgbClr val="000000"/>
                </a:solidFill>
                <a:latin typeface="Arial"/>
              </a:rPr>
              <a:t>SPUNSURI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Espace réservé du numéro de diapositive 3"/>
          <p:cNvSpPr/>
          <p:nvPr/>
        </p:nvSpPr>
        <p:spPr>
          <a:xfrm>
            <a:off x="6119640" y="6270480"/>
            <a:ext cx="552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6BF-7B48-4E48-8348-933677804EBC}" type="slidenum">
              <a:rPr b="1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5978520"/>
            <a:ext cx="91440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fin_02"/>
          <p:cNvPicPr/>
          <p:nvPr/>
        </p:nvPicPr>
        <p:blipFill>
          <a:blip r:embed="rId1"/>
          <a:srcRect l="0" t="18260" r="0" b="8562"/>
          <a:stretch/>
        </p:blipFill>
        <p:spPr>
          <a:xfrm>
            <a:off x="2766960" y="2041560"/>
            <a:ext cx="38847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I. 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GRUPUL RENAULT IN ROM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II.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INVESTITII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III.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 PERSPECTIVE IN INDUSTRIA AU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I. 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GRUPUL RENAULT IN ROM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Gulim"/>
              </a:rPr>
              <a:t>ROMANIA AZI: </a:t>
            </a:r>
            <a:br>
              <a:rPr sz="2400"/>
            </a:br>
            <a:r>
              <a:rPr b="1" lang="en-US" sz="2400" spc="-1" strike="noStrike">
                <a:solidFill>
                  <a:srgbClr val="212424"/>
                </a:solidFill>
                <a:latin typeface="Arial"/>
                <a:ea typeface="Arial"/>
              </a:rPr>
              <a:t>A DOUA TARA A </a:t>
            </a:r>
            <a:r>
              <a:rPr b="1" lang="fr-FR" sz="2400" spc="-1" strike="noStrike">
                <a:solidFill>
                  <a:srgbClr val="212424"/>
                </a:solidFill>
                <a:latin typeface="Arial"/>
              </a:rPr>
              <a:t>GRUPULUI RENAULT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solidFill>
            <a:srgbClr val="f7b100"/>
          </a:solidFill>
          <a:ln w="9360">
            <a:solidFill>
              <a:srgbClr val="f7b100"/>
            </a:solidFill>
            <a:miter/>
          </a:ln>
        </p:spPr>
        <p:txBody>
          <a:bodyPr lIns="36000" rIns="36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ngura tara, in afara Frantei, care poseda toa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mpetentel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ui constructor de automob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ea mai mare Uzina Vehic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el mai mare centru logistic CKD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 doua Uzina Mecanica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l doilea Centru de Ingineri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ingurul Centru de Design din Europa Centrala si de Es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ingurul Centru de fabricatie a matritelor din Grupul Rena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RUPUL RENAULT – ANGAJATOR MAJOR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4235400" y="851040"/>
            <a:ext cx="4311720" cy="263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289320"/>
            <a:ext cx="879300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7 500 salariati total enti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5 200 salariati Automobile D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600 salariati Renault Technologie Roum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6 000 salariati in reteaua comerci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130 000 de salariati depind de activitatile Grupului</a:t>
            </a:r>
            <a:r>
              <a:rPr b="1" lang="fr-FR" sz="1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GRUPUL </a:t>
            </a:r>
            <a:r>
              <a:rPr b="1" lang="ro-RO" sz="2400" spc="-1" strike="noStrike">
                <a:solidFill>
                  <a:srgbClr val="5f5f5f"/>
                </a:solidFill>
                <a:latin typeface="Arial"/>
              </a:rPr>
              <a:t>R</a:t>
            </a:r>
            <a:r>
              <a:rPr b="1" lang="fr-FR" sz="2400" spc="-1" strike="noStrike">
                <a:solidFill>
                  <a:srgbClr val="5f5f5f"/>
                </a:solidFill>
                <a:latin typeface="Arial"/>
              </a:rPr>
              <a:t>ENAULT IN ROMANIA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000" y="1153800"/>
            <a:ext cx="8459640" cy="4948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2,7 miliarde Euro: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Cifra de afaceri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80 Milioane Euro: 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Taxe si impozite platite in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7b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480 Milioane Euro: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Total taxe si impozite platite intre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2005 si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UP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AULT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ORTURILOR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5362560" y="1130400"/>
            <a:ext cx="3616200" cy="227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2560" y="3722760"/>
            <a:ext cx="3616200" cy="2516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384200"/>
            <a:ext cx="5183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5f5f5f"/>
                </a:solidFill>
                <a:uFillTx/>
                <a:latin typeface="Arial"/>
              </a:rPr>
              <a:t>In 2009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Exporturi totale: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,1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 miliarde Eu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Vehicule: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7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0 000 unit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Colectii CKD: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23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 000 unit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Cutii de viteze: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56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0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00 unit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Motoare: 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5f5f5f"/>
                </a:solidFill>
                <a:latin typeface="Arial"/>
              </a:rPr>
              <a:t>92</a:t>
            </a:r>
            <a:r>
              <a:rPr b="1" lang="ro-RO" sz="2200" spc="-1" strike="noStrike">
                <a:solidFill>
                  <a:srgbClr val="5f5f5f"/>
                </a:solidFill>
                <a:latin typeface="Arial"/>
              </a:rPr>
              <a:t> 000 unit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3000" y="240840"/>
            <a:ext cx="8459640" cy="785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12424"/>
                </a:solidFill>
                <a:latin typeface="Arial"/>
              </a:rPr>
              <a:t>DINAMICA EXPORTURILOR DE VEHICULE DACIA</a:t>
            </a:r>
            <a:endParaRPr b="1" lang="en-US" sz="2400" spc="-1" strike="noStrike">
              <a:solidFill>
                <a:srgbClr val="212424"/>
              </a:solidFill>
              <a:latin typeface="Arial"/>
            </a:endParaRPr>
          </a:p>
        </p:txBody>
      </p:sp>
      <p:graphicFrame>
        <p:nvGraphicFramePr>
          <p:cNvPr id="111" name="Rectangle 3"/>
          <p:cNvGraphicFramePr/>
          <p:nvPr/>
        </p:nvGraphicFramePr>
        <p:xfrm>
          <a:off x="333360" y="787320"/>
          <a:ext cx="8163000" cy="54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787320"/>
                    <a:ext cx="816300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8:30:26Z</dcterms:created>
  <dc:creator>a186197</dc:creator>
  <dc:description/>
  <dc:language>en-US</dc:language>
  <cp:lastModifiedBy>ay09331</cp:lastModifiedBy>
  <cp:lastPrinted>2007-09-26T09:42:32Z</cp:lastPrinted>
  <dcterms:modified xsi:type="dcterms:W3CDTF">2010-04-27T06:14:45Z</dcterms:modified>
  <cp:revision>56</cp:revision>
  <dc:subject/>
  <dc:title>CLIQUEZ POUR AJOUTER UN TITRE</dc:title>
</cp:coreProperties>
</file>