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solidFill>
              <a:srgbClr val="0836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172200" y="6053040"/>
              <a:ext cx="263196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sp>
          <p:nvSpPr>
            <p:cNvPr id="42" name=""/>
            <p:cNvSpPr/>
            <p:nvPr/>
          </p:nvSpPr>
          <p:spPr>
            <a:xfrm>
              <a:off x="0" y="5715000"/>
              <a:ext cx="9144000" cy="114300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6172200" y="6053040"/>
              <a:ext cx="263196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1920" y="2361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GURAREA CASCO – PERSPECTIV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0292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giu LOGHIN – Membru al Directoratul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curesti, 12 Marti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UNI PIATA ASIGU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restere cote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ntroducere fran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“Curatare” portofo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Diminuare comisioane de intermed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Plata despagubirilor pe baza evaluarii asiguratorului (softuri specializ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NSURARE EF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stere ROE    EURO/R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5%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stere cote pr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5%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cadere suma asigurata auto no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cadere suma asigurata auto &gt; 1 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eplata prime (diminuare venitur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5%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Grad returnare lea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5%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cadere nr. auto noi comercializ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10%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ultat: 0 (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E RC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restere pretu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±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cadere grad cuprind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5 ±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cadere parc au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-5 ±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76520" y="1798560"/>
          <a:ext cx="5486400" cy="3154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NDERE ASIGURARI RCA SI CASC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OTAL ASIGURARI A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2362320"/>
            <a:ext cx="36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t ne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t ris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FACE PREVIZIU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74680"/>
            <a:ext cx="5334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4004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.. pentru ca este ilogic si neproductiv sa construi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uge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ategi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zate pe evolutii neanticip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 NE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51784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ru ca evolutia sufera modificari (negative) frecv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(re)construiesc bugete si strategii pe baza de prezumtii neconforme cu realitatea (nu exista un istoric de situatii de cri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 RIS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8670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viziuni asupra pietei au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viziuni asupra comportamentului consumatorulu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ZIUNI ASUPRA EVOLUTIE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GURARII CASCO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16864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nzari de vehic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8/2007 :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10%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9/2008 :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50% (pesim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30% (optim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9 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autovehicule ieftine si econo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9 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gratuitati – dotari si acces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9 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iscounturi la vehicule n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ZIUNI PIATA AUT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ZIUNI PIATA AUT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volutia va fi influentat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ul programului “RAB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mportul de vehicule second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volutia taxei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strangerea activitatii transportatorilor de marfuri si de perso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ditiile de creditare (rate / lea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TE PIATA AUTO IN PIATA ASIGURAR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i putine vehicule noi asig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minuare sume asigurate la auto no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ehicule ieft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tuitati si discountu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minuare prime de asigur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resterea daunalitat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TA – COMPORTAMENT CONSUMATORI ASUPRA PIETEI DE ASIGU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ele crizei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trangere cheltui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turnare vehicule la societatile de leas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nuntare la contractele de asigurare acolo unde nu este obligatori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plata prime asigur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liment transport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4:38Z</dcterms:created>
  <dc:creator>vicky</dc:creator>
  <dc:description/>
  <dc:language>en-US</dc:language>
  <cp:lastModifiedBy>Cristian SERBU</cp:lastModifiedBy>
  <dcterms:modified xsi:type="dcterms:W3CDTF">2009-03-11T17:16:16Z</dcterms:modified>
  <cp:revision>563</cp:revision>
  <dc:subject/>
  <dc:title>Slide 1</dc:title>
</cp:coreProperties>
</file>