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AF777-08A7-480D-9E75-6B9AB347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2D2A6-BE84-4BFC-8C5B-E9011438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1C87D-0C25-422A-84AE-7B610B81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1CEF2-6F77-4120-A169-B7158C23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664F7-55C2-471B-8FD6-D52087AF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1E319-B96C-4395-8B02-91591B95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3E1F6-6816-4957-A97B-0E8F246E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B76C2-BC93-4F47-B7B1-75F84CF9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40BB7-92D6-4194-B4DA-E795142C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3A675-A6BD-455E-BF6E-CEB7221D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84126-D1A4-4D11-87EE-49B5AF96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FFFC3-CD73-45F3-80E6-4EDF5C8F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2600"/>
            <a:ext cx="9144000" cy="546120"/>
            <a:chOff x="0" y="-1260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-1260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224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224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-1260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224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620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238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588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3970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714680" indent="-34308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133720" indent="-30492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133720" indent="-304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133720" indent="-304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680320" y="658332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1A8E-CB63-4D91-AF49-210A5FDFC46E}" type="slidenum">
              <a:rPr b="1" lang="en-US" sz="1200" spc="-1" strike="noStrike">
                <a:solidFill>
                  <a:srgbClr val="0041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343080" y="63360"/>
            <a:ext cx="48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ata auto – Strategii anticriza / 12 martie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8280360" y="38088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4182"/>
                </a:solidFill>
                <a:latin typeface="Tahoma"/>
              </a:rPr>
              <a:t>www.apia.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8344080" y="63360"/>
            <a:ext cx="7617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6120" y="348624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0" y="2862360"/>
              <a:ext cx="2867040" cy="3157560"/>
              <a:chOff x="0" y="2862360"/>
              <a:chExt cx="2867040" cy="3157560"/>
            </a:xfrm>
          </p:grpSpPr>
          <p:sp>
            <p:nvSpPr>
              <p:cNvPr id="58" name=""/>
              <p:cNvSpPr/>
              <p:nvPr/>
            </p:nvSpPr>
            <p:spPr>
              <a:xfrm>
                <a:off x="573120" y="537876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348624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286236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537876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1320" y="348624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411984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411984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716120" y="411984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73120" y="474372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474372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2971800" y="36576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924280" y="1065240"/>
            <a:ext cx="6200640" cy="23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Masuri de sprijin a industriei auto pe plan mond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Germania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: 50 mld. EUR pentru investitii, scutiri de taxe si suport financiar pentru companii; din acest pachet: 1,5 mld EUR pentru stimularea achizitiei de masini noi (2500 EUR prima de casare – pentru 600.000 masin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Franta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imprumut de 6,5 mld. EUR pentru PSA Peugoeot-Citroën, Renault, Renault Trucks;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prijin financiar de 1,3 mld. EUR pentru achizitia de masini noi (1000 EUR-2000 EUR prima de casare);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1 mld. EUR pentru sustinerea creditului de consum;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150 mil. EUR creare fond pentru formare profesionala; 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300 mil. EUR creare fond pentru finantare si dezvoltare de noi tehnologii auto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Italia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: 1,2 mld. EUR, inclusiv 1500 EUR prima de casare (PC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Spania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: 4 mld. EUR, din car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1,2 mld. EUR pentru achizitia de masini noi (2009-2010), 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800 mil. EUR pentru modernizare fabrici de autovehicule si componente auto, 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420 mil. EUR reduceri taxe pentru cercetare si dezvoltare vehicule “verzi”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Marea Britanie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: garantare credite 2,3 mld. GBP (din care 1,3 mld. EUR prin BE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Masuri de sprijin a industriei auto pe plan mond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ortugalia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: 200 mil. EUR linii de credit pentru companii au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Suedia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: 3,4 mld. USD din car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2,4 mld. USD garantii de stat pentru credite prin BEI,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605 mil. USD imprumuturi de urgenta,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365 mil. USD pentru cercetare si dezvoltare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Slovacia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: 33 mil. EUR pentru stimularea achizitiei de masini noi (1500 EUR prima de casar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Canada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: 3,2 mld. USD in creddite pentru restructurare si cerceta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Australia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: 6,2 mld. USD pentru sustinerea industriei constructoare de “autovehicule verzi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USA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25 mld USD (pentru GM, Ford, Chrysler)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13,4 mld. USD (pentru GM si Chrysler)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4 mld. USD (Chrysler)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2,3 mld. USD – reduceri de taxe la achizitia de vehicule noi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2:14:09Z</dcterms:created>
  <dc:creator>APIA</dc:creator>
  <dc:description/>
  <dc:language>en-US</dc:language>
  <cp:lastModifiedBy>Marius Tudor</cp:lastModifiedBy>
  <dcterms:modified xsi:type="dcterms:W3CDTF">2009-03-10T15:35:51Z</dcterms:modified>
  <cp:revision>133</cp:revision>
  <dc:subject/>
  <dc:title>PREZENTARE MEDIAFAX 2009</dc:title>
</cp:coreProperties>
</file>