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wmf" ContentType="image/x-wmf"/>
  <Override PartName="/ppt/media/image6.wmf" ContentType="image/x-wmf"/>
  <Override PartName="/ppt/media/image19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EAAB7-FA1E-4335-AF76-59C477A4A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1116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D8197-4C8A-45A6-8158-FC49604F6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1116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1116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ACB85-F48A-4C82-BD8F-1893BA77F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1116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1116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1116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855A7-410E-4C3D-9C6B-D1E88B7D5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29CA7-A121-4F85-B711-6DAD5C0399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DD6A2-2F24-468A-8D46-54EC6A5C49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790C5-0EC5-40E3-9B1E-3F10AB633F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3CAF4-48D3-4F5C-BCD0-D7FE01D1CE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FD505-23D5-4B36-884E-DF24D29F72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238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21F74-D90D-45CC-BDBB-3B5FDB8D57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1116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E70B1-2DB3-4EC8-8DDB-A1B8182FFF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48E01-FE0A-4A76-BC8D-0E3B255E3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1116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224F2-0978-4072-96BE-AE8AF11517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1116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C8A78-5CD5-4DD2-8831-C51CEFF5A2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1116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20F12-0178-4EA2-B074-CD1F094DF0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1116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1116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75DBD-CDBD-476C-8726-1515EDD490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1116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1116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1116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2687D-0092-4DDD-A148-E1788E26A3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2E625-B494-4009-A0A8-69FD03CDF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55DB9-C4E3-483D-A159-DB352DD3B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94C22-5014-44B7-8A4B-CF4C64928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38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03F1C-BB76-405E-9837-D98724C6C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1116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18595-A509-4A59-B645-310240E29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1116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2EF13-6C37-485A-A79B-8C7A6C6A1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1116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0EE9E-167E-4183-9FF2-43A652857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916360" y="6476760"/>
            <a:ext cx="36669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5b5b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5b5b5"/>
                </a:solidFill>
                <a:latin typeface="Arial"/>
              </a:rPr>
              <a:t>Bucuresti, October 28,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458280" y="6477120"/>
            <a:ext cx="10890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5b5b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5b5b5"/>
                </a:solidFill>
                <a:latin typeface="Arial"/>
              </a:rPr>
              <a:t>Page </a:t>
            </a:r>
            <a:fld id="{6BFA1D78-E929-4DC7-9938-823FF251945E}" type="slidenum">
              <a:rPr b="0" lang="en-US" sz="900" spc="-1" strike="noStrike">
                <a:solidFill>
                  <a:srgbClr val="b5b5b5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b5b5b5"/>
                </a:solidFill>
                <a:latin typeface="Arial"/>
              </a:rPr>
              <a:t> of 3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03280" y="6477120"/>
            <a:ext cx="1089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5b5b5"/>
                </a:solidFill>
                <a:latin typeface="Arial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9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17840" indent="-29376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290680" indent="-28260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952720" indent="-28260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952720" indent="-282600">
              <a:spcBef>
                <a:spcPts val="751"/>
              </a:spcBef>
              <a:buClr>
                <a:srgbClr val="ffffff"/>
              </a:buClr>
              <a:buFont typeface="Times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952720" indent="-282600">
              <a:spcBef>
                <a:spcPts val="751"/>
              </a:spcBef>
              <a:buClr>
                <a:srgbClr val="ffffff"/>
              </a:buClr>
              <a:buFont typeface="Times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5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12000" y="5900760"/>
            <a:ext cx="133200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03280" y="6477120"/>
            <a:ext cx="1089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3320" y="1212840"/>
            <a:ext cx="79930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2916000" y="6476760"/>
            <a:ext cx="36687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5b5b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5b5b5"/>
                </a:solidFill>
                <a:latin typeface="Arial"/>
              </a:rPr>
              <a:t>Bucuresti, October 28,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458640" y="6476760"/>
            <a:ext cx="109080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5b5b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5b5b5"/>
                </a:solidFill>
                <a:latin typeface="Arial"/>
              </a:rPr>
              <a:t>Page </a:t>
            </a:r>
            <a:fld id="{4FC7D765-F5A5-40E7-B14B-709A8732518C}" type="slidenum">
              <a:rPr b="0" lang="en-US" sz="900" spc="-1" strike="noStrike">
                <a:solidFill>
                  <a:srgbClr val="b5b5b5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b5b5b5"/>
                </a:solidFill>
                <a:latin typeface="Arial"/>
              </a:rPr>
              <a:t> of 3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5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12000" y="5900760"/>
            <a:ext cx="1332000" cy="717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952560" indent="-289080" algn="ctr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408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08080" algn="ctr"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670120" algn="ctr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670120">
              <a:spcBef>
                <a:spcPts val="3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670120">
              <a:spcBef>
                <a:spcPts val="3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4000" y="1844640"/>
            <a:ext cx="8496000" cy="37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ord and Market Opportun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Roman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ladimir Vosic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or, Romania Growth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October 28</a:t>
            </a:r>
            <a:r>
              <a:rPr b="0" lang="hu-HU" sz="20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 2008</a:t>
            </a: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Bucures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2089080" cy="112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109D8-EAD4-4438-8A9C-D210B8BC537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 Park as a Growth Factor- Rom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 park size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mparabl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 park age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mparabl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686AE-BE25-40D3-B81A-67588D77BF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 Park Size (in mils) - Romani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981000"/>
          <a:ext cx="8064360" cy="54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81000"/>
                    <a:ext cx="806436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51680" y="6093000"/>
            <a:ext cx="29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IA The World Fact Book, 20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C0DC9-880A-46CD-876A-4B28C28490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23840"/>
            <a:ext cx="89647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 Park Size (in mils) – Romania (population adjusted)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9640" y="1125360"/>
          <a:ext cx="8064720" cy="54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25360"/>
                    <a:ext cx="806472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45174-FA50-4FE6-8575-25E16A2868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 Park Age (avg.) - Romani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11280" y="765000"/>
          <a:ext cx="8064360" cy="54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765000"/>
                    <a:ext cx="806436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751680" y="5950080"/>
            <a:ext cx="29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IA The World Fact Book, 20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7431-F266-42B6-88CA-7666D774A6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 Park Potential - Rom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5 – 7 years it is realisti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 car ownership 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00/1,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habi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car park avg. age 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4,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represents a new car sales opportunity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,300,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rs in 5 – 7 yea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refore supports the future industry 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DAAE1-925E-431A-8E4F-DE85165F54C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motive Industry Growth - Romani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2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estim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400" y="5950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68360" y="1125360"/>
          <a:ext cx="7673760" cy="523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7673760" cy="52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823E7-D8D0-4F8B-AC42-37F6D99E5C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motive Industry Growth - Rom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look for the next 5 yea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onservativ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wer but stable rate of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nnual industry to grow b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0,000 vehic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15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est growing segments will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rcial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cars – slow growth, still 1/5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8175B-A3A6-476A-A104-92D1990FC5A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How to Realize Romania Growth Potential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9217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on growing seg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 your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ize effect of produ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er uniqu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FFAF8-4630-468E-B2A4-F19AF3587B7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d’s Growth Potential - Rom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601280"/>
            <a:ext cx="9217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d brand with strong app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 products to outperform key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um sales/service network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e in Romania”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75BDA-B4BF-42CF-B4A1-5229AAF2259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d Product Portfoli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mplete model range of passenger c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 rational and emotional product app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-in-Class commercial vehicle line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of the youngest product portfolios in the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B32A8-B558-48EA-9CD3-C94E6639272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9840" y="1341000"/>
            <a:ext cx="87138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d’s growth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opportunities - Ro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DA343-12DD-46C2-A6BD-2B7A8D5948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d’s Product Portfolio Benefits - Rom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potential in the following seg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car – Ford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 car – Ford Mondeo and S-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V – Ford Ku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V – Ford Transit Connect, Transit and R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portunity to attract new small car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Ford Ka and Fi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E6224-474C-4D1D-AFAF-57544D1246E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New Ford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7561080" cy="567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77892-7962-43DB-A785-03A8D564C39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ord Mond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7634160" cy="572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9C7A4-6705-4D9F-830C-A7058CF7111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ord S-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7777440" cy="518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E9D4E-2C1B-4D31-86BA-7AB77D17CB3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New Ford Ku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9280" y="1111320"/>
            <a:ext cx="8713800" cy="47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13490-FDC6-4EBA-AF43-7B44257B268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ord Transit Conn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777440" cy="517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D097A-9ECC-4F52-B20F-03F1B7B85DE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74560" y="6297480"/>
            <a:ext cx="491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260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ord Trans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096040" cy="500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0710F-DC22-4484-A40B-CBA9F7823D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74560" y="6297480"/>
            <a:ext cx="491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260280"/>
            <a:ext cx="91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ord Rang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7777080" cy="494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73DC1-B311-4FFE-ADB9-98975A2ACD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74560" y="6297480"/>
            <a:ext cx="491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260280"/>
            <a:ext cx="91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ew Ford K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95280" y="731880"/>
            <a:ext cx="7777080" cy="582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796C3-1EF8-4A09-AFFD-24293045C45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74560" y="6297480"/>
            <a:ext cx="491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260280"/>
            <a:ext cx="91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ew Ford Fies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32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3CE65-C9A8-49AC-8FA4-23E31CEDA8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d’s Growth Strate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le W. Europe market sh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in emerging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on quality and customer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04FAC-BDAA-44F3-87EF-2E56C0E12F5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growth mainly from emerging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mania offers growth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d prepared to benefit from growth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d is committed to Ro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DBB42-CF89-4269-9F90-A5901D753F6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651640" y="3749760"/>
            <a:ext cx="3492360" cy="1882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0"/>
            <a:ext cx="9144000" cy="13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916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93960-E7DE-45B4-A45B-D214F10486C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erging Markets Potential Driven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population = 700 m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vehicle park = growing demand for c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ing GDP = gradual purchase power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E9E18-0C2E-473B-94C6-A0F658891B2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 Park per 1,000 Inhabitan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765000"/>
          <a:ext cx="8064360" cy="54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765000"/>
                    <a:ext cx="806436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80040" y="5950080"/>
            <a:ext cx="29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IA The World Fact Book, 20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7C207-D19B-4122-9BF3-8B4A8D6C31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DP – Real Growth 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1280" y="765000"/>
          <a:ext cx="8064360" cy="54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765000"/>
                    <a:ext cx="806436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680040" y="5950080"/>
            <a:ext cx="29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IA The World Fact Book, 20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D0F03-CD40-47D5-A97D-46CC6B75FA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owth Opportunities - Rom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 of 21 m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 member from 1. 1.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otive industry to grow with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 park size and ag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 brands to grow faster than the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9402F-0ED4-40E0-AE0C-2609382921A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motive Industry Growth - Romani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8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3400" y="5950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9640" y="1052640"/>
          <a:ext cx="7674120" cy="52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052640"/>
                    <a:ext cx="767412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62240" y="6093000"/>
            <a:ext cx="258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APIA, Bulletin 2002 - 20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13B1C-1506-4A0D-859C-2449DD8B41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motive Industry Growth - Rom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ast 5 yea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dustry grew b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55,000 vehic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230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est growing segment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    by 144,000  (880%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V   by   32,500  (27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V by   15,500  (53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/D  by   11,000  (17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is is where the footer should be position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5002C-BB9E-4A76-BFA7-8A4C2253A8A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6:30:26Z</dcterms:created>
  <dc:creator> </dc:creator>
  <dc:description> </dc:description>
  <cp:keywords/>
  <dc:language>en-US</dc:language>
  <cp:lastModifiedBy>Romania</cp:lastModifiedBy>
  <cp:lastPrinted>2005-06-24T14:01:08Z</cp:lastPrinted>
  <dcterms:modified xsi:type="dcterms:W3CDTF">2008-10-27T09:49:34Z</dcterms:modified>
  <cp:revision>204</cp:revision>
  <dc:subject> </dc:subject>
  <dc:title> </dc:title>
</cp:coreProperties>
</file>