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907588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29847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759960" y="742680"/>
            <a:ext cx="53658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500" spc="-1" strike="noStrike">
                <a:solidFill>
                  <a:srgbClr val="5f5f5f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9080" y="4703400"/>
            <a:ext cx="5045040" cy="445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9410760"/>
            <a:ext cx="29844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98440" y="9410760"/>
            <a:ext cx="29847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7F769-1EFE-42FA-9F23-9A6DDF090C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6032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9080" y="4703400"/>
            <a:ext cx="5045040" cy="445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a multumesc pentru atentia acor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76032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9080" y="4703400"/>
            <a:ext cx="5045040" cy="445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a multumesc pentru atentia acor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76032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9080" y="4703400"/>
            <a:ext cx="5045040" cy="445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a multumesc pentru atentia acor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1593-EFFD-43F4-97A8-0D1C618B2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9760" y="1364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0120" y="1066680"/>
            <a:ext cx="936000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0120" y="3697920"/>
            <a:ext cx="936000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10C8-0A06-4CDA-9825-2F65D35BC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9760" y="1364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0120" y="1066680"/>
            <a:ext cx="456732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6040" y="1066680"/>
            <a:ext cx="456732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0120" y="3697920"/>
            <a:ext cx="456732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6040" y="3697920"/>
            <a:ext cx="456732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3417-0C17-46F1-9106-D73FB5FAD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9760" y="1364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0120" y="1066680"/>
            <a:ext cx="301356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4880" y="1066680"/>
            <a:ext cx="301356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59280" y="1066680"/>
            <a:ext cx="301356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30120" y="3697920"/>
            <a:ext cx="301356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4880" y="3697920"/>
            <a:ext cx="301356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59280" y="3697920"/>
            <a:ext cx="301356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7D08-217F-46BA-A5EC-C92B6E5FC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9760" y="1364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30120" y="1066680"/>
            <a:ext cx="9360000" cy="50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9760" y="1364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0120" y="1066680"/>
            <a:ext cx="9360000" cy="5037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9760" y="1364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0120" y="1066680"/>
            <a:ext cx="4567320" cy="5037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6040" y="1066680"/>
            <a:ext cx="4567320" cy="5037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9760" y="1364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9760" y="136440"/>
            <a:ext cx="7797960" cy="32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9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9760" y="1364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0120" y="1066680"/>
            <a:ext cx="456732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6040" y="1066680"/>
            <a:ext cx="4567320" cy="5037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30120" y="3697920"/>
            <a:ext cx="456732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9760" y="1364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30120" y="1066680"/>
            <a:ext cx="9360000" cy="50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CC4F-2E09-4E3F-9406-3C9001407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9760" y="1364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0120" y="1066680"/>
            <a:ext cx="4567320" cy="5037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6040" y="1066680"/>
            <a:ext cx="456732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6040" y="3697920"/>
            <a:ext cx="456732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9760" y="1364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0120" y="1066680"/>
            <a:ext cx="456732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6040" y="1066680"/>
            <a:ext cx="456732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30120" y="3697920"/>
            <a:ext cx="936000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9760" y="1364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0120" y="1066680"/>
            <a:ext cx="936000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0120" y="3697920"/>
            <a:ext cx="936000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9760" y="1364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0120" y="1066680"/>
            <a:ext cx="456732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6040" y="1066680"/>
            <a:ext cx="456732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30120" y="3697920"/>
            <a:ext cx="456732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6040" y="3697920"/>
            <a:ext cx="456732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9760" y="1364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0120" y="1066680"/>
            <a:ext cx="301356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4880" y="1066680"/>
            <a:ext cx="301356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59280" y="1066680"/>
            <a:ext cx="301356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30120" y="3697920"/>
            <a:ext cx="301356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4880" y="3697920"/>
            <a:ext cx="301356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59280" y="3697920"/>
            <a:ext cx="301356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9760" y="1364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30120" y="1066680"/>
            <a:ext cx="9360000" cy="5037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EB33-FC10-43EC-8F64-4F818BA57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9760" y="1364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0120" y="1066680"/>
            <a:ext cx="4567320" cy="5037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6040" y="1066680"/>
            <a:ext cx="4567320" cy="5037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C2D6-B5C3-40D4-BDE7-1F83F4E85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9760" y="1364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B100-A3C6-4DDE-B498-D5DFF4F35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9760" y="136440"/>
            <a:ext cx="7797960" cy="32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038F-5A3A-48FD-9C35-5A83EA8A4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9760" y="1364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0120" y="1066680"/>
            <a:ext cx="456732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6040" y="1066680"/>
            <a:ext cx="4567320" cy="5037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30120" y="3697920"/>
            <a:ext cx="456732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D00E-D49E-4DE6-A28C-05BE41A17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9760" y="1364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0120" y="1066680"/>
            <a:ext cx="4567320" cy="5037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6040" y="1066680"/>
            <a:ext cx="456732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6040" y="3697920"/>
            <a:ext cx="456732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6716-E164-4708-BB1F-E9F3F42F7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9760" y="1364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0120" y="1066680"/>
            <a:ext cx="456732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6040" y="1066680"/>
            <a:ext cx="456732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0120" y="3697920"/>
            <a:ext cx="9360000" cy="240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28099-92E6-413A-A78C-696F4CB74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907560" cy="54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9760" y="1364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5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30120" y="1066680"/>
            <a:ext cx="9360000" cy="5037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524"/>
              </a:spcBef>
              <a:buClr>
                <a:srgbClr val="5f5f5f"/>
              </a:buClr>
              <a:buFont typeface="Webdings" charset="2"/>
              <a:buChar char="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  <a:p>
            <a:pPr lvl="1" marL="777960" indent="-298440">
              <a:spcBef>
                <a:spcPts val="524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  <a:p>
            <a:pPr lvl="2" marL="1197000" indent="-239760">
              <a:spcBef>
                <a:spcPts val="524"/>
              </a:spcBef>
              <a:buClr>
                <a:srgbClr val="5f5f5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  <a:p>
            <a:pPr lvl="3" marL="1676520" indent="-239760">
              <a:spcBef>
                <a:spcPts val="524"/>
              </a:spcBef>
              <a:buClr>
                <a:srgbClr val="5f5f5f"/>
              </a:buClr>
              <a:buFont typeface="Arial"/>
              <a:buChar char="-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  <a:p>
            <a:pPr lvl="4" marL="2152800" indent="-236520">
              <a:spcBef>
                <a:spcPts val="524"/>
              </a:spcBef>
              <a:buClr>
                <a:srgbClr val="5f5f5f"/>
              </a:buClr>
              <a:buFont typeface="Arial"/>
              <a:buChar char="-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  <a:p>
            <a:pPr lvl="5" marL="2152800" indent="-236520">
              <a:spcBef>
                <a:spcPts val="524"/>
              </a:spcBef>
              <a:buClr>
                <a:srgbClr val="5f5f5f"/>
              </a:buClr>
              <a:buFont typeface="Arial"/>
              <a:buChar char="-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  <a:p>
            <a:pPr lvl="6" marL="2152800" indent="-236520">
              <a:spcBef>
                <a:spcPts val="524"/>
              </a:spcBef>
              <a:buClr>
                <a:srgbClr val="5f5f5f"/>
              </a:buClr>
              <a:buFont typeface="Arial"/>
              <a:buChar char="-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619760" y="65448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Arial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495C-89FF-431C-9FF0-7B9921CEA0C8}" type="slidenum">
              <a:rPr b="0" lang="en-US" sz="8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3880" y="65530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RENAULT CONTRACT 2009</a:t>
            </a:r>
            <a:endParaRPr b="0" lang="en-US" sz="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138720" y="6539040"/>
            <a:ext cx="13906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SEPTEMBRE  2008</a:t>
            </a:r>
            <a:endParaRPr b="0" lang="en-US" sz="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377040"/>
            <a:ext cx="9907560" cy="480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9760" y="1804680"/>
            <a:ext cx="9069480" cy="57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5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1440" y="0"/>
            <a:ext cx="9907560" cy="137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3880" y="6629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RENAULT CONTRACT 2009</a:t>
            </a:r>
            <a:endParaRPr b="0" lang="en-US" sz="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53200" y="6640560"/>
            <a:ext cx="1309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28 OCTOBRE 2008</a:t>
            </a:r>
            <a:endParaRPr b="0" lang="en-US" sz="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  <a:p>
            <a:pPr lvl="1" marL="479520" indent="0" algn="ctr"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957240" algn="ctr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3" marL="1436760" algn="ctr">
              <a:spcBef>
                <a:spcPts val="326"/>
              </a:spcBef>
              <a:buClr>
                <a:srgbClr val="5f5f5f"/>
              </a:buClr>
              <a:buFont typeface="Arial"/>
              <a:buChar char="-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5f5f5f"/>
              </a:solidFill>
              <a:latin typeface="Arial"/>
            </a:endParaRPr>
          </a:p>
          <a:p>
            <a:pPr lvl="4" marL="1916280" algn="ctr">
              <a:spcBef>
                <a:spcPts val="326"/>
              </a:spcBef>
              <a:buClr>
                <a:srgbClr val="5f5f5f"/>
              </a:buClr>
              <a:buFont typeface="Arial"/>
              <a:buChar char="-"/>
              <a:tabLst>
                <a:tab algn="l" pos="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5f5f5f"/>
              </a:solidFill>
              <a:latin typeface="Arial"/>
            </a:endParaRPr>
          </a:p>
          <a:p>
            <a:pPr lvl="5" marL="1916280">
              <a:spcBef>
                <a:spcPts val="326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5f5f5f"/>
              </a:solidFill>
              <a:latin typeface="Arial"/>
            </a:endParaRPr>
          </a:p>
          <a:p>
            <a:pPr lvl="6" marL="1916280">
              <a:spcBef>
                <a:spcPts val="326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36280" y="2331720"/>
            <a:ext cx="9069480" cy="273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fr-FR" sz="3200" spc="-1" strike="noStrike">
                <a:solidFill>
                  <a:srgbClr val="5f5f5f"/>
                </a:solidFill>
                <a:latin typeface="Arial"/>
              </a:rPr>
              <a:t>PERSPECTIVES 2009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400" spc="-1" strike="noStrike">
                <a:solidFill>
                  <a:srgbClr val="5f5f5f"/>
                </a:solidFill>
                <a:latin typeface="Arial"/>
              </a:rPr>
              <a:t>François FOURMON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400" spc="-1" strike="noStrike">
                <a:solidFill>
                  <a:srgbClr val="5f5f5f"/>
                </a:solidFill>
                <a:latin typeface="Arial"/>
              </a:rPr>
              <a:t>Directeur Général AUTOMOBILE DACIA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766800" y="1720440"/>
            <a:ext cx="8207280" cy="639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2d2678"/>
                </a:solidFill>
                <a:latin typeface="Arial"/>
              </a:rPr>
              <a:t>Mediafax Talks about Auto Industry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2327400"/>
            <a:ext cx="960120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080" rIns="109080" tIns="54720" bIns="54720" anchor="t">
            <a:spAutoFit/>
          </a:bodyPr>
          <a:p>
            <a:pPr marL="457200" indent="-457200">
              <a:lnSpc>
                <a:spcPct val="100000"/>
              </a:lnSpc>
              <a:buClr>
                <a:srgbClr val="5f5f5f"/>
              </a:buClr>
              <a:buFont typeface="Arial"/>
              <a:buAutoNum type="arabicPeriod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1" lang="en-US" sz="25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Les éléments dont dépendra le marché en 2009</a:t>
            </a:r>
            <a:endParaRPr b="0" lang="en-US" sz="2500" spc="-1" strike="noStrike">
              <a:solidFill>
                <a:srgbClr val="5f5f5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1" lang="en-US" sz="21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1.1. Situation macroéconomique en Roumanie</a:t>
            </a:r>
            <a:endParaRPr b="0" lang="en-US" sz="2100" spc="-1" strike="noStrike">
              <a:solidFill>
                <a:srgbClr val="5f5f5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1" lang="en-US" sz="21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1.2. Tendance actuelle du marché</a:t>
            </a:r>
            <a:endParaRPr b="0" lang="en-US" sz="2100" spc="-1" strike="noStrike">
              <a:solidFill>
                <a:srgbClr val="5f5f5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1" lang="en-US" sz="21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1.3. Véhicules d’occasion</a:t>
            </a:r>
            <a:endParaRPr b="0" lang="en-US" sz="2100" spc="-1" strike="noStrike">
              <a:solidFill>
                <a:srgbClr val="5f5f5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1" lang="en-US" sz="21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1.4. Crédit</a:t>
            </a:r>
            <a:endParaRPr b="0" lang="en-US" sz="2100" spc="-1" strike="noStrike">
              <a:solidFill>
                <a:srgbClr val="5f5f5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endParaRPr b="0" lang="en-US" sz="2100" spc="-1" strike="noStrike">
              <a:solidFill>
                <a:srgbClr val="5f5f5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5f5f5f"/>
              </a:buClr>
              <a:buFont typeface="Arial"/>
              <a:buAutoNum type="arabicPeriod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1" lang="en-US" sz="25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Comment DACIA réussira dans ce contexte </a:t>
            </a:r>
            <a:endParaRPr b="0" lang="en-US" sz="25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2327400"/>
            <a:ext cx="960120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080" rIns="109080" tIns="54720" bIns="54720" anchor="t">
            <a:spAutoFit/>
          </a:bodyPr>
          <a:p>
            <a:pPr marL="457200" indent="-457200">
              <a:lnSpc>
                <a:spcPct val="100000"/>
              </a:lnSpc>
              <a:buClr>
                <a:srgbClr val="5f5f5f"/>
              </a:buClr>
              <a:buFont typeface="Arial"/>
              <a:buAutoNum type="arabicPeriod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1" lang="en-US" sz="25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Les éléments dont dépendra le marché en 2009</a:t>
            </a:r>
            <a:endParaRPr b="0" lang="en-US" sz="2500" spc="-1" strike="noStrike">
              <a:solidFill>
                <a:srgbClr val="5f5f5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1" lang="en-US" sz="21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1.1. Situation macroéconomique en Roumanie</a:t>
            </a:r>
            <a:endParaRPr b="0" lang="en-US" sz="2100" spc="-1" strike="noStrike">
              <a:solidFill>
                <a:srgbClr val="5f5f5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1" lang="en-US" sz="21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1.2. Tendance actuelle du marché</a:t>
            </a:r>
            <a:endParaRPr b="0" lang="en-US" sz="2100" spc="-1" strike="noStrike">
              <a:solidFill>
                <a:srgbClr val="5f5f5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1" lang="en-US" sz="21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1.3. Véhicules d’occasion</a:t>
            </a:r>
            <a:endParaRPr b="0" lang="en-US" sz="2100" spc="-1" strike="noStrike">
              <a:solidFill>
                <a:srgbClr val="5f5f5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1" lang="en-US" sz="21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1.4. Crédit</a:t>
            </a:r>
            <a:endParaRPr b="0" lang="en-US" sz="21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9760" y="1364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500" spc="-1" strike="noStrike">
                <a:solidFill>
                  <a:srgbClr val="5f5f5f"/>
                </a:solidFill>
                <a:latin typeface="Arial"/>
              </a:rPr>
              <a:t>1.1. Situation macroéconomique en Roumanie</a:t>
            </a:r>
            <a:endParaRPr b="1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887480"/>
          <a:ext cx="469116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87480"/>
                    <a:ext cx="4691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42880" y="1420920"/>
            <a:ext cx="414036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Croissance réelle du PIB, %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162400" y="2189160"/>
          <a:ext cx="4940280" cy="31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62400" y="2189160"/>
                    <a:ext cx="494028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5292720" y="1366920"/>
            <a:ext cx="4251240" cy="47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Arial"/>
              </a:rPr>
              <a:t>Exportations &amp; Importations des biens et services (% yoy)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40240" y="3057480"/>
            <a:ext cx="5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5f5f5f"/>
                </a:solidFill>
                <a:latin typeface="Arial"/>
              </a:rPr>
              <a:t>- </a:t>
            </a:r>
            <a:r>
              <a:rPr b="1" lang="fr-FR" sz="1100" spc="-1" strike="noStrike">
                <a:solidFill>
                  <a:srgbClr val="5f5f5f"/>
                </a:solidFill>
                <a:latin typeface="Arial"/>
              </a:rPr>
              <a:t>6,0</a:t>
            </a:r>
            <a:endParaRPr b="0" lang="en-US" sz="11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B587-FCE1-4912-84AE-69498F7DF7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07800" y="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… 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avec une inversion de tendance depuis le début 2008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400" y="1314360"/>
          <a:ext cx="2117520" cy="1065240"/>
        </p:xfrm>
        <a:graphic>
          <a:graphicData uri="http://schemas.openxmlformats.org/drawingml/2006/table">
            <a:tbl>
              <a:tblPr/>
              <a:tblGrid>
                <a:gridCol w="1062000"/>
                <a:gridCol w="105552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5f5f5f"/>
                          </a:solidFill>
                          <a:latin typeface="Arial"/>
                          <a:ea typeface="ヒラギノ角ゴ Pro W3"/>
                        </a:rPr>
                        <a:t>Ecart MTM VP 9M08 vs. 9M07</a:t>
                      </a:r>
                      <a:endParaRPr b="0" lang="en-US" sz="11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5f5f5f"/>
                          </a:solidFill>
                          <a:latin typeface="Arial"/>
                          <a:ea typeface="ヒラギノ角ゴ Pro W3"/>
                        </a:rPr>
                        <a:t>Ecart MTM VP 12M08 vs. 12M07</a:t>
                      </a:r>
                      <a:endParaRPr b="0" lang="en-US" sz="11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700" spc="-1" strike="noStrike">
                          <a:solidFill>
                            <a:srgbClr val="5f5f5f"/>
                          </a:solidFill>
                          <a:latin typeface="Arial"/>
                          <a:ea typeface="ヒラギノ角ゴ Pro W3"/>
                        </a:rPr>
                        <a:t>- 5 880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700" spc="-1" strike="noStrike">
                          <a:solidFill>
                            <a:srgbClr val="5f5f5f"/>
                          </a:solidFill>
                          <a:latin typeface="Arial"/>
                          <a:ea typeface="ヒラギノ角ゴ Pro W3"/>
                        </a:rPr>
                        <a:t>- 18 621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0" y="0"/>
            <a:ext cx="32432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1.2. Tendance marché</a:t>
            </a:r>
            <a:endParaRPr b="0" lang="en-US" sz="22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87720" y="770040"/>
            <a:ext cx="7387920" cy="2752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187720" y="3578400"/>
            <a:ext cx="7399080" cy="2761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38640" y="1544760"/>
            <a:ext cx="1873440" cy="246240"/>
          </a:xfrm>
          <a:prstGeom prst="rect">
            <a:avLst/>
          </a:prstGeom>
          <a:solidFill>
            <a:srgbClr val="eaeaea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5f5f5f"/>
                </a:solidFill>
                <a:latin typeface="Tahoma"/>
                <a:ea typeface="Arial"/>
              </a:rPr>
              <a:t>Pas d’effet REMAT 2008</a:t>
            </a:r>
            <a:endParaRPr b="0" lang="en-US" sz="1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4760" y="1849320"/>
            <a:ext cx="0" cy="36036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56440" y="1230480"/>
            <a:ext cx="2651040" cy="550800"/>
          </a:xfrm>
          <a:prstGeom prst="rect">
            <a:avLst/>
          </a:prstGeom>
          <a:solidFill>
            <a:srgbClr val="eaeaea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5f5f5f"/>
                </a:solidFill>
                <a:latin typeface="Tahoma"/>
                <a:ea typeface="Arial"/>
              </a:rPr>
              <a:t>Impact négatif de la nouvelle taxe de pollution (hausse de prix de +2% à +4% pour nos modèles)</a:t>
            </a:r>
            <a:endParaRPr b="0" lang="en-US" sz="1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7600" y="1833480"/>
            <a:ext cx="1092240" cy="246240"/>
          </a:xfrm>
          <a:prstGeom prst="rect">
            <a:avLst/>
          </a:prstGeom>
          <a:solidFill>
            <a:srgbClr val="eaeaea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5f5f5f"/>
                </a:solidFill>
                <a:latin typeface="Tahoma"/>
                <a:ea typeface="Arial"/>
              </a:rPr>
              <a:t>Afflux VO</a:t>
            </a:r>
            <a:endParaRPr b="0" lang="en-US" sz="1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72280" y="1922400"/>
            <a:ext cx="1091880" cy="246240"/>
          </a:xfrm>
          <a:prstGeom prst="rect">
            <a:avLst/>
          </a:prstGeom>
          <a:solidFill>
            <a:srgbClr val="eaeaea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5f5f5f"/>
                </a:solidFill>
                <a:latin typeface="Tahoma"/>
                <a:ea typeface="Arial"/>
              </a:rPr>
              <a:t>REMAT 2007</a:t>
            </a:r>
            <a:endParaRPr b="0" lang="en-US" sz="1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53120" y="2187720"/>
            <a:ext cx="0" cy="28728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8138160" y="1469160"/>
            <a:ext cx="144360" cy="1482480"/>
          </a:xfrm>
          <a:custGeom>
            <a:avLst/>
            <a:gdLst>
              <a:gd name="textAreaLeft" fmla="*/ 92160 w 144360"/>
              <a:gd name="textAreaRight" fmla="*/ 144360 w 144360"/>
              <a:gd name="textAreaTop" fmla="*/ 38520 h 1482480"/>
              <a:gd name="textAreaBottom" fmla="*/ 1443960 h 14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400" y="4076640"/>
          <a:ext cx="2063520" cy="1062000"/>
        </p:xfrm>
        <a:graphic>
          <a:graphicData uri="http://schemas.openxmlformats.org/drawingml/2006/table">
            <a:tbl>
              <a:tblPr/>
              <a:tblGrid>
                <a:gridCol w="1049040"/>
                <a:gridCol w="101448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5f5f5f"/>
                          </a:solidFill>
                          <a:latin typeface="Arial"/>
                          <a:ea typeface="ヒラギノ角ゴ Pro W3"/>
                        </a:rPr>
                        <a:t>Ecart MTM VU 9M08 vs. 9M07</a:t>
                      </a:r>
                      <a:endParaRPr b="0" lang="en-US" sz="11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5f5f5f"/>
                          </a:solidFill>
                          <a:latin typeface="Arial"/>
                          <a:ea typeface="ヒラギノ角ゴ Pro W3"/>
                        </a:rPr>
                        <a:t>Ecart MTM VU 12M08 vs. 12M07</a:t>
                      </a:r>
                      <a:endParaRPr b="0" lang="en-US" sz="11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700" spc="-1" strike="noStrike">
                          <a:solidFill>
                            <a:srgbClr val="5f5f5f"/>
                          </a:solidFill>
                          <a:latin typeface="Arial"/>
                          <a:ea typeface="ヒラギノ角ゴ Pro W3"/>
                        </a:rPr>
                        <a:t>+ 6 984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700" spc="-1" strike="noStrike">
                          <a:solidFill>
                            <a:srgbClr val="5f5f5f"/>
                          </a:solidFill>
                          <a:latin typeface="Arial"/>
                          <a:ea typeface="ヒラギノ角ゴ Pro W3"/>
                        </a:rPr>
                        <a:t>+ 6 864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5576760" y="5362560"/>
            <a:ext cx="390600" cy="14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88160" y="5002200"/>
            <a:ext cx="78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5f5f5f"/>
                </a:solidFill>
                <a:latin typeface="Arial"/>
                <a:ea typeface="Arial"/>
              </a:rPr>
              <a:t>32,7%</a:t>
            </a:r>
            <a:endParaRPr b="0" lang="en-US" sz="1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533F-193A-4715-9149-126C571A55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418080" y="907920"/>
            <a:ext cx="1465560" cy="368280"/>
          </a:xfrm>
          <a:prstGeom prst="rect">
            <a:avLst/>
          </a:prstGeom>
          <a:solidFill>
            <a:srgbClr val="3009ad"/>
          </a:solidFill>
          <a:ln w="0">
            <a:noFill/>
          </a:ln>
          <a:effectLst>
            <a:outerShdw dist="107932" dir="27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TM VP VO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60" y="981000"/>
            <a:ext cx="3686040" cy="1224000"/>
          </a:xfrm>
          <a:prstGeom prst="rect">
            <a:avLst/>
          </a:prstGeom>
          <a:solidFill>
            <a:srgbClr val="eaeaea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rmAutofit fontScale="92000"/>
          </a:bodyPr>
          <a:p>
            <a:pPr marL="330120" indent="-330120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ebdings" charset="2"/>
              <a:buChar char="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Rapport marché 1</a:t>
            </a:r>
            <a:r>
              <a:rPr b="0" lang="en-US" sz="1900" spc="-1" strike="noStrike" baseline="30000">
                <a:solidFill>
                  <a:srgbClr val="5f5f5f"/>
                </a:solidFill>
                <a:latin typeface="Arial"/>
                <a:ea typeface="ヒラギノ角ゴ Pro W3"/>
              </a:rPr>
              <a:t>ère</a:t>
            </a:r>
            <a:r>
              <a:rPr b="0" lang="en-US" sz="19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 immatriculation VO importés / MTM VN VP :</a:t>
            </a:r>
            <a:endParaRPr b="0" lang="en-US" sz="1900" spc="-1" strike="noStrike">
              <a:solidFill>
                <a:srgbClr val="5f5f5f"/>
              </a:solidFill>
              <a:latin typeface="Times New Roman"/>
            </a:endParaRPr>
          </a:p>
          <a:p>
            <a:pPr lvl="1" marL="715680" indent="-274320">
              <a:lnSpc>
                <a:spcPct val="90000"/>
              </a:lnSpc>
              <a:spcBef>
                <a:spcPts val="326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2007 : 1 VO pour 2,5 VN</a:t>
            </a:r>
            <a:endParaRPr b="0" lang="en-US" sz="1300" spc="-1" strike="noStrike">
              <a:solidFill>
                <a:srgbClr val="5f5f5f"/>
              </a:solidFill>
              <a:latin typeface="Times New Roman"/>
            </a:endParaRPr>
          </a:p>
          <a:p>
            <a:pPr lvl="1" marL="715680" indent="-274320">
              <a:lnSpc>
                <a:spcPct val="90000"/>
              </a:lnSpc>
              <a:spcBef>
                <a:spcPts val="326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9M08 : 1 VO pour 1,4 VN</a:t>
            </a:r>
            <a:endParaRPr b="0" lang="en-US" sz="13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49640" y="0"/>
            <a:ext cx="585648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Explosion des ventes de VO importés suite à la modification de la taxe de pollution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2271600"/>
          <a:ext cx="3714840" cy="39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1600"/>
                    <a:ext cx="3714840" cy="39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705120" y="731880"/>
            <a:ext cx="6201000" cy="2432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4240" y="95400"/>
            <a:ext cx="3860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1.3. Véhicules d’occasion</a:t>
            </a:r>
            <a:endParaRPr b="0" lang="en-US" sz="2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20419800">
            <a:off x="696960" y="4794120"/>
            <a:ext cx="458640" cy="311400"/>
          </a:xfrm>
          <a:prstGeom prst="rightArrow">
            <a:avLst>
              <a:gd name="adj1" fmla="val 50000"/>
              <a:gd name="adj2" fmla="val 36821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+45,7%</a:t>
            </a:r>
            <a:endParaRPr b="0" lang="en-US" sz="9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419800">
            <a:off x="1320840" y="4454640"/>
            <a:ext cx="458640" cy="311040"/>
          </a:xfrm>
          <a:prstGeom prst="rightArrow">
            <a:avLst>
              <a:gd name="adj1" fmla="val 50000"/>
              <a:gd name="adj2" fmla="val 36863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+25,8%</a:t>
            </a:r>
            <a:endParaRPr b="0" lang="en-US" sz="9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0419800">
            <a:off x="1746360" y="4003560"/>
            <a:ext cx="458640" cy="311400"/>
          </a:xfrm>
          <a:prstGeom prst="rightArrow">
            <a:avLst>
              <a:gd name="adj1" fmla="val 50000"/>
              <a:gd name="adj2" fmla="val 36821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+212,4%</a:t>
            </a:r>
            <a:endParaRPr b="0" lang="en-US" sz="9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0419800">
            <a:off x="2154240" y="3262320"/>
            <a:ext cx="458640" cy="311040"/>
          </a:xfrm>
          <a:prstGeom prst="rightArrow">
            <a:avLst>
              <a:gd name="adj1" fmla="val 50000"/>
              <a:gd name="adj2" fmla="val 36863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+47,5%</a:t>
            </a:r>
            <a:endParaRPr b="0" lang="en-US" sz="9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0419800">
            <a:off x="2673360" y="2570040"/>
            <a:ext cx="458640" cy="311400"/>
          </a:xfrm>
          <a:prstGeom prst="rightArrow">
            <a:avLst>
              <a:gd name="adj1" fmla="val 50000"/>
              <a:gd name="adj2" fmla="val 36821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+13,0%</a:t>
            </a:r>
            <a:endParaRPr b="0" lang="en-US" sz="9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530520" y="3284640"/>
          <a:ext cx="6175440" cy="2820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30520" y="3284640"/>
                    <a:ext cx="61754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20419800">
            <a:off x="7133760" y="4216320"/>
            <a:ext cx="750960" cy="416160"/>
          </a:xfrm>
          <a:prstGeom prst="rightArrow">
            <a:avLst>
              <a:gd name="adj1" fmla="val 50000"/>
              <a:gd name="adj2" fmla="val 45112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+465,4%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214A-7FD0-4687-B195-32CA6DA3F6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9800" y="0"/>
            <a:ext cx="7365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Un phénomène amplifié par la multiplication des revendeurs VO dans tout le pays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400" y="90936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900" spc="-1" strike="noStrike" u="sng">
                <a:solidFill>
                  <a:srgbClr val="5f5f5f"/>
                </a:solidFill>
                <a:uFillTx/>
                <a:latin typeface="Arial"/>
              </a:rPr>
              <a:t>Exemple de business VO à Târgu Mures</a:t>
            </a: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240" y="95400"/>
            <a:ext cx="3860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1.3. Véhicules d’occasion</a:t>
            </a:r>
            <a:endParaRPr b="0" lang="en-US" sz="22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03360" y="1312920"/>
            <a:ext cx="6900840" cy="478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E263-B195-460D-870C-0A64FDDCE82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28400" y="90936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900" spc="-1" strike="noStrike" u="sng">
                <a:solidFill>
                  <a:srgbClr val="5f5f5f"/>
                </a:solidFill>
                <a:uFillTx/>
                <a:latin typeface="Arial"/>
              </a:rPr>
              <a:t>Exemple de business VO à Sibiu en Transylvanie</a:t>
            </a: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42880" y="1341360"/>
            <a:ext cx="7177320" cy="4970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4240" y="95400"/>
            <a:ext cx="3860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1.3. Véhicules d’occasion</a:t>
            </a:r>
            <a:endParaRPr b="0" lang="en-US" sz="2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539800" y="0"/>
            <a:ext cx="736596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Un phénomène amplifié par la multiplication des revendeurs VO dans tout le pays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3B11-6A24-4E22-8D80-D3E23A290D9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136440"/>
            <a:ext cx="9576000" cy="711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400" spc="-1" strike="noStrike">
                <a:solidFill>
                  <a:srgbClr val="5f5f5f"/>
                </a:solidFill>
                <a:latin typeface="Arial"/>
              </a:rPr>
              <a:t>Un MTM VP VU en baisse du à la baisse du MTM VP…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08080" y="863640"/>
          <a:ext cx="8997840" cy="557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863640"/>
                    <a:ext cx="8997840" cy="55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 rot="20419800">
            <a:off x="2222280" y="3573000"/>
            <a:ext cx="855360" cy="460440"/>
          </a:xfrm>
          <a:prstGeom prst="rightArrow">
            <a:avLst>
              <a:gd name="adj1" fmla="val 50000"/>
              <a:gd name="adj2" fmla="val 46443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+23,2%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642400">
            <a:off x="3079440" y="3141720"/>
            <a:ext cx="858960" cy="460440"/>
          </a:xfrm>
          <a:prstGeom prst="rightArrow">
            <a:avLst>
              <a:gd name="adj1" fmla="val 50000"/>
              <a:gd name="adj2" fmla="val 46638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+21,3%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20231400">
            <a:off x="3938760" y="2854080"/>
            <a:ext cx="861840" cy="460440"/>
          </a:xfrm>
          <a:prstGeom prst="rightArrow">
            <a:avLst>
              <a:gd name="adj1" fmla="val 50000"/>
              <a:gd name="adj2" fmla="val 46794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+34,0%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9524600">
            <a:off x="4795920" y="2278080"/>
            <a:ext cx="857160" cy="460440"/>
          </a:xfrm>
          <a:prstGeom prst="rightArrow">
            <a:avLst>
              <a:gd name="adj1" fmla="val 50000"/>
              <a:gd name="adj2" fmla="val 46540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+43,0%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0898600">
            <a:off x="5654160" y="1744560"/>
            <a:ext cx="858960" cy="460440"/>
          </a:xfrm>
          <a:prstGeom prst="rightArrow">
            <a:avLst>
              <a:gd name="adj1" fmla="val 50000"/>
              <a:gd name="adj2" fmla="val 46638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+15,3%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9980000">
            <a:off x="6480000" y="999720"/>
            <a:ext cx="858960" cy="460440"/>
          </a:xfrm>
          <a:prstGeom prst="rightArrow">
            <a:avLst>
              <a:gd name="adj1" fmla="val 50000"/>
              <a:gd name="adj2" fmla="val 46638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+21,7%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20419800">
            <a:off x="1290600" y="3904920"/>
            <a:ext cx="854280" cy="460440"/>
          </a:xfrm>
          <a:prstGeom prst="rightArrow">
            <a:avLst>
              <a:gd name="adj1" fmla="val 50000"/>
              <a:gd name="adj2" fmla="val 46384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+9,0%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240000">
            <a:off x="7608600" y="685800"/>
            <a:ext cx="860400" cy="682560"/>
          </a:xfrm>
          <a:prstGeom prst="rightArrow">
            <a:avLst>
              <a:gd name="adj1" fmla="val 50000"/>
              <a:gd name="adj2" fmla="val 31514"/>
            </a:avLst>
          </a:prstGeom>
          <a:solidFill>
            <a:srgbClr val="ff993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-3,4%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-6.2%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7200">
            <a:off x="8696160" y="1197000"/>
            <a:ext cx="860760" cy="460440"/>
          </a:xfrm>
          <a:prstGeom prst="rightArrow">
            <a:avLst>
              <a:gd name="adj1" fmla="val 50000"/>
              <a:gd name="adj2" fmla="val 46736"/>
            </a:avLst>
          </a:prstGeom>
          <a:solidFill>
            <a:srgbClr val="ff993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  <a:ea typeface="ヒラギノ角ゴ Pro W3"/>
              </a:rPr>
              <a:t>-11,5%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ECFB-0882-444D-98B8-152DD6C8ED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09:22:13Z</dcterms:created>
  <dc:creator>Hatem KHANFIR</dc:creator>
  <dc:description/>
  <cp:keywords/>
  <dc:language>en-US</dc:language>
  <cp:lastModifiedBy>ay07399</cp:lastModifiedBy>
  <cp:lastPrinted>2005-05-12T12:41:00Z</cp:lastPrinted>
  <dcterms:modified xsi:type="dcterms:W3CDTF">2008-10-27T16:54:13Z</dcterms:modified>
  <cp:revision>1062</cp:revision>
  <dc:subject/>
  <dc:title>Dossier A7 - DACIA</dc:title>
</cp:coreProperties>
</file>