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0263" cy="719613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DC8-5611-4972-8A9F-96FA404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826308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9160" y="3951000"/>
            <a:ext cx="826308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E86-0E1C-4CA4-A4BC-8DB115BC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916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348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5D7-AB98-4CAC-9A29-C49752A7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03120" y="14382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720" y="14382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9160" y="39510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03120" y="39510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96720" y="39510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53D-AEC6-4C9B-AEE4-7AA05B46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05AC-D87C-40C2-B697-4E9AD74B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ADE7-6AB4-430E-A7AA-43DA7FD4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487-B4A0-41A1-BA66-F0358C1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4C5-4CA6-462F-870F-6DBA5F59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EC52-5BAC-44CE-A447-9B825240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09160" y="26460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41F5-24E1-45DA-B63E-E2B9045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0916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B77E-855A-4DD7-8131-FE1BBAD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BA9-CC43-4299-B50E-B99083B1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348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9D5-42EE-4B5E-B2BC-D99D27F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09160" y="3951000"/>
            <a:ext cx="826308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6ECF-5418-4FF8-A090-EBD59A2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826308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09160" y="3951000"/>
            <a:ext cx="826308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805F-3AC1-4FFE-8784-6FA51F7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0916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4348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BA8-7897-47E2-8B76-D498A9AA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03120" y="14382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96720" y="14382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09160" y="39510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03120" y="39510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96720" y="3951000"/>
            <a:ext cx="266040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AD3-1240-4202-9750-96F617DB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D3E-4BF8-465D-9FCB-6450508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D87-D7BA-44F0-A2D0-016CB70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51A-AE9C-4E2D-9DF2-86D8807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9160" y="264600"/>
            <a:ext cx="826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990-7FEE-4178-B26D-61E052D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916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6D7-B8AD-4340-9815-0822A39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3480" y="39510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6BE-B81A-4FBF-B0D8-6185FD7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3480" y="1438200"/>
            <a:ext cx="403236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9160" y="3951000"/>
            <a:ext cx="8263080" cy="229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8D9-2CC3-40BF-9D6C-F3FA6E7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721800" cy="720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4040" indent="-284040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5480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85840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89240" indent="-285840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289240" indent="-285840">
              <a:spcBef>
                <a:spcPts val="3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289240" indent="-285840">
              <a:spcBef>
                <a:spcPts val="3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8280" y="6556320"/>
            <a:ext cx="2025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20640" y="6556320"/>
            <a:ext cx="3078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0" y="645480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0EABB-185E-49AC-BCE3-4AE02178CBE8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6080" y="1079640"/>
            <a:ext cx="8501040" cy="0"/>
          </a:xfrm>
          <a:prstGeom prst="line">
            <a:avLst/>
          </a:prstGeom>
          <a:ln w="19080">
            <a:solidFill>
              <a:srgbClr val="dc2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721800" cy="720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9160" y="175248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28280" y="6556320"/>
            <a:ext cx="2025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320640" y="6556320"/>
            <a:ext cx="3078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965640" y="6556320"/>
            <a:ext cx="2025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226EC-6CFD-4696-83E5-4AA084C60E7A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6080" y="2971800"/>
            <a:ext cx="8501040" cy="3240"/>
          </a:xfrm>
          <a:prstGeom prst="line">
            <a:avLst/>
          </a:prstGeom>
          <a:ln w="19080">
            <a:solidFill>
              <a:srgbClr val="dc2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6080" y="6400800"/>
            <a:ext cx="8501040" cy="0"/>
          </a:xfrm>
          <a:prstGeom prst="line">
            <a:avLst/>
          </a:prstGeom>
          <a:ln w="19080">
            <a:solidFill>
              <a:srgbClr val="dc2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6080" y="3727440"/>
            <a:ext cx="8501040" cy="0"/>
          </a:xfrm>
          <a:prstGeom prst="line">
            <a:avLst/>
          </a:prstGeom>
          <a:ln w="19080">
            <a:solidFill>
              <a:srgbClr val="dc2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86000" y="1683720"/>
            <a:ext cx="87476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6360" algn="ctr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5440" algn="ctr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74600" algn="ctr">
              <a:spcBef>
                <a:spcPts val="300"/>
              </a:spcBef>
              <a:buClr>
                <a:srgbClr val="e2001a"/>
              </a:buClr>
              <a:buFont typeface="Webdings" charset="2"/>
              <a:buChar char="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74600">
              <a:spcBef>
                <a:spcPts val="3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74600">
              <a:spcBef>
                <a:spcPts val="3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9160" y="175248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tari – examenul anului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07720" y="3124080"/>
            <a:ext cx="8264520" cy="60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mbrie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 mergem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09160" y="1437840"/>
            <a:ext cx="8070840" cy="482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4040" indent="-2840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ta de leasing structu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clienti – planif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uri cu destinatie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3280" y="3886200"/>
            <a:ext cx="4465800" cy="29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64B-E1D8-477F-A152-B671297CED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 mergem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ortunitati 200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9240" indent="-2858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9240" indent="-2858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iz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9240" indent="-2858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CE7-5396-4E2E-BBE7-9A7924B005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143784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m ajungem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24360" y="2446200"/>
            <a:ext cx="3659040" cy="36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908-16F2-4ACF-AE62-8CABA41D76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 ajungem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9160" y="1438200"/>
            <a:ext cx="8263080" cy="481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nerea / Imbunatatirea calitatii portofol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ificare &amp; Cos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e2001a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arirea aparatului de colec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8BD-69F6-4483-8C57-263B6BB1E9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5880" y="1363680"/>
            <a:ext cx="34671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410-6E5A-4DF2-8B35-8047729792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5640" y="2014200"/>
            <a:ext cx="8263080" cy="4809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lvl="2" marL="1236600" indent="0">
              <a:spcBef>
                <a:spcPts val="601"/>
              </a:spcBef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spcBef>
                <a:spcPts val="601"/>
              </a:spcBef>
              <a:buClr>
                <a:srgbClr val="e2001a"/>
              </a:buClr>
              <a:buFont typeface="Wingdings" charset="2"/>
              <a:buChar char="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 st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spcBef>
                <a:spcPts val="601"/>
              </a:spcBef>
              <a:buClr>
                <a:srgbClr val="e2001a"/>
              </a:buClr>
              <a:buFont typeface="Wingdings" charset="2"/>
              <a:buChar char="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 merg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spcBef>
                <a:spcPts val="601"/>
              </a:spcBef>
              <a:buClr>
                <a:srgbClr val="e2001a"/>
              </a:buClr>
              <a:buFont typeface="Wingdings" charset="2"/>
              <a:buChar char="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 ajung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169-B7AA-4204-BE5B-E36ACEFCB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1509840"/>
            <a:ext cx="826308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m stam?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3022560"/>
            <a:ext cx="4155840" cy="27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865-BB62-4D21-B795-5EADD809E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 stam?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 &lt; 3.5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35280" y="1509840"/>
          <a:ext cx="684216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509840"/>
                    <a:ext cx="684216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8DD-9646-44B1-AEED-371CBAB46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 stam?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 &lt; 3.5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63640" y="1438200"/>
          <a:ext cx="6913800" cy="51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38200"/>
                    <a:ext cx="6913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B04-EF2C-4DD9-9DAD-C95A4F120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 stam?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 &gt; 3.5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63640" y="1438200"/>
          <a:ext cx="698508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38200"/>
                    <a:ext cx="69850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76E-1269-44B1-B9CD-7C734653C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 stam?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 &gt; 3.5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63640" y="1438200"/>
          <a:ext cx="698508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38200"/>
                    <a:ext cx="698508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4B7-B3D0-4AAD-BE6D-61F3299C80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9160" y="26460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 stam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077840"/>
            <a:ext cx="7791480" cy="537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C71-CAF4-4C42-90A8-A5520E679C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1437840"/>
            <a:ext cx="8263080" cy="8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 mergem?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2662200"/>
            <a:ext cx="47242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528-C0BD-438F-A079-433795D4B9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8:21:43Z</dcterms:created>
  <dc:creator>Carina WIESMAYR</dc:creator>
  <dc:description/>
  <dc:language>en-US</dc:language>
  <cp:lastModifiedBy>cond</cp:lastModifiedBy>
  <cp:lastPrinted>1904-01-01T00:00:00Z</cp:lastPrinted>
  <dcterms:modified xsi:type="dcterms:W3CDTF">2008-10-28T07:36:48Z</dcterms:modified>
  <cp:revision>41</cp:revision>
  <dc:subject/>
  <dc:title>Folie 1</dc:title>
</cp:coreProperties>
</file>