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732588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6732000" cy="10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3812760" y="-360"/>
            <a:ext cx="29163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Img"/>
          </p:nvPr>
        </p:nvSpPr>
        <p:spPr>
          <a:xfrm>
            <a:off x="863280" y="750960"/>
            <a:ext cx="5003640" cy="37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body"/>
          </p:nvPr>
        </p:nvSpPr>
        <p:spPr>
          <a:xfrm>
            <a:off x="673200" y="4753080"/>
            <a:ext cx="538488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ftr" idx="23"/>
          </p:nvPr>
        </p:nvSpPr>
        <p:spPr>
          <a:xfrm>
            <a:off x="-360" y="9505440"/>
            <a:ext cx="29163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 type="sldNum" idx="24"/>
          </p:nvPr>
        </p:nvSpPr>
        <p:spPr>
          <a:xfrm>
            <a:off x="3812760" y="9505440"/>
            <a:ext cx="29163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0E25-CD3F-4131-849C-677A69047E8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13120" y="9505800"/>
            <a:ext cx="2916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C951-B9FC-4557-9EC1-8CF4BFB1976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863640" y="750960"/>
            <a:ext cx="5003640" cy="37526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3200" y="4753080"/>
            <a:ext cx="538488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13120" y="9505800"/>
            <a:ext cx="2916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E787-FA56-497C-B725-F2FF2E77BAD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863640" y="750960"/>
            <a:ext cx="5003640" cy="37526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73200" y="4753080"/>
            <a:ext cx="538488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13120" y="9505800"/>
            <a:ext cx="2916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E360-5CF3-4A8B-9C09-840CDA98A9E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863640" y="750960"/>
            <a:ext cx="5003640" cy="37526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3200" y="4753080"/>
            <a:ext cx="538488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13120" y="9505800"/>
            <a:ext cx="2916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812D-1C8E-4F78-93D9-9366B1EBBCF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863640" y="750960"/>
            <a:ext cx="5003640" cy="37526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73200" y="4753080"/>
            <a:ext cx="538488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13120" y="9505800"/>
            <a:ext cx="2916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2132-C5CC-4A7F-91E3-11F7E562023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863640" y="750960"/>
            <a:ext cx="5003640" cy="37526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3200" y="4753080"/>
            <a:ext cx="538488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13120" y="9505800"/>
            <a:ext cx="2916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36C6-24C8-47BD-8728-A9A68273805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863640" y="750960"/>
            <a:ext cx="5003640" cy="37526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73200" y="4753080"/>
            <a:ext cx="538488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113388"/>
                </a:solidFill>
                <a:latin typeface="Arial"/>
              </a:rPr>
              <a:t>Pentru politele RCA (polita standard dpdv al conditiilor de asigurare), diferentele de pret sunt de la simplu la dublu/trip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113388"/>
                </a:solidFill>
                <a:latin typeface="Arial"/>
              </a:rPr>
              <a:t>Casco – PJ au o pondere de 75% in formarea veniturilor din asigurari Ca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113388"/>
                </a:solidFill>
                <a:latin typeface="Arial"/>
              </a:rPr>
              <a:t>RCA - PJ au o pondere de 57% in formarea veniturilor din asigurari 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113388"/>
                </a:solidFill>
                <a:latin typeface="Arial"/>
              </a:rPr>
              <a:t>Conform estimarilor noastre, politele auto emise pentru autovehiculele achizitionate in sitem leasing si credite bancare se ridica, anual, la 150-200 mil. Eu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113388"/>
                </a:solidFill>
                <a:latin typeface="Arial"/>
              </a:rPr>
              <a:t>Manifestaarea tendinta de extindere a duratei contractelor de leasing (cea mai mare pondere o au contractele de 4-5 ani -31% si 3-4 ani (26%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113388"/>
                </a:solidFill>
                <a:latin typeface="Arial"/>
              </a:rPr>
              <a:t>AZT a fost prima societate care a incercat sa impuna frans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113388"/>
                </a:solidFill>
                <a:latin typeface="Arial"/>
              </a:rPr>
              <a:t>Costurile de achizitie reale platite  de asiguratori (sub diverse forme) sunt foarte mari, mult mai mari decat cele evidentiate in contabili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13120" y="9505800"/>
            <a:ext cx="2916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0E80-280C-433C-808E-DDAFC8B1286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863640" y="750960"/>
            <a:ext cx="5003640" cy="37526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3200" y="4753080"/>
            <a:ext cx="538488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3388"/>
                </a:solidFill>
                <a:latin typeface="Arial"/>
              </a:rPr>
              <a:t>Frecventa daunelor RCA a crescut in intervalul 2003-2007 de la 4%, la 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3388"/>
                </a:solidFill>
                <a:latin typeface="Arial"/>
              </a:rPr>
              <a:t>Frecventa daunelor casco –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113388"/>
                </a:solidFill>
                <a:latin typeface="Arial"/>
              </a:rPr>
              <a:t>RCA - Dauna medie platita in 2007: 780 euro (mai mult decat dublu fata de 2003 – 350 eu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113388"/>
                </a:solidFill>
                <a:latin typeface="Arial"/>
              </a:rPr>
              <a:t>Casco - Dauna medie platita in 2007: 850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13120" y="9505800"/>
            <a:ext cx="2916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D082-068C-43D4-B0CD-36352A9286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863640" y="750960"/>
            <a:ext cx="5003640" cy="37526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73200" y="4753080"/>
            <a:ext cx="538488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13120" y="9505800"/>
            <a:ext cx="2916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C260-1302-4DFA-8B54-27E58604A0F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863640" y="750960"/>
            <a:ext cx="5003640" cy="37526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3200" y="4753080"/>
            <a:ext cx="538488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190C-A93A-4BF7-B48C-114D3CBD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0824B-E8AC-42F5-B186-B02C524B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177C4-2DBA-4D95-8850-C0962460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2FCB9-1718-4281-889A-9D347733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405BD1-37F5-4717-B3A8-84B502B9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23289-BD1E-4741-BBA9-ED77690A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13C00C-66B8-474D-8BFA-71ECB5D7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68B73-BBFF-4B2A-B6A4-7055F984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879958-8517-45A2-8B67-F0D0F653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0EADCE-4E50-4875-9995-AABA7C9F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D76C07-7EA7-48E8-B46A-B006E1CE7A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801435-9512-49CB-BD5D-0AB9C63F35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46DE4-F677-4EE8-AE64-A0E39E9D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9CBFF3-02FD-44DA-A650-66E24B33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831CB5-389F-49F2-A63F-CC7D676F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613C96-1955-476C-AD8D-826F69E7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ECE803-796C-4594-8466-AD2F127D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8B41D9-2025-4D91-92C5-E952C375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9E54B8-150F-4C28-8B54-045ADA31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D7D3AA-5761-4F10-88CD-427766AF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4C8E06-47E9-4222-B4C1-87BFAEB9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463571-78D4-4240-B6F3-43DD1F27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23EAF1-39E2-4231-B8A4-EE868A05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5E330-F402-42CA-A835-F3560CF1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23F165-4A36-43FC-A963-7F16A6CD3F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7B310-EDF5-453E-8C55-42094558A0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BE043-08E4-4A7F-9FDC-68ED8372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DE5AA-2974-4D63-9A35-343DC442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BB6C8-333E-4563-89D0-1BEE4A81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2BCE6-6DE9-4FAC-81D4-83B204E1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F5ECE-0EE5-4553-8E74-93B3752C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7A064-6508-4EEA-A8CF-EE427A46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DEECB-61D1-43D6-AE3A-983D271B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6B732-B128-4D44-AD6B-55081B41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1A070-8E89-4FAB-9898-7244AF5C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E44C5-0E9A-477F-9EFC-3F478FEA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D699D-DB12-4ABF-B41A-7A92A32DB7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762F9-6CCE-405F-84DC-E776F2E0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4DDD2-F050-4336-9B38-C94FF97679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055D5-F340-404B-ACC3-0CC27A5F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D9CA0-EDCB-4705-BC73-26685EF1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FBB62-A69A-4613-A8D4-1D81CDC9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2303A-D448-44EC-9B51-0ECFEB95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FE8C2-9B4E-4FBB-94F0-A77F1FA2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8B52D-1E05-4592-8497-7E846C0D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084D3-EADD-40DF-932D-04DA96BB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53324-A496-4A25-B2BC-0B296FC1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CA0D1-7B47-424C-A5D2-BE2494CB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69033-0888-4999-8C2E-DDF1B7DB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197B9-96E9-4E02-953D-62DE7818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82B86-8869-4512-9948-01BF73D1DA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1D045C-7499-4DF5-B371-5564E2837D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CB97F3-5D06-4097-9311-7B2DFD1C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C3A267-B9AE-4EEA-A166-E1BB9B2C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77D2-59D9-4DAF-9747-740E6F9E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078B15-12C0-42AD-9631-18CA264C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10F56D-56F2-4B14-8ECA-22738700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3A1BB-1C9D-4831-A68E-E46980E3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1980F6-A48D-4551-9974-011F03FE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006685-241C-464D-998D-44DD8923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884014-09D8-4241-9BAB-966D42E9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801EFE-E566-4CAB-B300-2A873F79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7B7DA2-37C4-43E0-BDE9-A677BA42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81F3BD-88E0-4063-A369-2838C92927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0B21-69CC-4C1A-B1E6-EA72616BDD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7B91-E271-46D8-86CB-B53FC696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AB78-CACA-448C-A1C4-40889FAC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60C1-B543-48F7-A5F5-EC2B9B53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03558-E0E0-4FAE-8B99-7A62A71F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5A1B-E967-49F4-AA0D-452BA857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AD63-B3CD-4ABF-996B-5A20306B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03B0-D0D4-485E-8C08-02A2D8CF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8DF5-37A0-47CD-BE99-CD4B649E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3BCD-F7AA-4070-97DA-CD2BCBF1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CE6DC-BD72-4194-8F5F-1E650049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2FD28-7CE1-4762-A27F-BD305549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B2C6-F780-4510-8A66-BAF9FD30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6A228-FF23-45F1-A533-4DC908C8CD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3794A-3773-4634-A5E1-C07B55FF3C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72E739-A68F-4B93-BE35-C045A0BF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FC8FED-9487-44AA-86FF-C1E4A78E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F64EB-5445-49D3-AAF5-6D122346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1CD85-947D-4875-9644-B83D8D8F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087F0-F0CF-49C2-9413-C6F71FF9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16DF8-68C0-48DA-B728-3B282C87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2FD37-2DAF-45ED-8F66-6BA57827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D71B2-EF25-4FB0-9C22-D090B945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628F-9E41-483D-BB8F-DD536F97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DBFC42-EB5C-4D74-A3C1-425698A3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F3CE0-93C5-4E7D-9D4E-6C889F62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1FCBE8-9E0D-4039-9616-A4DF0CD114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FE13A0-452B-4D8D-B7FF-6540C7C4BE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949259-2058-4BB3-B947-51D16546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CD2EEF-4849-49C5-A7EC-A67010CB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A5C696-9825-4F38-9811-DB48EF67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AC81F7-1A9A-426F-AE61-B2E8281E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31E0BB-9349-473D-ACDE-CFCF1911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5EC318-51F4-449D-947C-000267CD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1E95C-52B6-4FC0-AE6F-61C9F7A2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EBCC25-3B3A-4DA6-9A29-E9E8D9A8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090694-1903-491E-B8E5-B4E0B4F1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CB7E3D-B8E6-4567-8452-5D23C5C0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B4C2B1-278B-4BE4-AC02-6CC53634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555CBA-633A-4B33-AE1B-7654896AF8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7F397-7F55-4621-8ABC-53E5100720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2A189-CAE7-479A-9EF7-1F8FE2EC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DFDFB-D47C-4B47-B6AF-CB187A0B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99BFF-034A-45E1-94F9-7A054736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200C2-EFAA-4953-8169-5F5404F2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3E37-F9A6-4A55-B669-89A0CB97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EFC47-DA76-4B1E-9DF6-57E29A10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06889-2097-4964-BE09-CEB3A7A6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6BB2B-B5D7-4938-95A6-96CC1719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D84FC-9891-4E98-99FD-84113DBA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3AF94-56B7-4041-AF95-CDCDF1D9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77B81-F091-42BA-B2D9-87F54484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F5129-1E32-4335-BF9B-194CBB96E7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3C90F-A9C1-4D54-B07F-E78DF5E752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3D583-B8A3-4966-A407-870A6425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0F422A-8E0D-4C0B-9CFA-B87A8194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1" marL="343080" indent="-343080">
              <a:spcAft>
                <a:spcPts val="75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2" marL="343080" indent="-343080">
              <a:spcAft>
                <a:spcPts val="75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3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4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5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6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© Copyright Allianz-Tiriac </a:t>
            </a:r>
            <a:fld id="{C8FF6242-6D8D-4A06-9998-67FAC5C78CDF}" type="datetime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Dateiname oder weitere Angab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14F4-6E3D-411D-AA98-0C4F2DA7B172}" type="slidenum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Name der Präs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0" descr=""/>
          <p:cNvPicPr/>
          <p:nvPr/>
        </p:nvPicPr>
        <p:blipFill>
          <a:blip r:embed="rId2"/>
          <a:stretch/>
        </p:blipFill>
        <p:spPr>
          <a:xfrm>
            <a:off x="6500880" y="142920"/>
            <a:ext cx="2476440" cy="333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0" descr=""/>
          <p:cNvPicPr/>
          <p:nvPr/>
        </p:nvPicPr>
        <p:blipFill>
          <a:blip r:embed="rId2"/>
          <a:stretch/>
        </p:blipFill>
        <p:spPr>
          <a:xfrm>
            <a:off x="6500880" y="142920"/>
            <a:ext cx="2476440" cy="3333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1" marL="343080" indent="-343080">
              <a:spcAft>
                <a:spcPts val="75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2" marL="343080" indent="-343080">
              <a:spcAft>
                <a:spcPts val="75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3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4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5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6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8"/>
          </p:nvPr>
        </p:nvSpPr>
        <p:spPr>
          <a:xfrm>
            <a:off x="46836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© Copyright Allianz -Tiriac</a:t>
            </a:r>
            <a:fld id="{DD39575C-B00D-4052-AFB2-29A08E976758}" type="datetime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Branch Managers Meeting, Cluj-Napoca, Septembrie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9"/>
          </p:nvPr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D8E3-371F-4D4C-8E6F-6FC78D03577C}" type="slidenum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Name der Präs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"/>
          <p:cNvPicPr/>
          <p:nvPr/>
        </p:nvPicPr>
        <p:blipFill>
          <a:blip r:embed="rId2"/>
          <a:stretch/>
        </p:blipFill>
        <p:spPr>
          <a:xfrm>
            <a:off x="6500880" y="142920"/>
            <a:ext cx="2476440" cy="3333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1" marL="343080" indent="-343080">
              <a:spcAft>
                <a:spcPts val="75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2" marL="343080" indent="-343080">
              <a:spcAft>
                <a:spcPts val="75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3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4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5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6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0"/>
          </p:nvPr>
        </p:nvSpPr>
        <p:spPr>
          <a:xfrm>
            <a:off x="46836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© Copyright Allianz-Tiriac </a:t>
            </a:r>
            <a:fld id="{E09C9ADB-34B8-44AC-A220-A10BA8B2B6EE}" type="datetime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Branch Managers Meeting, Cluj-Napoca, Septembrie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21"/>
          </p:nvPr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2AEC-0BA7-4C61-8199-6487D9B22020}" type="slidenum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Name der Präs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Titselseite_Schatten"/>
          <p:cNvPicPr/>
          <p:nvPr/>
        </p:nvPicPr>
        <p:blipFill>
          <a:blip r:embed="rId2"/>
          <a:stretch/>
        </p:blipFill>
        <p:spPr>
          <a:xfrm>
            <a:off x="6143760" y="5519880"/>
            <a:ext cx="2765160" cy="11109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6"/>
          <p:cNvSpPr/>
          <p:nvPr/>
        </p:nvSpPr>
        <p:spPr>
          <a:xfrm>
            <a:off x="468360" y="5562720"/>
            <a:ext cx="7991280" cy="395280"/>
          </a:xfrm>
          <a:prstGeom prst="rect">
            <a:avLst/>
          </a:prstGeom>
          <a:solidFill>
            <a:srgbClr val="1133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82800" anchor="b">
            <a:noAutofit/>
          </a:bodyPr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6429240" y="5715000"/>
            <a:ext cx="221472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" descr=""/>
          <p:cNvPicPr/>
          <p:nvPr/>
        </p:nvPicPr>
        <p:blipFill>
          <a:blip r:embed="rId3"/>
          <a:stretch/>
        </p:blipFill>
        <p:spPr>
          <a:xfrm>
            <a:off x="6500880" y="5929200"/>
            <a:ext cx="2119320" cy="285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1" marL="343080" indent="-343080">
              <a:spcAft>
                <a:spcPts val="75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2" marL="343080" indent="-343080">
              <a:spcAft>
                <a:spcPts val="75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3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4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5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6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0" descr=""/>
          <p:cNvPicPr/>
          <p:nvPr/>
        </p:nvPicPr>
        <p:blipFill>
          <a:blip r:embed="rId2"/>
          <a:stretch/>
        </p:blipFill>
        <p:spPr>
          <a:xfrm>
            <a:off x="6500880" y="142920"/>
            <a:ext cx="2476440" cy="333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1" marL="343080" indent="-343080">
              <a:spcAft>
                <a:spcPts val="75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2" marL="343080" indent="-343080">
              <a:spcAft>
                <a:spcPts val="75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3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4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5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6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68000" y="6308640"/>
            <a:ext cx="28177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© Copyright Allianz-Tiriac </a:t>
            </a:r>
            <a:fld id="{1DB8DC30-FF3B-4BC2-AC07-347144AE0866}" type="datetime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Branch Managers Meeting, Cluj-Napoca, Septembrie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5"/>
          </p:nvPr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A7C7-DAC7-46DF-AA3E-6A2985F3DDE1}" type="slidenum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Name der Präs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0" descr=""/>
          <p:cNvPicPr/>
          <p:nvPr/>
        </p:nvPicPr>
        <p:blipFill>
          <a:blip r:embed="rId2"/>
          <a:stretch/>
        </p:blipFill>
        <p:spPr>
          <a:xfrm>
            <a:off x="6500880" y="142920"/>
            <a:ext cx="2476440" cy="333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1" marL="343080" indent="-343080">
              <a:spcAft>
                <a:spcPts val="75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2" marL="343080" indent="-343080">
              <a:spcAft>
                <a:spcPts val="75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3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4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5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6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6"/>
          </p:nvPr>
        </p:nvSpPr>
        <p:spPr>
          <a:xfrm>
            <a:off x="46836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© Copyright Allianz-Triac </a:t>
            </a:r>
            <a:fld id="{1D762232-F8CF-4B3D-BBD6-68938540B339}" type="datetime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Branch Managers Meeting, Cluj-Napoca, Septembrie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7"/>
          </p:nvPr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7C18-4588-49E3-B552-F934B7A77E70}" type="slidenum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Name der Präs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0" descr=""/>
          <p:cNvPicPr/>
          <p:nvPr/>
        </p:nvPicPr>
        <p:blipFill>
          <a:blip r:embed="rId2"/>
          <a:stretch/>
        </p:blipFill>
        <p:spPr>
          <a:xfrm>
            <a:off x="6500880" y="142920"/>
            <a:ext cx="2476440" cy="333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1" marL="343080" indent="-343080">
              <a:spcAft>
                <a:spcPts val="75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2" marL="343080" indent="-343080">
              <a:spcAft>
                <a:spcPts val="75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3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4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5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6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8"/>
          </p:nvPr>
        </p:nvSpPr>
        <p:spPr>
          <a:xfrm>
            <a:off x="46836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© Copyright Allianz-Tiriac </a:t>
            </a:r>
            <a:fld id="{406EE9F9-3F66-48B8-8233-F59A307D27B0}" type="datetime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Branch Managers Meeting, Cluj-Napoca, Septembrie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9"/>
          </p:nvPr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9D19-2DAA-4CB9-A1AD-5165B41DCEAC}" type="slidenum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Name der Präs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0" descr=""/>
          <p:cNvPicPr/>
          <p:nvPr/>
        </p:nvPicPr>
        <p:blipFill>
          <a:blip r:embed="rId2"/>
          <a:stretch/>
        </p:blipFill>
        <p:spPr>
          <a:xfrm>
            <a:off x="6500880" y="142920"/>
            <a:ext cx="2476440" cy="333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1" marL="343080" indent="-343080">
              <a:spcAft>
                <a:spcPts val="75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2" marL="343080" indent="-343080">
              <a:spcAft>
                <a:spcPts val="75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3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4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5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6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6836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© Copyright Allianz-Tiriac </a:t>
            </a:r>
            <a:fld id="{A7802421-029A-42AD-980C-2CF3D6A52D2A}" type="datetime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Branch Managers Meeting, Cluj-Napoca, Septembrie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1"/>
          </p:nvPr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D528-4395-4686-9040-9FD76F88A989}" type="slidenum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Name der Präs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0" descr=""/>
          <p:cNvPicPr/>
          <p:nvPr/>
        </p:nvPicPr>
        <p:blipFill>
          <a:blip r:embed="rId2"/>
          <a:stretch/>
        </p:blipFill>
        <p:spPr>
          <a:xfrm>
            <a:off x="6500880" y="142920"/>
            <a:ext cx="2476440" cy="3333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1" marL="343080" indent="-343080">
              <a:spcAft>
                <a:spcPts val="75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2" marL="343080" indent="-343080">
              <a:spcAft>
                <a:spcPts val="75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3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4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5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6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2"/>
          </p:nvPr>
        </p:nvSpPr>
        <p:spPr>
          <a:xfrm>
            <a:off x="46836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© Copyright Allianz-Tiriac </a:t>
            </a:r>
            <a:fld id="{0848E19B-F717-478E-A54B-B27DE60A8FB3}" type="datetime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Branch Managers Meeting, Cluj-Napoca, Septembrie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3"/>
          </p:nvPr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DFC8-3FF0-4E0D-B7FA-553767D3095B}" type="slidenum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Name der Präs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0" descr=""/>
          <p:cNvPicPr/>
          <p:nvPr/>
        </p:nvPicPr>
        <p:blipFill>
          <a:blip r:embed="rId2"/>
          <a:stretch/>
        </p:blipFill>
        <p:spPr>
          <a:xfrm>
            <a:off x="6500880" y="142920"/>
            <a:ext cx="2476440" cy="3333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1" marL="343080" indent="-343080">
              <a:spcAft>
                <a:spcPts val="75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2" marL="343080" indent="-343080">
              <a:spcAft>
                <a:spcPts val="75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3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4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5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6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4"/>
          </p:nvPr>
        </p:nvSpPr>
        <p:spPr>
          <a:xfrm>
            <a:off x="46836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© Copyright Allianz-Tiriac </a:t>
            </a:r>
            <a:fld id="{239A5A4E-8E99-4870-906C-1AB740C9E62B}" type="datetime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Branch Managers Meeting, Cluj-Napoca, Septembrie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5"/>
          </p:nvPr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68B1-1B97-483C-965D-D540E07580D6}" type="slidenum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Name der Präs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0" descr=""/>
          <p:cNvPicPr/>
          <p:nvPr/>
        </p:nvPicPr>
        <p:blipFill>
          <a:blip r:embed="rId2"/>
          <a:stretch/>
        </p:blipFill>
        <p:spPr>
          <a:xfrm>
            <a:off x="6500880" y="142920"/>
            <a:ext cx="2476440" cy="3333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1" marL="343080" indent="-343080">
              <a:spcAft>
                <a:spcPts val="75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2" marL="343080" indent="-343080">
              <a:spcAft>
                <a:spcPts val="75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3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4"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5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6"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6836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© Copyright Allianz -Tiriac</a:t>
            </a:r>
            <a:fld id="{68D46664-EB96-4951-9E2E-8B9BF0497B0F}" type="datetime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Branch Managers Meeting, Cluj-Napoca, Septembrie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17"/>
          </p:nvPr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65DE-D804-4194-A518-3E31D9133236}" type="slidenum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Name der Präs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7991280" cy="1571400"/>
          </a:xfrm>
          <a:prstGeom prst="rect">
            <a:avLst/>
          </a:prstGeom>
          <a:solidFill>
            <a:srgbClr val="113388"/>
          </a:solidFill>
          <a:ln w="0">
            <a:noFill/>
          </a:ln>
        </p:spPr>
        <p:txBody>
          <a:bodyPr lIns="198000" rIns="90000" tIns="46800" bIns="82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Arial"/>
              </a:rPr>
              <a:t>Piaţa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igur</a:t>
            </a:r>
            <a:r>
              <a:rPr b="0" lang="ro-RO" sz="4800" spc="-1" strike="noStrike">
                <a:solidFill>
                  <a:srgbClr val="ffffff"/>
                </a:solidFill>
                <a:latin typeface="Arial"/>
              </a:rPr>
              <a:t>ărilor auto – </a:t>
            </a:r>
            <a:br>
              <a:rPr sz="4800"/>
            </a:br>
            <a:r>
              <a:rPr b="0" lang="ro-RO" sz="4800" spc="-1" strike="noStrike">
                <a:solidFill>
                  <a:srgbClr val="ffffff"/>
                </a:solidFill>
                <a:latin typeface="Arial"/>
              </a:rPr>
              <a:t>în căutarea echilibrelor</a:t>
            </a:r>
            <a:endParaRPr b="0" lang="en-US" sz="48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68360" y="4928760"/>
            <a:ext cx="7991280" cy="785880"/>
          </a:xfrm>
          <a:prstGeom prst="rect">
            <a:avLst/>
          </a:prstGeom>
          <a:solidFill>
            <a:srgbClr val="113388"/>
          </a:solidFill>
          <a:ln w="0">
            <a:noFill/>
          </a:ln>
        </p:spPr>
        <p:txBody>
          <a:bodyPr lIns="198000" rIns="90000" tIns="46800" bIns="1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3388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3388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3388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ristian Constantinescu</a:t>
            </a:r>
            <a:endParaRPr b="0" lang="en-US" sz="2400" spc="-1" strike="noStrike">
              <a:solidFill>
                <a:srgbClr val="113388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28 octombrie 2008</a:t>
            </a:r>
            <a:endParaRPr b="0" lang="en-US" sz="18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0" y="1844640"/>
            <a:ext cx="4248000" cy="408456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77840" indent="-177840">
              <a:lnSpc>
                <a:spcPct val="105000"/>
              </a:lnSpc>
              <a:spcBef>
                <a:spcPts val="1199"/>
              </a:spcBef>
              <a:buClr>
                <a:srgbClr val="c6c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Date Placeholder 3"/>
          <p:cNvSpPr/>
          <p:nvPr/>
        </p:nvSpPr>
        <p:spPr>
          <a:xfrm>
            <a:off x="468360" y="6308640"/>
            <a:ext cx="2817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Arial"/>
              </a:rPr>
              <a:t>© Copyright Allianz-Tiriac </a:t>
            </a:r>
            <a:fld id="{6162B58F-EC32-4DD0-AF2A-BE0E26A54C39}" type="datetime">
              <a:rPr b="0" lang="en-US" sz="800" spc="-1" strike="noStrike">
                <a:solidFill>
                  <a:srgbClr val="113388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4"/>
          <p:cNvSpPr/>
          <p:nvPr/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7167A93B-B767-45E0-9686-4FC6D9D233FF}" type="slidenum">
              <a:rPr b="0" lang="en-US" sz="800" spc="-1" strike="noStrike">
                <a:solidFill>
                  <a:srgbClr val="11338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800" spc="-1" strike="noStrike">
                <a:solidFill>
                  <a:srgbClr val="113388"/>
                </a:solidFill>
                <a:latin typeface="Arial"/>
              </a:rPr>
              <a:t>Piaţa asigurărilor au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800" spc="-1" strike="noStrike">
                <a:solidFill>
                  <a:srgbClr val="113388"/>
                </a:solidFill>
                <a:latin typeface="Arial"/>
              </a:rPr>
              <a:t>în căutarea echilibrel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000" y="42840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2200" spc="-1" strike="noStrike">
                <a:solidFill>
                  <a:srgbClr val="113388"/>
                </a:solidFill>
                <a:latin typeface="Arial"/>
              </a:rPr>
              <a:t>Segmentul auto d</a:t>
            </a: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icteaz</a:t>
            </a:r>
            <a:r>
              <a:rPr b="0" lang="ro-RO" sz="2200" spc="-1" strike="noStrike">
                <a:solidFill>
                  <a:srgbClr val="113388"/>
                </a:solidFill>
                <a:latin typeface="Arial"/>
              </a:rPr>
              <a:t>ă evoluţiile pieţei asigurărilor din România</a:t>
            </a: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 (I)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71600" y="1347840"/>
            <a:ext cx="4100400" cy="458136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77840" indent="-177840">
              <a:lnSpc>
                <a:spcPct val="105000"/>
              </a:lnSpc>
              <a:spcBef>
                <a:spcPts val="1199"/>
              </a:spcBef>
              <a:buClr>
                <a:srgbClr val="c6c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534960" y="1916280"/>
            <a:ext cx="40370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le anuale din prime de asigurări auto au depăşi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iliard de euro (1,234 mld. euro în 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9"/>
          <p:cNvSpPr/>
          <p:nvPr/>
        </p:nvSpPr>
        <p:spPr>
          <a:xfrm>
            <a:off x="500040" y="5997600"/>
            <a:ext cx="8286840" cy="36036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113388"/>
                </a:solidFill>
                <a:latin typeface="Arial"/>
              </a:rPr>
              <a:t>Dimensiunile </a:t>
            </a:r>
            <a:r>
              <a:rPr b="0" lang="ro-RO" sz="1700" spc="-1" strike="noStrike">
                <a:solidFill>
                  <a:srgbClr val="113388"/>
                </a:solidFill>
                <a:latin typeface="Arial"/>
              </a:rPr>
              <a:t>ş</a:t>
            </a:r>
            <a:r>
              <a:rPr b="0" lang="en-US" sz="1700" spc="-1" strike="noStrike">
                <a:solidFill>
                  <a:srgbClr val="113388"/>
                </a:solidFill>
                <a:latin typeface="Arial"/>
              </a:rPr>
              <a:t>i rezultatele pie</a:t>
            </a:r>
            <a:r>
              <a:rPr b="0" lang="ro-RO" sz="1700" spc="-1" strike="noStrike">
                <a:solidFill>
                  <a:srgbClr val="113388"/>
                </a:solidFill>
                <a:latin typeface="Arial"/>
              </a:rPr>
              <a:t>ţ</a:t>
            </a:r>
            <a:r>
              <a:rPr b="0" lang="en-US" sz="1700" spc="-1" strike="noStrike">
                <a:solidFill>
                  <a:srgbClr val="113388"/>
                </a:solidFill>
                <a:latin typeface="Arial"/>
              </a:rPr>
              <a:t>ei de asigur</a:t>
            </a:r>
            <a:r>
              <a:rPr b="0" lang="ro-RO" sz="1700" spc="-1" strike="noStrike">
                <a:solidFill>
                  <a:srgbClr val="113388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113388"/>
                </a:solidFill>
                <a:latin typeface="Arial"/>
              </a:rPr>
              <a:t>ri sunt determinate de activit</a:t>
            </a:r>
            <a:r>
              <a:rPr b="0" lang="ro-RO" sz="1700" spc="-1" strike="noStrike">
                <a:solidFill>
                  <a:srgbClr val="113388"/>
                </a:solidFill>
                <a:latin typeface="Arial"/>
              </a:rPr>
              <a:t>ăţ</a:t>
            </a:r>
            <a:r>
              <a:rPr b="0" lang="en-US" sz="1700" spc="-1" strike="noStrike">
                <a:solidFill>
                  <a:srgbClr val="113388"/>
                </a:solidFill>
                <a:latin typeface="Arial"/>
              </a:rPr>
              <a:t>ile aut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20"/>
          <p:cNvSpPr/>
          <p:nvPr/>
        </p:nvSpPr>
        <p:spPr>
          <a:xfrm rot="5400000">
            <a:off x="396000" y="6069600"/>
            <a:ext cx="360360" cy="216000"/>
          </a:xfrm>
          <a:prstGeom prst="triangle">
            <a:avLst>
              <a:gd name="adj" fmla="val 50000"/>
            </a:avLst>
          </a:prstGeom>
          <a:solidFill>
            <a:srgbClr val="11338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539640" y="2840040"/>
            <a:ext cx="40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113388"/>
                </a:solidFill>
                <a:latin typeface="Arial"/>
              </a:rPr>
              <a:t>Pondere asigurări auto în total venituri din activitatea de asigurări gene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471600" y="1484280"/>
            <a:ext cx="4100400" cy="360360"/>
          </a:xfrm>
          <a:prstGeom prst="rect">
            <a:avLst/>
          </a:prstGeom>
          <a:solidFill>
            <a:srgbClr val="11338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054240"/>
                <a:tab algn="r" pos="646416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Arial"/>
              </a:rPr>
              <a:t>2/3 din primele de asigurări gener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Chart 21" descr=""/>
          <p:cNvPicPr/>
          <p:nvPr/>
        </p:nvPicPr>
        <p:blipFill>
          <a:blip r:embed="rId1"/>
          <a:stretch/>
        </p:blipFill>
        <p:spPr>
          <a:xfrm>
            <a:off x="609480" y="3425760"/>
            <a:ext cx="3956040" cy="251136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9"/>
          <p:cNvSpPr/>
          <p:nvPr/>
        </p:nvSpPr>
        <p:spPr>
          <a:xfrm>
            <a:off x="971640" y="3419640"/>
            <a:ext cx="35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66.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2"/>
          <p:cNvSpPr/>
          <p:nvPr/>
        </p:nvSpPr>
        <p:spPr>
          <a:xfrm>
            <a:off x="1692360" y="3419640"/>
            <a:ext cx="35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66.8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3"/>
          <p:cNvSpPr/>
          <p:nvPr/>
        </p:nvSpPr>
        <p:spPr>
          <a:xfrm>
            <a:off x="2411280" y="3419640"/>
            <a:ext cx="42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4"/>
          <p:cNvSpPr/>
          <p:nvPr/>
        </p:nvSpPr>
        <p:spPr>
          <a:xfrm>
            <a:off x="3132000" y="3419640"/>
            <a:ext cx="42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67.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5"/>
          <p:cNvSpPr/>
          <p:nvPr/>
        </p:nvSpPr>
        <p:spPr>
          <a:xfrm>
            <a:off x="3851280" y="3409920"/>
            <a:ext cx="35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71.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4500720" y="1476360"/>
            <a:ext cx="4319280" cy="360360"/>
          </a:xfrm>
          <a:prstGeom prst="rect">
            <a:avLst/>
          </a:prstGeom>
          <a:solidFill>
            <a:srgbClr val="1133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054240"/>
                <a:tab algn="r" pos="646416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este 80%</a:t>
            </a:r>
            <a:r>
              <a:rPr b="0" lang="ro-RO" sz="1700" spc="-1" strike="noStrike">
                <a:solidFill>
                  <a:srgbClr val="ffffff"/>
                </a:solidFill>
                <a:latin typeface="Arial"/>
              </a:rPr>
              <a:t> din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ndemniza</a:t>
            </a:r>
            <a:r>
              <a:rPr b="0" lang="ro-RO" sz="17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ile pl</a:t>
            </a:r>
            <a:r>
              <a:rPr b="0" lang="ro-RO" sz="17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i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4641840" y="1917720"/>
            <a:ext cx="4178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marL="177840" indent="-177840">
              <a:spcAft>
                <a:spcPts val="499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n 2008, daunele plătite pentru poliţele de asigurări auto vor depăşi un miliard de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Chart 20" descr=""/>
          <p:cNvPicPr/>
          <p:nvPr/>
        </p:nvPicPr>
        <p:blipFill>
          <a:blip r:embed="rId2"/>
          <a:stretch/>
        </p:blipFill>
        <p:spPr>
          <a:xfrm>
            <a:off x="4572000" y="3438360"/>
            <a:ext cx="4170240" cy="251172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9"/>
          <p:cNvSpPr/>
          <p:nvPr/>
        </p:nvSpPr>
        <p:spPr>
          <a:xfrm>
            <a:off x="4857840" y="3419640"/>
            <a:ext cx="43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87.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2"/>
          <p:cNvSpPr/>
          <p:nvPr/>
        </p:nvSpPr>
        <p:spPr>
          <a:xfrm>
            <a:off x="5727600" y="3419640"/>
            <a:ext cx="35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3"/>
          <p:cNvSpPr/>
          <p:nvPr/>
        </p:nvSpPr>
        <p:spPr>
          <a:xfrm>
            <a:off x="6448320" y="3419640"/>
            <a:ext cx="42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4"/>
          <p:cNvSpPr/>
          <p:nvPr/>
        </p:nvSpPr>
        <p:spPr>
          <a:xfrm>
            <a:off x="7238880" y="3419640"/>
            <a:ext cx="42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81.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5"/>
          <p:cNvSpPr/>
          <p:nvPr/>
        </p:nvSpPr>
        <p:spPr>
          <a:xfrm>
            <a:off x="8028000" y="3419640"/>
            <a:ext cx="35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81.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4643280" y="2840040"/>
            <a:ext cx="41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113388"/>
                </a:solidFill>
                <a:latin typeface="Arial"/>
              </a:rPr>
              <a:t>Pondere despăgubiri auto în total indemnizaţii de asigurări gene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488880" y="1197000"/>
            <a:ext cx="8328240" cy="360360"/>
          </a:xfrm>
          <a:prstGeom prst="rect">
            <a:avLst/>
          </a:prstGeom>
          <a:solidFill>
            <a:srgbClr val="1133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054240"/>
                <a:tab algn="r" pos="646416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oli</a:t>
            </a:r>
            <a:r>
              <a:rPr b="0" lang="ro-RO" sz="17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le auto genereaz</a:t>
            </a:r>
            <a:r>
              <a:rPr b="0" lang="ro-RO" sz="17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4572000" y="1347840"/>
            <a:ext cx="4248000" cy="458136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77840" indent="-177840">
              <a:lnSpc>
                <a:spcPct val="105000"/>
              </a:lnSpc>
              <a:spcBef>
                <a:spcPts val="1199"/>
              </a:spcBef>
              <a:buClr>
                <a:srgbClr val="c6c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68360" y="6308640"/>
            <a:ext cx="2817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Arial"/>
              </a:rPr>
              <a:t>© Copyright Allianz-Tiriac </a:t>
            </a:r>
            <a:fld id="{CC89DCA7-B534-464E-8C9E-AFDBF0CB34E8}" type="datetime">
              <a:rPr b="0" lang="en-US" sz="800" spc="-1" strike="noStrike">
                <a:solidFill>
                  <a:srgbClr val="113388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4"/>
          <p:cNvSpPr/>
          <p:nvPr/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179677C6-32C9-4DDA-9292-D739A50A16F8}" type="slidenum">
              <a:rPr b="0" lang="en-US" sz="800" spc="-1" strike="noStrike">
                <a:solidFill>
                  <a:srgbClr val="11338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800" spc="-1" strike="noStrike">
                <a:solidFill>
                  <a:srgbClr val="113388"/>
                </a:solidFill>
                <a:latin typeface="Arial"/>
              </a:rPr>
              <a:t>Piaţa asigurărilor au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800" spc="-1" strike="noStrike">
                <a:solidFill>
                  <a:srgbClr val="113388"/>
                </a:solidFill>
                <a:latin typeface="Arial"/>
              </a:rPr>
              <a:t>în căutarea echilibrel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000" y="42840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2200" spc="-1" strike="noStrike">
                <a:solidFill>
                  <a:srgbClr val="113388"/>
                </a:solidFill>
                <a:latin typeface="Arial"/>
              </a:rPr>
              <a:t>Segmentul auto dictează evoluţiile pieţei asigurărilor din România</a:t>
            </a: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 (II)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71600" y="1347840"/>
            <a:ext cx="4100400" cy="458136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77840" indent="-177840">
              <a:lnSpc>
                <a:spcPct val="105000"/>
              </a:lnSpc>
              <a:spcBef>
                <a:spcPts val="1199"/>
              </a:spcBef>
              <a:buClr>
                <a:srgbClr val="c6c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534960" y="1628640"/>
            <a:ext cx="4037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marL="177840" indent="-177840">
              <a:spcAft>
                <a:spcPts val="788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Veniturile din prime de asigurăr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 au inregistrat o c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ştere medie anual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spcAft>
                <a:spcPts val="788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sigurări Casco: +3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spcAft>
                <a:spcPts val="788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sigurări RCA: +3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9"/>
          <p:cNvSpPr/>
          <p:nvPr/>
        </p:nvSpPr>
        <p:spPr>
          <a:xfrm>
            <a:off x="500040" y="5997600"/>
            <a:ext cx="8286840" cy="36036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113388"/>
                </a:solidFill>
                <a:latin typeface="Arial"/>
              </a:rPr>
              <a:t>Cheltuielile cu plata daunelor cresc mai accelerat dec</a:t>
            </a:r>
            <a:r>
              <a:rPr b="0" lang="ro-RO" sz="1800" spc="-1" strike="noStrike">
                <a:solidFill>
                  <a:srgbClr val="113388"/>
                </a:solidFill>
                <a:latin typeface="Arial"/>
              </a:rPr>
              <a:t>â</a:t>
            </a:r>
            <a:r>
              <a:rPr b="0" lang="en-US" sz="1800" spc="-1" strike="noStrike">
                <a:solidFill>
                  <a:srgbClr val="113388"/>
                </a:solidFill>
                <a:latin typeface="Arial"/>
              </a:rPr>
              <a:t>t venitur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0"/>
          <p:cNvSpPr/>
          <p:nvPr/>
        </p:nvSpPr>
        <p:spPr>
          <a:xfrm rot="5400000">
            <a:off x="396000" y="6069600"/>
            <a:ext cx="360360" cy="216000"/>
          </a:xfrm>
          <a:prstGeom prst="triangle">
            <a:avLst>
              <a:gd name="adj" fmla="val 50000"/>
            </a:avLst>
          </a:prstGeom>
          <a:solidFill>
            <a:srgbClr val="11338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539640" y="2781360"/>
            <a:ext cx="40323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3388"/>
                </a:solidFill>
                <a:latin typeface="Arial"/>
              </a:rPr>
              <a:t>Venituri din prime brute subscrise din activitatea de asigur</a:t>
            </a:r>
            <a:r>
              <a:rPr b="0" lang="ro-RO" sz="1400" spc="-1" strike="noStrike">
                <a:solidFill>
                  <a:srgbClr val="113388"/>
                </a:solidFill>
                <a:latin typeface="Arial"/>
              </a:rPr>
              <a:t>ă</a:t>
            </a:r>
            <a:r>
              <a:rPr b="0" lang="en-US" sz="1400" spc="-1" strike="noStrike">
                <a:solidFill>
                  <a:srgbClr val="113388"/>
                </a:solidFill>
                <a:latin typeface="Arial"/>
              </a:rPr>
              <a:t>ri auto (Casco si R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13388"/>
                </a:solidFill>
                <a:latin typeface="Arial"/>
              </a:rPr>
              <a:t>Mil. e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471600" y="1133640"/>
            <a:ext cx="4100400" cy="360360"/>
          </a:xfrm>
          <a:prstGeom prst="rect">
            <a:avLst/>
          </a:prstGeom>
          <a:solidFill>
            <a:srgbClr val="11338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054240"/>
                <a:tab algn="r" pos="646416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Ritm ridicat de cre</a:t>
            </a:r>
            <a:r>
              <a:rPr b="0" lang="ro-RO" sz="17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ere a primel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4575240" y="1125360"/>
            <a:ext cx="4244760" cy="360720"/>
          </a:xfrm>
          <a:prstGeom prst="rect">
            <a:avLst/>
          </a:prstGeom>
          <a:solidFill>
            <a:srgbClr val="11338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054240"/>
                <a:tab algn="r" pos="646416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o-RO" sz="17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 a daunelor pl</a:t>
            </a:r>
            <a:r>
              <a:rPr b="0" lang="ro-RO" sz="17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i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4641840" y="1628640"/>
            <a:ext cx="4178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marL="177840" indent="-177840">
              <a:spcAft>
                <a:spcPts val="499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oarea daunelor pl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anu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-au majorat,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medie, cu 41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ultimii 4 a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spcAft>
                <a:spcPts val="499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sigurări Casco: 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spcAft>
                <a:spcPts val="499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sigurări RCA: 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643280" y="2781360"/>
            <a:ext cx="40323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3388"/>
                </a:solidFill>
                <a:latin typeface="Arial"/>
              </a:rPr>
              <a:t>Indemnizatii brute platite in contul politelor de</a:t>
            </a:r>
            <a:r>
              <a:rPr b="0" lang="ro-RO" sz="1400" spc="-1" strike="noStrike">
                <a:solidFill>
                  <a:srgbClr val="113388"/>
                </a:solidFill>
                <a:latin typeface="Arial"/>
              </a:rPr>
              <a:t> asigurări </a:t>
            </a:r>
            <a:r>
              <a:rPr b="0" lang="en-US" sz="1400" spc="-1" strike="noStrike">
                <a:solidFill>
                  <a:srgbClr val="113388"/>
                </a:solidFill>
                <a:latin typeface="Arial"/>
              </a:rPr>
              <a:t>auto (Casco si R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13388"/>
                </a:solidFill>
                <a:latin typeface="Arial"/>
              </a:rPr>
              <a:t>Mil. e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Object 28"/>
          <p:cNvGraphicFramePr/>
          <p:nvPr/>
        </p:nvGraphicFramePr>
        <p:xfrm>
          <a:off x="611280" y="3716280"/>
          <a:ext cx="3816360" cy="22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6280"/>
                    <a:ext cx="381636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Freeform 12"/>
          <p:cNvSpPr/>
          <p:nvPr/>
        </p:nvSpPr>
        <p:spPr>
          <a:xfrm>
            <a:off x="1042920" y="3571920"/>
            <a:ext cx="2881440" cy="1081080"/>
          </a:xfrm>
          <a:prstGeom prst="pie">
            <a:avLst/>
          </a:prstGeom>
          <a:noFill/>
          <a:ln w="6480">
            <a:solidFill>
              <a:srgbClr val="1133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3"/>
          <p:cNvSpPr/>
          <p:nvPr/>
        </p:nvSpPr>
        <p:spPr>
          <a:xfrm>
            <a:off x="2173320" y="3357720"/>
            <a:ext cx="743040" cy="520200"/>
          </a:xfrm>
          <a:prstGeom prst="rect">
            <a:avLst/>
          </a:prstGeom>
          <a:solidFill>
            <a:srgbClr val="d8d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13388"/>
                </a:solidFill>
                <a:latin typeface="Arial"/>
              </a:rPr>
              <a:t>CMA</a:t>
            </a:r>
            <a:br>
              <a:rPr sz="1400"/>
            </a:br>
            <a:r>
              <a:rPr b="0" lang="de-DE" sz="1400" spc="-1" strike="noStrike">
                <a:solidFill>
                  <a:srgbClr val="113388"/>
                </a:solidFill>
                <a:latin typeface="Arial"/>
              </a:rPr>
              <a:t>+3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898560" y="486900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1546200" y="471636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2266920" y="450072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2987640" y="421308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9"/>
          <p:cNvSpPr/>
          <p:nvPr/>
        </p:nvSpPr>
        <p:spPr>
          <a:xfrm>
            <a:off x="3706920" y="3851280"/>
            <a:ext cx="43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Object 36"/>
          <p:cNvGraphicFramePr/>
          <p:nvPr/>
        </p:nvGraphicFramePr>
        <p:xfrm>
          <a:off x="4859280" y="3284640"/>
          <a:ext cx="3719520" cy="2665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11" name="Object 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284640"/>
                    <a:ext cx="37195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Freeform 12"/>
          <p:cNvSpPr/>
          <p:nvPr/>
        </p:nvSpPr>
        <p:spPr>
          <a:xfrm>
            <a:off x="5291280" y="3573360"/>
            <a:ext cx="2881080" cy="792360"/>
          </a:xfrm>
          <a:prstGeom prst="pie">
            <a:avLst/>
          </a:prstGeom>
          <a:noFill/>
          <a:ln w="6480">
            <a:solidFill>
              <a:srgbClr val="1133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3"/>
          <p:cNvSpPr/>
          <p:nvPr/>
        </p:nvSpPr>
        <p:spPr>
          <a:xfrm>
            <a:off x="6227640" y="3343320"/>
            <a:ext cx="743040" cy="520200"/>
          </a:xfrm>
          <a:prstGeom prst="rect">
            <a:avLst/>
          </a:prstGeom>
          <a:solidFill>
            <a:srgbClr val="d8d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13388"/>
                </a:solidFill>
                <a:latin typeface="Arial"/>
              </a:rPr>
              <a:t>CMA</a:t>
            </a:r>
            <a:br>
              <a:rPr sz="1400"/>
            </a:br>
            <a:r>
              <a:rPr b="0" lang="de-DE" sz="1400" spc="-1" strike="noStrike">
                <a:solidFill>
                  <a:srgbClr val="113388"/>
                </a:solidFill>
                <a:latin typeface="Arial"/>
              </a:rPr>
              <a:t>+4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5076720" y="486108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5796000" y="4724280"/>
            <a:ext cx="43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9"/>
          <p:cNvSpPr/>
          <p:nvPr/>
        </p:nvSpPr>
        <p:spPr>
          <a:xfrm>
            <a:off x="6443640" y="450072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7164360" y="407664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7954920" y="371628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4503600" y="1341360"/>
            <a:ext cx="4316400" cy="458172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77840" indent="-177840">
              <a:lnSpc>
                <a:spcPct val="105000"/>
              </a:lnSpc>
              <a:spcBef>
                <a:spcPts val="1199"/>
              </a:spcBef>
              <a:buClr>
                <a:srgbClr val="c6c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Date Placeholder 3"/>
          <p:cNvSpPr/>
          <p:nvPr/>
        </p:nvSpPr>
        <p:spPr>
          <a:xfrm>
            <a:off x="468360" y="6308640"/>
            <a:ext cx="2817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Arial"/>
              </a:rPr>
              <a:t>© Copyright Allianz-Tiriac </a:t>
            </a:r>
            <a:fld id="{793BBDFE-8332-4C98-89BC-6CDB821D5484}" type="datetime">
              <a:rPr b="0" lang="en-US" sz="800" spc="-1" strike="noStrike">
                <a:solidFill>
                  <a:srgbClr val="113388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BD4DACE9-DB74-48FC-94F1-1BE56B31C02B}" type="slidenum">
              <a:rPr b="0" lang="en-US" sz="800" spc="-1" strike="noStrike">
                <a:solidFill>
                  <a:srgbClr val="11338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800" spc="-1" strike="noStrike">
                <a:solidFill>
                  <a:srgbClr val="113388"/>
                </a:solidFill>
                <a:latin typeface="Arial"/>
              </a:rPr>
              <a:t>Piaţa asigurărilor au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800" spc="-1" strike="noStrike">
                <a:solidFill>
                  <a:srgbClr val="113388"/>
                </a:solidFill>
                <a:latin typeface="Arial"/>
              </a:rPr>
              <a:t>în căutarea echilibrel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8000" y="42840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Segmentul auto d</a:t>
            </a:r>
            <a:r>
              <a:rPr b="0" lang="ro-RO" sz="2200" spc="-1" strike="noStrike">
                <a:solidFill>
                  <a:srgbClr val="113388"/>
                </a:solidFill>
                <a:latin typeface="Arial"/>
              </a:rPr>
              <a:t>ictează</a:t>
            </a: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113388"/>
                </a:solidFill>
                <a:latin typeface="Arial"/>
              </a:rPr>
              <a:t>evoluţiile pieţei asigurărilor din România</a:t>
            </a: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 (III)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471600" y="1347840"/>
            <a:ext cx="4316400" cy="458136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77840" indent="-177840">
              <a:lnSpc>
                <a:spcPct val="105000"/>
              </a:lnSpc>
              <a:spcBef>
                <a:spcPts val="1199"/>
              </a:spcBef>
              <a:buClr>
                <a:srgbClr val="c6c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534960" y="1662120"/>
            <a:ext cx="42530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zultatele oper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nale din activitatea de asigur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 s-au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r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progres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2007, peste 3/4 dintre operatori (25 din 33) au eviden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at un rezultat tehnic negativ din activitatea de asigur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 gene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igur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le Casco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RCA – principalele surse generatoare de pierd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ualele rezultate tehnice pozitiv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registrate de clasele de asigur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 profitabil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rezultatele invest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nale nu au reu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s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penseze pierderile tehnice generate de asigur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le a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erderile sectoriale s-au accentuat: rezultat net agregat de -19 mil. euro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2006, respectiv -76 mil. euro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9"/>
          <p:cNvSpPr/>
          <p:nvPr/>
        </p:nvSpPr>
        <p:spPr>
          <a:xfrm>
            <a:off x="500040" y="5997600"/>
            <a:ext cx="8286840" cy="36036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113388"/>
                </a:solidFill>
                <a:latin typeface="Arial"/>
              </a:rPr>
              <a:t>Administrarea poli</a:t>
            </a:r>
            <a:r>
              <a:rPr b="0" lang="ro-RO" sz="1700" spc="-1" strike="noStrike">
                <a:solidFill>
                  <a:srgbClr val="113388"/>
                </a:solidFill>
                <a:latin typeface="Arial"/>
              </a:rPr>
              <a:t>ţ</a:t>
            </a:r>
            <a:r>
              <a:rPr b="0" lang="en-US" sz="1700" spc="-1" strike="noStrike">
                <a:solidFill>
                  <a:srgbClr val="113388"/>
                </a:solidFill>
                <a:latin typeface="Arial"/>
              </a:rPr>
              <a:t>elor</a:t>
            </a:r>
            <a:r>
              <a:rPr b="0" lang="ro-RO" sz="1700" spc="-1" strike="noStrike">
                <a:solidFill>
                  <a:srgbClr val="113388"/>
                </a:solidFill>
                <a:latin typeface="Arial"/>
              </a:rPr>
              <a:t> auto </a:t>
            </a:r>
            <a:r>
              <a:rPr b="0" lang="en-US" sz="1700" spc="-1" strike="noStrike">
                <a:solidFill>
                  <a:srgbClr val="113388"/>
                </a:solidFill>
                <a:latin typeface="Arial"/>
              </a:rPr>
              <a:t>transform</a:t>
            </a:r>
            <a:r>
              <a:rPr b="0" lang="ro-RO" sz="1700" spc="-1" strike="noStrike">
                <a:solidFill>
                  <a:srgbClr val="113388"/>
                </a:solidFill>
                <a:latin typeface="Arial"/>
              </a:rPr>
              <a:t>ă asigurăril</a:t>
            </a:r>
            <a:r>
              <a:rPr b="0" lang="en-US" sz="1700" spc="-1" strike="noStrike">
                <a:solidFill>
                  <a:srgbClr val="113388"/>
                </a:solidFill>
                <a:latin typeface="Arial"/>
              </a:rPr>
              <a:t>e </a:t>
            </a:r>
            <a:r>
              <a:rPr b="0" lang="ro-RO" sz="1700" spc="-1" strike="noStrike">
                <a:solidFill>
                  <a:srgbClr val="113388"/>
                </a:solidFill>
                <a:latin typeface="Arial"/>
              </a:rPr>
              <a:t>î</a:t>
            </a:r>
            <a:r>
              <a:rPr b="0" lang="en-US" sz="1700" spc="-1" strike="noStrike">
                <a:solidFill>
                  <a:srgbClr val="113388"/>
                </a:solidFill>
                <a:latin typeface="Arial"/>
              </a:rPr>
              <a:t>ntr-o industrie neperformant</a:t>
            </a:r>
            <a:r>
              <a:rPr b="0" lang="ro-RO" sz="1700" spc="-1" strike="noStrike">
                <a:solidFill>
                  <a:srgbClr val="113388"/>
                </a:solidFill>
                <a:latin typeface="Arial"/>
              </a:rPr>
              <a:t>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0"/>
          <p:cNvSpPr/>
          <p:nvPr/>
        </p:nvSpPr>
        <p:spPr>
          <a:xfrm rot="5400000">
            <a:off x="396000" y="6069600"/>
            <a:ext cx="360360" cy="216000"/>
          </a:xfrm>
          <a:prstGeom prst="triangle">
            <a:avLst>
              <a:gd name="adj" fmla="val 50000"/>
            </a:avLst>
          </a:prstGeom>
          <a:solidFill>
            <a:srgbClr val="11338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471600" y="1133640"/>
            <a:ext cx="8348400" cy="360360"/>
          </a:xfrm>
          <a:prstGeom prst="rect">
            <a:avLst/>
          </a:prstGeom>
          <a:solidFill>
            <a:srgbClr val="11338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054240"/>
                <a:tab algn="r" pos="646416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pera</a:t>
            </a:r>
            <a:r>
              <a:rPr b="0" lang="ro-RO" sz="17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unile auto genereaz</a:t>
            </a:r>
            <a:r>
              <a:rPr b="0" lang="ro-RO" sz="17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deficite substan</a:t>
            </a:r>
            <a:r>
              <a:rPr b="0" lang="ro-RO" sz="17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ale la nivelul sectorului asigur</a:t>
            </a:r>
            <a:r>
              <a:rPr b="0" lang="ro-RO" sz="17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ril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5148360" y="5740560"/>
            <a:ext cx="338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3               2004                2005                2006                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4861080" y="1512720"/>
            <a:ext cx="388764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3388"/>
                </a:solidFill>
                <a:latin typeface="Arial"/>
              </a:rPr>
              <a:t>Rezultate tehnice agregate (la nivelul pie</a:t>
            </a:r>
            <a:r>
              <a:rPr b="0" lang="ro-RO" sz="1400" spc="-1" strike="noStrike">
                <a:solidFill>
                  <a:srgbClr val="113388"/>
                </a:solidFill>
                <a:latin typeface="Arial"/>
              </a:rPr>
              <a:t>ţ</a:t>
            </a:r>
            <a:r>
              <a:rPr b="0" lang="en-US" sz="1400" spc="-1" strike="noStrike">
                <a:solidFill>
                  <a:srgbClr val="113388"/>
                </a:solidFill>
                <a:latin typeface="Arial"/>
              </a:rPr>
              <a:t>ei) ale activit</a:t>
            </a:r>
            <a:r>
              <a:rPr b="0" lang="ro-RO" sz="1400" spc="-1" strike="noStrike">
                <a:solidFill>
                  <a:srgbClr val="113388"/>
                </a:solidFill>
                <a:latin typeface="Arial"/>
              </a:rPr>
              <a:t>ăţ</a:t>
            </a:r>
            <a:r>
              <a:rPr b="0" lang="en-US" sz="1400" spc="-1" strike="noStrike">
                <a:solidFill>
                  <a:srgbClr val="113388"/>
                </a:solidFill>
                <a:latin typeface="Arial"/>
              </a:rPr>
              <a:t>ii de asigur</a:t>
            </a:r>
            <a:r>
              <a:rPr b="0" lang="ro-RO" sz="1400" spc="-1" strike="noStrike">
                <a:solidFill>
                  <a:srgbClr val="113388"/>
                </a:solidFill>
                <a:latin typeface="Arial"/>
              </a:rPr>
              <a:t>ă</a:t>
            </a:r>
            <a:r>
              <a:rPr b="0" lang="en-US" sz="1400" spc="-1" strike="noStrike">
                <a:solidFill>
                  <a:srgbClr val="113388"/>
                </a:solidFill>
                <a:latin typeface="Arial"/>
              </a:rPr>
              <a:t>ri gene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13388"/>
                </a:solidFill>
                <a:latin typeface="Arial"/>
              </a:rPr>
              <a:t>(Mil. eu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Object 23"/>
          <p:cNvGraphicFramePr/>
          <p:nvPr/>
        </p:nvGraphicFramePr>
        <p:xfrm>
          <a:off x="4791240" y="2292480"/>
          <a:ext cx="4028760" cy="351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1240" y="2292480"/>
                    <a:ext cx="4028760" cy="35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Line 24"/>
          <p:cNvSpPr/>
          <p:nvPr/>
        </p:nvSpPr>
        <p:spPr>
          <a:xfrm>
            <a:off x="5392800" y="2695680"/>
            <a:ext cx="216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5"/>
          <p:cNvSpPr/>
          <p:nvPr/>
        </p:nvSpPr>
        <p:spPr>
          <a:xfrm>
            <a:off x="6156360" y="2887560"/>
            <a:ext cx="216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6"/>
          <p:cNvSpPr/>
          <p:nvPr/>
        </p:nvSpPr>
        <p:spPr>
          <a:xfrm>
            <a:off x="8244000" y="4941720"/>
            <a:ext cx="4111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7"/>
          <p:cNvSpPr/>
          <p:nvPr/>
        </p:nvSpPr>
        <p:spPr>
          <a:xfrm>
            <a:off x="6732720" y="3371760"/>
            <a:ext cx="431640" cy="0"/>
          </a:xfrm>
          <a:prstGeom prst="line">
            <a:avLst/>
          </a:prstGeom>
          <a:ln w="34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8"/>
          <p:cNvSpPr/>
          <p:nvPr/>
        </p:nvSpPr>
        <p:spPr>
          <a:xfrm>
            <a:off x="7499520" y="4005360"/>
            <a:ext cx="457200" cy="0"/>
          </a:xfrm>
          <a:prstGeom prst="line">
            <a:avLst/>
          </a:prstGeom>
          <a:ln w="331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468360" y="6308640"/>
            <a:ext cx="2817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Arial"/>
              </a:rPr>
              <a:t>© Copyright Allianz-Tiriac </a:t>
            </a:r>
            <a:fld id="{069D7BEE-B1C8-42DC-97AA-34EDD655866D}" type="datetime">
              <a:rPr b="0" lang="en-US" sz="800" spc="-1" strike="noStrike">
                <a:solidFill>
                  <a:srgbClr val="113388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4"/>
          <p:cNvSpPr/>
          <p:nvPr/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D32178A6-E69A-433C-82B6-FED5A6C3B93A}" type="slidenum">
              <a:rPr b="0" lang="en-US" sz="800" spc="-1" strike="noStrike">
                <a:solidFill>
                  <a:srgbClr val="11338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800" spc="-1" strike="noStrike">
                <a:solidFill>
                  <a:srgbClr val="113388"/>
                </a:solidFill>
                <a:latin typeface="Arial"/>
              </a:rPr>
              <a:t>Piaţa asigurărilor au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800" spc="-1" strike="noStrike">
                <a:solidFill>
                  <a:srgbClr val="113388"/>
                </a:solidFill>
                <a:latin typeface="Arial"/>
              </a:rPr>
              <a:t>în căutarea echilibrel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000" y="42840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aracteristicile</a:t>
            </a:r>
            <a:r>
              <a:rPr b="0" lang="ro-RO" sz="2200" spc="-1" strike="noStrike">
                <a:solidFill>
                  <a:srgbClr val="113388"/>
                </a:solidFill>
                <a:latin typeface="Arial"/>
              </a:rPr>
              <a:t> pieţei asigurărilor</a:t>
            </a: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 auto</a:t>
            </a:r>
            <a:r>
              <a:rPr b="0" lang="ro-RO" sz="2200" spc="-1" strike="noStrike">
                <a:solidFill>
                  <a:srgbClr val="113388"/>
                </a:solidFill>
                <a:latin typeface="Arial"/>
              </a:rPr>
              <a:t> din România</a:t>
            </a: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 (I)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471600" y="1347840"/>
            <a:ext cx="8348400" cy="49608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77840" indent="-177840">
              <a:lnSpc>
                <a:spcPct val="105000"/>
              </a:lnSpc>
              <a:spcBef>
                <a:spcPts val="1199"/>
              </a:spcBef>
              <a:buClr>
                <a:srgbClr val="c6c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534960" y="2071800"/>
            <a:ext cx="821376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ada de manifestare a unei pi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soft din perspectiva ofertei de asigu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 orient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re 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â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area cotei de pi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ntuea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tura comerci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procesul de subscriere a afacerilor de asigu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 (auto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spe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012"/>
              </a:spcAft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zvoltarea acceler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 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ipsa unor inform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statistice relevante la nivelul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regii pi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limitea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acitatea de evaluare riguroa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riscurilor asum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Aft>
                <a:spcPts val="675"/>
              </a:spcAft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ul daunali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reale ra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limitat – pote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le oblig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de pl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vide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471600" y="1133640"/>
            <a:ext cx="8348400" cy="360360"/>
          </a:xfrm>
          <a:prstGeom prst="rect">
            <a:avLst/>
          </a:prstGeom>
          <a:solidFill>
            <a:srgbClr val="11338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054240"/>
                <a:tab algn="r" pos="646416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drul institu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onal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contextul opera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onal -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perioada de pre-cosolid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468360" y="6308640"/>
            <a:ext cx="2817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Arial"/>
              </a:rPr>
              <a:t>© Copyright Allianz-Tiriac </a:t>
            </a:r>
            <a:fld id="{1FF685DA-EF08-4650-B580-1F499A8AFD7A}" type="datetime">
              <a:rPr b="0" lang="en-US" sz="800" spc="-1" strike="noStrike">
                <a:solidFill>
                  <a:srgbClr val="113388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4"/>
          <p:cNvSpPr/>
          <p:nvPr/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E06C4697-24DA-4BE6-86E2-9450B460C9BF}" type="slidenum">
              <a:rPr b="0" lang="en-US" sz="800" spc="-1" strike="noStrike">
                <a:solidFill>
                  <a:srgbClr val="11338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800" spc="-1" strike="noStrike">
                <a:solidFill>
                  <a:srgbClr val="113388"/>
                </a:solidFill>
                <a:latin typeface="Arial"/>
              </a:rPr>
              <a:t>Piaţa asigurărilor au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800" spc="-1" strike="noStrike">
                <a:solidFill>
                  <a:srgbClr val="113388"/>
                </a:solidFill>
                <a:latin typeface="Arial"/>
              </a:rPr>
              <a:t>în căutarea echilibrel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000" y="42840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aracteristicile</a:t>
            </a:r>
            <a:r>
              <a:rPr b="0" lang="ro-RO" sz="2200" spc="-1" strike="noStrike">
                <a:solidFill>
                  <a:srgbClr val="113388"/>
                </a:solidFill>
                <a:latin typeface="Arial"/>
              </a:rPr>
              <a:t> pieţei asigurărilor</a:t>
            </a: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 auto</a:t>
            </a:r>
            <a:r>
              <a:rPr b="0" lang="ro-RO" sz="2200" spc="-1" strike="noStrike">
                <a:solidFill>
                  <a:srgbClr val="113388"/>
                </a:solidFill>
                <a:latin typeface="Arial"/>
              </a:rPr>
              <a:t> din România</a:t>
            </a: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 (II)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471600" y="1484280"/>
            <a:ext cx="8348400" cy="444492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77840" indent="-177840">
              <a:lnSpc>
                <a:spcPct val="105000"/>
              </a:lnSpc>
              <a:spcBef>
                <a:spcPts val="1199"/>
              </a:spcBef>
              <a:buClr>
                <a:srgbClr val="c6c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534960" y="1662120"/>
            <a:ext cx="82137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cord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u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decizia de cum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re creea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 pi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lati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terogenitatea ofertei sub aspectul tarif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i – chia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pentru un produs standard la nivelul pi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 (RCA) – stimulea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eas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incipalii cumpărători de poliţe auto – persoane juridice (68% din volumul primelor de asigurări auto subscr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a pi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 este s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u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l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e asigură finanţarea achiziţiei de autovehicu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i/IF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crierea contractelor multianuale (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cazul asigu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i autovehiculelor achi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sistem leasing) amplifi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curile de subevaluare a oblig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il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umate de asigu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iste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acceptarea fra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ei (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ea asu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i risculu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re asigu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sigura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vel ridicat al costurilor de achi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471600" y="1133640"/>
            <a:ext cx="8348400" cy="360360"/>
          </a:xfrm>
          <a:prstGeom prst="rect">
            <a:avLst/>
          </a:prstGeom>
          <a:solidFill>
            <a:srgbClr val="11338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054240"/>
                <a:tab algn="r" pos="646416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468360" y="6308640"/>
            <a:ext cx="2817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Arial"/>
              </a:rPr>
              <a:t>© Copyright Allianz-Tiriac </a:t>
            </a:r>
            <a:fld id="{74B22BFA-0F7F-4FF3-A196-3D8BC318CF0E}" type="datetime">
              <a:rPr b="0" lang="en-US" sz="800" spc="-1" strike="noStrike">
                <a:solidFill>
                  <a:srgbClr val="113388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318C915D-EC26-49B6-959C-E0DF55116B04}" type="slidenum">
              <a:rPr b="0" lang="en-US" sz="800" spc="-1" strike="noStrike">
                <a:solidFill>
                  <a:srgbClr val="11338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800" spc="-1" strike="noStrike">
                <a:solidFill>
                  <a:srgbClr val="113388"/>
                </a:solidFill>
                <a:latin typeface="Arial"/>
              </a:rPr>
              <a:t>Piaţa asigurărilor au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800" spc="-1" strike="noStrike">
                <a:solidFill>
                  <a:srgbClr val="113388"/>
                </a:solidFill>
                <a:latin typeface="Arial"/>
              </a:rPr>
              <a:t>în căutarea echilibrel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000" y="42840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aracteristicile</a:t>
            </a:r>
            <a:r>
              <a:rPr b="0" lang="ro-RO" sz="2200" spc="-1" strike="noStrike">
                <a:solidFill>
                  <a:srgbClr val="113388"/>
                </a:solidFill>
                <a:latin typeface="Arial"/>
              </a:rPr>
              <a:t> pieţei asigurărilor</a:t>
            </a: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 auto</a:t>
            </a:r>
            <a:r>
              <a:rPr b="0" lang="ro-RO" sz="2200" spc="-1" strike="noStrike">
                <a:solidFill>
                  <a:srgbClr val="113388"/>
                </a:solidFill>
                <a:latin typeface="Arial"/>
              </a:rPr>
              <a:t> din România</a:t>
            </a: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 (III)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471600" y="1347840"/>
            <a:ext cx="8348400" cy="458136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77840" indent="-177840">
              <a:lnSpc>
                <a:spcPct val="105000"/>
              </a:lnSpc>
              <a:spcBef>
                <a:spcPts val="1199"/>
              </a:spcBef>
              <a:buClr>
                <a:srgbClr val="c6c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534960" y="1662120"/>
            <a:ext cx="82137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cve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idic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daunelor, din cauz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ier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i infrastructurii rutie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 gradului redus de acceptare a responsab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erilor (fra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area contin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valorii daunei med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egistr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termin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oirea parcului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 tehni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cr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a pr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ilor cu piesele de schimb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e majorarea costurilor cu manopera, precum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e tergiversarea rezolv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i dosarelor de daun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012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psa de eficacitate a procese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proceduril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de soluţionare a daunel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spectiv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onde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dic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daunelor cu valori reduse majorea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ivelul costurilor de administr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471600" y="1133640"/>
            <a:ext cx="8348400" cy="360360"/>
          </a:xfrm>
          <a:prstGeom prst="rect">
            <a:avLst/>
          </a:prstGeom>
          <a:solidFill>
            <a:srgbClr val="11338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054240"/>
                <a:tab algn="r" pos="646416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ficit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ţ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e locale ridic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ivelul cheltuielilor cu desp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bir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4572000" y="1347840"/>
            <a:ext cx="4248000" cy="458136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77840" indent="-177840">
              <a:lnSpc>
                <a:spcPct val="105000"/>
              </a:lnSpc>
              <a:spcBef>
                <a:spcPts val="1199"/>
              </a:spcBef>
              <a:buClr>
                <a:srgbClr val="c6c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Date Placeholder 3"/>
          <p:cNvSpPr/>
          <p:nvPr/>
        </p:nvSpPr>
        <p:spPr>
          <a:xfrm>
            <a:off x="468360" y="6308640"/>
            <a:ext cx="2817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Arial"/>
              </a:rPr>
              <a:t>© Copyright Allianz-Tiriac </a:t>
            </a:r>
            <a:fld id="{1A567A66-4086-4515-BC05-553CF090DF4A}" type="datetime">
              <a:rPr b="0" lang="en-US" sz="800" spc="-1" strike="noStrike">
                <a:solidFill>
                  <a:srgbClr val="113388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4"/>
          <p:cNvSpPr/>
          <p:nvPr/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5507B184-1E8D-407F-B8ED-94627ABEF04C}" type="slidenum">
              <a:rPr b="0" lang="en-US" sz="800" spc="-1" strike="noStrike">
                <a:solidFill>
                  <a:srgbClr val="11338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800" spc="-1" strike="noStrike">
                <a:solidFill>
                  <a:srgbClr val="113388"/>
                </a:solidFill>
                <a:latin typeface="Arial"/>
              </a:rPr>
              <a:t>Piaţa asigurărilor au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800" spc="-1" strike="noStrike">
                <a:solidFill>
                  <a:srgbClr val="113388"/>
                </a:solidFill>
                <a:latin typeface="Arial"/>
              </a:rPr>
              <a:t>în căutarea echilibrel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000" y="42840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Perspectivele sectorului asigur</a:t>
            </a:r>
            <a:r>
              <a:rPr b="0" lang="ro-RO" sz="2200" spc="-1" strike="noStrike">
                <a:solidFill>
                  <a:srgbClr val="113388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rilor pe termen scurt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471600" y="1347840"/>
            <a:ext cx="4100400" cy="458136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77840" indent="-177840">
              <a:lnSpc>
                <a:spcPct val="105000"/>
              </a:lnSpc>
              <a:spcBef>
                <a:spcPts val="1199"/>
              </a:spcBef>
              <a:buClr>
                <a:srgbClr val="c6c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534960" y="1628640"/>
            <a:ext cx="4037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marL="177840" indent="-177840">
              <a:spcAft>
                <a:spcPts val="788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ecte vizibile ale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etinirii dinamicii finan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ţ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i achiz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i de vehic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788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tica de tarifare va deveni elementul determinant al evol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i venituri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788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9"/>
          <p:cNvSpPr/>
          <p:nvPr/>
        </p:nvSpPr>
        <p:spPr>
          <a:xfrm>
            <a:off x="500040" y="5997600"/>
            <a:ext cx="8286840" cy="36036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113388"/>
                </a:solidFill>
                <a:latin typeface="Arial"/>
              </a:rPr>
              <a:t>Continuarea tendin</a:t>
            </a:r>
            <a:r>
              <a:rPr b="0" lang="ro-RO" sz="1800" spc="-1" strike="noStrike">
                <a:solidFill>
                  <a:srgbClr val="113388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113388"/>
                </a:solidFill>
                <a:latin typeface="Arial"/>
              </a:rPr>
              <a:t>ei de accentuare a deficitelor din activitatea de baz</a:t>
            </a:r>
            <a:r>
              <a:rPr b="0" lang="ro-RO" sz="1800" spc="-1" strike="noStrike">
                <a:solidFill>
                  <a:srgbClr val="113388"/>
                </a:solidFill>
                <a:latin typeface="Arial"/>
              </a:rPr>
              <a:t>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0"/>
          <p:cNvSpPr/>
          <p:nvPr/>
        </p:nvSpPr>
        <p:spPr>
          <a:xfrm rot="5400000">
            <a:off x="396000" y="6069600"/>
            <a:ext cx="360360" cy="216000"/>
          </a:xfrm>
          <a:prstGeom prst="triangle">
            <a:avLst>
              <a:gd name="adj" fmla="val 50000"/>
            </a:avLst>
          </a:prstGeom>
          <a:solidFill>
            <a:srgbClr val="11338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539640" y="3071880"/>
            <a:ext cx="40323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3388"/>
                </a:solidFill>
                <a:latin typeface="Arial"/>
              </a:rPr>
              <a:t>Venituri semestriale din activitatea de asigur</a:t>
            </a:r>
            <a:r>
              <a:rPr b="0" lang="ro-RO" sz="1400" spc="-1" strike="noStrike">
                <a:solidFill>
                  <a:srgbClr val="113388"/>
                </a:solidFill>
                <a:latin typeface="Arial"/>
              </a:rPr>
              <a:t>ă</a:t>
            </a:r>
            <a:r>
              <a:rPr b="0" lang="en-US" sz="1400" spc="-1" strike="noStrike">
                <a:solidFill>
                  <a:srgbClr val="113388"/>
                </a:solidFill>
                <a:latin typeface="Arial"/>
              </a:rPr>
              <a:t>ri auto (Casco si R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13388"/>
                </a:solidFill>
                <a:latin typeface="Arial"/>
              </a:rPr>
              <a:t>Mil. e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471600" y="1133640"/>
            <a:ext cx="4100400" cy="360360"/>
          </a:xfrm>
          <a:prstGeom prst="rect">
            <a:avLst/>
          </a:prstGeom>
          <a:solidFill>
            <a:srgbClr val="11338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054240"/>
                <a:tab algn="r" pos="646416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niturile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îş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 tempereaz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itmul de c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4575240" y="1125360"/>
            <a:ext cx="4244760" cy="360720"/>
          </a:xfrm>
          <a:prstGeom prst="rect">
            <a:avLst/>
          </a:prstGeom>
          <a:solidFill>
            <a:srgbClr val="11338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054240"/>
                <a:tab algn="r" pos="646416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aunele continu</a:t>
            </a:r>
            <a:r>
              <a:rPr b="0" lang="ro-RO" sz="17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ro-RO" sz="17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creasc</a:t>
            </a:r>
            <a:r>
              <a:rPr b="0" lang="ro-RO" sz="17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acceler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4641840" y="1571760"/>
            <a:ext cx="41781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marL="177840" indent="-177840">
              <a:spcAft>
                <a:spcPts val="499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 exist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dica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 cu privire la posibile ajust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 pozitive ale frecven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daunei med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499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i norme de evaluare a obliga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lor de plat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umate pentru asigur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le R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499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atilit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 pi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or creeaz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emisele major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i infla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i teh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499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4643280" y="3052800"/>
            <a:ext cx="40323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3388"/>
                </a:solidFill>
                <a:latin typeface="Arial"/>
              </a:rPr>
              <a:t>Indemniza</a:t>
            </a:r>
            <a:r>
              <a:rPr b="0" lang="ro-RO" sz="1400" spc="-1" strike="noStrike">
                <a:solidFill>
                  <a:srgbClr val="113388"/>
                </a:solidFill>
                <a:latin typeface="Arial"/>
              </a:rPr>
              <a:t>ţ</a:t>
            </a:r>
            <a:r>
              <a:rPr b="0" lang="en-US" sz="1400" spc="-1" strike="noStrike">
                <a:solidFill>
                  <a:srgbClr val="113388"/>
                </a:solidFill>
                <a:latin typeface="Arial"/>
              </a:rPr>
              <a:t>ii semestriale pl</a:t>
            </a:r>
            <a:r>
              <a:rPr b="0" lang="ro-RO" sz="1400" spc="-1" strike="noStrike">
                <a:solidFill>
                  <a:srgbClr val="113388"/>
                </a:solidFill>
                <a:latin typeface="Arial"/>
              </a:rPr>
              <a:t>ă</a:t>
            </a:r>
            <a:r>
              <a:rPr b="0" lang="en-US" sz="1400" spc="-1" strike="noStrike">
                <a:solidFill>
                  <a:srgbClr val="113388"/>
                </a:solidFill>
                <a:latin typeface="Arial"/>
              </a:rPr>
              <a:t>tite </a:t>
            </a:r>
            <a:r>
              <a:rPr b="0" lang="ro-RO" sz="1400" spc="-1" strike="noStrike">
                <a:solidFill>
                  <a:srgbClr val="113388"/>
                </a:solidFill>
                <a:latin typeface="Arial"/>
              </a:rPr>
              <a:t>î</a:t>
            </a:r>
            <a:r>
              <a:rPr b="0" lang="en-US" sz="1400" spc="-1" strike="noStrike">
                <a:solidFill>
                  <a:srgbClr val="113388"/>
                </a:solidFill>
                <a:latin typeface="Arial"/>
              </a:rPr>
              <a:t>n contul poli</a:t>
            </a:r>
            <a:r>
              <a:rPr b="0" lang="ro-RO" sz="1400" spc="-1" strike="noStrike">
                <a:solidFill>
                  <a:srgbClr val="113388"/>
                </a:solidFill>
                <a:latin typeface="Arial"/>
              </a:rPr>
              <a:t>ţ</a:t>
            </a:r>
            <a:r>
              <a:rPr b="0" lang="en-US" sz="1400" spc="-1" strike="noStrike">
                <a:solidFill>
                  <a:srgbClr val="113388"/>
                </a:solidFill>
                <a:latin typeface="Arial"/>
              </a:rPr>
              <a:t>elor de</a:t>
            </a:r>
            <a:r>
              <a:rPr b="0" lang="ro-RO" sz="1400" spc="-1" strike="noStrike">
                <a:solidFill>
                  <a:srgbClr val="113388"/>
                </a:solidFill>
                <a:latin typeface="Arial"/>
              </a:rPr>
              <a:t> asigurări </a:t>
            </a:r>
            <a:r>
              <a:rPr b="0" lang="en-US" sz="1400" spc="-1" strike="noStrike">
                <a:solidFill>
                  <a:srgbClr val="113388"/>
                </a:solidFill>
                <a:latin typeface="Arial"/>
              </a:rPr>
              <a:t>auto (Casco si R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13388"/>
                </a:solidFill>
                <a:latin typeface="Arial"/>
              </a:rPr>
              <a:t>Mil. e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2"/>
          <p:cNvSpPr/>
          <p:nvPr/>
        </p:nvSpPr>
        <p:spPr>
          <a:xfrm>
            <a:off x="1500120" y="3786120"/>
            <a:ext cx="1857600" cy="428760"/>
          </a:xfrm>
          <a:prstGeom prst="pie">
            <a:avLst/>
          </a:prstGeom>
          <a:noFill/>
          <a:ln w="6480">
            <a:solidFill>
              <a:srgbClr val="1133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3"/>
          <p:cNvSpPr/>
          <p:nvPr/>
        </p:nvSpPr>
        <p:spPr>
          <a:xfrm>
            <a:off x="2143080" y="3643200"/>
            <a:ext cx="743040" cy="307080"/>
          </a:xfrm>
          <a:prstGeom prst="rect">
            <a:avLst/>
          </a:prstGeom>
          <a:solidFill>
            <a:srgbClr val="d8d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13388"/>
                </a:solidFill>
                <a:latin typeface="Arial"/>
              </a:rPr>
              <a:t>+1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Chart 30" descr=""/>
          <p:cNvPicPr/>
          <p:nvPr/>
        </p:nvPicPr>
        <p:blipFill>
          <a:blip r:embed="rId1"/>
          <a:stretch/>
        </p:blipFill>
        <p:spPr>
          <a:xfrm>
            <a:off x="566640" y="4065480"/>
            <a:ext cx="3797280" cy="193860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9"/>
          <p:cNvSpPr/>
          <p:nvPr/>
        </p:nvSpPr>
        <p:spPr>
          <a:xfrm>
            <a:off x="3143160" y="4071960"/>
            <a:ext cx="43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388"/>
                </a:solidFill>
                <a:latin typeface="Arial"/>
              </a:rPr>
              <a:t>7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1357200" y="421488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388"/>
                </a:solidFill>
                <a:latin typeface="Arial"/>
              </a:rPr>
              <a:t>6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Chart 31" descr=""/>
          <p:cNvPicPr/>
          <p:nvPr/>
        </p:nvPicPr>
        <p:blipFill>
          <a:blip r:embed="rId2"/>
          <a:stretch/>
        </p:blipFill>
        <p:spPr>
          <a:xfrm>
            <a:off x="5065560" y="3925800"/>
            <a:ext cx="3445200" cy="2078280"/>
          </a:xfrm>
          <a:prstGeom prst="rect">
            <a:avLst/>
          </a:prstGeom>
          <a:ln w="0">
            <a:noFill/>
          </a:ln>
        </p:spPr>
      </p:pic>
      <p:sp>
        <p:nvSpPr>
          <p:cNvPr id="574" name="Freeform 12"/>
          <p:cNvSpPr/>
          <p:nvPr/>
        </p:nvSpPr>
        <p:spPr>
          <a:xfrm>
            <a:off x="6000840" y="3714840"/>
            <a:ext cx="1571400" cy="500040"/>
          </a:xfrm>
          <a:prstGeom prst="pie">
            <a:avLst/>
          </a:prstGeom>
          <a:noFill/>
          <a:ln w="6480">
            <a:solidFill>
              <a:srgbClr val="1133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5786280" y="435600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388"/>
                </a:solidFill>
                <a:latin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7426440" y="399888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388"/>
                </a:solidFill>
                <a:latin typeface="Arial"/>
              </a:rPr>
              <a:t>4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6429240" y="3548160"/>
            <a:ext cx="743040" cy="307080"/>
          </a:xfrm>
          <a:prstGeom prst="rect">
            <a:avLst/>
          </a:prstGeom>
          <a:solidFill>
            <a:srgbClr val="d8d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13388"/>
                </a:solidFill>
                <a:latin typeface="Arial"/>
              </a:rPr>
              <a:t>+4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Date Placeholder 3"/>
          <p:cNvSpPr/>
          <p:nvPr/>
        </p:nvSpPr>
        <p:spPr>
          <a:xfrm>
            <a:off x="468360" y="6308640"/>
            <a:ext cx="2817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Arial"/>
              </a:rPr>
              <a:t>© Copyright Allianz-Tiriac </a:t>
            </a:r>
            <a:fld id="{6CD903B5-3983-47E9-A456-1B6F2BE21F07}" type="datetime">
              <a:rPr b="0" lang="en-US" sz="800" spc="-1" strike="noStrike">
                <a:solidFill>
                  <a:srgbClr val="113388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4"/>
          <p:cNvSpPr/>
          <p:nvPr/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1B5C4868-2B85-4D1B-9367-4CA7D3A229DE}" type="slidenum">
              <a:rPr b="0" lang="en-US" sz="800" spc="-1" strike="noStrike">
                <a:solidFill>
                  <a:srgbClr val="11338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800" spc="-1" strike="noStrike">
                <a:solidFill>
                  <a:srgbClr val="113388"/>
                </a:solidFill>
                <a:latin typeface="Arial"/>
              </a:rPr>
              <a:t>Piaţa asigurărilor au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ro-RO" sz="800" spc="-1" strike="noStrike">
                <a:solidFill>
                  <a:srgbClr val="113388"/>
                </a:solidFill>
                <a:latin typeface="Arial"/>
              </a:rPr>
              <a:t>în căutarea echilibrel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000" y="42840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Allianz-</a:t>
            </a:r>
            <a:r>
              <a:rPr b="0" lang="ro-RO" sz="2000" spc="-1" strike="noStrike">
                <a:solidFill>
                  <a:srgbClr val="113388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iriac Asigur</a:t>
            </a:r>
            <a:r>
              <a:rPr b="0" lang="ro-RO" sz="2000" spc="-1" strike="noStrike">
                <a:solidFill>
                  <a:srgbClr val="113388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ri adopt</a:t>
            </a:r>
            <a:r>
              <a:rPr b="0" lang="ro-RO" sz="2000" spc="-1" strike="noStrike">
                <a:solidFill>
                  <a:srgbClr val="113388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 solu</a:t>
            </a:r>
            <a:r>
              <a:rPr b="0" lang="ro-RO" sz="2000" spc="-1" strike="noStrike">
                <a:solidFill>
                  <a:srgbClr val="113388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ii coerente pentru dezvoltarea echilibrat</a:t>
            </a:r>
            <a:r>
              <a:rPr b="0" lang="ro-RO" sz="2000" spc="-1" strike="noStrike">
                <a:solidFill>
                  <a:srgbClr val="113388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 a opera</a:t>
            </a:r>
            <a:r>
              <a:rPr b="0" lang="ro-RO" sz="2000" spc="-1" strike="noStrike">
                <a:solidFill>
                  <a:srgbClr val="113388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iunilor de asigur</a:t>
            </a:r>
            <a:r>
              <a:rPr b="0" lang="ro-RO" sz="2000" spc="-1" strike="noStrike">
                <a:solidFill>
                  <a:srgbClr val="113388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ri auto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1600" y="1347840"/>
            <a:ext cx="4113000" cy="458136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77840" indent="-177840">
              <a:lnSpc>
                <a:spcPct val="105000"/>
              </a:lnSpc>
              <a:spcBef>
                <a:spcPts val="1199"/>
              </a:spcBef>
              <a:buClr>
                <a:srgbClr val="c6c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534960" y="1662120"/>
            <a:ext cx="40370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gmentarea portofoliului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tarifarea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func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 de riscul individual (tipul m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i, arie geografic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experien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erului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t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on-line ale tarifelor (RCA, Casco) pentru persoane fiz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varea fran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zei la asigurarea Casco prin oferirea unor reduceri de prim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 pot dep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valoarea fran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z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delizarea clien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or Casco prin aplicarea unui sistem bonus/malus co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ilizarea ofertei din perspectiva riscurilor acoperite,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func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 de nevoile clientu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471600" y="1133640"/>
            <a:ext cx="4113000" cy="360360"/>
          </a:xfrm>
          <a:prstGeom prst="rect">
            <a:avLst/>
          </a:prstGeom>
          <a:solidFill>
            <a:srgbClr val="11338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054240"/>
                <a:tab algn="r" pos="646416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er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4562640" y="1341360"/>
            <a:ext cx="4113000" cy="458172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77840" indent="-177840">
              <a:lnSpc>
                <a:spcPct val="105000"/>
              </a:lnSpc>
              <a:spcBef>
                <a:spcPts val="1199"/>
              </a:spcBef>
              <a:buClr>
                <a:srgbClr val="c6c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4572000" y="1662120"/>
            <a:ext cx="4103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area procesului de solu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nare a daunelor: un singur punct de contact pentru notificarea daunei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informarea clien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or (Call Center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Allianz-Ţiri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i simpl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rapide de rezolvare a daunelor (3-10 zile,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func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 de complexitatea daune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ordarea de competen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service-urilor partener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entr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at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ncte de constatar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proape 1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 de unit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reparatoare parten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90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rea unor m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i de control al cheltuielilor cu daunele: sistem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Auda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8"/>
          <p:cNvSpPr/>
          <p:nvPr/>
        </p:nvSpPr>
        <p:spPr>
          <a:xfrm>
            <a:off x="4562640" y="1125360"/>
            <a:ext cx="4113000" cy="360720"/>
          </a:xfrm>
          <a:prstGeom prst="rect">
            <a:avLst/>
          </a:prstGeom>
          <a:solidFill>
            <a:srgbClr val="11338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054240"/>
                <a:tab algn="r" pos="646416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rea daun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2:46:25Z</dcterms:created>
  <dc:creator>Author</dc:creator>
  <dc:description>Optimized for PowerPoint 2002.
Written by K16 [medienservice] GmbH.</dc:description>
  <dc:language>en-US</dc:language>
  <cp:lastModifiedBy>marius onofrei</cp:lastModifiedBy>
  <cp:lastPrinted>2004-04-20T08:40:53Z</cp:lastPrinted>
  <dcterms:modified xsi:type="dcterms:W3CDTF">2008-10-28T10:09:06Z</dcterms:modified>
  <cp:revision>373</cp:revision>
  <dc:subject>PowerPoint 97 (engl)</dc:subject>
  <dc:title>Guidelines for Creating Presentations</dc:title>
</cp:coreProperties>
</file>