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0063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8508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5"/>
          </p:nvPr>
        </p:nvSpPr>
        <p:spPr>
          <a:xfrm>
            <a:off x="3881520" y="0"/>
            <a:ext cx="2968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Img"/>
          </p:nvPr>
        </p:nvSpPr>
        <p:spPr>
          <a:xfrm>
            <a:off x="941400" y="745920"/>
            <a:ext cx="496872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body"/>
          </p:nvPr>
        </p:nvSpPr>
        <p:spPr>
          <a:xfrm>
            <a:off x="685800" y="4721400"/>
            <a:ext cx="547992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ftr" idx="26"/>
          </p:nvPr>
        </p:nvSpPr>
        <p:spPr>
          <a:xfrm>
            <a:off x="0" y="9441000"/>
            <a:ext cx="2968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 type="sldNum" idx="27"/>
          </p:nvPr>
        </p:nvSpPr>
        <p:spPr>
          <a:xfrm>
            <a:off x="3881520" y="9441000"/>
            <a:ext cx="2968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0CED-98F8-4405-9C09-81BAA5EE9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1520" y="9441000"/>
            <a:ext cx="2968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D535-CF66-43EF-8743-717E621FA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68720" cy="37256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721400"/>
            <a:ext cx="54799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X=Foreing Exchanges- Cursurile de schimb exter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1520" y="9441000"/>
            <a:ext cx="2968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C518-BE0A-4204-AAA5-5C5F083E3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721040"/>
            <a:ext cx="54799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944-A3A2-49AB-B1C4-326777FA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BB7-8460-424B-BE44-9029A027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7582-21C0-4417-8313-F49390AE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F4A-05AB-4DC9-B419-EF1785BE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B2C9-6F4B-41C0-8A86-A13AD571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CF44-7C10-4814-AE53-28814D28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CBBF-8D9D-40DE-B4F0-0D684243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620E-3249-49E9-ADB1-48CB458E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1F0D-D6E5-4558-B283-368E4F52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8313-5F7D-4DFE-941E-5C373236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5A23-E39D-4228-8964-EBA493AA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26B5-5E81-475F-8FC0-7BE0ACBB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E74C-9621-4810-9F0B-94ABA46F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8EB9-65CD-448F-B4B3-BDF98A41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EB30-2EDD-4825-B90D-89314350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7D03-1959-4748-839A-3C45FDD3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B149-B251-4242-B21B-BDE40088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34E5C-E0C9-4931-B6F9-D6818B0C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A9F4A-CE26-4B85-A4D5-B3215B7B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BFADC-795F-4F00-919A-BCF46BB9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7E8B6-41EB-4870-BF67-8C60165D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AC188-1642-4603-8D37-99BF30AB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750A-D531-436E-BACE-B2F71C2F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9FBBF-C60F-40B9-B649-6F7DF042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655F0-8F39-4B4E-AD38-FFACD8E9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143B0-877F-4E7B-B30B-E3EFEA24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F6FB3-2EBF-4915-B0E7-B02B6C7E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AC08D-F445-4C32-8A7A-A2A9C837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7F628-24C3-400F-AD08-4A239DC9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164AC-80B5-42DC-BCE1-D70CD49F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F447B-A388-4252-AEDD-A5C289BF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DE018-E67E-4FF6-91E8-A3C7D403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F6DAE-3162-4A00-BF2E-F551982C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378-DA3A-4817-80E4-4E15A788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506E2-8235-4E57-B391-075F9811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29004-49A7-4B28-BB8E-F7F8FAEC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6337A-8A56-4D0E-A7E4-BE295075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FDBCD-C32E-4EE2-A176-25831A8C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40B9D-6A6C-4172-A2DE-49DA2910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16FCF-E932-4CB5-82FA-A36A04F7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0C0A7-522F-4135-B91B-16889045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A8B5F-E818-4787-899F-113CB0A4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07F0F-2A68-46BB-BD06-59F9ED7C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E3BF5-5EA2-45F3-BA2A-1B7B3D35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7B1-DBCD-4422-B82E-6DD0201F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C46F3-7B55-448B-BA68-1E9023A8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CAEB9-4B50-4594-9F58-8870F20B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C7B9C-B034-4A0E-88B6-D2097FA8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F134F-2995-4F8C-B9F1-E4AE62CD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CCD4C-570E-400D-8D07-2B75D0FB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3C962-8F9E-4D64-8D90-8E4DDB53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8ACD6-905E-44EB-B335-E7E69820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669A9-BA7F-4893-942E-E40D91A9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48147-E58F-46CA-BFB6-DE3F8C23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517EC-AB39-4328-9B6F-09624DFC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3E27-6C3D-4773-BA15-2D60E9F7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8BBF8-703C-4E03-994A-59A318AA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717BB-22FD-42E5-BC4E-C7D65E9F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5C935-0A44-43FA-A642-2DE451DE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EF940-87D6-4F31-9667-C7ABA877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2ADF1-94A9-4F90-9584-052B5C20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F5033-95F9-4CAB-A1AD-2E36C5B9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3612A-68D1-4A6E-BD41-456FAF5A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B4DD2-D916-432C-A5F6-14EBA0C6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2AE4D-70FC-44A4-ADE0-537D5185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98949-3C26-43EE-B14E-A1F51C4E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0F77-B2A0-4989-B52C-395C2A3E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1DD79-D4EA-42BF-AA6F-972C0C14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1B225-E14B-4919-97DB-A66F82BC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7EDEB-7E9F-460D-B166-98AEECDE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C7EC1-8B2D-4CB0-AFC1-FE05AF7E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19CFB-78B3-4DBE-A261-3F66A964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44B8B-136C-4495-AF34-622EA178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44F28-3A21-4846-AE40-03099503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25172-2F0C-444F-9A23-DB020F5A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33C2A-58EE-462A-AE9C-8D4DE25F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1445F-B945-4B35-B608-297BBCEA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373B-9200-47C5-BCFB-A15117CA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B4B2E-0781-4524-9CBC-390C756E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A3420-AE40-417F-8285-880F3EB7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C7C1A-BA6A-4A79-B465-0BF8D6AF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92A9D-35BF-4BB6-B3F6-E295A812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EC158-387A-46CA-96D2-8756B98B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7FC9E-49D5-4997-8AF0-9FC9B6FE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FC4D1-6093-4387-8910-F07EC994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75E04-B485-47DB-AAEC-5411C847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7A808-1550-4496-9DDD-C8D3A91D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85B13-1538-442E-84A1-EC60C95C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32F7-AD55-470F-BA60-E29109CE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67459-A2F4-4038-B299-DF0D4B5C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BB3BF-314A-4EA7-9814-6662EA84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63F04-823A-4171-B647-9922C14F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2E390-0D33-4BA5-95E8-4D9D1C88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B2B41-DD37-4426-A014-7F699507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E508F-0A05-4C04-AFAE-3220E251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FBC37-7112-4BB7-995D-CDFA5E27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C7FD-D178-4EFE-A07E-65C3E5B4654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28E1-7AE8-431A-A59F-5B43A93D3EE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CB02-3DCE-4B69-9A8A-BE9F86248B9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FB77-5B98-411D-B9A6-82C4EB057E1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677C-CB3C-4F59-8F49-8258463BA87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5EC2-1EB6-4D84-A1E0-A1AE6A9CFC7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AE24-1974-4260-A57F-9F24FEE0E79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21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5DA8-A993-4FB4-A05C-D60797BD714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Sectorul de componente auto din Romania continua sa se dezvolte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. Ing. Constantin Stroe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tesedinte, Director General al ACARO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MEDIAFAX Talks about Auto Industr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28 octombrie 2008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FBF1-C987-4BB6-ABE2-72673EA3E55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00320" y="54900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Previziunile pentru 2008: ingrijoratoare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2"/>
          <a:stretch/>
        </p:blipFill>
        <p:spPr>
          <a:xfrm>
            <a:off x="-181080" y="1052640"/>
            <a:ext cx="9325080" cy="580536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4"/>
          <p:cNvSpPr/>
          <p:nvPr/>
        </p:nvSpPr>
        <p:spPr>
          <a:xfrm>
            <a:off x="0" y="0"/>
            <a:ext cx="3240000" cy="398880"/>
          </a:xfrm>
          <a:prstGeom prst="rect">
            <a:avLst/>
          </a:prstGeom>
          <a:solidFill>
            <a:srgbClr val="8dc7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tul materialelor de ba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2268360" y="1557360"/>
            <a:ext cx="4391280" cy="28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2411280" y="1557360"/>
            <a:ext cx="41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steri fata de anul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5148360" y="2852640"/>
            <a:ext cx="352728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sterea preturilor materialelor energointensive probabil se va tempera datorita revenirii pretului petrolului si regresului cererii in industrie si, in special,  in construct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9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DE52-A5DE-4F64-84FB-5B72D86C1B1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4996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Costuri de fabricatie- avantaje si dezavantaje comparative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48" name="Object 3"/>
          <p:cNvGraphicFramePr/>
          <p:nvPr/>
        </p:nvGraphicFramePr>
        <p:xfrm>
          <a:off x="250920" y="2060640"/>
          <a:ext cx="3666960" cy="390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060640"/>
                    <a:ext cx="366696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4067280" y="2060640"/>
          <a:ext cx="2087280" cy="4546440"/>
        </p:xfrm>
        <a:graphic>
          <a:graphicData uri="http://schemas.openxmlformats.org/drawingml/2006/table">
            <a:tbl>
              <a:tblPr/>
              <a:tblGrid>
                <a:gridCol w="1044360"/>
                <a:gridCol w="1042920"/>
              </a:tblGrid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 Ce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va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v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g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o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</a:tbl>
          </a:graphicData>
        </a:graphic>
      </p:graphicFrame>
      <p:sp>
        <p:nvSpPr>
          <p:cNvPr id="451" name="Text Box 4"/>
          <p:cNvSpPr/>
          <p:nvPr/>
        </p:nvSpPr>
        <p:spPr>
          <a:xfrm>
            <a:off x="0" y="0"/>
            <a:ext cx="2592360" cy="398880"/>
          </a:xfrm>
          <a:prstGeom prst="rect">
            <a:avLst/>
          </a:prstGeom>
          <a:solidFill>
            <a:srgbClr val="aa8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uri de fabric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468360" y="6165720"/>
            <a:ext cx="142920" cy="7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468360" y="6381720"/>
            <a:ext cx="142920" cy="71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1908000" y="6165720"/>
            <a:ext cx="142920" cy="716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1908000" y="6453360"/>
            <a:ext cx="142920" cy="712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marL="343080" indent="-343080" algn="ctr">
              <a:spcBef>
                <a:spcPts val="499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9"/>
          <p:cNvSpPr/>
          <p:nvPr/>
        </p:nvSpPr>
        <p:spPr>
          <a:xfrm>
            <a:off x="2916360" y="6165720"/>
            <a:ext cx="142920" cy="71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0"/>
          <p:cNvSpPr/>
          <p:nvPr/>
        </p:nvSpPr>
        <p:spPr>
          <a:xfrm>
            <a:off x="2916360" y="6453360"/>
            <a:ext cx="142920" cy="71280"/>
          </a:xfrm>
          <a:prstGeom prst="rect">
            <a:avLst/>
          </a:prstGeom>
          <a:solidFill>
            <a:srgbClr val="aa8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611280" y="6093000"/>
            <a:ext cx="1079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611280" y="609300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,06-5,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611280" y="6093000"/>
            <a:ext cx="1008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611280" y="6308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,43-7,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2050920" y="60930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,1-7,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2050920" y="6381720"/>
            <a:ext cx="86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,9-8,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7"/>
          <p:cNvSpPr/>
          <p:nvPr/>
        </p:nvSpPr>
        <p:spPr>
          <a:xfrm>
            <a:off x="3132000" y="6093000"/>
            <a:ext cx="93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,8-11,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8"/>
          <p:cNvSpPr/>
          <p:nvPr/>
        </p:nvSpPr>
        <p:spPr>
          <a:xfrm>
            <a:off x="3059280" y="6381720"/>
            <a:ext cx="1081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9"/>
          <p:cNvSpPr/>
          <p:nvPr/>
        </p:nvSpPr>
        <p:spPr>
          <a:xfrm>
            <a:off x="3132000" y="6381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20"/>
          <p:cNvSpPr/>
          <p:nvPr/>
        </p:nvSpPr>
        <p:spPr>
          <a:xfrm>
            <a:off x="324000" y="162864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t Gaz metan (Euro/GJ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47"/>
          <p:cNvSpPr/>
          <p:nvPr/>
        </p:nvSpPr>
        <p:spPr>
          <a:xfrm>
            <a:off x="3780000" y="162864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.Electrica(Euro/kw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6659640" y="2093760"/>
          <a:ext cx="2160360" cy="4515120"/>
        </p:xfrm>
        <a:graphic>
          <a:graphicData uri="http://schemas.openxmlformats.org/drawingml/2006/table">
            <a:tbl>
              <a:tblPr/>
              <a:tblGrid>
                <a:gridCol w="1224000"/>
                <a:gridCol w="936360"/>
              </a:tblGrid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m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o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v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va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g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om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lg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765"/>
                    </a:solidFill>
                  </a:tcPr>
                </a:tc>
              </a:tr>
            </a:tbl>
          </a:graphicData>
        </a:graphic>
      </p:graphicFrame>
      <p:sp>
        <p:nvSpPr>
          <p:cNvPr id="470" name="Text Box 77"/>
          <p:cNvSpPr/>
          <p:nvPr/>
        </p:nvSpPr>
        <p:spPr>
          <a:xfrm>
            <a:off x="6588000" y="1482840"/>
            <a:ext cx="2087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78"/>
          <p:cNvSpPr/>
          <p:nvPr/>
        </p:nvSpPr>
        <p:spPr>
          <a:xfrm>
            <a:off x="6588000" y="1413000"/>
            <a:ext cx="23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ul mediu orar al muncii (euro)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79"/>
          <p:cNvSpPr/>
          <p:nvPr/>
        </p:nvSpPr>
        <p:spPr>
          <a:xfrm>
            <a:off x="6659640" y="658332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Slide Number Placeholder 8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3F2F-B786-495D-9260-3F57DCF8AF7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85760" y="8510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Costurile de fabricatie au crescut, dar diferit,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 intre 2004-2007. Costul muncii ramane insa considerabil mai mic in Romania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2"/>
          <a:stretch/>
        </p:blipFill>
        <p:spPr>
          <a:xfrm>
            <a:off x="1434960" y="1824120"/>
            <a:ext cx="7499520" cy="460512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4"/>
          <p:cNvSpPr/>
          <p:nvPr/>
        </p:nvSpPr>
        <p:spPr>
          <a:xfrm>
            <a:off x="7451640" y="6597720"/>
            <a:ext cx="16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rsa Alix Partn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0" y="0"/>
            <a:ext cx="2592360" cy="398880"/>
          </a:xfrm>
          <a:prstGeom prst="rect">
            <a:avLst/>
          </a:prstGeom>
          <a:solidFill>
            <a:srgbClr val="aa8a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uri de fabric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Slide Number Placeholder 7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7611-85D0-4E98-A780-79C7F019BEC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3003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iscul in sourcing a devenit inadmisibil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752400" y="1571760"/>
            <a:ext cx="4248360" cy="3313080"/>
          </a:xfrm>
          <a:prstGeom prst="rect">
            <a:avLst/>
          </a:prstGeom>
          <a:solidFill>
            <a:srgbClr val="8dc7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agementu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esionist al riscul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ing-ul global sau inter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ne acut problema  riscuril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ecare furnizor se va concentra 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uni de prevenire/restructurare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ior, dar si in amonte, 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furnizorii proprii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5221440" y="1557360"/>
            <a:ext cx="3636720" cy="3384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0" y="0"/>
            <a:ext cx="28083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uritatea sourcingul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3492360" y="220500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0"/>
          <p:cNvSpPr/>
          <p:nvPr/>
        </p:nvSpPr>
        <p:spPr>
          <a:xfrm>
            <a:off x="5910120" y="160668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izarea logistic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12"/>
          <p:cNvSpPr/>
          <p:nvPr/>
        </p:nvSpPr>
        <p:spPr>
          <a:xfrm>
            <a:off x="755640" y="5661000"/>
            <a:ext cx="1143000" cy="99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zvolt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rastruturi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3"/>
          <p:cNvSpPr/>
          <p:nvPr/>
        </p:nvSpPr>
        <p:spPr>
          <a:xfrm>
            <a:off x="1979640" y="5589720"/>
            <a:ext cx="6858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gramul national  de autostrazi, cu bugetare multianuala la nivelul de 6% din P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rumuri exp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enturi de  ocol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4"/>
          <p:cNvSpPr/>
          <p:nvPr/>
        </p:nvSpPr>
        <p:spPr>
          <a:xfrm>
            <a:off x="1143000" y="5114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 problema “chei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5"/>
          <p:cNvSpPr/>
          <p:nvPr/>
        </p:nvSpPr>
        <p:spPr>
          <a:xfrm>
            <a:off x="5402160" y="3071880"/>
            <a:ext cx="3384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ACAROM este implicata alaturi de Dacia in formarea logistica a componentistilor cu suport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DETTE INTERN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Slide Number Placeholder 1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E8AD-084C-40BC-83B2-8C485DAD03D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85760" y="42876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glementari tehnice mai severe urmeaza sa intre in vigoare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856800" y="1499760"/>
            <a:ext cx="8286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uro5 si Euro 6, aprobate deja de Parlamentul European,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imitarea emisiei de CO2 la 130gr/km (cel mult!) va fi, probabil, aprobata inainte de sfarsitul anului,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Vor fi introduse cerinte si mai restrictive privind pneurile,  impactul frontal,  lateral si din spate, protectia pietonilo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imitele actuale pentru zgomotul exterior vor fi reduse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oua directiva de reciclare et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70c0"/>
                </a:solidFill>
                <a:uFillTx/>
                <a:latin typeface="Gill Sans MT"/>
              </a:rPr>
              <a:t>Efectul pozitiv: oportunitati de a se fabrica echipamente noi in Romania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atalizatoare evoluate si filtre de particul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Sisteme Stop@Star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Pneuri cu rezistenta la rulare mic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Sisteme de retinere copii si ISOFIX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Dispozitive optice cu DR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odule de comanda electronica pt securitatea pasiv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Ansambluri pentru tractiunea electrica si hibrida et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0" y="0"/>
            <a:ext cx="1512720" cy="337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glementa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lide Number Placeholder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08F0-A35E-45CA-8292-70F5C9E25D8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85760" y="6429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ill Sans MT"/>
              </a:rPr>
              <a:t>Alte intiative/actiuni europene cu impact in sectorul de componente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157400" y="2252160"/>
            <a:ext cx="7772400" cy="38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ill Sans MT"/>
              </a:rPr>
              <a:t>Cresterea competitivitatii industriei europene (Strategia Lisabo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Block Exemption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ill Sans MT"/>
              </a:rPr>
              <a:t>Protejarea (in continuare) a desenelor si a modelelor industriale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Finalizare favorabila pentru NAMA a rundei DOHA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ill Sans MT"/>
              </a:rPr>
              <a:t>Taxarea automobilelo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4E17-E677-4742-86ED-B89C21E8F90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931680" y="190080"/>
            <a:ext cx="82119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ill Sans MT"/>
              </a:rPr>
              <a:t>2.2 Provocarile loca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ill Sans MT"/>
              </a:rPr>
              <a:t>Traversarea « replicilor interne » ale undei de soc provocata de criza financia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Necesara tranzitie de la productia « low cost » la cea « value added » pe masura cresterii costului muncii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ill Sans MT"/>
              </a:rPr>
              <a:t>« Ancorarea » fabricatiei de componente  auto in Romania pt a o asigura contra pericolului « migratiei spre est »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Modernizarea subfurnizorilor indigeni pentru a putea patrunde in retelele furnizorilor de rang superior instalati in Romani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833A-FCDA-4253-BFDD-F9B0F56B7F8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31680" y="188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Gill Sans MT"/>
              </a:rPr>
              <a:t>ACAROM: programe suport de adaptare a </a:t>
            </a:r>
            <a:br>
              <a:rPr sz="2500"/>
            </a:br>
            <a:r>
              <a:rPr b="1" lang="fr-FR" sz="2500" spc="-1" strike="noStrike">
                <a:solidFill>
                  <a:srgbClr val="000000"/>
                </a:solidFill>
                <a:latin typeface="Gill Sans MT"/>
              </a:rPr>
              <a:t>fabricantilor de componente la aceste noi provocari 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999720" y="1714680"/>
            <a:ext cx="792972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Parteneriat cu MEF legat de politica industriala in sectorul auto; contract pentru elaborarea strategiei sectorului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85000" indent="-585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Parteneriat cu BRD pentru ghidarea financiara a investitorilor straini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85000" indent="-585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Parteneriat triunghiular DACIA-ACAROM-ODETTE International pentru formare logistica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85000" indent="-585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Promovarea potentialului sectorului de componente auto in vederea cooperarilor si atragerea investitiilor straine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85000" indent="-585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Configurarea unei retele de CDI auto interna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85000" indent="-585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-suport pentru amplasarea de unitati de CDI externe in Ro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85000" indent="-585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-retea interna de CDI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85000" indent="-585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Gill Sans MT"/>
              </a:rPr>
              <a:t>6.      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Asistenta pentru crearea de parcuri industriale dedicate componentistilo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2104-8626-40E3-A446-BE281A45C27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25440" y="214200"/>
            <a:ext cx="784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Gill Sans MT"/>
              </a:rPr>
              <a:t>ACAROM este implicata proactiv in elaborarea unei mai bune reglementari europene legate de automobile si componente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648320" y="1981080"/>
            <a:ext cx="44956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Gill Sans MT"/>
              </a:rPr>
              <a:t>Dosare in lucr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Emisia de CO2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Emisia de noxe- Euro 5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Euro 6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Securitate activa si pasiva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Carburanti auto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Protejarea desenelor/modelelor industriale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Block exemption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Tratativele DOHA- NAM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Regim schimburi comerciale cu state extracomunitar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Automobile second-hand in N.S.M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Mediu si competitivitate in N.S.M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250920" y="3357720"/>
            <a:ext cx="1441440" cy="10159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ACA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0" y="1916280"/>
            <a:ext cx="1785960" cy="110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C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ACAROM=Membru 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"/>
          <p:cNvSpPr/>
          <p:nvPr/>
        </p:nvSpPr>
        <p:spPr>
          <a:xfrm>
            <a:off x="2340000" y="1700280"/>
            <a:ext cx="1152360" cy="863640"/>
          </a:xfrm>
          <a:prstGeom prst="roundRect">
            <a:avLst>
              <a:gd name="adj" fmla="val 16667"/>
            </a:avLst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2"/>
          <p:cNvSpPr/>
          <p:nvPr/>
        </p:nvSpPr>
        <p:spPr>
          <a:xfrm>
            <a:off x="2771640" y="2276640"/>
            <a:ext cx="1152720" cy="863280"/>
          </a:xfrm>
          <a:prstGeom prst="roundRect">
            <a:avLst>
              <a:gd name="adj" fmla="val 16667"/>
            </a:avLst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3"/>
          <p:cNvSpPr/>
          <p:nvPr/>
        </p:nvSpPr>
        <p:spPr>
          <a:xfrm>
            <a:off x="3276720" y="2852640"/>
            <a:ext cx="1152360" cy="863640"/>
          </a:xfrm>
          <a:prstGeom prst="roundRect">
            <a:avLst>
              <a:gd name="adj" fmla="val 16667"/>
            </a:avLst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14"/>
          <p:cNvSpPr/>
          <p:nvPr/>
        </p:nvSpPr>
        <p:spPr>
          <a:xfrm>
            <a:off x="1258920" y="4653000"/>
            <a:ext cx="2160720" cy="863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UTORITATI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MEcFinante    - MIN MED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-MIMM&amp;Com    -R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15"/>
          <p:cNvSpPr/>
          <p:nvPr/>
        </p:nvSpPr>
        <p:spPr>
          <a:xfrm>
            <a:off x="324000" y="5877000"/>
            <a:ext cx="4032000" cy="360360"/>
          </a:xfrm>
          <a:prstGeom prst="rect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EUROPARLAMENT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9"/>
          <p:cNvSpPr/>
          <p:nvPr/>
        </p:nvSpPr>
        <p:spPr>
          <a:xfrm>
            <a:off x="684360" y="2781360"/>
            <a:ext cx="574560" cy="576360"/>
          </a:xfrm>
          <a:prstGeom prst="upDownArrow">
            <a:avLst>
              <a:gd name="adj1" fmla="val 50000"/>
              <a:gd name="adj2" fmla="val 19970"/>
            </a:avLst>
          </a:prstGeom>
          <a:gradFill rotWithShape="0">
            <a:gsLst>
              <a:gs pos="0">
                <a:srgbClr val="ffff00"/>
              </a:gs>
              <a:gs pos="100000">
                <a:srgbClr val="3891a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20"/>
          <p:cNvSpPr/>
          <p:nvPr/>
        </p:nvSpPr>
        <p:spPr>
          <a:xfrm>
            <a:off x="1692360" y="2205000"/>
            <a:ext cx="647640" cy="2872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21"/>
          <p:cNvSpPr/>
          <p:nvPr/>
        </p:nvSpPr>
        <p:spPr>
          <a:xfrm>
            <a:off x="1692360" y="2565360"/>
            <a:ext cx="934920" cy="360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22"/>
          <p:cNvSpPr/>
          <p:nvPr/>
        </p:nvSpPr>
        <p:spPr>
          <a:xfrm>
            <a:off x="1403280" y="42926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gradFill rotWithShape="0">
            <a:gsLst>
              <a:gs pos="0">
                <a:srgbClr val="3891a7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27"/>
          <p:cNvSpPr/>
          <p:nvPr/>
        </p:nvSpPr>
        <p:spPr>
          <a:xfrm>
            <a:off x="755640" y="4292640"/>
            <a:ext cx="216000" cy="1584360"/>
          </a:xfrm>
          <a:prstGeom prst="upDownArrow">
            <a:avLst>
              <a:gd name="adj1" fmla="val 50000"/>
              <a:gd name="adj2" fmla="val 146021"/>
            </a:avLst>
          </a:prstGeom>
          <a:gradFill rotWithShape="0">
            <a:gsLst>
              <a:gs pos="0">
                <a:srgbClr val="3891a7"/>
              </a:gs>
              <a:gs pos="100000">
                <a:srgbClr val="aa8a1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28"/>
          <p:cNvSpPr/>
          <p:nvPr/>
        </p:nvSpPr>
        <p:spPr>
          <a:xfrm>
            <a:off x="3851280" y="3716280"/>
            <a:ext cx="216000" cy="2089080"/>
          </a:xfrm>
          <a:prstGeom prst="upArrow">
            <a:avLst>
              <a:gd name="adj1" fmla="val 50000"/>
              <a:gd name="adj2" fmla="val 241792"/>
            </a:avLst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29"/>
          <p:cNvSpPr/>
          <p:nvPr/>
        </p:nvSpPr>
        <p:spPr>
          <a:xfrm>
            <a:off x="2987640" y="3141720"/>
            <a:ext cx="216000" cy="1439640"/>
          </a:xfrm>
          <a:prstGeom prst="upArrow">
            <a:avLst>
              <a:gd name="adj1" fmla="val 50000"/>
              <a:gd name="adj2" fmla="val 166625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30"/>
          <p:cNvSpPr/>
          <p:nvPr/>
        </p:nvSpPr>
        <p:spPr>
          <a:xfrm>
            <a:off x="2427120" y="17622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31"/>
          <p:cNvSpPr/>
          <p:nvPr/>
        </p:nvSpPr>
        <p:spPr>
          <a:xfrm>
            <a:off x="2843280" y="234936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32"/>
          <p:cNvSpPr/>
          <p:nvPr/>
        </p:nvSpPr>
        <p:spPr>
          <a:xfrm>
            <a:off x="3419640" y="2852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lide Number Placeholder 2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D0DC-5179-4607-AD53-505F2653A66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85760" y="142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3. Presiunea provocarilor “reaseaza” relatia dintre beneficiari si furnizorii lor de componente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157400" y="3298680"/>
            <a:ext cx="7772400" cy="20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nstructorii si furnizorii lor din amontele lantului sunt “condamnati sa vasleasca in aceeasi barca”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aspunsuri diferite pe categorii de componentisti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ctiuni ACAROM de sprijin pentru inovar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8940-5AE1-475B-8D75-BD4AF664BA8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85560" y="2071800"/>
            <a:ext cx="755316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1. O radiografie a sectorului de componente auto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0739-5BA2-4270-AFFE-7D87DC28519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66880" y="449280"/>
            <a:ext cx="82058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arcinile care revin componentistilor devin tot mai dificile pentru ca: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6" name="AutoShape 4"/>
          <p:cNvSpPr/>
          <p:nvPr/>
        </p:nvSpPr>
        <p:spPr>
          <a:xfrm>
            <a:off x="755640" y="1413000"/>
            <a:ext cx="7704000" cy="1224000"/>
          </a:xfrm>
          <a:prstGeom prst="downArrowCallout">
            <a:avLst>
              <a:gd name="adj1" fmla="val 157367"/>
              <a:gd name="adj2" fmla="val 157353"/>
              <a:gd name="adj3" fmla="val 16667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5"/>
          <p:cNvSpPr/>
          <p:nvPr/>
        </p:nvSpPr>
        <p:spPr>
          <a:xfrm>
            <a:off x="826920" y="1628640"/>
            <a:ext cx="7561440" cy="1871640"/>
          </a:xfrm>
          <a:prstGeom prst="downArrowCallout">
            <a:avLst>
              <a:gd name="adj1" fmla="val 101009"/>
              <a:gd name="adj2" fmla="val 101000"/>
              <a:gd name="adj3" fmla="val 16667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6"/>
          <p:cNvSpPr/>
          <p:nvPr/>
        </p:nvSpPr>
        <p:spPr>
          <a:xfrm>
            <a:off x="1082520" y="1347840"/>
            <a:ext cx="7775640" cy="1366920"/>
          </a:xfrm>
          <a:prstGeom prst="downArrowCallout">
            <a:avLst>
              <a:gd name="adj1" fmla="val -140589"/>
              <a:gd name="adj2" fmla="val 142211"/>
              <a:gd name="adj3" fmla="val 16667"/>
              <a:gd name="adj4" fmla="val 6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1155600" y="134136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f271c"/>
                </a:solidFill>
                <a:uFillTx/>
                <a:latin typeface="Times New Roman"/>
              </a:rPr>
              <a:t>Ponderea furnizorilor in bilantul valorii adaugate pe vehicul  a devenit majorit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8"/>
          <p:cNvSpPr/>
          <p:nvPr/>
        </p:nvSpPr>
        <p:spPr>
          <a:xfrm>
            <a:off x="1000080" y="2827440"/>
            <a:ext cx="8143920" cy="388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863640" y="3357720"/>
            <a:ext cx="8280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conceptia si validarea produselor noi,  furnizorii gestioneaza dezvoltarea produselor propri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Romania nu toti furnizorii locali sunt pregatiti sa asume aceasta sarci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0" y="0"/>
            <a:ext cx="18716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aceeasi b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Slide Number Placeholder 1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4E31-FCA3-4BC6-B971-816631099EB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14480" y="4968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Presiunea  asupra furnizorilor creste in continuar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pentru ca:</a:t>
            </a: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97308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AutoShape 4"/>
          <p:cNvSpPr/>
          <p:nvPr/>
        </p:nvSpPr>
        <p:spPr>
          <a:xfrm>
            <a:off x="1042920" y="1413000"/>
            <a:ext cx="7704360" cy="1224000"/>
          </a:xfrm>
          <a:prstGeom prst="downArrowCallout">
            <a:avLst>
              <a:gd name="adj1" fmla="val 157375"/>
              <a:gd name="adj2" fmla="val 157360"/>
              <a:gd name="adj3" fmla="val 16667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5"/>
          <p:cNvSpPr/>
          <p:nvPr/>
        </p:nvSpPr>
        <p:spPr>
          <a:xfrm>
            <a:off x="1114560" y="1628640"/>
            <a:ext cx="7561080" cy="1871640"/>
          </a:xfrm>
          <a:prstGeom prst="downArrowCallout">
            <a:avLst>
              <a:gd name="adj1" fmla="val 101005"/>
              <a:gd name="adj2" fmla="val 100995"/>
              <a:gd name="adj3" fmla="val 16667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1403280" y="177336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bilantul valorii adaugate pe vehicul furnizorii depasesc OEM-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7"/>
          <p:cNvSpPr/>
          <p:nvPr/>
        </p:nvSpPr>
        <p:spPr>
          <a:xfrm>
            <a:off x="971640" y="1214280"/>
            <a:ext cx="7775640" cy="1638360"/>
          </a:xfrm>
          <a:prstGeom prst="downArrowCallout">
            <a:avLst>
              <a:gd name="adj1" fmla="val -106740"/>
              <a:gd name="adj2" fmla="val 107971"/>
              <a:gd name="adj3" fmla="val 16667"/>
              <a:gd name="adj4" fmla="val 6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1187280" y="1209600"/>
            <a:ext cx="73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4f27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</a:rPr>
              <a:t>Baza de resurse se ingusteaza si preturile lor cre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250"/>
              </a:spcBef>
              <a:buClr>
                <a:srgbClr val="4f27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71c"/>
                </a:solidFill>
                <a:latin typeface="Times New Roman"/>
              </a:rPr>
              <a:t>Cresc necesitatile de capital odata cu extinderea globalizar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9"/>
          <p:cNvSpPr/>
          <p:nvPr/>
        </p:nvSpPr>
        <p:spPr>
          <a:xfrm>
            <a:off x="971640" y="2852640"/>
            <a:ext cx="7775640" cy="3745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1403280" y="4005360"/>
            <a:ext cx="676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1330200" y="3573360"/>
            <a:ext cx="698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1373040" y="3086280"/>
            <a:ext cx="7201080" cy="29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orii sau furnizorii de rang 1 vor “cupla” furnizorii proprii la achizitia resurselor-problema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tatile tehnologice locale, chiar ale companiilor concurente, vor trebui sa fie folosite mai mu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ine necesar ca beneficiarii sa-i sprijine mai consistent pe furnizori  in: 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igurarea capitalului de lucru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reglarea stocurilo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finantarea dezvoltarilor de produ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3"/>
          <p:cNvSpPr/>
          <p:nvPr/>
        </p:nvSpPr>
        <p:spPr>
          <a:xfrm>
            <a:off x="0" y="0"/>
            <a:ext cx="18716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aceeasi b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Slide Number Placeholder 15"/>
          <p:cNvSpPr/>
          <p:nvPr/>
        </p:nvSpPr>
        <p:spPr>
          <a:xfrm>
            <a:off x="871524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9073-AA8F-4CA2-B57C-A2B7753B449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utoShape 4"/>
          <p:cNvSpPr/>
          <p:nvPr/>
        </p:nvSpPr>
        <p:spPr>
          <a:xfrm>
            <a:off x="755640" y="1413000"/>
            <a:ext cx="7704000" cy="1224000"/>
          </a:xfrm>
          <a:prstGeom prst="downArrowCallout">
            <a:avLst>
              <a:gd name="adj1" fmla="val 157367"/>
              <a:gd name="adj2" fmla="val 157353"/>
              <a:gd name="adj3" fmla="val 16667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1000080" y="1714680"/>
            <a:ext cx="8143920" cy="5143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1116000" y="4005360"/>
            <a:ext cx="676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0"/>
          <p:cNvSpPr/>
          <p:nvPr/>
        </p:nvSpPr>
        <p:spPr>
          <a:xfrm>
            <a:off x="1004760" y="1965240"/>
            <a:ext cx="82105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ecaruia dintre parteneri ii revine o responsabilitate maxima privi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sul propriu, in toate privinte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rea componentelor in vehicu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ectarea conditionalitatilor pe intreg ciclul de viata al vehicululu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esul “adanc”, rapid si biunivoc la informatii: trebuie garantat si exti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imbari de materiale si tehnologii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le din incidentologi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urile de product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1"/>
          <p:cNvSpPr/>
          <p:nvPr/>
        </p:nvSpPr>
        <p:spPr>
          <a:xfrm>
            <a:off x="0" y="0"/>
            <a:ext cx="18716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aceeasi b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1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AF95-D4B2-487B-9977-232C60A12A0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13"/>
          <p:cNvSpPr/>
          <p:nvPr/>
        </p:nvSpPr>
        <p:spPr>
          <a:xfrm>
            <a:off x="1000080" y="5270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alitatea si inovarea au devenit premize incontestabile ale succesului pe pi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71720" y="-360"/>
            <a:ext cx="7772400" cy="10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osibilitati si modalitati de raspuns ale componentistilor privind inovarea sunt diferentiate: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928800" y="1214280"/>
            <a:ext cx="813888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Furnizorii (internationali) de rang 1  isi concep produsele in centrele proprii, fiind implicati din start in conceptia vehiculelor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Furnizorii de rang inferior se afla in trei situatii 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nt filiale ale unor furnizori internationali care primesc totul, respectiv:  marketingul, piata, conceptia, investitiile tehnologice pentru asimilarea  produselor noi 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nt furnizori  mici sau mijlocii, de regula indigeni, cu  capacitate de a-si concepe si asimila in fabricatie produse noi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nt  componentisti mici, indigeni, fara capacitate de conceptie si asimilare produse noi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1" lang="en-US" sz="2000" spc="-1" strike="noStrike">
                <a:solidFill>
                  <a:srgbClr val="0070c0"/>
                </a:solidFill>
                <a:latin typeface="Gill Sans MT"/>
              </a:rPr>
              <a:t>Ultimele doua categorii beneficiaza (ipotetic) de cerere,  si adesea chiar de capital,  ceea ce este esential,  dar nu este suficien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ill Sans MT"/>
              </a:rPr>
              <a:t>      </a:t>
            </a:r>
            <a:r>
              <a:rPr b="1" lang="en-US" sz="2000" spc="-1" strike="noStrike" u="sng">
                <a:solidFill>
                  <a:srgbClr val="0070c0"/>
                </a:solidFill>
                <a:uFillTx/>
                <a:latin typeface="Gill Sans MT"/>
              </a:rPr>
              <a:t>Pentru supravietuirea lor exista doua solutii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Folosirea suportului financiar al statului si a capacitatii de inovare din universitati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70c0"/>
                </a:solidFill>
                <a:latin typeface="Gill Sans MT"/>
              </a:rPr>
              <a:t>Cuplarea” cu firme puternice straine din domeniul respectiv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Slide Number Placeholder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6CE9-AF19-4F04-900A-AECF5BB8762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114300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CAROM desfasoara un program special pentru componentisti cu tinta: “suport inovare”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942840" y="1218960"/>
            <a:ext cx="77724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Informare si asistenta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: contacte cu furnizori de acelasi profil din exterior, burse de contacte,  acompanieri misiuni de evaluare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Lobby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pe langa autoritatile care dirijeaza fondurile pentru inovare pentru alocarea sumelor necesare pentru punerea in fabricatie de produse auto noi si pentru ameliorarea tehnologiilo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CAROM este membra a Cons. Consultativ pentru CDI si celui pentru Inovare ale ANCS;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arteneriat cu AMCSIT (Agentia Manageriala de Cercetare Stiintifica, Inovare si Transfer Tehnologic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m creat portalul SPRINT pentru punerea in legatura a fabricantilor de componente cu entitatile de cercetare legate de domeniul auto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prijin direct pt redactare proiecte pentru accesarea de fonduri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rokeraj de informatii  pentru colaborari la asimilarea in productie a pieselor noi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00B2-D7F6-40E3-8D51-8DC3DAA28DE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-1785960" y="-3574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Cateva concluzii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571680" y="571320"/>
            <a:ext cx="857232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Gestionare atenta a actualei crize economico-financiare globale de catre toti actorii implicati in industria de automobile, recurgand la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resterea transparentei privind preturile resurselor si bazelor de date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considerarea relatiilor intre furnizori si beneficiari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ptarea unor marje de profit mai mici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atament social adevca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rijarea preponderenta a fondurilor din PNCDI si POS catre industria de componente auto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programarea termenelor de realizare a investitiilor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 altele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rectarea actualei taxe de poluare de catre Guvernul Romaniei pentru stimularea pietei automobilelor noi,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ill Sans MT"/>
              </a:rPr>
              <a:t>Pot oferi Romaniei, sansa unica de a tripla cifra de afaceri in industria auto in 2012 fata de nivelul actua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 pe pozitia de asociatie reprezentativa a sectorului auto din Romania,  si concomitent membra a  ACEA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ACAROM deruleaza pe baza statutului sau programe si actiuni care vizeaza dezvoltarea in continuare a sectorului de component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9663-3996-43F4-ADEC-4A7DAA55D47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144360" y="2492280"/>
            <a:ext cx="197964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640" y="-143280"/>
            <a:ext cx="8697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Reteaua de furnizori auto din Romania a crescut considerabil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5786280" y="4883040"/>
            <a:ext cx="1221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395280" y="1270080"/>
            <a:ext cx="137160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RA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Takata Petri Romani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Leoni Wiring Systems Ara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lkoa Fujiku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EKR Elektrokontakt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Bos Automotive Produc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Nexans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Yazaki Component Technolog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Valvetek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lcoa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Superplast Internatio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indu Romani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ERT Group Automoti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ilmet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ilmet Technolog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ficab Eastern Europ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395280" y="2997360"/>
            <a:ext cx="1512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TIMI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ental Automotive Produc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lphi Packard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Kromberg &amp; Schubert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Eybl Automotive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iemens Vdo Automoti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Eybl Automotive Compon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SR Draxlmaier Serviceleistunge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Hella Lighting Romania SR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Dura Automoti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ficab Eastern Europe SR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Valeo Light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Elba 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Neferprod Impe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Spumoti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TRW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Hella Electronics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ahle Componente de Mo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GI Couti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Plastique For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ntite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ecayeu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Fril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Gantoi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Ha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Leman Industr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FM Logisti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Pro-Ingenieur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chieff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chlemmer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ol Pl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olectr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c Plastic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7" descr="regiuni_color"/>
          <p:cNvPicPr/>
          <p:nvPr/>
        </p:nvPicPr>
        <p:blipFill>
          <a:blip r:embed="rId2"/>
          <a:stretch/>
        </p:blipFill>
        <p:spPr>
          <a:xfrm>
            <a:off x="2050920" y="1701720"/>
            <a:ext cx="3745080" cy="2808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8"/>
          <p:cNvSpPr/>
          <p:nvPr/>
        </p:nvSpPr>
        <p:spPr>
          <a:xfrm>
            <a:off x="1476360" y="3933720"/>
            <a:ext cx="122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HUNEDOA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Black River Chimpla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Chim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ews Romania SR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Key Safety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LR Lisa Dräxlmaier Autopa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Jacquemet Inve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2987640" y="549360"/>
            <a:ext cx="15177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LUJ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utomobile Componente Electr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Eckerle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Ruwel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Trelleborg Romania 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mberger Werkzeugb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a Moderna de Met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ecelec Plastic Composi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MMM Autopar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Sinter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Turdea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1979640" y="765000"/>
            <a:ext cx="10126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ALAJ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ichelin – Silvani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ichelin Romsteel Cor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Silcotu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1"/>
          <p:cNvSpPr/>
          <p:nvPr/>
        </p:nvSpPr>
        <p:spPr>
          <a:xfrm>
            <a:off x="539640" y="476280"/>
            <a:ext cx="1600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ATU MA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RM Lisa Dralmaier Sisteme Electr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Phoenix Romania SR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chlemmer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utonova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Wo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2"/>
          <p:cNvSpPr/>
          <p:nvPr/>
        </p:nvSpPr>
        <p:spPr>
          <a:xfrm>
            <a:off x="1692360" y="1628640"/>
            <a:ext cx="10764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BIH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utoflex SR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Ficamt 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UA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apir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Plastic Crisana – Lusipla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Vernicol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3"/>
          <p:cNvSpPr/>
          <p:nvPr/>
        </p:nvSpPr>
        <p:spPr>
          <a:xfrm>
            <a:off x="468360" y="1052640"/>
            <a:ext cx="10285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LB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tar Transmission Cugi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7164360" y="981000"/>
            <a:ext cx="115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PRAHOV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Freudenberg Flexibile Fra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alsonic Kanse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Johnson Contro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Yazaki Romani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Vitoria Floresti / Micheli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efin Sina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aint Gobai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5"/>
          <p:cNvSpPr/>
          <p:nvPr/>
        </p:nvSpPr>
        <p:spPr>
          <a:xfrm>
            <a:off x="5364000" y="620640"/>
            <a:ext cx="16513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BRASOV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utoliv Romania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Ina Schaeff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Electropreciz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Rolem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TR Lisa Draxlmaier SistemeTechn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PR Draxlemeier Procese de Product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tabilus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DB-DEF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Fenec Rubber Easten Europe (F.R.E.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Fontana Farstener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Total Lubrifin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Terw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Organe de Asambla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ISKO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Magic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Meca - Rectif Ramania S.R.L Codl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Redpla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Romradatoa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Vide Express Romania 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6"/>
          <p:cNvSpPr/>
          <p:nvPr/>
        </p:nvSpPr>
        <p:spPr>
          <a:xfrm>
            <a:off x="7705800" y="18900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HARGHI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FAP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atric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dvanced Label Techologi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7"/>
          <p:cNvSpPr/>
          <p:nvPr/>
        </p:nvSpPr>
        <p:spPr>
          <a:xfrm>
            <a:off x="4356000" y="549360"/>
            <a:ext cx="1371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BISTRITA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NASAU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Leoni Wiring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Romba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Nete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Ra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StewoPlasti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8"/>
          <p:cNvSpPr/>
          <p:nvPr/>
        </p:nvSpPr>
        <p:spPr>
          <a:xfrm>
            <a:off x="1476360" y="5518080"/>
            <a:ext cx="108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OL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ltur 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utomotiv Prod Serv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Ecoca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In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Puls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Pirelli Tyres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Pirelli Cord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9"/>
          <p:cNvSpPr/>
          <p:nvPr/>
        </p:nvSpPr>
        <p:spPr>
          <a:xfrm>
            <a:off x="5724360" y="2637000"/>
            <a:ext cx="1440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BUCUREST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BMI Inginer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ect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mr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B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rte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VL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Bame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Best Electroni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Bos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Caran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Chorus Engineer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Consulting development Suppli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Crescendo Internatio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Dah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Dover Internatio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Dupo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Electroaparataj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Evonik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Maxi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Eurobox Logistic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Glasscor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Industria Iute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Inged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ISIS Develop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Uttis Industr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Osram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Policol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Polymo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Pro Auto Industri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Proto Technolog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Rom Charter Servi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Schoeller Arca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Tesatoriile Reuni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Vig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ourdi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Honeywell Garret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Electroaparataj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iemen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aimlerChrysler Automotiv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Emi Internatio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Euro Sandow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YKK Romani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0"/>
          <p:cNvSpPr/>
          <p:nvPr/>
        </p:nvSpPr>
        <p:spPr>
          <a:xfrm>
            <a:off x="1476360" y="5157720"/>
            <a:ext cx="720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VALC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Magnetto Whee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EMAR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1"/>
          <p:cNvSpPr/>
          <p:nvPr/>
        </p:nvSpPr>
        <p:spPr>
          <a:xfrm>
            <a:off x="397080" y="274608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22"/>
          <p:cNvSpPr/>
          <p:nvPr/>
        </p:nvSpPr>
        <p:spPr>
          <a:xfrm>
            <a:off x="397080" y="370368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3"/>
          <p:cNvSpPr/>
          <p:nvPr/>
        </p:nvSpPr>
        <p:spPr>
          <a:xfrm>
            <a:off x="2771640" y="4510080"/>
            <a:ext cx="13716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IBI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Thyssen Krupp Billstein Comp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tyri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Kuhnke Production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Faurecia SeatingTalmaciu SR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Brandl RO SR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NR Rulmenti SR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Takata Petri Sibiu SR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Kromberg&amp;Schubert Medi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ent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tyria Arcur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arquardt Schalsysteme SC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aucho Metal Product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Comp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Gerom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H Brand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o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Polifle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24"/>
          <p:cNvSpPr/>
          <p:nvPr/>
        </p:nvSpPr>
        <p:spPr>
          <a:xfrm>
            <a:off x="7164360" y="1916280"/>
            <a:ext cx="144144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RG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na Ime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uto Coat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utomatisme Industria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utomobile Dac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utomotiv Complet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Johnson Controls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Comefi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Componente au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Electroarg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Lear Corporation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uto Chassis International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Valeo Climate Contro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Valeo Electical Connecti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Reti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Euro Auto Plastic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Euro Matri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Borla Romca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Delta inve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Diverte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DNN Team Consult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Ronera Rubb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Romautopa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Dow Automoti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utomotive Complete Syste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Inginerie et RealisationsIndustriel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egula Integr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K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Flexipla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Labco Internation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Matrite Dac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Mav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Metal Produc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Metal Impe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Montana M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Mu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Omnium Distribution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Takos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rtub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Inerg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GIC-NOSA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S I L D V 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Two Mar Busines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Lisa Draxlmei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etzel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P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Lambere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Piroux Industri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Sealynx Automotive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Subansamble Au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Technopla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lemenssy Automatiza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P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V2S Vopsel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1476360" y="4797360"/>
            <a:ext cx="863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ARAS-SEVERI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TMD Fric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26"/>
          <p:cNvSpPr/>
          <p:nvPr/>
        </p:nvSpPr>
        <p:spPr>
          <a:xfrm>
            <a:off x="4067280" y="5157720"/>
            <a:ext cx="1152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ILFOV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ACT Logistic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Erpr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Phoenix Industr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Renault Tehnologie Rouman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Vorte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Group Allio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3851280" y="1486080"/>
            <a:ext cx="8636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UCEAV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Side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Tesv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28"/>
          <p:cNvSpPr/>
          <p:nvPr/>
        </p:nvSpPr>
        <p:spPr>
          <a:xfrm>
            <a:off x="4067280" y="4581360"/>
            <a:ext cx="863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TELEORM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Koyo Roman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9"/>
          <p:cNvSpPr/>
          <p:nvPr/>
        </p:nvSpPr>
        <p:spPr>
          <a:xfrm>
            <a:off x="4067280" y="4870440"/>
            <a:ext cx="93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ONSTAN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lme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0"/>
          <p:cNvSpPr/>
          <p:nvPr/>
        </p:nvSpPr>
        <p:spPr>
          <a:xfrm>
            <a:off x="4356000" y="1270080"/>
            <a:ext cx="8636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IAS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Asa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Cosel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1"/>
          <p:cNvSpPr/>
          <p:nvPr/>
        </p:nvSpPr>
        <p:spPr>
          <a:xfrm>
            <a:off x="5219640" y="2925720"/>
            <a:ext cx="432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Buz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Fermi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Ger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2"/>
          <p:cNvSpPr/>
          <p:nvPr/>
        </p:nvSpPr>
        <p:spPr>
          <a:xfrm>
            <a:off x="4788000" y="1341360"/>
            <a:ext cx="503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316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Romcab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  <a:ea typeface="Times New Roman"/>
              </a:rPr>
              <a:t>Para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3"/>
          <p:cNvSpPr/>
          <p:nvPr/>
        </p:nvSpPr>
        <p:spPr>
          <a:xfrm>
            <a:off x="7093080" y="620640"/>
            <a:ext cx="115236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VAS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LT Sentega  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lide Number Placeholder 3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CFC1-717F-4020-A4B6-421D96C0CBA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3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3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7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70" fill="hold"/>
                                        <p:tgtEl>
                                          <p:spTgt spid="3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8576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op 15 – fabricanti de componente auto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1000080" y="1557360"/>
          <a:ext cx="3809880" cy="4922640"/>
        </p:xfrm>
        <a:graphic>
          <a:graphicData uri="http://schemas.openxmlformats.org/drawingml/2006/table">
            <a:tbl>
              <a:tblPr/>
              <a:tblGrid>
                <a:gridCol w="1582920"/>
                <a:gridCol w="1079280"/>
                <a:gridCol w="1147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 ‘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 eu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gaja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Continen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Michel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Takata Pet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Leoni Wir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INA Schaeff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Yaza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5119560" y="1557360"/>
          <a:ext cx="3810240" cy="4896000"/>
        </p:xfrm>
        <a:graphic>
          <a:graphicData uri="http://schemas.openxmlformats.org/drawingml/2006/table">
            <a:tbl>
              <a:tblPr/>
              <a:tblGrid>
                <a:gridCol w="1579680"/>
                <a:gridCol w="1081080"/>
                <a:gridCol w="114948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Johnson Contr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Draxlma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4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SE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 Pire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Autol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Com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Valeo Cabl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 Timk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.7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9.6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414" name="Slide Number Placeholder 8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B6C1-5C91-4F36-B7E3-F70772B2266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8576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Factorii care motiveaza dezvoltarea in continuare a  sectorului de componente auto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28800" y="1483920"/>
            <a:ext cx="82152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ntegrarea locala a  gamei Dacia = 80% in 2009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nelul global  de furnizori Dacia- Renault – Nissan este deschis furnizorilor romani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Venirea lui Ford in Romania cu un procent de integrare locala asumat = 60%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litica de incurajare a investitiilor straine directe si indigene in industria auto, in general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stul inca redus al muncii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zitionarea in polul C&amp;E European de productie pentru care se prognozeaza  cresteri ale productiei auto in etapa 2007-2013: 47%, 192% pt Romani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F92B-4C5D-4816-98DA-5CFEB99D2BF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7400" y="47592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Prognoza CSM Worldwide pentru 2007-2013: crestere semnificativa in Polul central &amp; est european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19" name="Object 3"/>
          <p:cNvGraphicFramePr/>
          <p:nvPr/>
        </p:nvGraphicFramePr>
        <p:xfrm>
          <a:off x="917640" y="1768320"/>
          <a:ext cx="6913440" cy="4037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2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7640" y="1768320"/>
                    <a:ext cx="691344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Text Box 5"/>
          <p:cNvSpPr/>
          <p:nvPr/>
        </p:nvSpPr>
        <p:spPr>
          <a:xfrm>
            <a:off x="1428840" y="6308640"/>
            <a:ext cx="79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a: Nu au fost luate in calcul implantarile decise dupa sem 1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6"/>
          <p:cNvSpPr/>
          <p:nvPr/>
        </p:nvSpPr>
        <p:spPr>
          <a:xfrm>
            <a:off x="2124000" y="5734080"/>
            <a:ext cx="4608720" cy="647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2411280" y="5877000"/>
            <a:ext cx="41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stere Romania = 19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8"/>
          <p:cNvSpPr/>
          <p:nvPr/>
        </p:nvSpPr>
        <p:spPr>
          <a:xfrm>
            <a:off x="2279520" y="1773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3564000" y="37893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1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"/>
          <p:cNvSpPr/>
          <p:nvPr/>
        </p:nvSpPr>
        <p:spPr>
          <a:xfrm>
            <a:off x="5148360" y="3068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4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6572160" y="352116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7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2"/>
          <p:cNvSpPr/>
          <p:nvPr/>
        </p:nvSpPr>
        <p:spPr>
          <a:xfrm>
            <a:off x="0" y="0"/>
            <a:ext cx="35640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a auto va creste in z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lide Number Placeholder 1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16AA-5B15-4B4D-B824-9D422AB27AA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28680" y="192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2. Noi provocari in fata sectorului de componente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157400" y="385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rovocari zonale/europene/globa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rovocari loca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E5A7-6851-404C-9E34-5FF6A93ABFD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2.1. Provocarile globale/europene/zonale se rasfrang asupra furnizorilor din Romania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Zona central &amp; est europeana = o zona predilecta de crestere a industriei auto, indiferent de scenarii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retul materialelor prim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sturile fabricatiei &amp; logistici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curitatea sourcingulu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Reglementarile europe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riza financiar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rograme-suport ACAR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B883-972C-47EE-AE77-EB9A3D1C3A9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740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4 ani de crestere a preturil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aterialelor de baza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2"/>
          <a:stretch/>
        </p:blipFill>
        <p:spPr>
          <a:xfrm>
            <a:off x="785880" y="1230480"/>
            <a:ext cx="8964720" cy="550512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4"/>
          <p:cNvSpPr/>
          <p:nvPr/>
        </p:nvSpPr>
        <p:spPr>
          <a:xfrm>
            <a:off x="0" y="0"/>
            <a:ext cx="3240000" cy="398880"/>
          </a:xfrm>
          <a:prstGeom prst="rect">
            <a:avLst/>
          </a:prstGeom>
          <a:solidFill>
            <a:srgbClr val="8dc7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tul materialelor de ba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CB34-B634-4DC1-95D4-8AE36667047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rian</dc:creator>
  <dc:description/>
  <dc:language>en-US</dc:language>
  <cp:lastModifiedBy>eveniment</cp:lastModifiedBy>
  <dcterms:modified xsi:type="dcterms:W3CDTF">2008-10-28T09:02:57Z</dcterms:modified>
  <cp:revision>33</cp:revision>
  <dc:subject/>
  <dc:title>PowerPoint Presentation</dc:title>
</cp:coreProperties>
</file>