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601200" cy="6858000"/>
  <p:notesSz cx="10004425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762-58F9-4816-86EA-34795650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A95-C3C7-4CC1-8506-0F3AA288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965-3D6D-4F5A-82B5-432E4765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5A8-24D8-4F41-8842-BA85B960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9DC-4540-4A5D-A20C-F5FAD8D3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4CE-7F6E-47BC-92B0-1EE0DAA9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CBE-CF6B-4D26-8E3D-80860B38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D31-B7AF-4B86-909B-24AAADF8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D4A-E799-4C45-B1B3-556EFE0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F58-9DF3-4C95-BF61-1591AF7A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67B-DFEA-428E-BD9C-553142B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A93-1F24-4B79-AB44-4AB1E02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8382-9230-429B-8819-EE653C1F6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office@fgcr.ro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3040" y="219240"/>
            <a:ext cx="9187200" cy="6260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204920" y="453960"/>
            <a:ext cx="960480" cy="89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79880" y="63828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.G.C.R. - I.F.N. S.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91240" y="433440"/>
            <a:ext cx="962280" cy="893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76480" y="2149560"/>
            <a:ext cx="761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 Black"/>
                <a:ea typeface="Arial"/>
              </a:rPr>
              <a:t>Posibilităţi de garant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 Black"/>
                <a:ea typeface="Arial"/>
              </a:rPr>
              <a:t>a creditelor acord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 Black"/>
                <a:ea typeface="Arial"/>
              </a:rPr>
              <a:t>beneficiarilor</a:t>
            </a:r>
            <a:r>
              <a:rPr b="1" lang="en-GB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 Black"/>
              </a:rPr>
              <a:t>publici şi </a:t>
            </a:r>
            <a:r>
              <a:rPr b="1" lang="ro-RO" sz="2800" spc="-1" strike="noStrike">
                <a:solidFill>
                  <a:srgbClr val="ffffff"/>
                </a:solidFill>
                <a:latin typeface="Arial Black"/>
                <a:ea typeface="Arial"/>
              </a:rPr>
              <a:t>privaţ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 Black"/>
                <a:ea typeface="Arial"/>
              </a:rPr>
              <a:t>- proceduri </a:t>
            </a:r>
            <a:r>
              <a:rPr b="1" lang="ro-RO" sz="2800" spc="-1" strike="noStrike">
                <a:solidFill>
                  <a:srgbClr val="ffffff"/>
                </a:solidFill>
                <a:latin typeface="Arial Black"/>
              </a:rPr>
              <a:t>ş</a:t>
            </a:r>
            <a:r>
              <a:rPr b="1" lang="ro-RO" sz="2800" spc="-1" strike="noStrike">
                <a:solidFill>
                  <a:srgbClr val="ffffff"/>
                </a:solidFill>
                <a:latin typeface="Arial Black"/>
                <a:ea typeface="Arial"/>
              </a:rPr>
              <a:t>i termene contractuale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08160" y="5921280"/>
            <a:ext cx="33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66ff"/>
                </a:solidFill>
                <a:latin typeface="Arial Black"/>
              </a:rPr>
              <a:t>                   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www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 fgcr.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8000" y="420840"/>
            <a:ext cx="1015920" cy="5943600"/>
          </a:xfrm>
          <a:prstGeom prst="flowChartManualInpu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ORDONATELE ANALIZE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 economico-financia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clientului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ul de credit/ofer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rm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creditar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ectul: studiul de fezabilitate, planul de afaceri etc.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curile asocia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 elemente relevante pentru acordarea garan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5400" y="1704960"/>
            <a:ext cx="8128080" cy="0"/>
          </a:xfrm>
          <a:prstGeom prst="line">
            <a:avLst/>
          </a:prstGeom>
          <a:ln w="82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8427000">
            <a:off x="5331600" y="4054320"/>
            <a:ext cx="2760840" cy="812880"/>
          </a:xfrm>
          <a:custGeom>
            <a:avLst/>
            <a:gdLst>
              <a:gd name="textAreaLeft" fmla="*/ 431280 w 2760840"/>
              <a:gd name="textAreaRight" fmla="*/ 2415960 w 276084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153400">
            <a:off x="3146400" y="3522600"/>
            <a:ext cx="4757760" cy="654120"/>
          </a:xfrm>
          <a:prstGeom prst="rightArrow">
            <a:avLst>
              <a:gd name="adj1" fmla="val 50000"/>
              <a:gd name="adj2" fmla="val 18183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506240" y="5257800"/>
            <a:ext cx="492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10120" y="1422360"/>
            <a:ext cx="1509840" cy="1598760"/>
          </a:xfrm>
          <a:custGeom>
            <a:avLst/>
            <a:gdLst>
              <a:gd name="textAreaLeft" fmla="*/ 202320 w 1509840"/>
              <a:gd name="textAreaRight" fmla="*/ 1307520 w 1509840"/>
              <a:gd name="textAreaTop" fmla="*/ 297720 h 1598760"/>
              <a:gd name="textAreaBottom" fmla="*/ 1105920 h 159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45" stAng="-5400000" swAng="-5400000"/>
                <a:lnTo>
                  <a:pt x="0" y="10920"/>
                </a:lnTo>
                <a:arcTo wR="21600" hR="8045" stAng="10800000" swAng="-2791890"/>
                <a:lnTo>
                  <a:pt x="14409" y="21141"/>
                </a:lnTo>
                <a:lnTo>
                  <a:pt x="21600" y="17528"/>
                </a:lnTo>
                <a:lnTo>
                  <a:pt x="14409" y="12996"/>
                </a:lnTo>
                <a:lnTo>
                  <a:pt x="14409" y="15631"/>
                </a:lnTo>
                <a:arcTo wR="21600" hR="8045" stAng="8008110" swAng="2559717"/>
                <a:lnTo>
                  <a:pt x="348" y="9482"/>
                </a:lnTo>
                <a:arcTo wR="21600" hR="8045" stAng="-10567826" swAng="5167826"/>
                <a:close/>
              </a:path>
              <a:path fill="darkenLess" w="21600" h="21600">
                <a:moveTo>
                  <a:pt x="21600" y="0"/>
                </a:moveTo>
                <a:arcTo wR="21600" hR="8045" stAng="-5400000" swAng="-5400000"/>
                <a:lnTo>
                  <a:pt x="0" y="8045"/>
                </a:lnTo>
                <a:arcTo wR="21600" hR="8045" stAng="10800000" swAng="-232174"/>
                <a:lnTo>
                  <a:pt x="348" y="9482"/>
                </a:lnTo>
                <a:arcTo wR="21600" hR="8045" stAng="-10567826" swAng="5167826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09840" y="103320"/>
            <a:ext cx="514044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luxul oper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entru</a:t>
            </a:r>
            <a:r>
              <a:rPr b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ob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inerea gara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iei Fondului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4760" y="731880"/>
            <a:ext cx="2482920" cy="2408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7320" y="1146240"/>
            <a:ext cx="2325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ul solici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ii comerciale acordarea creditul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33880" y="1698480"/>
            <a:ext cx="2234880" cy="827280"/>
          </a:xfrm>
          <a:prstGeom prst="rect">
            <a:avLst/>
          </a:prstGeom>
          <a:solidFill>
            <a:srgbClr val="ffffcc">
              <a:alpha val="9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8320" y="1706400"/>
            <a:ext cx="2341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ERCIA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5680" y="1600200"/>
            <a:ext cx="1887480" cy="1015920"/>
          </a:xfrm>
          <a:prstGeom prst="ellips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9600">
            <a:off x="2685960" y="1509480"/>
            <a:ext cx="49392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369240" y="2427840"/>
            <a:ext cx="49356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2040" y="1249200"/>
            <a:ext cx="1436760" cy="304920"/>
          </a:xfrm>
          <a:custGeom>
            <a:avLst/>
            <a:gdLst>
              <a:gd name="textAreaLeft" fmla="*/ 251280 w 1436760"/>
              <a:gd name="textAreaRight" fmla="*/ 1041840 w 14367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81760" y="1755720"/>
            <a:ext cx="1657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n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 de luc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270400">
            <a:off x="7459200" y="457200"/>
            <a:ext cx="857520" cy="1015920"/>
          </a:xfrm>
          <a:custGeom>
            <a:avLst/>
            <a:gdLst>
              <a:gd name="textAreaLeft" fmla="*/ 114840 w 857520"/>
              <a:gd name="textAreaRight" fmla="*/ 742680 w 857520"/>
              <a:gd name="textAreaTop" fmla="*/ 177840 h 1015920"/>
              <a:gd name="textAreaBottom" fmla="*/ 73656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29640" y="927000"/>
            <a:ext cx="1582560" cy="827280"/>
          </a:xfrm>
          <a:prstGeom prst="rect">
            <a:avLst/>
          </a:prstGeom>
          <a:solidFill>
            <a:srgbClr val="ffffcc">
              <a:alpha val="9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83400" y="933480"/>
            <a:ext cx="2095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GCR IF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8420760" y="1729440"/>
            <a:ext cx="49356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0320" y="2484360"/>
            <a:ext cx="1625760" cy="1190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2535120"/>
            <a:ext cx="23097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zeaz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icitare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garant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7 – 15 zi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cr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a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7547760" y="4402800"/>
            <a:ext cx="2205000" cy="914400"/>
          </a:xfrm>
          <a:prstGeom prst="rightArrow">
            <a:avLst>
              <a:gd name="adj1" fmla="val 50000"/>
              <a:gd name="adj2" fmla="val 602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4480" y="4219560"/>
            <a:ext cx="1625760" cy="871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8880" y="6035760"/>
            <a:ext cx="1625400" cy="769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61320" y="4397400"/>
            <a:ext cx="1482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i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ran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45560" y="6172200"/>
            <a:ext cx="14158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unic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840" y="3260880"/>
            <a:ext cx="3889440" cy="900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4722840"/>
            <a:ext cx="2830680" cy="958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000" y="6012000"/>
            <a:ext cx="2990880" cy="70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600" y="6021360"/>
            <a:ext cx="2236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heierea contractului de cred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9680" y="4757760"/>
            <a:ext cx="27748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ob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editul, sub rezerva ob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rii gara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i FG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000" y="3332160"/>
            <a:ext cx="4195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eaz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cumenta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 de credit (bonitatea clientului, eficie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facerii, gara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le clientului etc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1014120" y="3981240"/>
            <a:ext cx="49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3880" y="3070080"/>
            <a:ext cx="1901520" cy="1235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14760" y="3232080"/>
            <a:ext cx="1701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ci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ara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 din partea FG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62640" y="4402080"/>
            <a:ext cx="1320840" cy="755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30800" y="4495680"/>
            <a:ext cx="1702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ob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ara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3320" y="5326200"/>
            <a:ext cx="3295440" cy="1485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60920" y="5392800"/>
            <a:ext cx="310500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heie contractu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garantare cu banca comercial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ransmite procura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baza c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a constituie garan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le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favoarea Fondulu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78080" y="5935680"/>
            <a:ext cx="406440" cy="654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14400" y="939960"/>
            <a:ext cx="6240600" cy="1493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5720" y="217440"/>
            <a:ext cx="776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ff9900"/>
                </a:solidFill>
                <a:latin typeface="Arial Black"/>
              </a:rPr>
              <a:t>Comisioane de garantar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05040" y="996840"/>
            <a:ext cx="6242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serviciile ofer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anu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FGCR S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pe comisioane de garantare al 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r nivel este cel aferent ratingului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rumutul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" y="3498840"/>
            <a:ext cx="88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00"/>
                </a:solidFill>
                <a:latin typeface="Arial Black"/>
              </a:rPr>
              <a:t>C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misioanel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calculează ca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ocent din valoarea garanţiei – pentru creditele pe termen scu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e p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la acorda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iar la cele de investiţii se calculează la valoarea garanţi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e p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la acorda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proporţional cu numărul de luni întregi de garant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finele anulu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espectiv anual la sold p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reaga perioa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credita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5400000">
            <a:off x="4535640" y="1848960"/>
            <a:ext cx="668160" cy="8717040"/>
          </a:xfrm>
          <a:prstGeom prst="flowChartManualInpu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Î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P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Ă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Ţ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REA RISCURIL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720" y="21240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a va acorda creditul numai dup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ituirea celorlalte gara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colaterale (cel putin 20%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a va notifica Fondul cu privire la orice eveniment care ar putea avea ca rezultat producerea riscului de credit, precum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u privire la apar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 unei inform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sau circumsta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care ar putea influe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porturile contractuale dintre B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li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a se oblig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lidar cu clientul la plata comisioanel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a va introduc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contractul de credit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ele accesorii clauze cu privire la calitatea Fondului de co-credi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, cu rang egal, propo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al cu procentul de garant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5400" y="1704960"/>
            <a:ext cx="8128080" cy="0"/>
          </a:xfrm>
          <a:prstGeom prst="line">
            <a:avLst/>
          </a:prstGeom>
          <a:ln w="82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81040" y="566640"/>
            <a:ext cx="1204920" cy="32799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279960"/>
              <a:gd name="textAreaBottom" fmla="*/ 3280320 h 327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>
              <a:alpha val="8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UPORTAREA PIERDERIL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0720" y="21240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rderile survenite ca urmare a producerii riscului de credit se suport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por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al, conform procentului de risc asumat de Banc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Fo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ta valorii de executare a garan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i, sumele rezultate dup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area/valorificarea de c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 Banc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garan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lor constituite de c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rumutat din care se deduc dob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zi, comisioane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heltuieli de executare vor diminua, propor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al cu procentul de garantare, suma p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Fond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soldul creditulu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5400" y="1704960"/>
            <a:ext cx="8128080" cy="0"/>
          </a:xfrm>
          <a:prstGeom prst="line">
            <a:avLst/>
          </a:prstGeom>
          <a:ln w="82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70120" y="0"/>
            <a:ext cx="77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 Black"/>
              </a:rPr>
              <a:t>Situaţia garanţiilor acor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 Black"/>
              </a:rPr>
              <a:t>de FGCR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– IFN </a:t>
            </a:r>
            <a:r>
              <a:rPr b="1" lang="ro-RO" sz="2400" spc="-1" strike="noStrike">
                <a:solidFill>
                  <a:srgbClr val="ffffff"/>
                </a:solidFill>
                <a:latin typeface="Arial Black"/>
              </a:rPr>
              <a:t>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744560"/>
            <a:ext cx="337356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Volumul garan</a:t>
            </a:r>
            <a:r>
              <a:rPr b="1" i="1" lang="ro-RO" sz="1800" spc="-1" strike="noStrike">
                <a:solidFill>
                  <a:srgbClr val="ff6600"/>
                </a:solidFill>
                <a:latin typeface="Arial"/>
              </a:rPr>
              <a:t>ţ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il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acordate</a:t>
            </a:r>
            <a:r>
              <a:rPr b="1" i="1" lang="ro-RO" sz="1800" spc="-1" strike="noStrike">
                <a:solidFill>
                  <a:srgbClr val="ff66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in car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ntru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de producţi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ntru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credite de investiţi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in aceste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jud. Timiş, Arad, Caraş Severin Total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- Producţi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- Investiţi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din care PNDR 2008-20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in acestea Consilii Loca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28680" y="1185840"/>
            <a:ext cx="28440" cy="211788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736880" y="1154160"/>
            <a:ext cx="28440" cy="351000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08240" y="1254240"/>
            <a:ext cx="17305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ii lei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98.209,1</a:t>
            </a:r>
            <a:r>
              <a:rPr b="1" lang="ro-RO" sz="1600" spc="-1" strike="noStrike">
                <a:solidFill>
                  <a:srgbClr val="ff3300"/>
                </a:solidFill>
                <a:latin typeface="Times New Roman"/>
              </a:rPr>
              <a:t>   100,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77.551,3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0.657,8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678360" y="1155600"/>
            <a:ext cx="28440" cy="356868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23000" y="1278000"/>
            <a:ext cx="172872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ii lei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935.225,5</a:t>
            </a:r>
            <a:r>
              <a:rPr b="1" lang="ro-RO" sz="1600" spc="-1" strike="noStrike">
                <a:solidFill>
                  <a:srgbClr val="ff3300"/>
                </a:solidFill>
                <a:latin typeface="Times New Roman"/>
              </a:rPr>
              <a:t>   100,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96.240,6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3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8.984,9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nr.       valo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1.566    73.390,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1.467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24.236,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99    49.154,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17  38.423,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4     6.443,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7160" y="1260360"/>
            <a:ext cx="190332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ii lei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3300"/>
                </a:solidFill>
                <a:latin typeface="Times New Roman"/>
              </a:rPr>
              <a:t>786.040,9   100,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257.835,3      32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528.205,6      67,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nr.       valo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261     33.75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rabicPlain" startAt="24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7.452,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18  26.303,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15   22.404.,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o-RO" sz="1500" spc="-1" strike="noStrike">
                <a:solidFill>
                  <a:srgbClr val="000000"/>
                </a:solidFill>
                <a:latin typeface="Arial"/>
              </a:rPr>
              <a:t>7   10.406,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160520" y="3269880"/>
            <a:ext cx="4295880" cy="4680"/>
          </a:xfrm>
          <a:prstGeom prst="line">
            <a:avLst/>
          </a:prstGeom>
          <a:ln w="9360">
            <a:solidFill>
              <a:srgbClr val="99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376200" y="0"/>
            <a:ext cx="10261440" cy="703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7280" y="217440"/>
            <a:ext cx="892188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b6a43"/>
                </a:solidFill>
                <a:latin typeface="Arial Black"/>
              </a:rPr>
              <a:t>Instituţiile de credit cu care FGCR IFN 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b6a43"/>
                </a:solidFill>
                <a:latin typeface="Arial Black"/>
              </a:rPr>
              <a:t>are încheiate Convenţii de luc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0840" y="696960"/>
            <a:ext cx="918036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1. BANCA COMERCIAL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Ă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 ROM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Â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Ă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 SA  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2. BRD - GROUPE SOCIETE GENERALE SA    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3. RAIFFEISEN BANK SA  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4. CEC BANK SA   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5. ROMANIAN INTERNATIONAL BANK SA  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6. BANCA TRANSILVANIA SA  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7. ATE BANK ROM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Â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NIA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8. 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P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ROCREDIT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 BANK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9. EXIMBANK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10.BANCA ROMÂNEASCĂ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11.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V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OLKSBANK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 R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OMÂNIA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12.MKB ROMEXTERRA BANK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1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.P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IRAEUS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 B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ANK ROMÂNIA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14.BANCA MILLEN</a:t>
            </a: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IUM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15.BANCA C.R. FINRENZE ROMÂNIA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16.B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ANCA CARPATICA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17.OTP BANK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18.ALPHA BANK ROMÂNIA 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19.BANCPOST S.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20.BANK LEUMI ROMÂNIA S.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21.EMPORIKI BANK ROMÂNIA S.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22.GARANTI BANK S.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ourier New"/>
              </a:rPr>
              <a:t>23.UNICREDIT </a:t>
            </a:r>
            <a:r>
              <a:rPr b="1" i="1" lang="ro-RO" sz="1900" spc="-1" strike="noStrike">
                <a:solidFill>
                  <a:srgbClr val="ffffff"/>
                </a:solidFill>
                <a:latin typeface="Courier New"/>
              </a:rPr>
              <a:t>ŢIRIAC BANK S.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14400" y="128520"/>
            <a:ext cx="6240600" cy="7351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90640" y="249120"/>
            <a:ext cx="776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 Black"/>
              </a:rPr>
              <a:t>Date de contac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5880" y="1455840"/>
            <a:ext cx="630396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. Occidentului nr.5, sector 1, Bucu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. 021/312 54 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1/312 54 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1/312 54 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1/312 54 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23 154 3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23 154 3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51 244 2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51 244 2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4960" y="1555920"/>
            <a:ext cx="2446200" cy="11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7800" y="1938240"/>
            <a:ext cx="295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FGCR – IFN 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240" y="3076560"/>
            <a:ext cx="30150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 021 / 312 54 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1 / 312 54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1 / 312 54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43160" y="4778280"/>
            <a:ext cx="301464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office@fgcr.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fgcr.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601200" cy="63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1436525"/>
                <a:gd name="adj2" fmla="val 77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FONDUL  DE  GARANTARE  A  CREDITULUI  RURAL  S.A.</a:t>
            </a:r>
            <a:endParaRPr b="1" i="1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04960" y="1235160"/>
            <a:ext cx="414360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TITUŢIE FINANCIARĂ NEBANCAR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1455840" y="2365200"/>
            <a:ext cx="67849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ORMA JURIDIC</a:t>
            </a:r>
            <a:r>
              <a:rPr b="1" lang="ro-RO" sz="1600" spc="-1" strike="noStrike">
                <a:solidFill>
                  <a:srgbClr val="0000cc"/>
                </a:solidFill>
                <a:latin typeface="Arial"/>
              </a:rPr>
              <a:t>Ă: Societate Comercială, conform Legii nr. 31/19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00cc"/>
                </a:solidFill>
                <a:latin typeface="Arial"/>
              </a:rPr>
              <a:t>Acţionari majoritari - bănci comerc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1240" y="3092400"/>
            <a:ext cx="82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ff"/>
                </a:solidFill>
                <a:latin typeface="Arial"/>
              </a:rPr>
              <a:t>Finanţat de Uniunea European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ff"/>
                </a:solidFill>
                <a:latin typeface="Arial"/>
              </a:rPr>
              <a:t>şi Ministerul Agriculturii, Pădurilor şi Dezvoltării Rur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ff"/>
                </a:solidFill>
                <a:latin typeface="Arial"/>
              </a:rPr>
              <a:t>conform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legisla</a:t>
            </a:r>
            <a:r>
              <a:rPr b="1" lang="ro-RO" sz="2000" spc="-1" strike="noStrike">
                <a:solidFill>
                  <a:srgbClr val="0066ff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ei </a:t>
            </a:r>
            <a:r>
              <a:rPr b="1" lang="ro-RO" sz="2000" spc="-1" strike="noStrike">
                <a:solidFill>
                  <a:srgbClr val="0066ff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n vigo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9440" y="4265640"/>
            <a:ext cx="829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» Membru al A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sociaţiei </a:t>
            </a:r>
            <a:r>
              <a:rPr b="1" lang="fr-F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uropene de </a:t>
            </a:r>
            <a:r>
              <a:rPr b="1" lang="fr-F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C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auţionare </a:t>
            </a:r>
            <a:r>
              <a:rPr b="1" lang="fr-F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M</a:t>
            </a:r>
            <a:r>
              <a:rPr b="1" lang="ro-RO" sz="2200" spc="-1" strike="noStrike">
                <a:solidFill>
                  <a:srgbClr val="ff0000"/>
                </a:solidFill>
                <a:latin typeface="Arial"/>
              </a:rPr>
              <a:t>utuală</a:t>
            </a:r>
            <a:r>
              <a:rPr b="1" lang="fr-FR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«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2608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copul înfiinţări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62000" y="4748040"/>
            <a:ext cx="76392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269626"/>
                </a:solidFill>
                <a:latin typeface="Arial"/>
              </a:rPr>
              <a:t>să contribuie la tranziţia agriculturii româneşti la economia de piaţ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9900"/>
                </a:solidFill>
                <a:latin typeface="Arial"/>
              </a:rPr>
              <a:t>să stimuleze absorbţia fondurilor europene alocate R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ro-RO" sz="1800" spc="-1" strike="noStrike">
                <a:solidFill>
                  <a:srgbClr val="009900"/>
                </a:solidFill>
                <a:latin typeface="Arial"/>
              </a:rPr>
              <a:t>mâniei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9900"/>
                </a:solidFill>
                <a:latin typeface="Arial"/>
              </a:rPr>
              <a:t>să faciliteze accesul la credite al întreprinzătorilor din agricultură, procesatorilor produselor agricole,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onsiliilor locale pentru </a:t>
            </a:r>
            <a:r>
              <a:rPr b="1" lang="ro-RO" sz="1800" spc="-1" strike="noStrike">
                <a:solidFill>
                  <a:srgbClr val="009900"/>
                </a:solidFill>
                <a:latin typeface="Arial"/>
              </a:rPr>
              <a:t>lucrăril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ro-RO" sz="1800" spc="-1" strike="noStrike">
                <a:solidFill>
                  <a:srgbClr val="009900"/>
                </a:solidFill>
                <a:latin typeface="Arial"/>
              </a:rPr>
              <a:t> de infrastructură rurală şi altor beneficiari ai FEADR şi FEP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6012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000" y="4110120"/>
            <a:ext cx="8993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942840"/>
            <a:ext cx="2511360" cy="192348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dministrarea schemelor de garantare cu finan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re din PNDR pentru agricultur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 IMM-u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37280" y="3781440"/>
            <a:ext cx="2933640" cy="87048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dministrarea schemei de garantare a certificatelor de depoz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080" y="5011560"/>
            <a:ext cx="1596960" cy="100872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Beneficiari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riva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 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EAD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8640" y="909720"/>
            <a:ext cx="2538360" cy="2625480"/>
          </a:xfrm>
          <a:prstGeom prst="ellipse">
            <a:avLst/>
          </a:prstGeom>
          <a:solidFill>
            <a:srgbClr val="ccffcc">
              <a:alpha val="58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ant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elor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 al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rumente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care p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 ob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u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1360" y="231840"/>
            <a:ext cx="4440240" cy="4291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Black"/>
              </a:rPr>
              <a:t>OBIECTUL DE ACTIVIT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3081600">
            <a:off x="3125520" y="3835080"/>
            <a:ext cx="855720" cy="493920"/>
          </a:xfrm>
          <a:prstGeom prst="rightArrow">
            <a:avLst>
              <a:gd name="adj1" fmla="val 50000"/>
              <a:gd name="adj2" fmla="val 433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4336800">
            <a:off x="1931760" y="3971520"/>
            <a:ext cx="855720" cy="493920"/>
          </a:xfrm>
          <a:prstGeom prst="rightArrow">
            <a:avLst>
              <a:gd name="adj1" fmla="val 50000"/>
              <a:gd name="adj2" fmla="val 433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7294800">
            <a:off x="707760" y="3892320"/>
            <a:ext cx="855720" cy="493920"/>
          </a:xfrm>
          <a:prstGeom prst="rightArrow">
            <a:avLst>
              <a:gd name="adj1" fmla="val 50000"/>
              <a:gd name="adj2" fmla="val 433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6000" y="5010120"/>
            <a:ext cx="1597320" cy="70380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Beneficiari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0680" y="5011560"/>
            <a:ext cx="3833640" cy="131364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oduc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rii agricoli 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 procesatorii de produse agricole 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 scopul realiz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ii produc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ei sau constituirii stocuri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1600" y="941400"/>
            <a:ext cx="2397240" cy="2533320"/>
          </a:xfrm>
          <a:prstGeom prst="rect">
            <a:avLst/>
          </a:prstGeom>
          <a:solidFill>
            <a:srgbClr val="ccffff">
              <a:alpha val="38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miterea de garan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i la solicitarea beneficiarilor publici ai FEADR pentru 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su</a:t>
            </a:r>
            <a:r>
              <a:rPr b="1" lang="ro-RO" sz="2000" spc="-1" strike="noStrike">
                <a:solidFill>
                  <a:srgbClr val="ff3300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rea avansului de la APD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09720"/>
            <a:ext cx="3076560" cy="4238640"/>
          </a:xfrm>
          <a:prstGeom prst="ellipse">
            <a:avLst/>
          </a:prstGeom>
          <a:solidFill>
            <a:srgbClr val="ffff99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0160" y="260280"/>
            <a:ext cx="6454800" cy="9241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14480" y="334800"/>
            <a:ext cx="72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Black"/>
              </a:rPr>
              <a:t>Creditele acordate beneficiarilo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nt </a:t>
            </a:r>
            <a:r>
              <a:rPr b="1" lang="ro-RO" sz="2400" spc="-1" strike="noStrike">
                <a:solidFill>
                  <a:srgbClr val="000000"/>
                </a:solidFill>
                <a:latin typeface="Arial Black"/>
              </a:rPr>
              <a:t>garantate de către FGC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astf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91280" y="1173240"/>
            <a:ext cx="2352600" cy="3521160"/>
          </a:xfrm>
          <a:prstGeom prst="ellipse">
            <a:avLst/>
          </a:prstGeom>
          <a:solidFill>
            <a:srgbClr val="ffff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74080" y="1398600"/>
            <a:ext cx="217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În cazu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reditelor pe termen scu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a celor acordate beneficiarilor privati ai FEADR, </a:t>
            </a: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garanţia FGCR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reprezintă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o-RO" sz="1800" spc="-1" strike="noStrike">
                <a:solidFill>
                  <a:srgbClr val="ff3300"/>
                </a:solidFill>
                <a:latin typeface="Arial"/>
              </a:rPr>
              <a:t>0%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valoarea creditulu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2578680" y="618120"/>
            <a:ext cx="911160" cy="2290680"/>
          </a:xfrm>
          <a:prstGeom prst="uturnArrow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 rot="5400000">
            <a:off x="5417280" y="2159640"/>
            <a:ext cx="2471760" cy="749520"/>
          </a:xfrm>
          <a:prstGeom prst="uturnArrow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" y="2246400"/>
            <a:ext cx="2774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cazul creditelor/scrisorilor de confort acordate/emise de instituţiile de creditare în scopul asigurării cofinanţării proiectelor realizate prin FEAD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beneficiarii public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800" spc="-1" strike="noStrike">
                <a:solidFill>
                  <a:srgbClr val="ff3300"/>
                </a:solidFill>
                <a:latin typeface="Arial"/>
              </a:rPr>
              <a:t>garanţia FGCR acoperă integral valoarea creditului</a:t>
            </a: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2280" y="3710160"/>
            <a:ext cx="4770360" cy="2734920"/>
          </a:xfrm>
          <a:prstGeom prst="ellipse">
            <a:avLst/>
          </a:prstGeom>
          <a:solidFill>
            <a:srgbClr val="ffff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132080" y="1460160"/>
            <a:ext cx="1663560" cy="1508040"/>
          </a:xfrm>
          <a:prstGeom prst="rightArrow">
            <a:avLst>
              <a:gd name="adj1" fmla="val 50000"/>
              <a:gd name="adj2" fmla="val 2757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8000" y="4040280"/>
            <a:ext cx="39384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În cazul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neficiarilor publici,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ndul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ite direct scrisori de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aran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favoarea APDRP pentru avans. Celelalte garan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 aferente creditului se vor constitui at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favoarea B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cii c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 a Fondului,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calitatea acestuia de co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ditor propo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onal cu procentul de garantar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9800" y="246240"/>
            <a:ext cx="82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LIMITELE MAXIME ALE CREDITELOR GARANTATE DE FG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6560" y="5010120"/>
            <a:ext cx="4002120" cy="1081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00">
                  <a:alpha val="9411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oper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eltuielile eligibil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neeligibile pentru realizarea proiectelor din cadrul m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ii 322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30400" y="1292400"/>
            <a:ext cx="7780320" cy="92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65440" y="1265400"/>
            <a:ext cx="2933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oarea maxim</a:t>
            </a:r>
            <a:r>
              <a:rPr b="0" lang="ro-RO" sz="2000" spc="-1" strike="noStrike">
                <a:solidFill>
                  <a:srgbClr val="ff3300"/>
                </a:solidFill>
                <a:latin typeface="Arial"/>
              </a:rPr>
              <a:t>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reditelor care poti f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ntate de Fo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3440" y="2730600"/>
            <a:ext cx="3933720" cy="1290600"/>
          </a:xfrm>
          <a:prstGeom prst="ellipse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cecec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cofinan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re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ciaril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i a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DR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51480" y="2655720"/>
            <a:ext cx="4660920" cy="1741680"/>
          </a:xfrm>
          <a:prstGeom prst="ellipse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cecec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realizarea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iectivelor de investi</a:t>
            </a:r>
            <a:r>
              <a:rPr b="1" lang="ro-RO" sz="1800" spc="-1" strike="noStrike">
                <a:solidFill>
                  <a:srgbClr val="ff33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i cofinan</a:t>
            </a:r>
            <a:r>
              <a:rPr b="1" lang="ro-RO" sz="1800" spc="-1" strike="noStrike">
                <a:solidFill>
                  <a:srgbClr val="ff3300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in FEADR, FEP sau realiza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oductie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u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constituirea stocuril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are p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 nou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l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70480" y="5237280"/>
            <a:ext cx="3583080" cy="42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00">
                  <a:alpha val="7607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 2.500.000 eu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34000" y="3920400"/>
            <a:ext cx="687240" cy="1276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6996240" y="4103640"/>
            <a:ext cx="411120" cy="1379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320" y="1981080"/>
            <a:ext cx="88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24"/>
              </a:spcAft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REVOCABIL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 NECONDI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ONAT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, DIRECT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Ş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 EXPRES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624"/>
              </a:spcAft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PL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TIBIL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Î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 15 ZILE DE LA PRIMA CERERE SCRIS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A B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C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624"/>
              </a:spcAft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 ACORD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Î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 MONED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CREDITULUI, PENTRU CREDITE NO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624"/>
              </a:spcAft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 ACORD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NUMAI 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Î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 COMPLETAREA GARAN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ILOR CLIENTUL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624"/>
              </a:spcAft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PERIOADA DE VALABILITATE A GARAN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EI POATE FI DE MAXIM DURATA CREDITULUI PLUS O PERIOAD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DE P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Â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 LA 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0 ZILE CALENDARIST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624"/>
              </a:spcAft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 REDUCE PRO-RATA PE M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Ă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URA 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Î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DEPLINIRII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OBLIGA</a:t>
            </a:r>
            <a:r>
              <a:rPr b="1" lang="ro-RO" sz="2000" spc="-1" strike="noStrike">
                <a:solidFill>
                  <a:srgbClr val="990033"/>
                </a:solidFill>
                <a:latin typeface="Times New Roman"/>
              </a:rPr>
              <a:t>Ţ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IILOR CLIENTUL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800" y="246240"/>
            <a:ext cx="82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RACTERISTICILE GARAN</a:t>
            </a:r>
            <a:r>
              <a:rPr b="0" lang="ro-RO" sz="3200" spc="-1" strike="noStrike">
                <a:solidFill>
                  <a:srgbClr val="ffffff"/>
                </a:solidFill>
                <a:latin typeface="Arial Black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5400" y="1219320"/>
            <a:ext cx="8128080" cy="0"/>
          </a:xfrm>
          <a:prstGeom prst="line">
            <a:avLst/>
          </a:prstGeom>
          <a:ln w="82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1981080"/>
            <a:ext cx="891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u se afl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dificultate financiar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u figureaz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cu sume restante 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CRB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u figureaz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cu incidente majore cu cecuri 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ş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 BO 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ultimele 12 luni 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CI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u 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registreaz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datorii restante c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re bugetul general consolidat al statului al c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r mod de plat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nu a fost reglemen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u s-a instituit procedura judiciar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insolven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zint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b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cii garan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i colaterale min. 20% din valoarea creditulu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u se afl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litigiu cu MFP, inclusiv ANAF, AVAS</a:t>
            </a:r>
            <a:r>
              <a:rPr b="1" lang="ro-RO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0840" y="262080"/>
            <a:ext cx="7213680" cy="6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800" y="246240"/>
            <a:ext cx="82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ITERIILE DE ELIGIBILI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5400" y="1219320"/>
            <a:ext cx="8128080" cy="0"/>
          </a:xfrm>
          <a:prstGeom prst="line">
            <a:avLst/>
          </a:prstGeom>
          <a:ln w="82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159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DIFICULTATEA FINANCIAR</a:t>
            </a:r>
            <a:r>
              <a:rPr b="1" lang="ro-RO" sz="4000" spc="-1" strike="noStrike">
                <a:solidFill>
                  <a:srgbClr val="ff9900"/>
                </a:solidFill>
                <a:latin typeface="Times New Roman"/>
              </a:rPr>
              <a:t>Ă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4520" y="896400"/>
            <a:ext cx="884412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2.1. Sensul expresiei “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treprinderile afla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dificultate”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Aft>
                <a:spcPts val="850"/>
              </a:spcAft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9. Nu exis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o defini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e comunitar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a ceea ce constituie “o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treprindere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dificultate”. Cu toate acestea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sensul prezentelor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linii directoare, Comisia consider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o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treprindere se afl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dificultate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zul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re nu este capabil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, din resurse prorprii sau cu fonduri pe care le poate ob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ne de la prorprietarul/a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onarii sau creditorii s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, s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opreas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pierderile care, f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intervenţia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din exterior a autoritatilor publice, o vor condamna, aproape sigur, la ie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rea din afaceri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termen scurt sau mediu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10.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special, o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treprindere este considera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principiu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 indiferent de dimensiunea ei, 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se afl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dificultate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sensul prezentelor linii directoare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urm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toarele situa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i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o societate cu r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spundere limita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re mai mult de jum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tate din capitalul social a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disp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rut, peste un sfert din acest capital fiind pierdut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ultimele 12 luni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o societate comercial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re cel pu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n unii dintre asocia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 au r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spundere nelimita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pentru crean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ele socie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i, atunci 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â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d mai mult de jum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tate din capitalul propriu a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a cum reiese din contabilitatea socie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i a disp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rut, peste un sfert din acest capital fiind pierdut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ultimele 12 luni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Aft>
                <a:spcPts val="850"/>
              </a:spcAft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diferent de tipul socie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i comerciale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uz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zul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re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depline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te criteriile prev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zute de legisla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a na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onal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pentru a face obiectul procedurilor colective de insolven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11. Chiar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 atunci 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d nici una dintre condi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ile prev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zute la punctul 10 nu este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deplini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, o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treprindere poate s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fie totu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 considera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dificultate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special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zul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care sunt prezente simptomele obi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uite ale unei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treprinderi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dificultate, cum ar fi: cre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terea pierderilor, s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derea cifrei de afaceri, cre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terea inventarelor pe stocuri, supracapacitate, flux de capital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 declin,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î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ndatorare crescut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, cre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terea comisioanelor financiare 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ş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 sc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ă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derea sau dispari</a:t>
            </a:r>
            <a:r>
              <a:rPr b="1" lang="ro-RO" sz="1700" spc="-1" strike="noStrike">
                <a:solidFill>
                  <a:srgbClr val="0033cc"/>
                </a:solidFill>
                <a:latin typeface="Times New Roman"/>
              </a:rPr>
              <a:t>ţ</a:t>
            </a:r>
            <a:r>
              <a:rPr b="1" lang="en-US" sz="1700" spc="-1" strike="noStrike">
                <a:solidFill>
                  <a:srgbClr val="0033cc"/>
                </a:solidFill>
                <a:latin typeface="Times New Roman"/>
              </a:rPr>
              <a:t>ia valorii activului net.”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38320" y="392040"/>
            <a:ext cx="3629160" cy="1524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94000" y="641520"/>
            <a:ext cx="293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GCR nu acord</a:t>
            </a:r>
            <a:r>
              <a:rPr b="0" lang="ro-RO" sz="2000" spc="-1" strike="noStrike">
                <a:solidFill>
                  <a:srgbClr val="ff33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garan</a:t>
            </a:r>
            <a:r>
              <a:rPr b="0" lang="ro-RO" sz="2000" spc="-1" strike="noStrike">
                <a:solidFill>
                  <a:srgbClr val="ff33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i b</a:t>
            </a:r>
            <a:r>
              <a:rPr b="0" lang="ro-RO" sz="2000" spc="-1" strike="noStrike">
                <a:solidFill>
                  <a:srgbClr val="ff33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cilor comerc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6280" y="2232000"/>
            <a:ext cx="2540160" cy="3598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0360" y="2438280"/>
            <a:ext cx="22654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editele care ar fi utilizate, chiar pa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l, la rambursarea de angajamente anterioare ale cli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, sau credite deja contractate, cu exce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 creditelor acordate pe baz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novo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0120" y="3198960"/>
            <a:ext cx="2540160" cy="3294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3360600"/>
            <a:ext cx="22654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eneficiarii de credite care, la data solic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i gara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i, au credite restan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o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zi din contracte anterio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chitate la scad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9600" y="2273400"/>
            <a:ext cx="2540160" cy="36432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43680" y="2479680"/>
            <a:ext cx="2265480" cy="29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eneficiarii de credite care, la data solic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i gara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i, au datorii restante la bugetul de stat sau la bugetele locale, la fondurile special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a fondul de asigu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 soc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9240" y="2060640"/>
            <a:ext cx="406440" cy="2700360"/>
          </a:xfrm>
          <a:custGeom>
            <a:avLst/>
            <a:gdLst>
              <a:gd name="textAreaLeft" fmla="*/ 54360 w 406440"/>
              <a:gd name="textAreaRight" fmla="*/ 352080 w 406440"/>
              <a:gd name="textAreaTop" fmla="*/ 472320 h 2700360"/>
              <a:gd name="textAreaBottom" fmla="*/ 1957680 h 27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70480" y="2120760"/>
            <a:ext cx="378000" cy="2524320"/>
          </a:xfrm>
          <a:custGeom>
            <a:avLst/>
            <a:gdLst>
              <a:gd name="textAreaLeft" fmla="*/ 50400 w 378000"/>
              <a:gd name="textAreaRight" fmla="*/ 327600 w 378000"/>
              <a:gd name="textAreaTop" fmla="*/ 441720 h 2524320"/>
              <a:gd name="textAreaBottom" fmla="*/ 183024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02000" y="2119320"/>
            <a:ext cx="900360" cy="928800"/>
          </a:xfrm>
          <a:prstGeom prst="downArrow">
            <a:avLst>
              <a:gd name="adj1" fmla="val 50000"/>
              <a:gd name="adj2" fmla="val 2579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3:36:27Z</dcterms:created>
  <dc:creator>STANONA</dc:creator>
  <dc:description/>
  <dc:language>en-US</dc:language>
  <cp:lastModifiedBy>DAN</cp:lastModifiedBy>
  <cp:lastPrinted>2002-04-24T13:53:19Z</cp:lastPrinted>
  <dcterms:modified xsi:type="dcterms:W3CDTF">2010-09-23T08:39:55Z</dcterms:modified>
  <cp:revision>535</cp:revision>
  <dc:subject/>
  <dc:title>No Slide Title</dc:title>
</cp:coreProperties>
</file>