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2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24D1-356F-46F2-870C-05D127CE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68E3-35AE-4552-956B-CB82F7E9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7C42-814F-4D44-BD58-009C6763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B1F1-FDDD-402F-955B-7800A57D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5BD9-4DBB-4F24-ADA3-25694513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DEBA-076C-445B-99CC-89012C49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3D66-6109-4C2A-9C08-B2B9D343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79FD-C429-40D2-87A8-D51074F1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58D4-0E4B-4A5A-B860-F7AC980E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AD05-AEE8-4E3C-8DD2-73EF9E48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E324-84DA-4080-AED0-3860AE6A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55F4-31E9-429B-B369-7B0C333A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BF4B-10C8-40CB-A157-1B7D5E72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4F61-2351-479B-B5FF-F63ACDBB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DCE0-F39C-43C4-9F71-13261473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85AF-9697-4770-B944-DCA4244A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2301-ECA9-4BFD-BD82-9731C734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862F-0C15-477C-8BF1-E81B5D3F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F934-9DF1-41F4-B12F-9A9CE733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3C0A-E9E4-45E0-B568-3AC6A143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6AD5-44BC-4F96-9FFB-59BDA10B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FFEA-B9EA-441D-8CF1-837851CA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D533-5595-4169-8CB6-FAFE13FF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F202-3EA3-47FA-B9A9-FDA2FECB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114F-12C4-4D47-B694-18D36B6FF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75F2-C34F-4B09-B3FB-954ACA050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51280" y="1916280"/>
            <a:ext cx="5113440" cy="446544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571680" y="6467400"/>
            <a:ext cx="74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opyright © CEC Bank 2010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www.cec.ro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Placeholder 2"/>
          <p:cNvSpPr/>
          <p:nvPr/>
        </p:nvSpPr>
        <p:spPr>
          <a:xfrm>
            <a:off x="3851280" y="2060640"/>
            <a:ext cx="49766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Destinat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Satisfacerea nevoilor curente de capital de lucr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Refinantarea unor credite contractate de la alte institutii financiar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Caracteristic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Durata de creditare : maxim 12 luni cu posibilitate de prelungir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Valoarea creditului: corelata cu necesarul de capital de lucru al firme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Se acorda in Lei sau valu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osibilitate de rambursare permanenta, pe toata durata de valabilitate a liniei de credit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Avanta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Aft>
                <a:spcPts val="349"/>
              </a:spcAft>
              <a:buClr>
                <a:srgbClr val="004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Modalitati de rambursare si garantii flexibil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Aft>
                <a:spcPts val="349"/>
              </a:spcAft>
              <a:buClr>
                <a:srgbClr val="004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Dobanda avantajoasa la depozite in cazul garantarii cu cash colate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916280"/>
            <a:ext cx="3456000" cy="446544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916280"/>
            <a:ext cx="3240000" cy="44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Linii de cred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 pentru investit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pentru finantarea stocuril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AP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RABLA Agrico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pe baza certificatelo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de depoz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accesare fonduri europe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Scrisori de confort si/ sau garantie banca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916280"/>
            <a:ext cx="3456000" cy="504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500040" y="121428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Produse CEC Bank pentru finantarea agricultur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885080" y="1187280"/>
            <a:ext cx="10144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51280" y="1916280"/>
            <a:ext cx="5113440" cy="446544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2205000"/>
            <a:ext cx="3456000" cy="64944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571680" y="6467400"/>
            <a:ext cx="74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opyright © CEC Bank 2010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www.cec.ro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Placeholder 2"/>
          <p:cNvSpPr/>
          <p:nvPr/>
        </p:nvSpPr>
        <p:spPr>
          <a:xfrm>
            <a:off x="3851280" y="1916280"/>
            <a:ext cx="49766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Destinat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Realizarea de noi obiective sau capacitati de producti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Finalizarea unor investitii deja incepu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Dezvoltarea, modernizarea, retehnologizarea obiectivelor de investiti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chizitionare de masini, utilaje, echipamente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Caracteristic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Durata de creditare min 6 luni - maxim 10 an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Valoarea creditului: max. 85% din valoarea totala a investitie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ontributie proprie: min. 15% (cash sau in natur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Se acorda in Lei sau valu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Avanta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Aft>
                <a:spcPts val="349"/>
              </a:spcAft>
              <a:buClr>
                <a:srgbClr val="004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Modalitati de rambursare si garantii flexibil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Aft>
                <a:spcPts val="349"/>
              </a:spcAft>
              <a:buClr>
                <a:srgbClr val="004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Dobanda avantajoasa la depozite, in cazul garantarii cu cah colateral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916280"/>
            <a:ext cx="3456000" cy="446544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916280"/>
            <a:ext cx="3240000" cy="44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Linii de cred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 pentru investit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pentru finantarea stocuril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AP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RABLA Agrico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pe baza certificatelo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de depoz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accesare fonduri europe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Scrisori de confort si/ sau garantie banca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2205000"/>
            <a:ext cx="3456000" cy="64944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812000" y="1197000"/>
            <a:ext cx="1081080" cy="6760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/>
          <p:cNvSpPr/>
          <p:nvPr/>
        </p:nvSpPr>
        <p:spPr>
          <a:xfrm>
            <a:off x="500040" y="121428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Produse CEC Bank pentru finantarea agricultur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51280" y="1916280"/>
            <a:ext cx="5113440" cy="446544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571680" y="6467400"/>
            <a:ext cx="74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opyright © CEC Bank 2010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www.cec.ro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916280"/>
            <a:ext cx="3456000" cy="446544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916280"/>
            <a:ext cx="3240000" cy="44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Linii de cred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 pentru investit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pentru finantarea stocuril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AP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RABLA Agrico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pe baza certificatelo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de depoz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accesare fonduri europe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Scrisori de confort si/ sau garantie banca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2781360"/>
            <a:ext cx="3456000" cy="64908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734240" y="1197000"/>
            <a:ext cx="1230480" cy="719280"/>
          </a:xfrm>
          <a:prstGeom prst="rect">
            <a:avLst/>
          </a:prstGeom>
          <a:ln w="0">
            <a:noFill/>
          </a:ln>
        </p:spPr>
      </p:pic>
      <p:sp>
        <p:nvSpPr>
          <p:cNvPr id="147" name="Text Placeholder 2"/>
          <p:cNvSpPr/>
          <p:nvPr/>
        </p:nvSpPr>
        <p:spPr>
          <a:xfrm>
            <a:off x="3851280" y="2060640"/>
            <a:ext cx="49766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Destinat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Finantarea cheltuielilor de constituire a stocurilor temporare sau sezonier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Refinantarea unor credite pentru stocuri contractate la alte societati de finantare cat si a celor acordate de parteneri pe baza contractu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Caracteristic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Durata de creditare: maxim 12 lun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erioada de gratie: maxim 3 lun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Valoarea creditului se stabileste la nivelul valoric al stocurilor de aproviziona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Moneda: lei sau valu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Rambursare: scadentele se stabilesc in functie de termenele de valorificare a stocurilor credita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Dobanda se plateste lun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500040" y="121428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Produse CEC Bank pentru finantarea agricultur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51280" y="1916280"/>
            <a:ext cx="5113440" cy="446544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571680" y="6467400"/>
            <a:ext cx="74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opyright © CEC Bank 2010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www.cec.ro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Placeholder 2"/>
          <p:cNvSpPr/>
          <p:nvPr/>
        </p:nvSpPr>
        <p:spPr>
          <a:xfrm>
            <a:off x="3851280" y="1916280"/>
            <a:ext cx="49766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 u="sng">
                <a:solidFill>
                  <a:srgbClr val="000000"/>
                </a:solidFill>
                <a:uFillTx/>
                <a:latin typeface="Arial"/>
              </a:rPr>
              <a:t>APIA – Vegetal si zootehn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Finantare capital de lucru pentru desfasurarea activitatilor curen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Valoare credit: maxim 90% din suma prevazuta in adeverinta eliberata de AP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 u="sng">
                <a:solidFill>
                  <a:srgbClr val="000000"/>
                </a:solidFill>
                <a:uFillTx/>
                <a:latin typeface="Arial"/>
              </a:rPr>
              <a:t>APIA – Dezvoltare rurala – Axa II PND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Finantare capital de lucru pentru desfasurarea activitatilor curente de catre beneficiarii Axei II din PND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Valoare credit: 80% din valoarea sumei calculate conform adeverintei AP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 u="sng">
                <a:solidFill>
                  <a:srgbClr val="000000"/>
                </a:solidFill>
                <a:uFillTx/>
                <a:latin typeface="Arial"/>
              </a:rPr>
              <a:t>APIA -  SA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Finantare capital de lucru pentru desfasurarea activitatilor curente de catre beneficiatii schemei de plata unica pe sufraf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Valoare credit: maxim 70% din suma cuvenita din SA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Arial"/>
              </a:rPr>
              <a:t>Avantaj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26"/>
              </a:spcAft>
              <a:buClr>
                <a:srgbClr val="004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Dobanzi atractive la creditele in lei si garantii flexib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26"/>
              </a:spcAft>
              <a:buClr>
                <a:srgbClr val="004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Nu se solicita contributie propri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26"/>
              </a:spcAft>
              <a:buClr>
                <a:srgbClr val="004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Nu se percep taxe si comisioane la creditul acordat de catre banc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26"/>
              </a:spcAft>
              <a:buClr>
                <a:srgbClr val="0048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916280"/>
            <a:ext cx="3456000" cy="446544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3240000" cy="44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Linii de cred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 pentru investit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pentru finantarea stocuril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AP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RABLA Agrico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pe baza certificatelo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de depoz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accesare fonduri europe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Scrisori de confort si/ sau garantie banca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3357720"/>
            <a:ext cx="3456000" cy="64908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500040" y="121428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Produse CEC Bank pentru finantarea agricultur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734240" y="1197000"/>
            <a:ext cx="12304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51280" y="1916280"/>
            <a:ext cx="5113440" cy="446544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571680" y="6467400"/>
            <a:ext cx="74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opyright © CEC Bank 2010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www.cec.ro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Placeholder 2"/>
          <p:cNvSpPr/>
          <p:nvPr/>
        </p:nvSpPr>
        <p:spPr>
          <a:xfrm>
            <a:off x="3851280" y="2060640"/>
            <a:ext cx="49766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Destinat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chizitia de tractoare/masini agricole autopropulsate noi , conform Ordinului nr. 2/01.2010 privind “Programul de stimulare a innoirii Parcului national de tractoare si masini agricole autopropulsate 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Caracteristic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erioada de creditare: maxim 72 lun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Valoarea creditului: stabilita ca diferenta intre pretul de comercializare stabilit de producatorul validat si prima de casar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Nu se solicita contributie prop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Dobanda este variabila, stabilita in functie de perioada de creditare si clasa de performanta in care se incadreaza client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Moneda creditului: 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1916280"/>
            <a:ext cx="3456000" cy="446544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1916280"/>
            <a:ext cx="3240000" cy="44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Linii de cred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 pentru investit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pentru finantarea stocuril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AP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RABLA Agrico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pe baza certificatelo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de depoz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accesare fonduri europe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Scrisori de confort si/ sau garantie banca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3789360"/>
            <a:ext cx="3456000" cy="64944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770960" y="1170000"/>
            <a:ext cx="1193760" cy="74628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500040" y="121428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Produse CEC Bank pentru finantarea agricultur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1280" y="1916280"/>
            <a:ext cx="5113440" cy="446544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571680" y="6467400"/>
            <a:ext cx="74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opyright © CEC Bank 2010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www.cec.ro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Placeholder 2"/>
          <p:cNvSpPr/>
          <p:nvPr/>
        </p:nvSpPr>
        <p:spPr>
          <a:xfrm>
            <a:off x="3851280" y="2060640"/>
            <a:ext cx="49766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Destinat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refinantarea capitalului de lucru pentru desfasurarea activitatilor agricole in baza certificatelor de depoz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Perioada de creditar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: maxim 10 lun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Scadenta finala a creditului: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cu cel putin 60 de zile inainte de data expirarii valabilitatii certificatului de depoz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Valoarea creditulu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ana la 75% din valoarea certificatului de depozit, in functie de garantiile prezentate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1916280"/>
            <a:ext cx="3456000" cy="446544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1916280"/>
            <a:ext cx="3240000" cy="44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Linii de cred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 pentru investit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pentru finantarea stocuril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AP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RABLA Agrico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pe baza certificatelo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de depoz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accesare fonduri europe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Scrisori de confort si/ sau garantie banca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4365720"/>
            <a:ext cx="3456000" cy="64908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00040" y="121428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Produse CEC Bank pentru finantarea agricultur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734240" y="1197000"/>
            <a:ext cx="12304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851280" y="1916280"/>
            <a:ext cx="5113440" cy="446544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Placeholder 2"/>
          <p:cNvSpPr/>
          <p:nvPr/>
        </p:nvSpPr>
        <p:spPr>
          <a:xfrm>
            <a:off x="3851280" y="1916280"/>
            <a:ext cx="49766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3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 u="sng">
                <a:solidFill>
                  <a:srgbClr val="000000"/>
                </a:solidFill>
                <a:uFillTx/>
                <a:latin typeface="Arial"/>
              </a:rPr>
              <a:t>Linia de credit pentru investitii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stinata prefinantarii partiale sau integrale a grantului aferent proiectelor, co-finantarii cheltuielilor eligibile si finantarii cheltuielilor ne-eligibi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rata de creditare: maxim 10 an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volving primii 3 ani (soldul urmand sa fie rambursat in rate in maxim 7 an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axim 100% din valoarea cheltuielilor eligibile, inclusiv T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 u="sng">
                <a:solidFill>
                  <a:srgbClr val="000000"/>
                </a:solidFill>
                <a:uFillTx/>
                <a:latin typeface="Arial"/>
              </a:rPr>
              <a:t>Credit pentru investitii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stinat prefinantarii partiale sau integrale a grantului aferent proiectelor, co-finantarii cheltuielilor eligibile si finantarii cheltuielilor ne-eligi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rata maxim 10 an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ioada de gratie maxim 12 lun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axim 100% din valoarea cheltuielilor eligibile, inclusiv T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 u="sng">
                <a:solidFill>
                  <a:srgbClr val="000000"/>
                </a:solidFill>
                <a:uFillTx/>
                <a:latin typeface="Arial"/>
              </a:rPr>
              <a:t>Credit punte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stinat prefinantarii partiale sau integrale a grantului aferent proiect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rata maxim 6 lun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axim 100% din valoare grant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amburseaza intr-o singura scaden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571680" y="6467400"/>
            <a:ext cx="74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opyright © CEC Bank 2010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www.cec.ro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1916280"/>
            <a:ext cx="3456000" cy="446544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916280"/>
            <a:ext cx="3240000" cy="44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Linii de cred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 pentru investit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pentru finantarea stocuril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AP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RABLA Agrico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pe baza certificatelo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de depoz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pentru accesarea de fonduri europe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Scrisori de confort si/ sau garantie banca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5084640"/>
            <a:ext cx="3456000" cy="64944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843680" y="1197000"/>
            <a:ext cx="1121040" cy="7002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5"/>
          <p:cNvSpPr/>
          <p:nvPr/>
        </p:nvSpPr>
        <p:spPr>
          <a:xfrm>
            <a:off x="500040" y="121428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Produse CEC Bank pentru finantarea agricultur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51280" y="1916280"/>
            <a:ext cx="5113440" cy="453708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571680" y="6467400"/>
            <a:ext cx="74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opyright © CEC Bank 2010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www.cec.ro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Placeholder 2"/>
          <p:cNvSpPr/>
          <p:nvPr/>
        </p:nvSpPr>
        <p:spPr>
          <a:xfrm>
            <a:off x="3851280" y="2060640"/>
            <a:ext cx="49766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 u="sng">
                <a:solidFill>
                  <a:srgbClr val="000000"/>
                </a:solidFill>
                <a:uFillTx/>
                <a:latin typeface="Arial"/>
              </a:rPr>
              <a:t>Scrisoarea de conf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Serveste ca element justificativ de atestare a capacitatii beneficiarului de co-finantare a proiectului eligibi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Termen de valabilitate: 120 de zile de la emitere cu posibilitate de prelung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 u="sng">
                <a:solidFill>
                  <a:srgbClr val="000000"/>
                </a:solidFill>
                <a:uFillTx/>
                <a:latin typeface="Arial"/>
              </a:rPr>
              <a:t>Scrisoarea de garantie bancara (SG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Este emisa de banca la cererea beneficiarului care solicita pre-finantare de la autoritati. Acopera suma solicitata ca avans in valoare de 11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916280"/>
            <a:ext cx="3456000" cy="446544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1916280"/>
            <a:ext cx="3240000" cy="44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Linii de cred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 pentru investit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pentru finantarea stocuril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AP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RABLA Agrico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pe baza certificatelo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de depoz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accesare fonduri europe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Scrisori de confort si/ sau garantie banca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5805360"/>
            <a:ext cx="3456000" cy="64944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500040" y="121428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Produse CEC Bank pentru finantarea agricultur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843680" y="1197000"/>
            <a:ext cx="112104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571680" y="6467400"/>
            <a:ext cx="738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opyright © CEC Bank 2010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www.cec.ro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"/>
          <p:cNvSpPr/>
          <p:nvPr/>
        </p:nvSpPr>
        <p:spPr>
          <a:xfrm>
            <a:off x="500040" y="1214280"/>
            <a:ext cx="760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Oferta CEC Bank de facilitare a accesului la fonduri europ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176520" y="312480"/>
            <a:ext cx="534960" cy="3887640"/>
          </a:xfrm>
          <a:custGeom>
            <a:avLst/>
            <a:gdLst>
              <a:gd name="textAreaLeft" fmla="*/ 0 w 534960"/>
              <a:gd name="textAreaRight" fmla="*/ 535320 w 534960"/>
              <a:gd name="textAreaTop" fmla="*/ 0 h 3887640"/>
              <a:gd name="textAreaBottom" fmla="*/ 3888000 h 38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eed99">
              <a:alpha val="20000"/>
            </a:srgbClr>
          </a:solidFill>
          <a:ln w="28440">
            <a:solidFill>
              <a:srgbClr val="004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00720" y="2709720"/>
            <a:ext cx="3887640" cy="3456000"/>
          </a:xfrm>
          <a:prstGeom prst="rect">
            <a:avLst/>
          </a:prstGeom>
          <a:solidFill>
            <a:srgbClr val="eeed99">
              <a:alpha val="20000"/>
            </a:srgbClr>
          </a:solidFill>
          <a:ln w="28440">
            <a:solidFill>
              <a:srgbClr val="004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91840" y="203688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ic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2709720"/>
            <a:ext cx="3886200" cy="3456000"/>
          </a:xfrm>
          <a:prstGeom prst="rect">
            <a:avLst/>
          </a:prstGeom>
          <a:solidFill>
            <a:srgbClr val="eeed99">
              <a:alpha val="60000"/>
            </a:srgbClr>
          </a:solidFill>
          <a:ln w="28440">
            <a:solidFill>
              <a:srgbClr val="004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2144880" y="313200"/>
            <a:ext cx="534960" cy="3886200"/>
          </a:xfrm>
          <a:custGeom>
            <a:avLst/>
            <a:gdLst>
              <a:gd name="textAreaLeft" fmla="*/ 0 w 534960"/>
              <a:gd name="textAreaRight" fmla="*/ 535320 w 534960"/>
              <a:gd name="textAreaTop" fmla="*/ 0 h 3886200"/>
              <a:gd name="textAreaBottom" fmla="*/ 388656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eed99">
              <a:alpha val="60000"/>
            </a:srgbClr>
          </a:solidFill>
          <a:ln w="28440">
            <a:solidFill>
              <a:srgbClr val="004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16280" y="203688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826920" y="3794040"/>
            <a:ext cx="7272360" cy="432000"/>
            <a:chOff x="826920" y="3794040"/>
            <a:chExt cx="7272360" cy="432000"/>
          </a:xfrm>
        </p:grpSpPr>
        <p:sp>
          <p:nvSpPr>
            <p:cNvPr id="198" name=""/>
            <p:cNvSpPr/>
            <p:nvPr/>
          </p:nvSpPr>
          <p:spPr>
            <a:xfrm>
              <a:off x="826920" y="3794040"/>
              <a:ext cx="7272360" cy="432000"/>
            </a:xfrm>
            <a:prstGeom prst="parallelogram">
              <a:avLst>
                <a:gd name="adj" fmla="val 104356"/>
              </a:avLst>
            </a:prstGeom>
            <a:solidFill>
              <a:srgbClr val="4f81b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51960" y="3813120"/>
              <a:ext cx="574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o-RO" sz="1600" spc="-1" strike="noStrike">
                  <a:solidFill>
                    <a:srgbClr val="000000"/>
                  </a:solidFill>
                  <a:latin typeface="Arial"/>
                </a:rPr>
                <a:t>Sprijinirea beneficiarilor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i="1" lang="ro-RO" sz="1600" spc="-1" strike="noStrike">
                  <a:solidFill>
                    <a:srgbClr val="000000"/>
                  </a:solidFill>
                  <a:latin typeface="Arial"/>
                </a:rPr>
                <a:t>n acoperirea necesarului de finan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i="1" lang="ro-RO" sz="1600" spc="-1" strike="noStrike">
                  <a:solidFill>
                    <a:srgbClr val="000000"/>
                  </a:solidFill>
                  <a:latin typeface="Arial"/>
                </a:rPr>
                <a:t>a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826920" y="5518080"/>
            <a:ext cx="7272360" cy="432000"/>
            <a:chOff x="826920" y="5518080"/>
            <a:chExt cx="7272360" cy="432000"/>
          </a:xfrm>
        </p:grpSpPr>
        <p:sp>
          <p:nvSpPr>
            <p:cNvPr id="201" name=""/>
            <p:cNvSpPr/>
            <p:nvPr/>
          </p:nvSpPr>
          <p:spPr>
            <a:xfrm>
              <a:off x="826920" y="5518080"/>
              <a:ext cx="7272360" cy="432000"/>
            </a:xfrm>
            <a:prstGeom prst="parallelogram">
              <a:avLst>
                <a:gd name="adj" fmla="val 104356"/>
              </a:avLst>
            </a:prstGeom>
            <a:solidFill>
              <a:srgbClr val="4f81b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20600" y="5540400"/>
              <a:ext cx="336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Campanii educative (TV, presa et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826920" y="2924280"/>
            <a:ext cx="7272360" cy="431640"/>
            <a:chOff x="826920" y="2924280"/>
            <a:chExt cx="7272360" cy="431640"/>
          </a:xfrm>
        </p:grpSpPr>
        <p:sp>
          <p:nvSpPr>
            <p:cNvPr id="204" name=""/>
            <p:cNvSpPr/>
            <p:nvPr/>
          </p:nvSpPr>
          <p:spPr>
            <a:xfrm>
              <a:off x="826920" y="2924280"/>
              <a:ext cx="7272360" cy="431640"/>
            </a:xfrm>
            <a:prstGeom prst="parallelogram">
              <a:avLst>
                <a:gd name="adj" fmla="val 104443"/>
              </a:avLst>
            </a:prstGeom>
            <a:solidFill>
              <a:srgbClr val="4f81b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36960" y="2997360"/>
              <a:ext cx="464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Consiliere prin 42 de Birouri de Fonduri Europe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828720" y="4653000"/>
            <a:ext cx="7272360" cy="431640"/>
            <a:chOff x="828720" y="4653000"/>
            <a:chExt cx="7272360" cy="431640"/>
          </a:xfrm>
        </p:grpSpPr>
        <p:sp>
          <p:nvSpPr>
            <p:cNvPr id="207" name=""/>
            <p:cNvSpPr/>
            <p:nvPr/>
          </p:nvSpPr>
          <p:spPr>
            <a:xfrm>
              <a:off x="828720" y="4653000"/>
              <a:ext cx="7272360" cy="431640"/>
            </a:xfrm>
            <a:prstGeom prst="parallelogram">
              <a:avLst>
                <a:gd name="adj" fmla="val 104443"/>
              </a:avLst>
            </a:prstGeom>
            <a:solidFill>
              <a:srgbClr val="4f81b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20920" y="4710240"/>
              <a:ext cx="606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Experienta in finantarea a peste 4,000 de clienti in acest domeni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571680" y="6072120"/>
            <a:ext cx="40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opyright © CEC Bank 2010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www.cec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611280" y="1268280"/>
            <a:ext cx="37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4363920"/>
            <a:ext cx="8209080" cy="720720"/>
          </a:xfrm>
          <a:prstGeom prst="roundRect">
            <a:avLst>
              <a:gd name="adj" fmla="val 16667"/>
            </a:avLst>
          </a:prstGeom>
          <a:solidFill>
            <a:srgbClr val="0048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1680" y="1990800"/>
            <a:ext cx="832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zentare generala CEC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inantari CEC Bank in agric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oduse de finantare CEC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Oportunitati de finantare din fonduri europene-PN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642960" y="234936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d99"/>
                </a:solidFill>
                <a:latin typeface="Arial"/>
              </a:rPr>
              <a:t>Finantarea  sectorului agri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d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571680" y="6072120"/>
            <a:ext cx="40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d99"/>
                </a:solidFill>
                <a:latin typeface="Georgia"/>
              </a:rPr>
              <a:t>Copyright © CEC Bank 2010</a:t>
            </a:r>
            <a:r>
              <a:rPr b="0" lang="en-US" sz="1200" spc="-1" strike="noStrike">
                <a:solidFill>
                  <a:srgbClr val="eeed99"/>
                </a:solidFill>
                <a:latin typeface="Georgia"/>
              </a:rPr>
              <a:t>	</a:t>
            </a:r>
            <a:r>
              <a:rPr b="0" lang="en-US" sz="1200" spc="-1" strike="noStrike">
                <a:solidFill>
                  <a:srgbClr val="eeed99"/>
                </a:solidFill>
                <a:latin typeface="Georgia"/>
              </a:rPr>
              <a:t>www.cec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39360" y="551664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35000" y="5157720"/>
            <a:ext cx="49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d99"/>
                </a:solidFill>
                <a:latin typeface="Georgia"/>
              </a:rPr>
              <a:t>Marcel Andrei TOLOME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d99"/>
                </a:solidFill>
                <a:latin typeface="Georgia"/>
              </a:rPr>
              <a:t>Director – Sucursala Timisoara CEC Ba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36720" y="4221000"/>
            <a:ext cx="36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eed99"/>
                </a:solidFill>
                <a:latin typeface="Georgia"/>
              </a:rPr>
              <a:t>Timisoara, 24 septembri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571680" y="6467400"/>
            <a:ext cx="72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opyright © CEC Bank 2010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www.cec.ro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1280" y="141300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6720" y="1197000"/>
            <a:ext cx="770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Fonduri europene disponi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00000" y="2060640"/>
          <a:ext cx="6985080" cy="387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060640"/>
                    <a:ext cx="6985080" cy="38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571680" y="6467400"/>
            <a:ext cx="72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opyright © CEC Bank 2010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www.cec.ro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141300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6720" y="1197000"/>
            <a:ext cx="770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ocarea FEADR pe axe priori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00000" y="4289400"/>
            <a:ext cx="2048040" cy="101592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17819" dir="2700000" blurRad="0" rotWithShape="0">
              <a:srgbClr val="1e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eeed99"/>
                </a:solidFill>
                <a:latin typeface="Arial"/>
              </a:rPr>
              <a:t>Axa I</a:t>
            </a:r>
            <a:r>
              <a:rPr b="1" lang="en-US" sz="1200" spc="-1" strike="noStrike">
                <a:solidFill>
                  <a:srgbClr val="eeed99"/>
                </a:solidFill>
                <a:latin typeface="Arial"/>
              </a:rPr>
              <a:t> – </a:t>
            </a:r>
            <a:r>
              <a:rPr b="1" lang="ro-RO" sz="1200" spc="-1" strike="noStrike">
                <a:solidFill>
                  <a:srgbClr val="eeed99"/>
                </a:solidFill>
                <a:latin typeface="Arial"/>
              </a:rPr>
              <a:t>Cresterea competitivitatii in sectorul agricol si fores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eeed99"/>
                </a:solidFill>
                <a:latin typeface="Arial"/>
              </a:rPr>
              <a:t>45% - 3 ,25 mld.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200640" y="4159080"/>
            <a:ext cx="30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00360" y="1844640"/>
            <a:ext cx="3022560" cy="9637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Fondul European pent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Dezvoltare Rura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(FEAD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000000"/>
                </a:solidFill>
                <a:latin typeface="Arial"/>
              </a:rPr>
              <a:t>8,022 mld.</a:t>
            </a: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o-RO" sz="16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03640" y="5835600"/>
            <a:ext cx="2085840" cy="61776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17819" dir="2700000" blurRad="0" rotWithShape="0">
              <a:srgbClr val="1e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lvl="1" marL="26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eeed99"/>
                </a:solidFill>
                <a:latin typeface="Arial"/>
              </a:rPr>
              <a:t>L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eeed99"/>
                </a:solidFill>
                <a:latin typeface="Arial"/>
              </a:rPr>
              <a:t>2,5% - 180,5 m</a:t>
            </a:r>
            <a:r>
              <a:rPr b="1" lang="en-US" sz="1400" spc="-1" strike="noStrike">
                <a:solidFill>
                  <a:srgbClr val="eeed99"/>
                </a:solidFill>
                <a:latin typeface="Arial"/>
              </a:rPr>
              <a:t>i</a:t>
            </a:r>
            <a:r>
              <a:rPr b="1" lang="ro-RO" sz="1400" spc="-1" strike="noStrike">
                <a:solidFill>
                  <a:srgbClr val="eeed99"/>
                </a:solidFill>
                <a:latin typeface="Arial"/>
              </a:rPr>
              <a:t>l. 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21400" y="4284720"/>
            <a:ext cx="1903320" cy="101592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17819" dir="2700000" blurRad="0" rotWithShape="0">
              <a:srgbClr val="1e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eeed99"/>
                </a:solidFill>
                <a:latin typeface="Arial"/>
              </a:rPr>
              <a:t>Axa III</a:t>
            </a:r>
            <a:r>
              <a:rPr b="1" lang="en-US" sz="1200" spc="-1" strike="noStrike">
                <a:solidFill>
                  <a:srgbClr val="eeed99"/>
                </a:solidFill>
                <a:latin typeface="Arial"/>
              </a:rPr>
              <a:t> - </a:t>
            </a:r>
            <a:r>
              <a:rPr b="1" lang="ro-RO" sz="1200" spc="-1" strike="noStrike">
                <a:solidFill>
                  <a:srgbClr val="eeed99"/>
                </a:solidFill>
                <a:latin typeface="Arial"/>
              </a:rPr>
              <a:t>Imbunatatirea calitatii vietii in mediul r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eeed99"/>
                </a:solidFill>
                <a:latin typeface="Arial"/>
              </a:rPr>
              <a:t>30% - 2,12 mld. €</a:t>
            </a:r>
            <a:r>
              <a:rPr b="1" lang="ro-RO" sz="1200" spc="-1" strike="noStrike">
                <a:solidFill>
                  <a:srgbClr val="eeed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32000" y="3265560"/>
            <a:ext cx="2160720" cy="45864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17819" dir="2700000" blurRad="0" rotWithShape="0">
              <a:srgbClr val="1e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lvl="1" marL="26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eeed99"/>
                </a:solidFill>
                <a:latin typeface="Arial"/>
              </a:rPr>
              <a:t>Dezvoltare rur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400" spc="-1" strike="noStrike">
                <a:solidFill>
                  <a:srgbClr val="eeed99"/>
                </a:solidFill>
                <a:latin typeface="Arial"/>
              </a:rPr>
              <a:t>7,5 mld. 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72360" y="2492280"/>
            <a:ext cx="1782720" cy="62064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17819" dir="2700000" blurRad="0" rotWithShape="0">
              <a:srgbClr val="1e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lvl="1" marL="26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eeed99"/>
                </a:solidFill>
                <a:latin typeface="Arial"/>
              </a:rPr>
              <a:t>Transferuri 20% plati direc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4297320"/>
            <a:ext cx="2043000" cy="101304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17819" dir="2700000" blurRad="0" rotWithShape="0">
              <a:srgbClr val="1e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eeed99"/>
                </a:solidFill>
                <a:latin typeface="Arial"/>
              </a:rPr>
              <a:t>Axa II</a:t>
            </a:r>
            <a:r>
              <a:rPr b="1" lang="en-US" sz="1200" spc="-1" strike="noStrike">
                <a:solidFill>
                  <a:srgbClr val="eeed99"/>
                </a:solidFill>
                <a:latin typeface="Arial"/>
              </a:rPr>
              <a:t> - </a:t>
            </a:r>
            <a:r>
              <a:rPr b="1" lang="ro-RO" sz="1200" spc="-1" strike="noStrike">
                <a:solidFill>
                  <a:srgbClr val="eeed99"/>
                </a:solidFill>
                <a:latin typeface="Arial"/>
              </a:rPr>
              <a:t>Gospodarirea terenurilor agricole si foresti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eeed99"/>
                </a:solidFill>
                <a:latin typeface="Arial"/>
              </a:rPr>
              <a:t>25% - 1,8 mld.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4003560" y="3821040"/>
            <a:ext cx="461880" cy="334800"/>
          </a:xfrm>
          <a:prstGeom prst="rightArrow">
            <a:avLst>
              <a:gd name="adj1" fmla="val 54139"/>
              <a:gd name="adj2" fmla="val 51178"/>
            </a:avLst>
          </a:prstGeom>
          <a:solidFill>
            <a:srgbClr val="808000"/>
          </a:solidFill>
          <a:ln w="9360">
            <a:solidFill>
              <a:srgbClr val="cdd7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2151600">
            <a:off x="5756040" y="2391840"/>
            <a:ext cx="503280" cy="157320"/>
          </a:xfrm>
          <a:prstGeom prst="rightArrow">
            <a:avLst>
              <a:gd name="adj1" fmla="val 54139"/>
              <a:gd name="adj2" fmla="val 118677"/>
            </a:avLst>
          </a:prstGeom>
          <a:solidFill>
            <a:srgbClr val="808000"/>
          </a:solidFill>
          <a:ln w="9360">
            <a:solidFill>
              <a:srgbClr val="cdd7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915800">
            <a:off x="5285880" y="3824280"/>
            <a:ext cx="870120" cy="252360"/>
          </a:xfrm>
          <a:prstGeom prst="rightArrow">
            <a:avLst>
              <a:gd name="adj1" fmla="val 54139"/>
              <a:gd name="adj2" fmla="val 127909"/>
            </a:avLst>
          </a:prstGeom>
          <a:solidFill>
            <a:srgbClr val="808000"/>
          </a:solidFill>
          <a:ln w="9360">
            <a:solidFill>
              <a:srgbClr val="cdd7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8121000">
            <a:off x="2401560" y="3881160"/>
            <a:ext cx="774720" cy="230040"/>
          </a:xfrm>
          <a:prstGeom prst="rightArrow">
            <a:avLst>
              <a:gd name="adj1" fmla="val 54139"/>
              <a:gd name="adj2" fmla="val 124935"/>
            </a:avLst>
          </a:prstGeom>
          <a:solidFill>
            <a:srgbClr val="808000"/>
          </a:solidFill>
          <a:ln w="9360">
            <a:solidFill>
              <a:srgbClr val="cdd7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118040" y="5502240"/>
            <a:ext cx="382320" cy="223920"/>
          </a:xfrm>
          <a:prstGeom prst="rightArrow">
            <a:avLst>
              <a:gd name="adj1" fmla="val 54139"/>
              <a:gd name="adj2" fmla="val 63339"/>
            </a:avLst>
          </a:prstGeom>
          <a:solidFill>
            <a:srgbClr val="808000"/>
          </a:solidFill>
          <a:ln w="9360">
            <a:solidFill>
              <a:srgbClr val="cdd7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9400200">
            <a:off x="5249520" y="5516280"/>
            <a:ext cx="774720" cy="230040"/>
          </a:xfrm>
          <a:prstGeom prst="rightArrow">
            <a:avLst>
              <a:gd name="adj1" fmla="val 54139"/>
              <a:gd name="adj2" fmla="val 124935"/>
            </a:avLst>
          </a:prstGeom>
          <a:solidFill>
            <a:srgbClr val="808000"/>
          </a:solidFill>
          <a:ln w="9360">
            <a:solidFill>
              <a:srgbClr val="cdd7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942800">
            <a:off x="2499840" y="5503680"/>
            <a:ext cx="776520" cy="230040"/>
          </a:xfrm>
          <a:prstGeom prst="rightArrow">
            <a:avLst>
              <a:gd name="adj1" fmla="val 54139"/>
              <a:gd name="adj2" fmla="val 125225"/>
            </a:avLst>
          </a:prstGeom>
          <a:solidFill>
            <a:srgbClr val="808000"/>
          </a:solidFill>
          <a:ln w="9360">
            <a:solidFill>
              <a:srgbClr val="cdd7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5400000">
            <a:off x="4088520" y="2962800"/>
            <a:ext cx="328680" cy="225360"/>
          </a:xfrm>
          <a:prstGeom prst="rightArrow">
            <a:avLst>
              <a:gd name="adj1" fmla="val 54139"/>
              <a:gd name="adj2" fmla="val 54105"/>
            </a:avLst>
          </a:prstGeom>
          <a:solidFill>
            <a:srgbClr val="808000"/>
          </a:solidFill>
          <a:ln w="9360">
            <a:solidFill>
              <a:srgbClr val="cdd7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00720" y="334008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estionate de AP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00000" y="321300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estionata de APD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71640" y="3213000"/>
            <a:ext cx="1728720" cy="576360"/>
          </a:xfrm>
          <a:prstGeom prst="rect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72360" y="3213000"/>
            <a:ext cx="1800000" cy="503280"/>
          </a:xfrm>
          <a:prstGeom prst="rect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571680" y="6496200"/>
            <a:ext cx="72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opyright © CEC Bank 2010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www.cec.ro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141300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11280" y="2205000"/>
          <a:ext cx="7848360" cy="4003560"/>
        </p:xfrm>
        <a:graphic>
          <a:graphicData uri="http://schemas.openxmlformats.org/drawingml/2006/table">
            <a:tbl>
              <a:tblPr/>
              <a:tblGrid>
                <a:gridCol w="1785960"/>
                <a:gridCol w="879480"/>
                <a:gridCol w="863640"/>
                <a:gridCol w="1008000"/>
                <a:gridCol w="576000"/>
                <a:gridCol w="1079640"/>
                <a:gridCol w="1081080"/>
                <a:gridCol w="574560"/>
              </a:tblGrid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eeed99"/>
                          </a:solidFill>
                          <a:latin typeface="Arial"/>
                          <a:ea typeface="Arial"/>
                        </a:rPr>
                        <a:t>Masura PNDR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eed99"/>
                          </a:solidFill>
                          <a:latin typeface="Arial"/>
                          <a:ea typeface="Arial"/>
                        </a:rPr>
                        <a:t>Nr proiecte dep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eed99"/>
                          </a:solidFill>
                          <a:latin typeface="Arial"/>
                          <a:ea typeface="Arial"/>
                        </a:rPr>
                        <a:t>Nr. proiecte selec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eed99"/>
                          </a:solidFill>
                          <a:latin typeface="Arial"/>
                          <a:ea typeface="Arial"/>
                        </a:rPr>
                        <a:t>Nr. proiecte contrac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eed99"/>
                          </a:solidFill>
                          <a:latin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eed99"/>
                          </a:solidFill>
                          <a:latin typeface="Arial"/>
                          <a:ea typeface="Arial"/>
                        </a:rPr>
                        <a:t>Valoare contractata (eur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eed99"/>
                          </a:solidFill>
                          <a:latin typeface="Arial"/>
                          <a:ea typeface="Arial"/>
                        </a:rPr>
                        <a:t>Plati efectuate (eur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eed99"/>
                          </a:solidFill>
                          <a:latin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eed99"/>
                          </a:solidFill>
                          <a:latin typeface="Arial"/>
                          <a:ea typeface="Arial"/>
                        </a:rPr>
                        <a:t>M 112 - Instalarea tinerilor fermie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653.0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298.3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eed99"/>
                          </a:solidFill>
                          <a:latin typeface="Arial"/>
                          <a:ea typeface="Arial"/>
                        </a:rPr>
                        <a:t>M 121 - Modernizarea exploatatiilor agric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.535.6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.738.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eed99"/>
                          </a:solidFill>
                          <a:latin typeface="Arial"/>
                          <a:ea typeface="Arial"/>
                        </a:rPr>
                        <a:t>M 123 - Cresterea valorii adaugate a produselor agricole si foresti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4.854.2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.779.5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eed99"/>
                          </a:solidFill>
                          <a:latin typeface="Arial"/>
                          <a:ea typeface="Arial"/>
                        </a:rPr>
                        <a:t>M 141 - Sprijinirea fermelor agricole de semi-subzisten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065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208.6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eed99"/>
                          </a:solidFill>
                          <a:latin typeface="Arial"/>
                          <a:ea typeface="Arial"/>
                        </a:rPr>
                        <a:t>M 312 - Sprijin pentru microintreprinde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5.992.8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329.6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eed99"/>
                          </a:solidFill>
                          <a:latin typeface="Arial"/>
                          <a:ea typeface="Arial"/>
                        </a:rPr>
                        <a:t>M 313 - Incurajarea activitatilor turis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.106.1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91.8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539640" y="1332000"/>
            <a:ext cx="83822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Situatia proiectelor din cadrul PNDR (la 10.09.2010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 cele mai solicitate masuri de finan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571680" y="6496200"/>
            <a:ext cx="72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opyright © CEC Bank 2010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www.cec.ro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09960" y="2004840"/>
            <a:ext cx="2455920" cy="3032280"/>
          </a:xfrm>
          <a:prstGeom prst="rect">
            <a:avLst/>
          </a:prstGeom>
          <a:solidFill>
            <a:srgbClr val="ffcc00"/>
          </a:solidFill>
          <a:ln w="9360">
            <a:solidFill>
              <a:srgbClr val="bbc8d1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70160" y="2003400"/>
            <a:ext cx="1273320" cy="3021120"/>
          </a:xfrm>
          <a:prstGeom prst="rect">
            <a:avLst/>
          </a:prstGeom>
          <a:solidFill>
            <a:srgbClr val="ffcc00"/>
          </a:solidFill>
          <a:ln w="9360">
            <a:solidFill>
              <a:srgbClr val="bbc8d1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60320" y="2809440"/>
            <a:ext cx="7266240" cy="12600"/>
          </a:xfrm>
          <a:prstGeom prst="line">
            <a:avLst/>
          </a:prstGeom>
          <a:ln w="22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0320" y="3538440"/>
            <a:ext cx="7291440" cy="0"/>
          </a:xfrm>
          <a:prstGeom prst="line">
            <a:avLst/>
          </a:prstGeom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60320" y="4302000"/>
            <a:ext cx="72662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36920" y="2227320"/>
            <a:ext cx="74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25040" y="2112840"/>
            <a:ext cx="16009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oarea pub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(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98120" y="2968560"/>
            <a:ext cx="155988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iecte de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96320" y="3786120"/>
            <a:ext cx="17013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iecte selec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01720" y="4451400"/>
            <a:ext cx="2052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iecte contrac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43120" y="2970360"/>
            <a:ext cx="72936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1.4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43120" y="3787920"/>
            <a:ext cx="7293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4.1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43120" y="4579920"/>
            <a:ext cx="7293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3.7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265720" y="2970360"/>
            <a:ext cx="142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2.642.676.4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39160" y="3736800"/>
            <a:ext cx="132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.143.621.7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64360" y="4592520"/>
            <a:ext cx="132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.943.520.0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0320" y="4302000"/>
            <a:ext cx="7278840" cy="0"/>
          </a:xfrm>
          <a:prstGeom prst="line">
            <a:avLst/>
          </a:prstGeom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0320" y="5048280"/>
            <a:ext cx="7304040" cy="0"/>
          </a:xfrm>
          <a:prstGeom prst="line">
            <a:avLst/>
          </a:prstGeom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2480" y="1332000"/>
            <a:ext cx="83822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Situatia proiectelor la nivelul intregului program (septembrie 2010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0800000">
            <a:off x="3771720" y="5145120"/>
            <a:ext cx="2603160" cy="1092240"/>
          </a:xfrm>
          <a:prstGeom prst="wedgeEllipseCallout">
            <a:avLst>
              <a:gd name="adj1" fmla="val -47990"/>
              <a:gd name="adj2" fmla="val 69620"/>
            </a:avLst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11640" y="5229360"/>
            <a:ext cx="17938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Din care plati efectu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419.837.4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571680" y="6496200"/>
            <a:ext cx="72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opyright © CEC Bank 2010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www.cec.ro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82480" y="1332000"/>
            <a:ext cx="83822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Noi sesiuni de depunere de proiecte in perioada urmato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722160" y="2492280"/>
          <a:ext cx="7378920" cy="2857680"/>
        </p:xfrm>
        <a:graphic>
          <a:graphicData uri="http://schemas.openxmlformats.org/drawingml/2006/table">
            <a:tbl>
              <a:tblPr/>
              <a:tblGrid>
                <a:gridCol w="1768680"/>
                <a:gridCol w="2660760"/>
                <a:gridCol w="1447560"/>
                <a:gridCol w="15019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Axa prioritar</a:t>
                      </a:r>
                      <a:r>
                        <a:rPr b="1" lang="en-US" sz="13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1" lang="en-US" sz="13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ro-RO" sz="13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su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Tipul cererii de proiec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Bugetul aloc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641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Creşterea competitivi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</a:t>
                      </a: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toarele agrico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forest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1 Modernizarea exploat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lor agric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unere la term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.10 – 29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.000.000 eu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1 Sprijinirea fermelor agricole de semisubzist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unere la term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10 – 30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.000.000 eu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fi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a grupurilor de produ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unere continu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942.795 eu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 Imbun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</a:t>
                      </a: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rea mediului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a spa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ului ru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1 Prima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ire a terenurilor agric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.10 – 29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.000.000 eu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50920" y="981000"/>
            <a:ext cx="741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ovocari in agricultara in anul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00000" y="1628640"/>
            <a:ext cx="7201080" cy="5040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77600" y="3549600"/>
            <a:ext cx="182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Provoc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518080" y="1628640"/>
            <a:ext cx="2582280" cy="1589040"/>
            <a:chOff x="5518080" y="1628640"/>
            <a:chExt cx="2582280" cy="1589040"/>
          </a:xfrm>
        </p:grpSpPr>
        <p:grpSp>
          <p:nvGrpSpPr>
            <p:cNvPr id="274" name=""/>
            <p:cNvGrpSpPr/>
            <p:nvPr/>
          </p:nvGrpSpPr>
          <p:grpSpPr>
            <a:xfrm>
              <a:off x="5518080" y="1628640"/>
              <a:ext cx="2582280" cy="1589040"/>
              <a:chOff x="5518080" y="1628640"/>
              <a:chExt cx="2582280" cy="1589040"/>
            </a:xfrm>
          </p:grpSpPr>
          <p:sp>
            <p:nvSpPr>
              <p:cNvPr id="275" name=""/>
              <p:cNvSpPr/>
              <p:nvPr/>
            </p:nvSpPr>
            <p:spPr>
              <a:xfrm>
                <a:off x="5518080" y="1628640"/>
                <a:ext cx="2582280" cy="1589040"/>
              </a:xfrm>
              <a:custGeom>
                <a:avLst/>
                <a:gdLst/>
                <a:ahLst/>
                <a:rect l="l" t="t" r="r" b="b"/>
                <a:pathLst>
                  <a:path w="731" h="713">
                    <a:moveTo>
                      <a:pt x="388" y="0"/>
                    </a:moveTo>
                    <a:lnTo>
                      <a:pt x="388" y="145"/>
                    </a:lnTo>
                    <a:lnTo>
                      <a:pt x="414" y="149"/>
                    </a:lnTo>
                    <a:lnTo>
                      <a:pt x="438" y="159"/>
                    </a:lnTo>
                    <a:lnTo>
                      <a:pt x="460" y="171"/>
                    </a:lnTo>
                    <a:lnTo>
                      <a:pt x="478" y="187"/>
                    </a:lnTo>
                    <a:lnTo>
                      <a:pt x="493" y="207"/>
                    </a:lnTo>
                    <a:lnTo>
                      <a:pt x="505" y="230"/>
                    </a:lnTo>
                    <a:lnTo>
                      <a:pt x="513" y="254"/>
                    </a:lnTo>
                    <a:lnTo>
                      <a:pt x="515" y="281"/>
                    </a:lnTo>
                    <a:lnTo>
                      <a:pt x="513" y="308"/>
                    </a:lnTo>
                    <a:lnTo>
                      <a:pt x="505" y="333"/>
                    </a:lnTo>
                    <a:lnTo>
                      <a:pt x="492" y="356"/>
                    </a:lnTo>
                    <a:lnTo>
                      <a:pt x="475" y="376"/>
                    </a:lnTo>
                    <a:lnTo>
                      <a:pt x="455" y="393"/>
                    </a:lnTo>
                    <a:lnTo>
                      <a:pt x="432" y="406"/>
                    </a:lnTo>
                    <a:lnTo>
                      <a:pt x="407" y="414"/>
                    </a:lnTo>
                    <a:lnTo>
                      <a:pt x="379" y="416"/>
                    </a:lnTo>
                    <a:lnTo>
                      <a:pt x="356" y="414"/>
                    </a:lnTo>
                    <a:lnTo>
                      <a:pt x="333" y="408"/>
                    </a:lnTo>
                    <a:lnTo>
                      <a:pt x="313" y="399"/>
                    </a:lnTo>
                    <a:lnTo>
                      <a:pt x="294" y="386"/>
                    </a:lnTo>
                    <a:lnTo>
                      <a:pt x="278" y="371"/>
                    </a:lnTo>
                    <a:lnTo>
                      <a:pt x="265" y="354"/>
                    </a:lnTo>
                    <a:lnTo>
                      <a:pt x="254" y="335"/>
                    </a:lnTo>
                    <a:lnTo>
                      <a:pt x="247" y="313"/>
                    </a:lnTo>
                    <a:lnTo>
                      <a:pt x="199" y="300"/>
                    </a:lnTo>
                    <a:lnTo>
                      <a:pt x="249" y="243"/>
                    </a:lnTo>
                    <a:lnTo>
                      <a:pt x="256" y="223"/>
                    </a:lnTo>
                    <a:lnTo>
                      <a:pt x="265" y="205"/>
                    </a:lnTo>
                    <a:lnTo>
                      <a:pt x="278" y="189"/>
                    </a:lnTo>
                    <a:lnTo>
                      <a:pt x="293" y="175"/>
                    </a:lnTo>
                    <a:lnTo>
                      <a:pt x="313" y="162"/>
                    </a:lnTo>
                    <a:lnTo>
                      <a:pt x="334" y="154"/>
                    </a:lnTo>
                    <a:lnTo>
                      <a:pt x="360" y="147"/>
                    </a:lnTo>
                    <a:lnTo>
                      <a:pt x="388" y="145"/>
                    </a:lnTo>
                    <a:lnTo>
                      <a:pt x="388" y="0"/>
                    </a:lnTo>
                    <a:lnTo>
                      <a:pt x="3" y="0"/>
                    </a:lnTo>
                    <a:lnTo>
                      <a:pt x="14" y="171"/>
                    </a:lnTo>
                    <a:lnTo>
                      <a:pt x="26" y="170"/>
                    </a:lnTo>
                    <a:lnTo>
                      <a:pt x="41" y="170"/>
                    </a:lnTo>
                    <a:lnTo>
                      <a:pt x="56" y="171"/>
                    </a:lnTo>
                    <a:lnTo>
                      <a:pt x="72" y="172"/>
                    </a:lnTo>
                    <a:lnTo>
                      <a:pt x="88" y="176"/>
                    </a:lnTo>
                    <a:lnTo>
                      <a:pt x="103" y="180"/>
                    </a:lnTo>
                    <a:lnTo>
                      <a:pt x="117" y="186"/>
                    </a:lnTo>
                    <a:lnTo>
                      <a:pt x="130" y="195"/>
                    </a:lnTo>
                    <a:lnTo>
                      <a:pt x="144" y="213"/>
                    </a:lnTo>
                    <a:lnTo>
                      <a:pt x="149" y="231"/>
                    </a:lnTo>
                    <a:lnTo>
                      <a:pt x="147" y="251"/>
                    </a:lnTo>
                    <a:lnTo>
                      <a:pt x="138" y="270"/>
                    </a:lnTo>
                    <a:lnTo>
                      <a:pt x="130" y="281"/>
                    </a:lnTo>
                    <a:lnTo>
                      <a:pt x="119" y="289"/>
                    </a:lnTo>
                    <a:lnTo>
                      <a:pt x="108" y="295"/>
                    </a:lnTo>
                    <a:lnTo>
                      <a:pt x="96" y="301"/>
                    </a:lnTo>
                    <a:lnTo>
                      <a:pt x="84" y="305"/>
                    </a:lnTo>
                    <a:lnTo>
                      <a:pt x="71" y="305"/>
                    </a:lnTo>
                    <a:lnTo>
                      <a:pt x="60" y="303"/>
                    </a:lnTo>
                    <a:lnTo>
                      <a:pt x="48" y="299"/>
                    </a:lnTo>
                    <a:lnTo>
                      <a:pt x="45" y="298"/>
                    </a:lnTo>
                    <a:lnTo>
                      <a:pt x="40" y="297"/>
                    </a:lnTo>
                    <a:lnTo>
                      <a:pt x="35" y="297"/>
                    </a:lnTo>
                    <a:lnTo>
                      <a:pt x="29" y="298"/>
                    </a:lnTo>
                    <a:lnTo>
                      <a:pt x="22" y="299"/>
                    </a:lnTo>
                    <a:lnTo>
                      <a:pt x="15" y="300"/>
                    </a:lnTo>
                    <a:lnTo>
                      <a:pt x="7" y="302"/>
                    </a:lnTo>
                    <a:lnTo>
                      <a:pt x="0" y="305"/>
                    </a:lnTo>
                    <a:lnTo>
                      <a:pt x="0" y="547"/>
                    </a:lnTo>
                    <a:lnTo>
                      <a:pt x="129" y="547"/>
                    </a:lnTo>
                    <a:lnTo>
                      <a:pt x="144" y="547"/>
                    </a:lnTo>
                    <a:lnTo>
                      <a:pt x="150" y="561"/>
                    </a:lnTo>
                    <a:lnTo>
                      <a:pt x="170" y="606"/>
                    </a:lnTo>
                    <a:lnTo>
                      <a:pt x="286" y="606"/>
                    </a:lnTo>
                    <a:lnTo>
                      <a:pt x="298" y="570"/>
                    </a:lnTo>
                    <a:lnTo>
                      <a:pt x="302" y="551"/>
                    </a:lnTo>
                    <a:lnTo>
                      <a:pt x="322" y="553"/>
                    </a:lnTo>
                    <a:lnTo>
                      <a:pt x="445" y="563"/>
                    </a:lnTo>
                    <a:lnTo>
                      <a:pt x="459" y="564"/>
                    </a:lnTo>
                    <a:lnTo>
                      <a:pt x="464" y="577"/>
                    </a:lnTo>
                    <a:lnTo>
                      <a:pt x="471" y="593"/>
                    </a:lnTo>
                    <a:lnTo>
                      <a:pt x="479" y="622"/>
                    </a:lnTo>
                    <a:lnTo>
                      <a:pt x="482" y="654"/>
                    </a:lnTo>
                    <a:lnTo>
                      <a:pt x="473" y="684"/>
                    </a:lnTo>
                    <a:lnTo>
                      <a:pt x="475" y="690"/>
                    </a:lnTo>
                    <a:lnTo>
                      <a:pt x="478" y="698"/>
                    </a:lnTo>
                    <a:lnTo>
                      <a:pt x="484" y="706"/>
                    </a:lnTo>
                    <a:lnTo>
                      <a:pt x="492" y="712"/>
                    </a:lnTo>
                    <a:lnTo>
                      <a:pt x="493" y="713"/>
                    </a:lnTo>
                    <a:lnTo>
                      <a:pt x="495" y="713"/>
                    </a:lnTo>
                    <a:lnTo>
                      <a:pt x="496" y="713"/>
                    </a:lnTo>
                    <a:lnTo>
                      <a:pt x="499" y="710"/>
                    </a:lnTo>
                    <a:lnTo>
                      <a:pt x="508" y="690"/>
                    </a:lnTo>
                    <a:lnTo>
                      <a:pt x="513" y="662"/>
                    </a:lnTo>
                    <a:lnTo>
                      <a:pt x="513" y="632"/>
                    </a:lnTo>
                    <a:lnTo>
                      <a:pt x="509" y="608"/>
                    </a:lnTo>
                    <a:lnTo>
                      <a:pt x="505" y="581"/>
                    </a:lnTo>
                    <a:lnTo>
                      <a:pt x="531" y="579"/>
                    </a:lnTo>
                    <a:lnTo>
                      <a:pt x="731" y="567"/>
                    </a:lnTo>
                    <a:lnTo>
                      <a:pt x="731" y="0"/>
                    </a:lnTo>
                    <a:lnTo>
                      <a:pt x="388" y="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179040" y="1831680"/>
                <a:ext cx="1281960" cy="90900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5867280" y="1700280"/>
              <a:ext cx="2160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600" spc="-1" strike="noStrike">
                  <a:solidFill>
                    <a:srgbClr val="000000"/>
                  </a:solidFill>
                  <a:latin typeface="Arial"/>
                </a:rPr>
                <a:t>Dezvoltarea sistemului de asigurari a recoltel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900000" y="4995720"/>
            <a:ext cx="2160360" cy="1698480"/>
            <a:chOff x="900000" y="4995720"/>
            <a:chExt cx="2160360" cy="1698480"/>
          </a:xfrm>
        </p:grpSpPr>
        <p:grpSp>
          <p:nvGrpSpPr>
            <p:cNvPr id="279" name=""/>
            <p:cNvGrpSpPr/>
            <p:nvPr/>
          </p:nvGrpSpPr>
          <p:grpSpPr>
            <a:xfrm>
              <a:off x="900000" y="4995720"/>
              <a:ext cx="2160360" cy="1698480"/>
              <a:chOff x="900000" y="4995720"/>
              <a:chExt cx="2160360" cy="1698480"/>
            </a:xfrm>
          </p:grpSpPr>
          <p:sp>
            <p:nvSpPr>
              <p:cNvPr id="280" name=""/>
              <p:cNvSpPr/>
              <p:nvPr/>
            </p:nvSpPr>
            <p:spPr>
              <a:xfrm>
                <a:off x="900000" y="4995720"/>
                <a:ext cx="2160360" cy="1698480"/>
              </a:xfrm>
              <a:custGeom>
                <a:avLst/>
                <a:gdLst/>
                <a:ahLst/>
                <a:rect l="l" t="t" r="r" b="b"/>
                <a:pathLst>
                  <a:path w="704" h="793">
                    <a:moveTo>
                      <a:pt x="646" y="412"/>
                    </a:moveTo>
                    <a:lnTo>
                      <a:pt x="646" y="394"/>
                    </a:lnTo>
                    <a:lnTo>
                      <a:pt x="646" y="246"/>
                    </a:lnTo>
                    <a:lnTo>
                      <a:pt x="646" y="230"/>
                    </a:lnTo>
                    <a:lnTo>
                      <a:pt x="660" y="224"/>
                    </a:lnTo>
                    <a:lnTo>
                      <a:pt x="704" y="204"/>
                    </a:lnTo>
                    <a:lnTo>
                      <a:pt x="699" y="154"/>
                    </a:lnTo>
                    <a:lnTo>
                      <a:pt x="577" y="165"/>
                    </a:lnTo>
                    <a:lnTo>
                      <a:pt x="560" y="166"/>
                    </a:lnTo>
                    <a:lnTo>
                      <a:pt x="553" y="152"/>
                    </a:lnTo>
                    <a:lnTo>
                      <a:pt x="532" y="107"/>
                    </a:lnTo>
                    <a:lnTo>
                      <a:pt x="416" y="107"/>
                    </a:lnTo>
                    <a:lnTo>
                      <a:pt x="406" y="143"/>
                    </a:lnTo>
                    <a:lnTo>
                      <a:pt x="400" y="162"/>
                    </a:lnTo>
                    <a:lnTo>
                      <a:pt x="381" y="160"/>
                    </a:lnTo>
                    <a:lnTo>
                      <a:pt x="259" y="149"/>
                    </a:lnTo>
                    <a:lnTo>
                      <a:pt x="244" y="148"/>
                    </a:lnTo>
                    <a:lnTo>
                      <a:pt x="238" y="135"/>
                    </a:lnTo>
                    <a:lnTo>
                      <a:pt x="232" y="119"/>
                    </a:lnTo>
                    <a:lnTo>
                      <a:pt x="224" y="91"/>
                    </a:lnTo>
                    <a:lnTo>
                      <a:pt x="221" y="58"/>
                    </a:lnTo>
                    <a:lnTo>
                      <a:pt x="229" y="29"/>
                    </a:lnTo>
                    <a:lnTo>
                      <a:pt x="228" y="23"/>
                    </a:lnTo>
                    <a:lnTo>
                      <a:pt x="225" y="15"/>
                    </a:lnTo>
                    <a:lnTo>
                      <a:pt x="220" y="7"/>
                    </a:lnTo>
                    <a:lnTo>
                      <a:pt x="212" y="1"/>
                    </a:lnTo>
                    <a:lnTo>
                      <a:pt x="209" y="0"/>
                    </a:lnTo>
                    <a:lnTo>
                      <a:pt x="208" y="0"/>
                    </a:lnTo>
                    <a:lnTo>
                      <a:pt x="206" y="1"/>
                    </a:lnTo>
                    <a:lnTo>
                      <a:pt x="203" y="3"/>
                    </a:lnTo>
                    <a:lnTo>
                      <a:pt x="194" y="24"/>
                    </a:lnTo>
                    <a:lnTo>
                      <a:pt x="190" y="52"/>
                    </a:lnTo>
                    <a:lnTo>
                      <a:pt x="191" y="80"/>
                    </a:lnTo>
                    <a:lnTo>
                      <a:pt x="193" y="106"/>
                    </a:lnTo>
                    <a:lnTo>
                      <a:pt x="199" y="132"/>
                    </a:lnTo>
                    <a:lnTo>
                      <a:pt x="171" y="133"/>
                    </a:lnTo>
                    <a:lnTo>
                      <a:pt x="0" y="145"/>
                    </a:lnTo>
                    <a:lnTo>
                      <a:pt x="0" y="793"/>
                    </a:lnTo>
                    <a:lnTo>
                      <a:pt x="310" y="793"/>
                    </a:lnTo>
                    <a:lnTo>
                      <a:pt x="310" y="610"/>
                    </a:lnTo>
                    <a:lnTo>
                      <a:pt x="278" y="608"/>
                    </a:lnTo>
                    <a:lnTo>
                      <a:pt x="249" y="600"/>
                    </a:lnTo>
                    <a:lnTo>
                      <a:pt x="224" y="587"/>
                    </a:lnTo>
                    <a:lnTo>
                      <a:pt x="202" y="570"/>
                    </a:lnTo>
                    <a:lnTo>
                      <a:pt x="185" y="549"/>
                    </a:lnTo>
                    <a:lnTo>
                      <a:pt x="171" y="526"/>
                    </a:lnTo>
                    <a:lnTo>
                      <a:pt x="163" y="501"/>
                    </a:lnTo>
                    <a:lnTo>
                      <a:pt x="161" y="476"/>
                    </a:lnTo>
                    <a:lnTo>
                      <a:pt x="163" y="448"/>
                    </a:lnTo>
                    <a:lnTo>
                      <a:pt x="171" y="423"/>
                    </a:lnTo>
                    <a:lnTo>
                      <a:pt x="184" y="400"/>
                    </a:lnTo>
                    <a:lnTo>
                      <a:pt x="201" y="380"/>
                    </a:lnTo>
                    <a:lnTo>
                      <a:pt x="221" y="363"/>
                    </a:lnTo>
                    <a:lnTo>
                      <a:pt x="244" y="350"/>
                    </a:lnTo>
                    <a:lnTo>
                      <a:pt x="269" y="342"/>
                    </a:lnTo>
                    <a:lnTo>
                      <a:pt x="297" y="340"/>
                    </a:lnTo>
                    <a:lnTo>
                      <a:pt x="318" y="342"/>
                    </a:lnTo>
                    <a:lnTo>
                      <a:pt x="340" y="347"/>
                    </a:lnTo>
                    <a:lnTo>
                      <a:pt x="360" y="356"/>
                    </a:lnTo>
                    <a:lnTo>
                      <a:pt x="378" y="368"/>
                    </a:lnTo>
                    <a:lnTo>
                      <a:pt x="394" y="383"/>
                    </a:lnTo>
                    <a:lnTo>
                      <a:pt x="408" y="399"/>
                    </a:lnTo>
                    <a:lnTo>
                      <a:pt x="418" y="417"/>
                    </a:lnTo>
                    <a:lnTo>
                      <a:pt x="427" y="438"/>
                    </a:lnTo>
                    <a:lnTo>
                      <a:pt x="476" y="495"/>
                    </a:lnTo>
                    <a:lnTo>
                      <a:pt x="428" y="508"/>
                    </a:lnTo>
                    <a:lnTo>
                      <a:pt x="421" y="527"/>
                    </a:lnTo>
                    <a:lnTo>
                      <a:pt x="412" y="546"/>
                    </a:lnTo>
                    <a:lnTo>
                      <a:pt x="400" y="562"/>
                    </a:lnTo>
                    <a:lnTo>
                      <a:pt x="385" y="577"/>
                    </a:lnTo>
                    <a:lnTo>
                      <a:pt x="369" y="590"/>
                    </a:lnTo>
                    <a:lnTo>
                      <a:pt x="351" y="600"/>
                    </a:lnTo>
                    <a:lnTo>
                      <a:pt x="331" y="607"/>
                    </a:lnTo>
                    <a:lnTo>
                      <a:pt x="310" y="610"/>
                    </a:lnTo>
                    <a:lnTo>
                      <a:pt x="310" y="793"/>
                    </a:lnTo>
                    <a:lnTo>
                      <a:pt x="684" y="793"/>
                    </a:lnTo>
                    <a:lnTo>
                      <a:pt x="675" y="650"/>
                    </a:lnTo>
                    <a:lnTo>
                      <a:pt x="662" y="652"/>
                    </a:lnTo>
                    <a:lnTo>
                      <a:pt x="647" y="652"/>
                    </a:lnTo>
                    <a:lnTo>
                      <a:pt x="632" y="650"/>
                    </a:lnTo>
                    <a:lnTo>
                      <a:pt x="616" y="649"/>
                    </a:lnTo>
                    <a:lnTo>
                      <a:pt x="600" y="646"/>
                    </a:lnTo>
                    <a:lnTo>
                      <a:pt x="585" y="641"/>
                    </a:lnTo>
                    <a:lnTo>
                      <a:pt x="571" y="634"/>
                    </a:lnTo>
                    <a:lnTo>
                      <a:pt x="559" y="625"/>
                    </a:lnTo>
                    <a:lnTo>
                      <a:pt x="545" y="609"/>
                    </a:lnTo>
                    <a:lnTo>
                      <a:pt x="539" y="591"/>
                    </a:lnTo>
                    <a:lnTo>
                      <a:pt x="541" y="571"/>
                    </a:lnTo>
                    <a:lnTo>
                      <a:pt x="551" y="552"/>
                    </a:lnTo>
                    <a:lnTo>
                      <a:pt x="559" y="541"/>
                    </a:lnTo>
                    <a:lnTo>
                      <a:pt x="569" y="533"/>
                    </a:lnTo>
                    <a:lnTo>
                      <a:pt x="581" y="526"/>
                    </a:lnTo>
                    <a:lnTo>
                      <a:pt x="592" y="521"/>
                    </a:lnTo>
                    <a:lnTo>
                      <a:pt x="605" y="517"/>
                    </a:lnTo>
                    <a:lnTo>
                      <a:pt x="617" y="516"/>
                    </a:lnTo>
                    <a:lnTo>
                      <a:pt x="629" y="518"/>
                    </a:lnTo>
                    <a:lnTo>
                      <a:pt x="640" y="523"/>
                    </a:lnTo>
                    <a:lnTo>
                      <a:pt x="644" y="524"/>
                    </a:lnTo>
                    <a:lnTo>
                      <a:pt x="648" y="525"/>
                    </a:lnTo>
                    <a:lnTo>
                      <a:pt x="654" y="524"/>
                    </a:lnTo>
                    <a:lnTo>
                      <a:pt x="660" y="524"/>
                    </a:lnTo>
                    <a:lnTo>
                      <a:pt x="668" y="523"/>
                    </a:lnTo>
                    <a:lnTo>
                      <a:pt x="675" y="521"/>
                    </a:lnTo>
                    <a:lnTo>
                      <a:pt x="683" y="518"/>
                    </a:lnTo>
                    <a:lnTo>
                      <a:pt x="690" y="516"/>
                    </a:lnTo>
                    <a:lnTo>
                      <a:pt x="698" y="427"/>
                    </a:lnTo>
                    <a:lnTo>
                      <a:pt x="663" y="417"/>
                    </a:lnTo>
                    <a:lnTo>
                      <a:pt x="646" y="412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234080" y="5528880"/>
                <a:ext cx="1114200" cy="87372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900000" y="5354640"/>
              <a:ext cx="16034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600" spc="-1" strike="noStrike">
                  <a:solidFill>
                    <a:srgbClr val="000000"/>
                  </a:solidFill>
                  <a:latin typeface="Arial"/>
                </a:rPr>
                <a:t>Diversificarea sistemului de subventii acordate in acest sec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003640" y="2894040"/>
            <a:ext cx="3240360" cy="2269800"/>
            <a:chOff x="5003640" y="2894040"/>
            <a:chExt cx="3240360" cy="2269800"/>
          </a:xfrm>
        </p:grpSpPr>
        <p:grpSp>
          <p:nvGrpSpPr>
            <p:cNvPr id="284" name=""/>
            <p:cNvGrpSpPr/>
            <p:nvPr/>
          </p:nvGrpSpPr>
          <p:grpSpPr>
            <a:xfrm>
              <a:off x="5003640" y="2894040"/>
              <a:ext cx="3096720" cy="2269800"/>
              <a:chOff x="5003640" y="2894040"/>
              <a:chExt cx="3096720" cy="2269800"/>
            </a:xfrm>
          </p:grpSpPr>
          <p:sp>
            <p:nvSpPr>
              <p:cNvPr id="285" name=""/>
              <p:cNvSpPr/>
              <p:nvPr/>
            </p:nvSpPr>
            <p:spPr>
              <a:xfrm>
                <a:off x="5003640" y="2894040"/>
                <a:ext cx="3096720" cy="2269800"/>
              </a:xfrm>
              <a:custGeom>
                <a:avLst/>
                <a:gdLst/>
                <a:ahLst/>
                <a:rect l="l" t="t" r="r" b="b"/>
                <a:pathLst>
                  <a:path w="897" h="1021">
                    <a:moveTo>
                      <a:pt x="702" y="461"/>
                    </a:moveTo>
                    <a:lnTo>
                      <a:pt x="751" y="519"/>
                    </a:lnTo>
                    <a:lnTo>
                      <a:pt x="703" y="532"/>
                    </a:lnTo>
                    <a:lnTo>
                      <a:pt x="696" y="552"/>
                    </a:lnTo>
                    <a:lnTo>
                      <a:pt x="685" y="572"/>
                    </a:lnTo>
                    <a:lnTo>
                      <a:pt x="672" y="590"/>
                    </a:lnTo>
                    <a:lnTo>
                      <a:pt x="656" y="605"/>
                    </a:lnTo>
                    <a:lnTo>
                      <a:pt x="637" y="617"/>
                    </a:lnTo>
                    <a:lnTo>
                      <a:pt x="616" y="626"/>
                    </a:lnTo>
                    <a:lnTo>
                      <a:pt x="595" y="632"/>
                    </a:lnTo>
                    <a:lnTo>
                      <a:pt x="572" y="634"/>
                    </a:lnTo>
                    <a:lnTo>
                      <a:pt x="544" y="632"/>
                    </a:lnTo>
                    <a:lnTo>
                      <a:pt x="519" y="624"/>
                    </a:lnTo>
                    <a:lnTo>
                      <a:pt x="496" y="611"/>
                    </a:lnTo>
                    <a:lnTo>
                      <a:pt x="476" y="594"/>
                    </a:lnTo>
                    <a:lnTo>
                      <a:pt x="459" y="574"/>
                    </a:lnTo>
                    <a:lnTo>
                      <a:pt x="446" y="551"/>
                    </a:lnTo>
                    <a:lnTo>
                      <a:pt x="438" y="526"/>
                    </a:lnTo>
                    <a:lnTo>
                      <a:pt x="436" y="499"/>
                    </a:lnTo>
                    <a:lnTo>
                      <a:pt x="438" y="472"/>
                    </a:lnTo>
                    <a:lnTo>
                      <a:pt x="446" y="447"/>
                    </a:lnTo>
                    <a:lnTo>
                      <a:pt x="459" y="424"/>
                    </a:lnTo>
                    <a:lnTo>
                      <a:pt x="476" y="404"/>
                    </a:lnTo>
                    <a:lnTo>
                      <a:pt x="496" y="387"/>
                    </a:lnTo>
                    <a:lnTo>
                      <a:pt x="519" y="374"/>
                    </a:lnTo>
                    <a:lnTo>
                      <a:pt x="544" y="366"/>
                    </a:lnTo>
                    <a:lnTo>
                      <a:pt x="572" y="364"/>
                    </a:lnTo>
                    <a:lnTo>
                      <a:pt x="580" y="364"/>
                    </a:lnTo>
                    <a:lnTo>
                      <a:pt x="588" y="365"/>
                    </a:lnTo>
                    <a:lnTo>
                      <a:pt x="596" y="366"/>
                    </a:lnTo>
                    <a:lnTo>
                      <a:pt x="604" y="367"/>
                    </a:lnTo>
                    <a:lnTo>
                      <a:pt x="611" y="370"/>
                    </a:lnTo>
                    <a:lnTo>
                      <a:pt x="619" y="373"/>
                    </a:lnTo>
                    <a:lnTo>
                      <a:pt x="626" y="375"/>
                    </a:lnTo>
                    <a:lnTo>
                      <a:pt x="633" y="379"/>
                    </a:lnTo>
                    <a:lnTo>
                      <a:pt x="897" y="403"/>
                    </a:lnTo>
                    <a:lnTo>
                      <a:pt x="897" y="19"/>
                    </a:lnTo>
                    <a:lnTo>
                      <a:pt x="726" y="30"/>
                    </a:lnTo>
                    <a:lnTo>
                      <a:pt x="727" y="58"/>
                    </a:lnTo>
                    <a:lnTo>
                      <a:pt x="725" y="89"/>
                    </a:lnTo>
                    <a:lnTo>
                      <a:pt x="717" y="120"/>
                    </a:lnTo>
                    <a:lnTo>
                      <a:pt x="702" y="146"/>
                    </a:lnTo>
                    <a:lnTo>
                      <a:pt x="694" y="155"/>
                    </a:lnTo>
                    <a:lnTo>
                      <a:pt x="684" y="160"/>
                    </a:lnTo>
                    <a:lnTo>
                      <a:pt x="675" y="164"/>
                    </a:lnTo>
                    <a:lnTo>
                      <a:pt x="666" y="166"/>
                    </a:lnTo>
                    <a:lnTo>
                      <a:pt x="656" y="166"/>
                    </a:lnTo>
                    <a:lnTo>
                      <a:pt x="646" y="164"/>
                    </a:lnTo>
                    <a:lnTo>
                      <a:pt x="636" y="160"/>
                    </a:lnTo>
                    <a:lnTo>
                      <a:pt x="627" y="155"/>
                    </a:lnTo>
                    <a:lnTo>
                      <a:pt x="616" y="146"/>
                    </a:lnTo>
                    <a:lnTo>
                      <a:pt x="608" y="136"/>
                    </a:lnTo>
                    <a:lnTo>
                      <a:pt x="602" y="125"/>
                    </a:lnTo>
                    <a:lnTo>
                      <a:pt x="596" y="113"/>
                    </a:lnTo>
                    <a:lnTo>
                      <a:pt x="592" y="101"/>
                    </a:lnTo>
                    <a:lnTo>
                      <a:pt x="592" y="88"/>
                    </a:lnTo>
                    <a:lnTo>
                      <a:pt x="594" y="76"/>
                    </a:lnTo>
                    <a:lnTo>
                      <a:pt x="598" y="65"/>
                    </a:lnTo>
                    <a:lnTo>
                      <a:pt x="600" y="57"/>
                    </a:lnTo>
                    <a:lnTo>
                      <a:pt x="599" y="44"/>
                    </a:lnTo>
                    <a:lnTo>
                      <a:pt x="596" y="30"/>
                    </a:lnTo>
                    <a:lnTo>
                      <a:pt x="591" y="14"/>
                    </a:lnTo>
                    <a:lnTo>
                      <a:pt x="504" y="7"/>
                    </a:lnTo>
                    <a:lnTo>
                      <a:pt x="493" y="42"/>
                    </a:lnTo>
                    <a:lnTo>
                      <a:pt x="488" y="59"/>
                    </a:lnTo>
                    <a:lnTo>
                      <a:pt x="470" y="59"/>
                    </a:lnTo>
                    <a:lnTo>
                      <a:pt x="321" y="59"/>
                    </a:lnTo>
                    <a:lnTo>
                      <a:pt x="306" y="59"/>
                    </a:lnTo>
                    <a:lnTo>
                      <a:pt x="299" y="44"/>
                    </a:lnTo>
                    <a:lnTo>
                      <a:pt x="279" y="0"/>
                    </a:lnTo>
                    <a:lnTo>
                      <a:pt x="166" y="0"/>
                    </a:lnTo>
                    <a:lnTo>
                      <a:pt x="166" y="143"/>
                    </a:lnTo>
                    <a:lnTo>
                      <a:pt x="166" y="184"/>
                    </a:lnTo>
                    <a:lnTo>
                      <a:pt x="142" y="184"/>
                    </a:lnTo>
                    <a:lnTo>
                      <a:pt x="73" y="184"/>
                    </a:lnTo>
                    <a:lnTo>
                      <a:pt x="62" y="184"/>
                    </a:lnTo>
                    <a:lnTo>
                      <a:pt x="52" y="187"/>
                    </a:lnTo>
                    <a:lnTo>
                      <a:pt x="44" y="189"/>
                    </a:lnTo>
                    <a:lnTo>
                      <a:pt x="35" y="192"/>
                    </a:lnTo>
                    <a:lnTo>
                      <a:pt x="28" y="196"/>
                    </a:lnTo>
                    <a:lnTo>
                      <a:pt x="21" y="202"/>
                    </a:lnTo>
                    <a:lnTo>
                      <a:pt x="15" y="207"/>
                    </a:lnTo>
                    <a:lnTo>
                      <a:pt x="11" y="214"/>
                    </a:lnTo>
                    <a:lnTo>
                      <a:pt x="6" y="224"/>
                    </a:lnTo>
                    <a:lnTo>
                      <a:pt x="3" y="234"/>
                    </a:lnTo>
                    <a:lnTo>
                      <a:pt x="1" y="247"/>
                    </a:lnTo>
                    <a:lnTo>
                      <a:pt x="0" y="261"/>
                    </a:lnTo>
                    <a:lnTo>
                      <a:pt x="0" y="270"/>
                    </a:lnTo>
                    <a:lnTo>
                      <a:pt x="1" y="275"/>
                    </a:lnTo>
                    <a:lnTo>
                      <a:pt x="3" y="278"/>
                    </a:lnTo>
                    <a:lnTo>
                      <a:pt x="4" y="279"/>
                    </a:lnTo>
                    <a:lnTo>
                      <a:pt x="7" y="282"/>
                    </a:lnTo>
                    <a:lnTo>
                      <a:pt x="12" y="283"/>
                    </a:lnTo>
                    <a:lnTo>
                      <a:pt x="19" y="284"/>
                    </a:lnTo>
                    <a:lnTo>
                      <a:pt x="27" y="284"/>
                    </a:lnTo>
                    <a:lnTo>
                      <a:pt x="36" y="282"/>
                    </a:lnTo>
                    <a:lnTo>
                      <a:pt x="46" y="280"/>
                    </a:lnTo>
                    <a:lnTo>
                      <a:pt x="58" y="275"/>
                    </a:lnTo>
                    <a:lnTo>
                      <a:pt x="70" y="268"/>
                    </a:lnTo>
                    <a:lnTo>
                      <a:pt x="84" y="261"/>
                    </a:lnTo>
                    <a:lnTo>
                      <a:pt x="99" y="259"/>
                    </a:lnTo>
                    <a:lnTo>
                      <a:pt x="112" y="258"/>
                    </a:lnTo>
                    <a:lnTo>
                      <a:pt x="124" y="259"/>
                    </a:lnTo>
                    <a:lnTo>
                      <a:pt x="135" y="260"/>
                    </a:lnTo>
                    <a:lnTo>
                      <a:pt x="144" y="264"/>
                    </a:lnTo>
                    <a:lnTo>
                      <a:pt x="150" y="266"/>
                    </a:lnTo>
                    <a:lnTo>
                      <a:pt x="153" y="267"/>
                    </a:lnTo>
                    <a:lnTo>
                      <a:pt x="172" y="276"/>
                    </a:lnTo>
                    <a:lnTo>
                      <a:pt x="172" y="307"/>
                    </a:lnTo>
                    <a:lnTo>
                      <a:pt x="170" y="314"/>
                    </a:lnTo>
                    <a:lnTo>
                      <a:pt x="167" y="318"/>
                    </a:lnTo>
                    <a:lnTo>
                      <a:pt x="161" y="325"/>
                    </a:lnTo>
                    <a:lnTo>
                      <a:pt x="154" y="344"/>
                    </a:lnTo>
                    <a:lnTo>
                      <a:pt x="151" y="372"/>
                    </a:lnTo>
                    <a:lnTo>
                      <a:pt x="154" y="404"/>
                    </a:lnTo>
                    <a:lnTo>
                      <a:pt x="161" y="437"/>
                    </a:lnTo>
                    <a:lnTo>
                      <a:pt x="169" y="466"/>
                    </a:lnTo>
                    <a:lnTo>
                      <a:pt x="173" y="466"/>
                    </a:lnTo>
                    <a:lnTo>
                      <a:pt x="177" y="466"/>
                    </a:lnTo>
                    <a:lnTo>
                      <a:pt x="182" y="466"/>
                    </a:lnTo>
                    <a:lnTo>
                      <a:pt x="187" y="465"/>
                    </a:lnTo>
                    <a:lnTo>
                      <a:pt x="192" y="465"/>
                    </a:lnTo>
                    <a:lnTo>
                      <a:pt x="199" y="464"/>
                    </a:lnTo>
                    <a:lnTo>
                      <a:pt x="206" y="464"/>
                    </a:lnTo>
                    <a:lnTo>
                      <a:pt x="214" y="463"/>
                    </a:lnTo>
                    <a:lnTo>
                      <a:pt x="224" y="463"/>
                    </a:lnTo>
                    <a:lnTo>
                      <a:pt x="235" y="463"/>
                    </a:lnTo>
                    <a:lnTo>
                      <a:pt x="245" y="465"/>
                    </a:lnTo>
                    <a:lnTo>
                      <a:pt x="256" y="467"/>
                    </a:lnTo>
                    <a:lnTo>
                      <a:pt x="265" y="471"/>
                    </a:lnTo>
                    <a:lnTo>
                      <a:pt x="274" y="476"/>
                    </a:lnTo>
                    <a:lnTo>
                      <a:pt x="282" y="481"/>
                    </a:lnTo>
                    <a:lnTo>
                      <a:pt x="290" y="488"/>
                    </a:lnTo>
                    <a:lnTo>
                      <a:pt x="298" y="496"/>
                    </a:lnTo>
                    <a:lnTo>
                      <a:pt x="305" y="505"/>
                    </a:lnTo>
                    <a:lnTo>
                      <a:pt x="312" y="514"/>
                    </a:lnTo>
                    <a:lnTo>
                      <a:pt x="316" y="524"/>
                    </a:lnTo>
                    <a:lnTo>
                      <a:pt x="320" y="533"/>
                    </a:lnTo>
                    <a:lnTo>
                      <a:pt x="323" y="541"/>
                    </a:lnTo>
                    <a:lnTo>
                      <a:pt x="324" y="549"/>
                    </a:lnTo>
                    <a:lnTo>
                      <a:pt x="326" y="556"/>
                    </a:lnTo>
                    <a:lnTo>
                      <a:pt x="322" y="571"/>
                    </a:lnTo>
                    <a:lnTo>
                      <a:pt x="313" y="583"/>
                    </a:lnTo>
                    <a:lnTo>
                      <a:pt x="303" y="593"/>
                    </a:lnTo>
                    <a:lnTo>
                      <a:pt x="293" y="598"/>
                    </a:lnTo>
                    <a:lnTo>
                      <a:pt x="284" y="603"/>
                    </a:lnTo>
                    <a:lnTo>
                      <a:pt x="274" y="606"/>
                    </a:lnTo>
                    <a:lnTo>
                      <a:pt x="265" y="610"/>
                    </a:lnTo>
                    <a:lnTo>
                      <a:pt x="256" y="610"/>
                    </a:lnTo>
                    <a:lnTo>
                      <a:pt x="245" y="610"/>
                    </a:lnTo>
                    <a:lnTo>
                      <a:pt x="237" y="609"/>
                    </a:lnTo>
                    <a:lnTo>
                      <a:pt x="228" y="606"/>
                    </a:lnTo>
                    <a:lnTo>
                      <a:pt x="220" y="602"/>
                    </a:lnTo>
                    <a:lnTo>
                      <a:pt x="214" y="599"/>
                    </a:lnTo>
                    <a:lnTo>
                      <a:pt x="206" y="599"/>
                    </a:lnTo>
                    <a:lnTo>
                      <a:pt x="198" y="601"/>
                    </a:lnTo>
                    <a:lnTo>
                      <a:pt x="191" y="603"/>
                    </a:lnTo>
                    <a:lnTo>
                      <a:pt x="190" y="617"/>
                    </a:lnTo>
                    <a:lnTo>
                      <a:pt x="188" y="635"/>
                    </a:lnTo>
                    <a:lnTo>
                      <a:pt x="183" y="657"/>
                    </a:lnTo>
                    <a:lnTo>
                      <a:pt x="176" y="681"/>
                    </a:lnTo>
                    <a:lnTo>
                      <a:pt x="176" y="682"/>
                    </a:lnTo>
                    <a:lnTo>
                      <a:pt x="176" y="682"/>
                    </a:lnTo>
                    <a:lnTo>
                      <a:pt x="176" y="683"/>
                    </a:lnTo>
                    <a:lnTo>
                      <a:pt x="177" y="685"/>
                    </a:lnTo>
                    <a:lnTo>
                      <a:pt x="178" y="685"/>
                    </a:lnTo>
                    <a:lnTo>
                      <a:pt x="181" y="685"/>
                    </a:lnTo>
                    <a:lnTo>
                      <a:pt x="182" y="686"/>
                    </a:lnTo>
                    <a:lnTo>
                      <a:pt x="183" y="686"/>
                    </a:lnTo>
                    <a:lnTo>
                      <a:pt x="185" y="725"/>
                    </a:lnTo>
                    <a:lnTo>
                      <a:pt x="185" y="740"/>
                    </a:lnTo>
                    <a:lnTo>
                      <a:pt x="183" y="751"/>
                    </a:lnTo>
                    <a:lnTo>
                      <a:pt x="180" y="760"/>
                    </a:lnTo>
                    <a:lnTo>
                      <a:pt x="174" y="768"/>
                    </a:lnTo>
                    <a:lnTo>
                      <a:pt x="167" y="775"/>
                    </a:lnTo>
                    <a:lnTo>
                      <a:pt x="158" y="781"/>
                    </a:lnTo>
                    <a:lnTo>
                      <a:pt x="147" y="787"/>
                    </a:lnTo>
                    <a:lnTo>
                      <a:pt x="135" y="793"/>
                    </a:lnTo>
                    <a:lnTo>
                      <a:pt x="129" y="795"/>
                    </a:lnTo>
                    <a:lnTo>
                      <a:pt x="124" y="797"/>
                    </a:lnTo>
                    <a:lnTo>
                      <a:pt x="119" y="798"/>
                    </a:lnTo>
                    <a:lnTo>
                      <a:pt x="113" y="799"/>
                    </a:lnTo>
                    <a:lnTo>
                      <a:pt x="108" y="802"/>
                    </a:lnTo>
                    <a:lnTo>
                      <a:pt x="103" y="802"/>
                    </a:lnTo>
                    <a:lnTo>
                      <a:pt x="97" y="803"/>
                    </a:lnTo>
                    <a:lnTo>
                      <a:pt x="91" y="804"/>
                    </a:lnTo>
                    <a:lnTo>
                      <a:pt x="76" y="805"/>
                    </a:lnTo>
                    <a:lnTo>
                      <a:pt x="61" y="803"/>
                    </a:lnTo>
                    <a:lnTo>
                      <a:pt x="47" y="802"/>
                    </a:lnTo>
                    <a:lnTo>
                      <a:pt x="36" y="802"/>
                    </a:lnTo>
                    <a:lnTo>
                      <a:pt x="26" y="805"/>
                    </a:lnTo>
                    <a:lnTo>
                      <a:pt x="19" y="814"/>
                    </a:lnTo>
                    <a:lnTo>
                      <a:pt x="16" y="831"/>
                    </a:lnTo>
                    <a:lnTo>
                      <a:pt x="18" y="857"/>
                    </a:lnTo>
                    <a:lnTo>
                      <a:pt x="18" y="858"/>
                    </a:lnTo>
                    <a:lnTo>
                      <a:pt x="18" y="860"/>
                    </a:lnTo>
                    <a:lnTo>
                      <a:pt x="16" y="862"/>
                    </a:lnTo>
                    <a:lnTo>
                      <a:pt x="16" y="863"/>
                    </a:lnTo>
                    <a:lnTo>
                      <a:pt x="20" y="864"/>
                    </a:lnTo>
                    <a:lnTo>
                      <a:pt x="24" y="865"/>
                    </a:lnTo>
                    <a:lnTo>
                      <a:pt x="29" y="865"/>
                    </a:lnTo>
                    <a:lnTo>
                      <a:pt x="35" y="865"/>
                    </a:lnTo>
                    <a:lnTo>
                      <a:pt x="39" y="865"/>
                    </a:lnTo>
                    <a:lnTo>
                      <a:pt x="45" y="865"/>
                    </a:lnTo>
                    <a:lnTo>
                      <a:pt x="50" y="865"/>
                    </a:lnTo>
                    <a:lnTo>
                      <a:pt x="53" y="865"/>
                    </a:lnTo>
                    <a:lnTo>
                      <a:pt x="58" y="864"/>
                    </a:lnTo>
                    <a:lnTo>
                      <a:pt x="62" y="864"/>
                    </a:lnTo>
                    <a:lnTo>
                      <a:pt x="66" y="864"/>
                    </a:lnTo>
                    <a:lnTo>
                      <a:pt x="70" y="864"/>
                    </a:lnTo>
                    <a:lnTo>
                      <a:pt x="83" y="864"/>
                    </a:lnTo>
                    <a:lnTo>
                      <a:pt x="97" y="865"/>
                    </a:lnTo>
                    <a:lnTo>
                      <a:pt x="112" y="867"/>
                    </a:lnTo>
                    <a:lnTo>
                      <a:pt x="126" y="868"/>
                    </a:lnTo>
                    <a:lnTo>
                      <a:pt x="137" y="871"/>
                    </a:lnTo>
                    <a:lnTo>
                      <a:pt x="147" y="872"/>
                    </a:lnTo>
                    <a:lnTo>
                      <a:pt x="154" y="873"/>
                    </a:lnTo>
                    <a:lnTo>
                      <a:pt x="158" y="874"/>
                    </a:lnTo>
                    <a:lnTo>
                      <a:pt x="178" y="878"/>
                    </a:lnTo>
                    <a:lnTo>
                      <a:pt x="178" y="918"/>
                    </a:lnTo>
                    <a:lnTo>
                      <a:pt x="178" y="924"/>
                    </a:lnTo>
                    <a:lnTo>
                      <a:pt x="180" y="942"/>
                    </a:lnTo>
                    <a:lnTo>
                      <a:pt x="180" y="974"/>
                    </a:lnTo>
                    <a:lnTo>
                      <a:pt x="180" y="1020"/>
                    </a:lnTo>
                    <a:lnTo>
                      <a:pt x="229" y="1021"/>
                    </a:lnTo>
                    <a:lnTo>
                      <a:pt x="230" y="1016"/>
                    </a:lnTo>
                    <a:lnTo>
                      <a:pt x="231" y="1010"/>
                    </a:lnTo>
                    <a:lnTo>
                      <a:pt x="234" y="1003"/>
                    </a:lnTo>
                    <a:lnTo>
                      <a:pt x="236" y="996"/>
                    </a:lnTo>
                    <a:lnTo>
                      <a:pt x="237" y="990"/>
                    </a:lnTo>
                    <a:lnTo>
                      <a:pt x="236" y="983"/>
                    </a:lnTo>
                    <a:lnTo>
                      <a:pt x="235" y="977"/>
                    </a:lnTo>
                    <a:lnTo>
                      <a:pt x="231" y="968"/>
                    </a:lnTo>
                    <a:lnTo>
                      <a:pt x="226" y="954"/>
                    </a:lnTo>
                    <a:lnTo>
                      <a:pt x="221" y="936"/>
                    </a:lnTo>
                    <a:lnTo>
                      <a:pt x="221" y="914"/>
                    </a:lnTo>
                    <a:lnTo>
                      <a:pt x="226" y="889"/>
                    </a:lnTo>
                    <a:lnTo>
                      <a:pt x="228" y="882"/>
                    </a:lnTo>
                    <a:lnTo>
                      <a:pt x="231" y="875"/>
                    </a:lnTo>
                    <a:lnTo>
                      <a:pt x="235" y="871"/>
                    </a:lnTo>
                    <a:lnTo>
                      <a:pt x="241" y="865"/>
                    </a:lnTo>
                    <a:lnTo>
                      <a:pt x="245" y="862"/>
                    </a:lnTo>
                    <a:lnTo>
                      <a:pt x="251" y="858"/>
                    </a:lnTo>
                    <a:lnTo>
                      <a:pt x="258" y="855"/>
                    </a:lnTo>
                    <a:lnTo>
                      <a:pt x="265" y="853"/>
                    </a:lnTo>
                    <a:lnTo>
                      <a:pt x="280" y="852"/>
                    </a:lnTo>
                    <a:lnTo>
                      <a:pt x="293" y="853"/>
                    </a:lnTo>
                    <a:lnTo>
                      <a:pt x="308" y="858"/>
                    </a:lnTo>
                    <a:lnTo>
                      <a:pt x="322" y="864"/>
                    </a:lnTo>
                    <a:lnTo>
                      <a:pt x="336" y="871"/>
                    </a:lnTo>
                    <a:lnTo>
                      <a:pt x="347" y="879"/>
                    </a:lnTo>
                    <a:lnTo>
                      <a:pt x="358" y="888"/>
                    </a:lnTo>
                    <a:lnTo>
                      <a:pt x="366" y="896"/>
                    </a:lnTo>
                    <a:lnTo>
                      <a:pt x="375" y="911"/>
                    </a:lnTo>
                    <a:lnTo>
                      <a:pt x="379" y="924"/>
                    </a:lnTo>
                    <a:lnTo>
                      <a:pt x="379" y="934"/>
                    </a:lnTo>
                    <a:lnTo>
                      <a:pt x="377" y="942"/>
                    </a:lnTo>
                    <a:lnTo>
                      <a:pt x="375" y="955"/>
                    </a:lnTo>
                    <a:lnTo>
                      <a:pt x="373" y="972"/>
                    </a:lnTo>
                    <a:lnTo>
                      <a:pt x="372" y="991"/>
                    </a:lnTo>
                    <a:lnTo>
                      <a:pt x="372" y="1012"/>
                    </a:lnTo>
                    <a:lnTo>
                      <a:pt x="383" y="1012"/>
                    </a:lnTo>
                    <a:lnTo>
                      <a:pt x="396" y="1013"/>
                    </a:lnTo>
                    <a:lnTo>
                      <a:pt x="408" y="1013"/>
                    </a:lnTo>
                    <a:lnTo>
                      <a:pt x="421" y="1014"/>
                    </a:lnTo>
                    <a:lnTo>
                      <a:pt x="434" y="1014"/>
                    </a:lnTo>
                    <a:lnTo>
                      <a:pt x="444" y="1016"/>
                    </a:lnTo>
                    <a:lnTo>
                      <a:pt x="453" y="1016"/>
                    </a:lnTo>
                    <a:lnTo>
                      <a:pt x="460" y="1016"/>
                    </a:lnTo>
                    <a:lnTo>
                      <a:pt x="473" y="1016"/>
                    </a:lnTo>
                    <a:lnTo>
                      <a:pt x="484" y="1014"/>
                    </a:lnTo>
                    <a:lnTo>
                      <a:pt x="497" y="1013"/>
                    </a:lnTo>
                    <a:lnTo>
                      <a:pt x="508" y="1012"/>
                    </a:lnTo>
                    <a:lnTo>
                      <a:pt x="520" y="1010"/>
                    </a:lnTo>
                    <a:lnTo>
                      <a:pt x="531" y="1009"/>
                    </a:lnTo>
                    <a:lnTo>
                      <a:pt x="541" y="1006"/>
                    </a:lnTo>
                    <a:lnTo>
                      <a:pt x="550" y="1004"/>
                    </a:lnTo>
                    <a:lnTo>
                      <a:pt x="548" y="980"/>
                    </a:lnTo>
                    <a:lnTo>
                      <a:pt x="546" y="952"/>
                    </a:lnTo>
                    <a:lnTo>
                      <a:pt x="552" y="924"/>
                    </a:lnTo>
                    <a:lnTo>
                      <a:pt x="564" y="895"/>
                    </a:lnTo>
                    <a:lnTo>
                      <a:pt x="568" y="887"/>
                    </a:lnTo>
                    <a:lnTo>
                      <a:pt x="575" y="880"/>
                    </a:lnTo>
                    <a:lnTo>
                      <a:pt x="581" y="874"/>
                    </a:lnTo>
                    <a:lnTo>
                      <a:pt x="589" y="868"/>
                    </a:lnTo>
                    <a:lnTo>
                      <a:pt x="596" y="863"/>
                    </a:lnTo>
                    <a:lnTo>
                      <a:pt x="605" y="859"/>
                    </a:lnTo>
                    <a:lnTo>
                      <a:pt x="614" y="856"/>
                    </a:lnTo>
                    <a:lnTo>
                      <a:pt x="623" y="852"/>
                    </a:lnTo>
                    <a:lnTo>
                      <a:pt x="634" y="851"/>
                    </a:lnTo>
                    <a:lnTo>
                      <a:pt x="644" y="850"/>
                    </a:lnTo>
                    <a:lnTo>
                      <a:pt x="656" y="851"/>
                    </a:lnTo>
                    <a:lnTo>
                      <a:pt x="666" y="853"/>
                    </a:lnTo>
                    <a:lnTo>
                      <a:pt x="676" y="857"/>
                    </a:lnTo>
                    <a:lnTo>
                      <a:pt x="687" y="863"/>
                    </a:lnTo>
                    <a:lnTo>
                      <a:pt x="696" y="870"/>
                    </a:lnTo>
                    <a:lnTo>
                      <a:pt x="704" y="878"/>
                    </a:lnTo>
                    <a:lnTo>
                      <a:pt x="712" y="893"/>
                    </a:lnTo>
                    <a:lnTo>
                      <a:pt x="715" y="913"/>
                    </a:lnTo>
                    <a:lnTo>
                      <a:pt x="712" y="941"/>
                    </a:lnTo>
                    <a:lnTo>
                      <a:pt x="698" y="974"/>
                    </a:lnTo>
                    <a:lnTo>
                      <a:pt x="697" y="978"/>
                    </a:lnTo>
                    <a:lnTo>
                      <a:pt x="697" y="980"/>
                    </a:lnTo>
                    <a:lnTo>
                      <a:pt x="697" y="983"/>
                    </a:lnTo>
                    <a:lnTo>
                      <a:pt x="698" y="987"/>
                    </a:lnTo>
                    <a:lnTo>
                      <a:pt x="713" y="989"/>
                    </a:lnTo>
                    <a:lnTo>
                      <a:pt x="730" y="991"/>
                    </a:lnTo>
                    <a:lnTo>
                      <a:pt x="748" y="994"/>
                    </a:lnTo>
                    <a:lnTo>
                      <a:pt x="765" y="995"/>
                    </a:lnTo>
                    <a:lnTo>
                      <a:pt x="782" y="995"/>
                    </a:lnTo>
                    <a:lnTo>
                      <a:pt x="797" y="994"/>
                    </a:lnTo>
                    <a:lnTo>
                      <a:pt x="812" y="990"/>
                    </a:lnTo>
                    <a:lnTo>
                      <a:pt x="823" y="987"/>
                    </a:lnTo>
                    <a:lnTo>
                      <a:pt x="830" y="983"/>
                    </a:lnTo>
                    <a:lnTo>
                      <a:pt x="838" y="981"/>
                    </a:lnTo>
                    <a:lnTo>
                      <a:pt x="846" y="980"/>
                    </a:lnTo>
                    <a:lnTo>
                      <a:pt x="856" y="979"/>
                    </a:lnTo>
                    <a:lnTo>
                      <a:pt x="866" y="978"/>
                    </a:lnTo>
                    <a:lnTo>
                      <a:pt x="876" y="978"/>
                    </a:lnTo>
                    <a:lnTo>
                      <a:pt x="887" y="978"/>
                    </a:lnTo>
                    <a:lnTo>
                      <a:pt x="897" y="979"/>
                    </a:lnTo>
                    <a:lnTo>
                      <a:pt x="897" y="403"/>
                    </a:lnTo>
                    <a:lnTo>
                      <a:pt x="633" y="379"/>
                    </a:lnTo>
                    <a:lnTo>
                      <a:pt x="639" y="384"/>
                    </a:lnTo>
                    <a:lnTo>
                      <a:pt x="648" y="391"/>
                    </a:lnTo>
                    <a:lnTo>
                      <a:pt x="657" y="398"/>
                    </a:lnTo>
                    <a:lnTo>
                      <a:pt x="666" y="406"/>
                    </a:lnTo>
                    <a:lnTo>
                      <a:pt x="676" y="417"/>
                    </a:lnTo>
                    <a:lnTo>
                      <a:pt x="685" y="428"/>
                    </a:lnTo>
                    <a:lnTo>
                      <a:pt x="694" y="443"/>
                    </a:lnTo>
                    <a:lnTo>
                      <a:pt x="702" y="461"/>
                    </a:lnTo>
                    <a:close/>
                  </a:path>
                </a:pathLst>
              </a:cu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590800" y="4401360"/>
                <a:ext cx="20160" cy="284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5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2" y="13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377760" y="3587760"/>
                <a:ext cx="1253520" cy="906840"/>
              </a:xfrm>
              <a:prstGeom prst="ellipse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5867280" y="3367080"/>
              <a:ext cx="2376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600" spc="-1" strike="noStrike">
                  <a:solidFill>
                    <a:srgbClr val="000000"/>
                  </a:solidFill>
                  <a:latin typeface="Arial"/>
                </a:rPr>
                <a:t>Imbunatatirea eficientei fermelor agricole, prin retehnologiza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627280" y="5092560"/>
            <a:ext cx="3384360" cy="1645920"/>
            <a:chOff x="2627280" y="5092560"/>
            <a:chExt cx="3384360" cy="1645920"/>
          </a:xfrm>
        </p:grpSpPr>
        <p:grpSp>
          <p:nvGrpSpPr>
            <p:cNvPr id="290" name=""/>
            <p:cNvGrpSpPr/>
            <p:nvPr/>
          </p:nvGrpSpPr>
          <p:grpSpPr>
            <a:xfrm>
              <a:off x="2627280" y="5092560"/>
              <a:ext cx="3384360" cy="1601640"/>
              <a:chOff x="2627280" y="5092560"/>
              <a:chExt cx="3384360" cy="1601640"/>
            </a:xfrm>
          </p:grpSpPr>
          <p:sp>
            <p:nvSpPr>
              <p:cNvPr id="291" name=""/>
              <p:cNvSpPr/>
              <p:nvPr/>
            </p:nvSpPr>
            <p:spPr>
              <a:xfrm>
                <a:off x="2627280" y="5092560"/>
                <a:ext cx="3384360" cy="1601640"/>
              </a:xfrm>
              <a:custGeom>
                <a:avLst/>
                <a:gdLst/>
                <a:ahLst/>
                <a:rect l="l" t="t" r="r" b="b"/>
                <a:pathLst>
                  <a:path w="1123" h="802">
                    <a:moveTo>
                      <a:pt x="1122" y="566"/>
                    </a:moveTo>
                    <a:lnTo>
                      <a:pt x="1120" y="557"/>
                    </a:lnTo>
                    <a:lnTo>
                      <a:pt x="1115" y="550"/>
                    </a:lnTo>
                    <a:lnTo>
                      <a:pt x="1110" y="543"/>
                    </a:lnTo>
                    <a:lnTo>
                      <a:pt x="1103" y="538"/>
                    </a:lnTo>
                    <a:lnTo>
                      <a:pt x="1091" y="532"/>
                    </a:lnTo>
                    <a:lnTo>
                      <a:pt x="1077" y="530"/>
                    </a:lnTo>
                    <a:lnTo>
                      <a:pt x="1064" y="527"/>
                    </a:lnTo>
                    <a:lnTo>
                      <a:pt x="1050" y="527"/>
                    </a:lnTo>
                    <a:lnTo>
                      <a:pt x="1037" y="528"/>
                    </a:lnTo>
                    <a:lnTo>
                      <a:pt x="1025" y="531"/>
                    </a:lnTo>
                    <a:lnTo>
                      <a:pt x="1015" y="532"/>
                    </a:lnTo>
                    <a:lnTo>
                      <a:pt x="1007" y="534"/>
                    </a:lnTo>
                    <a:lnTo>
                      <a:pt x="984" y="541"/>
                    </a:lnTo>
                    <a:lnTo>
                      <a:pt x="977" y="518"/>
                    </a:lnTo>
                    <a:lnTo>
                      <a:pt x="974" y="505"/>
                    </a:lnTo>
                    <a:lnTo>
                      <a:pt x="967" y="477"/>
                    </a:lnTo>
                    <a:lnTo>
                      <a:pt x="961" y="438"/>
                    </a:lnTo>
                    <a:lnTo>
                      <a:pt x="958" y="394"/>
                    </a:lnTo>
                    <a:lnTo>
                      <a:pt x="959" y="367"/>
                    </a:lnTo>
                    <a:lnTo>
                      <a:pt x="961" y="331"/>
                    </a:lnTo>
                    <a:lnTo>
                      <a:pt x="963" y="297"/>
                    </a:lnTo>
                    <a:lnTo>
                      <a:pt x="964" y="282"/>
                    </a:lnTo>
                    <a:lnTo>
                      <a:pt x="963" y="151"/>
                    </a:lnTo>
                    <a:lnTo>
                      <a:pt x="803" y="148"/>
                    </a:lnTo>
                    <a:lnTo>
                      <a:pt x="795" y="149"/>
                    </a:lnTo>
                    <a:lnTo>
                      <a:pt x="781" y="151"/>
                    </a:lnTo>
                    <a:lnTo>
                      <a:pt x="762" y="152"/>
                    </a:lnTo>
                    <a:lnTo>
                      <a:pt x="742" y="154"/>
                    </a:lnTo>
                    <a:lnTo>
                      <a:pt x="719" y="155"/>
                    </a:lnTo>
                    <a:lnTo>
                      <a:pt x="696" y="154"/>
                    </a:lnTo>
                    <a:lnTo>
                      <a:pt x="673" y="151"/>
                    </a:lnTo>
                    <a:lnTo>
                      <a:pt x="651" y="147"/>
                    </a:lnTo>
                    <a:lnTo>
                      <a:pt x="635" y="142"/>
                    </a:lnTo>
                    <a:lnTo>
                      <a:pt x="622" y="138"/>
                    </a:lnTo>
                    <a:lnTo>
                      <a:pt x="612" y="135"/>
                    </a:lnTo>
                    <a:lnTo>
                      <a:pt x="605" y="134"/>
                    </a:lnTo>
                    <a:lnTo>
                      <a:pt x="599" y="133"/>
                    </a:lnTo>
                    <a:lnTo>
                      <a:pt x="597" y="132"/>
                    </a:lnTo>
                    <a:lnTo>
                      <a:pt x="595" y="132"/>
                    </a:lnTo>
                    <a:lnTo>
                      <a:pt x="595" y="132"/>
                    </a:lnTo>
                    <a:lnTo>
                      <a:pt x="571" y="132"/>
                    </a:lnTo>
                    <a:lnTo>
                      <a:pt x="558" y="120"/>
                    </a:lnTo>
                    <a:lnTo>
                      <a:pt x="554" y="117"/>
                    </a:lnTo>
                    <a:lnTo>
                      <a:pt x="549" y="109"/>
                    </a:lnTo>
                    <a:lnTo>
                      <a:pt x="542" y="100"/>
                    </a:lnTo>
                    <a:lnTo>
                      <a:pt x="536" y="88"/>
                    </a:lnTo>
                    <a:lnTo>
                      <a:pt x="531" y="75"/>
                    </a:lnTo>
                    <a:lnTo>
                      <a:pt x="531" y="61"/>
                    </a:lnTo>
                    <a:lnTo>
                      <a:pt x="537" y="47"/>
                    </a:lnTo>
                    <a:lnTo>
                      <a:pt x="549" y="32"/>
                    </a:lnTo>
                    <a:lnTo>
                      <a:pt x="551" y="25"/>
                    </a:lnTo>
                    <a:lnTo>
                      <a:pt x="548" y="16"/>
                    </a:lnTo>
                    <a:lnTo>
                      <a:pt x="541" y="6"/>
                    </a:lnTo>
                    <a:lnTo>
                      <a:pt x="533" y="0"/>
                    </a:lnTo>
                    <a:lnTo>
                      <a:pt x="522" y="2"/>
                    </a:lnTo>
                    <a:lnTo>
                      <a:pt x="511" y="5"/>
                    </a:lnTo>
                    <a:lnTo>
                      <a:pt x="497" y="10"/>
                    </a:lnTo>
                    <a:lnTo>
                      <a:pt x="483" y="17"/>
                    </a:lnTo>
                    <a:lnTo>
                      <a:pt x="472" y="24"/>
                    </a:lnTo>
                    <a:lnTo>
                      <a:pt x="461" y="34"/>
                    </a:lnTo>
                    <a:lnTo>
                      <a:pt x="456" y="44"/>
                    </a:lnTo>
                    <a:lnTo>
                      <a:pt x="456" y="58"/>
                    </a:lnTo>
                    <a:lnTo>
                      <a:pt x="459" y="77"/>
                    </a:lnTo>
                    <a:lnTo>
                      <a:pt x="461" y="97"/>
                    </a:lnTo>
                    <a:lnTo>
                      <a:pt x="464" y="115"/>
                    </a:lnTo>
                    <a:lnTo>
                      <a:pt x="465" y="124"/>
                    </a:lnTo>
                    <a:lnTo>
                      <a:pt x="465" y="141"/>
                    </a:lnTo>
                    <a:lnTo>
                      <a:pt x="437" y="147"/>
                    </a:lnTo>
                    <a:lnTo>
                      <a:pt x="428" y="149"/>
                    </a:lnTo>
                    <a:lnTo>
                      <a:pt x="418" y="154"/>
                    </a:lnTo>
                    <a:lnTo>
                      <a:pt x="404" y="159"/>
                    </a:lnTo>
                    <a:lnTo>
                      <a:pt x="389" y="165"/>
                    </a:lnTo>
                    <a:lnTo>
                      <a:pt x="372" y="170"/>
                    </a:lnTo>
                    <a:lnTo>
                      <a:pt x="353" y="173"/>
                    </a:lnTo>
                    <a:lnTo>
                      <a:pt x="334" y="173"/>
                    </a:lnTo>
                    <a:lnTo>
                      <a:pt x="312" y="169"/>
                    </a:lnTo>
                    <a:lnTo>
                      <a:pt x="291" y="164"/>
                    </a:lnTo>
                    <a:lnTo>
                      <a:pt x="268" y="161"/>
                    </a:lnTo>
                    <a:lnTo>
                      <a:pt x="243" y="158"/>
                    </a:lnTo>
                    <a:lnTo>
                      <a:pt x="219" y="158"/>
                    </a:lnTo>
                    <a:lnTo>
                      <a:pt x="197" y="157"/>
                    </a:lnTo>
                    <a:lnTo>
                      <a:pt x="178" y="158"/>
                    </a:lnTo>
                    <a:lnTo>
                      <a:pt x="166" y="158"/>
                    </a:lnTo>
                    <a:lnTo>
                      <a:pt x="161" y="158"/>
                    </a:lnTo>
                    <a:lnTo>
                      <a:pt x="167" y="226"/>
                    </a:lnTo>
                    <a:lnTo>
                      <a:pt x="168" y="242"/>
                    </a:lnTo>
                    <a:lnTo>
                      <a:pt x="152" y="249"/>
                    </a:lnTo>
                    <a:lnTo>
                      <a:pt x="108" y="270"/>
                    </a:lnTo>
                    <a:lnTo>
                      <a:pt x="108" y="386"/>
                    </a:lnTo>
                    <a:lnTo>
                      <a:pt x="144" y="396"/>
                    </a:lnTo>
                    <a:lnTo>
                      <a:pt x="162" y="402"/>
                    </a:lnTo>
                    <a:lnTo>
                      <a:pt x="161" y="421"/>
                    </a:lnTo>
                    <a:lnTo>
                      <a:pt x="151" y="543"/>
                    </a:lnTo>
                    <a:lnTo>
                      <a:pt x="150" y="558"/>
                    </a:lnTo>
                    <a:lnTo>
                      <a:pt x="137" y="564"/>
                    </a:lnTo>
                    <a:lnTo>
                      <a:pt x="130" y="566"/>
                    </a:lnTo>
                    <a:lnTo>
                      <a:pt x="120" y="570"/>
                    </a:lnTo>
                    <a:lnTo>
                      <a:pt x="107" y="574"/>
                    </a:lnTo>
                    <a:lnTo>
                      <a:pt x="92" y="578"/>
                    </a:lnTo>
                    <a:lnTo>
                      <a:pt x="76" y="580"/>
                    </a:lnTo>
                    <a:lnTo>
                      <a:pt x="60" y="581"/>
                    </a:lnTo>
                    <a:lnTo>
                      <a:pt x="44" y="579"/>
                    </a:lnTo>
                    <a:lnTo>
                      <a:pt x="30" y="573"/>
                    </a:lnTo>
                    <a:lnTo>
                      <a:pt x="24" y="574"/>
                    </a:lnTo>
                    <a:lnTo>
                      <a:pt x="16" y="577"/>
                    </a:lnTo>
                    <a:lnTo>
                      <a:pt x="8" y="582"/>
                    </a:lnTo>
                    <a:lnTo>
                      <a:pt x="1" y="590"/>
                    </a:lnTo>
                    <a:lnTo>
                      <a:pt x="0" y="593"/>
                    </a:lnTo>
                    <a:lnTo>
                      <a:pt x="1" y="594"/>
                    </a:lnTo>
                    <a:lnTo>
                      <a:pt x="1" y="596"/>
                    </a:lnTo>
                    <a:lnTo>
                      <a:pt x="4" y="599"/>
                    </a:lnTo>
                    <a:lnTo>
                      <a:pt x="13" y="604"/>
                    </a:lnTo>
                    <a:lnTo>
                      <a:pt x="24" y="608"/>
                    </a:lnTo>
                    <a:lnTo>
                      <a:pt x="37" y="610"/>
                    </a:lnTo>
                    <a:lnTo>
                      <a:pt x="52" y="612"/>
                    </a:lnTo>
                    <a:lnTo>
                      <a:pt x="67" y="612"/>
                    </a:lnTo>
                    <a:lnTo>
                      <a:pt x="81" y="611"/>
                    </a:lnTo>
                    <a:lnTo>
                      <a:pt x="95" y="610"/>
                    </a:lnTo>
                    <a:lnTo>
                      <a:pt x="106" y="609"/>
                    </a:lnTo>
                    <a:lnTo>
                      <a:pt x="133" y="603"/>
                    </a:lnTo>
                    <a:lnTo>
                      <a:pt x="135" y="631"/>
                    </a:lnTo>
                    <a:lnTo>
                      <a:pt x="146" y="802"/>
                    </a:lnTo>
                    <a:lnTo>
                      <a:pt x="523" y="802"/>
                    </a:lnTo>
                    <a:lnTo>
                      <a:pt x="499" y="622"/>
                    </a:lnTo>
                    <a:lnTo>
                      <a:pt x="480" y="613"/>
                    </a:lnTo>
                    <a:lnTo>
                      <a:pt x="461" y="602"/>
                    </a:lnTo>
                    <a:lnTo>
                      <a:pt x="445" y="589"/>
                    </a:lnTo>
                    <a:lnTo>
                      <a:pt x="431" y="573"/>
                    </a:lnTo>
                    <a:lnTo>
                      <a:pt x="420" y="555"/>
                    </a:lnTo>
                    <a:lnTo>
                      <a:pt x="412" y="535"/>
                    </a:lnTo>
                    <a:lnTo>
                      <a:pt x="407" y="515"/>
                    </a:lnTo>
                    <a:lnTo>
                      <a:pt x="405" y="493"/>
                    </a:lnTo>
                    <a:lnTo>
                      <a:pt x="407" y="465"/>
                    </a:lnTo>
                    <a:lnTo>
                      <a:pt x="415" y="440"/>
                    </a:lnTo>
                    <a:lnTo>
                      <a:pt x="428" y="417"/>
                    </a:lnTo>
                    <a:lnTo>
                      <a:pt x="445" y="397"/>
                    </a:lnTo>
                    <a:lnTo>
                      <a:pt x="465" y="380"/>
                    </a:lnTo>
                    <a:lnTo>
                      <a:pt x="488" y="367"/>
                    </a:lnTo>
                    <a:lnTo>
                      <a:pt x="513" y="359"/>
                    </a:lnTo>
                    <a:lnTo>
                      <a:pt x="541" y="357"/>
                    </a:lnTo>
                    <a:lnTo>
                      <a:pt x="562" y="359"/>
                    </a:lnTo>
                    <a:lnTo>
                      <a:pt x="584" y="364"/>
                    </a:lnTo>
                    <a:lnTo>
                      <a:pt x="604" y="373"/>
                    </a:lnTo>
                    <a:lnTo>
                      <a:pt x="622" y="385"/>
                    </a:lnTo>
                    <a:lnTo>
                      <a:pt x="637" y="400"/>
                    </a:lnTo>
                    <a:lnTo>
                      <a:pt x="651" y="416"/>
                    </a:lnTo>
                    <a:lnTo>
                      <a:pt x="661" y="434"/>
                    </a:lnTo>
                    <a:lnTo>
                      <a:pt x="669" y="455"/>
                    </a:lnTo>
                    <a:lnTo>
                      <a:pt x="719" y="512"/>
                    </a:lnTo>
                    <a:lnTo>
                      <a:pt x="671" y="525"/>
                    </a:lnTo>
                    <a:lnTo>
                      <a:pt x="664" y="547"/>
                    </a:lnTo>
                    <a:lnTo>
                      <a:pt x="653" y="566"/>
                    </a:lnTo>
                    <a:lnTo>
                      <a:pt x="639" y="584"/>
                    </a:lnTo>
                    <a:lnTo>
                      <a:pt x="623" y="599"/>
                    </a:lnTo>
                    <a:lnTo>
                      <a:pt x="605" y="611"/>
                    </a:lnTo>
                    <a:lnTo>
                      <a:pt x="585" y="620"/>
                    </a:lnTo>
                    <a:lnTo>
                      <a:pt x="564" y="626"/>
                    </a:lnTo>
                    <a:lnTo>
                      <a:pt x="541" y="628"/>
                    </a:lnTo>
                    <a:lnTo>
                      <a:pt x="537" y="628"/>
                    </a:lnTo>
                    <a:lnTo>
                      <a:pt x="533" y="627"/>
                    </a:lnTo>
                    <a:lnTo>
                      <a:pt x="527" y="626"/>
                    </a:lnTo>
                    <a:lnTo>
                      <a:pt x="520" y="625"/>
                    </a:lnTo>
                    <a:lnTo>
                      <a:pt x="513" y="624"/>
                    </a:lnTo>
                    <a:lnTo>
                      <a:pt x="507" y="623"/>
                    </a:lnTo>
                    <a:lnTo>
                      <a:pt x="503" y="623"/>
                    </a:lnTo>
                    <a:lnTo>
                      <a:pt x="499" y="622"/>
                    </a:lnTo>
                    <a:lnTo>
                      <a:pt x="523" y="802"/>
                    </a:lnTo>
                    <a:lnTo>
                      <a:pt x="997" y="802"/>
                    </a:lnTo>
                    <a:lnTo>
                      <a:pt x="997" y="795"/>
                    </a:lnTo>
                    <a:lnTo>
                      <a:pt x="996" y="788"/>
                    </a:lnTo>
                    <a:lnTo>
                      <a:pt x="995" y="782"/>
                    </a:lnTo>
                    <a:lnTo>
                      <a:pt x="992" y="778"/>
                    </a:lnTo>
                    <a:lnTo>
                      <a:pt x="981" y="731"/>
                    </a:lnTo>
                    <a:lnTo>
                      <a:pt x="981" y="678"/>
                    </a:lnTo>
                    <a:lnTo>
                      <a:pt x="987" y="633"/>
                    </a:lnTo>
                    <a:lnTo>
                      <a:pt x="991" y="610"/>
                    </a:lnTo>
                    <a:lnTo>
                      <a:pt x="994" y="601"/>
                    </a:lnTo>
                    <a:lnTo>
                      <a:pt x="1000" y="596"/>
                    </a:lnTo>
                    <a:lnTo>
                      <a:pt x="1006" y="593"/>
                    </a:lnTo>
                    <a:lnTo>
                      <a:pt x="1013" y="588"/>
                    </a:lnTo>
                    <a:lnTo>
                      <a:pt x="1021" y="585"/>
                    </a:lnTo>
                    <a:lnTo>
                      <a:pt x="1030" y="582"/>
                    </a:lnTo>
                    <a:lnTo>
                      <a:pt x="1041" y="581"/>
                    </a:lnTo>
                    <a:lnTo>
                      <a:pt x="1051" y="582"/>
                    </a:lnTo>
                    <a:lnTo>
                      <a:pt x="1061" y="585"/>
                    </a:lnTo>
                    <a:lnTo>
                      <a:pt x="1072" y="589"/>
                    </a:lnTo>
                    <a:lnTo>
                      <a:pt x="1080" y="593"/>
                    </a:lnTo>
                    <a:lnTo>
                      <a:pt x="1087" y="596"/>
                    </a:lnTo>
                    <a:lnTo>
                      <a:pt x="1092" y="599"/>
                    </a:lnTo>
                    <a:lnTo>
                      <a:pt x="1099" y="601"/>
                    </a:lnTo>
                    <a:lnTo>
                      <a:pt x="1104" y="601"/>
                    </a:lnTo>
                    <a:lnTo>
                      <a:pt x="1109" y="601"/>
                    </a:lnTo>
                    <a:lnTo>
                      <a:pt x="1113" y="601"/>
                    </a:lnTo>
                    <a:lnTo>
                      <a:pt x="1117" y="599"/>
                    </a:lnTo>
                    <a:lnTo>
                      <a:pt x="1120" y="593"/>
                    </a:lnTo>
                    <a:lnTo>
                      <a:pt x="1123" y="586"/>
                    </a:lnTo>
                    <a:lnTo>
                      <a:pt x="1123" y="576"/>
                    </a:lnTo>
                    <a:lnTo>
                      <a:pt x="1122" y="56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730320" y="5698080"/>
                <a:ext cx="1094040" cy="8146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3132000" y="5427720"/>
              <a:ext cx="23767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600" spc="-1" strike="noStrike">
                  <a:solidFill>
                    <a:srgbClr val="000000"/>
                  </a:solidFill>
                  <a:latin typeface="Arial"/>
                </a:rPr>
                <a:t>Imbunatatirea gradului de utilizare a produselor bancare </a:t>
              </a:r>
              <a:r>
                <a:rPr b="1" i="1" lang="ro-RO" sz="1600" spc="-1" strike="noStrike">
                  <a:solidFill>
                    <a:srgbClr val="000000"/>
                  </a:solidFill>
                  <a:latin typeface="Arial"/>
                </a:rPr>
                <a:t>(ex: credite RABLA, Certificat de depozi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562720" y="4873680"/>
            <a:ext cx="2609640" cy="1820520"/>
            <a:chOff x="5562720" y="4873680"/>
            <a:chExt cx="2609640" cy="1820520"/>
          </a:xfrm>
        </p:grpSpPr>
        <p:grpSp>
          <p:nvGrpSpPr>
            <p:cNvPr id="295" name=""/>
            <p:cNvGrpSpPr/>
            <p:nvPr/>
          </p:nvGrpSpPr>
          <p:grpSpPr>
            <a:xfrm>
              <a:off x="5562720" y="4873680"/>
              <a:ext cx="2537640" cy="1820520"/>
              <a:chOff x="5562720" y="4873680"/>
              <a:chExt cx="2537640" cy="1820520"/>
            </a:xfrm>
          </p:grpSpPr>
          <p:sp>
            <p:nvSpPr>
              <p:cNvPr id="296" name=""/>
              <p:cNvSpPr/>
              <p:nvPr/>
            </p:nvSpPr>
            <p:spPr>
              <a:xfrm>
                <a:off x="5562720" y="4873680"/>
                <a:ext cx="2537640" cy="1820520"/>
              </a:xfrm>
              <a:custGeom>
                <a:avLst/>
                <a:gdLst/>
                <a:ahLst/>
                <a:rect l="l" t="t" r="r" b="b"/>
                <a:pathLst>
                  <a:path w="721" h="820">
                    <a:moveTo>
                      <a:pt x="505" y="446"/>
                    </a:moveTo>
                    <a:lnTo>
                      <a:pt x="503" y="474"/>
                    </a:lnTo>
                    <a:lnTo>
                      <a:pt x="495" y="499"/>
                    </a:lnTo>
                    <a:lnTo>
                      <a:pt x="482" y="522"/>
                    </a:lnTo>
                    <a:lnTo>
                      <a:pt x="465" y="542"/>
                    </a:lnTo>
                    <a:lnTo>
                      <a:pt x="445" y="559"/>
                    </a:lnTo>
                    <a:lnTo>
                      <a:pt x="422" y="572"/>
                    </a:lnTo>
                    <a:lnTo>
                      <a:pt x="397" y="580"/>
                    </a:lnTo>
                    <a:lnTo>
                      <a:pt x="369" y="582"/>
                    </a:lnTo>
                    <a:lnTo>
                      <a:pt x="346" y="580"/>
                    </a:lnTo>
                    <a:lnTo>
                      <a:pt x="323" y="574"/>
                    </a:lnTo>
                    <a:lnTo>
                      <a:pt x="303" y="565"/>
                    </a:lnTo>
                    <a:lnTo>
                      <a:pt x="284" y="552"/>
                    </a:lnTo>
                    <a:lnTo>
                      <a:pt x="268" y="537"/>
                    </a:lnTo>
                    <a:lnTo>
                      <a:pt x="255" y="520"/>
                    </a:lnTo>
                    <a:lnTo>
                      <a:pt x="244" y="500"/>
                    </a:lnTo>
                    <a:lnTo>
                      <a:pt x="237" y="479"/>
                    </a:lnTo>
                    <a:lnTo>
                      <a:pt x="189" y="467"/>
                    </a:lnTo>
                    <a:lnTo>
                      <a:pt x="239" y="410"/>
                    </a:lnTo>
                    <a:lnTo>
                      <a:pt x="247" y="389"/>
                    </a:lnTo>
                    <a:lnTo>
                      <a:pt x="258" y="369"/>
                    </a:lnTo>
                    <a:lnTo>
                      <a:pt x="272" y="353"/>
                    </a:lnTo>
                    <a:lnTo>
                      <a:pt x="288" y="338"/>
                    </a:lnTo>
                    <a:lnTo>
                      <a:pt x="305" y="327"/>
                    </a:lnTo>
                    <a:lnTo>
                      <a:pt x="326" y="318"/>
                    </a:lnTo>
                    <a:lnTo>
                      <a:pt x="346" y="313"/>
                    </a:lnTo>
                    <a:lnTo>
                      <a:pt x="369" y="311"/>
                    </a:lnTo>
                    <a:lnTo>
                      <a:pt x="393" y="312"/>
                    </a:lnTo>
                    <a:lnTo>
                      <a:pt x="416" y="318"/>
                    </a:lnTo>
                    <a:lnTo>
                      <a:pt x="438" y="327"/>
                    </a:lnTo>
                    <a:lnTo>
                      <a:pt x="458" y="341"/>
                    </a:lnTo>
                    <a:lnTo>
                      <a:pt x="475" y="359"/>
                    </a:lnTo>
                    <a:lnTo>
                      <a:pt x="489" y="382"/>
                    </a:lnTo>
                    <a:lnTo>
                      <a:pt x="499" y="411"/>
                    </a:lnTo>
                    <a:lnTo>
                      <a:pt x="505" y="446"/>
                    </a:lnTo>
                    <a:lnTo>
                      <a:pt x="721" y="445"/>
                    </a:lnTo>
                    <a:lnTo>
                      <a:pt x="721" y="129"/>
                    </a:lnTo>
                    <a:lnTo>
                      <a:pt x="713" y="128"/>
                    </a:lnTo>
                    <a:lnTo>
                      <a:pt x="705" y="127"/>
                    </a:lnTo>
                    <a:lnTo>
                      <a:pt x="697" y="127"/>
                    </a:lnTo>
                    <a:lnTo>
                      <a:pt x="690" y="127"/>
                    </a:lnTo>
                    <a:lnTo>
                      <a:pt x="683" y="128"/>
                    </a:lnTo>
                    <a:lnTo>
                      <a:pt x="677" y="129"/>
                    </a:lnTo>
                    <a:lnTo>
                      <a:pt x="673" y="130"/>
                    </a:lnTo>
                    <a:lnTo>
                      <a:pt x="668" y="131"/>
                    </a:lnTo>
                    <a:lnTo>
                      <a:pt x="646" y="139"/>
                    </a:lnTo>
                    <a:lnTo>
                      <a:pt x="621" y="144"/>
                    </a:lnTo>
                    <a:lnTo>
                      <a:pt x="595" y="145"/>
                    </a:lnTo>
                    <a:lnTo>
                      <a:pt x="568" y="144"/>
                    </a:lnTo>
                    <a:lnTo>
                      <a:pt x="544" y="142"/>
                    </a:lnTo>
                    <a:lnTo>
                      <a:pt x="523" y="138"/>
                    </a:lnTo>
                    <a:lnTo>
                      <a:pt x="508" y="135"/>
                    </a:lnTo>
                    <a:lnTo>
                      <a:pt x="500" y="134"/>
                    </a:lnTo>
                    <a:lnTo>
                      <a:pt x="492" y="131"/>
                    </a:lnTo>
                    <a:lnTo>
                      <a:pt x="486" y="124"/>
                    </a:lnTo>
                    <a:lnTo>
                      <a:pt x="480" y="112"/>
                    </a:lnTo>
                    <a:lnTo>
                      <a:pt x="474" y="93"/>
                    </a:lnTo>
                    <a:lnTo>
                      <a:pt x="473" y="74"/>
                    </a:lnTo>
                    <a:lnTo>
                      <a:pt x="480" y="53"/>
                    </a:lnTo>
                    <a:lnTo>
                      <a:pt x="486" y="38"/>
                    </a:lnTo>
                    <a:lnTo>
                      <a:pt x="491" y="26"/>
                    </a:lnTo>
                    <a:lnTo>
                      <a:pt x="491" y="15"/>
                    </a:lnTo>
                    <a:lnTo>
                      <a:pt x="489" y="8"/>
                    </a:lnTo>
                    <a:lnTo>
                      <a:pt x="484" y="4"/>
                    </a:lnTo>
                    <a:lnTo>
                      <a:pt x="476" y="1"/>
                    </a:lnTo>
                    <a:lnTo>
                      <a:pt x="467" y="0"/>
                    </a:lnTo>
                    <a:lnTo>
                      <a:pt x="458" y="1"/>
                    </a:lnTo>
                    <a:lnTo>
                      <a:pt x="449" y="5"/>
                    </a:lnTo>
                    <a:lnTo>
                      <a:pt x="440" y="8"/>
                    </a:lnTo>
                    <a:lnTo>
                      <a:pt x="434" y="14"/>
                    </a:lnTo>
                    <a:lnTo>
                      <a:pt x="429" y="21"/>
                    </a:lnTo>
                    <a:lnTo>
                      <a:pt x="421" y="46"/>
                    </a:lnTo>
                    <a:lnTo>
                      <a:pt x="419" y="74"/>
                    </a:lnTo>
                    <a:lnTo>
                      <a:pt x="422" y="99"/>
                    </a:lnTo>
                    <a:lnTo>
                      <a:pt x="426" y="118"/>
                    </a:lnTo>
                    <a:lnTo>
                      <a:pt x="431" y="141"/>
                    </a:lnTo>
                    <a:lnTo>
                      <a:pt x="408" y="147"/>
                    </a:lnTo>
                    <a:lnTo>
                      <a:pt x="405" y="149"/>
                    </a:lnTo>
                    <a:lnTo>
                      <a:pt x="396" y="150"/>
                    </a:lnTo>
                    <a:lnTo>
                      <a:pt x="383" y="153"/>
                    </a:lnTo>
                    <a:lnTo>
                      <a:pt x="367" y="157"/>
                    </a:lnTo>
                    <a:lnTo>
                      <a:pt x="349" y="160"/>
                    </a:lnTo>
                    <a:lnTo>
                      <a:pt x="328" y="162"/>
                    </a:lnTo>
                    <a:lnTo>
                      <a:pt x="306" y="165"/>
                    </a:lnTo>
                    <a:lnTo>
                      <a:pt x="284" y="166"/>
                    </a:lnTo>
                    <a:lnTo>
                      <a:pt x="273" y="166"/>
                    </a:lnTo>
                    <a:lnTo>
                      <a:pt x="258" y="165"/>
                    </a:lnTo>
                    <a:lnTo>
                      <a:pt x="240" y="165"/>
                    </a:lnTo>
                    <a:lnTo>
                      <a:pt x="221" y="164"/>
                    </a:lnTo>
                    <a:lnTo>
                      <a:pt x="204" y="162"/>
                    </a:lnTo>
                    <a:lnTo>
                      <a:pt x="188" y="161"/>
                    </a:lnTo>
                    <a:lnTo>
                      <a:pt x="177" y="161"/>
                    </a:lnTo>
                    <a:lnTo>
                      <a:pt x="171" y="160"/>
                    </a:lnTo>
                    <a:lnTo>
                      <a:pt x="151" y="159"/>
                    </a:lnTo>
                    <a:lnTo>
                      <a:pt x="150" y="138"/>
                    </a:lnTo>
                    <a:lnTo>
                      <a:pt x="148" y="121"/>
                    </a:lnTo>
                    <a:lnTo>
                      <a:pt x="148" y="92"/>
                    </a:lnTo>
                    <a:lnTo>
                      <a:pt x="150" y="60"/>
                    </a:lnTo>
                    <a:lnTo>
                      <a:pt x="154" y="31"/>
                    </a:lnTo>
                    <a:lnTo>
                      <a:pt x="151" y="27"/>
                    </a:lnTo>
                    <a:lnTo>
                      <a:pt x="146" y="22"/>
                    </a:lnTo>
                    <a:lnTo>
                      <a:pt x="139" y="18"/>
                    </a:lnTo>
                    <a:lnTo>
                      <a:pt x="132" y="13"/>
                    </a:lnTo>
                    <a:lnTo>
                      <a:pt x="124" y="8"/>
                    </a:lnTo>
                    <a:lnTo>
                      <a:pt x="116" y="5"/>
                    </a:lnTo>
                    <a:lnTo>
                      <a:pt x="108" y="3"/>
                    </a:lnTo>
                    <a:lnTo>
                      <a:pt x="100" y="1"/>
                    </a:lnTo>
                    <a:lnTo>
                      <a:pt x="98" y="1"/>
                    </a:lnTo>
                    <a:lnTo>
                      <a:pt x="97" y="3"/>
                    </a:lnTo>
                    <a:lnTo>
                      <a:pt x="96" y="4"/>
                    </a:lnTo>
                    <a:lnTo>
                      <a:pt x="96" y="5"/>
                    </a:lnTo>
                    <a:lnTo>
                      <a:pt x="92" y="20"/>
                    </a:lnTo>
                    <a:lnTo>
                      <a:pt x="92" y="31"/>
                    </a:lnTo>
                    <a:lnTo>
                      <a:pt x="96" y="43"/>
                    </a:lnTo>
                    <a:lnTo>
                      <a:pt x="99" y="53"/>
                    </a:lnTo>
                    <a:lnTo>
                      <a:pt x="104" y="65"/>
                    </a:lnTo>
                    <a:lnTo>
                      <a:pt x="108" y="79"/>
                    </a:lnTo>
                    <a:lnTo>
                      <a:pt x="108" y="93"/>
                    </a:lnTo>
                    <a:lnTo>
                      <a:pt x="106" y="111"/>
                    </a:lnTo>
                    <a:lnTo>
                      <a:pt x="101" y="128"/>
                    </a:lnTo>
                    <a:lnTo>
                      <a:pt x="98" y="138"/>
                    </a:lnTo>
                    <a:lnTo>
                      <a:pt x="97" y="145"/>
                    </a:lnTo>
                    <a:lnTo>
                      <a:pt x="96" y="149"/>
                    </a:lnTo>
                    <a:lnTo>
                      <a:pt x="96" y="172"/>
                    </a:lnTo>
                    <a:lnTo>
                      <a:pt x="71" y="172"/>
                    </a:lnTo>
                    <a:lnTo>
                      <a:pt x="5" y="170"/>
                    </a:lnTo>
                    <a:lnTo>
                      <a:pt x="5" y="220"/>
                    </a:lnTo>
                    <a:lnTo>
                      <a:pt x="6" y="261"/>
                    </a:lnTo>
                    <a:lnTo>
                      <a:pt x="6" y="291"/>
                    </a:lnTo>
                    <a:lnTo>
                      <a:pt x="6" y="302"/>
                    </a:lnTo>
                    <a:lnTo>
                      <a:pt x="5" y="316"/>
                    </a:lnTo>
                    <a:lnTo>
                      <a:pt x="4" y="350"/>
                    </a:lnTo>
                    <a:lnTo>
                      <a:pt x="1" y="387"/>
                    </a:lnTo>
                    <a:lnTo>
                      <a:pt x="0" y="412"/>
                    </a:lnTo>
                    <a:lnTo>
                      <a:pt x="1" y="436"/>
                    </a:lnTo>
                    <a:lnTo>
                      <a:pt x="5" y="460"/>
                    </a:lnTo>
                    <a:lnTo>
                      <a:pt x="8" y="483"/>
                    </a:lnTo>
                    <a:lnTo>
                      <a:pt x="12" y="502"/>
                    </a:lnTo>
                    <a:lnTo>
                      <a:pt x="23" y="500"/>
                    </a:lnTo>
                    <a:lnTo>
                      <a:pt x="36" y="498"/>
                    </a:lnTo>
                    <a:lnTo>
                      <a:pt x="50" y="498"/>
                    </a:lnTo>
                    <a:lnTo>
                      <a:pt x="65" y="498"/>
                    </a:lnTo>
                    <a:lnTo>
                      <a:pt x="78" y="500"/>
                    </a:lnTo>
                    <a:lnTo>
                      <a:pt x="93" y="503"/>
                    </a:lnTo>
                    <a:lnTo>
                      <a:pt x="107" y="507"/>
                    </a:lnTo>
                    <a:lnTo>
                      <a:pt x="121" y="514"/>
                    </a:lnTo>
                    <a:lnTo>
                      <a:pt x="129" y="520"/>
                    </a:lnTo>
                    <a:lnTo>
                      <a:pt x="136" y="526"/>
                    </a:lnTo>
                    <a:lnTo>
                      <a:pt x="143" y="533"/>
                    </a:lnTo>
                    <a:lnTo>
                      <a:pt x="148" y="539"/>
                    </a:lnTo>
                    <a:lnTo>
                      <a:pt x="153" y="548"/>
                    </a:lnTo>
                    <a:lnTo>
                      <a:pt x="158" y="556"/>
                    </a:lnTo>
                    <a:lnTo>
                      <a:pt x="161" y="565"/>
                    </a:lnTo>
                    <a:lnTo>
                      <a:pt x="163" y="574"/>
                    </a:lnTo>
                    <a:lnTo>
                      <a:pt x="166" y="595"/>
                    </a:lnTo>
                    <a:lnTo>
                      <a:pt x="162" y="618"/>
                    </a:lnTo>
                    <a:lnTo>
                      <a:pt x="153" y="638"/>
                    </a:lnTo>
                    <a:lnTo>
                      <a:pt x="138" y="654"/>
                    </a:lnTo>
                    <a:lnTo>
                      <a:pt x="131" y="659"/>
                    </a:lnTo>
                    <a:lnTo>
                      <a:pt x="123" y="663"/>
                    </a:lnTo>
                    <a:lnTo>
                      <a:pt x="114" y="666"/>
                    </a:lnTo>
                    <a:lnTo>
                      <a:pt x="103" y="667"/>
                    </a:lnTo>
                    <a:lnTo>
                      <a:pt x="90" y="666"/>
                    </a:lnTo>
                    <a:lnTo>
                      <a:pt x="76" y="663"/>
                    </a:lnTo>
                    <a:lnTo>
                      <a:pt x="60" y="658"/>
                    </a:lnTo>
                    <a:lnTo>
                      <a:pt x="43" y="649"/>
                    </a:lnTo>
                    <a:lnTo>
                      <a:pt x="39" y="648"/>
                    </a:lnTo>
                    <a:lnTo>
                      <a:pt x="36" y="648"/>
                    </a:lnTo>
                    <a:lnTo>
                      <a:pt x="32" y="648"/>
                    </a:lnTo>
                    <a:lnTo>
                      <a:pt x="29" y="649"/>
                    </a:lnTo>
                    <a:lnTo>
                      <a:pt x="24" y="681"/>
                    </a:lnTo>
                    <a:lnTo>
                      <a:pt x="22" y="717"/>
                    </a:lnTo>
                    <a:lnTo>
                      <a:pt x="23" y="749"/>
                    </a:lnTo>
                    <a:lnTo>
                      <a:pt x="30" y="774"/>
                    </a:lnTo>
                    <a:lnTo>
                      <a:pt x="34" y="784"/>
                    </a:lnTo>
                    <a:lnTo>
                      <a:pt x="36" y="795"/>
                    </a:lnTo>
                    <a:lnTo>
                      <a:pt x="38" y="807"/>
                    </a:lnTo>
                    <a:lnTo>
                      <a:pt x="38" y="820"/>
                    </a:lnTo>
                    <a:lnTo>
                      <a:pt x="721" y="820"/>
                    </a:lnTo>
                    <a:lnTo>
                      <a:pt x="721" y="445"/>
                    </a:lnTo>
                    <a:lnTo>
                      <a:pt x="505" y="445"/>
                    </a:lnTo>
                    <a:lnTo>
                      <a:pt x="505" y="445"/>
                    </a:lnTo>
                    <a:lnTo>
                      <a:pt x="505" y="445"/>
                    </a:lnTo>
                    <a:lnTo>
                      <a:pt x="505" y="446"/>
                    </a:lnTo>
                    <a:lnTo>
                      <a:pt x="505" y="446"/>
                    </a:lnTo>
                    <a:close/>
                  </a:path>
                </a:pathLst>
              </a:custGeom>
              <a:solidFill>
                <a:srgbClr val="ff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154200" y="5466240"/>
                <a:ext cx="1278000" cy="906120"/>
              </a:xfrm>
              <a:prstGeom prst="ellipse">
                <a:avLst/>
              </a:prstGeom>
              <a:solidFill>
                <a:srgbClr val="ff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5796000" y="5229360"/>
              <a:ext cx="23763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600" spc="-1" strike="noStrike">
                  <a:solidFill>
                    <a:srgbClr val="000000"/>
                  </a:solidFill>
                  <a:latin typeface="Arial"/>
                </a:rPr>
                <a:t>Reducerea costurilor de finantare, in corelatie cu garantiile furnizate pentru creditele acor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2670120" y="1628640"/>
            <a:ext cx="3196800" cy="1609560"/>
            <a:chOff x="2670120" y="1628640"/>
            <a:chExt cx="3196800" cy="1609560"/>
          </a:xfrm>
        </p:grpSpPr>
        <p:grpSp>
          <p:nvGrpSpPr>
            <p:cNvPr id="300" name=""/>
            <p:cNvGrpSpPr/>
            <p:nvPr/>
          </p:nvGrpSpPr>
          <p:grpSpPr>
            <a:xfrm>
              <a:off x="2670120" y="1628640"/>
              <a:ext cx="3196800" cy="1609560"/>
              <a:chOff x="2670120" y="1628640"/>
              <a:chExt cx="3196800" cy="160956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2670120" y="1628640"/>
                <a:ext cx="3196800" cy="1609560"/>
                <a:chOff x="2670120" y="1628640"/>
                <a:chExt cx="3196800" cy="160956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2670120" y="1628640"/>
                  <a:ext cx="3196800" cy="1609560"/>
                </a:xfrm>
                <a:custGeom>
                  <a:avLst/>
                  <a:gdLst/>
                  <a:ahLst/>
                  <a:rect l="l" t="t" r="r" b="b"/>
                  <a:pathLst>
                    <a:path w="1123" h="722">
                      <a:moveTo>
                        <a:pt x="1120" y="232"/>
                      </a:moveTo>
                      <a:lnTo>
                        <a:pt x="1111" y="226"/>
                      </a:lnTo>
                      <a:lnTo>
                        <a:pt x="1099" y="223"/>
                      </a:lnTo>
                      <a:lnTo>
                        <a:pt x="1086" y="220"/>
                      </a:lnTo>
                      <a:lnTo>
                        <a:pt x="1071" y="218"/>
                      </a:lnTo>
                      <a:lnTo>
                        <a:pt x="1056" y="218"/>
                      </a:lnTo>
                      <a:lnTo>
                        <a:pt x="1043" y="218"/>
                      </a:lnTo>
                      <a:lnTo>
                        <a:pt x="1029" y="220"/>
                      </a:lnTo>
                      <a:lnTo>
                        <a:pt x="1017" y="222"/>
                      </a:lnTo>
                      <a:lnTo>
                        <a:pt x="991" y="226"/>
                      </a:lnTo>
                      <a:lnTo>
                        <a:pt x="989" y="200"/>
                      </a:lnTo>
                      <a:lnTo>
                        <a:pt x="976" y="0"/>
                      </a:lnTo>
                      <a:lnTo>
                        <a:pt x="573" y="0"/>
                      </a:lnTo>
                      <a:lnTo>
                        <a:pt x="573" y="137"/>
                      </a:lnTo>
                      <a:lnTo>
                        <a:pt x="598" y="140"/>
                      </a:lnTo>
                      <a:lnTo>
                        <a:pt x="622" y="149"/>
                      </a:lnTo>
                      <a:lnTo>
                        <a:pt x="644" y="162"/>
                      </a:lnTo>
                      <a:lnTo>
                        <a:pt x="662" y="178"/>
                      </a:lnTo>
                      <a:lnTo>
                        <a:pt x="678" y="199"/>
                      </a:lnTo>
                      <a:lnTo>
                        <a:pt x="690" y="221"/>
                      </a:lnTo>
                      <a:lnTo>
                        <a:pt x="698" y="246"/>
                      </a:lnTo>
                      <a:lnTo>
                        <a:pt x="700" y="272"/>
                      </a:lnTo>
                      <a:lnTo>
                        <a:pt x="698" y="300"/>
                      </a:lnTo>
                      <a:lnTo>
                        <a:pt x="690" y="325"/>
                      </a:lnTo>
                      <a:lnTo>
                        <a:pt x="677" y="348"/>
                      </a:lnTo>
                      <a:lnTo>
                        <a:pt x="661" y="368"/>
                      </a:lnTo>
                      <a:lnTo>
                        <a:pt x="640" y="385"/>
                      </a:lnTo>
                      <a:lnTo>
                        <a:pt x="617" y="398"/>
                      </a:lnTo>
                      <a:lnTo>
                        <a:pt x="592" y="406"/>
                      </a:lnTo>
                      <a:lnTo>
                        <a:pt x="566" y="408"/>
                      </a:lnTo>
                      <a:lnTo>
                        <a:pt x="543" y="406"/>
                      </a:lnTo>
                      <a:lnTo>
                        <a:pt x="520" y="400"/>
                      </a:lnTo>
                      <a:lnTo>
                        <a:pt x="499" y="391"/>
                      </a:lnTo>
                      <a:lnTo>
                        <a:pt x="482" y="378"/>
                      </a:lnTo>
                      <a:lnTo>
                        <a:pt x="466" y="363"/>
                      </a:lnTo>
                      <a:lnTo>
                        <a:pt x="452" y="346"/>
                      </a:lnTo>
                      <a:lnTo>
                        <a:pt x="441" y="326"/>
                      </a:lnTo>
                      <a:lnTo>
                        <a:pt x="435" y="305"/>
                      </a:lnTo>
                      <a:lnTo>
                        <a:pt x="386" y="292"/>
                      </a:lnTo>
                      <a:lnTo>
                        <a:pt x="436" y="235"/>
                      </a:lnTo>
                      <a:lnTo>
                        <a:pt x="443" y="215"/>
                      </a:lnTo>
                      <a:lnTo>
                        <a:pt x="451" y="197"/>
                      </a:lnTo>
                      <a:lnTo>
                        <a:pt x="462" y="180"/>
                      </a:lnTo>
                      <a:lnTo>
                        <a:pt x="477" y="166"/>
                      </a:lnTo>
                      <a:lnTo>
                        <a:pt x="494" y="154"/>
                      </a:lnTo>
                      <a:lnTo>
                        <a:pt x="516" y="145"/>
                      </a:lnTo>
                      <a:lnTo>
                        <a:pt x="541" y="139"/>
                      </a:lnTo>
                      <a:lnTo>
                        <a:pt x="573" y="137"/>
                      </a:lnTo>
                      <a:lnTo>
                        <a:pt x="573" y="0"/>
                      </a:lnTo>
                      <a:lnTo>
                        <a:pt x="128" y="0"/>
                      </a:lnTo>
                      <a:lnTo>
                        <a:pt x="126" y="16"/>
                      </a:lnTo>
                      <a:lnTo>
                        <a:pt x="126" y="31"/>
                      </a:lnTo>
                      <a:lnTo>
                        <a:pt x="128" y="44"/>
                      </a:lnTo>
                      <a:lnTo>
                        <a:pt x="131" y="53"/>
                      </a:lnTo>
                      <a:lnTo>
                        <a:pt x="143" y="100"/>
                      </a:lnTo>
                      <a:lnTo>
                        <a:pt x="143" y="153"/>
                      </a:lnTo>
                      <a:lnTo>
                        <a:pt x="137" y="198"/>
                      </a:lnTo>
                      <a:lnTo>
                        <a:pt x="132" y="221"/>
                      </a:lnTo>
                      <a:lnTo>
                        <a:pt x="130" y="229"/>
                      </a:lnTo>
                      <a:lnTo>
                        <a:pt x="123" y="235"/>
                      </a:lnTo>
                      <a:lnTo>
                        <a:pt x="117" y="238"/>
                      </a:lnTo>
                      <a:lnTo>
                        <a:pt x="110" y="241"/>
                      </a:lnTo>
                      <a:lnTo>
                        <a:pt x="102" y="245"/>
                      </a:lnTo>
                      <a:lnTo>
                        <a:pt x="93" y="247"/>
                      </a:lnTo>
                      <a:lnTo>
                        <a:pt x="83" y="248"/>
                      </a:lnTo>
                      <a:lnTo>
                        <a:pt x="72" y="248"/>
                      </a:lnTo>
                      <a:lnTo>
                        <a:pt x="62" y="246"/>
                      </a:lnTo>
                      <a:lnTo>
                        <a:pt x="52" y="241"/>
                      </a:lnTo>
                      <a:lnTo>
                        <a:pt x="44" y="238"/>
                      </a:lnTo>
                      <a:lnTo>
                        <a:pt x="37" y="235"/>
                      </a:lnTo>
                      <a:lnTo>
                        <a:pt x="31" y="232"/>
                      </a:lnTo>
                      <a:lnTo>
                        <a:pt x="24" y="230"/>
                      </a:lnTo>
                      <a:lnTo>
                        <a:pt x="20" y="230"/>
                      </a:lnTo>
                      <a:lnTo>
                        <a:pt x="15" y="230"/>
                      </a:lnTo>
                      <a:lnTo>
                        <a:pt x="10" y="230"/>
                      </a:lnTo>
                      <a:lnTo>
                        <a:pt x="7" y="232"/>
                      </a:lnTo>
                      <a:lnTo>
                        <a:pt x="3" y="237"/>
                      </a:lnTo>
                      <a:lnTo>
                        <a:pt x="1" y="245"/>
                      </a:lnTo>
                      <a:lnTo>
                        <a:pt x="0" y="254"/>
                      </a:lnTo>
                      <a:lnTo>
                        <a:pt x="1" y="263"/>
                      </a:lnTo>
                      <a:lnTo>
                        <a:pt x="3" y="272"/>
                      </a:lnTo>
                      <a:lnTo>
                        <a:pt x="8" y="281"/>
                      </a:lnTo>
                      <a:lnTo>
                        <a:pt x="14" y="287"/>
                      </a:lnTo>
                      <a:lnTo>
                        <a:pt x="21" y="292"/>
                      </a:lnTo>
                      <a:lnTo>
                        <a:pt x="32" y="298"/>
                      </a:lnTo>
                      <a:lnTo>
                        <a:pt x="45" y="300"/>
                      </a:lnTo>
                      <a:lnTo>
                        <a:pt x="59" y="302"/>
                      </a:lnTo>
                      <a:lnTo>
                        <a:pt x="72" y="302"/>
                      </a:lnTo>
                      <a:lnTo>
                        <a:pt x="85" y="301"/>
                      </a:lnTo>
                      <a:lnTo>
                        <a:pt x="98" y="299"/>
                      </a:lnTo>
                      <a:lnTo>
                        <a:pt x="108" y="298"/>
                      </a:lnTo>
                      <a:lnTo>
                        <a:pt x="116" y="295"/>
                      </a:lnTo>
                      <a:lnTo>
                        <a:pt x="139" y="290"/>
                      </a:lnTo>
                      <a:lnTo>
                        <a:pt x="146" y="313"/>
                      </a:lnTo>
                      <a:lnTo>
                        <a:pt x="149" y="325"/>
                      </a:lnTo>
                      <a:lnTo>
                        <a:pt x="155" y="354"/>
                      </a:lnTo>
                      <a:lnTo>
                        <a:pt x="162" y="393"/>
                      </a:lnTo>
                      <a:lnTo>
                        <a:pt x="164" y="437"/>
                      </a:lnTo>
                      <a:lnTo>
                        <a:pt x="163" y="461"/>
                      </a:lnTo>
                      <a:lnTo>
                        <a:pt x="162" y="497"/>
                      </a:lnTo>
                      <a:lnTo>
                        <a:pt x="161" y="530"/>
                      </a:lnTo>
                      <a:lnTo>
                        <a:pt x="160" y="548"/>
                      </a:lnTo>
                      <a:lnTo>
                        <a:pt x="161" y="569"/>
                      </a:lnTo>
                      <a:lnTo>
                        <a:pt x="214" y="569"/>
                      </a:lnTo>
                      <a:lnTo>
                        <a:pt x="215" y="554"/>
                      </a:lnTo>
                      <a:lnTo>
                        <a:pt x="215" y="538"/>
                      </a:lnTo>
                      <a:lnTo>
                        <a:pt x="216" y="522"/>
                      </a:lnTo>
                      <a:lnTo>
                        <a:pt x="216" y="507"/>
                      </a:lnTo>
                      <a:lnTo>
                        <a:pt x="216" y="504"/>
                      </a:lnTo>
                      <a:lnTo>
                        <a:pt x="216" y="500"/>
                      </a:lnTo>
                      <a:lnTo>
                        <a:pt x="216" y="497"/>
                      </a:lnTo>
                      <a:lnTo>
                        <a:pt x="216" y="493"/>
                      </a:lnTo>
                      <a:lnTo>
                        <a:pt x="216" y="470"/>
                      </a:lnTo>
                      <a:lnTo>
                        <a:pt x="217" y="447"/>
                      </a:lnTo>
                      <a:lnTo>
                        <a:pt x="224" y="427"/>
                      </a:lnTo>
                      <a:lnTo>
                        <a:pt x="238" y="412"/>
                      </a:lnTo>
                      <a:lnTo>
                        <a:pt x="241" y="409"/>
                      </a:lnTo>
                      <a:lnTo>
                        <a:pt x="246" y="407"/>
                      </a:lnTo>
                      <a:lnTo>
                        <a:pt x="252" y="406"/>
                      </a:lnTo>
                      <a:lnTo>
                        <a:pt x="258" y="405"/>
                      </a:lnTo>
                      <a:lnTo>
                        <a:pt x="263" y="405"/>
                      </a:lnTo>
                      <a:lnTo>
                        <a:pt x="271" y="406"/>
                      </a:lnTo>
                      <a:lnTo>
                        <a:pt x="278" y="408"/>
                      </a:lnTo>
                      <a:lnTo>
                        <a:pt x="287" y="412"/>
                      </a:lnTo>
                      <a:lnTo>
                        <a:pt x="304" y="421"/>
                      </a:lnTo>
                      <a:lnTo>
                        <a:pt x="316" y="432"/>
                      </a:lnTo>
                      <a:lnTo>
                        <a:pt x="325" y="445"/>
                      </a:lnTo>
                      <a:lnTo>
                        <a:pt x="332" y="460"/>
                      </a:lnTo>
                      <a:lnTo>
                        <a:pt x="337" y="476"/>
                      </a:lnTo>
                      <a:lnTo>
                        <a:pt x="340" y="492"/>
                      </a:lnTo>
                      <a:lnTo>
                        <a:pt x="343" y="508"/>
                      </a:lnTo>
                      <a:lnTo>
                        <a:pt x="344" y="524"/>
                      </a:lnTo>
                      <a:lnTo>
                        <a:pt x="345" y="535"/>
                      </a:lnTo>
                      <a:lnTo>
                        <a:pt x="346" y="544"/>
                      </a:lnTo>
                      <a:lnTo>
                        <a:pt x="347" y="552"/>
                      </a:lnTo>
                      <a:lnTo>
                        <a:pt x="348" y="560"/>
                      </a:lnTo>
                      <a:lnTo>
                        <a:pt x="349" y="563"/>
                      </a:lnTo>
                      <a:lnTo>
                        <a:pt x="351" y="566"/>
                      </a:lnTo>
                      <a:lnTo>
                        <a:pt x="351" y="569"/>
                      </a:lnTo>
                      <a:lnTo>
                        <a:pt x="352" y="571"/>
                      </a:lnTo>
                      <a:lnTo>
                        <a:pt x="364" y="570"/>
                      </a:lnTo>
                      <a:lnTo>
                        <a:pt x="379" y="569"/>
                      </a:lnTo>
                      <a:lnTo>
                        <a:pt x="397" y="568"/>
                      </a:lnTo>
                      <a:lnTo>
                        <a:pt x="415" y="567"/>
                      </a:lnTo>
                      <a:lnTo>
                        <a:pt x="433" y="567"/>
                      </a:lnTo>
                      <a:lnTo>
                        <a:pt x="452" y="568"/>
                      </a:lnTo>
                      <a:lnTo>
                        <a:pt x="470" y="571"/>
                      </a:lnTo>
                      <a:lnTo>
                        <a:pt x="487" y="575"/>
                      </a:lnTo>
                      <a:lnTo>
                        <a:pt x="502" y="579"/>
                      </a:lnTo>
                      <a:lnTo>
                        <a:pt x="513" y="584"/>
                      </a:lnTo>
                      <a:lnTo>
                        <a:pt x="518" y="586"/>
                      </a:lnTo>
                      <a:lnTo>
                        <a:pt x="521" y="587"/>
                      </a:lnTo>
                      <a:lnTo>
                        <a:pt x="521" y="589"/>
                      </a:lnTo>
                      <a:lnTo>
                        <a:pt x="520" y="590"/>
                      </a:lnTo>
                      <a:lnTo>
                        <a:pt x="518" y="590"/>
                      </a:lnTo>
                      <a:lnTo>
                        <a:pt x="518" y="590"/>
                      </a:lnTo>
                      <a:lnTo>
                        <a:pt x="539" y="590"/>
                      </a:lnTo>
                      <a:lnTo>
                        <a:pt x="551" y="602"/>
                      </a:lnTo>
                      <a:lnTo>
                        <a:pt x="553" y="606"/>
                      </a:lnTo>
                      <a:lnTo>
                        <a:pt x="558" y="613"/>
                      </a:lnTo>
                      <a:lnTo>
                        <a:pt x="563" y="622"/>
                      </a:lnTo>
                      <a:lnTo>
                        <a:pt x="568" y="633"/>
                      </a:lnTo>
                      <a:lnTo>
                        <a:pt x="571" y="647"/>
                      </a:lnTo>
                      <a:lnTo>
                        <a:pt x="571" y="661"/>
                      </a:lnTo>
                      <a:lnTo>
                        <a:pt x="567" y="676"/>
                      </a:lnTo>
                      <a:lnTo>
                        <a:pt x="558" y="690"/>
                      </a:lnTo>
                      <a:lnTo>
                        <a:pt x="555" y="698"/>
                      </a:lnTo>
                      <a:lnTo>
                        <a:pt x="559" y="707"/>
                      </a:lnTo>
                      <a:lnTo>
                        <a:pt x="564" y="716"/>
                      </a:lnTo>
                      <a:lnTo>
                        <a:pt x="571" y="722"/>
                      </a:lnTo>
                      <a:lnTo>
                        <a:pt x="579" y="720"/>
                      </a:lnTo>
                      <a:lnTo>
                        <a:pt x="590" y="716"/>
                      </a:lnTo>
                      <a:lnTo>
                        <a:pt x="601" y="712"/>
                      </a:lnTo>
                      <a:lnTo>
                        <a:pt x="613" y="706"/>
                      </a:lnTo>
                      <a:lnTo>
                        <a:pt x="623" y="698"/>
                      </a:lnTo>
                      <a:lnTo>
                        <a:pt x="631" y="689"/>
                      </a:lnTo>
                      <a:lnTo>
                        <a:pt x="636" y="677"/>
                      </a:lnTo>
                      <a:lnTo>
                        <a:pt x="636" y="664"/>
                      </a:lnTo>
                      <a:lnTo>
                        <a:pt x="633" y="645"/>
                      </a:lnTo>
                      <a:lnTo>
                        <a:pt x="630" y="624"/>
                      </a:lnTo>
                      <a:lnTo>
                        <a:pt x="629" y="607"/>
                      </a:lnTo>
                      <a:lnTo>
                        <a:pt x="628" y="598"/>
                      </a:lnTo>
                      <a:lnTo>
                        <a:pt x="628" y="589"/>
                      </a:lnTo>
                      <a:lnTo>
                        <a:pt x="638" y="581"/>
                      </a:lnTo>
                      <a:lnTo>
                        <a:pt x="643" y="577"/>
                      </a:lnTo>
                      <a:lnTo>
                        <a:pt x="652" y="570"/>
                      </a:lnTo>
                      <a:lnTo>
                        <a:pt x="667" y="561"/>
                      </a:lnTo>
                      <a:lnTo>
                        <a:pt x="684" y="551"/>
                      </a:lnTo>
                      <a:lnTo>
                        <a:pt x="705" y="543"/>
                      </a:lnTo>
                      <a:lnTo>
                        <a:pt x="728" y="536"/>
                      </a:lnTo>
                      <a:lnTo>
                        <a:pt x="753" y="535"/>
                      </a:lnTo>
                      <a:lnTo>
                        <a:pt x="777" y="538"/>
                      </a:lnTo>
                      <a:lnTo>
                        <a:pt x="783" y="539"/>
                      </a:lnTo>
                      <a:lnTo>
                        <a:pt x="789" y="541"/>
                      </a:lnTo>
                      <a:lnTo>
                        <a:pt x="794" y="543"/>
                      </a:lnTo>
                      <a:lnTo>
                        <a:pt x="799" y="544"/>
                      </a:lnTo>
                      <a:lnTo>
                        <a:pt x="804" y="545"/>
                      </a:lnTo>
                      <a:lnTo>
                        <a:pt x="808" y="546"/>
                      </a:lnTo>
                      <a:lnTo>
                        <a:pt x="812" y="547"/>
                      </a:lnTo>
                      <a:lnTo>
                        <a:pt x="815" y="548"/>
                      </a:lnTo>
                      <a:lnTo>
                        <a:pt x="815" y="540"/>
                      </a:lnTo>
                      <a:lnTo>
                        <a:pt x="815" y="532"/>
                      </a:lnTo>
                      <a:lnTo>
                        <a:pt x="814" y="523"/>
                      </a:lnTo>
                      <a:lnTo>
                        <a:pt x="812" y="515"/>
                      </a:lnTo>
                      <a:lnTo>
                        <a:pt x="804" y="487"/>
                      </a:lnTo>
                      <a:lnTo>
                        <a:pt x="800" y="459"/>
                      </a:lnTo>
                      <a:lnTo>
                        <a:pt x="801" y="430"/>
                      </a:lnTo>
                      <a:lnTo>
                        <a:pt x="812" y="406"/>
                      </a:lnTo>
                      <a:lnTo>
                        <a:pt x="815" y="402"/>
                      </a:lnTo>
                      <a:lnTo>
                        <a:pt x="819" y="398"/>
                      </a:lnTo>
                      <a:lnTo>
                        <a:pt x="824" y="394"/>
                      </a:lnTo>
                      <a:lnTo>
                        <a:pt x="830" y="391"/>
                      </a:lnTo>
                      <a:lnTo>
                        <a:pt x="836" y="387"/>
                      </a:lnTo>
                      <a:lnTo>
                        <a:pt x="844" y="385"/>
                      </a:lnTo>
                      <a:lnTo>
                        <a:pt x="852" y="383"/>
                      </a:lnTo>
                      <a:lnTo>
                        <a:pt x="861" y="383"/>
                      </a:lnTo>
                      <a:lnTo>
                        <a:pt x="870" y="383"/>
                      </a:lnTo>
                      <a:lnTo>
                        <a:pt x="878" y="384"/>
                      </a:lnTo>
                      <a:lnTo>
                        <a:pt x="887" y="386"/>
                      </a:lnTo>
                      <a:lnTo>
                        <a:pt x="896" y="389"/>
                      </a:lnTo>
                      <a:lnTo>
                        <a:pt x="902" y="392"/>
                      </a:lnTo>
                      <a:lnTo>
                        <a:pt x="910" y="397"/>
                      </a:lnTo>
                      <a:lnTo>
                        <a:pt x="917" y="401"/>
                      </a:lnTo>
                      <a:lnTo>
                        <a:pt x="923" y="407"/>
                      </a:lnTo>
                      <a:lnTo>
                        <a:pt x="937" y="424"/>
                      </a:lnTo>
                      <a:lnTo>
                        <a:pt x="946" y="447"/>
                      </a:lnTo>
                      <a:lnTo>
                        <a:pt x="952" y="472"/>
                      </a:lnTo>
                      <a:lnTo>
                        <a:pt x="954" y="502"/>
                      </a:lnTo>
                      <a:lnTo>
                        <a:pt x="954" y="547"/>
                      </a:lnTo>
                      <a:lnTo>
                        <a:pt x="973" y="547"/>
                      </a:lnTo>
                      <a:lnTo>
                        <a:pt x="973" y="289"/>
                      </a:lnTo>
                      <a:lnTo>
                        <a:pt x="973" y="274"/>
                      </a:lnTo>
                      <a:lnTo>
                        <a:pt x="986" y="267"/>
                      </a:lnTo>
                      <a:lnTo>
                        <a:pt x="993" y="263"/>
                      </a:lnTo>
                      <a:lnTo>
                        <a:pt x="1004" y="260"/>
                      </a:lnTo>
                      <a:lnTo>
                        <a:pt x="1016" y="256"/>
                      </a:lnTo>
                      <a:lnTo>
                        <a:pt x="1031" y="252"/>
                      </a:lnTo>
                      <a:lnTo>
                        <a:pt x="1047" y="249"/>
                      </a:lnTo>
                      <a:lnTo>
                        <a:pt x="1063" y="249"/>
                      </a:lnTo>
                      <a:lnTo>
                        <a:pt x="1079" y="252"/>
                      </a:lnTo>
                      <a:lnTo>
                        <a:pt x="1093" y="258"/>
                      </a:lnTo>
                      <a:lnTo>
                        <a:pt x="1099" y="256"/>
                      </a:lnTo>
                      <a:lnTo>
                        <a:pt x="1107" y="253"/>
                      </a:lnTo>
                      <a:lnTo>
                        <a:pt x="1115" y="247"/>
                      </a:lnTo>
                      <a:lnTo>
                        <a:pt x="1122" y="239"/>
                      </a:lnTo>
                      <a:lnTo>
                        <a:pt x="1123" y="238"/>
                      </a:lnTo>
                      <a:lnTo>
                        <a:pt x="1123" y="236"/>
                      </a:lnTo>
                      <a:lnTo>
                        <a:pt x="1122" y="235"/>
                      </a:lnTo>
                      <a:lnTo>
                        <a:pt x="1120" y="232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654360" y="1831680"/>
                  <a:ext cx="1033560" cy="909360"/>
                </a:xfrm>
                <a:prstGeom prst="ellipse">
                  <a:avLst/>
                </a:prstGeom>
                <a:solidFill>
                  <a:srgbClr val="66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" name=""/>
              <p:cNvSpPr/>
              <p:nvPr/>
            </p:nvSpPr>
            <p:spPr>
              <a:xfrm>
                <a:off x="4189320" y="1652760"/>
                <a:ext cx="184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2991240" y="1700280"/>
              <a:ext cx="2419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grarea agriculturi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 mediul inconjurato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 cu silvicultur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828720" y="2955960"/>
            <a:ext cx="2878920" cy="2317320"/>
            <a:chOff x="828720" y="2955960"/>
            <a:chExt cx="2878920" cy="2317320"/>
          </a:xfrm>
        </p:grpSpPr>
        <p:grpSp>
          <p:nvGrpSpPr>
            <p:cNvPr id="307" name=""/>
            <p:cNvGrpSpPr/>
            <p:nvPr/>
          </p:nvGrpSpPr>
          <p:grpSpPr>
            <a:xfrm>
              <a:off x="900000" y="2955960"/>
              <a:ext cx="2807640" cy="2317320"/>
              <a:chOff x="900000" y="2955960"/>
              <a:chExt cx="2807640" cy="2317320"/>
            </a:xfrm>
          </p:grpSpPr>
          <p:sp>
            <p:nvSpPr>
              <p:cNvPr id="308" name=""/>
              <p:cNvSpPr/>
              <p:nvPr/>
            </p:nvSpPr>
            <p:spPr>
              <a:xfrm>
                <a:off x="900000" y="2955960"/>
                <a:ext cx="2807640" cy="2317320"/>
              </a:xfrm>
              <a:custGeom>
                <a:avLst/>
                <a:gdLst/>
                <a:ahLst/>
                <a:rect l="l" t="t" r="r" b="b"/>
                <a:pathLst>
                  <a:path w="851" h="1020">
                    <a:moveTo>
                      <a:pt x="848" y="805"/>
                    </a:moveTo>
                    <a:lnTo>
                      <a:pt x="845" y="803"/>
                    </a:lnTo>
                    <a:lnTo>
                      <a:pt x="839" y="800"/>
                    </a:lnTo>
                    <a:lnTo>
                      <a:pt x="832" y="799"/>
                    </a:lnTo>
                    <a:lnTo>
                      <a:pt x="825" y="800"/>
                    </a:lnTo>
                    <a:lnTo>
                      <a:pt x="816" y="801"/>
                    </a:lnTo>
                    <a:lnTo>
                      <a:pt x="806" y="804"/>
                    </a:lnTo>
                    <a:lnTo>
                      <a:pt x="794" y="807"/>
                    </a:lnTo>
                    <a:lnTo>
                      <a:pt x="782" y="813"/>
                    </a:lnTo>
                    <a:lnTo>
                      <a:pt x="768" y="819"/>
                    </a:lnTo>
                    <a:lnTo>
                      <a:pt x="753" y="821"/>
                    </a:lnTo>
                    <a:lnTo>
                      <a:pt x="739" y="822"/>
                    </a:lnTo>
                    <a:lnTo>
                      <a:pt x="728" y="821"/>
                    </a:lnTo>
                    <a:lnTo>
                      <a:pt x="716" y="819"/>
                    </a:lnTo>
                    <a:lnTo>
                      <a:pt x="707" y="818"/>
                    </a:lnTo>
                    <a:lnTo>
                      <a:pt x="701" y="815"/>
                    </a:lnTo>
                    <a:lnTo>
                      <a:pt x="698" y="814"/>
                    </a:lnTo>
                    <a:lnTo>
                      <a:pt x="681" y="806"/>
                    </a:lnTo>
                    <a:lnTo>
                      <a:pt x="681" y="781"/>
                    </a:lnTo>
                    <a:lnTo>
                      <a:pt x="682" y="773"/>
                    </a:lnTo>
                    <a:lnTo>
                      <a:pt x="685" y="765"/>
                    </a:lnTo>
                    <a:lnTo>
                      <a:pt x="690" y="752"/>
                    </a:lnTo>
                    <a:lnTo>
                      <a:pt x="698" y="730"/>
                    </a:lnTo>
                    <a:lnTo>
                      <a:pt x="701" y="709"/>
                    </a:lnTo>
                    <a:lnTo>
                      <a:pt x="699" y="691"/>
                    </a:lnTo>
                    <a:lnTo>
                      <a:pt x="696" y="676"/>
                    </a:lnTo>
                    <a:lnTo>
                      <a:pt x="690" y="664"/>
                    </a:lnTo>
                    <a:lnTo>
                      <a:pt x="686" y="664"/>
                    </a:lnTo>
                    <a:lnTo>
                      <a:pt x="682" y="664"/>
                    </a:lnTo>
                    <a:lnTo>
                      <a:pt x="677" y="665"/>
                    </a:lnTo>
                    <a:lnTo>
                      <a:pt x="671" y="665"/>
                    </a:lnTo>
                    <a:lnTo>
                      <a:pt x="664" y="666"/>
                    </a:lnTo>
                    <a:lnTo>
                      <a:pt x="658" y="667"/>
                    </a:lnTo>
                    <a:lnTo>
                      <a:pt x="650" y="667"/>
                    </a:lnTo>
                    <a:lnTo>
                      <a:pt x="640" y="668"/>
                    </a:lnTo>
                    <a:lnTo>
                      <a:pt x="630" y="668"/>
                    </a:lnTo>
                    <a:lnTo>
                      <a:pt x="620" y="668"/>
                    </a:lnTo>
                    <a:lnTo>
                      <a:pt x="609" y="666"/>
                    </a:lnTo>
                    <a:lnTo>
                      <a:pt x="599" y="664"/>
                    </a:lnTo>
                    <a:lnTo>
                      <a:pt x="590" y="659"/>
                    </a:lnTo>
                    <a:lnTo>
                      <a:pt x="581" y="654"/>
                    </a:lnTo>
                    <a:lnTo>
                      <a:pt x="573" y="649"/>
                    </a:lnTo>
                    <a:lnTo>
                      <a:pt x="564" y="642"/>
                    </a:lnTo>
                    <a:lnTo>
                      <a:pt x="556" y="634"/>
                    </a:lnTo>
                    <a:lnTo>
                      <a:pt x="550" y="624"/>
                    </a:lnTo>
                    <a:lnTo>
                      <a:pt x="543" y="615"/>
                    </a:lnTo>
                    <a:lnTo>
                      <a:pt x="538" y="606"/>
                    </a:lnTo>
                    <a:lnTo>
                      <a:pt x="535" y="598"/>
                    </a:lnTo>
                    <a:lnTo>
                      <a:pt x="531" y="589"/>
                    </a:lnTo>
                    <a:lnTo>
                      <a:pt x="530" y="582"/>
                    </a:lnTo>
                    <a:lnTo>
                      <a:pt x="529" y="575"/>
                    </a:lnTo>
                    <a:lnTo>
                      <a:pt x="532" y="559"/>
                    </a:lnTo>
                    <a:lnTo>
                      <a:pt x="541" y="546"/>
                    </a:lnTo>
                    <a:lnTo>
                      <a:pt x="552" y="537"/>
                    </a:lnTo>
                    <a:lnTo>
                      <a:pt x="561" y="531"/>
                    </a:lnTo>
                    <a:lnTo>
                      <a:pt x="570" y="527"/>
                    </a:lnTo>
                    <a:lnTo>
                      <a:pt x="581" y="523"/>
                    </a:lnTo>
                    <a:lnTo>
                      <a:pt x="590" y="521"/>
                    </a:lnTo>
                    <a:lnTo>
                      <a:pt x="600" y="520"/>
                    </a:lnTo>
                    <a:lnTo>
                      <a:pt x="609" y="521"/>
                    </a:lnTo>
                    <a:lnTo>
                      <a:pt x="618" y="522"/>
                    </a:lnTo>
                    <a:lnTo>
                      <a:pt x="627" y="524"/>
                    </a:lnTo>
                    <a:lnTo>
                      <a:pt x="635" y="529"/>
                    </a:lnTo>
                    <a:lnTo>
                      <a:pt x="640" y="531"/>
                    </a:lnTo>
                    <a:lnTo>
                      <a:pt x="648" y="531"/>
                    </a:lnTo>
                    <a:lnTo>
                      <a:pt x="656" y="530"/>
                    </a:lnTo>
                    <a:lnTo>
                      <a:pt x="663" y="528"/>
                    </a:lnTo>
                    <a:lnTo>
                      <a:pt x="664" y="513"/>
                    </a:lnTo>
                    <a:lnTo>
                      <a:pt x="668" y="493"/>
                    </a:lnTo>
                    <a:lnTo>
                      <a:pt x="673" y="472"/>
                    </a:lnTo>
                    <a:lnTo>
                      <a:pt x="679" y="446"/>
                    </a:lnTo>
                    <a:lnTo>
                      <a:pt x="684" y="420"/>
                    </a:lnTo>
                    <a:lnTo>
                      <a:pt x="685" y="390"/>
                    </a:lnTo>
                    <a:lnTo>
                      <a:pt x="684" y="360"/>
                    </a:lnTo>
                    <a:lnTo>
                      <a:pt x="682" y="334"/>
                    </a:lnTo>
                    <a:lnTo>
                      <a:pt x="681" y="334"/>
                    </a:lnTo>
                    <a:lnTo>
                      <a:pt x="681" y="334"/>
                    </a:lnTo>
                    <a:lnTo>
                      <a:pt x="679" y="334"/>
                    </a:lnTo>
                    <a:lnTo>
                      <a:pt x="679" y="334"/>
                    </a:lnTo>
                    <a:lnTo>
                      <a:pt x="677" y="312"/>
                    </a:lnTo>
                    <a:lnTo>
                      <a:pt x="677" y="305"/>
                    </a:lnTo>
                    <a:lnTo>
                      <a:pt x="679" y="300"/>
                    </a:lnTo>
                    <a:lnTo>
                      <a:pt x="683" y="297"/>
                    </a:lnTo>
                    <a:lnTo>
                      <a:pt x="687" y="296"/>
                    </a:lnTo>
                    <a:lnTo>
                      <a:pt x="694" y="294"/>
                    </a:lnTo>
                    <a:lnTo>
                      <a:pt x="704" y="293"/>
                    </a:lnTo>
                    <a:lnTo>
                      <a:pt x="714" y="292"/>
                    </a:lnTo>
                    <a:lnTo>
                      <a:pt x="725" y="290"/>
                    </a:lnTo>
                    <a:lnTo>
                      <a:pt x="731" y="289"/>
                    </a:lnTo>
                    <a:lnTo>
                      <a:pt x="736" y="289"/>
                    </a:lnTo>
                    <a:lnTo>
                      <a:pt x="741" y="289"/>
                    </a:lnTo>
                    <a:lnTo>
                      <a:pt x="747" y="289"/>
                    </a:lnTo>
                    <a:lnTo>
                      <a:pt x="753" y="290"/>
                    </a:lnTo>
                    <a:lnTo>
                      <a:pt x="759" y="290"/>
                    </a:lnTo>
                    <a:lnTo>
                      <a:pt x="764" y="290"/>
                    </a:lnTo>
                    <a:lnTo>
                      <a:pt x="770" y="290"/>
                    </a:lnTo>
                    <a:lnTo>
                      <a:pt x="783" y="288"/>
                    </a:lnTo>
                    <a:lnTo>
                      <a:pt x="791" y="284"/>
                    </a:lnTo>
                    <a:lnTo>
                      <a:pt x="797" y="281"/>
                    </a:lnTo>
                    <a:lnTo>
                      <a:pt x="801" y="276"/>
                    </a:lnTo>
                    <a:lnTo>
                      <a:pt x="804" y="270"/>
                    </a:lnTo>
                    <a:lnTo>
                      <a:pt x="805" y="263"/>
                    </a:lnTo>
                    <a:lnTo>
                      <a:pt x="807" y="258"/>
                    </a:lnTo>
                    <a:lnTo>
                      <a:pt x="809" y="250"/>
                    </a:lnTo>
                    <a:lnTo>
                      <a:pt x="810" y="249"/>
                    </a:lnTo>
                    <a:lnTo>
                      <a:pt x="810" y="247"/>
                    </a:lnTo>
                    <a:lnTo>
                      <a:pt x="810" y="247"/>
                    </a:lnTo>
                    <a:lnTo>
                      <a:pt x="812" y="246"/>
                    </a:lnTo>
                    <a:lnTo>
                      <a:pt x="808" y="245"/>
                    </a:lnTo>
                    <a:lnTo>
                      <a:pt x="804" y="245"/>
                    </a:lnTo>
                    <a:lnTo>
                      <a:pt x="798" y="245"/>
                    </a:lnTo>
                    <a:lnTo>
                      <a:pt x="793" y="245"/>
                    </a:lnTo>
                    <a:lnTo>
                      <a:pt x="787" y="245"/>
                    </a:lnTo>
                    <a:lnTo>
                      <a:pt x="782" y="245"/>
                    </a:lnTo>
                    <a:lnTo>
                      <a:pt x="777" y="245"/>
                    </a:lnTo>
                    <a:lnTo>
                      <a:pt x="774" y="245"/>
                    </a:lnTo>
                    <a:lnTo>
                      <a:pt x="775" y="244"/>
                    </a:lnTo>
                    <a:lnTo>
                      <a:pt x="783" y="242"/>
                    </a:lnTo>
                    <a:lnTo>
                      <a:pt x="791" y="239"/>
                    </a:lnTo>
                    <a:lnTo>
                      <a:pt x="792" y="238"/>
                    </a:lnTo>
                    <a:lnTo>
                      <a:pt x="779" y="238"/>
                    </a:lnTo>
                    <a:lnTo>
                      <a:pt x="766" y="237"/>
                    </a:lnTo>
                    <a:lnTo>
                      <a:pt x="751" y="236"/>
                    </a:lnTo>
                    <a:lnTo>
                      <a:pt x="737" y="235"/>
                    </a:lnTo>
                    <a:lnTo>
                      <a:pt x="725" y="235"/>
                    </a:lnTo>
                    <a:lnTo>
                      <a:pt x="715" y="234"/>
                    </a:lnTo>
                    <a:lnTo>
                      <a:pt x="708" y="232"/>
                    </a:lnTo>
                    <a:lnTo>
                      <a:pt x="705" y="232"/>
                    </a:lnTo>
                    <a:lnTo>
                      <a:pt x="684" y="230"/>
                    </a:lnTo>
                    <a:lnTo>
                      <a:pt x="683" y="209"/>
                    </a:lnTo>
                    <a:lnTo>
                      <a:pt x="675" y="0"/>
                    </a:lnTo>
                    <a:lnTo>
                      <a:pt x="640" y="0"/>
                    </a:lnTo>
                    <a:lnTo>
                      <a:pt x="639" y="6"/>
                    </a:lnTo>
                    <a:lnTo>
                      <a:pt x="637" y="12"/>
                    </a:lnTo>
                    <a:lnTo>
                      <a:pt x="636" y="19"/>
                    </a:lnTo>
                    <a:lnTo>
                      <a:pt x="633" y="25"/>
                    </a:lnTo>
                    <a:lnTo>
                      <a:pt x="632" y="32"/>
                    </a:lnTo>
                    <a:lnTo>
                      <a:pt x="632" y="38"/>
                    </a:lnTo>
                    <a:lnTo>
                      <a:pt x="635" y="45"/>
                    </a:lnTo>
                    <a:lnTo>
                      <a:pt x="638" y="53"/>
                    </a:lnTo>
                    <a:lnTo>
                      <a:pt x="644" y="68"/>
                    </a:lnTo>
                    <a:lnTo>
                      <a:pt x="647" y="85"/>
                    </a:lnTo>
                    <a:lnTo>
                      <a:pt x="648" y="107"/>
                    </a:lnTo>
                    <a:lnTo>
                      <a:pt x="644" y="132"/>
                    </a:lnTo>
                    <a:lnTo>
                      <a:pt x="641" y="139"/>
                    </a:lnTo>
                    <a:lnTo>
                      <a:pt x="638" y="146"/>
                    </a:lnTo>
                    <a:lnTo>
                      <a:pt x="635" y="152"/>
                    </a:lnTo>
                    <a:lnTo>
                      <a:pt x="630" y="157"/>
                    </a:lnTo>
                    <a:lnTo>
                      <a:pt x="624" y="161"/>
                    </a:lnTo>
                    <a:lnTo>
                      <a:pt x="618" y="165"/>
                    </a:lnTo>
                    <a:lnTo>
                      <a:pt x="612" y="167"/>
                    </a:lnTo>
                    <a:lnTo>
                      <a:pt x="605" y="169"/>
                    </a:lnTo>
                    <a:lnTo>
                      <a:pt x="590" y="170"/>
                    </a:lnTo>
                    <a:lnTo>
                      <a:pt x="576" y="168"/>
                    </a:lnTo>
                    <a:lnTo>
                      <a:pt x="561" y="165"/>
                    </a:lnTo>
                    <a:lnTo>
                      <a:pt x="547" y="158"/>
                    </a:lnTo>
                    <a:lnTo>
                      <a:pt x="533" y="151"/>
                    </a:lnTo>
                    <a:lnTo>
                      <a:pt x="522" y="143"/>
                    </a:lnTo>
                    <a:lnTo>
                      <a:pt x="512" y="134"/>
                    </a:lnTo>
                    <a:lnTo>
                      <a:pt x="504" y="125"/>
                    </a:lnTo>
                    <a:lnTo>
                      <a:pt x="493" y="111"/>
                    </a:lnTo>
                    <a:lnTo>
                      <a:pt x="490" y="98"/>
                    </a:lnTo>
                    <a:lnTo>
                      <a:pt x="490" y="88"/>
                    </a:lnTo>
                    <a:lnTo>
                      <a:pt x="492" y="80"/>
                    </a:lnTo>
                    <a:lnTo>
                      <a:pt x="494" y="68"/>
                    </a:lnTo>
                    <a:lnTo>
                      <a:pt x="497" y="51"/>
                    </a:lnTo>
                    <a:lnTo>
                      <a:pt x="497" y="30"/>
                    </a:lnTo>
                    <a:lnTo>
                      <a:pt x="497" y="9"/>
                    </a:lnTo>
                    <a:lnTo>
                      <a:pt x="485" y="9"/>
                    </a:lnTo>
                    <a:lnTo>
                      <a:pt x="474" y="8"/>
                    </a:lnTo>
                    <a:lnTo>
                      <a:pt x="461" y="8"/>
                    </a:lnTo>
                    <a:lnTo>
                      <a:pt x="447" y="7"/>
                    </a:lnTo>
                    <a:lnTo>
                      <a:pt x="436" y="7"/>
                    </a:lnTo>
                    <a:lnTo>
                      <a:pt x="424" y="6"/>
                    </a:lnTo>
                    <a:lnTo>
                      <a:pt x="415" y="6"/>
                    </a:lnTo>
                    <a:lnTo>
                      <a:pt x="408" y="6"/>
                    </a:lnTo>
                    <a:lnTo>
                      <a:pt x="395" y="6"/>
                    </a:lnTo>
                    <a:lnTo>
                      <a:pt x="384" y="7"/>
                    </a:lnTo>
                    <a:lnTo>
                      <a:pt x="371" y="8"/>
                    </a:lnTo>
                    <a:lnTo>
                      <a:pt x="360" y="9"/>
                    </a:lnTo>
                    <a:lnTo>
                      <a:pt x="348" y="12"/>
                    </a:lnTo>
                    <a:lnTo>
                      <a:pt x="337" y="14"/>
                    </a:lnTo>
                    <a:lnTo>
                      <a:pt x="328" y="15"/>
                    </a:lnTo>
                    <a:lnTo>
                      <a:pt x="318" y="17"/>
                    </a:lnTo>
                    <a:lnTo>
                      <a:pt x="322" y="42"/>
                    </a:lnTo>
                    <a:lnTo>
                      <a:pt x="322" y="69"/>
                    </a:lnTo>
                    <a:lnTo>
                      <a:pt x="317" y="99"/>
                    </a:lnTo>
                    <a:lnTo>
                      <a:pt x="306" y="127"/>
                    </a:lnTo>
                    <a:lnTo>
                      <a:pt x="300" y="135"/>
                    </a:lnTo>
                    <a:lnTo>
                      <a:pt x="294" y="142"/>
                    </a:lnTo>
                    <a:lnTo>
                      <a:pt x="287" y="148"/>
                    </a:lnTo>
                    <a:lnTo>
                      <a:pt x="281" y="154"/>
                    </a:lnTo>
                    <a:lnTo>
                      <a:pt x="272" y="159"/>
                    </a:lnTo>
                    <a:lnTo>
                      <a:pt x="264" y="163"/>
                    </a:lnTo>
                    <a:lnTo>
                      <a:pt x="255" y="167"/>
                    </a:lnTo>
                    <a:lnTo>
                      <a:pt x="246" y="169"/>
                    </a:lnTo>
                    <a:lnTo>
                      <a:pt x="236" y="170"/>
                    </a:lnTo>
                    <a:lnTo>
                      <a:pt x="225" y="171"/>
                    </a:lnTo>
                    <a:lnTo>
                      <a:pt x="214" y="170"/>
                    </a:lnTo>
                    <a:lnTo>
                      <a:pt x="202" y="168"/>
                    </a:lnTo>
                    <a:lnTo>
                      <a:pt x="192" y="165"/>
                    </a:lnTo>
                    <a:lnTo>
                      <a:pt x="182" y="159"/>
                    </a:lnTo>
                    <a:lnTo>
                      <a:pt x="174" y="152"/>
                    </a:lnTo>
                    <a:lnTo>
                      <a:pt x="166" y="144"/>
                    </a:lnTo>
                    <a:lnTo>
                      <a:pt x="157" y="129"/>
                    </a:lnTo>
                    <a:lnTo>
                      <a:pt x="153" y="108"/>
                    </a:lnTo>
                    <a:lnTo>
                      <a:pt x="157" y="82"/>
                    </a:lnTo>
                    <a:lnTo>
                      <a:pt x="171" y="48"/>
                    </a:lnTo>
                    <a:lnTo>
                      <a:pt x="172" y="45"/>
                    </a:lnTo>
                    <a:lnTo>
                      <a:pt x="172" y="42"/>
                    </a:lnTo>
                    <a:lnTo>
                      <a:pt x="172" y="38"/>
                    </a:lnTo>
                    <a:lnTo>
                      <a:pt x="171" y="35"/>
                    </a:lnTo>
                    <a:lnTo>
                      <a:pt x="155" y="32"/>
                    </a:lnTo>
                    <a:lnTo>
                      <a:pt x="139" y="30"/>
                    </a:lnTo>
                    <a:lnTo>
                      <a:pt x="122" y="29"/>
                    </a:lnTo>
                    <a:lnTo>
                      <a:pt x="103" y="28"/>
                    </a:lnTo>
                    <a:lnTo>
                      <a:pt x="87" y="28"/>
                    </a:lnTo>
                    <a:lnTo>
                      <a:pt x="71" y="29"/>
                    </a:lnTo>
                    <a:lnTo>
                      <a:pt x="57" y="31"/>
                    </a:lnTo>
                    <a:lnTo>
                      <a:pt x="46" y="36"/>
                    </a:lnTo>
                    <a:lnTo>
                      <a:pt x="41" y="38"/>
                    </a:lnTo>
                    <a:lnTo>
                      <a:pt x="36" y="39"/>
                    </a:lnTo>
                    <a:lnTo>
                      <a:pt x="30" y="40"/>
                    </a:lnTo>
                    <a:lnTo>
                      <a:pt x="25" y="42"/>
                    </a:lnTo>
                    <a:lnTo>
                      <a:pt x="18" y="43"/>
                    </a:lnTo>
                    <a:lnTo>
                      <a:pt x="13" y="44"/>
                    </a:lnTo>
                    <a:lnTo>
                      <a:pt x="7" y="44"/>
                    </a:lnTo>
                    <a:lnTo>
                      <a:pt x="0" y="44"/>
                    </a:lnTo>
                    <a:lnTo>
                      <a:pt x="0" y="572"/>
                    </a:lnTo>
                    <a:lnTo>
                      <a:pt x="185" y="572"/>
                    </a:lnTo>
                    <a:lnTo>
                      <a:pt x="174" y="557"/>
                    </a:lnTo>
                    <a:lnTo>
                      <a:pt x="167" y="543"/>
                    </a:lnTo>
                    <a:lnTo>
                      <a:pt x="162" y="530"/>
                    </a:lnTo>
                    <a:lnTo>
                      <a:pt x="160" y="521"/>
                    </a:lnTo>
                    <a:lnTo>
                      <a:pt x="112" y="509"/>
                    </a:lnTo>
                    <a:lnTo>
                      <a:pt x="161" y="452"/>
                    </a:lnTo>
                    <a:lnTo>
                      <a:pt x="169" y="431"/>
                    </a:lnTo>
                    <a:lnTo>
                      <a:pt x="179" y="413"/>
                    </a:lnTo>
                    <a:lnTo>
                      <a:pt x="193" y="396"/>
                    </a:lnTo>
                    <a:lnTo>
                      <a:pt x="209" y="382"/>
                    </a:lnTo>
                    <a:lnTo>
                      <a:pt x="226" y="370"/>
                    </a:lnTo>
                    <a:lnTo>
                      <a:pt x="247" y="361"/>
                    </a:lnTo>
                    <a:lnTo>
                      <a:pt x="268" y="357"/>
                    </a:lnTo>
                    <a:lnTo>
                      <a:pt x="291" y="354"/>
                    </a:lnTo>
                    <a:lnTo>
                      <a:pt x="318" y="357"/>
                    </a:lnTo>
                    <a:lnTo>
                      <a:pt x="344" y="365"/>
                    </a:lnTo>
                    <a:lnTo>
                      <a:pt x="367" y="377"/>
                    </a:lnTo>
                    <a:lnTo>
                      <a:pt x="386" y="393"/>
                    </a:lnTo>
                    <a:lnTo>
                      <a:pt x="404" y="413"/>
                    </a:lnTo>
                    <a:lnTo>
                      <a:pt x="416" y="436"/>
                    </a:lnTo>
                    <a:lnTo>
                      <a:pt x="424" y="461"/>
                    </a:lnTo>
                    <a:lnTo>
                      <a:pt x="427" y="489"/>
                    </a:lnTo>
                    <a:lnTo>
                      <a:pt x="424" y="515"/>
                    </a:lnTo>
                    <a:lnTo>
                      <a:pt x="416" y="541"/>
                    </a:lnTo>
                    <a:lnTo>
                      <a:pt x="404" y="563"/>
                    </a:lnTo>
                    <a:lnTo>
                      <a:pt x="386" y="583"/>
                    </a:lnTo>
                    <a:lnTo>
                      <a:pt x="367" y="600"/>
                    </a:lnTo>
                    <a:lnTo>
                      <a:pt x="344" y="613"/>
                    </a:lnTo>
                    <a:lnTo>
                      <a:pt x="318" y="621"/>
                    </a:lnTo>
                    <a:lnTo>
                      <a:pt x="291" y="623"/>
                    </a:lnTo>
                    <a:lnTo>
                      <a:pt x="275" y="622"/>
                    </a:lnTo>
                    <a:lnTo>
                      <a:pt x="260" y="620"/>
                    </a:lnTo>
                    <a:lnTo>
                      <a:pt x="245" y="615"/>
                    </a:lnTo>
                    <a:lnTo>
                      <a:pt x="231" y="609"/>
                    </a:lnTo>
                    <a:lnTo>
                      <a:pt x="218" y="603"/>
                    </a:lnTo>
                    <a:lnTo>
                      <a:pt x="206" y="593"/>
                    </a:lnTo>
                    <a:lnTo>
                      <a:pt x="194" y="583"/>
                    </a:lnTo>
                    <a:lnTo>
                      <a:pt x="185" y="572"/>
                    </a:lnTo>
                    <a:lnTo>
                      <a:pt x="0" y="572"/>
                    </a:lnTo>
                    <a:lnTo>
                      <a:pt x="0" y="1000"/>
                    </a:lnTo>
                    <a:lnTo>
                      <a:pt x="143" y="991"/>
                    </a:lnTo>
                    <a:lnTo>
                      <a:pt x="141" y="964"/>
                    </a:lnTo>
                    <a:lnTo>
                      <a:pt x="144" y="933"/>
                    </a:lnTo>
                    <a:lnTo>
                      <a:pt x="152" y="903"/>
                    </a:lnTo>
                    <a:lnTo>
                      <a:pt x="168" y="875"/>
                    </a:lnTo>
                    <a:lnTo>
                      <a:pt x="176" y="867"/>
                    </a:lnTo>
                    <a:lnTo>
                      <a:pt x="184" y="861"/>
                    </a:lnTo>
                    <a:lnTo>
                      <a:pt x="193" y="858"/>
                    </a:lnTo>
                    <a:lnTo>
                      <a:pt x="202" y="855"/>
                    </a:lnTo>
                    <a:lnTo>
                      <a:pt x="213" y="857"/>
                    </a:lnTo>
                    <a:lnTo>
                      <a:pt x="222" y="858"/>
                    </a:lnTo>
                    <a:lnTo>
                      <a:pt x="232" y="862"/>
                    </a:lnTo>
                    <a:lnTo>
                      <a:pt x="241" y="868"/>
                    </a:lnTo>
                    <a:lnTo>
                      <a:pt x="252" y="876"/>
                    </a:lnTo>
                    <a:lnTo>
                      <a:pt x="260" y="885"/>
                    </a:lnTo>
                    <a:lnTo>
                      <a:pt x="267" y="897"/>
                    </a:lnTo>
                    <a:lnTo>
                      <a:pt x="272" y="908"/>
                    </a:lnTo>
                    <a:lnTo>
                      <a:pt x="276" y="921"/>
                    </a:lnTo>
                    <a:lnTo>
                      <a:pt x="277" y="934"/>
                    </a:lnTo>
                    <a:lnTo>
                      <a:pt x="275" y="945"/>
                    </a:lnTo>
                    <a:lnTo>
                      <a:pt x="270" y="957"/>
                    </a:lnTo>
                    <a:lnTo>
                      <a:pt x="268" y="965"/>
                    </a:lnTo>
                    <a:lnTo>
                      <a:pt x="269" y="976"/>
                    </a:lnTo>
                    <a:lnTo>
                      <a:pt x="272" y="991"/>
                    </a:lnTo>
                    <a:lnTo>
                      <a:pt x="277" y="1007"/>
                    </a:lnTo>
                    <a:lnTo>
                      <a:pt x="366" y="1014"/>
                    </a:lnTo>
                    <a:lnTo>
                      <a:pt x="376" y="980"/>
                    </a:lnTo>
                    <a:lnTo>
                      <a:pt x="381" y="964"/>
                    </a:lnTo>
                    <a:lnTo>
                      <a:pt x="399" y="964"/>
                    </a:lnTo>
                    <a:lnTo>
                      <a:pt x="547" y="964"/>
                    </a:lnTo>
                    <a:lnTo>
                      <a:pt x="563" y="964"/>
                    </a:lnTo>
                    <a:lnTo>
                      <a:pt x="569" y="977"/>
                    </a:lnTo>
                    <a:lnTo>
                      <a:pt x="589" y="1020"/>
                    </a:lnTo>
                    <a:lnTo>
                      <a:pt x="599" y="1019"/>
                    </a:lnTo>
                    <a:lnTo>
                      <a:pt x="610" y="1018"/>
                    </a:lnTo>
                    <a:lnTo>
                      <a:pt x="624" y="1016"/>
                    </a:lnTo>
                    <a:lnTo>
                      <a:pt x="638" y="1015"/>
                    </a:lnTo>
                    <a:lnTo>
                      <a:pt x="653" y="1014"/>
                    </a:lnTo>
                    <a:lnTo>
                      <a:pt x="667" y="1013"/>
                    </a:lnTo>
                    <a:lnTo>
                      <a:pt x="682" y="1012"/>
                    </a:lnTo>
                    <a:lnTo>
                      <a:pt x="696" y="1011"/>
                    </a:lnTo>
                    <a:lnTo>
                      <a:pt x="686" y="920"/>
                    </a:lnTo>
                    <a:lnTo>
                      <a:pt x="684" y="883"/>
                    </a:lnTo>
                    <a:lnTo>
                      <a:pt x="710" y="883"/>
                    </a:lnTo>
                    <a:lnTo>
                      <a:pt x="779" y="883"/>
                    </a:lnTo>
                    <a:lnTo>
                      <a:pt x="796" y="882"/>
                    </a:lnTo>
                    <a:lnTo>
                      <a:pt x="810" y="878"/>
                    </a:lnTo>
                    <a:lnTo>
                      <a:pt x="823" y="874"/>
                    </a:lnTo>
                    <a:lnTo>
                      <a:pt x="832" y="867"/>
                    </a:lnTo>
                    <a:lnTo>
                      <a:pt x="840" y="858"/>
                    </a:lnTo>
                    <a:lnTo>
                      <a:pt x="846" y="846"/>
                    </a:lnTo>
                    <a:lnTo>
                      <a:pt x="850" y="834"/>
                    </a:lnTo>
                    <a:lnTo>
                      <a:pt x="851" y="819"/>
                    </a:lnTo>
                    <a:lnTo>
                      <a:pt x="851" y="812"/>
                    </a:lnTo>
                    <a:lnTo>
                      <a:pt x="850" y="807"/>
                    </a:lnTo>
                    <a:lnTo>
                      <a:pt x="848" y="805"/>
                    </a:lnTo>
                    <a:lnTo>
                      <a:pt x="848" y="80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167120" y="3616920"/>
                <a:ext cx="1198080" cy="92664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828720" y="3357720"/>
              <a:ext cx="17272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600" spc="-1" strike="noStrike">
                  <a:solidFill>
                    <a:srgbClr val="000000"/>
                  </a:solidFill>
                  <a:latin typeface="Arial"/>
                </a:rPr>
                <a:t>Campanii de informare in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v</a:t>
              </a:r>
              <a:r>
                <a:rPr b="1" lang="ro-RO" sz="1600" spc="-1" strike="noStrike">
                  <a:solidFill>
                    <a:srgbClr val="000000"/>
                  </a:solidFill>
                  <a:latin typeface="Arial"/>
                </a:rPr>
                <a:t>ederea promovarii oportunitatilor de finanta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900000" y="1628640"/>
            <a:ext cx="2169360" cy="1645920"/>
            <a:chOff x="900000" y="1628640"/>
            <a:chExt cx="2169360" cy="1645920"/>
          </a:xfrm>
        </p:grpSpPr>
        <p:grpSp>
          <p:nvGrpSpPr>
            <p:cNvPr id="312" name=""/>
            <p:cNvGrpSpPr/>
            <p:nvPr/>
          </p:nvGrpSpPr>
          <p:grpSpPr>
            <a:xfrm>
              <a:off x="900000" y="1628640"/>
              <a:ext cx="2169360" cy="1645920"/>
              <a:chOff x="900000" y="1628640"/>
              <a:chExt cx="2169360" cy="1645920"/>
            </a:xfrm>
          </p:grpSpPr>
          <p:sp>
            <p:nvSpPr>
              <p:cNvPr id="313" name=""/>
              <p:cNvSpPr/>
              <p:nvPr/>
            </p:nvSpPr>
            <p:spPr>
              <a:xfrm>
                <a:off x="900000" y="1628640"/>
                <a:ext cx="2169360" cy="1645920"/>
              </a:xfrm>
              <a:custGeom>
                <a:avLst/>
                <a:gdLst/>
                <a:ahLst/>
                <a:rect l="l" t="t" r="r" b="b"/>
                <a:pathLst>
                  <a:path w="678" h="739">
                    <a:moveTo>
                      <a:pt x="673" y="547"/>
                    </a:moveTo>
                    <a:lnTo>
                      <a:pt x="673" y="546"/>
                    </a:lnTo>
                    <a:lnTo>
                      <a:pt x="674" y="531"/>
                    </a:lnTo>
                    <a:lnTo>
                      <a:pt x="676" y="499"/>
                    </a:lnTo>
                    <a:lnTo>
                      <a:pt x="677" y="462"/>
                    </a:lnTo>
                    <a:lnTo>
                      <a:pt x="678" y="437"/>
                    </a:lnTo>
                    <a:lnTo>
                      <a:pt x="677" y="413"/>
                    </a:lnTo>
                    <a:lnTo>
                      <a:pt x="675" y="389"/>
                    </a:lnTo>
                    <a:lnTo>
                      <a:pt x="670" y="366"/>
                    </a:lnTo>
                    <a:lnTo>
                      <a:pt x="667" y="347"/>
                    </a:lnTo>
                    <a:lnTo>
                      <a:pt x="655" y="348"/>
                    </a:lnTo>
                    <a:lnTo>
                      <a:pt x="643" y="349"/>
                    </a:lnTo>
                    <a:lnTo>
                      <a:pt x="629" y="351"/>
                    </a:lnTo>
                    <a:lnTo>
                      <a:pt x="614" y="351"/>
                    </a:lnTo>
                    <a:lnTo>
                      <a:pt x="600" y="348"/>
                    </a:lnTo>
                    <a:lnTo>
                      <a:pt x="585" y="345"/>
                    </a:lnTo>
                    <a:lnTo>
                      <a:pt x="571" y="340"/>
                    </a:lnTo>
                    <a:lnTo>
                      <a:pt x="558" y="333"/>
                    </a:lnTo>
                    <a:lnTo>
                      <a:pt x="550" y="329"/>
                    </a:lnTo>
                    <a:lnTo>
                      <a:pt x="543" y="322"/>
                    </a:lnTo>
                    <a:lnTo>
                      <a:pt x="536" y="316"/>
                    </a:lnTo>
                    <a:lnTo>
                      <a:pt x="530" y="308"/>
                    </a:lnTo>
                    <a:lnTo>
                      <a:pt x="525" y="301"/>
                    </a:lnTo>
                    <a:lnTo>
                      <a:pt x="521" y="292"/>
                    </a:lnTo>
                    <a:lnTo>
                      <a:pt x="517" y="283"/>
                    </a:lnTo>
                    <a:lnTo>
                      <a:pt x="515" y="274"/>
                    </a:lnTo>
                    <a:lnTo>
                      <a:pt x="513" y="253"/>
                    </a:lnTo>
                    <a:lnTo>
                      <a:pt x="516" y="231"/>
                    </a:lnTo>
                    <a:lnTo>
                      <a:pt x="524" y="210"/>
                    </a:lnTo>
                    <a:lnTo>
                      <a:pt x="539" y="193"/>
                    </a:lnTo>
                    <a:lnTo>
                      <a:pt x="546" y="189"/>
                    </a:lnTo>
                    <a:lnTo>
                      <a:pt x="554" y="185"/>
                    </a:lnTo>
                    <a:lnTo>
                      <a:pt x="564" y="183"/>
                    </a:lnTo>
                    <a:lnTo>
                      <a:pt x="576" y="182"/>
                    </a:lnTo>
                    <a:lnTo>
                      <a:pt x="587" y="182"/>
                    </a:lnTo>
                    <a:lnTo>
                      <a:pt x="602" y="185"/>
                    </a:lnTo>
                    <a:lnTo>
                      <a:pt x="618" y="191"/>
                    </a:lnTo>
                    <a:lnTo>
                      <a:pt x="636" y="199"/>
                    </a:lnTo>
                    <a:lnTo>
                      <a:pt x="639" y="200"/>
                    </a:lnTo>
                    <a:lnTo>
                      <a:pt x="643" y="200"/>
                    </a:lnTo>
                    <a:lnTo>
                      <a:pt x="646" y="200"/>
                    </a:lnTo>
                    <a:lnTo>
                      <a:pt x="650" y="199"/>
                    </a:lnTo>
                    <a:lnTo>
                      <a:pt x="654" y="167"/>
                    </a:lnTo>
                    <a:lnTo>
                      <a:pt x="656" y="132"/>
                    </a:lnTo>
                    <a:lnTo>
                      <a:pt x="655" y="100"/>
                    </a:lnTo>
                    <a:lnTo>
                      <a:pt x="648" y="74"/>
                    </a:lnTo>
                    <a:lnTo>
                      <a:pt x="643" y="59"/>
                    </a:lnTo>
                    <a:lnTo>
                      <a:pt x="640" y="41"/>
                    </a:lnTo>
                    <a:lnTo>
                      <a:pt x="639" y="21"/>
                    </a:lnTo>
                    <a:lnTo>
                      <a:pt x="640" y="0"/>
                    </a:lnTo>
                    <a:lnTo>
                      <a:pt x="302" y="0"/>
                    </a:lnTo>
                    <a:lnTo>
                      <a:pt x="326" y="148"/>
                    </a:lnTo>
                    <a:lnTo>
                      <a:pt x="344" y="154"/>
                    </a:lnTo>
                    <a:lnTo>
                      <a:pt x="361" y="161"/>
                    </a:lnTo>
                    <a:lnTo>
                      <a:pt x="376" y="171"/>
                    </a:lnTo>
                    <a:lnTo>
                      <a:pt x="390" y="182"/>
                    </a:lnTo>
                    <a:lnTo>
                      <a:pt x="401" y="195"/>
                    </a:lnTo>
                    <a:lnTo>
                      <a:pt x="412" y="209"/>
                    </a:lnTo>
                    <a:lnTo>
                      <a:pt x="421" y="225"/>
                    </a:lnTo>
                    <a:lnTo>
                      <a:pt x="427" y="243"/>
                    </a:lnTo>
                    <a:lnTo>
                      <a:pt x="476" y="300"/>
                    </a:lnTo>
                    <a:lnTo>
                      <a:pt x="428" y="313"/>
                    </a:lnTo>
                    <a:lnTo>
                      <a:pt x="421" y="335"/>
                    </a:lnTo>
                    <a:lnTo>
                      <a:pt x="409" y="354"/>
                    </a:lnTo>
                    <a:lnTo>
                      <a:pt x="397" y="371"/>
                    </a:lnTo>
                    <a:lnTo>
                      <a:pt x="381" y="386"/>
                    </a:lnTo>
                    <a:lnTo>
                      <a:pt x="362" y="399"/>
                    </a:lnTo>
                    <a:lnTo>
                      <a:pt x="341" y="408"/>
                    </a:lnTo>
                    <a:lnTo>
                      <a:pt x="320" y="414"/>
                    </a:lnTo>
                    <a:lnTo>
                      <a:pt x="297" y="416"/>
                    </a:lnTo>
                    <a:lnTo>
                      <a:pt x="269" y="414"/>
                    </a:lnTo>
                    <a:lnTo>
                      <a:pt x="244" y="406"/>
                    </a:lnTo>
                    <a:lnTo>
                      <a:pt x="221" y="393"/>
                    </a:lnTo>
                    <a:lnTo>
                      <a:pt x="201" y="376"/>
                    </a:lnTo>
                    <a:lnTo>
                      <a:pt x="184" y="356"/>
                    </a:lnTo>
                    <a:lnTo>
                      <a:pt x="171" y="333"/>
                    </a:lnTo>
                    <a:lnTo>
                      <a:pt x="163" y="308"/>
                    </a:lnTo>
                    <a:lnTo>
                      <a:pt x="161" y="281"/>
                    </a:lnTo>
                    <a:lnTo>
                      <a:pt x="163" y="253"/>
                    </a:lnTo>
                    <a:lnTo>
                      <a:pt x="171" y="228"/>
                    </a:lnTo>
                    <a:lnTo>
                      <a:pt x="184" y="205"/>
                    </a:lnTo>
                    <a:lnTo>
                      <a:pt x="201" y="185"/>
                    </a:lnTo>
                    <a:lnTo>
                      <a:pt x="221" y="168"/>
                    </a:lnTo>
                    <a:lnTo>
                      <a:pt x="244" y="155"/>
                    </a:lnTo>
                    <a:lnTo>
                      <a:pt x="269" y="147"/>
                    </a:lnTo>
                    <a:lnTo>
                      <a:pt x="297" y="145"/>
                    </a:lnTo>
                    <a:lnTo>
                      <a:pt x="302" y="145"/>
                    </a:lnTo>
                    <a:lnTo>
                      <a:pt x="312" y="146"/>
                    </a:lnTo>
                    <a:lnTo>
                      <a:pt x="321" y="148"/>
                    </a:lnTo>
                    <a:lnTo>
                      <a:pt x="326" y="148"/>
                    </a:lnTo>
                    <a:lnTo>
                      <a:pt x="302" y="0"/>
                    </a:lnTo>
                    <a:lnTo>
                      <a:pt x="0" y="0"/>
                    </a:lnTo>
                    <a:lnTo>
                      <a:pt x="0" y="613"/>
                    </a:lnTo>
                    <a:lnTo>
                      <a:pt x="7" y="613"/>
                    </a:lnTo>
                    <a:lnTo>
                      <a:pt x="14" y="612"/>
                    </a:lnTo>
                    <a:lnTo>
                      <a:pt x="20" y="610"/>
                    </a:lnTo>
                    <a:lnTo>
                      <a:pt x="24" y="608"/>
                    </a:lnTo>
                    <a:lnTo>
                      <a:pt x="46" y="600"/>
                    </a:lnTo>
                    <a:lnTo>
                      <a:pt x="71" y="597"/>
                    </a:lnTo>
                    <a:lnTo>
                      <a:pt x="98" y="595"/>
                    </a:lnTo>
                    <a:lnTo>
                      <a:pt x="124" y="597"/>
                    </a:lnTo>
                    <a:lnTo>
                      <a:pt x="148" y="599"/>
                    </a:lnTo>
                    <a:lnTo>
                      <a:pt x="169" y="602"/>
                    </a:lnTo>
                    <a:lnTo>
                      <a:pt x="184" y="605"/>
                    </a:lnTo>
                    <a:lnTo>
                      <a:pt x="192" y="607"/>
                    </a:lnTo>
                    <a:lnTo>
                      <a:pt x="201" y="608"/>
                    </a:lnTo>
                    <a:lnTo>
                      <a:pt x="206" y="616"/>
                    </a:lnTo>
                    <a:lnTo>
                      <a:pt x="214" y="629"/>
                    </a:lnTo>
                    <a:lnTo>
                      <a:pt x="220" y="646"/>
                    </a:lnTo>
                    <a:lnTo>
                      <a:pt x="220" y="666"/>
                    </a:lnTo>
                    <a:lnTo>
                      <a:pt x="213" y="687"/>
                    </a:lnTo>
                    <a:lnTo>
                      <a:pt x="206" y="701"/>
                    </a:lnTo>
                    <a:lnTo>
                      <a:pt x="201" y="714"/>
                    </a:lnTo>
                    <a:lnTo>
                      <a:pt x="201" y="724"/>
                    </a:lnTo>
                    <a:lnTo>
                      <a:pt x="203" y="731"/>
                    </a:lnTo>
                    <a:lnTo>
                      <a:pt x="209" y="736"/>
                    </a:lnTo>
                    <a:lnTo>
                      <a:pt x="216" y="738"/>
                    </a:lnTo>
                    <a:lnTo>
                      <a:pt x="226" y="739"/>
                    </a:lnTo>
                    <a:lnTo>
                      <a:pt x="236" y="738"/>
                    </a:lnTo>
                    <a:lnTo>
                      <a:pt x="245" y="736"/>
                    </a:lnTo>
                    <a:lnTo>
                      <a:pt x="252" y="731"/>
                    </a:lnTo>
                    <a:lnTo>
                      <a:pt x="259" y="725"/>
                    </a:lnTo>
                    <a:lnTo>
                      <a:pt x="264" y="719"/>
                    </a:lnTo>
                    <a:lnTo>
                      <a:pt x="272" y="693"/>
                    </a:lnTo>
                    <a:lnTo>
                      <a:pt x="275" y="666"/>
                    </a:lnTo>
                    <a:lnTo>
                      <a:pt x="271" y="640"/>
                    </a:lnTo>
                    <a:lnTo>
                      <a:pt x="268" y="622"/>
                    </a:lnTo>
                    <a:lnTo>
                      <a:pt x="261" y="599"/>
                    </a:lnTo>
                    <a:lnTo>
                      <a:pt x="284" y="593"/>
                    </a:lnTo>
                    <a:lnTo>
                      <a:pt x="287" y="592"/>
                    </a:lnTo>
                    <a:lnTo>
                      <a:pt x="297" y="590"/>
                    </a:lnTo>
                    <a:lnTo>
                      <a:pt x="309" y="586"/>
                    </a:lnTo>
                    <a:lnTo>
                      <a:pt x="325" y="583"/>
                    </a:lnTo>
                    <a:lnTo>
                      <a:pt x="344" y="579"/>
                    </a:lnTo>
                    <a:lnTo>
                      <a:pt x="364" y="577"/>
                    </a:lnTo>
                    <a:lnTo>
                      <a:pt x="386" y="575"/>
                    </a:lnTo>
                    <a:lnTo>
                      <a:pt x="408" y="574"/>
                    </a:lnTo>
                    <a:lnTo>
                      <a:pt x="420" y="574"/>
                    </a:lnTo>
                    <a:lnTo>
                      <a:pt x="435" y="575"/>
                    </a:lnTo>
                    <a:lnTo>
                      <a:pt x="453" y="576"/>
                    </a:lnTo>
                    <a:lnTo>
                      <a:pt x="471" y="576"/>
                    </a:lnTo>
                    <a:lnTo>
                      <a:pt x="490" y="577"/>
                    </a:lnTo>
                    <a:lnTo>
                      <a:pt x="505" y="578"/>
                    </a:lnTo>
                    <a:lnTo>
                      <a:pt x="516" y="579"/>
                    </a:lnTo>
                    <a:lnTo>
                      <a:pt x="521" y="579"/>
                    </a:lnTo>
                    <a:lnTo>
                      <a:pt x="541" y="581"/>
                    </a:lnTo>
                    <a:lnTo>
                      <a:pt x="544" y="601"/>
                    </a:lnTo>
                    <a:lnTo>
                      <a:pt x="544" y="618"/>
                    </a:lnTo>
                    <a:lnTo>
                      <a:pt x="545" y="647"/>
                    </a:lnTo>
                    <a:lnTo>
                      <a:pt x="544" y="679"/>
                    </a:lnTo>
                    <a:lnTo>
                      <a:pt x="538" y="708"/>
                    </a:lnTo>
                    <a:lnTo>
                      <a:pt x="541" y="713"/>
                    </a:lnTo>
                    <a:lnTo>
                      <a:pt x="546" y="717"/>
                    </a:lnTo>
                    <a:lnTo>
                      <a:pt x="553" y="722"/>
                    </a:lnTo>
                    <a:lnTo>
                      <a:pt x="560" y="728"/>
                    </a:lnTo>
                    <a:lnTo>
                      <a:pt x="568" y="732"/>
                    </a:lnTo>
                    <a:lnTo>
                      <a:pt x="577" y="736"/>
                    </a:lnTo>
                    <a:lnTo>
                      <a:pt x="585" y="738"/>
                    </a:lnTo>
                    <a:lnTo>
                      <a:pt x="592" y="738"/>
                    </a:lnTo>
                    <a:lnTo>
                      <a:pt x="594" y="738"/>
                    </a:lnTo>
                    <a:lnTo>
                      <a:pt x="597" y="738"/>
                    </a:lnTo>
                    <a:lnTo>
                      <a:pt x="597" y="737"/>
                    </a:lnTo>
                    <a:lnTo>
                      <a:pt x="598" y="735"/>
                    </a:lnTo>
                    <a:lnTo>
                      <a:pt x="600" y="721"/>
                    </a:lnTo>
                    <a:lnTo>
                      <a:pt x="600" y="709"/>
                    </a:lnTo>
                    <a:lnTo>
                      <a:pt x="597" y="698"/>
                    </a:lnTo>
                    <a:lnTo>
                      <a:pt x="593" y="687"/>
                    </a:lnTo>
                    <a:lnTo>
                      <a:pt x="589" y="675"/>
                    </a:lnTo>
                    <a:lnTo>
                      <a:pt x="585" y="661"/>
                    </a:lnTo>
                    <a:lnTo>
                      <a:pt x="584" y="646"/>
                    </a:lnTo>
                    <a:lnTo>
                      <a:pt x="586" y="629"/>
                    </a:lnTo>
                    <a:lnTo>
                      <a:pt x="591" y="612"/>
                    </a:lnTo>
                    <a:lnTo>
                      <a:pt x="594" y="601"/>
                    </a:lnTo>
                    <a:lnTo>
                      <a:pt x="597" y="594"/>
                    </a:lnTo>
                    <a:lnTo>
                      <a:pt x="597" y="591"/>
                    </a:lnTo>
                    <a:lnTo>
                      <a:pt x="597" y="569"/>
                    </a:lnTo>
                    <a:lnTo>
                      <a:pt x="621" y="569"/>
                    </a:lnTo>
                    <a:lnTo>
                      <a:pt x="674" y="569"/>
                    </a:lnTo>
                    <a:lnTo>
                      <a:pt x="673" y="548"/>
                    </a:lnTo>
                    <a:lnTo>
                      <a:pt x="673" y="547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334520" y="1831680"/>
                <a:ext cx="1161720" cy="90864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1622520" y="194004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973080" y="1628640"/>
            <a:ext cx="1654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sterea gradului de absorbtie a fondurilor europ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50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500"/>
                            </p:stCondLst>
                            <p:childTnLst>
                              <p:par>
                                <p:cTn id="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50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1"/>
          <p:cNvSpPr/>
          <p:nvPr/>
        </p:nvSpPr>
        <p:spPr>
          <a:xfrm>
            <a:off x="500040" y="2373480"/>
            <a:ext cx="7858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eeed99"/>
                </a:solidFill>
                <a:latin typeface="Georgia"/>
              </a:rPr>
              <a:t>Vă mulţum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500040" y="6072120"/>
            <a:ext cx="400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d99"/>
                </a:solidFill>
                <a:latin typeface="Georgia"/>
              </a:rPr>
              <a:t>Copyright © CEC Bank 2008</a:t>
            </a:r>
            <a:r>
              <a:rPr b="0" lang="en-US" sz="1200" spc="-1" strike="noStrike">
                <a:solidFill>
                  <a:srgbClr val="eeed99"/>
                </a:solidFill>
                <a:latin typeface="Georgia"/>
              </a:rPr>
              <a:t>	</a:t>
            </a:r>
            <a:r>
              <a:rPr b="0" lang="en-US" sz="1200" spc="-1" strike="noStrike">
                <a:solidFill>
                  <a:srgbClr val="eeed99"/>
                </a:solidFill>
                <a:latin typeface="Georgia"/>
              </a:rPr>
              <a:t>www.cec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571680" y="6072120"/>
            <a:ext cx="40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opyright © CEC Bank 2010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www.cec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611280" y="1268280"/>
            <a:ext cx="37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2178000"/>
            <a:ext cx="8209080" cy="720720"/>
          </a:xfrm>
          <a:prstGeom prst="roundRect">
            <a:avLst>
              <a:gd name="adj" fmla="val 16667"/>
            </a:avLst>
          </a:prstGeom>
          <a:solidFill>
            <a:srgbClr val="0048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7360" y="1990800"/>
            <a:ext cx="833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zentare generala CEC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inantari CEC Bank in agric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oduse de finantare CEC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portunitati de finantare din fonduri europene - PN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571680" y="6524640"/>
            <a:ext cx="738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opyright © CEC Bank 2010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www.cec.ro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844640"/>
            <a:ext cx="842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Cea mai larga acoperire teritori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Din luna mai 2008 CEC a devenit CEC Bank, banca comerciala univers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Implicare activa atat pe segmentul IMM, cat si in finantarea Administratiilor Publice Lo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daptare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tinua a 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portofoliului de produse la cerintele pie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trategie de vanzare si comunicare personaliz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5840" y="1340640"/>
            <a:ext cx="39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ezentare generala CEC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571680" y="6524640"/>
            <a:ext cx="738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opyright © CEC Bank 2010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www.cec.ro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59280" y="1819440"/>
            <a:ext cx="4038480" cy="4622760"/>
          </a:xfrm>
          <a:prstGeom prst="rect">
            <a:avLst/>
          </a:prstGeom>
          <a:solidFill>
            <a:srgbClr val="eeece1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219640" y="4065480"/>
          <a:ext cx="3456000" cy="221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19640" y="4065480"/>
                    <a:ext cx="345600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63520" y="4352760"/>
            <a:ext cx="433440" cy="2089440"/>
          </a:xfrm>
          <a:custGeom>
            <a:avLst/>
            <a:gdLst>
              <a:gd name="textAreaLeft" fmla="*/ 0 w 433440"/>
              <a:gd name="textAreaRight" fmla="*/ 433800 w 433440"/>
              <a:gd name="textAreaTop" fmla="*/ 0 h 2089440"/>
              <a:gd name="textAreaBottom" fmla="*/ 2089800 h 20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4960" y="1808280"/>
            <a:ext cx="3961080" cy="2496960"/>
          </a:xfrm>
          <a:prstGeom prst="rect">
            <a:avLst/>
          </a:prstGeom>
          <a:ln w="19080">
            <a:solidFill>
              <a:srgbClr val="008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755640" y="4352760"/>
            <a:ext cx="35290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1200" spc="-1" strike="noStrike">
                <a:solidFill>
                  <a:srgbClr val="000000"/>
                </a:solidFill>
                <a:latin typeface="Arial"/>
              </a:rPr>
              <a:t>CEC Bank trebuie sa fie o banca comerciala universala, competitiva, care sa ofere clientilor produse si servicii diverse si de calitate, urmarind cu precadere finantarea IMM-urilor, agriculturii, administratiilor publice locale, precum si a acelor proiecte bancabile care prin natura lor, contribuie la dezvoltarea economica, crearea si mentinerea locurilor de munca. Banca va fi un element activ in sprijinirea clientilor pentru accesarea fondurilor europene. O atentie deosebita va fi acordata in continuare relatiei cu populatia Roman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9640" y="4357800"/>
            <a:ext cx="3419640" cy="208908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7120" y="4494240"/>
            <a:ext cx="349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3215520" y="4149000"/>
            <a:ext cx="2712960" cy="142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02120" y="1870200"/>
            <a:ext cx="40626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EC Bank in cifre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... 1.251 unitati in mediul urban si ru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proximativ 3.000.000 de client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proximativ 800.000 de carduri emi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45 de ani de activitate bancar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ste 6.500 de angajati la dispozitia clientil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994.794 mii lei capital soci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8400" y="1195920"/>
            <a:ext cx="39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ezentare generala CEC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571680" y="6072120"/>
            <a:ext cx="40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opyright © CEC Bank 2010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www.cec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611280" y="1268280"/>
            <a:ext cx="37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2924280"/>
            <a:ext cx="8209080" cy="720720"/>
          </a:xfrm>
          <a:prstGeom prst="roundRect">
            <a:avLst>
              <a:gd name="adj" fmla="val 16667"/>
            </a:avLst>
          </a:prstGeom>
          <a:solidFill>
            <a:srgbClr val="0048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7360" y="1990800"/>
            <a:ext cx="833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rezent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a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CEC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Finantari CEC Bank in agric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roduse de finantare CEC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Oportunitati de finantare din fonduri europene - PN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9640" y="2060640"/>
            <a:ext cx="8280360" cy="3887640"/>
          </a:xfrm>
          <a:prstGeom prst="roundRect">
            <a:avLst>
              <a:gd name="adj" fmla="val 16667"/>
            </a:avLst>
          </a:prstGeom>
          <a:solidFill>
            <a:srgbClr val="eee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571680" y="6467400"/>
            <a:ext cx="738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opyright © CEC Bank 2010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www.cec.ro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2520" y="2224080"/>
            <a:ext cx="5614920" cy="40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Moderniz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fer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r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agric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chizit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de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echipamente agric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Dezvoltarea ser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iilor de proiectare/ arhite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onstructi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fe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/ siloz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Moderniz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i constructia de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s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chizit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de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utilaje de for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1197000"/>
            <a:ext cx="842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Tipuri de proiecte realizate in agricultura cu finantare CEC Ba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571680" y="6524640"/>
            <a:ext cx="738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opyright © CEC Bank 2010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www.cec.ro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24000" y="1773360"/>
          <a:ext cx="8272440" cy="36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773360"/>
                    <a:ext cx="8272440" cy="3671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71785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246960" y="1267560"/>
            <a:ext cx="692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istributia creditelor acordate pe programe de finan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589720"/>
            <a:ext cx="8351640" cy="934920"/>
          </a:xfrm>
          <a:prstGeom prst="rect">
            <a:avLst/>
          </a:prstGeom>
          <a:solidFill>
            <a:srgbClr val="eee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5589720"/>
            <a:ext cx="84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Experienta acumulata pe programele de pre-aderare se reflecta in rezultatele inregistrate de CEC Bank in ceea ce priveste proiectele pe agricultura, reprezentand totodata baza teoretica pentru implementarea proiectelor din alte programe operat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571680" y="6072120"/>
            <a:ext cx="40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opyright © CEC Bank 2010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www.cec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611280" y="1268280"/>
            <a:ext cx="37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3571920"/>
            <a:ext cx="8209080" cy="720720"/>
          </a:xfrm>
          <a:prstGeom prst="roundRect">
            <a:avLst>
              <a:gd name="adj" fmla="val 16667"/>
            </a:avLst>
          </a:prstGeom>
          <a:solidFill>
            <a:srgbClr val="0048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7360" y="1990800"/>
            <a:ext cx="833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zentare generala CEC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inantari CEC Bank in agric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roduse de finantare CEC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portunitati de finantare din fonduri europene - PN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4:19:03Z</dcterms:created>
  <dc:creator>Dan Samoila</dc:creator>
  <dc:description/>
  <dc:language>en-US</dc:language>
  <cp:lastModifiedBy>Ioana</cp:lastModifiedBy>
  <dcterms:modified xsi:type="dcterms:W3CDTF">2010-09-24T06:11:06Z</dcterms:modified>
  <cp:revision>154</cp:revision>
  <dc:subject/>
  <dc:title>Slide 1</dc:title>
</cp:coreProperties>
</file>