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9.wmf" ContentType="image/x-wmf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F5A0-65B0-4360-BDD6-E9F5D9FFE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 we follow is quite 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 the brand measures,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 about the experience/exposure to the various touch-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model and derive the relationships between the two:  between touch-points and brand meas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827064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680" y="4014360"/>
            <a:ext cx="827064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6680" y="401436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960" y="401436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3160" y="154152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9640" y="154152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6680" y="401436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3160" y="401436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9640" y="401436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36680" y="1541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79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3920" y="178920"/>
            <a:ext cx="7466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479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6680" y="401436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36680" y="1541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79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960" y="401436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680" y="4014360"/>
            <a:ext cx="827064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827064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680" y="4014360"/>
            <a:ext cx="827064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6680" y="401436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960" y="401436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3160" y="154152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9640" y="154152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36680" y="401436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3160" y="401436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9640" y="4014360"/>
            <a:ext cx="266292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3920" y="178920"/>
            <a:ext cx="7466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479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6680" y="401436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960" y="401436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41520"/>
            <a:ext cx="403596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6680" y="4014360"/>
            <a:ext cx="8270640" cy="22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4600" y="1184400"/>
            <a:ext cx="596880" cy="550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74600" y="158760"/>
            <a:ext cx="8761320" cy="1044720"/>
            <a:chOff x="174600" y="158760"/>
            <a:chExt cx="8761320" cy="1044720"/>
          </a:xfrm>
        </p:grpSpPr>
        <p:sp>
          <p:nvSpPr>
            <p:cNvPr id="2" name=""/>
            <p:cNvSpPr/>
            <p:nvPr/>
          </p:nvSpPr>
          <p:spPr>
            <a:xfrm>
              <a:off x="174600" y="158760"/>
              <a:ext cx="944640" cy="1044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123920" y="158760"/>
              <a:ext cx="7812000" cy="1042920"/>
            </a:xfrm>
            <a:prstGeom prst="rect">
              <a:avLst/>
            </a:prstGeom>
            <a:gradFill rotWithShape="0">
              <a:gsLst>
                <a:gs pos="0">
                  <a:srgbClr val="5d5d83"/>
                </a:gs>
                <a:gs pos="50000">
                  <a:srgbClr val="7b7bad"/>
                </a:gs>
                <a:gs pos="100000">
                  <a:srgbClr val="5d5d83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91960" y="341280"/>
              <a:ext cx="711360" cy="649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36680" y="1541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7b7bad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a8a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a8a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000" y="6404040"/>
            <a:ext cx="69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85FF-BCAB-46A5-8DAA-BC47CC6E8D3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4520" y="6537240"/>
            <a:ext cx="174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Arial"/>
              </a:rPr>
              <a:t>Copyright, 2008, Ip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6232680" y="6305400"/>
            <a:ext cx="2809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30440" y="1855800"/>
            <a:ext cx="7356240" cy="4811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1885680"/>
            <a:ext cx="68547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" y="176040"/>
            <a:ext cx="1455840" cy="6513840"/>
          </a:xfrm>
          <a:prstGeom prst="rect">
            <a:avLst/>
          </a:prstGeom>
          <a:gradFill rotWithShape="0">
            <a:gsLst>
              <a:gs pos="0">
                <a:srgbClr val="4c5266"/>
              </a:gs>
              <a:gs pos="50000">
                <a:srgbClr val="a7b4de"/>
              </a:gs>
              <a:gs pos="100000">
                <a:srgbClr val="4c52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1851120"/>
            <a:ext cx="1463400" cy="136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3680" y="1981080"/>
            <a:ext cx="124308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172200" y="6219720"/>
            <a:ext cx="280980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9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79c"/>
              </a:solidFill>
              <a:latin typeface="Arial"/>
            </a:endParaRPr>
          </a:p>
          <a:p>
            <a:pPr lvl="1" marL="46656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7b7bad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a8a0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a8a0"/>
              </a:buClr>
              <a:buSzPct val="7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tell.fll.purdue.edu/JapanProj/FLClipart/Verbs/pull.gif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2760" y="3204720"/>
            <a:ext cx="6961320" cy="131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0099"/>
                </a:solidFill>
                <a:latin typeface="Arial"/>
              </a:rPr>
              <a:t>Lessons Learned </a:t>
            </a:r>
            <a:br>
              <a:rPr sz="4600"/>
            </a:br>
            <a:r>
              <a:rPr b="1" i="1" lang="en-US" sz="4600" spc="-1" strike="noStrike">
                <a:solidFill>
                  <a:srgbClr val="000099"/>
                </a:solidFill>
                <a:latin typeface="Arial"/>
              </a:rPr>
              <a:t>from </a:t>
            </a:r>
            <a:br>
              <a:rPr sz="4600"/>
            </a:br>
            <a:r>
              <a:rPr b="1" i="1" lang="en-US" sz="4600" spc="-1" strike="noStrike">
                <a:solidFill>
                  <a:srgbClr val="000099"/>
                </a:solidFill>
                <a:latin typeface="Arial"/>
              </a:rPr>
              <a:t>Holistic Marketing</a:t>
            </a:r>
            <a:endParaRPr b="0" lang="en-US" sz="4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8120" y="500040"/>
            <a:ext cx="43084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2080" y="18864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The ‘Product’ is ke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5040" y="1336680"/>
            <a:ext cx="80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547e"/>
                </a:solidFill>
                <a:latin typeface="Arial"/>
              </a:rPr>
              <a:t>Product touch-points are often the most important drivers (with high awareness):  Performance, and the “look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282760" y="2247840"/>
            <a:ext cx="4511520" cy="4422960"/>
            <a:chOff x="2282760" y="2247840"/>
            <a:chExt cx="4511520" cy="4422960"/>
          </a:xfrm>
        </p:grpSpPr>
        <p:sp>
          <p:nvSpPr>
            <p:cNvPr id="327" name=""/>
            <p:cNvSpPr/>
            <p:nvPr/>
          </p:nvSpPr>
          <p:spPr>
            <a:xfrm>
              <a:off x="4854240" y="2919600"/>
              <a:ext cx="1433520" cy="13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0" y="532"/>
                  </a:moveTo>
                  <a:lnTo>
                    <a:pt x="595" y="0"/>
                  </a:lnTo>
                  <a:lnTo>
                    <a:pt x="595" y="42"/>
                  </a:lnTo>
                  <a:lnTo>
                    <a:pt x="0" y="574"/>
                  </a:lnTo>
                  <a:lnTo>
                    <a:pt x="0" y="5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54240" y="2301840"/>
              <a:ext cx="1433520" cy="1874880"/>
            </a:xfrm>
            <a:custGeom>
              <a:avLst/>
              <a:gdLst/>
              <a:ahLst/>
              <a:rect l="l" t="t" r="r" b="b"/>
              <a:pathLst>
                <a:path w="595" h="793">
                  <a:moveTo>
                    <a:pt x="0" y="0"/>
                  </a:moveTo>
                  <a:lnTo>
                    <a:pt x="21" y="0"/>
                  </a:lnTo>
                  <a:lnTo>
                    <a:pt x="52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36" y="10"/>
                  </a:lnTo>
                  <a:lnTo>
                    <a:pt x="167" y="10"/>
                  </a:lnTo>
                  <a:lnTo>
                    <a:pt x="188" y="21"/>
                  </a:lnTo>
                  <a:lnTo>
                    <a:pt x="219" y="31"/>
                  </a:lnTo>
                  <a:lnTo>
                    <a:pt x="250" y="31"/>
                  </a:lnTo>
                  <a:lnTo>
                    <a:pt x="271" y="42"/>
                  </a:lnTo>
                  <a:lnTo>
                    <a:pt x="303" y="52"/>
                  </a:lnTo>
                  <a:lnTo>
                    <a:pt x="324" y="62"/>
                  </a:lnTo>
                  <a:lnTo>
                    <a:pt x="355" y="73"/>
                  </a:lnTo>
                  <a:lnTo>
                    <a:pt x="376" y="94"/>
                  </a:lnTo>
                  <a:lnTo>
                    <a:pt x="397" y="104"/>
                  </a:lnTo>
                  <a:lnTo>
                    <a:pt x="428" y="115"/>
                  </a:lnTo>
                  <a:lnTo>
                    <a:pt x="449" y="136"/>
                  </a:lnTo>
                  <a:lnTo>
                    <a:pt x="470" y="146"/>
                  </a:lnTo>
                  <a:lnTo>
                    <a:pt x="491" y="167"/>
                  </a:lnTo>
                  <a:lnTo>
                    <a:pt x="511" y="188"/>
                  </a:lnTo>
                  <a:lnTo>
                    <a:pt x="532" y="198"/>
                  </a:lnTo>
                  <a:lnTo>
                    <a:pt x="553" y="219"/>
                  </a:lnTo>
                  <a:lnTo>
                    <a:pt x="574" y="240"/>
                  </a:lnTo>
                  <a:lnTo>
                    <a:pt x="595" y="261"/>
                  </a:lnTo>
                  <a:lnTo>
                    <a:pt x="0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91040" y="4176720"/>
              <a:ext cx="3240" cy="17136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54240" y="4176720"/>
              <a:ext cx="1936800" cy="147600"/>
            </a:xfrm>
            <a:custGeom>
              <a:avLst/>
              <a:gdLst/>
              <a:ahLst/>
              <a:rect l="l" t="t" r="r" b="b"/>
              <a:pathLst>
                <a:path w="804" h="63">
                  <a:moveTo>
                    <a:pt x="0" y="0"/>
                  </a:moveTo>
                  <a:lnTo>
                    <a:pt x="804" y="21"/>
                  </a:lnTo>
                  <a:lnTo>
                    <a:pt x="804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54240" y="2919600"/>
              <a:ext cx="1936800" cy="1331640"/>
            </a:xfrm>
            <a:custGeom>
              <a:avLst/>
              <a:gdLst/>
              <a:ahLst/>
              <a:rect l="l" t="t" r="r" b="b"/>
              <a:pathLst>
                <a:path w="804" h="564">
                  <a:moveTo>
                    <a:pt x="595" y="0"/>
                  </a:moveTo>
                  <a:lnTo>
                    <a:pt x="616" y="21"/>
                  </a:lnTo>
                  <a:lnTo>
                    <a:pt x="626" y="42"/>
                  </a:lnTo>
                  <a:lnTo>
                    <a:pt x="647" y="63"/>
                  </a:lnTo>
                  <a:lnTo>
                    <a:pt x="658" y="73"/>
                  </a:lnTo>
                  <a:lnTo>
                    <a:pt x="668" y="104"/>
                  </a:lnTo>
                  <a:lnTo>
                    <a:pt x="689" y="125"/>
                  </a:lnTo>
                  <a:lnTo>
                    <a:pt x="699" y="146"/>
                  </a:lnTo>
                  <a:lnTo>
                    <a:pt x="710" y="177"/>
                  </a:lnTo>
                  <a:lnTo>
                    <a:pt x="731" y="198"/>
                  </a:lnTo>
                  <a:lnTo>
                    <a:pt x="731" y="209"/>
                  </a:lnTo>
                  <a:lnTo>
                    <a:pt x="741" y="240"/>
                  </a:lnTo>
                  <a:lnTo>
                    <a:pt x="752" y="261"/>
                  </a:lnTo>
                  <a:lnTo>
                    <a:pt x="762" y="292"/>
                  </a:lnTo>
                  <a:lnTo>
                    <a:pt x="772" y="313"/>
                  </a:lnTo>
                  <a:lnTo>
                    <a:pt x="772" y="344"/>
                  </a:lnTo>
                  <a:lnTo>
                    <a:pt x="783" y="355"/>
                  </a:lnTo>
                  <a:lnTo>
                    <a:pt x="783" y="386"/>
                  </a:lnTo>
                  <a:lnTo>
                    <a:pt x="793" y="407"/>
                  </a:lnTo>
                  <a:lnTo>
                    <a:pt x="793" y="438"/>
                  </a:lnTo>
                  <a:lnTo>
                    <a:pt x="793" y="470"/>
                  </a:lnTo>
                  <a:lnTo>
                    <a:pt x="804" y="491"/>
                  </a:lnTo>
                  <a:lnTo>
                    <a:pt x="804" y="512"/>
                  </a:lnTo>
                  <a:lnTo>
                    <a:pt x="804" y="532"/>
                  </a:lnTo>
                  <a:lnTo>
                    <a:pt x="804" y="564"/>
                  </a:lnTo>
                  <a:lnTo>
                    <a:pt x="0" y="53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7760" y="4251240"/>
              <a:ext cx="503280" cy="1284480"/>
            </a:xfrm>
            <a:custGeom>
              <a:avLst/>
              <a:gdLst/>
              <a:ahLst/>
              <a:rect l="l" t="t" r="r" b="b"/>
              <a:pathLst>
                <a:path w="209" h="543">
                  <a:moveTo>
                    <a:pt x="209" y="0"/>
                  </a:moveTo>
                  <a:lnTo>
                    <a:pt x="209" y="31"/>
                  </a:lnTo>
                  <a:lnTo>
                    <a:pt x="198" y="52"/>
                  </a:lnTo>
                  <a:lnTo>
                    <a:pt x="198" y="83"/>
                  </a:lnTo>
                  <a:lnTo>
                    <a:pt x="198" y="115"/>
                  </a:lnTo>
                  <a:lnTo>
                    <a:pt x="188" y="135"/>
                  </a:lnTo>
                  <a:lnTo>
                    <a:pt x="188" y="146"/>
                  </a:lnTo>
                  <a:lnTo>
                    <a:pt x="177" y="177"/>
                  </a:lnTo>
                  <a:lnTo>
                    <a:pt x="167" y="209"/>
                  </a:lnTo>
                  <a:lnTo>
                    <a:pt x="167" y="229"/>
                  </a:lnTo>
                  <a:lnTo>
                    <a:pt x="157" y="261"/>
                  </a:lnTo>
                  <a:lnTo>
                    <a:pt x="146" y="282"/>
                  </a:lnTo>
                  <a:lnTo>
                    <a:pt x="136" y="313"/>
                  </a:lnTo>
                  <a:lnTo>
                    <a:pt x="115" y="334"/>
                  </a:lnTo>
                  <a:lnTo>
                    <a:pt x="104" y="355"/>
                  </a:lnTo>
                  <a:lnTo>
                    <a:pt x="94" y="386"/>
                  </a:lnTo>
                  <a:lnTo>
                    <a:pt x="83" y="396"/>
                  </a:lnTo>
                  <a:lnTo>
                    <a:pt x="73" y="417"/>
                  </a:lnTo>
                  <a:lnTo>
                    <a:pt x="52" y="438"/>
                  </a:lnTo>
                  <a:lnTo>
                    <a:pt x="31" y="459"/>
                  </a:lnTo>
                  <a:lnTo>
                    <a:pt x="21" y="480"/>
                  </a:lnTo>
                  <a:lnTo>
                    <a:pt x="0" y="501"/>
                  </a:lnTo>
                  <a:lnTo>
                    <a:pt x="0" y="543"/>
                  </a:lnTo>
                  <a:lnTo>
                    <a:pt x="21" y="522"/>
                  </a:lnTo>
                  <a:lnTo>
                    <a:pt x="31" y="501"/>
                  </a:lnTo>
                  <a:lnTo>
                    <a:pt x="52" y="480"/>
                  </a:lnTo>
                  <a:lnTo>
                    <a:pt x="73" y="459"/>
                  </a:lnTo>
                  <a:lnTo>
                    <a:pt x="83" y="438"/>
                  </a:lnTo>
                  <a:lnTo>
                    <a:pt x="94" y="428"/>
                  </a:lnTo>
                  <a:lnTo>
                    <a:pt x="104" y="396"/>
                  </a:lnTo>
                  <a:lnTo>
                    <a:pt x="115" y="376"/>
                  </a:lnTo>
                  <a:lnTo>
                    <a:pt x="136" y="355"/>
                  </a:lnTo>
                  <a:lnTo>
                    <a:pt x="146" y="323"/>
                  </a:lnTo>
                  <a:lnTo>
                    <a:pt x="157" y="303"/>
                  </a:lnTo>
                  <a:lnTo>
                    <a:pt x="167" y="271"/>
                  </a:lnTo>
                  <a:lnTo>
                    <a:pt x="167" y="250"/>
                  </a:lnTo>
                  <a:lnTo>
                    <a:pt x="177" y="219"/>
                  </a:lnTo>
                  <a:lnTo>
                    <a:pt x="188" y="188"/>
                  </a:lnTo>
                  <a:lnTo>
                    <a:pt x="188" y="177"/>
                  </a:lnTo>
                  <a:lnTo>
                    <a:pt x="198" y="156"/>
                  </a:lnTo>
                  <a:lnTo>
                    <a:pt x="198" y="125"/>
                  </a:lnTo>
                  <a:lnTo>
                    <a:pt x="198" y="94"/>
                  </a:lnTo>
                  <a:lnTo>
                    <a:pt x="209" y="73"/>
                  </a:lnTo>
                  <a:lnTo>
                    <a:pt x="209" y="41"/>
                  </a:lnTo>
                  <a:lnTo>
                    <a:pt x="209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54240" y="4176720"/>
              <a:ext cx="1433520" cy="135900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0" y="0"/>
                  </a:moveTo>
                  <a:lnTo>
                    <a:pt x="595" y="533"/>
                  </a:lnTo>
                  <a:lnTo>
                    <a:pt x="595" y="5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54240" y="4176720"/>
              <a:ext cx="1936800" cy="1258920"/>
            </a:xfrm>
            <a:custGeom>
              <a:avLst/>
              <a:gdLst/>
              <a:ahLst/>
              <a:rect l="l" t="t" r="r" b="b"/>
              <a:pathLst>
                <a:path w="804" h="533">
                  <a:moveTo>
                    <a:pt x="804" y="32"/>
                  </a:moveTo>
                  <a:lnTo>
                    <a:pt x="804" y="63"/>
                  </a:lnTo>
                  <a:lnTo>
                    <a:pt x="793" y="84"/>
                  </a:lnTo>
                  <a:lnTo>
                    <a:pt x="793" y="115"/>
                  </a:lnTo>
                  <a:lnTo>
                    <a:pt x="793" y="147"/>
                  </a:lnTo>
                  <a:lnTo>
                    <a:pt x="783" y="167"/>
                  </a:lnTo>
                  <a:lnTo>
                    <a:pt x="783" y="178"/>
                  </a:lnTo>
                  <a:lnTo>
                    <a:pt x="772" y="209"/>
                  </a:lnTo>
                  <a:lnTo>
                    <a:pt x="762" y="241"/>
                  </a:lnTo>
                  <a:lnTo>
                    <a:pt x="762" y="261"/>
                  </a:lnTo>
                  <a:lnTo>
                    <a:pt x="752" y="293"/>
                  </a:lnTo>
                  <a:lnTo>
                    <a:pt x="741" y="314"/>
                  </a:lnTo>
                  <a:lnTo>
                    <a:pt x="731" y="345"/>
                  </a:lnTo>
                  <a:lnTo>
                    <a:pt x="710" y="366"/>
                  </a:lnTo>
                  <a:lnTo>
                    <a:pt x="699" y="387"/>
                  </a:lnTo>
                  <a:lnTo>
                    <a:pt x="689" y="418"/>
                  </a:lnTo>
                  <a:lnTo>
                    <a:pt x="678" y="428"/>
                  </a:lnTo>
                  <a:lnTo>
                    <a:pt x="668" y="449"/>
                  </a:lnTo>
                  <a:lnTo>
                    <a:pt x="647" y="470"/>
                  </a:lnTo>
                  <a:lnTo>
                    <a:pt x="626" y="491"/>
                  </a:lnTo>
                  <a:lnTo>
                    <a:pt x="616" y="512"/>
                  </a:lnTo>
                  <a:lnTo>
                    <a:pt x="595" y="533"/>
                  </a:lnTo>
                  <a:lnTo>
                    <a:pt x="0" y="0"/>
                  </a:lnTo>
                  <a:lnTo>
                    <a:pt x="804" y="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30440" y="5854680"/>
              <a:ext cx="879480" cy="641520"/>
            </a:xfrm>
            <a:custGeom>
              <a:avLst/>
              <a:gdLst/>
              <a:ahLst/>
              <a:rect l="l" t="t" r="r" b="b"/>
              <a:pathLst>
                <a:path w="365" h="271">
                  <a:moveTo>
                    <a:pt x="365" y="0"/>
                  </a:moveTo>
                  <a:lnTo>
                    <a:pt x="344" y="21"/>
                  </a:lnTo>
                  <a:lnTo>
                    <a:pt x="334" y="31"/>
                  </a:lnTo>
                  <a:lnTo>
                    <a:pt x="313" y="52"/>
                  </a:lnTo>
                  <a:lnTo>
                    <a:pt x="292" y="73"/>
                  </a:lnTo>
                  <a:lnTo>
                    <a:pt x="271" y="94"/>
                  </a:lnTo>
                  <a:lnTo>
                    <a:pt x="261" y="104"/>
                  </a:lnTo>
                  <a:lnTo>
                    <a:pt x="240" y="115"/>
                  </a:lnTo>
                  <a:lnTo>
                    <a:pt x="219" y="136"/>
                  </a:lnTo>
                  <a:lnTo>
                    <a:pt x="198" y="146"/>
                  </a:lnTo>
                  <a:lnTo>
                    <a:pt x="177" y="157"/>
                  </a:lnTo>
                  <a:lnTo>
                    <a:pt x="156" y="167"/>
                  </a:lnTo>
                  <a:lnTo>
                    <a:pt x="135" y="177"/>
                  </a:lnTo>
                  <a:lnTo>
                    <a:pt x="125" y="188"/>
                  </a:lnTo>
                  <a:lnTo>
                    <a:pt x="94" y="198"/>
                  </a:lnTo>
                  <a:lnTo>
                    <a:pt x="73" y="209"/>
                  </a:lnTo>
                  <a:lnTo>
                    <a:pt x="41" y="219"/>
                  </a:lnTo>
                  <a:lnTo>
                    <a:pt x="31" y="230"/>
                  </a:lnTo>
                  <a:lnTo>
                    <a:pt x="0" y="230"/>
                  </a:lnTo>
                  <a:lnTo>
                    <a:pt x="0" y="271"/>
                  </a:lnTo>
                  <a:lnTo>
                    <a:pt x="31" y="271"/>
                  </a:lnTo>
                  <a:lnTo>
                    <a:pt x="41" y="261"/>
                  </a:lnTo>
                  <a:lnTo>
                    <a:pt x="73" y="251"/>
                  </a:lnTo>
                  <a:lnTo>
                    <a:pt x="94" y="240"/>
                  </a:lnTo>
                  <a:lnTo>
                    <a:pt x="125" y="230"/>
                  </a:lnTo>
                  <a:lnTo>
                    <a:pt x="135" y="219"/>
                  </a:lnTo>
                  <a:lnTo>
                    <a:pt x="156" y="209"/>
                  </a:lnTo>
                  <a:lnTo>
                    <a:pt x="177" y="198"/>
                  </a:lnTo>
                  <a:lnTo>
                    <a:pt x="198" y="188"/>
                  </a:lnTo>
                  <a:lnTo>
                    <a:pt x="219" y="177"/>
                  </a:lnTo>
                  <a:lnTo>
                    <a:pt x="240" y="157"/>
                  </a:lnTo>
                  <a:lnTo>
                    <a:pt x="261" y="146"/>
                  </a:lnTo>
                  <a:lnTo>
                    <a:pt x="271" y="136"/>
                  </a:lnTo>
                  <a:lnTo>
                    <a:pt x="292" y="115"/>
                  </a:lnTo>
                  <a:lnTo>
                    <a:pt x="313" y="94"/>
                  </a:lnTo>
                  <a:lnTo>
                    <a:pt x="334" y="73"/>
                  </a:lnTo>
                  <a:lnTo>
                    <a:pt x="344" y="63"/>
                  </a:lnTo>
                  <a:lnTo>
                    <a:pt x="365" y="42"/>
                  </a:lnTo>
                  <a:lnTo>
                    <a:pt x="36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76400" y="4595760"/>
              <a:ext cx="554040" cy="1900440"/>
            </a:xfrm>
            <a:custGeom>
              <a:avLst/>
              <a:gdLst/>
              <a:ahLst/>
              <a:rect l="l" t="t" r="r" b="b"/>
              <a:pathLst>
                <a:path w="230" h="804">
                  <a:moveTo>
                    <a:pt x="0" y="0"/>
                  </a:moveTo>
                  <a:lnTo>
                    <a:pt x="230" y="763"/>
                  </a:lnTo>
                  <a:lnTo>
                    <a:pt x="230" y="804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76400" y="4595760"/>
              <a:ext cx="1433520" cy="1803600"/>
            </a:xfrm>
            <a:custGeom>
              <a:avLst/>
              <a:gdLst/>
              <a:ahLst/>
              <a:rect l="l" t="t" r="r" b="b"/>
              <a:pathLst>
                <a:path w="595" h="763">
                  <a:moveTo>
                    <a:pt x="595" y="533"/>
                  </a:moveTo>
                  <a:lnTo>
                    <a:pt x="574" y="554"/>
                  </a:lnTo>
                  <a:lnTo>
                    <a:pt x="564" y="564"/>
                  </a:lnTo>
                  <a:lnTo>
                    <a:pt x="543" y="585"/>
                  </a:lnTo>
                  <a:lnTo>
                    <a:pt x="522" y="606"/>
                  </a:lnTo>
                  <a:lnTo>
                    <a:pt x="501" y="627"/>
                  </a:lnTo>
                  <a:lnTo>
                    <a:pt x="491" y="637"/>
                  </a:lnTo>
                  <a:lnTo>
                    <a:pt x="470" y="648"/>
                  </a:lnTo>
                  <a:lnTo>
                    <a:pt x="449" y="669"/>
                  </a:lnTo>
                  <a:lnTo>
                    <a:pt x="428" y="679"/>
                  </a:lnTo>
                  <a:lnTo>
                    <a:pt x="407" y="690"/>
                  </a:lnTo>
                  <a:lnTo>
                    <a:pt x="386" y="700"/>
                  </a:lnTo>
                  <a:lnTo>
                    <a:pt x="365" y="710"/>
                  </a:lnTo>
                  <a:lnTo>
                    <a:pt x="355" y="721"/>
                  </a:lnTo>
                  <a:lnTo>
                    <a:pt x="324" y="731"/>
                  </a:lnTo>
                  <a:lnTo>
                    <a:pt x="303" y="742"/>
                  </a:lnTo>
                  <a:lnTo>
                    <a:pt x="271" y="752"/>
                  </a:lnTo>
                  <a:lnTo>
                    <a:pt x="261" y="763"/>
                  </a:lnTo>
                  <a:lnTo>
                    <a:pt x="230" y="763"/>
                  </a:lnTo>
                  <a:lnTo>
                    <a:pt x="0" y="0"/>
                  </a:lnTo>
                  <a:lnTo>
                    <a:pt x="595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46200" y="6475320"/>
              <a:ext cx="806760" cy="195480"/>
            </a:xfrm>
            <a:custGeom>
              <a:avLst/>
              <a:gdLst/>
              <a:ahLst/>
              <a:rect l="l" t="t" r="r" b="b"/>
              <a:pathLst>
                <a:path w="335" h="83">
                  <a:moveTo>
                    <a:pt x="335" y="0"/>
                  </a:moveTo>
                  <a:lnTo>
                    <a:pt x="314" y="10"/>
                  </a:lnTo>
                  <a:lnTo>
                    <a:pt x="282" y="21"/>
                  </a:lnTo>
                  <a:lnTo>
                    <a:pt x="251" y="21"/>
                  </a:lnTo>
                  <a:lnTo>
                    <a:pt x="230" y="31"/>
                  </a:lnTo>
                  <a:lnTo>
                    <a:pt x="199" y="31"/>
                  </a:lnTo>
                  <a:lnTo>
                    <a:pt x="167" y="31"/>
                  </a:lnTo>
                  <a:lnTo>
                    <a:pt x="147" y="41"/>
                  </a:lnTo>
                  <a:lnTo>
                    <a:pt x="115" y="41"/>
                  </a:lnTo>
                  <a:lnTo>
                    <a:pt x="84" y="41"/>
                  </a:lnTo>
                  <a:lnTo>
                    <a:pt x="63" y="41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73"/>
                  </a:lnTo>
                  <a:lnTo>
                    <a:pt x="32" y="73"/>
                  </a:lnTo>
                  <a:lnTo>
                    <a:pt x="63" y="83"/>
                  </a:lnTo>
                  <a:lnTo>
                    <a:pt x="84" y="83"/>
                  </a:lnTo>
                  <a:lnTo>
                    <a:pt x="115" y="83"/>
                  </a:lnTo>
                  <a:lnTo>
                    <a:pt x="147" y="83"/>
                  </a:lnTo>
                  <a:lnTo>
                    <a:pt x="167" y="73"/>
                  </a:lnTo>
                  <a:lnTo>
                    <a:pt x="199" y="73"/>
                  </a:lnTo>
                  <a:lnTo>
                    <a:pt x="230" y="73"/>
                  </a:lnTo>
                  <a:lnTo>
                    <a:pt x="251" y="62"/>
                  </a:lnTo>
                  <a:lnTo>
                    <a:pt x="282" y="62"/>
                  </a:lnTo>
                  <a:lnTo>
                    <a:pt x="314" y="52"/>
                  </a:lnTo>
                  <a:lnTo>
                    <a:pt x="335" y="41"/>
                  </a:lnTo>
                  <a:lnTo>
                    <a:pt x="33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6200" y="4672080"/>
              <a:ext cx="806760" cy="1900080"/>
            </a:xfrm>
            <a:custGeom>
              <a:avLst/>
              <a:gdLst/>
              <a:ahLst/>
              <a:rect l="l" t="t" r="r" b="b"/>
              <a:pathLst>
                <a:path w="335" h="804">
                  <a:moveTo>
                    <a:pt x="335" y="763"/>
                  </a:moveTo>
                  <a:lnTo>
                    <a:pt x="314" y="773"/>
                  </a:lnTo>
                  <a:lnTo>
                    <a:pt x="282" y="784"/>
                  </a:lnTo>
                  <a:lnTo>
                    <a:pt x="251" y="784"/>
                  </a:lnTo>
                  <a:lnTo>
                    <a:pt x="230" y="794"/>
                  </a:lnTo>
                  <a:lnTo>
                    <a:pt x="199" y="794"/>
                  </a:lnTo>
                  <a:lnTo>
                    <a:pt x="167" y="794"/>
                  </a:lnTo>
                  <a:lnTo>
                    <a:pt x="147" y="804"/>
                  </a:lnTo>
                  <a:lnTo>
                    <a:pt x="115" y="804"/>
                  </a:lnTo>
                  <a:lnTo>
                    <a:pt x="84" y="804"/>
                  </a:lnTo>
                  <a:lnTo>
                    <a:pt x="63" y="804"/>
                  </a:lnTo>
                  <a:lnTo>
                    <a:pt x="32" y="794"/>
                  </a:lnTo>
                  <a:lnTo>
                    <a:pt x="0" y="794"/>
                  </a:lnTo>
                  <a:lnTo>
                    <a:pt x="105" y="0"/>
                  </a:lnTo>
                  <a:lnTo>
                    <a:pt x="335" y="76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16120" y="6350040"/>
              <a:ext cx="628560" cy="2970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261" y="84"/>
                  </a:moveTo>
                  <a:lnTo>
                    <a:pt x="241" y="84"/>
                  </a:lnTo>
                  <a:lnTo>
                    <a:pt x="220" y="84"/>
                  </a:lnTo>
                  <a:lnTo>
                    <a:pt x="199" y="74"/>
                  </a:lnTo>
                  <a:lnTo>
                    <a:pt x="167" y="63"/>
                  </a:lnTo>
                  <a:lnTo>
                    <a:pt x="157" y="63"/>
                  </a:lnTo>
                  <a:lnTo>
                    <a:pt x="126" y="53"/>
                  </a:lnTo>
                  <a:lnTo>
                    <a:pt x="105" y="53"/>
                  </a:lnTo>
                  <a:lnTo>
                    <a:pt x="84" y="42"/>
                  </a:lnTo>
                  <a:lnTo>
                    <a:pt x="63" y="32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1" y="63"/>
                  </a:lnTo>
                  <a:lnTo>
                    <a:pt x="32" y="63"/>
                  </a:lnTo>
                  <a:lnTo>
                    <a:pt x="63" y="74"/>
                  </a:lnTo>
                  <a:lnTo>
                    <a:pt x="84" y="84"/>
                  </a:lnTo>
                  <a:lnTo>
                    <a:pt x="105" y="94"/>
                  </a:lnTo>
                  <a:lnTo>
                    <a:pt x="126" y="94"/>
                  </a:lnTo>
                  <a:lnTo>
                    <a:pt x="157" y="105"/>
                  </a:lnTo>
                  <a:lnTo>
                    <a:pt x="167" y="105"/>
                  </a:lnTo>
                  <a:lnTo>
                    <a:pt x="199" y="115"/>
                  </a:lnTo>
                  <a:lnTo>
                    <a:pt x="220" y="126"/>
                  </a:lnTo>
                  <a:lnTo>
                    <a:pt x="241" y="126"/>
                  </a:lnTo>
                  <a:lnTo>
                    <a:pt x="261" y="126"/>
                  </a:lnTo>
                  <a:lnTo>
                    <a:pt x="261" y="8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16120" y="4659480"/>
              <a:ext cx="880920" cy="1876320"/>
            </a:xfrm>
            <a:custGeom>
              <a:avLst/>
              <a:gdLst/>
              <a:ahLst/>
              <a:rect l="l" t="t" r="r" b="b"/>
              <a:pathLst>
                <a:path w="366" h="794">
                  <a:moveTo>
                    <a:pt x="261" y="794"/>
                  </a:moveTo>
                  <a:lnTo>
                    <a:pt x="241" y="794"/>
                  </a:lnTo>
                  <a:lnTo>
                    <a:pt x="220" y="794"/>
                  </a:lnTo>
                  <a:lnTo>
                    <a:pt x="199" y="784"/>
                  </a:lnTo>
                  <a:lnTo>
                    <a:pt x="167" y="773"/>
                  </a:lnTo>
                  <a:lnTo>
                    <a:pt x="157" y="773"/>
                  </a:lnTo>
                  <a:lnTo>
                    <a:pt x="126" y="763"/>
                  </a:lnTo>
                  <a:lnTo>
                    <a:pt x="105" y="763"/>
                  </a:lnTo>
                  <a:lnTo>
                    <a:pt x="84" y="752"/>
                  </a:lnTo>
                  <a:lnTo>
                    <a:pt x="63" y="742"/>
                  </a:lnTo>
                  <a:lnTo>
                    <a:pt x="32" y="731"/>
                  </a:lnTo>
                  <a:lnTo>
                    <a:pt x="21" y="731"/>
                  </a:lnTo>
                  <a:lnTo>
                    <a:pt x="0" y="710"/>
                  </a:lnTo>
                  <a:lnTo>
                    <a:pt x="366" y="0"/>
                  </a:lnTo>
                  <a:lnTo>
                    <a:pt x="261" y="79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46480" y="4672080"/>
              <a:ext cx="225360" cy="1974960"/>
            </a:xfrm>
            <a:custGeom>
              <a:avLst/>
              <a:gdLst/>
              <a:ahLst/>
              <a:rect l="l" t="t" r="r" b="b"/>
              <a:pathLst>
                <a:path w="94" h="836">
                  <a:moveTo>
                    <a:pt x="94" y="0"/>
                  </a:moveTo>
                  <a:lnTo>
                    <a:pt x="0" y="794"/>
                  </a:lnTo>
                  <a:lnTo>
                    <a:pt x="0" y="836"/>
                  </a:lnTo>
                  <a:lnTo>
                    <a:pt x="94" y="42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82760" y="4111560"/>
              <a:ext cx="1936440" cy="567000"/>
            </a:xfrm>
            <a:custGeom>
              <a:avLst/>
              <a:gdLst/>
              <a:ahLst/>
              <a:rect l="l" t="t" r="r" b="b"/>
              <a:pathLst>
                <a:path w="804" h="240">
                  <a:moveTo>
                    <a:pt x="0" y="240"/>
                  </a:moveTo>
                  <a:lnTo>
                    <a:pt x="0" y="209"/>
                  </a:lnTo>
                  <a:lnTo>
                    <a:pt x="0" y="188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84"/>
                  </a:lnTo>
                  <a:lnTo>
                    <a:pt x="0" y="63"/>
                  </a:lnTo>
                  <a:lnTo>
                    <a:pt x="10" y="32"/>
                  </a:lnTo>
                  <a:lnTo>
                    <a:pt x="10" y="0"/>
                  </a:lnTo>
                  <a:lnTo>
                    <a:pt x="804" y="167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93560" y="4519800"/>
              <a:ext cx="1913040" cy="247680"/>
            </a:xfrm>
            <a:custGeom>
              <a:avLst/>
              <a:gdLst/>
              <a:ahLst/>
              <a:rect l="l" t="t" r="r" b="b"/>
              <a:pathLst>
                <a:path w="794" h="105">
                  <a:moveTo>
                    <a:pt x="794" y="0"/>
                  </a:moveTo>
                  <a:lnTo>
                    <a:pt x="0" y="63"/>
                  </a:lnTo>
                  <a:lnTo>
                    <a:pt x="0" y="105"/>
                  </a:lnTo>
                  <a:lnTo>
                    <a:pt x="794" y="42"/>
                  </a:lnTo>
                  <a:lnTo>
                    <a:pt x="7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842920" y="2621160"/>
              <a:ext cx="1433520" cy="1650960"/>
              <a:chOff x="2842920" y="2621160"/>
              <a:chExt cx="1433520" cy="1650960"/>
            </a:xfrm>
          </p:grpSpPr>
          <p:sp>
            <p:nvSpPr>
              <p:cNvPr id="346" name=""/>
              <p:cNvSpPr/>
              <p:nvPr/>
            </p:nvSpPr>
            <p:spPr>
              <a:xfrm>
                <a:off x="2842920" y="2916360"/>
                <a:ext cx="1433520" cy="1355760"/>
              </a:xfrm>
              <a:custGeom>
                <a:avLst/>
                <a:gdLst/>
                <a:ahLst/>
                <a:rect l="l" t="t" r="r" b="b"/>
                <a:pathLst>
                  <a:path w="595" h="574">
                    <a:moveTo>
                      <a:pt x="595" y="532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595" y="574"/>
                    </a:lnTo>
                    <a:lnTo>
                      <a:pt x="595" y="53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42920" y="2621160"/>
                <a:ext cx="1433520" cy="1552680"/>
              </a:xfrm>
              <a:custGeom>
                <a:avLst/>
                <a:gdLst/>
                <a:ahLst/>
                <a:rect l="l" t="t" r="r" b="b"/>
                <a:pathLst>
                  <a:path w="595" h="657">
                    <a:moveTo>
                      <a:pt x="0" y="125"/>
                    </a:moveTo>
                    <a:lnTo>
                      <a:pt x="10" y="104"/>
                    </a:lnTo>
                    <a:lnTo>
                      <a:pt x="21" y="94"/>
                    </a:lnTo>
                    <a:lnTo>
                      <a:pt x="41" y="73"/>
                    </a:lnTo>
                    <a:lnTo>
                      <a:pt x="52" y="62"/>
                    </a:lnTo>
                    <a:lnTo>
                      <a:pt x="73" y="52"/>
                    </a:lnTo>
                    <a:lnTo>
                      <a:pt x="83" y="41"/>
                    </a:lnTo>
                    <a:lnTo>
                      <a:pt x="104" y="20"/>
                    </a:lnTo>
                    <a:lnTo>
                      <a:pt x="115" y="10"/>
                    </a:lnTo>
                    <a:lnTo>
                      <a:pt x="146" y="0"/>
                    </a:lnTo>
                    <a:lnTo>
                      <a:pt x="595" y="657"/>
                    </a:lnTo>
                    <a:lnTo>
                      <a:pt x="0" y="125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4251240" y="2247840"/>
              <a:ext cx="101520" cy="1973520"/>
            </a:xfrm>
            <a:custGeom>
              <a:avLst/>
              <a:gdLst/>
              <a:ahLst/>
              <a:rect l="l" t="t" r="r" b="b"/>
              <a:pathLst>
                <a:path w="42" h="835">
                  <a:moveTo>
                    <a:pt x="42" y="793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42" y="835"/>
                  </a:lnTo>
                  <a:lnTo>
                    <a:pt x="42" y="79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79840" y="2260800"/>
              <a:ext cx="101520" cy="187452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01760" y="2247840"/>
              <a:ext cx="351000" cy="1874880"/>
            </a:xfrm>
            <a:custGeom>
              <a:avLst/>
              <a:gdLst/>
              <a:ahLst/>
              <a:rect l="l" t="t" r="r" b="b"/>
              <a:pathLst>
                <a:path w="146" h="793">
                  <a:moveTo>
                    <a:pt x="0" y="10"/>
                  </a:moveTo>
                  <a:lnTo>
                    <a:pt x="21" y="10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46" y="793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74960" y="2271600"/>
              <a:ext cx="577800" cy="1851120"/>
            </a:xfrm>
            <a:custGeom>
              <a:avLst/>
              <a:gdLst/>
              <a:ahLst/>
              <a:rect l="l" t="t" r="r" b="b"/>
              <a:pathLst>
                <a:path w="240" h="783">
                  <a:moveTo>
                    <a:pt x="0" y="21"/>
                  </a:moveTo>
                  <a:lnTo>
                    <a:pt x="21" y="21"/>
                  </a:lnTo>
                  <a:lnTo>
                    <a:pt x="31" y="11"/>
                  </a:lnTo>
                  <a:lnTo>
                    <a:pt x="52" y="11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240" y="783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73360" y="2395440"/>
              <a:ext cx="779400" cy="1825920"/>
            </a:xfrm>
            <a:custGeom>
              <a:avLst/>
              <a:gdLst/>
              <a:ahLst/>
              <a:rect l="l" t="t" r="r" b="b"/>
              <a:pathLst>
                <a:path w="324" h="773">
                  <a:moveTo>
                    <a:pt x="324" y="731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324" y="773"/>
                  </a:lnTo>
                  <a:lnTo>
                    <a:pt x="324" y="7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47800" y="2320920"/>
              <a:ext cx="804960" cy="1801800"/>
            </a:xfrm>
            <a:custGeom>
              <a:avLst/>
              <a:gdLst/>
              <a:ahLst/>
              <a:rect l="l" t="t" r="r" b="b"/>
              <a:pathLst>
                <a:path w="334" h="762">
                  <a:moveTo>
                    <a:pt x="0" y="31"/>
                  </a:moveTo>
                  <a:lnTo>
                    <a:pt x="21" y="31"/>
                  </a:lnTo>
                  <a:lnTo>
                    <a:pt x="31" y="21"/>
                  </a:lnTo>
                  <a:lnTo>
                    <a:pt x="52" y="11"/>
                  </a:lnTo>
                  <a:lnTo>
                    <a:pt x="73" y="11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334" y="762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71680" y="2570040"/>
              <a:ext cx="1081080" cy="1651320"/>
            </a:xfrm>
            <a:custGeom>
              <a:avLst/>
              <a:gdLst/>
              <a:ahLst/>
              <a:rect l="l" t="t" r="r" b="b"/>
              <a:pathLst>
                <a:path w="449" h="699">
                  <a:moveTo>
                    <a:pt x="449" y="657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449" y="699"/>
                  </a:lnTo>
                  <a:lnTo>
                    <a:pt x="449" y="65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71680" y="2395440"/>
              <a:ext cx="1081080" cy="1727280"/>
            </a:xfrm>
            <a:custGeom>
              <a:avLst/>
              <a:gdLst/>
              <a:ahLst/>
              <a:rect l="l" t="t" r="r" b="b"/>
              <a:pathLst>
                <a:path w="449" h="731">
                  <a:moveTo>
                    <a:pt x="0" y="74"/>
                  </a:moveTo>
                  <a:lnTo>
                    <a:pt x="21" y="53"/>
                  </a:lnTo>
                  <a:lnTo>
                    <a:pt x="31" y="53"/>
                  </a:lnTo>
                  <a:lnTo>
                    <a:pt x="52" y="32"/>
                  </a:lnTo>
                  <a:lnTo>
                    <a:pt x="83" y="21"/>
                  </a:lnTo>
                  <a:lnTo>
                    <a:pt x="94" y="11"/>
                  </a:lnTo>
                  <a:lnTo>
                    <a:pt x="115" y="0"/>
                  </a:lnTo>
                  <a:lnTo>
                    <a:pt x="449" y="73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16040" y="3005280"/>
              <a:ext cx="1709640" cy="1257120"/>
            </a:xfrm>
            <a:custGeom>
              <a:avLst/>
              <a:gdLst/>
              <a:ahLst/>
              <a:rect l="l" t="t" r="r" b="b"/>
              <a:pathLst>
                <a:path w="710" h="532">
                  <a:moveTo>
                    <a:pt x="0" y="146"/>
                  </a:moveTo>
                  <a:lnTo>
                    <a:pt x="10" y="136"/>
                  </a:lnTo>
                  <a:lnTo>
                    <a:pt x="21" y="115"/>
                  </a:lnTo>
                  <a:lnTo>
                    <a:pt x="31" y="104"/>
                  </a:lnTo>
                  <a:lnTo>
                    <a:pt x="52" y="73"/>
                  </a:lnTo>
                  <a:lnTo>
                    <a:pt x="52" y="63"/>
                  </a:lnTo>
                  <a:lnTo>
                    <a:pt x="73" y="42"/>
                  </a:lnTo>
                  <a:lnTo>
                    <a:pt x="83" y="31"/>
                  </a:lnTo>
                  <a:lnTo>
                    <a:pt x="104" y="10"/>
                  </a:lnTo>
                  <a:lnTo>
                    <a:pt x="115" y="0"/>
                  </a:lnTo>
                  <a:lnTo>
                    <a:pt x="710" y="532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27200" y="3349800"/>
              <a:ext cx="1685880" cy="1011240"/>
            </a:xfrm>
            <a:custGeom>
              <a:avLst/>
              <a:gdLst/>
              <a:ahLst/>
              <a:rect l="l" t="t" r="r" b="b"/>
              <a:pathLst>
                <a:path w="700" h="428">
                  <a:moveTo>
                    <a:pt x="700" y="386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00" y="428"/>
                  </a:lnTo>
                  <a:lnTo>
                    <a:pt x="700" y="38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0040" y="3489480"/>
              <a:ext cx="1913040" cy="912600"/>
            </a:xfrm>
            <a:custGeom>
              <a:avLst/>
              <a:gdLst/>
              <a:ahLst/>
              <a:rect l="l" t="t" r="r" b="b"/>
              <a:pathLst>
                <a:path w="794" h="386">
                  <a:moveTo>
                    <a:pt x="0" y="219"/>
                  </a:moveTo>
                  <a:lnTo>
                    <a:pt x="11" y="198"/>
                  </a:lnTo>
                  <a:lnTo>
                    <a:pt x="21" y="167"/>
                  </a:lnTo>
                  <a:lnTo>
                    <a:pt x="32" y="146"/>
                  </a:lnTo>
                  <a:lnTo>
                    <a:pt x="32" y="115"/>
                  </a:lnTo>
                  <a:lnTo>
                    <a:pt x="42" y="104"/>
                  </a:lnTo>
                  <a:lnTo>
                    <a:pt x="53" y="73"/>
                  </a:lnTo>
                  <a:lnTo>
                    <a:pt x="63" y="52"/>
                  </a:lnTo>
                  <a:lnTo>
                    <a:pt x="73" y="31"/>
                  </a:lnTo>
                  <a:lnTo>
                    <a:pt x="84" y="0"/>
                  </a:lnTo>
                  <a:lnTo>
                    <a:pt x="794" y="386"/>
                  </a:lnTo>
                  <a:lnTo>
                    <a:pt x="0" y="219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01480" y="3981600"/>
              <a:ext cx="1886040" cy="493560"/>
            </a:xfrm>
            <a:custGeom>
              <a:avLst/>
              <a:gdLst/>
              <a:ahLst/>
              <a:rect l="l" t="t" r="r" b="b"/>
              <a:pathLst>
                <a:path w="783" h="209">
                  <a:moveTo>
                    <a:pt x="783" y="167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83" y="209"/>
                  </a:lnTo>
                  <a:lnTo>
                    <a:pt x="783" y="16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14600" y="4621320"/>
              <a:ext cx="880920" cy="1776240"/>
            </a:xfrm>
            <a:custGeom>
              <a:avLst/>
              <a:gdLst/>
              <a:ahLst/>
              <a:rect l="l" t="t" r="r" b="b"/>
              <a:pathLst>
                <a:path w="366" h="752">
                  <a:moveTo>
                    <a:pt x="366" y="0"/>
                  </a:moveTo>
                  <a:lnTo>
                    <a:pt x="0" y="710"/>
                  </a:lnTo>
                  <a:lnTo>
                    <a:pt x="0" y="752"/>
                  </a:lnTo>
                  <a:lnTo>
                    <a:pt x="366" y="42"/>
                  </a:lnTo>
                  <a:lnTo>
                    <a:pt x="366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3520" y="4780080"/>
              <a:ext cx="125280" cy="64296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52" y="230"/>
                  </a:moveTo>
                  <a:lnTo>
                    <a:pt x="42" y="199"/>
                  </a:lnTo>
                  <a:lnTo>
                    <a:pt x="42" y="178"/>
                  </a:lnTo>
                  <a:lnTo>
                    <a:pt x="31" y="147"/>
                  </a:lnTo>
                  <a:lnTo>
                    <a:pt x="21" y="126"/>
                  </a:lnTo>
                  <a:lnTo>
                    <a:pt x="21" y="105"/>
                  </a:lnTo>
                  <a:lnTo>
                    <a:pt x="10" y="84"/>
                  </a:lnTo>
                  <a:lnTo>
                    <a:pt x="10" y="5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74"/>
                  </a:lnTo>
                  <a:lnTo>
                    <a:pt x="10" y="94"/>
                  </a:lnTo>
                  <a:lnTo>
                    <a:pt x="10" y="126"/>
                  </a:lnTo>
                  <a:lnTo>
                    <a:pt x="21" y="147"/>
                  </a:lnTo>
                  <a:lnTo>
                    <a:pt x="21" y="168"/>
                  </a:lnTo>
                  <a:lnTo>
                    <a:pt x="31" y="188"/>
                  </a:lnTo>
                  <a:lnTo>
                    <a:pt x="42" y="220"/>
                  </a:lnTo>
                  <a:lnTo>
                    <a:pt x="42" y="241"/>
                  </a:lnTo>
                  <a:lnTo>
                    <a:pt x="52" y="272"/>
                  </a:lnTo>
                  <a:lnTo>
                    <a:pt x="52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85800" y="4608720"/>
              <a:ext cx="1784520" cy="790560"/>
            </a:xfrm>
            <a:custGeom>
              <a:avLst/>
              <a:gdLst/>
              <a:ahLst/>
              <a:rect l="l" t="t" r="r" b="b"/>
              <a:pathLst>
                <a:path w="741" h="335">
                  <a:moveTo>
                    <a:pt x="741" y="0"/>
                  </a:moveTo>
                  <a:lnTo>
                    <a:pt x="0" y="293"/>
                  </a:lnTo>
                  <a:lnTo>
                    <a:pt x="0" y="335"/>
                  </a:lnTo>
                  <a:lnTo>
                    <a:pt x="741" y="42"/>
                  </a:lnTo>
                  <a:lnTo>
                    <a:pt x="741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33520" y="4646520"/>
              <a:ext cx="1936800" cy="716040"/>
            </a:xfrm>
            <a:custGeom>
              <a:avLst/>
              <a:gdLst/>
              <a:ahLst/>
              <a:rect l="l" t="t" r="r" b="b"/>
              <a:pathLst>
                <a:path w="804" h="303">
                  <a:moveTo>
                    <a:pt x="52" y="303"/>
                  </a:moveTo>
                  <a:lnTo>
                    <a:pt x="42" y="272"/>
                  </a:lnTo>
                  <a:lnTo>
                    <a:pt x="42" y="251"/>
                  </a:lnTo>
                  <a:lnTo>
                    <a:pt x="31" y="220"/>
                  </a:lnTo>
                  <a:lnTo>
                    <a:pt x="21" y="199"/>
                  </a:lnTo>
                  <a:lnTo>
                    <a:pt x="21" y="178"/>
                  </a:lnTo>
                  <a:lnTo>
                    <a:pt x="10" y="157"/>
                  </a:lnTo>
                  <a:lnTo>
                    <a:pt x="10" y="126"/>
                  </a:lnTo>
                  <a:lnTo>
                    <a:pt x="0" y="105"/>
                  </a:lnTo>
                  <a:lnTo>
                    <a:pt x="0" y="73"/>
                  </a:lnTo>
                  <a:lnTo>
                    <a:pt x="804" y="0"/>
                  </a:lnTo>
                  <a:lnTo>
                    <a:pt x="52" y="30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58800" y="5324400"/>
              <a:ext cx="378000" cy="642960"/>
            </a:xfrm>
            <a:custGeom>
              <a:avLst/>
              <a:gdLst/>
              <a:ahLst/>
              <a:rect l="l" t="t" r="r" b="b"/>
              <a:pathLst>
                <a:path w="157" h="272">
                  <a:moveTo>
                    <a:pt x="157" y="230"/>
                  </a:moveTo>
                  <a:lnTo>
                    <a:pt x="136" y="209"/>
                  </a:lnTo>
                  <a:lnTo>
                    <a:pt x="125" y="199"/>
                  </a:lnTo>
                  <a:lnTo>
                    <a:pt x="105" y="178"/>
                  </a:lnTo>
                  <a:lnTo>
                    <a:pt x="94" y="157"/>
                  </a:lnTo>
                  <a:lnTo>
                    <a:pt x="84" y="146"/>
                  </a:lnTo>
                  <a:lnTo>
                    <a:pt x="63" y="125"/>
                  </a:lnTo>
                  <a:lnTo>
                    <a:pt x="52" y="105"/>
                  </a:lnTo>
                  <a:lnTo>
                    <a:pt x="42" y="84"/>
                  </a:lnTo>
                  <a:lnTo>
                    <a:pt x="31" y="63"/>
                  </a:lnTo>
                  <a:lnTo>
                    <a:pt x="21" y="42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1" y="63"/>
                  </a:lnTo>
                  <a:lnTo>
                    <a:pt x="21" y="84"/>
                  </a:lnTo>
                  <a:lnTo>
                    <a:pt x="31" y="105"/>
                  </a:lnTo>
                  <a:lnTo>
                    <a:pt x="42" y="125"/>
                  </a:lnTo>
                  <a:lnTo>
                    <a:pt x="52" y="146"/>
                  </a:lnTo>
                  <a:lnTo>
                    <a:pt x="63" y="167"/>
                  </a:lnTo>
                  <a:lnTo>
                    <a:pt x="84" y="188"/>
                  </a:lnTo>
                  <a:lnTo>
                    <a:pt x="94" y="199"/>
                  </a:lnTo>
                  <a:lnTo>
                    <a:pt x="105" y="219"/>
                  </a:lnTo>
                  <a:lnTo>
                    <a:pt x="125" y="240"/>
                  </a:lnTo>
                  <a:lnTo>
                    <a:pt x="136" y="251"/>
                  </a:lnTo>
                  <a:lnTo>
                    <a:pt x="157" y="272"/>
                  </a:lnTo>
                  <a:lnTo>
                    <a:pt x="157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58800" y="4608720"/>
              <a:ext cx="1811520" cy="1258560"/>
            </a:xfrm>
            <a:custGeom>
              <a:avLst/>
              <a:gdLst/>
              <a:ahLst/>
              <a:rect l="l" t="t" r="r" b="b"/>
              <a:pathLst>
                <a:path w="752" h="533">
                  <a:moveTo>
                    <a:pt x="157" y="533"/>
                  </a:moveTo>
                  <a:lnTo>
                    <a:pt x="136" y="512"/>
                  </a:lnTo>
                  <a:lnTo>
                    <a:pt x="125" y="502"/>
                  </a:lnTo>
                  <a:lnTo>
                    <a:pt x="105" y="481"/>
                  </a:lnTo>
                  <a:lnTo>
                    <a:pt x="94" y="460"/>
                  </a:lnTo>
                  <a:lnTo>
                    <a:pt x="84" y="449"/>
                  </a:lnTo>
                  <a:lnTo>
                    <a:pt x="63" y="428"/>
                  </a:lnTo>
                  <a:lnTo>
                    <a:pt x="52" y="408"/>
                  </a:lnTo>
                  <a:lnTo>
                    <a:pt x="42" y="387"/>
                  </a:lnTo>
                  <a:lnTo>
                    <a:pt x="31" y="366"/>
                  </a:lnTo>
                  <a:lnTo>
                    <a:pt x="21" y="345"/>
                  </a:lnTo>
                  <a:lnTo>
                    <a:pt x="11" y="324"/>
                  </a:lnTo>
                  <a:lnTo>
                    <a:pt x="0" y="303"/>
                  </a:lnTo>
                  <a:lnTo>
                    <a:pt x="752" y="0"/>
                  </a:lnTo>
                  <a:lnTo>
                    <a:pt x="157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6800" y="4608720"/>
              <a:ext cx="1433520" cy="135864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595" y="0"/>
                  </a:moveTo>
                  <a:lnTo>
                    <a:pt x="0" y="533"/>
                  </a:lnTo>
                  <a:lnTo>
                    <a:pt x="0" y="575"/>
                  </a:lnTo>
                  <a:lnTo>
                    <a:pt x="595" y="4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49400" y="5880240"/>
              <a:ext cx="552240" cy="517320"/>
            </a:xfrm>
            <a:custGeom>
              <a:avLst/>
              <a:gdLst/>
              <a:ahLst/>
              <a:rect l="l" t="t" r="r" b="b"/>
              <a:pathLst>
                <a:path w="229" h="219">
                  <a:moveTo>
                    <a:pt x="229" y="177"/>
                  </a:moveTo>
                  <a:lnTo>
                    <a:pt x="198" y="167"/>
                  </a:lnTo>
                  <a:lnTo>
                    <a:pt x="177" y="157"/>
                  </a:lnTo>
                  <a:lnTo>
                    <a:pt x="167" y="146"/>
                  </a:lnTo>
                  <a:lnTo>
                    <a:pt x="146" y="136"/>
                  </a:lnTo>
                  <a:lnTo>
                    <a:pt x="115" y="115"/>
                  </a:lnTo>
                  <a:lnTo>
                    <a:pt x="94" y="104"/>
                  </a:lnTo>
                  <a:lnTo>
                    <a:pt x="83" y="94"/>
                  </a:lnTo>
                  <a:lnTo>
                    <a:pt x="62" y="73"/>
                  </a:lnTo>
                  <a:lnTo>
                    <a:pt x="41" y="52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0" y="63"/>
                  </a:lnTo>
                  <a:lnTo>
                    <a:pt x="21" y="73"/>
                  </a:lnTo>
                  <a:lnTo>
                    <a:pt x="41" y="94"/>
                  </a:lnTo>
                  <a:lnTo>
                    <a:pt x="62" y="115"/>
                  </a:lnTo>
                  <a:lnTo>
                    <a:pt x="83" y="136"/>
                  </a:lnTo>
                  <a:lnTo>
                    <a:pt x="94" y="146"/>
                  </a:lnTo>
                  <a:lnTo>
                    <a:pt x="115" y="157"/>
                  </a:lnTo>
                  <a:lnTo>
                    <a:pt x="146" y="177"/>
                  </a:lnTo>
                  <a:lnTo>
                    <a:pt x="167" y="188"/>
                  </a:lnTo>
                  <a:lnTo>
                    <a:pt x="177" y="198"/>
                  </a:lnTo>
                  <a:lnTo>
                    <a:pt x="198" y="209"/>
                  </a:lnTo>
                  <a:lnTo>
                    <a:pt x="229" y="219"/>
                  </a:lnTo>
                  <a:lnTo>
                    <a:pt x="229" y="17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49400" y="4621320"/>
              <a:ext cx="1433520" cy="1677960"/>
            </a:xfrm>
            <a:custGeom>
              <a:avLst/>
              <a:gdLst/>
              <a:ahLst/>
              <a:rect l="l" t="t" r="r" b="b"/>
              <a:pathLst>
                <a:path w="595" h="710">
                  <a:moveTo>
                    <a:pt x="229" y="710"/>
                  </a:moveTo>
                  <a:lnTo>
                    <a:pt x="198" y="700"/>
                  </a:lnTo>
                  <a:lnTo>
                    <a:pt x="177" y="690"/>
                  </a:lnTo>
                  <a:lnTo>
                    <a:pt x="167" y="679"/>
                  </a:lnTo>
                  <a:lnTo>
                    <a:pt x="146" y="669"/>
                  </a:lnTo>
                  <a:lnTo>
                    <a:pt x="115" y="648"/>
                  </a:lnTo>
                  <a:lnTo>
                    <a:pt x="94" y="637"/>
                  </a:lnTo>
                  <a:lnTo>
                    <a:pt x="83" y="627"/>
                  </a:lnTo>
                  <a:lnTo>
                    <a:pt x="62" y="606"/>
                  </a:lnTo>
                  <a:lnTo>
                    <a:pt x="41" y="585"/>
                  </a:lnTo>
                  <a:lnTo>
                    <a:pt x="21" y="564"/>
                  </a:lnTo>
                  <a:lnTo>
                    <a:pt x="10" y="554"/>
                  </a:lnTo>
                  <a:lnTo>
                    <a:pt x="0" y="533"/>
                  </a:lnTo>
                  <a:lnTo>
                    <a:pt x="595" y="0"/>
                  </a:lnTo>
                  <a:lnTo>
                    <a:pt x="229" y="7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854600" y="2919240"/>
            <a:ext cx="1433520" cy="1355760"/>
          </a:xfrm>
          <a:custGeom>
            <a:avLst/>
            <a:gdLst/>
            <a:ahLst/>
            <a:rect l="l" t="t" r="r" b="b"/>
            <a:pathLst>
              <a:path w="595" h="574">
                <a:moveTo>
                  <a:pt x="0" y="532"/>
                </a:moveTo>
                <a:lnTo>
                  <a:pt x="595" y="0"/>
                </a:lnTo>
                <a:lnTo>
                  <a:pt x="595" y="42"/>
                </a:lnTo>
                <a:lnTo>
                  <a:pt x="0" y="574"/>
                </a:lnTo>
                <a:lnTo>
                  <a:pt x="0" y="532"/>
                </a:lnTo>
                <a:close/>
              </a:path>
            </a:pathLst>
          </a:custGeom>
          <a:solidFill>
            <a:srgbClr val="4d4d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54600" y="2301840"/>
            <a:ext cx="1433520" cy="1874880"/>
          </a:xfrm>
          <a:custGeom>
            <a:avLst/>
            <a:gdLst/>
            <a:ahLst/>
            <a:rect l="l" t="t" r="r" b="b"/>
            <a:pathLst>
              <a:path w="595" h="793">
                <a:moveTo>
                  <a:pt x="0" y="0"/>
                </a:moveTo>
                <a:lnTo>
                  <a:pt x="21" y="0"/>
                </a:lnTo>
                <a:lnTo>
                  <a:pt x="52" y="0"/>
                </a:lnTo>
                <a:lnTo>
                  <a:pt x="83" y="0"/>
                </a:lnTo>
                <a:lnTo>
                  <a:pt x="104" y="0"/>
                </a:lnTo>
                <a:lnTo>
                  <a:pt x="136" y="10"/>
                </a:lnTo>
                <a:lnTo>
                  <a:pt x="167" y="10"/>
                </a:lnTo>
                <a:lnTo>
                  <a:pt x="188" y="21"/>
                </a:lnTo>
                <a:lnTo>
                  <a:pt x="219" y="31"/>
                </a:lnTo>
                <a:lnTo>
                  <a:pt x="250" y="31"/>
                </a:lnTo>
                <a:lnTo>
                  <a:pt x="271" y="42"/>
                </a:lnTo>
                <a:lnTo>
                  <a:pt x="303" y="52"/>
                </a:lnTo>
                <a:lnTo>
                  <a:pt x="324" y="62"/>
                </a:lnTo>
                <a:lnTo>
                  <a:pt x="355" y="73"/>
                </a:lnTo>
                <a:lnTo>
                  <a:pt x="376" y="94"/>
                </a:lnTo>
                <a:lnTo>
                  <a:pt x="397" y="104"/>
                </a:lnTo>
                <a:lnTo>
                  <a:pt x="428" y="115"/>
                </a:lnTo>
                <a:lnTo>
                  <a:pt x="449" y="136"/>
                </a:lnTo>
                <a:lnTo>
                  <a:pt x="470" y="146"/>
                </a:lnTo>
                <a:lnTo>
                  <a:pt x="491" y="167"/>
                </a:lnTo>
                <a:lnTo>
                  <a:pt x="511" y="188"/>
                </a:lnTo>
                <a:lnTo>
                  <a:pt x="532" y="198"/>
                </a:lnTo>
                <a:lnTo>
                  <a:pt x="553" y="219"/>
                </a:lnTo>
                <a:lnTo>
                  <a:pt x="574" y="240"/>
                </a:lnTo>
                <a:lnTo>
                  <a:pt x="595" y="261"/>
                </a:lnTo>
                <a:lnTo>
                  <a:pt x="0" y="793"/>
                </a:lnTo>
                <a:lnTo>
                  <a:pt x="0" y="0"/>
                </a:lnTo>
                <a:close/>
              </a:path>
            </a:pathLst>
          </a:custGeom>
          <a:solidFill>
            <a:srgbClr val="000082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88120" y="4251240"/>
            <a:ext cx="503280" cy="1284480"/>
          </a:xfrm>
          <a:custGeom>
            <a:avLst/>
            <a:gdLst/>
            <a:ahLst/>
            <a:rect l="l" t="t" r="r" b="b"/>
            <a:pathLst>
              <a:path w="209" h="543">
                <a:moveTo>
                  <a:pt x="209" y="0"/>
                </a:moveTo>
                <a:lnTo>
                  <a:pt x="209" y="31"/>
                </a:lnTo>
                <a:lnTo>
                  <a:pt x="198" y="52"/>
                </a:lnTo>
                <a:lnTo>
                  <a:pt x="198" y="83"/>
                </a:lnTo>
                <a:lnTo>
                  <a:pt x="198" y="115"/>
                </a:lnTo>
                <a:lnTo>
                  <a:pt x="188" y="135"/>
                </a:lnTo>
                <a:lnTo>
                  <a:pt x="188" y="146"/>
                </a:lnTo>
                <a:lnTo>
                  <a:pt x="177" y="177"/>
                </a:lnTo>
                <a:lnTo>
                  <a:pt x="167" y="209"/>
                </a:lnTo>
                <a:lnTo>
                  <a:pt x="167" y="229"/>
                </a:lnTo>
                <a:lnTo>
                  <a:pt x="157" y="261"/>
                </a:lnTo>
                <a:lnTo>
                  <a:pt x="146" y="282"/>
                </a:lnTo>
                <a:lnTo>
                  <a:pt x="136" y="313"/>
                </a:lnTo>
                <a:lnTo>
                  <a:pt x="115" y="334"/>
                </a:lnTo>
                <a:lnTo>
                  <a:pt x="104" y="355"/>
                </a:lnTo>
                <a:lnTo>
                  <a:pt x="94" y="386"/>
                </a:lnTo>
                <a:lnTo>
                  <a:pt x="83" y="396"/>
                </a:lnTo>
                <a:lnTo>
                  <a:pt x="73" y="417"/>
                </a:lnTo>
                <a:lnTo>
                  <a:pt x="52" y="438"/>
                </a:lnTo>
                <a:lnTo>
                  <a:pt x="31" y="459"/>
                </a:lnTo>
                <a:lnTo>
                  <a:pt x="21" y="480"/>
                </a:lnTo>
                <a:lnTo>
                  <a:pt x="0" y="501"/>
                </a:lnTo>
                <a:lnTo>
                  <a:pt x="0" y="543"/>
                </a:lnTo>
                <a:lnTo>
                  <a:pt x="21" y="522"/>
                </a:lnTo>
                <a:lnTo>
                  <a:pt x="31" y="501"/>
                </a:lnTo>
                <a:lnTo>
                  <a:pt x="52" y="480"/>
                </a:lnTo>
                <a:lnTo>
                  <a:pt x="73" y="459"/>
                </a:lnTo>
                <a:lnTo>
                  <a:pt x="83" y="438"/>
                </a:lnTo>
                <a:lnTo>
                  <a:pt x="94" y="428"/>
                </a:lnTo>
                <a:lnTo>
                  <a:pt x="104" y="396"/>
                </a:lnTo>
                <a:lnTo>
                  <a:pt x="115" y="376"/>
                </a:lnTo>
                <a:lnTo>
                  <a:pt x="136" y="355"/>
                </a:lnTo>
                <a:lnTo>
                  <a:pt x="146" y="323"/>
                </a:lnTo>
                <a:lnTo>
                  <a:pt x="157" y="303"/>
                </a:lnTo>
                <a:lnTo>
                  <a:pt x="167" y="271"/>
                </a:lnTo>
                <a:lnTo>
                  <a:pt x="167" y="250"/>
                </a:lnTo>
                <a:lnTo>
                  <a:pt x="177" y="219"/>
                </a:lnTo>
                <a:lnTo>
                  <a:pt x="188" y="188"/>
                </a:lnTo>
                <a:lnTo>
                  <a:pt x="188" y="177"/>
                </a:lnTo>
                <a:lnTo>
                  <a:pt x="198" y="156"/>
                </a:lnTo>
                <a:lnTo>
                  <a:pt x="198" y="125"/>
                </a:lnTo>
                <a:lnTo>
                  <a:pt x="198" y="94"/>
                </a:lnTo>
                <a:lnTo>
                  <a:pt x="209" y="73"/>
                </a:lnTo>
                <a:lnTo>
                  <a:pt x="209" y="41"/>
                </a:lnTo>
                <a:lnTo>
                  <a:pt x="209" y="0"/>
                </a:lnTo>
                <a:close/>
              </a:path>
            </a:pathLst>
          </a:custGeom>
          <a:solidFill>
            <a:srgbClr val="000082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54600" y="4176720"/>
            <a:ext cx="1433520" cy="1359000"/>
          </a:xfrm>
          <a:custGeom>
            <a:avLst/>
            <a:gdLst/>
            <a:ahLst/>
            <a:rect l="l" t="t" r="r" b="b"/>
            <a:pathLst>
              <a:path w="595" h="575">
                <a:moveTo>
                  <a:pt x="0" y="0"/>
                </a:moveTo>
                <a:lnTo>
                  <a:pt x="595" y="533"/>
                </a:lnTo>
                <a:lnTo>
                  <a:pt x="595" y="575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33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54600" y="4176720"/>
            <a:ext cx="1936800" cy="1258920"/>
          </a:xfrm>
          <a:custGeom>
            <a:avLst/>
            <a:gdLst/>
            <a:ahLst/>
            <a:rect l="l" t="t" r="r" b="b"/>
            <a:pathLst>
              <a:path w="804" h="533">
                <a:moveTo>
                  <a:pt x="804" y="32"/>
                </a:moveTo>
                <a:lnTo>
                  <a:pt x="804" y="63"/>
                </a:lnTo>
                <a:lnTo>
                  <a:pt x="793" y="84"/>
                </a:lnTo>
                <a:lnTo>
                  <a:pt x="793" y="115"/>
                </a:lnTo>
                <a:lnTo>
                  <a:pt x="793" y="147"/>
                </a:lnTo>
                <a:lnTo>
                  <a:pt x="783" y="167"/>
                </a:lnTo>
                <a:lnTo>
                  <a:pt x="783" y="178"/>
                </a:lnTo>
                <a:lnTo>
                  <a:pt x="772" y="209"/>
                </a:lnTo>
                <a:lnTo>
                  <a:pt x="762" y="241"/>
                </a:lnTo>
                <a:lnTo>
                  <a:pt x="762" y="261"/>
                </a:lnTo>
                <a:lnTo>
                  <a:pt x="752" y="293"/>
                </a:lnTo>
                <a:lnTo>
                  <a:pt x="741" y="314"/>
                </a:lnTo>
                <a:lnTo>
                  <a:pt x="731" y="345"/>
                </a:lnTo>
                <a:lnTo>
                  <a:pt x="710" y="366"/>
                </a:lnTo>
                <a:lnTo>
                  <a:pt x="699" y="387"/>
                </a:lnTo>
                <a:lnTo>
                  <a:pt x="689" y="418"/>
                </a:lnTo>
                <a:lnTo>
                  <a:pt x="678" y="428"/>
                </a:lnTo>
                <a:lnTo>
                  <a:pt x="668" y="449"/>
                </a:lnTo>
                <a:lnTo>
                  <a:pt x="647" y="470"/>
                </a:lnTo>
                <a:lnTo>
                  <a:pt x="626" y="491"/>
                </a:lnTo>
                <a:lnTo>
                  <a:pt x="616" y="512"/>
                </a:lnTo>
                <a:lnTo>
                  <a:pt x="595" y="533"/>
                </a:lnTo>
                <a:lnTo>
                  <a:pt x="0" y="0"/>
                </a:lnTo>
                <a:lnTo>
                  <a:pt x="804" y="32"/>
                </a:lnTo>
                <a:close/>
              </a:path>
            </a:pathLst>
          </a:custGeom>
          <a:solidFill>
            <a:srgbClr val="0000fe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30760" y="208584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Look"/Art,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41360" y="491796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,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8040" y="2719440"/>
            <a:ext cx="21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of Impact; of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2080" y="27756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rice is rarely an important touch-point 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0240" y="1469880"/>
            <a:ext cx="80600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547e"/>
                </a:solidFill>
                <a:latin typeface="Arial"/>
              </a:rPr>
              <a:t>Price does </a:t>
            </a:r>
            <a:r>
              <a:rPr b="0" lang="en-US" sz="2000" spc="-1" strike="noStrike" u="sng">
                <a:solidFill>
                  <a:srgbClr val="2a547e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2a547e"/>
                </a:solidFill>
                <a:latin typeface="Arial"/>
              </a:rPr>
              <a:t> have a big impact on Purchase I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2a547e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47e"/>
                </a:solidFill>
                <a:latin typeface="Arial"/>
              </a:rPr>
              <a:t>This is consistent with our Equity*Builder data-base which shows little relationship between Price and Market Sha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582560" y="2940120"/>
            <a:ext cx="5720040" cy="3404520"/>
            <a:chOff x="1582560" y="2940120"/>
            <a:chExt cx="5720040" cy="3404520"/>
          </a:xfrm>
        </p:grpSpPr>
        <p:sp>
          <p:nvSpPr>
            <p:cNvPr id="380" name=""/>
            <p:cNvSpPr/>
            <p:nvPr/>
          </p:nvSpPr>
          <p:spPr>
            <a:xfrm>
              <a:off x="2761560" y="5785200"/>
              <a:ext cx="280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ice Comparison (more expensiv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889280" y="2986200"/>
              <a:ext cx="4361760" cy="2880000"/>
              <a:chOff x="1889280" y="2986200"/>
              <a:chExt cx="4361760" cy="2880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2118960" y="3111480"/>
                <a:ext cx="4132080" cy="2754720"/>
                <a:chOff x="2118960" y="3111480"/>
                <a:chExt cx="4132080" cy="2754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193840" y="3111480"/>
                  <a:ext cx="3913200" cy="24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2356560" y="3375360"/>
                  <a:ext cx="3244680" cy="2046960"/>
                  <a:chOff x="2356560" y="3375360"/>
                  <a:chExt cx="3244680" cy="2046960"/>
                </a:xfrm>
              </p:grpSpPr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2356560" y="3375360"/>
                    <a:ext cx="3244680" cy="2046960"/>
                    <a:chOff x="2356560" y="3375360"/>
                    <a:chExt cx="3244680" cy="204696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2356560" y="3375360"/>
                      <a:ext cx="3244680" cy="204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4" h="3565">
                          <a:moveTo>
                            <a:pt x="2225" y="1018"/>
                          </a:moveTo>
                          <a:lnTo>
                            <a:pt x="2290" y="1018"/>
                          </a:lnTo>
                          <a:lnTo>
                            <a:pt x="2290" y="965"/>
                          </a:lnTo>
                          <a:lnTo>
                            <a:pt x="2225" y="965"/>
                          </a:lnTo>
                          <a:lnTo>
                            <a:pt x="2225" y="1018"/>
                          </a:lnTo>
                          <a:close/>
                          <a:moveTo>
                            <a:pt x="2240" y="1634"/>
                          </a:moveTo>
                          <a:lnTo>
                            <a:pt x="2307" y="1634"/>
                          </a:lnTo>
                          <a:lnTo>
                            <a:pt x="2307" y="1573"/>
                          </a:lnTo>
                          <a:lnTo>
                            <a:pt x="2240" y="1573"/>
                          </a:lnTo>
                          <a:lnTo>
                            <a:pt x="2240" y="1634"/>
                          </a:lnTo>
                          <a:close/>
                          <a:moveTo>
                            <a:pt x="2332" y="1825"/>
                          </a:moveTo>
                          <a:lnTo>
                            <a:pt x="2396" y="1825"/>
                          </a:lnTo>
                          <a:lnTo>
                            <a:pt x="2396" y="1771"/>
                          </a:lnTo>
                          <a:lnTo>
                            <a:pt x="2332" y="1771"/>
                          </a:lnTo>
                          <a:lnTo>
                            <a:pt x="2332" y="1825"/>
                          </a:lnTo>
                          <a:close/>
                          <a:moveTo>
                            <a:pt x="2396" y="2540"/>
                          </a:moveTo>
                          <a:lnTo>
                            <a:pt x="2453" y="2540"/>
                          </a:lnTo>
                          <a:lnTo>
                            <a:pt x="2453" y="2477"/>
                          </a:lnTo>
                          <a:lnTo>
                            <a:pt x="2396" y="2477"/>
                          </a:lnTo>
                          <a:lnTo>
                            <a:pt x="2396" y="2540"/>
                          </a:lnTo>
                          <a:close/>
                          <a:moveTo>
                            <a:pt x="2322" y="1270"/>
                          </a:moveTo>
                          <a:lnTo>
                            <a:pt x="2379" y="1270"/>
                          </a:lnTo>
                          <a:lnTo>
                            <a:pt x="2379" y="1216"/>
                          </a:lnTo>
                          <a:lnTo>
                            <a:pt x="2322" y="1216"/>
                          </a:lnTo>
                          <a:lnTo>
                            <a:pt x="2322" y="1270"/>
                          </a:lnTo>
                          <a:close/>
                          <a:moveTo>
                            <a:pt x="2062" y="2053"/>
                          </a:moveTo>
                          <a:lnTo>
                            <a:pt x="2119" y="2053"/>
                          </a:lnTo>
                          <a:lnTo>
                            <a:pt x="2119" y="1992"/>
                          </a:lnTo>
                          <a:lnTo>
                            <a:pt x="2062" y="1992"/>
                          </a:lnTo>
                          <a:lnTo>
                            <a:pt x="2062" y="2053"/>
                          </a:lnTo>
                          <a:close/>
                          <a:moveTo>
                            <a:pt x="2257" y="1673"/>
                          </a:moveTo>
                          <a:lnTo>
                            <a:pt x="2322" y="1673"/>
                          </a:lnTo>
                          <a:lnTo>
                            <a:pt x="2322" y="1619"/>
                          </a:lnTo>
                          <a:lnTo>
                            <a:pt x="2257" y="1619"/>
                          </a:lnTo>
                          <a:lnTo>
                            <a:pt x="2257" y="1673"/>
                          </a:lnTo>
                          <a:close/>
                          <a:moveTo>
                            <a:pt x="2731" y="2190"/>
                          </a:moveTo>
                          <a:lnTo>
                            <a:pt x="2796" y="2190"/>
                          </a:lnTo>
                          <a:lnTo>
                            <a:pt x="2796" y="2137"/>
                          </a:lnTo>
                          <a:lnTo>
                            <a:pt x="2731" y="2137"/>
                          </a:lnTo>
                          <a:lnTo>
                            <a:pt x="2731" y="2190"/>
                          </a:lnTo>
                          <a:close/>
                          <a:moveTo>
                            <a:pt x="3496" y="2302"/>
                          </a:moveTo>
                          <a:lnTo>
                            <a:pt x="3553" y="2302"/>
                          </a:lnTo>
                          <a:lnTo>
                            <a:pt x="3553" y="2242"/>
                          </a:lnTo>
                          <a:lnTo>
                            <a:pt x="3496" y="2242"/>
                          </a:lnTo>
                          <a:lnTo>
                            <a:pt x="3496" y="2302"/>
                          </a:lnTo>
                          <a:close/>
                          <a:moveTo>
                            <a:pt x="3324" y="1808"/>
                          </a:moveTo>
                          <a:lnTo>
                            <a:pt x="3391" y="1808"/>
                          </a:lnTo>
                          <a:lnTo>
                            <a:pt x="3391" y="1757"/>
                          </a:lnTo>
                          <a:lnTo>
                            <a:pt x="3324" y="1757"/>
                          </a:lnTo>
                          <a:lnTo>
                            <a:pt x="3324" y="1808"/>
                          </a:lnTo>
                          <a:close/>
                          <a:moveTo>
                            <a:pt x="2411" y="2675"/>
                          </a:moveTo>
                          <a:lnTo>
                            <a:pt x="2469" y="2675"/>
                          </a:lnTo>
                          <a:lnTo>
                            <a:pt x="2469" y="2622"/>
                          </a:lnTo>
                          <a:lnTo>
                            <a:pt x="2411" y="2622"/>
                          </a:lnTo>
                          <a:lnTo>
                            <a:pt x="2411" y="2675"/>
                          </a:lnTo>
                          <a:close/>
                          <a:moveTo>
                            <a:pt x="2411" y="2228"/>
                          </a:moveTo>
                          <a:lnTo>
                            <a:pt x="2469" y="2228"/>
                          </a:lnTo>
                          <a:lnTo>
                            <a:pt x="2469" y="2174"/>
                          </a:lnTo>
                          <a:lnTo>
                            <a:pt x="2411" y="2174"/>
                          </a:lnTo>
                          <a:lnTo>
                            <a:pt x="2411" y="2228"/>
                          </a:lnTo>
                          <a:close/>
                          <a:moveTo>
                            <a:pt x="3024" y="3048"/>
                          </a:moveTo>
                          <a:lnTo>
                            <a:pt x="3081" y="3048"/>
                          </a:lnTo>
                          <a:lnTo>
                            <a:pt x="3081" y="2994"/>
                          </a:lnTo>
                          <a:lnTo>
                            <a:pt x="3024" y="2994"/>
                          </a:lnTo>
                          <a:lnTo>
                            <a:pt x="3024" y="3048"/>
                          </a:lnTo>
                          <a:close/>
                          <a:moveTo>
                            <a:pt x="2697" y="1552"/>
                          </a:moveTo>
                          <a:lnTo>
                            <a:pt x="2763" y="1552"/>
                          </a:lnTo>
                          <a:lnTo>
                            <a:pt x="2763" y="1489"/>
                          </a:lnTo>
                          <a:lnTo>
                            <a:pt x="2697" y="1489"/>
                          </a:lnTo>
                          <a:lnTo>
                            <a:pt x="2697" y="1552"/>
                          </a:lnTo>
                          <a:close/>
                          <a:moveTo>
                            <a:pt x="2674" y="2896"/>
                          </a:moveTo>
                          <a:lnTo>
                            <a:pt x="2731" y="2896"/>
                          </a:lnTo>
                          <a:lnTo>
                            <a:pt x="2731" y="2843"/>
                          </a:lnTo>
                          <a:lnTo>
                            <a:pt x="2674" y="2843"/>
                          </a:lnTo>
                          <a:lnTo>
                            <a:pt x="2674" y="2896"/>
                          </a:lnTo>
                          <a:close/>
                          <a:moveTo>
                            <a:pt x="2575" y="2053"/>
                          </a:moveTo>
                          <a:lnTo>
                            <a:pt x="2640" y="2053"/>
                          </a:lnTo>
                          <a:lnTo>
                            <a:pt x="2640" y="1992"/>
                          </a:lnTo>
                          <a:lnTo>
                            <a:pt x="2575" y="1992"/>
                          </a:lnTo>
                          <a:lnTo>
                            <a:pt x="2575" y="2053"/>
                          </a:lnTo>
                          <a:close/>
                          <a:moveTo>
                            <a:pt x="2853" y="1992"/>
                          </a:moveTo>
                          <a:lnTo>
                            <a:pt x="2917" y="1992"/>
                          </a:lnTo>
                          <a:lnTo>
                            <a:pt x="2917" y="1939"/>
                          </a:lnTo>
                          <a:lnTo>
                            <a:pt x="2853" y="1939"/>
                          </a:lnTo>
                          <a:lnTo>
                            <a:pt x="2853" y="1992"/>
                          </a:lnTo>
                          <a:close/>
                          <a:moveTo>
                            <a:pt x="3709" y="1741"/>
                          </a:moveTo>
                          <a:lnTo>
                            <a:pt x="3773" y="1741"/>
                          </a:lnTo>
                          <a:lnTo>
                            <a:pt x="3773" y="1687"/>
                          </a:lnTo>
                          <a:lnTo>
                            <a:pt x="3709" y="1687"/>
                          </a:lnTo>
                          <a:lnTo>
                            <a:pt x="3709" y="1741"/>
                          </a:lnTo>
                          <a:close/>
                          <a:moveTo>
                            <a:pt x="3096" y="1536"/>
                          </a:moveTo>
                          <a:lnTo>
                            <a:pt x="3163" y="1536"/>
                          </a:lnTo>
                          <a:lnTo>
                            <a:pt x="3163" y="1475"/>
                          </a:lnTo>
                          <a:lnTo>
                            <a:pt x="3096" y="1475"/>
                          </a:lnTo>
                          <a:lnTo>
                            <a:pt x="3096" y="1536"/>
                          </a:lnTo>
                          <a:close/>
                          <a:moveTo>
                            <a:pt x="2086" y="3048"/>
                          </a:moveTo>
                          <a:lnTo>
                            <a:pt x="2151" y="3048"/>
                          </a:lnTo>
                          <a:lnTo>
                            <a:pt x="2151" y="2994"/>
                          </a:lnTo>
                          <a:lnTo>
                            <a:pt x="2086" y="2994"/>
                          </a:lnTo>
                          <a:lnTo>
                            <a:pt x="2086" y="3048"/>
                          </a:lnTo>
                          <a:close/>
                          <a:moveTo>
                            <a:pt x="2429" y="2242"/>
                          </a:moveTo>
                          <a:lnTo>
                            <a:pt x="2486" y="2242"/>
                          </a:lnTo>
                          <a:lnTo>
                            <a:pt x="2486" y="2190"/>
                          </a:lnTo>
                          <a:lnTo>
                            <a:pt x="2429" y="2190"/>
                          </a:lnTo>
                          <a:lnTo>
                            <a:pt x="2429" y="2242"/>
                          </a:lnTo>
                          <a:close/>
                          <a:moveTo>
                            <a:pt x="2674" y="1801"/>
                          </a:moveTo>
                          <a:lnTo>
                            <a:pt x="2731" y="1801"/>
                          </a:lnTo>
                          <a:lnTo>
                            <a:pt x="2731" y="1741"/>
                          </a:lnTo>
                          <a:lnTo>
                            <a:pt x="2674" y="1741"/>
                          </a:lnTo>
                          <a:lnTo>
                            <a:pt x="2674" y="1801"/>
                          </a:lnTo>
                          <a:close/>
                          <a:moveTo>
                            <a:pt x="3284" y="981"/>
                          </a:moveTo>
                          <a:lnTo>
                            <a:pt x="3341" y="981"/>
                          </a:lnTo>
                          <a:lnTo>
                            <a:pt x="3341" y="920"/>
                          </a:lnTo>
                          <a:lnTo>
                            <a:pt x="3284" y="920"/>
                          </a:lnTo>
                          <a:lnTo>
                            <a:pt x="3284" y="981"/>
                          </a:lnTo>
                          <a:close/>
                          <a:moveTo>
                            <a:pt x="2535" y="2477"/>
                          </a:moveTo>
                          <a:lnTo>
                            <a:pt x="2592" y="2477"/>
                          </a:lnTo>
                          <a:lnTo>
                            <a:pt x="2592" y="2426"/>
                          </a:lnTo>
                          <a:lnTo>
                            <a:pt x="2535" y="2426"/>
                          </a:lnTo>
                          <a:lnTo>
                            <a:pt x="2535" y="2477"/>
                          </a:lnTo>
                          <a:close/>
                          <a:moveTo>
                            <a:pt x="2607" y="2661"/>
                          </a:moveTo>
                          <a:lnTo>
                            <a:pt x="2674" y="2661"/>
                          </a:lnTo>
                          <a:lnTo>
                            <a:pt x="2674" y="2607"/>
                          </a:lnTo>
                          <a:lnTo>
                            <a:pt x="2607" y="2607"/>
                          </a:lnTo>
                          <a:lnTo>
                            <a:pt x="2607" y="2661"/>
                          </a:lnTo>
                          <a:close/>
                          <a:moveTo>
                            <a:pt x="2396" y="2561"/>
                          </a:moveTo>
                          <a:lnTo>
                            <a:pt x="2453" y="2561"/>
                          </a:lnTo>
                          <a:lnTo>
                            <a:pt x="2453" y="2509"/>
                          </a:lnTo>
                          <a:lnTo>
                            <a:pt x="2396" y="2509"/>
                          </a:lnTo>
                          <a:lnTo>
                            <a:pt x="2396" y="2561"/>
                          </a:lnTo>
                          <a:close/>
                          <a:moveTo>
                            <a:pt x="2322" y="3208"/>
                          </a:moveTo>
                          <a:lnTo>
                            <a:pt x="2379" y="3208"/>
                          </a:lnTo>
                          <a:lnTo>
                            <a:pt x="2379" y="3148"/>
                          </a:lnTo>
                          <a:lnTo>
                            <a:pt x="2322" y="3148"/>
                          </a:lnTo>
                          <a:lnTo>
                            <a:pt x="2322" y="3208"/>
                          </a:lnTo>
                          <a:close/>
                          <a:moveTo>
                            <a:pt x="3007" y="935"/>
                          </a:moveTo>
                          <a:lnTo>
                            <a:pt x="3064" y="935"/>
                          </a:lnTo>
                          <a:lnTo>
                            <a:pt x="3064" y="881"/>
                          </a:lnTo>
                          <a:lnTo>
                            <a:pt x="3007" y="881"/>
                          </a:lnTo>
                          <a:lnTo>
                            <a:pt x="3007" y="935"/>
                          </a:lnTo>
                          <a:close/>
                          <a:moveTo>
                            <a:pt x="2503" y="1231"/>
                          </a:moveTo>
                          <a:lnTo>
                            <a:pt x="2567" y="1231"/>
                          </a:lnTo>
                          <a:lnTo>
                            <a:pt x="2567" y="1170"/>
                          </a:lnTo>
                          <a:lnTo>
                            <a:pt x="2503" y="1170"/>
                          </a:lnTo>
                          <a:lnTo>
                            <a:pt x="2503" y="1231"/>
                          </a:lnTo>
                          <a:close/>
                          <a:moveTo>
                            <a:pt x="2746" y="2022"/>
                          </a:moveTo>
                          <a:lnTo>
                            <a:pt x="2803" y="2022"/>
                          </a:lnTo>
                          <a:lnTo>
                            <a:pt x="2803" y="1969"/>
                          </a:lnTo>
                          <a:lnTo>
                            <a:pt x="2746" y="1969"/>
                          </a:lnTo>
                          <a:lnTo>
                            <a:pt x="2746" y="2022"/>
                          </a:lnTo>
                          <a:close/>
                          <a:moveTo>
                            <a:pt x="2885" y="2859"/>
                          </a:moveTo>
                          <a:lnTo>
                            <a:pt x="2942" y="2859"/>
                          </a:lnTo>
                          <a:lnTo>
                            <a:pt x="2942" y="2798"/>
                          </a:lnTo>
                          <a:lnTo>
                            <a:pt x="2885" y="2798"/>
                          </a:lnTo>
                          <a:lnTo>
                            <a:pt x="2885" y="2859"/>
                          </a:lnTo>
                          <a:close/>
                          <a:moveTo>
                            <a:pt x="3130" y="1634"/>
                          </a:moveTo>
                          <a:lnTo>
                            <a:pt x="3187" y="1634"/>
                          </a:lnTo>
                          <a:lnTo>
                            <a:pt x="3187" y="1573"/>
                          </a:lnTo>
                          <a:lnTo>
                            <a:pt x="3130" y="1573"/>
                          </a:lnTo>
                          <a:lnTo>
                            <a:pt x="3130" y="1634"/>
                          </a:lnTo>
                          <a:close/>
                          <a:moveTo>
                            <a:pt x="3292" y="1216"/>
                          </a:moveTo>
                          <a:lnTo>
                            <a:pt x="3359" y="1216"/>
                          </a:lnTo>
                          <a:lnTo>
                            <a:pt x="3359" y="1156"/>
                          </a:lnTo>
                          <a:lnTo>
                            <a:pt x="3292" y="1156"/>
                          </a:lnTo>
                          <a:lnTo>
                            <a:pt x="3292" y="1216"/>
                          </a:lnTo>
                          <a:close/>
                          <a:moveTo>
                            <a:pt x="2657" y="2242"/>
                          </a:moveTo>
                          <a:lnTo>
                            <a:pt x="2714" y="2242"/>
                          </a:lnTo>
                          <a:lnTo>
                            <a:pt x="2714" y="2190"/>
                          </a:lnTo>
                          <a:lnTo>
                            <a:pt x="2657" y="2190"/>
                          </a:lnTo>
                          <a:lnTo>
                            <a:pt x="2657" y="2242"/>
                          </a:lnTo>
                          <a:close/>
                          <a:moveTo>
                            <a:pt x="2062" y="2456"/>
                          </a:moveTo>
                          <a:lnTo>
                            <a:pt x="2119" y="2456"/>
                          </a:lnTo>
                          <a:lnTo>
                            <a:pt x="2119" y="2395"/>
                          </a:lnTo>
                          <a:lnTo>
                            <a:pt x="2062" y="2395"/>
                          </a:lnTo>
                          <a:lnTo>
                            <a:pt x="2062" y="2456"/>
                          </a:lnTo>
                          <a:close/>
                          <a:moveTo>
                            <a:pt x="2697" y="2607"/>
                          </a:moveTo>
                          <a:lnTo>
                            <a:pt x="2763" y="2607"/>
                          </a:lnTo>
                          <a:lnTo>
                            <a:pt x="2763" y="2547"/>
                          </a:lnTo>
                          <a:lnTo>
                            <a:pt x="2697" y="2547"/>
                          </a:lnTo>
                          <a:lnTo>
                            <a:pt x="2697" y="2607"/>
                          </a:lnTo>
                          <a:close/>
                          <a:moveTo>
                            <a:pt x="2868" y="2342"/>
                          </a:moveTo>
                          <a:lnTo>
                            <a:pt x="2925" y="2342"/>
                          </a:lnTo>
                          <a:lnTo>
                            <a:pt x="2925" y="2288"/>
                          </a:lnTo>
                          <a:lnTo>
                            <a:pt x="2868" y="2288"/>
                          </a:lnTo>
                          <a:lnTo>
                            <a:pt x="2868" y="2342"/>
                          </a:lnTo>
                          <a:close/>
                          <a:moveTo>
                            <a:pt x="3530" y="2121"/>
                          </a:moveTo>
                          <a:lnTo>
                            <a:pt x="3587" y="2121"/>
                          </a:lnTo>
                          <a:lnTo>
                            <a:pt x="3587" y="2060"/>
                          </a:lnTo>
                          <a:lnTo>
                            <a:pt x="3530" y="2060"/>
                          </a:lnTo>
                          <a:lnTo>
                            <a:pt x="3530" y="2121"/>
                          </a:lnTo>
                          <a:close/>
                          <a:moveTo>
                            <a:pt x="2796" y="1787"/>
                          </a:moveTo>
                          <a:lnTo>
                            <a:pt x="2853" y="1787"/>
                          </a:lnTo>
                          <a:lnTo>
                            <a:pt x="2853" y="1726"/>
                          </a:lnTo>
                          <a:lnTo>
                            <a:pt x="2796" y="1726"/>
                          </a:lnTo>
                          <a:lnTo>
                            <a:pt x="2796" y="1787"/>
                          </a:lnTo>
                          <a:close/>
                          <a:moveTo>
                            <a:pt x="2575" y="1407"/>
                          </a:moveTo>
                          <a:lnTo>
                            <a:pt x="2640" y="1407"/>
                          </a:lnTo>
                          <a:lnTo>
                            <a:pt x="2640" y="1354"/>
                          </a:lnTo>
                          <a:lnTo>
                            <a:pt x="2575" y="1354"/>
                          </a:lnTo>
                          <a:lnTo>
                            <a:pt x="2575" y="1407"/>
                          </a:lnTo>
                          <a:close/>
                          <a:moveTo>
                            <a:pt x="2486" y="1573"/>
                          </a:moveTo>
                          <a:lnTo>
                            <a:pt x="2550" y="1573"/>
                          </a:lnTo>
                          <a:lnTo>
                            <a:pt x="2550" y="1520"/>
                          </a:lnTo>
                          <a:lnTo>
                            <a:pt x="2486" y="1520"/>
                          </a:lnTo>
                          <a:lnTo>
                            <a:pt x="2486" y="1573"/>
                          </a:lnTo>
                          <a:close/>
                          <a:moveTo>
                            <a:pt x="2697" y="2144"/>
                          </a:moveTo>
                          <a:lnTo>
                            <a:pt x="2763" y="2144"/>
                          </a:lnTo>
                          <a:lnTo>
                            <a:pt x="2763" y="2090"/>
                          </a:lnTo>
                          <a:lnTo>
                            <a:pt x="2697" y="2090"/>
                          </a:lnTo>
                          <a:lnTo>
                            <a:pt x="2697" y="2144"/>
                          </a:lnTo>
                          <a:close/>
                          <a:moveTo>
                            <a:pt x="945" y="2228"/>
                          </a:moveTo>
                          <a:lnTo>
                            <a:pt x="1002" y="2228"/>
                          </a:lnTo>
                          <a:lnTo>
                            <a:pt x="1002" y="2174"/>
                          </a:lnTo>
                          <a:lnTo>
                            <a:pt x="945" y="2174"/>
                          </a:lnTo>
                          <a:lnTo>
                            <a:pt x="945" y="2228"/>
                          </a:lnTo>
                          <a:close/>
                          <a:moveTo>
                            <a:pt x="2697" y="1149"/>
                          </a:moveTo>
                          <a:lnTo>
                            <a:pt x="2763" y="1149"/>
                          </a:lnTo>
                          <a:lnTo>
                            <a:pt x="2763" y="1088"/>
                          </a:lnTo>
                          <a:lnTo>
                            <a:pt x="2697" y="1088"/>
                          </a:lnTo>
                          <a:lnTo>
                            <a:pt x="2697" y="1149"/>
                          </a:lnTo>
                          <a:close/>
                          <a:moveTo>
                            <a:pt x="164" y="1741"/>
                          </a:moveTo>
                          <a:lnTo>
                            <a:pt x="228" y="1741"/>
                          </a:lnTo>
                          <a:lnTo>
                            <a:pt x="228" y="1687"/>
                          </a:lnTo>
                          <a:lnTo>
                            <a:pt x="164" y="1687"/>
                          </a:lnTo>
                          <a:lnTo>
                            <a:pt x="164" y="1741"/>
                          </a:lnTo>
                          <a:close/>
                          <a:moveTo>
                            <a:pt x="3602" y="1552"/>
                          </a:moveTo>
                          <a:lnTo>
                            <a:pt x="3659" y="1552"/>
                          </a:lnTo>
                          <a:lnTo>
                            <a:pt x="3659" y="1489"/>
                          </a:lnTo>
                          <a:lnTo>
                            <a:pt x="3602" y="1489"/>
                          </a:lnTo>
                          <a:lnTo>
                            <a:pt x="3602" y="1552"/>
                          </a:lnTo>
                          <a:close/>
                          <a:moveTo>
                            <a:pt x="3798" y="1475"/>
                          </a:moveTo>
                          <a:lnTo>
                            <a:pt x="3863" y="1475"/>
                          </a:lnTo>
                          <a:lnTo>
                            <a:pt x="3863" y="1422"/>
                          </a:lnTo>
                          <a:lnTo>
                            <a:pt x="3798" y="1422"/>
                          </a:lnTo>
                          <a:lnTo>
                            <a:pt x="3798" y="1475"/>
                          </a:lnTo>
                          <a:close/>
                          <a:moveTo>
                            <a:pt x="3619" y="2591"/>
                          </a:moveTo>
                          <a:lnTo>
                            <a:pt x="3676" y="2591"/>
                          </a:lnTo>
                          <a:lnTo>
                            <a:pt x="3676" y="2540"/>
                          </a:lnTo>
                          <a:lnTo>
                            <a:pt x="3619" y="2540"/>
                          </a:lnTo>
                          <a:lnTo>
                            <a:pt x="3619" y="2591"/>
                          </a:lnTo>
                          <a:close/>
                          <a:moveTo>
                            <a:pt x="2640" y="2859"/>
                          </a:moveTo>
                          <a:lnTo>
                            <a:pt x="2697" y="2859"/>
                          </a:lnTo>
                          <a:lnTo>
                            <a:pt x="2697" y="2798"/>
                          </a:lnTo>
                          <a:lnTo>
                            <a:pt x="2640" y="2798"/>
                          </a:lnTo>
                          <a:lnTo>
                            <a:pt x="2640" y="2859"/>
                          </a:lnTo>
                          <a:close/>
                          <a:moveTo>
                            <a:pt x="2396" y="2577"/>
                          </a:moveTo>
                          <a:lnTo>
                            <a:pt x="2453" y="2577"/>
                          </a:lnTo>
                          <a:lnTo>
                            <a:pt x="2453" y="2524"/>
                          </a:lnTo>
                          <a:lnTo>
                            <a:pt x="2396" y="2524"/>
                          </a:lnTo>
                          <a:lnTo>
                            <a:pt x="2396" y="2577"/>
                          </a:lnTo>
                          <a:close/>
                          <a:moveTo>
                            <a:pt x="2453" y="2798"/>
                          </a:moveTo>
                          <a:lnTo>
                            <a:pt x="2518" y="2798"/>
                          </a:lnTo>
                          <a:lnTo>
                            <a:pt x="2518" y="2745"/>
                          </a:lnTo>
                          <a:lnTo>
                            <a:pt x="2453" y="2745"/>
                          </a:lnTo>
                          <a:lnTo>
                            <a:pt x="2453" y="2798"/>
                          </a:lnTo>
                          <a:close/>
                          <a:moveTo>
                            <a:pt x="2575" y="1520"/>
                          </a:moveTo>
                          <a:lnTo>
                            <a:pt x="2640" y="1520"/>
                          </a:lnTo>
                          <a:lnTo>
                            <a:pt x="2640" y="1468"/>
                          </a:lnTo>
                          <a:lnTo>
                            <a:pt x="2575" y="1468"/>
                          </a:lnTo>
                          <a:lnTo>
                            <a:pt x="2575" y="1520"/>
                          </a:lnTo>
                          <a:close/>
                          <a:moveTo>
                            <a:pt x="2086" y="1657"/>
                          </a:moveTo>
                          <a:lnTo>
                            <a:pt x="2151" y="1657"/>
                          </a:lnTo>
                          <a:lnTo>
                            <a:pt x="2151" y="1603"/>
                          </a:lnTo>
                          <a:lnTo>
                            <a:pt x="2086" y="1603"/>
                          </a:lnTo>
                          <a:lnTo>
                            <a:pt x="2086" y="1657"/>
                          </a:lnTo>
                          <a:close/>
                          <a:moveTo>
                            <a:pt x="1312" y="2964"/>
                          </a:moveTo>
                          <a:lnTo>
                            <a:pt x="1369" y="2964"/>
                          </a:lnTo>
                          <a:lnTo>
                            <a:pt x="1369" y="2911"/>
                          </a:lnTo>
                          <a:lnTo>
                            <a:pt x="1312" y="2911"/>
                          </a:lnTo>
                          <a:lnTo>
                            <a:pt x="1312" y="2964"/>
                          </a:lnTo>
                          <a:close/>
                          <a:moveTo>
                            <a:pt x="2640" y="3565"/>
                          </a:moveTo>
                          <a:lnTo>
                            <a:pt x="2697" y="3565"/>
                          </a:lnTo>
                          <a:lnTo>
                            <a:pt x="2697" y="3512"/>
                          </a:lnTo>
                          <a:lnTo>
                            <a:pt x="2640" y="3512"/>
                          </a:lnTo>
                          <a:lnTo>
                            <a:pt x="2640" y="3565"/>
                          </a:lnTo>
                          <a:close/>
                          <a:moveTo>
                            <a:pt x="2917" y="1520"/>
                          </a:moveTo>
                          <a:lnTo>
                            <a:pt x="2974" y="1520"/>
                          </a:lnTo>
                          <a:lnTo>
                            <a:pt x="2974" y="1468"/>
                          </a:lnTo>
                          <a:lnTo>
                            <a:pt x="2917" y="1468"/>
                          </a:lnTo>
                          <a:lnTo>
                            <a:pt x="2917" y="1520"/>
                          </a:lnTo>
                          <a:close/>
                          <a:moveTo>
                            <a:pt x="2151" y="61"/>
                          </a:moveTo>
                          <a:lnTo>
                            <a:pt x="2208" y="61"/>
                          </a:lnTo>
                          <a:lnTo>
                            <a:pt x="2208" y="0"/>
                          </a:lnTo>
                          <a:lnTo>
                            <a:pt x="2151" y="0"/>
                          </a:lnTo>
                          <a:lnTo>
                            <a:pt x="2151" y="61"/>
                          </a:lnTo>
                          <a:close/>
                          <a:moveTo>
                            <a:pt x="1419" y="2311"/>
                          </a:moveTo>
                          <a:lnTo>
                            <a:pt x="1483" y="2311"/>
                          </a:lnTo>
                          <a:lnTo>
                            <a:pt x="1483" y="2258"/>
                          </a:lnTo>
                          <a:lnTo>
                            <a:pt x="1419" y="2258"/>
                          </a:lnTo>
                          <a:lnTo>
                            <a:pt x="1419" y="2311"/>
                          </a:lnTo>
                          <a:close/>
                          <a:moveTo>
                            <a:pt x="3496" y="1520"/>
                          </a:moveTo>
                          <a:lnTo>
                            <a:pt x="3553" y="1520"/>
                          </a:lnTo>
                          <a:lnTo>
                            <a:pt x="3553" y="1468"/>
                          </a:lnTo>
                          <a:lnTo>
                            <a:pt x="3496" y="1468"/>
                          </a:lnTo>
                          <a:lnTo>
                            <a:pt x="3496" y="1520"/>
                          </a:lnTo>
                          <a:close/>
                          <a:moveTo>
                            <a:pt x="896" y="2426"/>
                          </a:moveTo>
                          <a:lnTo>
                            <a:pt x="962" y="2426"/>
                          </a:lnTo>
                          <a:lnTo>
                            <a:pt x="962" y="2372"/>
                          </a:lnTo>
                          <a:lnTo>
                            <a:pt x="896" y="2372"/>
                          </a:lnTo>
                          <a:lnTo>
                            <a:pt x="896" y="2426"/>
                          </a:lnTo>
                          <a:close/>
                          <a:moveTo>
                            <a:pt x="3267" y="920"/>
                          </a:moveTo>
                          <a:lnTo>
                            <a:pt x="3324" y="920"/>
                          </a:lnTo>
                          <a:lnTo>
                            <a:pt x="3324" y="867"/>
                          </a:lnTo>
                          <a:lnTo>
                            <a:pt x="3267" y="867"/>
                          </a:lnTo>
                          <a:lnTo>
                            <a:pt x="3267" y="920"/>
                          </a:lnTo>
                          <a:close/>
                          <a:moveTo>
                            <a:pt x="2779" y="1939"/>
                          </a:moveTo>
                          <a:lnTo>
                            <a:pt x="2836" y="1939"/>
                          </a:lnTo>
                          <a:lnTo>
                            <a:pt x="2836" y="1885"/>
                          </a:lnTo>
                          <a:lnTo>
                            <a:pt x="2779" y="1885"/>
                          </a:lnTo>
                          <a:lnTo>
                            <a:pt x="2779" y="1939"/>
                          </a:lnTo>
                          <a:close/>
                          <a:moveTo>
                            <a:pt x="407" y="2622"/>
                          </a:moveTo>
                          <a:lnTo>
                            <a:pt x="474" y="2622"/>
                          </a:lnTo>
                          <a:lnTo>
                            <a:pt x="474" y="2561"/>
                          </a:lnTo>
                          <a:lnTo>
                            <a:pt x="407" y="2561"/>
                          </a:lnTo>
                          <a:lnTo>
                            <a:pt x="407" y="2622"/>
                          </a:lnTo>
                          <a:close/>
                          <a:moveTo>
                            <a:pt x="3081" y="2174"/>
                          </a:moveTo>
                          <a:lnTo>
                            <a:pt x="3146" y="2174"/>
                          </a:lnTo>
                          <a:lnTo>
                            <a:pt x="3146" y="2121"/>
                          </a:lnTo>
                          <a:lnTo>
                            <a:pt x="3081" y="2121"/>
                          </a:lnTo>
                          <a:lnTo>
                            <a:pt x="3081" y="2174"/>
                          </a:lnTo>
                          <a:close/>
                          <a:moveTo>
                            <a:pt x="2257" y="2524"/>
                          </a:moveTo>
                          <a:lnTo>
                            <a:pt x="2322" y="2524"/>
                          </a:lnTo>
                          <a:lnTo>
                            <a:pt x="2322" y="2463"/>
                          </a:lnTo>
                          <a:lnTo>
                            <a:pt x="2257" y="2463"/>
                          </a:lnTo>
                          <a:lnTo>
                            <a:pt x="2257" y="2524"/>
                          </a:lnTo>
                          <a:close/>
                          <a:moveTo>
                            <a:pt x="3813" y="1240"/>
                          </a:moveTo>
                          <a:lnTo>
                            <a:pt x="3880" y="1240"/>
                          </a:lnTo>
                          <a:lnTo>
                            <a:pt x="3880" y="1186"/>
                          </a:lnTo>
                          <a:lnTo>
                            <a:pt x="3813" y="1186"/>
                          </a:lnTo>
                          <a:lnTo>
                            <a:pt x="3813" y="1240"/>
                          </a:lnTo>
                          <a:close/>
                          <a:moveTo>
                            <a:pt x="3081" y="1839"/>
                          </a:moveTo>
                          <a:lnTo>
                            <a:pt x="3146" y="1839"/>
                          </a:lnTo>
                          <a:lnTo>
                            <a:pt x="3146" y="1787"/>
                          </a:lnTo>
                          <a:lnTo>
                            <a:pt x="3081" y="1787"/>
                          </a:lnTo>
                          <a:lnTo>
                            <a:pt x="3081" y="1839"/>
                          </a:lnTo>
                          <a:close/>
                          <a:moveTo>
                            <a:pt x="3659" y="2409"/>
                          </a:moveTo>
                          <a:lnTo>
                            <a:pt x="3724" y="2409"/>
                          </a:lnTo>
                          <a:lnTo>
                            <a:pt x="3724" y="2356"/>
                          </a:lnTo>
                          <a:lnTo>
                            <a:pt x="3659" y="2356"/>
                          </a:lnTo>
                          <a:lnTo>
                            <a:pt x="3659" y="2409"/>
                          </a:lnTo>
                          <a:close/>
                          <a:moveTo>
                            <a:pt x="3406" y="2493"/>
                          </a:moveTo>
                          <a:lnTo>
                            <a:pt x="3463" y="2493"/>
                          </a:lnTo>
                          <a:lnTo>
                            <a:pt x="3463" y="2440"/>
                          </a:lnTo>
                          <a:lnTo>
                            <a:pt x="3406" y="2440"/>
                          </a:lnTo>
                          <a:lnTo>
                            <a:pt x="3406" y="2493"/>
                          </a:lnTo>
                          <a:close/>
                          <a:moveTo>
                            <a:pt x="2836" y="1976"/>
                          </a:moveTo>
                          <a:lnTo>
                            <a:pt x="2902" y="1976"/>
                          </a:lnTo>
                          <a:lnTo>
                            <a:pt x="2902" y="1923"/>
                          </a:lnTo>
                          <a:lnTo>
                            <a:pt x="2836" y="1923"/>
                          </a:lnTo>
                          <a:lnTo>
                            <a:pt x="2836" y="1976"/>
                          </a:lnTo>
                          <a:close/>
                          <a:moveTo>
                            <a:pt x="2575" y="1657"/>
                          </a:moveTo>
                          <a:lnTo>
                            <a:pt x="2640" y="1657"/>
                          </a:lnTo>
                          <a:lnTo>
                            <a:pt x="2640" y="1603"/>
                          </a:lnTo>
                          <a:lnTo>
                            <a:pt x="2575" y="1603"/>
                          </a:lnTo>
                          <a:lnTo>
                            <a:pt x="2575" y="1657"/>
                          </a:lnTo>
                          <a:close/>
                          <a:moveTo>
                            <a:pt x="2208" y="1757"/>
                          </a:moveTo>
                          <a:lnTo>
                            <a:pt x="2275" y="1757"/>
                          </a:lnTo>
                          <a:lnTo>
                            <a:pt x="2275" y="1703"/>
                          </a:lnTo>
                          <a:lnTo>
                            <a:pt x="2208" y="1703"/>
                          </a:lnTo>
                          <a:lnTo>
                            <a:pt x="2208" y="1757"/>
                          </a:lnTo>
                          <a:close/>
                          <a:moveTo>
                            <a:pt x="1141" y="3025"/>
                          </a:moveTo>
                          <a:lnTo>
                            <a:pt x="1206" y="3025"/>
                          </a:lnTo>
                          <a:lnTo>
                            <a:pt x="1206" y="2964"/>
                          </a:lnTo>
                          <a:lnTo>
                            <a:pt x="1141" y="2964"/>
                          </a:lnTo>
                          <a:lnTo>
                            <a:pt x="1141" y="3025"/>
                          </a:lnTo>
                          <a:close/>
                          <a:moveTo>
                            <a:pt x="424" y="2395"/>
                          </a:moveTo>
                          <a:lnTo>
                            <a:pt x="489" y="2395"/>
                          </a:lnTo>
                          <a:lnTo>
                            <a:pt x="489" y="2342"/>
                          </a:lnTo>
                          <a:lnTo>
                            <a:pt x="424" y="2342"/>
                          </a:lnTo>
                          <a:lnTo>
                            <a:pt x="424" y="2395"/>
                          </a:lnTo>
                          <a:close/>
                          <a:moveTo>
                            <a:pt x="2925" y="1452"/>
                          </a:moveTo>
                          <a:lnTo>
                            <a:pt x="2992" y="1452"/>
                          </a:lnTo>
                          <a:lnTo>
                            <a:pt x="2992" y="1398"/>
                          </a:lnTo>
                          <a:lnTo>
                            <a:pt x="2925" y="1398"/>
                          </a:lnTo>
                          <a:lnTo>
                            <a:pt x="2925" y="1452"/>
                          </a:lnTo>
                          <a:close/>
                          <a:moveTo>
                            <a:pt x="3163" y="1771"/>
                          </a:moveTo>
                          <a:lnTo>
                            <a:pt x="3220" y="1771"/>
                          </a:lnTo>
                          <a:lnTo>
                            <a:pt x="3220" y="1718"/>
                          </a:lnTo>
                          <a:lnTo>
                            <a:pt x="3163" y="1718"/>
                          </a:lnTo>
                          <a:lnTo>
                            <a:pt x="3163" y="1771"/>
                          </a:lnTo>
                          <a:close/>
                          <a:moveTo>
                            <a:pt x="3570" y="920"/>
                          </a:moveTo>
                          <a:lnTo>
                            <a:pt x="3634" y="920"/>
                          </a:lnTo>
                          <a:lnTo>
                            <a:pt x="3634" y="867"/>
                          </a:lnTo>
                          <a:lnTo>
                            <a:pt x="3570" y="867"/>
                          </a:lnTo>
                          <a:lnTo>
                            <a:pt x="3570" y="920"/>
                          </a:lnTo>
                          <a:close/>
                          <a:moveTo>
                            <a:pt x="2503" y="2843"/>
                          </a:moveTo>
                          <a:lnTo>
                            <a:pt x="2567" y="2843"/>
                          </a:lnTo>
                          <a:lnTo>
                            <a:pt x="2567" y="2789"/>
                          </a:lnTo>
                          <a:lnTo>
                            <a:pt x="2503" y="2789"/>
                          </a:lnTo>
                          <a:lnTo>
                            <a:pt x="2503" y="2843"/>
                          </a:lnTo>
                          <a:close/>
                          <a:moveTo>
                            <a:pt x="2535" y="2386"/>
                          </a:moveTo>
                          <a:lnTo>
                            <a:pt x="2592" y="2386"/>
                          </a:lnTo>
                          <a:lnTo>
                            <a:pt x="2592" y="2326"/>
                          </a:lnTo>
                          <a:lnTo>
                            <a:pt x="2535" y="2326"/>
                          </a:lnTo>
                          <a:lnTo>
                            <a:pt x="2535" y="2386"/>
                          </a:lnTo>
                          <a:close/>
                          <a:moveTo>
                            <a:pt x="3096" y="2994"/>
                          </a:moveTo>
                          <a:lnTo>
                            <a:pt x="3163" y="2994"/>
                          </a:lnTo>
                          <a:lnTo>
                            <a:pt x="3163" y="2941"/>
                          </a:lnTo>
                          <a:lnTo>
                            <a:pt x="3096" y="2941"/>
                          </a:lnTo>
                          <a:lnTo>
                            <a:pt x="3096" y="2994"/>
                          </a:lnTo>
                          <a:close/>
                          <a:moveTo>
                            <a:pt x="2469" y="2645"/>
                          </a:moveTo>
                          <a:lnTo>
                            <a:pt x="2535" y="2645"/>
                          </a:lnTo>
                          <a:lnTo>
                            <a:pt x="2535" y="2591"/>
                          </a:lnTo>
                          <a:lnTo>
                            <a:pt x="2469" y="2591"/>
                          </a:lnTo>
                          <a:lnTo>
                            <a:pt x="2469" y="2645"/>
                          </a:lnTo>
                          <a:close/>
                          <a:moveTo>
                            <a:pt x="3984" y="1505"/>
                          </a:moveTo>
                          <a:lnTo>
                            <a:pt x="4041" y="1505"/>
                          </a:lnTo>
                          <a:lnTo>
                            <a:pt x="4041" y="1452"/>
                          </a:lnTo>
                          <a:lnTo>
                            <a:pt x="3984" y="1452"/>
                          </a:lnTo>
                          <a:lnTo>
                            <a:pt x="3984" y="1505"/>
                          </a:lnTo>
                          <a:close/>
                          <a:moveTo>
                            <a:pt x="3130" y="3109"/>
                          </a:moveTo>
                          <a:lnTo>
                            <a:pt x="3187" y="3109"/>
                          </a:lnTo>
                          <a:lnTo>
                            <a:pt x="3187" y="3048"/>
                          </a:lnTo>
                          <a:lnTo>
                            <a:pt x="3130" y="3048"/>
                          </a:lnTo>
                          <a:lnTo>
                            <a:pt x="3130" y="3109"/>
                          </a:lnTo>
                          <a:close/>
                          <a:moveTo>
                            <a:pt x="2714" y="1657"/>
                          </a:moveTo>
                          <a:lnTo>
                            <a:pt x="2779" y="1657"/>
                          </a:lnTo>
                          <a:lnTo>
                            <a:pt x="2779" y="1603"/>
                          </a:lnTo>
                          <a:lnTo>
                            <a:pt x="2714" y="1603"/>
                          </a:lnTo>
                          <a:lnTo>
                            <a:pt x="2714" y="1657"/>
                          </a:lnTo>
                          <a:close/>
                          <a:moveTo>
                            <a:pt x="2208" y="1992"/>
                          </a:moveTo>
                          <a:lnTo>
                            <a:pt x="2275" y="1992"/>
                          </a:lnTo>
                          <a:lnTo>
                            <a:pt x="2275" y="1939"/>
                          </a:lnTo>
                          <a:lnTo>
                            <a:pt x="2208" y="1939"/>
                          </a:lnTo>
                          <a:lnTo>
                            <a:pt x="2208" y="1992"/>
                          </a:lnTo>
                          <a:close/>
                          <a:moveTo>
                            <a:pt x="2796" y="2631"/>
                          </a:moveTo>
                          <a:lnTo>
                            <a:pt x="2853" y="2631"/>
                          </a:lnTo>
                          <a:lnTo>
                            <a:pt x="2853" y="2577"/>
                          </a:lnTo>
                          <a:lnTo>
                            <a:pt x="2796" y="2577"/>
                          </a:lnTo>
                          <a:lnTo>
                            <a:pt x="2796" y="2631"/>
                          </a:lnTo>
                          <a:close/>
                          <a:moveTo>
                            <a:pt x="2731" y="881"/>
                          </a:moveTo>
                          <a:lnTo>
                            <a:pt x="2796" y="881"/>
                          </a:lnTo>
                          <a:lnTo>
                            <a:pt x="2796" y="821"/>
                          </a:lnTo>
                          <a:lnTo>
                            <a:pt x="2731" y="821"/>
                          </a:lnTo>
                          <a:lnTo>
                            <a:pt x="2731" y="881"/>
                          </a:lnTo>
                          <a:close/>
                          <a:moveTo>
                            <a:pt x="2607" y="1102"/>
                          </a:moveTo>
                          <a:lnTo>
                            <a:pt x="2674" y="1102"/>
                          </a:lnTo>
                          <a:lnTo>
                            <a:pt x="2674" y="1049"/>
                          </a:lnTo>
                          <a:lnTo>
                            <a:pt x="2607" y="1049"/>
                          </a:lnTo>
                          <a:lnTo>
                            <a:pt x="2607" y="1102"/>
                          </a:lnTo>
                          <a:close/>
                          <a:moveTo>
                            <a:pt x="2885" y="2561"/>
                          </a:moveTo>
                          <a:lnTo>
                            <a:pt x="2942" y="2561"/>
                          </a:lnTo>
                          <a:lnTo>
                            <a:pt x="2942" y="2509"/>
                          </a:lnTo>
                          <a:lnTo>
                            <a:pt x="2885" y="2509"/>
                          </a:lnTo>
                          <a:lnTo>
                            <a:pt x="2885" y="2561"/>
                          </a:lnTo>
                          <a:close/>
                          <a:moveTo>
                            <a:pt x="4001" y="1757"/>
                          </a:moveTo>
                          <a:lnTo>
                            <a:pt x="4058" y="1757"/>
                          </a:lnTo>
                          <a:lnTo>
                            <a:pt x="4058" y="1703"/>
                          </a:lnTo>
                          <a:lnTo>
                            <a:pt x="4001" y="1703"/>
                          </a:lnTo>
                          <a:lnTo>
                            <a:pt x="4001" y="1757"/>
                          </a:lnTo>
                          <a:close/>
                          <a:moveTo>
                            <a:pt x="3081" y="2426"/>
                          </a:moveTo>
                          <a:lnTo>
                            <a:pt x="3146" y="2426"/>
                          </a:lnTo>
                          <a:lnTo>
                            <a:pt x="3146" y="2372"/>
                          </a:lnTo>
                          <a:lnTo>
                            <a:pt x="3081" y="2372"/>
                          </a:lnTo>
                          <a:lnTo>
                            <a:pt x="3081" y="2426"/>
                          </a:lnTo>
                          <a:close/>
                          <a:moveTo>
                            <a:pt x="3039" y="2911"/>
                          </a:moveTo>
                          <a:lnTo>
                            <a:pt x="3096" y="2911"/>
                          </a:lnTo>
                          <a:lnTo>
                            <a:pt x="3096" y="2859"/>
                          </a:lnTo>
                          <a:lnTo>
                            <a:pt x="3039" y="2859"/>
                          </a:lnTo>
                          <a:lnTo>
                            <a:pt x="3039" y="2911"/>
                          </a:lnTo>
                          <a:close/>
                          <a:moveTo>
                            <a:pt x="3309" y="2843"/>
                          </a:moveTo>
                          <a:lnTo>
                            <a:pt x="3374" y="2843"/>
                          </a:lnTo>
                          <a:lnTo>
                            <a:pt x="3374" y="2789"/>
                          </a:lnTo>
                          <a:lnTo>
                            <a:pt x="3309" y="2789"/>
                          </a:lnTo>
                          <a:lnTo>
                            <a:pt x="3309" y="2843"/>
                          </a:lnTo>
                          <a:close/>
                          <a:moveTo>
                            <a:pt x="1801" y="1407"/>
                          </a:moveTo>
                          <a:lnTo>
                            <a:pt x="1858" y="1407"/>
                          </a:lnTo>
                          <a:lnTo>
                            <a:pt x="1858" y="1354"/>
                          </a:lnTo>
                          <a:lnTo>
                            <a:pt x="1801" y="1354"/>
                          </a:lnTo>
                          <a:lnTo>
                            <a:pt x="1801" y="1407"/>
                          </a:lnTo>
                          <a:close/>
                          <a:moveTo>
                            <a:pt x="3513" y="1284"/>
                          </a:moveTo>
                          <a:lnTo>
                            <a:pt x="3570" y="1284"/>
                          </a:lnTo>
                          <a:lnTo>
                            <a:pt x="3570" y="1231"/>
                          </a:lnTo>
                          <a:lnTo>
                            <a:pt x="3513" y="1231"/>
                          </a:lnTo>
                          <a:lnTo>
                            <a:pt x="3513" y="1284"/>
                          </a:lnTo>
                          <a:close/>
                          <a:moveTo>
                            <a:pt x="3341" y="2577"/>
                          </a:moveTo>
                          <a:lnTo>
                            <a:pt x="3406" y="2577"/>
                          </a:lnTo>
                          <a:lnTo>
                            <a:pt x="3406" y="2524"/>
                          </a:lnTo>
                          <a:lnTo>
                            <a:pt x="3341" y="2524"/>
                          </a:lnTo>
                          <a:lnTo>
                            <a:pt x="3341" y="2577"/>
                          </a:lnTo>
                          <a:close/>
                          <a:moveTo>
                            <a:pt x="2657" y="1908"/>
                          </a:moveTo>
                          <a:lnTo>
                            <a:pt x="2714" y="1908"/>
                          </a:lnTo>
                          <a:lnTo>
                            <a:pt x="2714" y="1855"/>
                          </a:lnTo>
                          <a:lnTo>
                            <a:pt x="2657" y="1855"/>
                          </a:lnTo>
                          <a:lnTo>
                            <a:pt x="2657" y="1908"/>
                          </a:lnTo>
                          <a:close/>
                          <a:moveTo>
                            <a:pt x="3170" y="2228"/>
                          </a:moveTo>
                          <a:lnTo>
                            <a:pt x="3235" y="2228"/>
                          </a:lnTo>
                          <a:lnTo>
                            <a:pt x="3235" y="2174"/>
                          </a:lnTo>
                          <a:lnTo>
                            <a:pt x="3170" y="2174"/>
                          </a:lnTo>
                          <a:lnTo>
                            <a:pt x="3170" y="2228"/>
                          </a:lnTo>
                          <a:close/>
                          <a:moveTo>
                            <a:pt x="3341" y="2524"/>
                          </a:moveTo>
                          <a:lnTo>
                            <a:pt x="3406" y="2524"/>
                          </a:lnTo>
                          <a:lnTo>
                            <a:pt x="3406" y="2463"/>
                          </a:lnTo>
                          <a:lnTo>
                            <a:pt x="3341" y="2463"/>
                          </a:lnTo>
                          <a:lnTo>
                            <a:pt x="3341" y="2524"/>
                          </a:lnTo>
                          <a:close/>
                          <a:moveTo>
                            <a:pt x="3267" y="2076"/>
                          </a:moveTo>
                          <a:lnTo>
                            <a:pt x="3324" y="2076"/>
                          </a:lnTo>
                          <a:lnTo>
                            <a:pt x="3324" y="2022"/>
                          </a:lnTo>
                          <a:lnTo>
                            <a:pt x="3267" y="2022"/>
                          </a:lnTo>
                          <a:lnTo>
                            <a:pt x="3267" y="2076"/>
                          </a:lnTo>
                          <a:close/>
                          <a:moveTo>
                            <a:pt x="2518" y="2661"/>
                          </a:moveTo>
                          <a:lnTo>
                            <a:pt x="2575" y="2661"/>
                          </a:lnTo>
                          <a:lnTo>
                            <a:pt x="2575" y="2607"/>
                          </a:lnTo>
                          <a:lnTo>
                            <a:pt x="2518" y="2607"/>
                          </a:lnTo>
                          <a:lnTo>
                            <a:pt x="2518" y="2661"/>
                          </a:lnTo>
                          <a:close/>
                          <a:moveTo>
                            <a:pt x="2779" y="2386"/>
                          </a:moveTo>
                          <a:lnTo>
                            <a:pt x="2836" y="2386"/>
                          </a:lnTo>
                          <a:lnTo>
                            <a:pt x="2836" y="2326"/>
                          </a:lnTo>
                          <a:lnTo>
                            <a:pt x="2779" y="2326"/>
                          </a:lnTo>
                          <a:lnTo>
                            <a:pt x="2779" y="2386"/>
                          </a:lnTo>
                          <a:close/>
                          <a:moveTo>
                            <a:pt x="546" y="2691"/>
                          </a:moveTo>
                          <a:lnTo>
                            <a:pt x="611" y="2691"/>
                          </a:lnTo>
                          <a:lnTo>
                            <a:pt x="611" y="2631"/>
                          </a:lnTo>
                          <a:lnTo>
                            <a:pt x="546" y="2631"/>
                          </a:lnTo>
                          <a:lnTo>
                            <a:pt x="546" y="2691"/>
                          </a:lnTo>
                          <a:close/>
                          <a:moveTo>
                            <a:pt x="2925" y="2272"/>
                          </a:moveTo>
                          <a:lnTo>
                            <a:pt x="2992" y="2272"/>
                          </a:lnTo>
                          <a:lnTo>
                            <a:pt x="2992" y="2220"/>
                          </a:lnTo>
                          <a:lnTo>
                            <a:pt x="2925" y="2220"/>
                          </a:lnTo>
                          <a:lnTo>
                            <a:pt x="2925" y="2272"/>
                          </a:lnTo>
                          <a:close/>
                          <a:moveTo>
                            <a:pt x="4425" y="1808"/>
                          </a:moveTo>
                          <a:lnTo>
                            <a:pt x="4490" y="1808"/>
                          </a:lnTo>
                          <a:lnTo>
                            <a:pt x="4490" y="1757"/>
                          </a:lnTo>
                          <a:lnTo>
                            <a:pt x="4425" y="1757"/>
                          </a:lnTo>
                          <a:lnTo>
                            <a:pt x="4425" y="1808"/>
                          </a:lnTo>
                          <a:close/>
                          <a:moveTo>
                            <a:pt x="3170" y="1673"/>
                          </a:moveTo>
                          <a:lnTo>
                            <a:pt x="3235" y="1673"/>
                          </a:lnTo>
                          <a:lnTo>
                            <a:pt x="3235" y="1619"/>
                          </a:lnTo>
                          <a:lnTo>
                            <a:pt x="3170" y="1619"/>
                          </a:lnTo>
                          <a:lnTo>
                            <a:pt x="3170" y="1673"/>
                          </a:lnTo>
                          <a:close/>
                          <a:moveTo>
                            <a:pt x="578" y="2509"/>
                          </a:moveTo>
                          <a:lnTo>
                            <a:pt x="645" y="2509"/>
                          </a:lnTo>
                          <a:lnTo>
                            <a:pt x="645" y="2456"/>
                          </a:lnTo>
                          <a:lnTo>
                            <a:pt x="578" y="2456"/>
                          </a:lnTo>
                          <a:lnTo>
                            <a:pt x="578" y="2509"/>
                          </a:lnTo>
                          <a:close/>
                          <a:moveTo>
                            <a:pt x="4076" y="2302"/>
                          </a:moveTo>
                          <a:lnTo>
                            <a:pt x="4133" y="2302"/>
                          </a:lnTo>
                          <a:lnTo>
                            <a:pt x="4133" y="2242"/>
                          </a:lnTo>
                          <a:lnTo>
                            <a:pt x="4076" y="2242"/>
                          </a:lnTo>
                          <a:lnTo>
                            <a:pt x="4076" y="2302"/>
                          </a:lnTo>
                          <a:close/>
                          <a:moveTo>
                            <a:pt x="2674" y="1438"/>
                          </a:moveTo>
                          <a:lnTo>
                            <a:pt x="2731" y="1438"/>
                          </a:lnTo>
                          <a:lnTo>
                            <a:pt x="2731" y="1384"/>
                          </a:lnTo>
                          <a:lnTo>
                            <a:pt x="2674" y="1384"/>
                          </a:lnTo>
                          <a:lnTo>
                            <a:pt x="2674" y="1438"/>
                          </a:lnTo>
                          <a:close/>
                          <a:moveTo>
                            <a:pt x="1752" y="2607"/>
                          </a:moveTo>
                          <a:lnTo>
                            <a:pt x="1818" y="2607"/>
                          </a:lnTo>
                          <a:lnTo>
                            <a:pt x="1818" y="2547"/>
                          </a:lnTo>
                          <a:lnTo>
                            <a:pt x="1752" y="2547"/>
                          </a:lnTo>
                          <a:lnTo>
                            <a:pt x="1752" y="2607"/>
                          </a:lnTo>
                          <a:close/>
                          <a:moveTo>
                            <a:pt x="2836" y="3064"/>
                          </a:moveTo>
                          <a:lnTo>
                            <a:pt x="2902" y="3064"/>
                          </a:lnTo>
                          <a:lnTo>
                            <a:pt x="2902" y="3010"/>
                          </a:lnTo>
                          <a:lnTo>
                            <a:pt x="2836" y="3010"/>
                          </a:lnTo>
                          <a:lnTo>
                            <a:pt x="2836" y="3064"/>
                          </a:lnTo>
                          <a:close/>
                          <a:moveTo>
                            <a:pt x="4133" y="2463"/>
                          </a:moveTo>
                          <a:lnTo>
                            <a:pt x="4197" y="2463"/>
                          </a:lnTo>
                          <a:lnTo>
                            <a:pt x="4197" y="2409"/>
                          </a:lnTo>
                          <a:lnTo>
                            <a:pt x="4133" y="2409"/>
                          </a:lnTo>
                          <a:lnTo>
                            <a:pt x="4133" y="2463"/>
                          </a:lnTo>
                          <a:close/>
                          <a:moveTo>
                            <a:pt x="3863" y="2174"/>
                          </a:moveTo>
                          <a:lnTo>
                            <a:pt x="3920" y="2174"/>
                          </a:lnTo>
                          <a:lnTo>
                            <a:pt x="3920" y="2121"/>
                          </a:lnTo>
                          <a:lnTo>
                            <a:pt x="3863" y="2121"/>
                          </a:lnTo>
                          <a:lnTo>
                            <a:pt x="3863" y="2174"/>
                          </a:lnTo>
                          <a:close/>
                          <a:moveTo>
                            <a:pt x="2803" y="1953"/>
                          </a:moveTo>
                          <a:lnTo>
                            <a:pt x="2868" y="1953"/>
                          </a:lnTo>
                          <a:lnTo>
                            <a:pt x="2868" y="1892"/>
                          </a:lnTo>
                          <a:lnTo>
                            <a:pt x="2803" y="1892"/>
                          </a:lnTo>
                          <a:lnTo>
                            <a:pt x="2803" y="1953"/>
                          </a:lnTo>
                          <a:close/>
                          <a:moveTo>
                            <a:pt x="4336" y="2106"/>
                          </a:moveTo>
                          <a:lnTo>
                            <a:pt x="4393" y="2106"/>
                          </a:lnTo>
                          <a:lnTo>
                            <a:pt x="4393" y="2053"/>
                          </a:lnTo>
                          <a:lnTo>
                            <a:pt x="4336" y="2053"/>
                          </a:lnTo>
                          <a:lnTo>
                            <a:pt x="4336" y="2106"/>
                          </a:lnTo>
                          <a:close/>
                          <a:moveTo>
                            <a:pt x="3448" y="2076"/>
                          </a:moveTo>
                          <a:lnTo>
                            <a:pt x="3513" y="2076"/>
                          </a:lnTo>
                          <a:lnTo>
                            <a:pt x="3513" y="2022"/>
                          </a:lnTo>
                          <a:lnTo>
                            <a:pt x="3448" y="2022"/>
                          </a:lnTo>
                          <a:lnTo>
                            <a:pt x="3448" y="2076"/>
                          </a:lnTo>
                          <a:close/>
                          <a:moveTo>
                            <a:pt x="3406" y="1489"/>
                          </a:moveTo>
                          <a:lnTo>
                            <a:pt x="3463" y="1489"/>
                          </a:lnTo>
                          <a:lnTo>
                            <a:pt x="3463" y="1438"/>
                          </a:lnTo>
                          <a:lnTo>
                            <a:pt x="3406" y="1438"/>
                          </a:lnTo>
                          <a:lnTo>
                            <a:pt x="3406" y="1489"/>
                          </a:lnTo>
                          <a:close/>
                          <a:moveTo>
                            <a:pt x="3570" y="837"/>
                          </a:moveTo>
                          <a:lnTo>
                            <a:pt x="3634" y="837"/>
                          </a:lnTo>
                          <a:lnTo>
                            <a:pt x="3634" y="783"/>
                          </a:lnTo>
                          <a:lnTo>
                            <a:pt x="3570" y="783"/>
                          </a:lnTo>
                          <a:lnTo>
                            <a:pt x="3570" y="837"/>
                          </a:lnTo>
                          <a:close/>
                          <a:moveTo>
                            <a:pt x="3292" y="965"/>
                          </a:moveTo>
                          <a:lnTo>
                            <a:pt x="3359" y="965"/>
                          </a:lnTo>
                          <a:lnTo>
                            <a:pt x="3359" y="904"/>
                          </a:lnTo>
                          <a:lnTo>
                            <a:pt x="3292" y="904"/>
                          </a:lnTo>
                          <a:lnTo>
                            <a:pt x="3292" y="965"/>
                          </a:lnTo>
                          <a:close/>
                          <a:moveTo>
                            <a:pt x="3359" y="1559"/>
                          </a:moveTo>
                          <a:lnTo>
                            <a:pt x="3416" y="1559"/>
                          </a:lnTo>
                          <a:lnTo>
                            <a:pt x="3416" y="1505"/>
                          </a:lnTo>
                          <a:lnTo>
                            <a:pt x="3359" y="1505"/>
                          </a:lnTo>
                          <a:lnTo>
                            <a:pt x="3359" y="1559"/>
                          </a:lnTo>
                          <a:close/>
                          <a:moveTo>
                            <a:pt x="3081" y="532"/>
                          </a:moveTo>
                          <a:lnTo>
                            <a:pt x="3146" y="532"/>
                          </a:lnTo>
                          <a:lnTo>
                            <a:pt x="3146" y="480"/>
                          </a:lnTo>
                          <a:lnTo>
                            <a:pt x="3081" y="480"/>
                          </a:lnTo>
                          <a:lnTo>
                            <a:pt x="3081" y="532"/>
                          </a:lnTo>
                          <a:close/>
                          <a:moveTo>
                            <a:pt x="2379" y="2812"/>
                          </a:moveTo>
                          <a:lnTo>
                            <a:pt x="2446" y="2812"/>
                          </a:lnTo>
                          <a:lnTo>
                            <a:pt x="2446" y="2759"/>
                          </a:lnTo>
                          <a:lnTo>
                            <a:pt x="2379" y="2759"/>
                          </a:lnTo>
                          <a:lnTo>
                            <a:pt x="2379" y="2812"/>
                          </a:lnTo>
                          <a:close/>
                          <a:moveTo>
                            <a:pt x="2208" y="2607"/>
                          </a:moveTo>
                          <a:lnTo>
                            <a:pt x="2275" y="2607"/>
                          </a:lnTo>
                          <a:lnTo>
                            <a:pt x="2275" y="2547"/>
                          </a:lnTo>
                          <a:lnTo>
                            <a:pt x="2208" y="2547"/>
                          </a:lnTo>
                          <a:lnTo>
                            <a:pt x="2208" y="2607"/>
                          </a:lnTo>
                          <a:close/>
                          <a:moveTo>
                            <a:pt x="2429" y="2395"/>
                          </a:moveTo>
                          <a:lnTo>
                            <a:pt x="2486" y="2395"/>
                          </a:lnTo>
                          <a:lnTo>
                            <a:pt x="2486" y="2342"/>
                          </a:lnTo>
                          <a:lnTo>
                            <a:pt x="2429" y="2342"/>
                          </a:lnTo>
                          <a:lnTo>
                            <a:pt x="2429" y="2395"/>
                          </a:lnTo>
                          <a:close/>
                          <a:moveTo>
                            <a:pt x="2486" y="2675"/>
                          </a:moveTo>
                          <a:lnTo>
                            <a:pt x="2550" y="2675"/>
                          </a:lnTo>
                          <a:lnTo>
                            <a:pt x="2550" y="2622"/>
                          </a:lnTo>
                          <a:lnTo>
                            <a:pt x="2486" y="2622"/>
                          </a:lnTo>
                          <a:lnTo>
                            <a:pt x="2486" y="2675"/>
                          </a:lnTo>
                          <a:close/>
                          <a:moveTo>
                            <a:pt x="2689" y="2896"/>
                          </a:moveTo>
                          <a:lnTo>
                            <a:pt x="2746" y="2896"/>
                          </a:lnTo>
                          <a:lnTo>
                            <a:pt x="2746" y="2843"/>
                          </a:lnTo>
                          <a:lnTo>
                            <a:pt x="2689" y="2843"/>
                          </a:lnTo>
                          <a:lnTo>
                            <a:pt x="2689" y="2896"/>
                          </a:lnTo>
                          <a:close/>
                          <a:moveTo>
                            <a:pt x="2820" y="2994"/>
                          </a:moveTo>
                          <a:lnTo>
                            <a:pt x="2885" y="2994"/>
                          </a:lnTo>
                          <a:lnTo>
                            <a:pt x="2885" y="2941"/>
                          </a:lnTo>
                          <a:lnTo>
                            <a:pt x="2820" y="2941"/>
                          </a:lnTo>
                          <a:lnTo>
                            <a:pt x="2820" y="2994"/>
                          </a:lnTo>
                          <a:close/>
                          <a:moveTo>
                            <a:pt x="3203" y="3064"/>
                          </a:moveTo>
                          <a:lnTo>
                            <a:pt x="3267" y="3064"/>
                          </a:lnTo>
                          <a:lnTo>
                            <a:pt x="3267" y="3010"/>
                          </a:lnTo>
                          <a:lnTo>
                            <a:pt x="3203" y="3010"/>
                          </a:lnTo>
                          <a:lnTo>
                            <a:pt x="3203" y="3064"/>
                          </a:lnTo>
                          <a:close/>
                          <a:moveTo>
                            <a:pt x="4850" y="3549"/>
                          </a:moveTo>
                          <a:lnTo>
                            <a:pt x="4914" y="3549"/>
                          </a:lnTo>
                          <a:lnTo>
                            <a:pt x="4914" y="3497"/>
                          </a:lnTo>
                          <a:lnTo>
                            <a:pt x="4850" y="3497"/>
                          </a:lnTo>
                          <a:lnTo>
                            <a:pt x="4850" y="3549"/>
                          </a:lnTo>
                          <a:close/>
                          <a:moveTo>
                            <a:pt x="1997" y="1065"/>
                          </a:moveTo>
                          <a:lnTo>
                            <a:pt x="2062" y="1065"/>
                          </a:lnTo>
                          <a:lnTo>
                            <a:pt x="2062" y="1004"/>
                          </a:lnTo>
                          <a:lnTo>
                            <a:pt x="1997" y="1004"/>
                          </a:lnTo>
                          <a:lnTo>
                            <a:pt x="1997" y="1065"/>
                          </a:lnTo>
                          <a:close/>
                          <a:moveTo>
                            <a:pt x="2925" y="1552"/>
                          </a:moveTo>
                          <a:lnTo>
                            <a:pt x="2992" y="1552"/>
                          </a:lnTo>
                          <a:lnTo>
                            <a:pt x="2992" y="1489"/>
                          </a:lnTo>
                          <a:lnTo>
                            <a:pt x="2925" y="1489"/>
                          </a:lnTo>
                          <a:lnTo>
                            <a:pt x="2925" y="1552"/>
                          </a:lnTo>
                          <a:close/>
                          <a:moveTo>
                            <a:pt x="3813" y="1923"/>
                          </a:moveTo>
                          <a:lnTo>
                            <a:pt x="3880" y="1923"/>
                          </a:lnTo>
                          <a:lnTo>
                            <a:pt x="3880" y="1871"/>
                          </a:lnTo>
                          <a:lnTo>
                            <a:pt x="3813" y="1871"/>
                          </a:lnTo>
                          <a:lnTo>
                            <a:pt x="3813" y="1923"/>
                          </a:lnTo>
                          <a:close/>
                          <a:moveTo>
                            <a:pt x="1605" y="1871"/>
                          </a:moveTo>
                          <a:lnTo>
                            <a:pt x="1662" y="1871"/>
                          </a:lnTo>
                          <a:lnTo>
                            <a:pt x="1662" y="1808"/>
                          </a:lnTo>
                          <a:lnTo>
                            <a:pt x="1605" y="1808"/>
                          </a:lnTo>
                          <a:lnTo>
                            <a:pt x="1605" y="1871"/>
                          </a:lnTo>
                          <a:close/>
                          <a:moveTo>
                            <a:pt x="2917" y="1589"/>
                          </a:moveTo>
                          <a:lnTo>
                            <a:pt x="2974" y="1589"/>
                          </a:lnTo>
                          <a:lnTo>
                            <a:pt x="2974" y="1536"/>
                          </a:lnTo>
                          <a:lnTo>
                            <a:pt x="2917" y="1536"/>
                          </a:lnTo>
                          <a:lnTo>
                            <a:pt x="2917" y="1589"/>
                          </a:lnTo>
                          <a:close/>
                          <a:moveTo>
                            <a:pt x="3284" y="2137"/>
                          </a:moveTo>
                          <a:lnTo>
                            <a:pt x="3341" y="2137"/>
                          </a:lnTo>
                          <a:lnTo>
                            <a:pt x="3341" y="2076"/>
                          </a:lnTo>
                          <a:lnTo>
                            <a:pt x="3284" y="2076"/>
                          </a:lnTo>
                          <a:lnTo>
                            <a:pt x="3284" y="2137"/>
                          </a:lnTo>
                          <a:close/>
                          <a:moveTo>
                            <a:pt x="3847" y="1489"/>
                          </a:moveTo>
                          <a:lnTo>
                            <a:pt x="3904" y="1489"/>
                          </a:lnTo>
                          <a:lnTo>
                            <a:pt x="3904" y="1438"/>
                          </a:lnTo>
                          <a:lnTo>
                            <a:pt x="3847" y="1438"/>
                          </a:lnTo>
                          <a:lnTo>
                            <a:pt x="3847" y="1489"/>
                          </a:lnTo>
                          <a:close/>
                          <a:moveTo>
                            <a:pt x="0" y="2843"/>
                          </a:moveTo>
                          <a:lnTo>
                            <a:pt x="57" y="2843"/>
                          </a:lnTo>
                          <a:lnTo>
                            <a:pt x="57" y="2789"/>
                          </a:lnTo>
                          <a:lnTo>
                            <a:pt x="0" y="2789"/>
                          </a:lnTo>
                          <a:lnTo>
                            <a:pt x="0" y="2843"/>
                          </a:lnTo>
                          <a:close/>
                          <a:moveTo>
                            <a:pt x="3952" y="2759"/>
                          </a:moveTo>
                          <a:lnTo>
                            <a:pt x="4009" y="2759"/>
                          </a:lnTo>
                          <a:lnTo>
                            <a:pt x="4009" y="2705"/>
                          </a:lnTo>
                          <a:lnTo>
                            <a:pt x="3952" y="2705"/>
                          </a:lnTo>
                          <a:lnTo>
                            <a:pt x="3952" y="2759"/>
                          </a:lnTo>
                          <a:close/>
                          <a:moveTo>
                            <a:pt x="3937" y="1018"/>
                          </a:moveTo>
                          <a:lnTo>
                            <a:pt x="4001" y="1018"/>
                          </a:lnTo>
                          <a:lnTo>
                            <a:pt x="4001" y="965"/>
                          </a:lnTo>
                          <a:lnTo>
                            <a:pt x="3937" y="965"/>
                          </a:lnTo>
                          <a:lnTo>
                            <a:pt x="3937" y="1018"/>
                          </a:lnTo>
                          <a:close/>
                          <a:moveTo>
                            <a:pt x="2119" y="2174"/>
                          </a:moveTo>
                          <a:lnTo>
                            <a:pt x="2183" y="2174"/>
                          </a:lnTo>
                          <a:lnTo>
                            <a:pt x="2183" y="2121"/>
                          </a:lnTo>
                          <a:lnTo>
                            <a:pt x="2119" y="2121"/>
                          </a:lnTo>
                          <a:lnTo>
                            <a:pt x="2119" y="2174"/>
                          </a:lnTo>
                          <a:close/>
                          <a:moveTo>
                            <a:pt x="2379" y="3397"/>
                          </a:moveTo>
                          <a:lnTo>
                            <a:pt x="2446" y="3397"/>
                          </a:lnTo>
                          <a:lnTo>
                            <a:pt x="2446" y="3344"/>
                          </a:lnTo>
                          <a:lnTo>
                            <a:pt x="2379" y="3344"/>
                          </a:lnTo>
                          <a:lnTo>
                            <a:pt x="2379" y="3397"/>
                          </a:lnTo>
                          <a:close/>
                          <a:moveTo>
                            <a:pt x="2518" y="2759"/>
                          </a:moveTo>
                          <a:lnTo>
                            <a:pt x="2575" y="2759"/>
                          </a:lnTo>
                          <a:lnTo>
                            <a:pt x="2575" y="2705"/>
                          </a:lnTo>
                          <a:lnTo>
                            <a:pt x="2518" y="2705"/>
                          </a:lnTo>
                          <a:lnTo>
                            <a:pt x="2518" y="2759"/>
                          </a:lnTo>
                          <a:close/>
                          <a:moveTo>
                            <a:pt x="578" y="3216"/>
                          </a:moveTo>
                          <a:lnTo>
                            <a:pt x="645" y="3216"/>
                          </a:lnTo>
                          <a:lnTo>
                            <a:pt x="645" y="3162"/>
                          </a:lnTo>
                          <a:lnTo>
                            <a:pt x="578" y="3162"/>
                          </a:lnTo>
                          <a:lnTo>
                            <a:pt x="578" y="3216"/>
                          </a:lnTo>
                          <a:close/>
                          <a:moveTo>
                            <a:pt x="3920" y="3010"/>
                          </a:moveTo>
                          <a:lnTo>
                            <a:pt x="3984" y="3010"/>
                          </a:lnTo>
                          <a:lnTo>
                            <a:pt x="3984" y="2957"/>
                          </a:lnTo>
                          <a:lnTo>
                            <a:pt x="3920" y="2957"/>
                          </a:lnTo>
                          <a:lnTo>
                            <a:pt x="3920" y="3010"/>
                          </a:lnTo>
                          <a:close/>
                          <a:moveTo>
                            <a:pt x="2469" y="2675"/>
                          </a:moveTo>
                          <a:lnTo>
                            <a:pt x="2535" y="2675"/>
                          </a:lnTo>
                          <a:lnTo>
                            <a:pt x="2535" y="2622"/>
                          </a:lnTo>
                          <a:lnTo>
                            <a:pt x="2469" y="2622"/>
                          </a:lnTo>
                          <a:lnTo>
                            <a:pt x="2469" y="2675"/>
                          </a:lnTo>
                          <a:close/>
                          <a:moveTo>
                            <a:pt x="2974" y="2426"/>
                          </a:moveTo>
                          <a:lnTo>
                            <a:pt x="3039" y="2426"/>
                          </a:lnTo>
                          <a:lnTo>
                            <a:pt x="3039" y="2372"/>
                          </a:lnTo>
                          <a:lnTo>
                            <a:pt x="2974" y="2372"/>
                          </a:lnTo>
                          <a:lnTo>
                            <a:pt x="2974" y="2426"/>
                          </a:lnTo>
                          <a:close/>
                          <a:moveTo>
                            <a:pt x="2592" y="3048"/>
                          </a:moveTo>
                          <a:lnTo>
                            <a:pt x="2657" y="3048"/>
                          </a:lnTo>
                          <a:lnTo>
                            <a:pt x="2657" y="2994"/>
                          </a:lnTo>
                          <a:lnTo>
                            <a:pt x="2592" y="2994"/>
                          </a:lnTo>
                          <a:lnTo>
                            <a:pt x="2592" y="3048"/>
                          </a:lnTo>
                          <a:close/>
                          <a:moveTo>
                            <a:pt x="2429" y="2477"/>
                          </a:moveTo>
                          <a:lnTo>
                            <a:pt x="2486" y="2477"/>
                          </a:lnTo>
                          <a:lnTo>
                            <a:pt x="2486" y="2426"/>
                          </a:lnTo>
                          <a:lnTo>
                            <a:pt x="2429" y="2426"/>
                          </a:lnTo>
                          <a:lnTo>
                            <a:pt x="2429" y="2477"/>
                          </a:lnTo>
                          <a:close/>
                          <a:moveTo>
                            <a:pt x="3096" y="2158"/>
                          </a:moveTo>
                          <a:lnTo>
                            <a:pt x="3163" y="2158"/>
                          </a:lnTo>
                          <a:lnTo>
                            <a:pt x="3163" y="2106"/>
                          </a:lnTo>
                          <a:lnTo>
                            <a:pt x="3096" y="2106"/>
                          </a:lnTo>
                          <a:lnTo>
                            <a:pt x="3096" y="2158"/>
                          </a:lnTo>
                          <a:close/>
                          <a:moveTo>
                            <a:pt x="3651" y="2561"/>
                          </a:moveTo>
                          <a:lnTo>
                            <a:pt x="3709" y="2561"/>
                          </a:lnTo>
                          <a:lnTo>
                            <a:pt x="3709" y="2509"/>
                          </a:lnTo>
                          <a:lnTo>
                            <a:pt x="3651" y="2509"/>
                          </a:lnTo>
                          <a:lnTo>
                            <a:pt x="3651" y="2561"/>
                          </a:lnTo>
                          <a:close/>
                          <a:moveTo>
                            <a:pt x="3081" y="2775"/>
                          </a:moveTo>
                          <a:lnTo>
                            <a:pt x="3146" y="2775"/>
                          </a:lnTo>
                          <a:lnTo>
                            <a:pt x="3146" y="2714"/>
                          </a:lnTo>
                          <a:lnTo>
                            <a:pt x="3081" y="2714"/>
                          </a:lnTo>
                          <a:lnTo>
                            <a:pt x="3081" y="2775"/>
                          </a:lnTo>
                          <a:close/>
                          <a:moveTo>
                            <a:pt x="2567" y="2561"/>
                          </a:moveTo>
                          <a:lnTo>
                            <a:pt x="2624" y="2561"/>
                          </a:lnTo>
                          <a:lnTo>
                            <a:pt x="2624" y="2509"/>
                          </a:lnTo>
                          <a:lnTo>
                            <a:pt x="2567" y="2509"/>
                          </a:lnTo>
                          <a:lnTo>
                            <a:pt x="2567" y="2561"/>
                          </a:lnTo>
                          <a:close/>
                          <a:moveTo>
                            <a:pt x="2518" y="1976"/>
                          </a:moveTo>
                          <a:lnTo>
                            <a:pt x="2575" y="1976"/>
                          </a:lnTo>
                          <a:lnTo>
                            <a:pt x="2575" y="1923"/>
                          </a:lnTo>
                          <a:lnTo>
                            <a:pt x="2518" y="1923"/>
                          </a:lnTo>
                          <a:lnTo>
                            <a:pt x="2518" y="1976"/>
                          </a:lnTo>
                          <a:close/>
                          <a:moveTo>
                            <a:pt x="2959" y="1407"/>
                          </a:moveTo>
                          <a:lnTo>
                            <a:pt x="3024" y="1407"/>
                          </a:lnTo>
                          <a:lnTo>
                            <a:pt x="3024" y="1354"/>
                          </a:lnTo>
                          <a:lnTo>
                            <a:pt x="2959" y="1354"/>
                          </a:lnTo>
                          <a:lnTo>
                            <a:pt x="2959" y="1407"/>
                          </a:lnTo>
                          <a:close/>
                          <a:moveTo>
                            <a:pt x="2820" y="2288"/>
                          </a:moveTo>
                          <a:lnTo>
                            <a:pt x="2885" y="2288"/>
                          </a:lnTo>
                          <a:lnTo>
                            <a:pt x="2885" y="2228"/>
                          </a:lnTo>
                          <a:lnTo>
                            <a:pt x="2820" y="2228"/>
                          </a:lnTo>
                          <a:lnTo>
                            <a:pt x="2820" y="2288"/>
                          </a:lnTo>
                          <a:close/>
                          <a:moveTo>
                            <a:pt x="2959" y="2622"/>
                          </a:moveTo>
                          <a:lnTo>
                            <a:pt x="3024" y="2622"/>
                          </a:lnTo>
                          <a:lnTo>
                            <a:pt x="3024" y="2561"/>
                          </a:lnTo>
                          <a:lnTo>
                            <a:pt x="2959" y="2561"/>
                          </a:lnTo>
                          <a:lnTo>
                            <a:pt x="2959" y="2622"/>
                          </a:lnTo>
                          <a:close/>
                          <a:moveTo>
                            <a:pt x="3235" y="2137"/>
                          </a:moveTo>
                          <a:lnTo>
                            <a:pt x="3292" y="2137"/>
                          </a:lnTo>
                          <a:lnTo>
                            <a:pt x="3292" y="2076"/>
                          </a:lnTo>
                          <a:lnTo>
                            <a:pt x="3235" y="2076"/>
                          </a:lnTo>
                          <a:lnTo>
                            <a:pt x="3235" y="2137"/>
                          </a:lnTo>
                          <a:close/>
                          <a:moveTo>
                            <a:pt x="2657" y="3094"/>
                          </a:moveTo>
                          <a:lnTo>
                            <a:pt x="2714" y="3094"/>
                          </a:lnTo>
                          <a:lnTo>
                            <a:pt x="2714" y="3041"/>
                          </a:lnTo>
                          <a:lnTo>
                            <a:pt x="2657" y="3041"/>
                          </a:lnTo>
                          <a:lnTo>
                            <a:pt x="2657" y="3094"/>
                          </a:lnTo>
                          <a:close/>
                          <a:moveTo>
                            <a:pt x="2307" y="1643"/>
                          </a:moveTo>
                          <a:lnTo>
                            <a:pt x="2364" y="1643"/>
                          </a:lnTo>
                          <a:lnTo>
                            <a:pt x="2364" y="1589"/>
                          </a:lnTo>
                          <a:lnTo>
                            <a:pt x="2307" y="1589"/>
                          </a:lnTo>
                          <a:lnTo>
                            <a:pt x="2307" y="1643"/>
                          </a:lnTo>
                          <a:close/>
                          <a:moveTo>
                            <a:pt x="3130" y="2829"/>
                          </a:moveTo>
                          <a:lnTo>
                            <a:pt x="3187" y="2829"/>
                          </a:lnTo>
                          <a:lnTo>
                            <a:pt x="3187" y="2775"/>
                          </a:lnTo>
                          <a:lnTo>
                            <a:pt x="3130" y="2775"/>
                          </a:lnTo>
                          <a:lnTo>
                            <a:pt x="3130" y="2829"/>
                          </a:lnTo>
                          <a:close/>
                          <a:moveTo>
                            <a:pt x="2200" y="2547"/>
                          </a:moveTo>
                          <a:lnTo>
                            <a:pt x="2257" y="2547"/>
                          </a:lnTo>
                          <a:lnTo>
                            <a:pt x="2257" y="2493"/>
                          </a:lnTo>
                          <a:lnTo>
                            <a:pt x="2200" y="2493"/>
                          </a:lnTo>
                          <a:lnTo>
                            <a:pt x="2200" y="2547"/>
                          </a:lnTo>
                          <a:close/>
                          <a:moveTo>
                            <a:pt x="3781" y="2060"/>
                          </a:moveTo>
                          <a:lnTo>
                            <a:pt x="3847" y="2060"/>
                          </a:lnTo>
                          <a:lnTo>
                            <a:pt x="3847" y="2006"/>
                          </a:lnTo>
                          <a:lnTo>
                            <a:pt x="3781" y="2006"/>
                          </a:lnTo>
                          <a:lnTo>
                            <a:pt x="3781" y="2060"/>
                          </a:lnTo>
                          <a:close/>
                          <a:moveTo>
                            <a:pt x="2503" y="2426"/>
                          </a:moveTo>
                          <a:lnTo>
                            <a:pt x="2567" y="2426"/>
                          </a:lnTo>
                          <a:lnTo>
                            <a:pt x="2567" y="2372"/>
                          </a:lnTo>
                          <a:lnTo>
                            <a:pt x="2503" y="2372"/>
                          </a:lnTo>
                          <a:lnTo>
                            <a:pt x="2503" y="2426"/>
                          </a:lnTo>
                          <a:close/>
                          <a:moveTo>
                            <a:pt x="2429" y="2174"/>
                          </a:moveTo>
                          <a:lnTo>
                            <a:pt x="2486" y="2174"/>
                          </a:lnTo>
                          <a:lnTo>
                            <a:pt x="2486" y="2121"/>
                          </a:lnTo>
                          <a:lnTo>
                            <a:pt x="2429" y="2121"/>
                          </a:lnTo>
                          <a:lnTo>
                            <a:pt x="2429" y="2174"/>
                          </a:lnTo>
                          <a:close/>
                          <a:moveTo>
                            <a:pt x="3049" y="2661"/>
                          </a:moveTo>
                          <a:lnTo>
                            <a:pt x="3113" y="2661"/>
                          </a:lnTo>
                          <a:lnTo>
                            <a:pt x="3113" y="2607"/>
                          </a:lnTo>
                          <a:lnTo>
                            <a:pt x="3049" y="2607"/>
                          </a:lnTo>
                          <a:lnTo>
                            <a:pt x="3049" y="2661"/>
                          </a:lnTo>
                          <a:close/>
                          <a:moveTo>
                            <a:pt x="2731" y="2220"/>
                          </a:moveTo>
                          <a:lnTo>
                            <a:pt x="2796" y="2220"/>
                          </a:lnTo>
                          <a:lnTo>
                            <a:pt x="2796" y="2158"/>
                          </a:lnTo>
                          <a:lnTo>
                            <a:pt x="2731" y="2158"/>
                          </a:lnTo>
                          <a:lnTo>
                            <a:pt x="2731" y="2220"/>
                          </a:lnTo>
                          <a:close/>
                          <a:moveTo>
                            <a:pt x="2779" y="1315"/>
                          </a:moveTo>
                          <a:lnTo>
                            <a:pt x="2836" y="1315"/>
                          </a:lnTo>
                          <a:lnTo>
                            <a:pt x="2836" y="1254"/>
                          </a:lnTo>
                          <a:lnTo>
                            <a:pt x="2779" y="1254"/>
                          </a:lnTo>
                          <a:lnTo>
                            <a:pt x="2779" y="1315"/>
                          </a:lnTo>
                          <a:close/>
                          <a:moveTo>
                            <a:pt x="3634" y="2994"/>
                          </a:moveTo>
                          <a:lnTo>
                            <a:pt x="3691" y="2994"/>
                          </a:lnTo>
                          <a:lnTo>
                            <a:pt x="3691" y="2941"/>
                          </a:lnTo>
                          <a:lnTo>
                            <a:pt x="3634" y="2941"/>
                          </a:lnTo>
                          <a:lnTo>
                            <a:pt x="3634" y="2994"/>
                          </a:lnTo>
                          <a:close/>
                          <a:moveTo>
                            <a:pt x="3431" y="2477"/>
                          </a:moveTo>
                          <a:lnTo>
                            <a:pt x="3496" y="2477"/>
                          </a:lnTo>
                          <a:lnTo>
                            <a:pt x="3496" y="2426"/>
                          </a:lnTo>
                          <a:lnTo>
                            <a:pt x="3431" y="2426"/>
                          </a:lnTo>
                          <a:lnTo>
                            <a:pt x="3431" y="2477"/>
                          </a:lnTo>
                          <a:close/>
                          <a:moveTo>
                            <a:pt x="1858" y="2037"/>
                          </a:moveTo>
                          <a:lnTo>
                            <a:pt x="1923" y="2037"/>
                          </a:lnTo>
                          <a:lnTo>
                            <a:pt x="1923" y="1976"/>
                          </a:lnTo>
                          <a:lnTo>
                            <a:pt x="1858" y="1976"/>
                          </a:lnTo>
                          <a:lnTo>
                            <a:pt x="1858" y="2037"/>
                          </a:lnTo>
                          <a:close/>
                          <a:moveTo>
                            <a:pt x="2868" y="1892"/>
                          </a:moveTo>
                          <a:lnTo>
                            <a:pt x="2925" y="1892"/>
                          </a:lnTo>
                          <a:lnTo>
                            <a:pt x="2925" y="1839"/>
                          </a:lnTo>
                          <a:lnTo>
                            <a:pt x="2868" y="1839"/>
                          </a:lnTo>
                          <a:lnTo>
                            <a:pt x="2868" y="1892"/>
                          </a:lnTo>
                          <a:close/>
                          <a:moveTo>
                            <a:pt x="2225" y="730"/>
                          </a:moveTo>
                          <a:lnTo>
                            <a:pt x="2290" y="730"/>
                          </a:lnTo>
                          <a:lnTo>
                            <a:pt x="2290" y="669"/>
                          </a:lnTo>
                          <a:lnTo>
                            <a:pt x="2225" y="669"/>
                          </a:lnTo>
                          <a:lnTo>
                            <a:pt x="2225" y="730"/>
                          </a:lnTo>
                          <a:close/>
                          <a:moveTo>
                            <a:pt x="1801" y="2137"/>
                          </a:moveTo>
                          <a:lnTo>
                            <a:pt x="1858" y="2137"/>
                          </a:lnTo>
                          <a:lnTo>
                            <a:pt x="1858" y="2076"/>
                          </a:lnTo>
                          <a:lnTo>
                            <a:pt x="1801" y="2076"/>
                          </a:lnTo>
                          <a:lnTo>
                            <a:pt x="1801" y="2137"/>
                          </a:lnTo>
                          <a:close/>
                          <a:moveTo>
                            <a:pt x="2925" y="2440"/>
                          </a:moveTo>
                          <a:lnTo>
                            <a:pt x="2992" y="2440"/>
                          </a:lnTo>
                          <a:lnTo>
                            <a:pt x="2992" y="2386"/>
                          </a:lnTo>
                          <a:lnTo>
                            <a:pt x="2925" y="2386"/>
                          </a:lnTo>
                          <a:lnTo>
                            <a:pt x="2925" y="2440"/>
                          </a:lnTo>
                          <a:close/>
                          <a:moveTo>
                            <a:pt x="2453" y="2509"/>
                          </a:moveTo>
                          <a:lnTo>
                            <a:pt x="2518" y="2509"/>
                          </a:lnTo>
                          <a:lnTo>
                            <a:pt x="2518" y="2456"/>
                          </a:lnTo>
                          <a:lnTo>
                            <a:pt x="2453" y="2456"/>
                          </a:lnTo>
                          <a:lnTo>
                            <a:pt x="2453" y="2509"/>
                          </a:lnTo>
                          <a:close/>
                          <a:moveTo>
                            <a:pt x="3496" y="2493"/>
                          </a:moveTo>
                          <a:lnTo>
                            <a:pt x="3553" y="2493"/>
                          </a:lnTo>
                          <a:lnTo>
                            <a:pt x="3553" y="2440"/>
                          </a:lnTo>
                          <a:lnTo>
                            <a:pt x="3496" y="2440"/>
                          </a:lnTo>
                          <a:lnTo>
                            <a:pt x="3496" y="2493"/>
                          </a:lnTo>
                          <a:close/>
                          <a:moveTo>
                            <a:pt x="3937" y="2714"/>
                          </a:moveTo>
                          <a:lnTo>
                            <a:pt x="4001" y="2714"/>
                          </a:lnTo>
                          <a:lnTo>
                            <a:pt x="4001" y="2661"/>
                          </a:lnTo>
                          <a:lnTo>
                            <a:pt x="3937" y="2661"/>
                          </a:lnTo>
                          <a:lnTo>
                            <a:pt x="3937" y="2714"/>
                          </a:lnTo>
                          <a:close/>
                          <a:moveTo>
                            <a:pt x="89" y="2524"/>
                          </a:moveTo>
                          <a:lnTo>
                            <a:pt x="154" y="2524"/>
                          </a:lnTo>
                          <a:lnTo>
                            <a:pt x="154" y="2463"/>
                          </a:lnTo>
                          <a:lnTo>
                            <a:pt x="89" y="2463"/>
                          </a:lnTo>
                          <a:lnTo>
                            <a:pt x="89" y="2524"/>
                          </a:lnTo>
                          <a:close/>
                          <a:moveTo>
                            <a:pt x="2917" y="1452"/>
                          </a:moveTo>
                          <a:lnTo>
                            <a:pt x="2974" y="1452"/>
                          </a:lnTo>
                          <a:lnTo>
                            <a:pt x="2974" y="1398"/>
                          </a:lnTo>
                          <a:lnTo>
                            <a:pt x="2917" y="1398"/>
                          </a:lnTo>
                          <a:lnTo>
                            <a:pt x="2917" y="1452"/>
                          </a:lnTo>
                          <a:close/>
                          <a:moveTo>
                            <a:pt x="3513" y="1923"/>
                          </a:moveTo>
                          <a:lnTo>
                            <a:pt x="3570" y="1923"/>
                          </a:lnTo>
                          <a:lnTo>
                            <a:pt x="3570" y="1871"/>
                          </a:lnTo>
                          <a:lnTo>
                            <a:pt x="3513" y="1871"/>
                          </a:lnTo>
                          <a:lnTo>
                            <a:pt x="3513" y="1923"/>
                          </a:lnTo>
                          <a:close/>
                          <a:moveTo>
                            <a:pt x="3513" y="2577"/>
                          </a:moveTo>
                          <a:lnTo>
                            <a:pt x="3570" y="2577"/>
                          </a:lnTo>
                          <a:lnTo>
                            <a:pt x="3570" y="2524"/>
                          </a:lnTo>
                          <a:lnTo>
                            <a:pt x="3513" y="2524"/>
                          </a:lnTo>
                          <a:lnTo>
                            <a:pt x="3513" y="2577"/>
                          </a:lnTo>
                          <a:close/>
                          <a:moveTo>
                            <a:pt x="3324" y="1923"/>
                          </a:moveTo>
                          <a:lnTo>
                            <a:pt x="3391" y="1923"/>
                          </a:lnTo>
                          <a:lnTo>
                            <a:pt x="3391" y="1871"/>
                          </a:lnTo>
                          <a:lnTo>
                            <a:pt x="3324" y="1871"/>
                          </a:lnTo>
                          <a:lnTo>
                            <a:pt x="3324" y="1923"/>
                          </a:lnTo>
                          <a:close/>
                          <a:moveTo>
                            <a:pt x="2012" y="1589"/>
                          </a:moveTo>
                          <a:lnTo>
                            <a:pt x="2079" y="1589"/>
                          </a:lnTo>
                          <a:lnTo>
                            <a:pt x="2079" y="1536"/>
                          </a:lnTo>
                          <a:lnTo>
                            <a:pt x="2012" y="1536"/>
                          </a:lnTo>
                          <a:lnTo>
                            <a:pt x="2012" y="1589"/>
                          </a:lnTo>
                          <a:close/>
                          <a:moveTo>
                            <a:pt x="3146" y="2356"/>
                          </a:moveTo>
                          <a:lnTo>
                            <a:pt x="3203" y="2356"/>
                          </a:lnTo>
                          <a:lnTo>
                            <a:pt x="3203" y="2302"/>
                          </a:lnTo>
                          <a:lnTo>
                            <a:pt x="3146" y="2302"/>
                          </a:lnTo>
                          <a:lnTo>
                            <a:pt x="3146" y="2356"/>
                          </a:lnTo>
                          <a:close/>
                          <a:moveTo>
                            <a:pt x="2379" y="1407"/>
                          </a:moveTo>
                          <a:lnTo>
                            <a:pt x="2446" y="1407"/>
                          </a:lnTo>
                          <a:lnTo>
                            <a:pt x="2446" y="1354"/>
                          </a:lnTo>
                          <a:lnTo>
                            <a:pt x="2379" y="1354"/>
                          </a:lnTo>
                          <a:lnTo>
                            <a:pt x="2379" y="1407"/>
                          </a:lnTo>
                          <a:close/>
                          <a:moveTo>
                            <a:pt x="2535" y="2174"/>
                          </a:moveTo>
                          <a:lnTo>
                            <a:pt x="2592" y="2174"/>
                          </a:lnTo>
                          <a:lnTo>
                            <a:pt x="2592" y="2121"/>
                          </a:lnTo>
                          <a:lnTo>
                            <a:pt x="2535" y="2121"/>
                          </a:lnTo>
                          <a:lnTo>
                            <a:pt x="2535" y="2174"/>
                          </a:lnTo>
                          <a:close/>
                          <a:moveTo>
                            <a:pt x="2062" y="1801"/>
                          </a:moveTo>
                          <a:lnTo>
                            <a:pt x="2119" y="1801"/>
                          </a:lnTo>
                          <a:lnTo>
                            <a:pt x="2119" y="1741"/>
                          </a:lnTo>
                          <a:lnTo>
                            <a:pt x="2062" y="1741"/>
                          </a:lnTo>
                          <a:lnTo>
                            <a:pt x="2062" y="1801"/>
                          </a:lnTo>
                          <a:close/>
                          <a:moveTo>
                            <a:pt x="2086" y="2090"/>
                          </a:moveTo>
                          <a:lnTo>
                            <a:pt x="2151" y="2090"/>
                          </a:lnTo>
                          <a:lnTo>
                            <a:pt x="2151" y="2037"/>
                          </a:lnTo>
                          <a:lnTo>
                            <a:pt x="2086" y="2037"/>
                          </a:lnTo>
                          <a:lnTo>
                            <a:pt x="2086" y="2090"/>
                          </a:lnTo>
                          <a:close/>
                          <a:moveTo>
                            <a:pt x="2469" y="1976"/>
                          </a:moveTo>
                          <a:lnTo>
                            <a:pt x="2535" y="1976"/>
                          </a:lnTo>
                          <a:lnTo>
                            <a:pt x="2535" y="1923"/>
                          </a:lnTo>
                          <a:lnTo>
                            <a:pt x="2469" y="1923"/>
                          </a:lnTo>
                          <a:lnTo>
                            <a:pt x="2469" y="1976"/>
                          </a:lnTo>
                          <a:close/>
                          <a:moveTo>
                            <a:pt x="2885" y="2326"/>
                          </a:moveTo>
                          <a:lnTo>
                            <a:pt x="2942" y="2326"/>
                          </a:lnTo>
                          <a:lnTo>
                            <a:pt x="2942" y="2272"/>
                          </a:lnTo>
                          <a:lnTo>
                            <a:pt x="2885" y="2272"/>
                          </a:lnTo>
                          <a:lnTo>
                            <a:pt x="2885" y="2326"/>
                          </a:lnTo>
                          <a:close/>
                          <a:moveTo>
                            <a:pt x="3847" y="2326"/>
                          </a:moveTo>
                          <a:lnTo>
                            <a:pt x="3904" y="2326"/>
                          </a:lnTo>
                          <a:lnTo>
                            <a:pt x="3904" y="2272"/>
                          </a:lnTo>
                          <a:lnTo>
                            <a:pt x="3847" y="2272"/>
                          </a:lnTo>
                          <a:lnTo>
                            <a:pt x="3847" y="2326"/>
                          </a:lnTo>
                          <a:close/>
                          <a:moveTo>
                            <a:pt x="2592" y="1643"/>
                          </a:moveTo>
                          <a:lnTo>
                            <a:pt x="2657" y="1643"/>
                          </a:lnTo>
                          <a:lnTo>
                            <a:pt x="2657" y="1589"/>
                          </a:lnTo>
                          <a:lnTo>
                            <a:pt x="2592" y="1589"/>
                          </a:lnTo>
                          <a:lnTo>
                            <a:pt x="2592" y="1643"/>
                          </a:lnTo>
                          <a:close/>
                          <a:moveTo>
                            <a:pt x="2518" y="2106"/>
                          </a:moveTo>
                          <a:lnTo>
                            <a:pt x="2575" y="2106"/>
                          </a:lnTo>
                          <a:lnTo>
                            <a:pt x="2575" y="2053"/>
                          </a:lnTo>
                          <a:lnTo>
                            <a:pt x="2518" y="2053"/>
                          </a:lnTo>
                          <a:lnTo>
                            <a:pt x="2518" y="2106"/>
                          </a:lnTo>
                          <a:close/>
                          <a:moveTo>
                            <a:pt x="3064" y="1186"/>
                          </a:moveTo>
                          <a:lnTo>
                            <a:pt x="3130" y="1186"/>
                          </a:lnTo>
                          <a:lnTo>
                            <a:pt x="3130" y="1133"/>
                          </a:lnTo>
                          <a:lnTo>
                            <a:pt x="3064" y="1133"/>
                          </a:lnTo>
                          <a:lnTo>
                            <a:pt x="3064" y="1186"/>
                          </a:lnTo>
                          <a:close/>
                          <a:moveTo>
                            <a:pt x="2746" y="2342"/>
                          </a:moveTo>
                          <a:lnTo>
                            <a:pt x="2803" y="2342"/>
                          </a:lnTo>
                          <a:lnTo>
                            <a:pt x="2803" y="2288"/>
                          </a:lnTo>
                          <a:lnTo>
                            <a:pt x="2746" y="2288"/>
                          </a:lnTo>
                          <a:lnTo>
                            <a:pt x="2746" y="2342"/>
                          </a:lnTo>
                          <a:close/>
                          <a:moveTo>
                            <a:pt x="2674" y="1673"/>
                          </a:moveTo>
                          <a:lnTo>
                            <a:pt x="2731" y="1673"/>
                          </a:lnTo>
                          <a:lnTo>
                            <a:pt x="2731" y="1619"/>
                          </a:lnTo>
                          <a:lnTo>
                            <a:pt x="2674" y="1619"/>
                          </a:lnTo>
                          <a:lnTo>
                            <a:pt x="2674" y="1673"/>
                          </a:lnTo>
                          <a:close/>
                          <a:moveTo>
                            <a:pt x="3130" y="2829"/>
                          </a:moveTo>
                          <a:lnTo>
                            <a:pt x="3187" y="2829"/>
                          </a:lnTo>
                          <a:lnTo>
                            <a:pt x="3187" y="2775"/>
                          </a:lnTo>
                          <a:lnTo>
                            <a:pt x="3130" y="2775"/>
                          </a:lnTo>
                          <a:lnTo>
                            <a:pt x="3130" y="2829"/>
                          </a:lnTo>
                          <a:close/>
                          <a:moveTo>
                            <a:pt x="945" y="3041"/>
                          </a:moveTo>
                          <a:lnTo>
                            <a:pt x="1002" y="3041"/>
                          </a:lnTo>
                          <a:lnTo>
                            <a:pt x="1002" y="2980"/>
                          </a:lnTo>
                          <a:lnTo>
                            <a:pt x="945" y="2980"/>
                          </a:lnTo>
                          <a:lnTo>
                            <a:pt x="945" y="3041"/>
                          </a:lnTo>
                          <a:close/>
                          <a:moveTo>
                            <a:pt x="2257" y="2311"/>
                          </a:moveTo>
                          <a:lnTo>
                            <a:pt x="2322" y="2311"/>
                          </a:lnTo>
                          <a:lnTo>
                            <a:pt x="2322" y="2258"/>
                          </a:lnTo>
                          <a:lnTo>
                            <a:pt x="2257" y="2258"/>
                          </a:lnTo>
                          <a:lnTo>
                            <a:pt x="2257" y="2311"/>
                          </a:lnTo>
                          <a:close/>
                        </a:path>
                      </a:pathLst>
                    </a:custGeom>
                    <a:solidFill>
                      <a:srgbClr val="470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3826440" y="392904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3835440" y="4278240"/>
                      <a:ext cx="4320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895920" y="439200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3938400" y="4797360"/>
                      <a:ext cx="3816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3889440" y="4073760"/>
                      <a:ext cx="3816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3717720" y="4519440"/>
                      <a:ext cx="3708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3847320" y="430452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159080" y="460224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4664880" y="4662000"/>
                      <a:ext cx="3672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551480" y="438372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3949200" y="4880160"/>
                      <a:ext cx="367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3949200" y="4624200"/>
                      <a:ext cx="3672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4353120" y="5095080"/>
                      <a:ext cx="3708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4136760" y="4230000"/>
                      <a:ext cx="4464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4122000" y="500760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4057200" y="4519440"/>
                      <a:ext cx="4212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4239720" y="448848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4804920" y="434376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400640" y="4221720"/>
                      <a:ext cx="4320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3733920" y="5095080"/>
                      <a:ext cx="4212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3959640" y="4633200"/>
                      <a:ext cx="38160" cy="284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4122000" y="4374720"/>
                      <a:ext cx="3708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4524840" y="3903840"/>
                      <a:ext cx="3816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4030920" y="4767480"/>
                      <a:ext cx="3708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4078440" y="487188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3938400" y="4815720"/>
                      <a:ext cx="3816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3889440" y="5182200"/>
                      <a:ext cx="38160" cy="35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4341240" y="388080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4008240" y="4047120"/>
                      <a:ext cx="4356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4169520" y="450540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262040" y="4982400"/>
                      <a:ext cx="3672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423320" y="4278240"/>
                      <a:ext cx="3816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4530240" y="4038120"/>
                      <a:ext cx="43560" cy="35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4110120" y="4633200"/>
                      <a:ext cx="38160" cy="284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3717720" y="4750560"/>
                      <a:ext cx="3708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4136760" y="4837680"/>
                      <a:ext cx="4464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4250160" y="4689360"/>
                      <a:ext cx="3708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4687200" y="4557240"/>
                      <a:ext cx="3672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4202640" y="4366800"/>
                      <a:ext cx="3708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4057200" y="415188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3997800" y="424692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4136760" y="4575600"/>
                      <a:ext cx="4464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2980800" y="4624200"/>
                      <a:ext cx="3708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136760" y="3999960"/>
                      <a:ext cx="4464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464560" y="434376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4735080" y="4230000"/>
                      <a:ext cx="3780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4864320" y="419076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4746600" y="4833000"/>
                      <a:ext cx="3708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4099320" y="4982400"/>
                      <a:ext cx="3708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3938400" y="482400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3976560" y="495108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4057200" y="4217400"/>
                      <a:ext cx="4212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3733920" y="429516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3222360" y="504648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4099320" y="539136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4282920" y="4217400"/>
                      <a:ext cx="3708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3776040" y="3375360"/>
                      <a:ext cx="3816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3292560" y="467100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4664880" y="4217400"/>
                      <a:ext cx="3672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2948040" y="4737600"/>
                      <a:ext cx="4356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4514400" y="387288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4190760" y="445716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2625480" y="4845600"/>
                      <a:ext cx="4356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4390200" y="459288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3847320" y="4789440"/>
                      <a:ext cx="4212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4874760" y="405648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4390200" y="440100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4772880" y="4727520"/>
                      <a:ext cx="424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605120" y="477576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4229280" y="447912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057200" y="429516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814200" y="435276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10400" y="5077440"/>
                      <a:ext cx="4212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2636280" y="4719240"/>
                      <a:ext cx="424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4287240" y="4178160"/>
                      <a:ext cx="4464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4444200" y="436104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4713840" y="387288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4008240" y="497664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030920" y="4709880"/>
                      <a:ext cx="3708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4400640" y="506412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3985920" y="4862880"/>
                      <a:ext cx="4464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4987080" y="420804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423320" y="5124600"/>
                      <a:ext cx="3816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148640" y="429516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3814200" y="448848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202640" y="485496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159080" y="3846240"/>
                      <a:ext cx="4320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4078440" y="397728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4262040" y="4815720"/>
                      <a:ext cx="367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4998960" y="435276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4390200" y="473760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4363560" y="5016960"/>
                      <a:ext cx="3708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4542120" y="497664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3546360" y="4151880"/>
                      <a:ext cx="367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4675320" y="408168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4563000" y="482400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4110120" y="444024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4449600" y="4624200"/>
                      <a:ext cx="4212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4563000" y="4789440"/>
                      <a:ext cx="4212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4514400" y="4536360"/>
                      <a:ext cx="3708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4019040" y="487188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4190760" y="4709880"/>
                      <a:ext cx="3816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2716560" y="4885920"/>
                      <a:ext cx="4248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4287240" y="4650480"/>
                      <a:ext cx="4464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5279040" y="4383720"/>
                      <a:ext cx="421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4449600" y="430452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2737800" y="478476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5047920" y="4662000"/>
                      <a:ext cx="3672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4122000" y="4170240"/>
                      <a:ext cx="3708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3513240" y="4837680"/>
                      <a:ext cx="4320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4229280" y="510408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5084640" y="475848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4906440" y="459288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4208040" y="4461840"/>
                      <a:ext cx="4212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5219640" y="455400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4633200" y="4536360"/>
                      <a:ext cx="421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4605120" y="4200120"/>
                      <a:ext cx="3816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4713840" y="382428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4530240" y="3894480"/>
                      <a:ext cx="4356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4573800" y="4239000"/>
                      <a:ext cx="378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4390200" y="364968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3927960" y="495936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814200" y="4837680"/>
                      <a:ext cx="4320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3959640" y="471924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997800" y="488016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4132800" y="5007600"/>
                      <a:ext cx="367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4218480" y="506412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4470840" y="510408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558760" y="5383080"/>
                      <a:ext cx="421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674520" y="3952080"/>
                      <a:ext cx="4320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4287240" y="4230000"/>
                      <a:ext cx="4464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874760" y="444924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3416760" y="4413960"/>
                      <a:ext cx="36720" cy="35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4282920" y="425664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524840" y="4566600"/>
                      <a:ext cx="3816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4897440" y="4200120"/>
                      <a:ext cx="367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356560" y="4976640"/>
                      <a:ext cx="378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4965840" y="492840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4955400" y="392904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755160" y="459288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927960" y="529488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4019040" y="492840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2737800" y="5191560"/>
                      <a:ext cx="4356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4944960" y="507312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3985920" y="4880160"/>
                      <a:ext cx="4464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4320000" y="473760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4068000" y="5095080"/>
                      <a:ext cx="4212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3959640" y="4767480"/>
                      <a:ext cx="3816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4400640" y="4584960"/>
                      <a:ext cx="4320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4767840" y="4815720"/>
                      <a:ext cx="367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4390200" y="4934160"/>
                      <a:ext cx="4320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4052160" y="4815720"/>
                      <a:ext cx="367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4019040" y="447912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4311000" y="415188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4218480" y="4653720"/>
                      <a:ext cx="4356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4311000" y="4845600"/>
                      <a:ext cx="4212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4491720" y="4566600"/>
                      <a:ext cx="3816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4110120" y="512136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879000" y="428760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4423320" y="496872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808800" y="480672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4852440" y="4527360"/>
                      <a:ext cx="4464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4008240" y="4737600"/>
                      <a:ext cx="4356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959640" y="459288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4368960" y="487188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4159080" y="4614840"/>
                      <a:ext cx="4320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4190760" y="4094280"/>
                      <a:ext cx="38160" cy="35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4755960" y="506412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4621320" y="4767480"/>
                      <a:ext cx="4356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583080" y="4510080"/>
                      <a:ext cx="4212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4250160" y="443088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3826440" y="3758760"/>
                      <a:ext cx="4212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3546360" y="4566600"/>
                      <a:ext cx="3672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4287240" y="4745880"/>
                      <a:ext cx="4464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3976560" y="478476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4664880" y="4775760"/>
                      <a:ext cx="367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4955400" y="490320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2415600" y="4789440"/>
                      <a:ext cx="4212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4282920" y="4178160"/>
                      <a:ext cx="3708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4675320" y="4449240"/>
                      <a:ext cx="3816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4675320" y="482400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551480" y="4449240"/>
                      <a:ext cx="43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3684960" y="425664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4433760" y="4697640"/>
                      <a:ext cx="3708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3927960" y="415188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4030920" y="459288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3717720" y="4374720"/>
                      <a:ext cx="3708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3733920" y="454464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3985920" y="4479120"/>
                      <a:ext cx="4464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4262040" y="4680360"/>
                      <a:ext cx="3672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4897440" y="4680360"/>
                      <a:ext cx="3672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4068000" y="428760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4019040" y="455400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4379400" y="4025520"/>
                      <a:ext cx="435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4169520" y="4689360"/>
                      <a:ext cx="3816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4122000" y="4304520"/>
                      <a:ext cx="370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4423320" y="496872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2980800" y="5086800"/>
                      <a:ext cx="3708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3847320" y="467100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3021840" y="3646440"/>
                    <a:ext cx="2041920" cy="1619640"/>
                    <a:chOff x="3021840" y="3646440"/>
                    <a:chExt cx="2041920" cy="161964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3021840" y="3646440"/>
                      <a:ext cx="2041920" cy="161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2" h="2819">
                          <a:moveTo>
                            <a:pt x="1558" y="670"/>
                          </a:moveTo>
                          <a:lnTo>
                            <a:pt x="1615" y="670"/>
                          </a:lnTo>
                          <a:lnTo>
                            <a:pt x="1615" y="610"/>
                          </a:lnTo>
                          <a:lnTo>
                            <a:pt x="1558" y="610"/>
                          </a:lnTo>
                          <a:lnTo>
                            <a:pt x="1558" y="670"/>
                          </a:lnTo>
                          <a:close/>
                          <a:moveTo>
                            <a:pt x="2953" y="2659"/>
                          </a:moveTo>
                          <a:lnTo>
                            <a:pt x="3010" y="2659"/>
                          </a:lnTo>
                          <a:lnTo>
                            <a:pt x="3010" y="2605"/>
                          </a:lnTo>
                          <a:lnTo>
                            <a:pt x="2953" y="2605"/>
                          </a:lnTo>
                          <a:lnTo>
                            <a:pt x="2953" y="2659"/>
                          </a:lnTo>
                          <a:close/>
                          <a:moveTo>
                            <a:pt x="2953" y="2384"/>
                          </a:moveTo>
                          <a:lnTo>
                            <a:pt x="3010" y="2384"/>
                          </a:lnTo>
                          <a:lnTo>
                            <a:pt x="3010" y="2323"/>
                          </a:lnTo>
                          <a:lnTo>
                            <a:pt x="2953" y="2323"/>
                          </a:lnTo>
                          <a:lnTo>
                            <a:pt x="2953" y="2384"/>
                          </a:lnTo>
                          <a:close/>
                          <a:moveTo>
                            <a:pt x="2313" y="2423"/>
                          </a:moveTo>
                          <a:lnTo>
                            <a:pt x="2377" y="2423"/>
                          </a:lnTo>
                          <a:lnTo>
                            <a:pt x="2377" y="2370"/>
                          </a:lnTo>
                          <a:lnTo>
                            <a:pt x="2313" y="2370"/>
                          </a:lnTo>
                          <a:lnTo>
                            <a:pt x="2313" y="2423"/>
                          </a:lnTo>
                          <a:close/>
                          <a:moveTo>
                            <a:pt x="3028" y="2521"/>
                          </a:moveTo>
                          <a:lnTo>
                            <a:pt x="3092" y="2521"/>
                          </a:lnTo>
                          <a:lnTo>
                            <a:pt x="3092" y="2468"/>
                          </a:lnTo>
                          <a:lnTo>
                            <a:pt x="3028" y="2468"/>
                          </a:lnTo>
                          <a:lnTo>
                            <a:pt x="3028" y="2521"/>
                          </a:lnTo>
                          <a:close/>
                          <a:moveTo>
                            <a:pt x="1793" y="1462"/>
                          </a:moveTo>
                          <a:lnTo>
                            <a:pt x="1858" y="1462"/>
                          </a:lnTo>
                          <a:lnTo>
                            <a:pt x="1858" y="1409"/>
                          </a:lnTo>
                          <a:lnTo>
                            <a:pt x="1793" y="1409"/>
                          </a:lnTo>
                          <a:lnTo>
                            <a:pt x="1793" y="1462"/>
                          </a:lnTo>
                          <a:close/>
                          <a:moveTo>
                            <a:pt x="1786" y="1073"/>
                          </a:moveTo>
                          <a:lnTo>
                            <a:pt x="1843" y="1073"/>
                          </a:lnTo>
                          <a:lnTo>
                            <a:pt x="1843" y="1013"/>
                          </a:lnTo>
                          <a:lnTo>
                            <a:pt x="1786" y="1013"/>
                          </a:lnTo>
                          <a:lnTo>
                            <a:pt x="1786" y="1073"/>
                          </a:lnTo>
                          <a:close/>
                          <a:moveTo>
                            <a:pt x="2151" y="1730"/>
                          </a:moveTo>
                          <a:lnTo>
                            <a:pt x="2208" y="1730"/>
                          </a:lnTo>
                          <a:lnTo>
                            <a:pt x="2208" y="1669"/>
                          </a:lnTo>
                          <a:lnTo>
                            <a:pt x="2151" y="1669"/>
                          </a:lnTo>
                          <a:lnTo>
                            <a:pt x="2151" y="1730"/>
                          </a:lnTo>
                          <a:close/>
                          <a:moveTo>
                            <a:pt x="1843" y="1073"/>
                          </a:moveTo>
                          <a:lnTo>
                            <a:pt x="1907" y="1073"/>
                          </a:lnTo>
                          <a:lnTo>
                            <a:pt x="1907" y="1013"/>
                          </a:lnTo>
                          <a:lnTo>
                            <a:pt x="1843" y="1013"/>
                          </a:lnTo>
                          <a:lnTo>
                            <a:pt x="1843" y="1073"/>
                          </a:lnTo>
                          <a:close/>
                          <a:moveTo>
                            <a:pt x="2208" y="1127"/>
                          </a:moveTo>
                          <a:lnTo>
                            <a:pt x="2273" y="1127"/>
                          </a:lnTo>
                          <a:lnTo>
                            <a:pt x="2273" y="1073"/>
                          </a:lnTo>
                          <a:lnTo>
                            <a:pt x="2208" y="1073"/>
                          </a:lnTo>
                          <a:lnTo>
                            <a:pt x="2208" y="1127"/>
                          </a:lnTo>
                          <a:close/>
                          <a:moveTo>
                            <a:pt x="2402" y="1546"/>
                          </a:moveTo>
                          <a:lnTo>
                            <a:pt x="2467" y="1546"/>
                          </a:lnTo>
                          <a:lnTo>
                            <a:pt x="2467" y="1494"/>
                          </a:lnTo>
                          <a:lnTo>
                            <a:pt x="2402" y="1494"/>
                          </a:lnTo>
                          <a:lnTo>
                            <a:pt x="2402" y="1546"/>
                          </a:lnTo>
                          <a:close/>
                          <a:moveTo>
                            <a:pt x="2434" y="2256"/>
                          </a:moveTo>
                          <a:lnTo>
                            <a:pt x="2499" y="2256"/>
                          </a:lnTo>
                          <a:lnTo>
                            <a:pt x="2499" y="2202"/>
                          </a:lnTo>
                          <a:lnTo>
                            <a:pt x="2434" y="2202"/>
                          </a:lnTo>
                          <a:lnTo>
                            <a:pt x="2434" y="2256"/>
                          </a:lnTo>
                          <a:close/>
                          <a:moveTo>
                            <a:pt x="1356" y="2156"/>
                          </a:moveTo>
                          <a:lnTo>
                            <a:pt x="1421" y="2156"/>
                          </a:lnTo>
                          <a:lnTo>
                            <a:pt x="1421" y="2102"/>
                          </a:lnTo>
                          <a:lnTo>
                            <a:pt x="1356" y="2102"/>
                          </a:lnTo>
                          <a:lnTo>
                            <a:pt x="1356" y="2156"/>
                          </a:lnTo>
                          <a:close/>
                          <a:moveTo>
                            <a:pt x="1721" y="1699"/>
                          </a:moveTo>
                          <a:lnTo>
                            <a:pt x="1786" y="1699"/>
                          </a:lnTo>
                          <a:lnTo>
                            <a:pt x="1786" y="1646"/>
                          </a:lnTo>
                          <a:lnTo>
                            <a:pt x="1721" y="1646"/>
                          </a:lnTo>
                          <a:lnTo>
                            <a:pt x="1721" y="1699"/>
                          </a:lnTo>
                          <a:close/>
                          <a:moveTo>
                            <a:pt x="1769" y="1615"/>
                          </a:moveTo>
                          <a:lnTo>
                            <a:pt x="1826" y="1615"/>
                          </a:lnTo>
                          <a:lnTo>
                            <a:pt x="1826" y="1562"/>
                          </a:lnTo>
                          <a:lnTo>
                            <a:pt x="1769" y="1562"/>
                          </a:lnTo>
                          <a:lnTo>
                            <a:pt x="1769" y="1615"/>
                          </a:lnTo>
                          <a:close/>
                          <a:moveTo>
                            <a:pt x="1615" y="906"/>
                          </a:moveTo>
                          <a:lnTo>
                            <a:pt x="1679" y="906"/>
                          </a:lnTo>
                          <a:lnTo>
                            <a:pt x="1679" y="845"/>
                          </a:lnTo>
                          <a:lnTo>
                            <a:pt x="1615" y="845"/>
                          </a:lnTo>
                          <a:lnTo>
                            <a:pt x="1615" y="906"/>
                          </a:lnTo>
                          <a:close/>
                          <a:moveTo>
                            <a:pt x="1736" y="1073"/>
                          </a:moveTo>
                          <a:lnTo>
                            <a:pt x="1793" y="1073"/>
                          </a:lnTo>
                          <a:lnTo>
                            <a:pt x="1793" y="1013"/>
                          </a:lnTo>
                          <a:lnTo>
                            <a:pt x="1736" y="1013"/>
                          </a:lnTo>
                          <a:lnTo>
                            <a:pt x="1736" y="1073"/>
                          </a:lnTo>
                          <a:close/>
                          <a:moveTo>
                            <a:pt x="1793" y="1325"/>
                          </a:moveTo>
                          <a:lnTo>
                            <a:pt x="1858" y="1325"/>
                          </a:lnTo>
                          <a:lnTo>
                            <a:pt x="1858" y="1264"/>
                          </a:lnTo>
                          <a:lnTo>
                            <a:pt x="1793" y="1264"/>
                          </a:lnTo>
                          <a:lnTo>
                            <a:pt x="1793" y="1325"/>
                          </a:lnTo>
                          <a:close/>
                          <a:moveTo>
                            <a:pt x="2134" y="1494"/>
                          </a:moveTo>
                          <a:lnTo>
                            <a:pt x="2191" y="1494"/>
                          </a:lnTo>
                          <a:lnTo>
                            <a:pt x="2191" y="1432"/>
                          </a:lnTo>
                          <a:lnTo>
                            <a:pt x="2134" y="1432"/>
                          </a:lnTo>
                          <a:lnTo>
                            <a:pt x="2134" y="1494"/>
                          </a:lnTo>
                          <a:close/>
                          <a:moveTo>
                            <a:pt x="1965" y="2300"/>
                          </a:moveTo>
                          <a:lnTo>
                            <a:pt x="2029" y="2300"/>
                          </a:lnTo>
                          <a:lnTo>
                            <a:pt x="2029" y="2240"/>
                          </a:lnTo>
                          <a:lnTo>
                            <a:pt x="1965" y="2240"/>
                          </a:lnTo>
                          <a:lnTo>
                            <a:pt x="1965" y="2300"/>
                          </a:lnTo>
                          <a:close/>
                          <a:moveTo>
                            <a:pt x="2556" y="990"/>
                          </a:moveTo>
                          <a:lnTo>
                            <a:pt x="2621" y="990"/>
                          </a:lnTo>
                          <a:lnTo>
                            <a:pt x="2621" y="929"/>
                          </a:lnTo>
                          <a:lnTo>
                            <a:pt x="2556" y="929"/>
                          </a:lnTo>
                          <a:lnTo>
                            <a:pt x="2556" y="990"/>
                          </a:lnTo>
                          <a:close/>
                          <a:moveTo>
                            <a:pt x="2988" y="1546"/>
                          </a:moveTo>
                          <a:lnTo>
                            <a:pt x="3043" y="1546"/>
                          </a:lnTo>
                          <a:lnTo>
                            <a:pt x="3043" y="1494"/>
                          </a:lnTo>
                          <a:lnTo>
                            <a:pt x="2988" y="1494"/>
                          </a:lnTo>
                          <a:lnTo>
                            <a:pt x="2988" y="1546"/>
                          </a:lnTo>
                          <a:close/>
                          <a:moveTo>
                            <a:pt x="2645" y="1378"/>
                          </a:moveTo>
                          <a:lnTo>
                            <a:pt x="2710" y="1378"/>
                          </a:lnTo>
                          <a:lnTo>
                            <a:pt x="2710" y="1325"/>
                          </a:lnTo>
                          <a:lnTo>
                            <a:pt x="2645" y="1325"/>
                          </a:lnTo>
                          <a:lnTo>
                            <a:pt x="2645" y="1378"/>
                          </a:lnTo>
                          <a:close/>
                          <a:moveTo>
                            <a:pt x="2086" y="53"/>
                          </a:moveTo>
                          <a:lnTo>
                            <a:pt x="2151" y="53"/>
                          </a:lnTo>
                          <a:lnTo>
                            <a:pt x="2151" y="0"/>
                          </a:lnTo>
                          <a:lnTo>
                            <a:pt x="2086" y="0"/>
                          </a:lnTo>
                          <a:lnTo>
                            <a:pt x="2086" y="53"/>
                          </a:lnTo>
                          <a:close/>
                          <a:moveTo>
                            <a:pt x="325" y="1599"/>
                          </a:moveTo>
                          <a:lnTo>
                            <a:pt x="382" y="1599"/>
                          </a:lnTo>
                          <a:lnTo>
                            <a:pt x="382" y="1546"/>
                          </a:lnTo>
                          <a:lnTo>
                            <a:pt x="325" y="1546"/>
                          </a:lnTo>
                          <a:lnTo>
                            <a:pt x="325" y="1599"/>
                          </a:lnTo>
                          <a:close/>
                          <a:moveTo>
                            <a:pt x="536" y="2035"/>
                          </a:moveTo>
                          <a:lnTo>
                            <a:pt x="601" y="2035"/>
                          </a:lnTo>
                          <a:lnTo>
                            <a:pt x="601" y="1981"/>
                          </a:lnTo>
                          <a:lnTo>
                            <a:pt x="536" y="1981"/>
                          </a:lnTo>
                          <a:lnTo>
                            <a:pt x="536" y="2035"/>
                          </a:lnTo>
                          <a:close/>
                          <a:moveTo>
                            <a:pt x="2678" y="1881"/>
                          </a:moveTo>
                          <a:lnTo>
                            <a:pt x="2742" y="1881"/>
                          </a:lnTo>
                          <a:lnTo>
                            <a:pt x="2742" y="1829"/>
                          </a:lnTo>
                          <a:lnTo>
                            <a:pt x="2678" y="1829"/>
                          </a:lnTo>
                          <a:lnTo>
                            <a:pt x="2678" y="1881"/>
                          </a:lnTo>
                          <a:close/>
                          <a:moveTo>
                            <a:pt x="2158" y="2652"/>
                          </a:moveTo>
                          <a:lnTo>
                            <a:pt x="2223" y="2652"/>
                          </a:lnTo>
                          <a:lnTo>
                            <a:pt x="2223" y="2591"/>
                          </a:lnTo>
                          <a:lnTo>
                            <a:pt x="2158" y="2591"/>
                          </a:lnTo>
                          <a:lnTo>
                            <a:pt x="2158" y="2652"/>
                          </a:lnTo>
                          <a:close/>
                          <a:moveTo>
                            <a:pt x="2086" y="2819"/>
                          </a:moveTo>
                          <a:lnTo>
                            <a:pt x="2151" y="2819"/>
                          </a:lnTo>
                          <a:lnTo>
                            <a:pt x="2151" y="2759"/>
                          </a:lnTo>
                          <a:lnTo>
                            <a:pt x="2086" y="2759"/>
                          </a:lnTo>
                          <a:lnTo>
                            <a:pt x="2086" y="2819"/>
                          </a:lnTo>
                          <a:close/>
                          <a:moveTo>
                            <a:pt x="884" y="1432"/>
                          </a:moveTo>
                          <a:lnTo>
                            <a:pt x="949" y="1432"/>
                          </a:lnTo>
                          <a:lnTo>
                            <a:pt x="949" y="1378"/>
                          </a:lnTo>
                          <a:lnTo>
                            <a:pt x="884" y="1378"/>
                          </a:lnTo>
                          <a:lnTo>
                            <a:pt x="884" y="1432"/>
                          </a:lnTo>
                          <a:close/>
                          <a:moveTo>
                            <a:pt x="2297" y="1462"/>
                          </a:moveTo>
                          <a:lnTo>
                            <a:pt x="2362" y="1462"/>
                          </a:lnTo>
                          <a:lnTo>
                            <a:pt x="2362" y="1409"/>
                          </a:lnTo>
                          <a:lnTo>
                            <a:pt x="2297" y="1409"/>
                          </a:lnTo>
                          <a:lnTo>
                            <a:pt x="2297" y="1462"/>
                          </a:lnTo>
                          <a:close/>
                          <a:moveTo>
                            <a:pt x="2223" y="1662"/>
                          </a:moveTo>
                          <a:lnTo>
                            <a:pt x="2280" y="1662"/>
                          </a:lnTo>
                          <a:lnTo>
                            <a:pt x="2280" y="1599"/>
                          </a:lnTo>
                          <a:lnTo>
                            <a:pt x="2223" y="1599"/>
                          </a:lnTo>
                          <a:lnTo>
                            <a:pt x="2223" y="1662"/>
                          </a:lnTo>
                          <a:close/>
                          <a:moveTo>
                            <a:pt x="1907" y="1127"/>
                          </a:moveTo>
                          <a:lnTo>
                            <a:pt x="1965" y="1127"/>
                          </a:lnTo>
                          <a:lnTo>
                            <a:pt x="1965" y="1073"/>
                          </a:lnTo>
                          <a:lnTo>
                            <a:pt x="1907" y="1073"/>
                          </a:lnTo>
                          <a:lnTo>
                            <a:pt x="1907" y="1127"/>
                          </a:lnTo>
                          <a:close/>
                          <a:moveTo>
                            <a:pt x="0" y="2049"/>
                          </a:moveTo>
                          <a:lnTo>
                            <a:pt x="65" y="2049"/>
                          </a:lnTo>
                          <a:lnTo>
                            <a:pt x="65" y="1988"/>
                          </a:lnTo>
                          <a:lnTo>
                            <a:pt x="0" y="1988"/>
                          </a:lnTo>
                          <a:lnTo>
                            <a:pt x="0" y="2049"/>
                          </a:lnTo>
                          <a:close/>
                          <a:moveTo>
                            <a:pt x="2330" y="1829"/>
                          </a:moveTo>
                          <a:lnTo>
                            <a:pt x="2394" y="1829"/>
                          </a:lnTo>
                          <a:lnTo>
                            <a:pt x="2394" y="1767"/>
                          </a:lnTo>
                          <a:lnTo>
                            <a:pt x="2330" y="1767"/>
                          </a:lnTo>
                          <a:lnTo>
                            <a:pt x="2330" y="1829"/>
                          </a:lnTo>
                          <a:close/>
                          <a:moveTo>
                            <a:pt x="2621" y="1059"/>
                          </a:moveTo>
                          <a:lnTo>
                            <a:pt x="2678" y="1059"/>
                          </a:lnTo>
                          <a:lnTo>
                            <a:pt x="2678" y="998"/>
                          </a:lnTo>
                          <a:lnTo>
                            <a:pt x="2621" y="998"/>
                          </a:lnTo>
                          <a:lnTo>
                            <a:pt x="2621" y="1059"/>
                          </a:lnTo>
                          <a:close/>
                        </a:path>
                      </a:pathLst>
                    </a:custGeom>
                    <a:solidFill>
                      <a:srgbClr val="4700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4050360" y="3996720"/>
                      <a:ext cx="3708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4972320" y="5142960"/>
                      <a:ext cx="37080" cy="295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4972320" y="4980960"/>
                      <a:ext cx="3708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4548600" y="5007240"/>
                      <a:ext cx="4320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5021280" y="5063760"/>
                      <a:ext cx="424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4206600" y="445500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4201200" y="4227480"/>
                      <a:ext cx="3672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4441680" y="4604400"/>
                      <a:ext cx="37800" cy="35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4237920" y="4227480"/>
                      <a:ext cx="4356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4479480" y="4263120"/>
                      <a:ext cx="4248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4607640" y="4504320"/>
                      <a:ext cx="421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4629240" y="491112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3917160" y="485352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4158720" y="459144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4188960" y="4543560"/>
                      <a:ext cx="3816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4087440" y="4132080"/>
                      <a:ext cx="4320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4168080" y="4227480"/>
                      <a:ext cx="3816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4206600" y="4372200"/>
                      <a:ext cx="4212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4430880" y="4468680"/>
                      <a:ext cx="3708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4318560" y="4932720"/>
                      <a:ext cx="43560" cy="34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4709520" y="4179240"/>
                      <a:ext cx="4212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4994640" y="4504320"/>
                      <a:ext cx="3564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4768920" y="440676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4399200" y="3646440"/>
                      <a:ext cx="4248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3237120" y="4534200"/>
                      <a:ext cx="367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3375720" y="4784760"/>
                      <a:ext cx="421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4790160" y="4697280"/>
                      <a:ext cx="421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4446720" y="5133960"/>
                      <a:ext cx="43560" cy="35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4399200" y="5230440"/>
                      <a:ext cx="4248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3605400" y="443772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4539240" y="4455000"/>
                      <a:ext cx="42120" cy="30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4490280" y="4565160"/>
                      <a:ext cx="36720" cy="35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4281480" y="4263120"/>
                      <a:ext cx="3672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3021840" y="4788000"/>
                      <a:ext cx="42120" cy="34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4560120" y="4661640"/>
                      <a:ext cx="4248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4752000" y="4219200"/>
                      <a:ext cx="38160" cy="35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4700b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4" name=""/>
                <p:cNvSpPr/>
                <p:nvPr/>
              </p:nvSpPr>
              <p:spPr>
                <a:xfrm>
                  <a:off x="2130840" y="5668560"/>
                  <a:ext cx="3256560" cy="1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021720" y="5552640"/>
                  <a:ext cx="19512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021720" y="5561640"/>
                  <a:ext cx="2293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5.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462640" y="5552640"/>
                  <a:ext cx="19548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462640" y="5561640"/>
                  <a:ext cx="2293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4.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902840" y="5552640"/>
                  <a:ext cx="19656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902840" y="5561640"/>
                  <a:ext cx="2293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4.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354920" y="5552640"/>
                  <a:ext cx="19512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354920" y="5561640"/>
                  <a:ext cx="2293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3.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785400" y="5552640"/>
                  <a:ext cx="19548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786120" y="5561640"/>
                  <a:ext cx="2293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3.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237480" y="5552640"/>
                  <a:ext cx="19548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238560" y="5561640"/>
                  <a:ext cx="2293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2.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77320" y="5552640"/>
                  <a:ext cx="19656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678040" y="5561640"/>
                  <a:ext cx="2293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2.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118960" y="5552640"/>
                  <a:ext cx="19656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118960" y="5561640"/>
                  <a:ext cx="2293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095520" y="5545440"/>
                  <a:ext cx="32760" cy="18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526360" y="5545440"/>
                  <a:ext cx="34200" cy="18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978080" y="5545440"/>
                  <a:ext cx="32760" cy="18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08920" y="5545440"/>
                  <a:ext cx="33120" cy="18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0640" y="5545440"/>
                  <a:ext cx="33120" cy="18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302280" y="5545440"/>
                  <a:ext cx="22320" cy="18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743560" y="5545440"/>
                  <a:ext cx="32760" cy="18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184840" y="5545440"/>
                  <a:ext cx="31680" cy="18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172960" y="5528160"/>
                  <a:ext cx="22320" cy="27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193840" y="5536440"/>
                  <a:ext cx="391176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1889280" y="2986200"/>
                <a:ext cx="1965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889280" y="299412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.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2193840" y="3111480"/>
                <a:ext cx="11880" cy="242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919520" y="3400560"/>
                <a:ext cx="195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919520" y="340884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919520" y="3751200"/>
                <a:ext cx="195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919520" y="375912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.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919520" y="4092480"/>
                <a:ext cx="195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919520" y="41004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919520" y="4425480"/>
                <a:ext cx="195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919520" y="443376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.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919520" y="4774680"/>
                <a:ext cx="195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19520" y="47826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19520" y="5115960"/>
                <a:ext cx="195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19520" y="512496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.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919520" y="5421600"/>
                <a:ext cx="195480" cy="13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19520" y="542952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172960" y="3103200"/>
                <a:ext cx="22320" cy="18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172960" y="3453480"/>
                <a:ext cx="22320" cy="26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172960" y="3794760"/>
                <a:ext cx="22320" cy="26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172960" y="4145400"/>
                <a:ext cx="223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172960" y="4486320"/>
                <a:ext cx="22320" cy="27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172960" y="4827600"/>
                <a:ext cx="22320" cy="27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172960" y="5177880"/>
                <a:ext cx="22320" cy="18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 rot="16200000">
              <a:off x="991080" y="4018320"/>
              <a:ext cx="1381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urchase Intere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07000" y="4113360"/>
              <a:ext cx="169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Arial"/>
                </a:rPr>
                <a:t>No strong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03480" y="6113520"/>
              <a:ext cx="424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Source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:  Equity*Builder data-base, N.A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26000" y="2940120"/>
              <a:ext cx="2704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ice vs Purchase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52080" y="27756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35040" y="1336680"/>
            <a:ext cx="80596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547e"/>
                </a:solidFill>
                <a:latin typeface="Arial"/>
              </a:rPr>
              <a:t>Price is not an important touch-point.  It is about “valu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282760" y="2247840"/>
            <a:ext cx="4511520" cy="4422960"/>
            <a:chOff x="2282760" y="2247840"/>
            <a:chExt cx="4511520" cy="4422960"/>
          </a:xfrm>
        </p:grpSpPr>
        <p:sp>
          <p:nvSpPr>
            <p:cNvPr id="682" name=""/>
            <p:cNvSpPr/>
            <p:nvPr/>
          </p:nvSpPr>
          <p:spPr>
            <a:xfrm>
              <a:off x="4854240" y="2919600"/>
              <a:ext cx="1433520" cy="13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0" y="532"/>
                  </a:moveTo>
                  <a:lnTo>
                    <a:pt x="595" y="0"/>
                  </a:lnTo>
                  <a:lnTo>
                    <a:pt x="595" y="42"/>
                  </a:lnTo>
                  <a:lnTo>
                    <a:pt x="0" y="574"/>
                  </a:lnTo>
                  <a:lnTo>
                    <a:pt x="0" y="5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54240" y="2301840"/>
              <a:ext cx="1433520" cy="1874880"/>
            </a:xfrm>
            <a:custGeom>
              <a:avLst/>
              <a:gdLst/>
              <a:ahLst/>
              <a:rect l="l" t="t" r="r" b="b"/>
              <a:pathLst>
                <a:path w="595" h="793">
                  <a:moveTo>
                    <a:pt x="0" y="0"/>
                  </a:moveTo>
                  <a:lnTo>
                    <a:pt x="21" y="0"/>
                  </a:lnTo>
                  <a:lnTo>
                    <a:pt x="52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36" y="10"/>
                  </a:lnTo>
                  <a:lnTo>
                    <a:pt x="167" y="10"/>
                  </a:lnTo>
                  <a:lnTo>
                    <a:pt x="188" y="21"/>
                  </a:lnTo>
                  <a:lnTo>
                    <a:pt x="219" y="31"/>
                  </a:lnTo>
                  <a:lnTo>
                    <a:pt x="250" y="31"/>
                  </a:lnTo>
                  <a:lnTo>
                    <a:pt x="271" y="42"/>
                  </a:lnTo>
                  <a:lnTo>
                    <a:pt x="303" y="52"/>
                  </a:lnTo>
                  <a:lnTo>
                    <a:pt x="324" y="62"/>
                  </a:lnTo>
                  <a:lnTo>
                    <a:pt x="355" y="73"/>
                  </a:lnTo>
                  <a:lnTo>
                    <a:pt x="376" y="94"/>
                  </a:lnTo>
                  <a:lnTo>
                    <a:pt x="397" y="104"/>
                  </a:lnTo>
                  <a:lnTo>
                    <a:pt x="428" y="115"/>
                  </a:lnTo>
                  <a:lnTo>
                    <a:pt x="449" y="136"/>
                  </a:lnTo>
                  <a:lnTo>
                    <a:pt x="470" y="146"/>
                  </a:lnTo>
                  <a:lnTo>
                    <a:pt x="491" y="167"/>
                  </a:lnTo>
                  <a:lnTo>
                    <a:pt x="511" y="188"/>
                  </a:lnTo>
                  <a:lnTo>
                    <a:pt x="532" y="198"/>
                  </a:lnTo>
                  <a:lnTo>
                    <a:pt x="553" y="219"/>
                  </a:lnTo>
                  <a:lnTo>
                    <a:pt x="574" y="240"/>
                  </a:lnTo>
                  <a:lnTo>
                    <a:pt x="595" y="261"/>
                  </a:lnTo>
                  <a:lnTo>
                    <a:pt x="0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91040" y="4176720"/>
              <a:ext cx="3240" cy="17136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54240" y="4176720"/>
              <a:ext cx="1936800" cy="147600"/>
            </a:xfrm>
            <a:custGeom>
              <a:avLst/>
              <a:gdLst/>
              <a:ahLst/>
              <a:rect l="l" t="t" r="r" b="b"/>
              <a:pathLst>
                <a:path w="804" h="63">
                  <a:moveTo>
                    <a:pt x="0" y="0"/>
                  </a:moveTo>
                  <a:lnTo>
                    <a:pt x="804" y="21"/>
                  </a:lnTo>
                  <a:lnTo>
                    <a:pt x="804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54240" y="2919600"/>
              <a:ext cx="1936800" cy="1331640"/>
            </a:xfrm>
            <a:custGeom>
              <a:avLst/>
              <a:gdLst/>
              <a:ahLst/>
              <a:rect l="l" t="t" r="r" b="b"/>
              <a:pathLst>
                <a:path w="804" h="564">
                  <a:moveTo>
                    <a:pt x="595" y="0"/>
                  </a:moveTo>
                  <a:lnTo>
                    <a:pt x="616" y="21"/>
                  </a:lnTo>
                  <a:lnTo>
                    <a:pt x="626" y="42"/>
                  </a:lnTo>
                  <a:lnTo>
                    <a:pt x="647" y="63"/>
                  </a:lnTo>
                  <a:lnTo>
                    <a:pt x="658" y="73"/>
                  </a:lnTo>
                  <a:lnTo>
                    <a:pt x="668" y="104"/>
                  </a:lnTo>
                  <a:lnTo>
                    <a:pt x="689" y="125"/>
                  </a:lnTo>
                  <a:lnTo>
                    <a:pt x="699" y="146"/>
                  </a:lnTo>
                  <a:lnTo>
                    <a:pt x="710" y="177"/>
                  </a:lnTo>
                  <a:lnTo>
                    <a:pt x="731" y="198"/>
                  </a:lnTo>
                  <a:lnTo>
                    <a:pt x="731" y="209"/>
                  </a:lnTo>
                  <a:lnTo>
                    <a:pt x="741" y="240"/>
                  </a:lnTo>
                  <a:lnTo>
                    <a:pt x="752" y="261"/>
                  </a:lnTo>
                  <a:lnTo>
                    <a:pt x="762" y="292"/>
                  </a:lnTo>
                  <a:lnTo>
                    <a:pt x="772" y="313"/>
                  </a:lnTo>
                  <a:lnTo>
                    <a:pt x="772" y="344"/>
                  </a:lnTo>
                  <a:lnTo>
                    <a:pt x="783" y="355"/>
                  </a:lnTo>
                  <a:lnTo>
                    <a:pt x="783" y="386"/>
                  </a:lnTo>
                  <a:lnTo>
                    <a:pt x="793" y="407"/>
                  </a:lnTo>
                  <a:lnTo>
                    <a:pt x="793" y="438"/>
                  </a:lnTo>
                  <a:lnTo>
                    <a:pt x="793" y="470"/>
                  </a:lnTo>
                  <a:lnTo>
                    <a:pt x="804" y="491"/>
                  </a:lnTo>
                  <a:lnTo>
                    <a:pt x="804" y="512"/>
                  </a:lnTo>
                  <a:lnTo>
                    <a:pt x="804" y="532"/>
                  </a:lnTo>
                  <a:lnTo>
                    <a:pt x="804" y="564"/>
                  </a:lnTo>
                  <a:lnTo>
                    <a:pt x="0" y="53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87760" y="4251240"/>
              <a:ext cx="503280" cy="1284480"/>
            </a:xfrm>
            <a:custGeom>
              <a:avLst/>
              <a:gdLst/>
              <a:ahLst/>
              <a:rect l="l" t="t" r="r" b="b"/>
              <a:pathLst>
                <a:path w="209" h="543">
                  <a:moveTo>
                    <a:pt x="209" y="0"/>
                  </a:moveTo>
                  <a:lnTo>
                    <a:pt x="209" y="31"/>
                  </a:lnTo>
                  <a:lnTo>
                    <a:pt x="198" y="52"/>
                  </a:lnTo>
                  <a:lnTo>
                    <a:pt x="198" y="83"/>
                  </a:lnTo>
                  <a:lnTo>
                    <a:pt x="198" y="115"/>
                  </a:lnTo>
                  <a:lnTo>
                    <a:pt x="188" y="135"/>
                  </a:lnTo>
                  <a:lnTo>
                    <a:pt x="188" y="146"/>
                  </a:lnTo>
                  <a:lnTo>
                    <a:pt x="177" y="177"/>
                  </a:lnTo>
                  <a:lnTo>
                    <a:pt x="167" y="209"/>
                  </a:lnTo>
                  <a:lnTo>
                    <a:pt x="167" y="229"/>
                  </a:lnTo>
                  <a:lnTo>
                    <a:pt x="157" y="261"/>
                  </a:lnTo>
                  <a:lnTo>
                    <a:pt x="146" y="282"/>
                  </a:lnTo>
                  <a:lnTo>
                    <a:pt x="136" y="313"/>
                  </a:lnTo>
                  <a:lnTo>
                    <a:pt x="115" y="334"/>
                  </a:lnTo>
                  <a:lnTo>
                    <a:pt x="104" y="355"/>
                  </a:lnTo>
                  <a:lnTo>
                    <a:pt x="94" y="386"/>
                  </a:lnTo>
                  <a:lnTo>
                    <a:pt x="83" y="396"/>
                  </a:lnTo>
                  <a:lnTo>
                    <a:pt x="73" y="417"/>
                  </a:lnTo>
                  <a:lnTo>
                    <a:pt x="52" y="438"/>
                  </a:lnTo>
                  <a:lnTo>
                    <a:pt x="31" y="459"/>
                  </a:lnTo>
                  <a:lnTo>
                    <a:pt x="21" y="480"/>
                  </a:lnTo>
                  <a:lnTo>
                    <a:pt x="0" y="501"/>
                  </a:lnTo>
                  <a:lnTo>
                    <a:pt x="0" y="543"/>
                  </a:lnTo>
                  <a:lnTo>
                    <a:pt x="21" y="522"/>
                  </a:lnTo>
                  <a:lnTo>
                    <a:pt x="31" y="501"/>
                  </a:lnTo>
                  <a:lnTo>
                    <a:pt x="52" y="480"/>
                  </a:lnTo>
                  <a:lnTo>
                    <a:pt x="73" y="459"/>
                  </a:lnTo>
                  <a:lnTo>
                    <a:pt x="83" y="438"/>
                  </a:lnTo>
                  <a:lnTo>
                    <a:pt x="94" y="428"/>
                  </a:lnTo>
                  <a:lnTo>
                    <a:pt x="104" y="396"/>
                  </a:lnTo>
                  <a:lnTo>
                    <a:pt x="115" y="376"/>
                  </a:lnTo>
                  <a:lnTo>
                    <a:pt x="136" y="355"/>
                  </a:lnTo>
                  <a:lnTo>
                    <a:pt x="146" y="323"/>
                  </a:lnTo>
                  <a:lnTo>
                    <a:pt x="157" y="303"/>
                  </a:lnTo>
                  <a:lnTo>
                    <a:pt x="167" y="271"/>
                  </a:lnTo>
                  <a:lnTo>
                    <a:pt x="167" y="250"/>
                  </a:lnTo>
                  <a:lnTo>
                    <a:pt x="177" y="219"/>
                  </a:lnTo>
                  <a:lnTo>
                    <a:pt x="188" y="188"/>
                  </a:lnTo>
                  <a:lnTo>
                    <a:pt x="188" y="177"/>
                  </a:lnTo>
                  <a:lnTo>
                    <a:pt x="198" y="156"/>
                  </a:lnTo>
                  <a:lnTo>
                    <a:pt x="198" y="125"/>
                  </a:lnTo>
                  <a:lnTo>
                    <a:pt x="198" y="94"/>
                  </a:lnTo>
                  <a:lnTo>
                    <a:pt x="209" y="73"/>
                  </a:lnTo>
                  <a:lnTo>
                    <a:pt x="209" y="41"/>
                  </a:lnTo>
                  <a:lnTo>
                    <a:pt x="209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54240" y="4176720"/>
              <a:ext cx="1433520" cy="135900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0" y="0"/>
                  </a:moveTo>
                  <a:lnTo>
                    <a:pt x="595" y="533"/>
                  </a:lnTo>
                  <a:lnTo>
                    <a:pt x="595" y="5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54240" y="4176720"/>
              <a:ext cx="1936800" cy="1258920"/>
            </a:xfrm>
            <a:custGeom>
              <a:avLst/>
              <a:gdLst/>
              <a:ahLst/>
              <a:rect l="l" t="t" r="r" b="b"/>
              <a:pathLst>
                <a:path w="804" h="533">
                  <a:moveTo>
                    <a:pt x="804" y="32"/>
                  </a:moveTo>
                  <a:lnTo>
                    <a:pt x="804" y="63"/>
                  </a:lnTo>
                  <a:lnTo>
                    <a:pt x="793" y="84"/>
                  </a:lnTo>
                  <a:lnTo>
                    <a:pt x="793" y="115"/>
                  </a:lnTo>
                  <a:lnTo>
                    <a:pt x="793" y="147"/>
                  </a:lnTo>
                  <a:lnTo>
                    <a:pt x="783" y="167"/>
                  </a:lnTo>
                  <a:lnTo>
                    <a:pt x="783" y="178"/>
                  </a:lnTo>
                  <a:lnTo>
                    <a:pt x="772" y="209"/>
                  </a:lnTo>
                  <a:lnTo>
                    <a:pt x="762" y="241"/>
                  </a:lnTo>
                  <a:lnTo>
                    <a:pt x="762" y="261"/>
                  </a:lnTo>
                  <a:lnTo>
                    <a:pt x="752" y="293"/>
                  </a:lnTo>
                  <a:lnTo>
                    <a:pt x="741" y="314"/>
                  </a:lnTo>
                  <a:lnTo>
                    <a:pt x="731" y="345"/>
                  </a:lnTo>
                  <a:lnTo>
                    <a:pt x="710" y="366"/>
                  </a:lnTo>
                  <a:lnTo>
                    <a:pt x="699" y="387"/>
                  </a:lnTo>
                  <a:lnTo>
                    <a:pt x="689" y="418"/>
                  </a:lnTo>
                  <a:lnTo>
                    <a:pt x="678" y="428"/>
                  </a:lnTo>
                  <a:lnTo>
                    <a:pt x="668" y="449"/>
                  </a:lnTo>
                  <a:lnTo>
                    <a:pt x="647" y="470"/>
                  </a:lnTo>
                  <a:lnTo>
                    <a:pt x="626" y="491"/>
                  </a:lnTo>
                  <a:lnTo>
                    <a:pt x="616" y="512"/>
                  </a:lnTo>
                  <a:lnTo>
                    <a:pt x="595" y="533"/>
                  </a:lnTo>
                  <a:lnTo>
                    <a:pt x="0" y="0"/>
                  </a:lnTo>
                  <a:lnTo>
                    <a:pt x="804" y="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30440" y="5854680"/>
              <a:ext cx="879480" cy="641520"/>
            </a:xfrm>
            <a:custGeom>
              <a:avLst/>
              <a:gdLst/>
              <a:ahLst/>
              <a:rect l="l" t="t" r="r" b="b"/>
              <a:pathLst>
                <a:path w="365" h="271">
                  <a:moveTo>
                    <a:pt x="365" y="0"/>
                  </a:moveTo>
                  <a:lnTo>
                    <a:pt x="344" y="21"/>
                  </a:lnTo>
                  <a:lnTo>
                    <a:pt x="334" y="31"/>
                  </a:lnTo>
                  <a:lnTo>
                    <a:pt x="313" y="52"/>
                  </a:lnTo>
                  <a:lnTo>
                    <a:pt x="292" y="73"/>
                  </a:lnTo>
                  <a:lnTo>
                    <a:pt x="271" y="94"/>
                  </a:lnTo>
                  <a:lnTo>
                    <a:pt x="261" y="104"/>
                  </a:lnTo>
                  <a:lnTo>
                    <a:pt x="240" y="115"/>
                  </a:lnTo>
                  <a:lnTo>
                    <a:pt x="219" y="136"/>
                  </a:lnTo>
                  <a:lnTo>
                    <a:pt x="198" y="146"/>
                  </a:lnTo>
                  <a:lnTo>
                    <a:pt x="177" y="157"/>
                  </a:lnTo>
                  <a:lnTo>
                    <a:pt x="156" y="167"/>
                  </a:lnTo>
                  <a:lnTo>
                    <a:pt x="135" y="177"/>
                  </a:lnTo>
                  <a:lnTo>
                    <a:pt x="125" y="188"/>
                  </a:lnTo>
                  <a:lnTo>
                    <a:pt x="94" y="198"/>
                  </a:lnTo>
                  <a:lnTo>
                    <a:pt x="73" y="209"/>
                  </a:lnTo>
                  <a:lnTo>
                    <a:pt x="41" y="219"/>
                  </a:lnTo>
                  <a:lnTo>
                    <a:pt x="31" y="230"/>
                  </a:lnTo>
                  <a:lnTo>
                    <a:pt x="0" y="230"/>
                  </a:lnTo>
                  <a:lnTo>
                    <a:pt x="0" y="271"/>
                  </a:lnTo>
                  <a:lnTo>
                    <a:pt x="31" y="271"/>
                  </a:lnTo>
                  <a:lnTo>
                    <a:pt x="41" y="261"/>
                  </a:lnTo>
                  <a:lnTo>
                    <a:pt x="73" y="251"/>
                  </a:lnTo>
                  <a:lnTo>
                    <a:pt x="94" y="240"/>
                  </a:lnTo>
                  <a:lnTo>
                    <a:pt x="125" y="230"/>
                  </a:lnTo>
                  <a:lnTo>
                    <a:pt x="135" y="219"/>
                  </a:lnTo>
                  <a:lnTo>
                    <a:pt x="156" y="209"/>
                  </a:lnTo>
                  <a:lnTo>
                    <a:pt x="177" y="198"/>
                  </a:lnTo>
                  <a:lnTo>
                    <a:pt x="198" y="188"/>
                  </a:lnTo>
                  <a:lnTo>
                    <a:pt x="219" y="177"/>
                  </a:lnTo>
                  <a:lnTo>
                    <a:pt x="240" y="157"/>
                  </a:lnTo>
                  <a:lnTo>
                    <a:pt x="261" y="146"/>
                  </a:lnTo>
                  <a:lnTo>
                    <a:pt x="271" y="136"/>
                  </a:lnTo>
                  <a:lnTo>
                    <a:pt x="292" y="115"/>
                  </a:lnTo>
                  <a:lnTo>
                    <a:pt x="313" y="94"/>
                  </a:lnTo>
                  <a:lnTo>
                    <a:pt x="334" y="73"/>
                  </a:lnTo>
                  <a:lnTo>
                    <a:pt x="344" y="63"/>
                  </a:lnTo>
                  <a:lnTo>
                    <a:pt x="365" y="42"/>
                  </a:lnTo>
                  <a:lnTo>
                    <a:pt x="36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76400" y="4595760"/>
              <a:ext cx="554040" cy="1900440"/>
            </a:xfrm>
            <a:custGeom>
              <a:avLst/>
              <a:gdLst/>
              <a:ahLst/>
              <a:rect l="l" t="t" r="r" b="b"/>
              <a:pathLst>
                <a:path w="230" h="804">
                  <a:moveTo>
                    <a:pt x="0" y="0"/>
                  </a:moveTo>
                  <a:lnTo>
                    <a:pt x="230" y="763"/>
                  </a:lnTo>
                  <a:lnTo>
                    <a:pt x="230" y="804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76400" y="4595760"/>
              <a:ext cx="1433520" cy="1803600"/>
            </a:xfrm>
            <a:custGeom>
              <a:avLst/>
              <a:gdLst/>
              <a:ahLst/>
              <a:rect l="l" t="t" r="r" b="b"/>
              <a:pathLst>
                <a:path w="595" h="763">
                  <a:moveTo>
                    <a:pt x="595" y="533"/>
                  </a:moveTo>
                  <a:lnTo>
                    <a:pt x="574" y="554"/>
                  </a:lnTo>
                  <a:lnTo>
                    <a:pt x="564" y="564"/>
                  </a:lnTo>
                  <a:lnTo>
                    <a:pt x="543" y="585"/>
                  </a:lnTo>
                  <a:lnTo>
                    <a:pt x="522" y="606"/>
                  </a:lnTo>
                  <a:lnTo>
                    <a:pt x="501" y="627"/>
                  </a:lnTo>
                  <a:lnTo>
                    <a:pt x="491" y="637"/>
                  </a:lnTo>
                  <a:lnTo>
                    <a:pt x="470" y="648"/>
                  </a:lnTo>
                  <a:lnTo>
                    <a:pt x="449" y="669"/>
                  </a:lnTo>
                  <a:lnTo>
                    <a:pt x="428" y="679"/>
                  </a:lnTo>
                  <a:lnTo>
                    <a:pt x="407" y="690"/>
                  </a:lnTo>
                  <a:lnTo>
                    <a:pt x="386" y="700"/>
                  </a:lnTo>
                  <a:lnTo>
                    <a:pt x="365" y="710"/>
                  </a:lnTo>
                  <a:lnTo>
                    <a:pt x="355" y="721"/>
                  </a:lnTo>
                  <a:lnTo>
                    <a:pt x="324" y="731"/>
                  </a:lnTo>
                  <a:lnTo>
                    <a:pt x="303" y="742"/>
                  </a:lnTo>
                  <a:lnTo>
                    <a:pt x="271" y="752"/>
                  </a:lnTo>
                  <a:lnTo>
                    <a:pt x="261" y="763"/>
                  </a:lnTo>
                  <a:lnTo>
                    <a:pt x="230" y="763"/>
                  </a:lnTo>
                  <a:lnTo>
                    <a:pt x="0" y="0"/>
                  </a:lnTo>
                  <a:lnTo>
                    <a:pt x="595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46200" y="6475320"/>
              <a:ext cx="806760" cy="195480"/>
            </a:xfrm>
            <a:custGeom>
              <a:avLst/>
              <a:gdLst/>
              <a:ahLst/>
              <a:rect l="l" t="t" r="r" b="b"/>
              <a:pathLst>
                <a:path w="335" h="83">
                  <a:moveTo>
                    <a:pt x="335" y="0"/>
                  </a:moveTo>
                  <a:lnTo>
                    <a:pt x="314" y="10"/>
                  </a:lnTo>
                  <a:lnTo>
                    <a:pt x="282" y="21"/>
                  </a:lnTo>
                  <a:lnTo>
                    <a:pt x="251" y="21"/>
                  </a:lnTo>
                  <a:lnTo>
                    <a:pt x="230" y="31"/>
                  </a:lnTo>
                  <a:lnTo>
                    <a:pt x="199" y="31"/>
                  </a:lnTo>
                  <a:lnTo>
                    <a:pt x="167" y="31"/>
                  </a:lnTo>
                  <a:lnTo>
                    <a:pt x="147" y="41"/>
                  </a:lnTo>
                  <a:lnTo>
                    <a:pt x="115" y="41"/>
                  </a:lnTo>
                  <a:lnTo>
                    <a:pt x="84" y="41"/>
                  </a:lnTo>
                  <a:lnTo>
                    <a:pt x="63" y="41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73"/>
                  </a:lnTo>
                  <a:lnTo>
                    <a:pt x="32" y="73"/>
                  </a:lnTo>
                  <a:lnTo>
                    <a:pt x="63" y="83"/>
                  </a:lnTo>
                  <a:lnTo>
                    <a:pt x="84" y="83"/>
                  </a:lnTo>
                  <a:lnTo>
                    <a:pt x="115" y="83"/>
                  </a:lnTo>
                  <a:lnTo>
                    <a:pt x="147" y="83"/>
                  </a:lnTo>
                  <a:lnTo>
                    <a:pt x="167" y="73"/>
                  </a:lnTo>
                  <a:lnTo>
                    <a:pt x="199" y="73"/>
                  </a:lnTo>
                  <a:lnTo>
                    <a:pt x="230" y="73"/>
                  </a:lnTo>
                  <a:lnTo>
                    <a:pt x="251" y="62"/>
                  </a:lnTo>
                  <a:lnTo>
                    <a:pt x="282" y="62"/>
                  </a:lnTo>
                  <a:lnTo>
                    <a:pt x="314" y="52"/>
                  </a:lnTo>
                  <a:lnTo>
                    <a:pt x="335" y="41"/>
                  </a:lnTo>
                  <a:lnTo>
                    <a:pt x="33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46200" y="4672080"/>
              <a:ext cx="806760" cy="1900080"/>
            </a:xfrm>
            <a:custGeom>
              <a:avLst/>
              <a:gdLst/>
              <a:ahLst/>
              <a:rect l="l" t="t" r="r" b="b"/>
              <a:pathLst>
                <a:path w="335" h="804">
                  <a:moveTo>
                    <a:pt x="335" y="763"/>
                  </a:moveTo>
                  <a:lnTo>
                    <a:pt x="314" y="773"/>
                  </a:lnTo>
                  <a:lnTo>
                    <a:pt x="282" y="784"/>
                  </a:lnTo>
                  <a:lnTo>
                    <a:pt x="251" y="784"/>
                  </a:lnTo>
                  <a:lnTo>
                    <a:pt x="230" y="794"/>
                  </a:lnTo>
                  <a:lnTo>
                    <a:pt x="199" y="794"/>
                  </a:lnTo>
                  <a:lnTo>
                    <a:pt x="167" y="794"/>
                  </a:lnTo>
                  <a:lnTo>
                    <a:pt x="147" y="804"/>
                  </a:lnTo>
                  <a:lnTo>
                    <a:pt x="115" y="804"/>
                  </a:lnTo>
                  <a:lnTo>
                    <a:pt x="84" y="804"/>
                  </a:lnTo>
                  <a:lnTo>
                    <a:pt x="63" y="804"/>
                  </a:lnTo>
                  <a:lnTo>
                    <a:pt x="32" y="794"/>
                  </a:lnTo>
                  <a:lnTo>
                    <a:pt x="0" y="794"/>
                  </a:lnTo>
                  <a:lnTo>
                    <a:pt x="105" y="0"/>
                  </a:lnTo>
                  <a:lnTo>
                    <a:pt x="335" y="76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16120" y="6350040"/>
              <a:ext cx="628560" cy="2970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261" y="84"/>
                  </a:moveTo>
                  <a:lnTo>
                    <a:pt x="241" y="84"/>
                  </a:lnTo>
                  <a:lnTo>
                    <a:pt x="220" y="84"/>
                  </a:lnTo>
                  <a:lnTo>
                    <a:pt x="199" y="74"/>
                  </a:lnTo>
                  <a:lnTo>
                    <a:pt x="167" y="63"/>
                  </a:lnTo>
                  <a:lnTo>
                    <a:pt x="157" y="63"/>
                  </a:lnTo>
                  <a:lnTo>
                    <a:pt x="126" y="53"/>
                  </a:lnTo>
                  <a:lnTo>
                    <a:pt x="105" y="53"/>
                  </a:lnTo>
                  <a:lnTo>
                    <a:pt x="84" y="42"/>
                  </a:lnTo>
                  <a:lnTo>
                    <a:pt x="63" y="32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1" y="63"/>
                  </a:lnTo>
                  <a:lnTo>
                    <a:pt x="32" y="63"/>
                  </a:lnTo>
                  <a:lnTo>
                    <a:pt x="63" y="74"/>
                  </a:lnTo>
                  <a:lnTo>
                    <a:pt x="84" y="84"/>
                  </a:lnTo>
                  <a:lnTo>
                    <a:pt x="105" y="94"/>
                  </a:lnTo>
                  <a:lnTo>
                    <a:pt x="126" y="94"/>
                  </a:lnTo>
                  <a:lnTo>
                    <a:pt x="157" y="105"/>
                  </a:lnTo>
                  <a:lnTo>
                    <a:pt x="167" y="105"/>
                  </a:lnTo>
                  <a:lnTo>
                    <a:pt x="199" y="115"/>
                  </a:lnTo>
                  <a:lnTo>
                    <a:pt x="220" y="126"/>
                  </a:lnTo>
                  <a:lnTo>
                    <a:pt x="241" y="126"/>
                  </a:lnTo>
                  <a:lnTo>
                    <a:pt x="261" y="126"/>
                  </a:lnTo>
                  <a:lnTo>
                    <a:pt x="261" y="8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16120" y="4659480"/>
              <a:ext cx="880920" cy="1876320"/>
            </a:xfrm>
            <a:custGeom>
              <a:avLst/>
              <a:gdLst/>
              <a:ahLst/>
              <a:rect l="l" t="t" r="r" b="b"/>
              <a:pathLst>
                <a:path w="366" h="794">
                  <a:moveTo>
                    <a:pt x="261" y="794"/>
                  </a:moveTo>
                  <a:lnTo>
                    <a:pt x="241" y="794"/>
                  </a:lnTo>
                  <a:lnTo>
                    <a:pt x="220" y="794"/>
                  </a:lnTo>
                  <a:lnTo>
                    <a:pt x="199" y="784"/>
                  </a:lnTo>
                  <a:lnTo>
                    <a:pt x="167" y="773"/>
                  </a:lnTo>
                  <a:lnTo>
                    <a:pt x="157" y="773"/>
                  </a:lnTo>
                  <a:lnTo>
                    <a:pt x="126" y="763"/>
                  </a:lnTo>
                  <a:lnTo>
                    <a:pt x="105" y="763"/>
                  </a:lnTo>
                  <a:lnTo>
                    <a:pt x="84" y="752"/>
                  </a:lnTo>
                  <a:lnTo>
                    <a:pt x="63" y="742"/>
                  </a:lnTo>
                  <a:lnTo>
                    <a:pt x="32" y="731"/>
                  </a:lnTo>
                  <a:lnTo>
                    <a:pt x="21" y="731"/>
                  </a:lnTo>
                  <a:lnTo>
                    <a:pt x="0" y="710"/>
                  </a:lnTo>
                  <a:lnTo>
                    <a:pt x="366" y="0"/>
                  </a:lnTo>
                  <a:lnTo>
                    <a:pt x="261" y="79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46480" y="4672080"/>
              <a:ext cx="225360" cy="1974960"/>
            </a:xfrm>
            <a:custGeom>
              <a:avLst/>
              <a:gdLst/>
              <a:ahLst/>
              <a:rect l="l" t="t" r="r" b="b"/>
              <a:pathLst>
                <a:path w="94" h="836">
                  <a:moveTo>
                    <a:pt x="94" y="0"/>
                  </a:moveTo>
                  <a:lnTo>
                    <a:pt x="0" y="794"/>
                  </a:lnTo>
                  <a:lnTo>
                    <a:pt x="0" y="836"/>
                  </a:lnTo>
                  <a:lnTo>
                    <a:pt x="94" y="42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82760" y="4111560"/>
              <a:ext cx="1936440" cy="567000"/>
            </a:xfrm>
            <a:custGeom>
              <a:avLst/>
              <a:gdLst/>
              <a:ahLst/>
              <a:rect l="l" t="t" r="r" b="b"/>
              <a:pathLst>
                <a:path w="804" h="240">
                  <a:moveTo>
                    <a:pt x="0" y="240"/>
                  </a:moveTo>
                  <a:lnTo>
                    <a:pt x="0" y="209"/>
                  </a:lnTo>
                  <a:lnTo>
                    <a:pt x="0" y="188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84"/>
                  </a:lnTo>
                  <a:lnTo>
                    <a:pt x="0" y="63"/>
                  </a:lnTo>
                  <a:lnTo>
                    <a:pt x="10" y="32"/>
                  </a:lnTo>
                  <a:lnTo>
                    <a:pt x="10" y="0"/>
                  </a:lnTo>
                  <a:lnTo>
                    <a:pt x="804" y="167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560" y="4519800"/>
              <a:ext cx="1913040" cy="247680"/>
            </a:xfrm>
            <a:custGeom>
              <a:avLst/>
              <a:gdLst/>
              <a:ahLst/>
              <a:rect l="l" t="t" r="r" b="b"/>
              <a:pathLst>
                <a:path w="794" h="105">
                  <a:moveTo>
                    <a:pt x="794" y="0"/>
                  </a:moveTo>
                  <a:lnTo>
                    <a:pt x="0" y="63"/>
                  </a:lnTo>
                  <a:lnTo>
                    <a:pt x="0" y="105"/>
                  </a:lnTo>
                  <a:lnTo>
                    <a:pt x="794" y="42"/>
                  </a:lnTo>
                  <a:lnTo>
                    <a:pt x="7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2842920" y="2621160"/>
              <a:ext cx="1433520" cy="1650960"/>
              <a:chOff x="2842920" y="2621160"/>
              <a:chExt cx="1433520" cy="1650960"/>
            </a:xfrm>
          </p:grpSpPr>
          <p:sp>
            <p:nvSpPr>
              <p:cNvPr id="701" name=""/>
              <p:cNvSpPr/>
              <p:nvPr/>
            </p:nvSpPr>
            <p:spPr>
              <a:xfrm>
                <a:off x="2842920" y="2916360"/>
                <a:ext cx="1433520" cy="1355760"/>
              </a:xfrm>
              <a:custGeom>
                <a:avLst/>
                <a:gdLst/>
                <a:ahLst/>
                <a:rect l="l" t="t" r="r" b="b"/>
                <a:pathLst>
                  <a:path w="595" h="574">
                    <a:moveTo>
                      <a:pt x="595" y="532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595" y="574"/>
                    </a:lnTo>
                    <a:lnTo>
                      <a:pt x="595" y="53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842920" y="2621160"/>
                <a:ext cx="1433520" cy="1552680"/>
              </a:xfrm>
              <a:custGeom>
                <a:avLst/>
                <a:gdLst/>
                <a:ahLst/>
                <a:rect l="l" t="t" r="r" b="b"/>
                <a:pathLst>
                  <a:path w="595" h="657">
                    <a:moveTo>
                      <a:pt x="0" y="125"/>
                    </a:moveTo>
                    <a:lnTo>
                      <a:pt x="10" y="104"/>
                    </a:lnTo>
                    <a:lnTo>
                      <a:pt x="21" y="94"/>
                    </a:lnTo>
                    <a:lnTo>
                      <a:pt x="41" y="73"/>
                    </a:lnTo>
                    <a:lnTo>
                      <a:pt x="52" y="62"/>
                    </a:lnTo>
                    <a:lnTo>
                      <a:pt x="73" y="52"/>
                    </a:lnTo>
                    <a:lnTo>
                      <a:pt x="83" y="41"/>
                    </a:lnTo>
                    <a:lnTo>
                      <a:pt x="104" y="20"/>
                    </a:lnTo>
                    <a:lnTo>
                      <a:pt x="115" y="10"/>
                    </a:lnTo>
                    <a:lnTo>
                      <a:pt x="146" y="0"/>
                    </a:lnTo>
                    <a:lnTo>
                      <a:pt x="595" y="657"/>
                    </a:lnTo>
                    <a:lnTo>
                      <a:pt x="0" y="125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4251240" y="2247840"/>
              <a:ext cx="101520" cy="1973520"/>
            </a:xfrm>
            <a:custGeom>
              <a:avLst/>
              <a:gdLst/>
              <a:ahLst/>
              <a:rect l="l" t="t" r="r" b="b"/>
              <a:pathLst>
                <a:path w="42" h="835">
                  <a:moveTo>
                    <a:pt x="42" y="793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42" y="835"/>
                  </a:lnTo>
                  <a:lnTo>
                    <a:pt x="42" y="79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79840" y="2260800"/>
              <a:ext cx="101520" cy="187452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01760" y="2247840"/>
              <a:ext cx="351000" cy="1874880"/>
            </a:xfrm>
            <a:custGeom>
              <a:avLst/>
              <a:gdLst/>
              <a:ahLst/>
              <a:rect l="l" t="t" r="r" b="b"/>
              <a:pathLst>
                <a:path w="146" h="793">
                  <a:moveTo>
                    <a:pt x="0" y="10"/>
                  </a:moveTo>
                  <a:lnTo>
                    <a:pt x="21" y="10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46" y="793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74960" y="2271600"/>
              <a:ext cx="577800" cy="1851120"/>
            </a:xfrm>
            <a:custGeom>
              <a:avLst/>
              <a:gdLst/>
              <a:ahLst/>
              <a:rect l="l" t="t" r="r" b="b"/>
              <a:pathLst>
                <a:path w="240" h="783">
                  <a:moveTo>
                    <a:pt x="0" y="21"/>
                  </a:moveTo>
                  <a:lnTo>
                    <a:pt x="21" y="21"/>
                  </a:lnTo>
                  <a:lnTo>
                    <a:pt x="31" y="11"/>
                  </a:lnTo>
                  <a:lnTo>
                    <a:pt x="52" y="11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240" y="783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73360" y="2395440"/>
              <a:ext cx="779400" cy="1825920"/>
            </a:xfrm>
            <a:custGeom>
              <a:avLst/>
              <a:gdLst/>
              <a:ahLst/>
              <a:rect l="l" t="t" r="r" b="b"/>
              <a:pathLst>
                <a:path w="324" h="773">
                  <a:moveTo>
                    <a:pt x="324" y="731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324" y="773"/>
                  </a:lnTo>
                  <a:lnTo>
                    <a:pt x="324" y="7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47800" y="2320920"/>
              <a:ext cx="804960" cy="1801800"/>
            </a:xfrm>
            <a:custGeom>
              <a:avLst/>
              <a:gdLst/>
              <a:ahLst/>
              <a:rect l="l" t="t" r="r" b="b"/>
              <a:pathLst>
                <a:path w="334" h="762">
                  <a:moveTo>
                    <a:pt x="0" y="31"/>
                  </a:moveTo>
                  <a:lnTo>
                    <a:pt x="21" y="31"/>
                  </a:lnTo>
                  <a:lnTo>
                    <a:pt x="31" y="21"/>
                  </a:lnTo>
                  <a:lnTo>
                    <a:pt x="52" y="11"/>
                  </a:lnTo>
                  <a:lnTo>
                    <a:pt x="73" y="11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334" y="762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71680" y="2570040"/>
              <a:ext cx="1081080" cy="1651320"/>
            </a:xfrm>
            <a:custGeom>
              <a:avLst/>
              <a:gdLst/>
              <a:ahLst/>
              <a:rect l="l" t="t" r="r" b="b"/>
              <a:pathLst>
                <a:path w="449" h="699">
                  <a:moveTo>
                    <a:pt x="449" y="657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449" y="699"/>
                  </a:lnTo>
                  <a:lnTo>
                    <a:pt x="449" y="65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71680" y="2395440"/>
              <a:ext cx="1081080" cy="1727280"/>
            </a:xfrm>
            <a:custGeom>
              <a:avLst/>
              <a:gdLst/>
              <a:ahLst/>
              <a:rect l="l" t="t" r="r" b="b"/>
              <a:pathLst>
                <a:path w="449" h="731">
                  <a:moveTo>
                    <a:pt x="0" y="74"/>
                  </a:moveTo>
                  <a:lnTo>
                    <a:pt x="21" y="53"/>
                  </a:lnTo>
                  <a:lnTo>
                    <a:pt x="31" y="53"/>
                  </a:lnTo>
                  <a:lnTo>
                    <a:pt x="52" y="32"/>
                  </a:lnTo>
                  <a:lnTo>
                    <a:pt x="83" y="21"/>
                  </a:lnTo>
                  <a:lnTo>
                    <a:pt x="94" y="11"/>
                  </a:lnTo>
                  <a:lnTo>
                    <a:pt x="115" y="0"/>
                  </a:lnTo>
                  <a:lnTo>
                    <a:pt x="449" y="73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16040" y="3005280"/>
              <a:ext cx="1709640" cy="1257120"/>
            </a:xfrm>
            <a:custGeom>
              <a:avLst/>
              <a:gdLst/>
              <a:ahLst/>
              <a:rect l="l" t="t" r="r" b="b"/>
              <a:pathLst>
                <a:path w="710" h="532">
                  <a:moveTo>
                    <a:pt x="0" y="146"/>
                  </a:moveTo>
                  <a:lnTo>
                    <a:pt x="10" y="136"/>
                  </a:lnTo>
                  <a:lnTo>
                    <a:pt x="21" y="115"/>
                  </a:lnTo>
                  <a:lnTo>
                    <a:pt x="31" y="104"/>
                  </a:lnTo>
                  <a:lnTo>
                    <a:pt x="52" y="73"/>
                  </a:lnTo>
                  <a:lnTo>
                    <a:pt x="52" y="63"/>
                  </a:lnTo>
                  <a:lnTo>
                    <a:pt x="73" y="42"/>
                  </a:lnTo>
                  <a:lnTo>
                    <a:pt x="83" y="31"/>
                  </a:lnTo>
                  <a:lnTo>
                    <a:pt x="104" y="10"/>
                  </a:lnTo>
                  <a:lnTo>
                    <a:pt x="115" y="0"/>
                  </a:lnTo>
                  <a:lnTo>
                    <a:pt x="710" y="532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27200" y="3349800"/>
              <a:ext cx="1685880" cy="1011240"/>
            </a:xfrm>
            <a:custGeom>
              <a:avLst/>
              <a:gdLst/>
              <a:ahLst/>
              <a:rect l="l" t="t" r="r" b="b"/>
              <a:pathLst>
                <a:path w="700" h="428">
                  <a:moveTo>
                    <a:pt x="700" y="386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00" y="428"/>
                  </a:lnTo>
                  <a:lnTo>
                    <a:pt x="700" y="38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00040" y="3489480"/>
              <a:ext cx="1913040" cy="912600"/>
            </a:xfrm>
            <a:custGeom>
              <a:avLst/>
              <a:gdLst/>
              <a:ahLst/>
              <a:rect l="l" t="t" r="r" b="b"/>
              <a:pathLst>
                <a:path w="794" h="386">
                  <a:moveTo>
                    <a:pt x="0" y="219"/>
                  </a:moveTo>
                  <a:lnTo>
                    <a:pt x="11" y="198"/>
                  </a:lnTo>
                  <a:lnTo>
                    <a:pt x="21" y="167"/>
                  </a:lnTo>
                  <a:lnTo>
                    <a:pt x="32" y="146"/>
                  </a:lnTo>
                  <a:lnTo>
                    <a:pt x="32" y="115"/>
                  </a:lnTo>
                  <a:lnTo>
                    <a:pt x="42" y="104"/>
                  </a:lnTo>
                  <a:lnTo>
                    <a:pt x="53" y="73"/>
                  </a:lnTo>
                  <a:lnTo>
                    <a:pt x="63" y="52"/>
                  </a:lnTo>
                  <a:lnTo>
                    <a:pt x="73" y="31"/>
                  </a:lnTo>
                  <a:lnTo>
                    <a:pt x="84" y="0"/>
                  </a:lnTo>
                  <a:lnTo>
                    <a:pt x="794" y="386"/>
                  </a:lnTo>
                  <a:lnTo>
                    <a:pt x="0" y="219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01480" y="3981600"/>
              <a:ext cx="1886040" cy="493560"/>
            </a:xfrm>
            <a:custGeom>
              <a:avLst/>
              <a:gdLst/>
              <a:ahLst/>
              <a:rect l="l" t="t" r="r" b="b"/>
              <a:pathLst>
                <a:path w="783" h="209">
                  <a:moveTo>
                    <a:pt x="783" y="167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83" y="209"/>
                  </a:lnTo>
                  <a:lnTo>
                    <a:pt x="783" y="16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14600" y="4621320"/>
              <a:ext cx="880920" cy="1776240"/>
            </a:xfrm>
            <a:custGeom>
              <a:avLst/>
              <a:gdLst/>
              <a:ahLst/>
              <a:rect l="l" t="t" r="r" b="b"/>
              <a:pathLst>
                <a:path w="366" h="752">
                  <a:moveTo>
                    <a:pt x="366" y="0"/>
                  </a:moveTo>
                  <a:lnTo>
                    <a:pt x="0" y="710"/>
                  </a:lnTo>
                  <a:lnTo>
                    <a:pt x="0" y="752"/>
                  </a:lnTo>
                  <a:lnTo>
                    <a:pt x="366" y="42"/>
                  </a:lnTo>
                  <a:lnTo>
                    <a:pt x="366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33520" y="4780080"/>
              <a:ext cx="125280" cy="64296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52" y="230"/>
                  </a:moveTo>
                  <a:lnTo>
                    <a:pt x="42" y="199"/>
                  </a:lnTo>
                  <a:lnTo>
                    <a:pt x="42" y="178"/>
                  </a:lnTo>
                  <a:lnTo>
                    <a:pt x="31" y="147"/>
                  </a:lnTo>
                  <a:lnTo>
                    <a:pt x="21" y="126"/>
                  </a:lnTo>
                  <a:lnTo>
                    <a:pt x="21" y="105"/>
                  </a:lnTo>
                  <a:lnTo>
                    <a:pt x="10" y="84"/>
                  </a:lnTo>
                  <a:lnTo>
                    <a:pt x="10" y="5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74"/>
                  </a:lnTo>
                  <a:lnTo>
                    <a:pt x="10" y="94"/>
                  </a:lnTo>
                  <a:lnTo>
                    <a:pt x="10" y="126"/>
                  </a:lnTo>
                  <a:lnTo>
                    <a:pt x="21" y="147"/>
                  </a:lnTo>
                  <a:lnTo>
                    <a:pt x="21" y="168"/>
                  </a:lnTo>
                  <a:lnTo>
                    <a:pt x="31" y="188"/>
                  </a:lnTo>
                  <a:lnTo>
                    <a:pt x="42" y="220"/>
                  </a:lnTo>
                  <a:lnTo>
                    <a:pt x="42" y="241"/>
                  </a:lnTo>
                  <a:lnTo>
                    <a:pt x="52" y="272"/>
                  </a:lnTo>
                  <a:lnTo>
                    <a:pt x="52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85800" y="4608720"/>
              <a:ext cx="1784520" cy="790560"/>
            </a:xfrm>
            <a:custGeom>
              <a:avLst/>
              <a:gdLst/>
              <a:ahLst/>
              <a:rect l="l" t="t" r="r" b="b"/>
              <a:pathLst>
                <a:path w="741" h="335">
                  <a:moveTo>
                    <a:pt x="741" y="0"/>
                  </a:moveTo>
                  <a:lnTo>
                    <a:pt x="0" y="293"/>
                  </a:lnTo>
                  <a:lnTo>
                    <a:pt x="0" y="335"/>
                  </a:lnTo>
                  <a:lnTo>
                    <a:pt x="741" y="42"/>
                  </a:lnTo>
                  <a:lnTo>
                    <a:pt x="741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33520" y="4646520"/>
              <a:ext cx="1936800" cy="716040"/>
            </a:xfrm>
            <a:custGeom>
              <a:avLst/>
              <a:gdLst/>
              <a:ahLst/>
              <a:rect l="l" t="t" r="r" b="b"/>
              <a:pathLst>
                <a:path w="804" h="303">
                  <a:moveTo>
                    <a:pt x="52" y="303"/>
                  </a:moveTo>
                  <a:lnTo>
                    <a:pt x="42" y="272"/>
                  </a:lnTo>
                  <a:lnTo>
                    <a:pt x="42" y="251"/>
                  </a:lnTo>
                  <a:lnTo>
                    <a:pt x="31" y="220"/>
                  </a:lnTo>
                  <a:lnTo>
                    <a:pt x="21" y="199"/>
                  </a:lnTo>
                  <a:lnTo>
                    <a:pt x="21" y="178"/>
                  </a:lnTo>
                  <a:lnTo>
                    <a:pt x="10" y="157"/>
                  </a:lnTo>
                  <a:lnTo>
                    <a:pt x="10" y="126"/>
                  </a:lnTo>
                  <a:lnTo>
                    <a:pt x="0" y="105"/>
                  </a:lnTo>
                  <a:lnTo>
                    <a:pt x="0" y="73"/>
                  </a:lnTo>
                  <a:lnTo>
                    <a:pt x="804" y="0"/>
                  </a:lnTo>
                  <a:lnTo>
                    <a:pt x="52" y="30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58800" y="5324400"/>
              <a:ext cx="378000" cy="642960"/>
            </a:xfrm>
            <a:custGeom>
              <a:avLst/>
              <a:gdLst/>
              <a:ahLst/>
              <a:rect l="l" t="t" r="r" b="b"/>
              <a:pathLst>
                <a:path w="157" h="272">
                  <a:moveTo>
                    <a:pt x="157" y="230"/>
                  </a:moveTo>
                  <a:lnTo>
                    <a:pt x="136" y="209"/>
                  </a:lnTo>
                  <a:lnTo>
                    <a:pt x="125" y="199"/>
                  </a:lnTo>
                  <a:lnTo>
                    <a:pt x="105" y="178"/>
                  </a:lnTo>
                  <a:lnTo>
                    <a:pt x="94" y="157"/>
                  </a:lnTo>
                  <a:lnTo>
                    <a:pt x="84" y="146"/>
                  </a:lnTo>
                  <a:lnTo>
                    <a:pt x="63" y="125"/>
                  </a:lnTo>
                  <a:lnTo>
                    <a:pt x="52" y="105"/>
                  </a:lnTo>
                  <a:lnTo>
                    <a:pt x="42" y="84"/>
                  </a:lnTo>
                  <a:lnTo>
                    <a:pt x="31" y="63"/>
                  </a:lnTo>
                  <a:lnTo>
                    <a:pt x="21" y="42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1" y="63"/>
                  </a:lnTo>
                  <a:lnTo>
                    <a:pt x="21" y="84"/>
                  </a:lnTo>
                  <a:lnTo>
                    <a:pt x="31" y="105"/>
                  </a:lnTo>
                  <a:lnTo>
                    <a:pt x="42" y="125"/>
                  </a:lnTo>
                  <a:lnTo>
                    <a:pt x="52" y="146"/>
                  </a:lnTo>
                  <a:lnTo>
                    <a:pt x="63" y="167"/>
                  </a:lnTo>
                  <a:lnTo>
                    <a:pt x="84" y="188"/>
                  </a:lnTo>
                  <a:lnTo>
                    <a:pt x="94" y="199"/>
                  </a:lnTo>
                  <a:lnTo>
                    <a:pt x="105" y="219"/>
                  </a:lnTo>
                  <a:lnTo>
                    <a:pt x="125" y="240"/>
                  </a:lnTo>
                  <a:lnTo>
                    <a:pt x="136" y="251"/>
                  </a:lnTo>
                  <a:lnTo>
                    <a:pt x="157" y="272"/>
                  </a:lnTo>
                  <a:lnTo>
                    <a:pt x="157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58800" y="4608720"/>
              <a:ext cx="1811520" cy="1258560"/>
            </a:xfrm>
            <a:custGeom>
              <a:avLst/>
              <a:gdLst/>
              <a:ahLst/>
              <a:rect l="l" t="t" r="r" b="b"/>
              <a:pathLst>
                <a:path w="752" h="533">
                  <a:moveTo>
                    <a:pt x="157" y="533"/>
                  </a:moveTo>
                  <a:lnTo>
                    <a:pt x="136" y="512"/>
                  </a:lnTo>
                  <a:lnTo>
                    <a:pt x="125" y="502"/>
                  </a:lnTo>
                  <a:lnTo>
                    <a:pt x="105" y="481"/>
                  </a:lnTo>
                  <a:lnTo>
                    <a:pt x="94" y="460"/>
                  </a:lnTo>
                  <a:lnTo>
                    <a:pt x="84" y="449"/>
                  </a:lnTo>
                  <a:lnTo>
                    <a:pt x="63" y="428"/>
                  </a:lnTo>
                  <a:lnTo>
                    <a:pt x="52" y="408"/>
                  </a:lnTo>
                  <a:lnTo>
                    <a:pt x="42" y="387"/>
                  </a:lnTo>
                  <a:lnTo>
                    <a:pt x="31" y="366"/>
                  </a:lnTo>
                  <a:lnTo>
                    <a:pt x="21" y="345"/>
                  </a:lnTo>
                  <a:lnTo>
                    <a:pt x="11" y="324"/>
                  </a:lnTo>
                  <a:lnTo>
                    <a:pt x="0" y="303"/>
                  </a:lnTo>
                  <a:lnTo>
                    <a:pt x="752" y="0"/>
                  </a:lnTo>
                  <a:lnTo>
                    <a:pt x="157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36800" y="4608720"/>
              <a:ext cx="1433520" cy="135864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595" y="0"/>
                  </a:moveTo>
                  <a:lnTo>
                    <a:pt x="0" y="533"/>
                  </a:lnTo>
                  <a:lnTo>
                    <a:pt x="0" y="575"/>
                  </a:lnTo>
                  <a:lnTo>
                    <a:pt x="595" y="4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49400" y="5880240"/>
              <a:ext cx="552240" cy="517320"/>
            </a:xfrm>
            <a:custGeom>
              <a:avLst/>
              <a:gdLst/>
              <a:ahLst/>
              <a:rect l="l" t="t" r="r" b="b"/>
              <a:pathLst>
                <a:path w="229" h="219">
                  <a:moveTo>
                    <a:pt x="229" y="177"/>
                  </a:moveTo>
                  <a:lnTo>
                    <a:pt x="198" y="167"/>
                  </a:lnTo>
                  <a:lnTo>
                    <a:pt x="177" y="157"/>
                  </a:lnTo>
                  <a:lnTo>
                    <a:pt x="167" y="146"/>
                  </a:lnTo>
                  <a:lnTo>
                    <a:pt x="146" y="136"/>
                  </a:lnTo>
                  <a:lnTo>
                    <a:pt x="115" y="115"/>
                  </a:lnTo>
                  <a:lnTo>
                    <a:pt x="94" y="104"/>
                  </a:lnTo>
                  <a:lnTo>
                    <a:pt x="83" y="94"/>
                  </a:lnTo>
                  <a:lnTo>
                    <a:pt x="62" y="73"/>
                  </a:lnTo>
                  <a:lnTo>
                    <a:pt x="41" y="52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0" y="63"/>
                  </a:lnTo>
                  <a:lnTo>
                    <a:pt x="21" y="73"/>
                  </a:lnTo>
                  <a:lnTo>
                    <a:pt x="41" y="94"/>
                  </a:lnTo>
                  <a:lnTo>
                    <a:pt x="62" y="115"/>
                  </a:lnTo>
                  <a:lnTo>
                    <a:pt x="83" y="136"/>
                  </a:lnTo>
                  <a:lnTo>
                    <a:pt x="94" y="146"/>
                  </a:lnTo>
                  <a:lnTo>
                    <a:pt x="115" y="157"/>
                  </a:lnTo>
                  <a:lnTo>
                    <a:pt x="146" y="177"/>
                  </a:lnTo>
                  <a:lnTo>
                    <a:pt x="167" y="188"/>
                  </a:lnTo>
                  <a:lnTo>
                    <a:pt x="177" y="198"/>
                  </a:lnTo>
                  <a:lnTo>
                    <a:pt x="198" y="209"/>
                  </a:lnTo>
                  <a:lnTo>
                    <a:pt x="229" y="219"/>
                  </a:lnTo>
                  <a:lnTo>
                    <a:pt x="229" y="17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49400" y="4621320"/>
              <a:ext cx="1433520" cy="1677960"/>
            </a:xfrm>
            <a:custGeom>
              <a:avLst/>
              <a:gdLst/>
              <a:ahLst/>
              <a:rect l="l" t="t" r="r" b="b"/>
              <a:pathLst>
                <a:path w="595" h="710">
                  <a:moveTo>
                    <a:pt x="229" y="710"/>
                  </a:moveTo>
                  <a:lnTo>
                    <a:pt x="198" y="700"/>
                  </a:lnTo>
                  <a:lnTo>
                    <a:pt x="177" y="690"/>
                  </a:lnTo>
                  <a:lnTo>
                    <a:pt x="167" y="679"/>
                  </a:lnTo>
                  <a:lnTo>
                    <a:pt x="146" y="669"/>
                  </a:lnTo>
                  <a:lnTo>
                    <a:pt x="115" y="648"/>
                  </a:lnTo>
                  <a:lnTo>
                    <a:pt x="94" y="637"/>
                  </a:lnTo>
                  <a:lnTo>
                    <a:pt x="83" y="627"/>
                  </a:lnTo>
                  <a:lnTo>
                    <a:pt x="62" y="606"/>
                  </a:lnTo>
                  <a:lnTo>
                    <a:pt x="41" y="585"/>
                  </a:lnTo>
                  <a:lnTo>
                    <a:pt x="21" y="564"/>
                  </a:lnTo>
                  <a:lnTo>
                    <a:pt x="10" y="554"/>
                  </a:lnTo>
                  <a:lnTo>
                    <a:pt x="0" y="533"/>
                  </a:lnTo>
                  <a:lnTo>
                    <a:pt x="595" y="0"/>
                  </a:lnTo>
                  <a:lnTo>
                    <a:pt x="229" y="7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4854600" y="2919240"/>
            <a:ext cx="1433520" cy="1355760"/>
          </a:xfrm>
          <a:custGeom>
            <a:avLst/>
            <a:gdLst/>
            <a:ahLst/>
            <a:rect l="l" t="t" r="r" b="b"/>
            <a:pathLst>
              <a:path w="595" h="574">
                <a:moveTo>
                  <a:pt x="0" y="532"/>
                </a:moveTo>
                <a:lnTo>
                  <a:pt x="595" y="0"/>
                </a:lnTo>
                <a:lnTo>
                  <a:pt x="595" y="42"/>
                </a:lnTo>
                <a:lnTo>
                  <a:pt x="0" y="574"/>
                </a:lnTo>
                <a:lnTo>
                  <a:pt x="0" y="532"/>
                </a:lnTo>
                <a:close/>
              </a:path>
            </a:pathLst>
          </a:custGeom>
          <a:solidFill>
            <a:srgbClr val="4d4d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54600" y="2301840"/>
            <a:ext cx="1433520" cy="1874880"/>
          </a:xfrm>
          <a:custGeom>
            <a:avLst/>
            <a:gdLst/>
            <a:ahLst/>
            <a:rect l="l" t="t" r="r" b="b"/>
            <a:pathLst>
              <a:path w="595" h="793">
                <a:moveTo>
                  <a:pt x="0" y="0"/>
                </a:moveTo>
                <a:lnTo>
                  <a:pt x="21" y="0"/>
                </a:lnTo>
                <a:lnTo>
                  <a:pt x="52" y="0"/>
                </a:lnTo>
                <a:lnTo>
                  <a:pt x="83" y="0"/>
                </a:lnTo>
                <a:lnTo>
                  <a:pt x="104" y="0"/>
                </a:lnTo>
                <a:lnTo>
                  <a:pt x="136" y="10"/>
                </a:lnTo>
                <a:lnTo>
                  <a:pt x="167" y="10"/>
                </a:lnTo>
                <a:lnTo>
                  <a:pt x="188" y="21"/>
                </a:lnTo>
                <a:lnTo>
                  <a:pt x="219" y="31"/>
                </a:lnTo>
                <a:lnTo>
                  <a:pt x="250" y="31"/>
                </a:lnTo>
                <a:lnTo>
                  <a:pt x="271" y="42"/>
                </a:lnTo>
                <a:lnTo>
                  <a:pt x="303" y="52"/>
                </a:lnTo>
                <a:lnTo>
                  <a:pt x="324" y="62"/>
                </a:lnTo>
                <a:lnTo>
                  <a:pt x="355" y="73"/>
                </a:lnTo>
                <a:lnTo>
                  <a:pt x="376" y="94"/>
                </a:lnTo>
                <a:lnTo>
                  <a:pt x="397" y="104"/>
                </a:lnTo>
                <a:lnTo>
                  <a:pt x="428" y="115"/>
                </a:lnTo>
                <a:lnTo>
                  <a:pt x="449" y="136"/>
                </a:lnTo>
                <a:lnTo>
                  <a:pt x="470" y="146"/>
                </a:lnTo>
                <a:lnTo>
                  <a:pt x="491" y="167"/>
                </a:lnTo>
                <a:lnTo>
                  <a:pt x="511" y="188"/>
                </a:lnTo>
                <a:lnTo>
                  <a:pt x="532" y="198"/>
                </a:lnTo>
                <a:lnTo>
                  <a:pt x="553" y="219"/>
                </a:lnTo>
                <a:lnTo>
                  <a:pt x="574" y="240"/>
                </a:lnTo>
                <a:lnTo>
                  <a:pt x="595" y="261"/>
                </a:lnTo>
                <a:lnTo>
                  <a:pt x="0" y="793"/>
                </a:lnTo>
                <a:lnTo>
                  <a:pt x="0" y="0"/>
                </a:lnTo>
                <a:close/>
              </a:path>
            </a:pathLst>
          </a:custGeom>
          <a:solidFill>
            <a:srgbClr val="000082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288120" y="4251240"/>
            <a:ext cx="503280" cy="1284480"/>
          </a:xfrm>
          <a:custGeom>
            <a:avLst/>
            <a:gdLst/>
            <a:ahLst/>
            <a:rect l="l" t="t" r="r" b="b"/>
            <a:pathLst>
              <a:path w="209" h="543">
                <a:moveTo>
                  <a:pt x="209" y="0"/>
                </a:moveTo>
                <a:lnTo>
                  <a:pt x="209" y="31"/>
                </a:lnTo>
                <a:lnTo>
                  <a:pt x="198" y="52"/>
                </a:lnTo>
                <a:lnTo>
                  <a:pt x="198" y="83"/>
                </a:lnTo>
                <a:lnTo>
                  <a:pt x="198" y="115"/>
                </a:lnTo>
                <a:lnTo>
                  <a:pt x="188" y="135"/>
                </a:lnTo>
                <a:lnTo>
                  <a:pt x="188" y="146"/>
                </a:lnTo>
                <a:lnTo>
                  <a:pt x="177" y="177"/>
                </a:lnTo>
                <a:lnTo>
                  <a:pt x="167" y="209"/>
                </a:lnTo>
                <a:lnTo>
                  <a:pt x="167" y="229"/>
                </a:lnTo>
                <a:lnTo>
                  <a:pt x="157" y="261"/>
                </a:lnTo>
                <a:lnTo>
                  <a:pt x="146" y="282"/>
                </a:lnTo>
                <a:lnTo>
                  <a:pt x="136" y="313"/>
                </a:lnTo>
                <a:lnTo>
                  <a:pt x="115" y="334"/>
                </a:lnTo>
                <a:lnTo>
                  <a:pt x="104" y="355"/>
                </a:lnTo>
                <a:lnTo>
                  <a:pt x="94" y="386"/>
                </a:lnTo>
                <a:lnTo>
                  <a:pt x="83" y="396"/>
                </a:lnTo>
                <a:lnTo>
                  <a:pt x="73" y="417"/>
                </a:lnTo>
                <a:lnTo>
                  <a:pt x="52" y="438"/>
                </a:lnTo>
                <a:lnTo>
                  <a:pt x="31" y="459"/>
                </a:lnTo>
                <a:lnTo>
                  <a:pt x="21" y="480"/>
                </a:lnTo>
                <a:lnTo>
                  <a:pt x="0" y="501"/>
                </a:lnTo>
                <a:lnTo>
                  <a:pt x="0" y="543"/>
                </a:lnTo>
                <a:lnTo>
                  <a:pt x="21" y="522"/>
                </a:lnTo>
                <a:lnTo>
                  <a:pt x="31" y="501"/>
                </a:lnTo>
                <a:lnTo>
                  <a:pt x="52" y="480"/>
                </a:lnTo>
                <a:lnTo>
                  <a:pt x="73" y="459"/>
                </a:lnTo>
                <a:lnTo>
                  <a:pt x="83" y="438"/>
                </a:lnTo>
                <a:lnTo>
                  <a:pt x="94" y="428"/>
                </a:lnTo>
                <a:lnTo>
                  <a:pt x="104" y="396"/>
                </a:lnTo>
                <a:lnTo>
                  <a:pt x="115" y="376"/>
                </a:lnTo>
                <a:lnTo>
                  <a:pt x="136" y="355"/>
                </a:lnTo>
                <a:lnTo>
                  <a:pt x="146" y="323"/>
                </a:lnTo>
                <a:lnTo>
                  <a:pt x="157" y="303"/>
                </a:lnTo>
                <a:lnTo>
                  <a:pt x="167" y="271"/>
                </a:lnTo>
                <a:lnTo>
                  <a:pt x="167" y="250"/>
                </a:lnTo>
                <a:lnTo>
                  <a:pt x="177" y="219"/>
                </a:lnTo>
                <a:lnTo>
                  <a:pt x="188" y="188"/>
                </a:lnTo>
                <a:lnTo>
                  <a:pt x="188" y="177"/>
                </a:lnTo>
                <a:lnTo>
                  <a:pt x="198" y="156"/>
                </a:lnTo>
                <a:lnTo>
                  <a:pt x="198" y="125"/>
                </a:lnTo>
                <a:lnTo>
                  <a:pt x="198" y="94"/>
                </a:lnTo>
                <a:lnTo>
                  <a:pt x="209" y="73"/>
                </a:lnTo>
                <a:lnTo>
                  <a:pt x="209" y="41"/>
                </a:lnTo>
                <a:lnTo>
                  <a:pt x="209" y="0"/>
                </a:lnTo>
                <a:close/>
              </a:path>
            </a:pathLst>
          </a:custGeom>
          <a:solidFill>
            <a:srgbClr val="000082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54600" y="4176720"/>
            <a:ext cx="1433520" cy="1359000"/>
          </a:xfrm>
          <a:custGeom>
            <a:avLst/>
            <a:gdLst/>
            <a:ahLst/>
            <a:rect l="l" t="t" r="r" b="b"/>
            <a:pathLst>
              <a:path w="595" h="575">
                <a:moveTo>
                  <a:pt x="0" y="0"/>
                </a:moveTo>
                <a:lnTo>
                  <a:pt x="595" y="533"/>
                </a:lnTo>
                <a:lnTo>
                  <a:pt x="595" y="575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33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54600" y="4176720"/>
            <a:ext cx="1936800" cy="1258920"/>
          </a:xfrm>
          <a:custGeom>
            <a:avLst/>
            <a:gdLst/>
            <a:ahLst/>
            <a:rect l="l" t="t" r="r" b="b"/>
            <a:pathLst>
              <a:path w="804" h="533">
                <a:moveTo>
                  <a:pt x="804" y="32"/>
                </a:moveTo>
                <a:lnTo>
                  <a:pt x="804" y="63"/>
                </a:lnTo>
                <a:lnTo>
                  <a:pt x="793" y="84"/>
                </a:lnTo>
                <a:lnTo>
                  <a:pt x="793" y="115"/>
                </a:lnTo>
                <a:lnTo>
                  <a:pt x="793" y="147"/>
                </a:lnTo>
                <a:lnTo>
                  <a:pt x="783" y="167"/>
                </a:lnTo>
                <a:lnTo>
                  <a:pt x="783" y="178"/>
                </a:lnTo>
                <a:lnTo>
                  <a:pt x="772" y="209"/>
                </a:lnTo>
                <a:lnTo>
                  <a:pt x="762" y="241"/>
                </a:lnTo>
                <a:lnTo>
                  <a:pt x="762" y="261"/>
                </a:lnTo>
                <a:lnTo>
                  <a:pt x="752" y="293"/>
                </a:lnTo>
                <a:lnTo>
                  <a:pt x="741" y="314"/>
                </a:lnTo>
                <a:lnTo>
                  <a:pt x="731" y="345"/>
                </a:lnTo>
                <a:lnTo>
                  <a:pt x="710" y="366"/>
                </a:lnTo>
                <a:lnTo>
                  <a:pt x="699" y="387"/>
                </a:lnTo>
                <a:lnTo>
                  <a:pt x="689" y="418"/>
                </a:lnTo>
                <a:lnTo>
                  <a:pt x="678" y="428"/>
                </a:lnTo>
                <a:lnTo>
                  <a:pt x="668" y="449"/>
                </a:lnTo>
                <a:lnTo>
                  <a:pt x="647" y="470"/>
                </a:lnTo>
                <a:lnTo>
                  <a:pt x="626" y="491"/>
                </a:lnTo>
                <a:lnTo>
                  <a:pt x="616" y="512"/>
                </a:lnTo>
                <a:lnTo>
                  <a:pt x="595" y="533"/>
                </a:lnTo>
                <a:lnTo>
                  <a:pt x="0" y="0"/>
                </a:lnTo>
                <a:lnTo>
                  <a:pt x="804" y="32"/>
                </a:lnTo>
                <a:close/>
              </a:path>
            </a:pathLst>
          </a:custGeom>
          <a:solidFill>
            <a:srgbClr val="0000fe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30760" y="208584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Look"/Art,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41360" y="491796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,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4291560" y="2013120"/>
            <a:ext cx="546480" cy="2122200"/>
            <a:chOff x="4291560" y="2013120"/>
            <a:chExt cx="546480" cy="2122200"/>
          </a:xfrm>
        </p:grpSpPr>
        <p:sp>
          <p:nvSpPr>
            <p:cNvPr id="732" name=""/>
            <p:cNvSpPr/>
            <p:nvPr/>
          </p:nvSpPr>
          <p:spPr>
            <a:xfrm>
              <a:off x="4479840" y="2260440"/>
              <a:ext cx="101520" cy="187488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ab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91560" y="2013120"/>
              <a:ext cx="54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Price,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338040" y="2719440"/>
            <a:ext cx="21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of Impact; of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82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dvertising tends to be more of a “reward” than a requir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01760" y="1328760"/>
            <a:ext cx="8153280" cy="5356080"/>
            <a:chOff x="401760" y="1328760"/>
            <a:chExt cx="8153280" cy="5356080"/>
          </a:xfrm>
        </p:grpSpPr>
        <p:graphicFrame>
          <p:nvGraphicFramePr>
            <p:cNvPr id="737" name=""/>
            <p:cNvGraphicFramePr/>
            <p:nvPr/>
          </p:nvGraphicFramePr>
          <p:xfrm>
            <a:off x="3592440" y="1328760"/>
            <a:ext cx="4962600" cy="5356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92440" y="1328760"/>
                      <a:ext cx="4962600" cy="535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9" name=""/>
            <p:cNvSpPr/>
            <p:nvPr/>
          </p:nvSpPr>
          <p:spPr>
            <a:xfrm>
              <a:off x="401760" y="1411200"/>
              <a:ext cx="3544920" cy="52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sed/Served produc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en the pr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en on shelves in st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en look of pack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wspaper inserts, circula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levision advertis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store circulars or fly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n coupons printed at store cash regis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avorable conversations with others/pet own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gazine advertis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n signs, displays inside st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duct samples of this br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commendation by ‘professional’ or their staf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site for a Brand/Compan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fo, ads in mailings delivered by the post off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levision advertising with a toll-free number/websi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emails sent directly to yo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n posters or brochures in xxx off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ceiving info/offers requested from a compan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avorable news stories appearing in broadcast/w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V or Radio Advertising in Supermarket/Sto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rand support of xxx char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nline adverts on websi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 advertis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commendation by ‘professionals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vents where can take pe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rson in the store offering info or re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 DJ or talk show 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tdoor advertis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nline search sites such as Google, Yaho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aming sites (video games) played on the w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nline blogs, chat-rooms, social si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3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n cinema scree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6215040" y="2362320"/>
            <a:ext cx="2306520" cy="1454760"/>
            <a:chOff x="6215040" y="2362320"/>
            <a:chExt cx="2306520" cy="1454760"/>
          </a:xfrm>
        </p:grpSpPr>
        <p:sp>
          <p:nvSpPr>
            <p:cNvPr id="741" name=""/>
            <p:cNvSpPr/>
            <p:nvPr/>
          </p:nvSpPr>
          <p:spPr>
            <a:xfrm>
              <a:off x="6491160" y="2681280"/>
              <a:ext cx="1040040" cy="20160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31200" y="2681280"/>
              <a:ext cx="965160" cy="2016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15040" y="2363760"/>
              <a:ext cx="15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Requir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20120" y="23623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w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400000">
              <a:off x="7569000" y="2235240"/>
              <a:ext cx="152640" cy="17524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92760" y="3340080"/>
              <a:ext cx="18288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rived magnitude of imp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559400" y="1836720"/>
            <a:ext cx="1298520" cy="208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36800" y="6583320"/>
            <a:ext cx="27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A. Case study;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07200" y="4730760"/>
            <a:ext cx="3408120" cy="9709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547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a547e"/>
                </a:solidFill>
                <a:latin typeface="Arial"/>
              </a:rPr>
              <a:t>Good advertising can make a contribution (especially when product performance might be quite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52080" y="27756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” broadcast still works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282760" y="1841400"/>
            <a:ext cx="4511520" cy="4422960"/>
            <a:chOff x="2282760" y="1841400"/>
            <a:chExt cx="4511520" cy="4422960"/>
          </a:xfrm>
        </p:grpSpPr>
        <p:sp>
          <p:nvSpPr>
            <p:cNvPr id="752" name=""/>
            <p:cNvSpPr/>
            <p:nvPr/>
          </p:nvSpPr>
          <p:spPr>
            <a:xfrm>
              <a:off x="4854240" y="2513160"/>
              <a:ext cx="1433520" cy="13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0" y="532"/>
                  </a:moveTo>
                  <a:lnTo>
                    <a:pt x="595" y="0"/>
                  </a:lnTo>
                  <a:lnTo>
                    <a:pt x="595" y="42"/>
                  </a:lnTo>
                  <a:lnTo>
                    <a:pt x="0" y="574"/>
                  </a:lnTo>
                  <a:lnTo>
                    <a:pt x="0" y="5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54240" y="1895400"/>
              <a:ext cx="1433520" cy="1874880"/>
            </a:xfrm>
            <a:custGeom>
              <a:avLst/>
              <a:gdLst/>
              <a:ahLst/>
              <a:rect l="l" t="t" r="r" b="b"/>
              <a:pathLst>
                <a:path w="595" h="793">
                  <a:moveTo>
                    <a:pt x="0" y="0"/>
                  </a:moveTo>
                  <a:lnTo>
                    <a:pt x="21" y="0"/>
                  </a:lnTo>
                  <a:lnTo>
                    <a:pt x="52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36" y="10"/>
                  </a:lnTo>
                  <a:lnTo>
                    <a:pt x="167" y="10"/>
                  </a:lnTo>
                  <a:lnTo>
                    <a:pt x="188" y="21"/>
                  </a:lnTo>
                  <a:lnTo>
                    <a:pt x="219" y="31"/>
                  </a:lnTo>
                  <a:lnTo>
                    <a:pt x="250" y="31"/>
                  </a:lnTo>
                  <a:lnTo>
                    <a:pt x="271" y="42"/>
                  </a:lnTo>
                  <a:lnTo>
                    <a:pt x="303" y="52"/>
                  </a:lnTo>
                  <a:lnTo>
                    <a:pt x="324" y="62"/>
                  </a:lnTo>
                  <a:lnTo>
                    <a:pt x="355" y="73"/>
                  </a:lnTo>
                  <a:lnTo>
                    <a:pt x="376" y="94"/>
                  </a:lnTo>
                  <a:lnTo>
                    <a:pt x="397" y="104"/>
                  </a:lnTo>
                  <a:lnTo>
                    <a:pt x="428" y="115"/>
                  </a:lnTo>
                  <a:lnTo>
                    <a:pt x="449" y="136"/>
                  </a:lnTo>
                  <a:lnTo>
                    <a:pt x="470" y="146"/>
                  </a:lnTo>
                  <a:lnTo>
                    <a:pt x="491" y="167"/>
                  </a:lnTo>
                  <a:lnTo>
                    <a:pt x="511" y="188"/>
                  </a:lnTo>
                  <a:lnTo>
                    <a:pt x="532" y="198"/>
                  </a:lnTo>
                  <a:lnTo>
                    <a:pt x="553" y="219"/>
                  </a:lnTo>
                  <a:lnTo>
                    <a:pt x="574" y="240"/>
                  </a:lnTo>
                  <a:lnTo>
                    <a:pt x="595" y="261"/>
                  </a:lnTo>
                  <a:lnTo>
                    <a:pt x="0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91040" y="3770280"/>
              <a:ext cx="3240" cy="17136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4240" y="3770280"/>
              <a:ext cx="1936800" cy="147600"/>
            </a:xfrm>
            <a:custGeom>
              <a:avLst/>
              <a:gdLst/>
              <a:ahLst/>
              <a:rect l="l" t="t" r="r" b="b"/>
              <a:pathLst>
                <a:path w="804" h="63">
                  <a:moveTo>
                    <a:pt x="0" y="0"/>
                  </a:moveTo>
                  <a:lnTo>
                    <a:pt x="804" y="21"/>
                  </a:lnTo>
                  <a:lnTo>
                    <a:pt x="804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54240" y="2513160"/>
              <a:ext cx="1936800" cy="1331640"/>
            </a:xfrm>
            <a:custGeom>
              <a:avLst/>
              <a:gdLst/>
              <a:ahLst/>
              <a:rect l="l" t="t" r="r" b="b"/>
              <a:pathLst>
                <a:path w="804" h="564">
                  <a:moveTo>
                    <a:pt x="595" y="0"/>
                  </a:moveTo>
                  <a:lnTo>
                    <a:pt x="616" y="21"/>
                  </a:lnTo>
                  <a:lnTo>
                    <a:pt x="626" y="42"/>
                  </a:lnTo>
                  <a:lnTo>
                    <a:pt x="647" y="63"/>
                  </a:lnTo>
                  <a:lnTo>
                    <a:pt x="658" y="73"/>
                  </a:lnTo>
                  <a:lnTo>
                    <a:pt x="668" y="104"/>
                  </a:lnTo>
                  <a:lnTo>
                    <a:pt x="689" y="125"/>
                  </a:lnTo>
                  <a:lnTo>
                    <a:pt x="699" y="146"/>
                  </a:lnTo>
                  <a:lnTo>
                    <a:pt x="710" y="177"/>
                  </a:lnTo>
                  <a:lnTo>
                    <a:pt x="731" y="198"/>
                  </a:lnTo>
                  <a:lnTo>
                    <a:pt x="731" y="209"/>
                  </a:lnTo>
                  <a:lnTo>
                    <a:pt x="741" y="240"/>
                  </a:lnTo>
                  <a:lnTo>
                    <a:pt x="752" y="261"/>
                  </a:lnTo>
                  <a:lnTo>
                    <a:pt x="762" y="292"/>
                  </a:lnTo>
                  <a:lnTo>
                    <a:pt x="772" y="313"/>
                  </a:lnTo>
                  <a:lnTo>
                    <a:pt x="772" y="344"/>
                  </a:lnTo>
                  <a:lnTo>
                    <a:pt x="783" y="355"/>
                  </a:lnTo>
                  <a:lnTo>
                    <a:pt x="783" y="386"/>
                  </a:lnTo>
                  <a:lnTo>
                    <a:pt x="793" y="407"/>
                  </a:lnTo>
                  <a:lnTo>
                    <a:pt x="793" y="438"/>
                  </a:lnTo>
                  <a:lnTo>
                    <a:pt x="793" y="470"/>
                  </a:lnTo>
                  <a:lnTo>
                    <a:pt x="804" y="491"/>
                  </a:lnTo>
                  <a:lnTo>
                    <a:pt x="804" y="512"/>
                  </a:lnTo>
                  <a:lnTo>
                    <a:pt x="804" y="532"/>
                  </a:lnTo>
                  <a:lnTo>
                    <a:pt x="804" y="564"/>
                  </a:lnTo>
                  <a:lnTo>
                    <a:pt x="0" y="53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87760" y="3844800"/>
              <a:ext cx="503280" cy="1284480"/>
            </a:xfrm>
            <a:custGeom>
              <a:avLst/>
              <a:gdLst/>
              <a:ahLst/>
              <a:rect l="l" t="t" r="r" b="b"/>
              <a:pathLst>
                <a:path w="209" h="543">
                  <a:moveTo>
                    <a:pt x="209" y="0"/>
                  </a:moveTo>
                  <a:lnTo>
                    <a:pt x="209" y="31"/>
                  </a:lnTo>
                  <a:lnTo>
                    <a:pt x="198" y="52"/>
                  </a:lnTo>
                  <a:lnTo>
                    <a:pt x="198" y="83"/>
                  </a:lnTo>
                  <a:lnTo>
                    <a:pt x="198" y="115"/>
                  </a:lnTo>
                  <a:lnTo>
                    <a:pt x="188" y="135"/>
                  </a:lnTo>
                  <a:lnTo>
                    <a:pt x="188" y="146"/>
                  </a:lnTo>
                  <a:lnTo>
                    <a:pt x="177" y="177"/>
                  </a:lnTo>
                  <a:lnTo>
                    <a:pt x="167" y="209"/>
                  </a:lnTo>
                  <a:lnTo>
                    <a:pt x="167" y="229"/>
                  </a:lnTo>
                  <a:lnTo>
                    <a:pt x="157" y="261"/>
                  </a:lnTo>
                  <a:lnTo>
                    <a:pt x="146" y="282"/>
                  </a:lnTo>
                  <a:lnTo>
                    <a:pt x="136" y="313"/>
                  </a:lnTo>
                  <a:lnTo>
                    <a:pt x="115" y="334"/>
                  </a:lnTo>
                  <a:lnTo>
                    <a:pt x="104" y="355"/>
                  </a:lnTo>
                  <a:lnTo>
                    <a:pt x="94" y="386"/>
                  </a:lnTo>
                  <a:lnTo>
                    <a:pt x="83" y="396"/>
                  </a:lnTo>
                  <a:lnTo>
                    <a:pt x="73" y="417"/>
                  </a:lnTo>
                  <a:lnTo>
                    <a:pt x="52" y="438"/>
                  </a:lnTo>
                  <a:lnTo>
                    <a:pt x="31" y="459"/>
                  </a:lnTo>
                  <a:lnTo>
                    <a:pt x="21" y="480"/>
                  </a:lnTo>
                  <a:lnTo>
                    <a:pt x="0" y="501"/>
                  </a:lnTo>
                  <a:lnTo>
                    <a:pt x="0" y="543"/>
                  </a:lnTo>
                  <a:lnTo>
                    <a:pt x="21" y="522"/>
                  </a:lnTo>
                  <a:lnTo>
                    <a:pt x="31" y="501"/>
                  </a:lnTo>
                  <a:lnTo>
                    <a:pt x="52" y="480"/>
                  </a:lnTo>
                  <a:lnTo>
                    <a:pt x="73" y="459"/>
                  </a:lnTo>
                  <a:lnTo>
                    <a:pt x="83" y="438"/>
                  </a:lnTo>
                  <a:lnTo>
                    <a:pt x="94" y="428"/>
                  </a:lnTo>
                  <a:lnTo>
                    <a:pt x="104" y="396"/>
                  </a:lnTo>
                  <a:lnTo>
                    <a:pt x="115" y="376"/>
                  </a:lnTo>
                  <a:lnTo>
                    <a:pt x="136" y="355"/>
                  </a:lnTo>
                  <a:lnTo>
                    <a:pt x="146" y="323"/>
                  </a:lnTo>
                  <a:lnTo>
                    <a:pt x="157" y="303"/>
                  </a:lnTo>
                  <a:lnTo>
                    <a:pt x="167" y="271"/>
                  </a:lnTo>
                  <a:lnTo>
                    <a:pt x="167" y="250"/>
                  </a:lnTo>
                  <a:lnTo>
                    <a:pt x="177" y="219"/>
                  </a:lnTo>
                  <a:lnTo>
                    <a:pt x="188" y="188"/>
                  </a:lnTo>
                  <a:lnTo>
                    <a:pt x="188" y="177"/>
                  </a:lnTo>
                  <a:lnTo>
                    <a:pt x="198" y="156"/>
                  </a:lnTo>
                  <a:lnTo>
                    <a:pt x="198" y="125"/>
                  </a:lnTo>
                  <a:lnTo>
                    <a:pt x="198" y="94"/>
                  </a:lnTo>
                  <a:lnTo>
                    <a:pt x="209" y="73"/>
                  </a:lnTo>
                  <a:lnTo>
                    <a:pt x="209" y="41"/>
                  </a:lnTo>
                  <a:lnTo>
                    <a:pt x="209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54240" y="3770280"/>
              <a:ext cx="1433520" cy="135900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0" y="0"/>
                  </a:moveTo>
                  <a:lnTo>
                    <a:pt x="595" y="533"/>
                  </a:lnTo>
                  <a:lnTo>
                    <a:pt x="595" y="5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54240" y="3770280"/>
              <a:ext cx="1936800" cy="1258920"/>
            </a:xfrm>
            <a:custGeom>
              <a:avLst/>
              <a:gdLst/>
              <a:ahLst/>
              <a:rect l="l" t="t" r="r" b="b"/>
              <a:pathLst>
                <a:path w="804" h="533">
                  <a:moveTo>
                    <a:pt x="804" y="32"/>
                  </a:moveTo>
                  <a:lnTo>
                    <a:pt x="804" y="63"/>
                  </a:lnTo>
                  <a:lnTo>
                    <a:pt x="793" y="84"/>
                  </a:lnTo>
                  <a:lnTo>
                    <a:pt x="793" y="115"/>
                  </a:lnTo>
                  <a:lnTo>
                    <a:pt x="793" y="147"/>
                  </a:lnTo>
                  <a:lnTo>
                    <a:pt x="783" y="167"/>
                  </a:lnTo>
                  <a:lnTo>
                    <a:pt x="783" y="178"/>
                  </a:lnTo>
                  <a:lnTo>
                    <a:pt x="772" y="209"/>
                  </a:lnTo>
                  <a:lnTo>
                    <a:pt x="762" y="241"/>
                  </a:lnTo>
                  <a:lnTo>
                    <a:pt x="762" y="261"/>
                  </a:lnTo>
                  <a:lnTo>
                    <a:pt x="752" y="293"/>
                  </a:lnTo>
                  <a:lnTo>
                    <a:pt x="741" y="314"/>
                  </a:lnTo>
                  <a:lnTo>
                    <a:pt x="731" y="345"/>
                  </a:lnTo>
                  <a:lnTo>
                    <a:pt x="710" y="366"/>
                  </a:lnTo>
                  <a:lnTo>
                    <a:pt x="699" y="387"/>
                  </a:lnTo>
                  <a:lnTo>
                    <a:pt x="689" y="418"/>
                  </a:lnTo>
                  <a:lnTo>
                    <a:pt x="678" y="428"/>
                  </a:lnTo>
                  <a:lnTo>
                    <a:pt x="668" y="449"/>
                  </a:lnTo>
                  <a:lnTo>
                    <a:pt x="647" y="470"/>
                  </a:lnTo>
                  <a:lnTo>
                    <a:pt x="626" y="491"/>
                  </a:lnTo>
                  <a:lnTo>
                    <a:pt x="616" y="512"/>
                  </a:lnTo>
                  <a:lnTo>
                    <a:pt x="595" y="533"/>
                  </a:lnTo>
                  <a:lnTo>
                    <a:pt x="0" y="0"/>
                  </a:lnTo>
                  <a:lnTo>
                    <a:pt x="804" y="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30440" y="5448240"/>
              <a:ext cx="879480" cy="641520"/>
            </a:xfrm>
            <a:custGeom>
              <a:avLst/>
              <a:gdLst/>
              <a:ahLst/>
              <a:rect l="l" t="t" r="r" b="b"/>
              <a:pathLst>
                <a:path w="365" h="271">
                  <a:moveTo>
                    <a:pt x="365" y="0"/>
                  </a:moveTo>
                  <a:lnTo>
                    <a:pt x="344" y="21"/>
                  </a:lnTo>
                  <a:lnTo>
                    <a:pt x="334" y="31"/>
                  </a:lnTo>
                  <a:lnTo>
                    <a:pt x="313" y="52"/>
                  </a:lnTo>
                  <a:lnTo>
                    <a:pt x="292" y="73"/>
                  </a:lnTo>
                  <a:lnTo>
                    <a:pt x="271" y="94"/>
                  </a:lnTo>
                  <a:lnTo>
                    <a:pt x="261" y="104"/>
                  </a:lnTo>
                  <a:lnTo>
                    <a:pt x="240" y="115"/>
                  </a:lnTo>
                  <a:lnTo>
                    <a:pt x="219" y="136"/>
                  </a:lnTo>
                  <a:lnTo>
                    <a:pt x="198" y="146"/>
                  </a:lnTo>
                  <a:lnTo>
                    <a:pt x="177" y="157"/>
                  </a:lnTo>
                  <a:lnTo>
                    <a:pt x="156" y="167"/>
                  </a:lnTo>
                  <a:lnTo>
                    <a:pt x="135" y="177"/>
                  </a:lnTo>
                  <a:lnTo>
                    <a:pt x="125" y="188"/>
                  </a:lnTo>
                  <a:lnTo>
                    <a:pt x="94" y="198"/>
                  </a:lnTo>
                  <a:lnTo>
                    <a:pt x="73" y="209"/>
                  </a:lnTo>
                  <a:lnTo>
                    <a:pt x="41" y="219"/>
                  </a:lnTo>
                  <a:lnTo>
                    <a:pt x="31" y="230"/>
                  </a:lnTo>
                  <a:lnTo>
                    <a:pt x="0" y="230"/>
                  </a:lnTo>
                  <a:lnTo>
                    <a:pt x="0" y="271"/>
                  </a:lnTo>
                  <a:lnTo>
                    <a:pt x="31" y="271"/>
                  </a:lnTo>
                  <a:lnTo>
                    <a:pt x="41" y="261"/>
                  </a:lnTo>
                  <a:lnTo>
                    <a:pt x="73" y="251"/>
                  </a:lnTo>
                  <a:lnTo>
                    <a:pt x="94" y="240"/>
                  </a:lnTo>
                  <a:lnTo>
                    <a:pt x="125" y="230"/>
                  </a:lnTo>
                  <a:lnTo>
                    <a:pt x="135" y="219"/>
                  </a:lnTo>
                  <a:lnTo>
                    <a:pt x="156" y="209"/>
                  </a:lnTo>
                  <a:lnTo>
                    <a:pt x="177" y="198"/>
                  </a:lnTo>
                  <a:lnTo>
                    <a:pt x="198" y="188"/>
                  </a:lnTo>
                  <a:lnTo>
                    <a:pt x="219" y="177"/>
                  </a:lnTo>
                  <a:lnTo>
                    <a:pt x="240" y="157"/>
                  </a:lnTo>
                  <a:lnTo>
                    <a:pt x="261" y="146"/>
                  </a:lnTo>
                  <a:lnTo>
                    <a:pt x="271" y="136"/>
                  </a:lnTo>
                  <a:lnTo>
                    <a:pt x="292" y="115"/>
                  </a:lnTo>
                  <a:lnTo>
                    <a:pt x="313" y="94"/>
                  </a:lnTo>
                  <a:lnTo>
                    <a:pt x="334" y="73"/>
                  </a:lnTo>
                  <a:lnTo>
                    <a:pt x="344" y="63"/>
                  </a:lnTo>
                  <a:lnTo>
                    <a:pt x="365" y="42"/>
                  </a:lnTo>
                  <a:lnTo>
                    <a:pt x="36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76400" y="4189320"/>
              <a:ext cx="554040" cy="1900440"/>
            </a:xfrm>
            <a:custGeom>
              <a:avLst/>
              <a:gdLst/>
              <a:ahLst/>
              <a:rect l="l" t="t" r="r" b="b"/>
              <a:pathLst>
                <a:path w="230" h="804">
                  <a:moveTo>
                    <a:pt x="0" y="0"/>
                  </a:moveTo>
                  <a:lnTo>
                    <a:pt x="230" y="763"/>
                  </a:lnTo>
                  <a:lnTo>
                    <a:pt x="230" y="804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76400" y="4189320"/>
              <a:ext cx="1433520" cy="1803600"/>
            </a:xfrm>
            <a:custGeom>
              <a:avLst/>
              <a:gdLst/>
              <a:ahLst/>
              <a:rect l="l" t="t" r="r" b="b"/>
              <a:pathLst>
                <a:path w="595" h="763">
                  <a:moveTo>
                    <a:pt x="595" y="533"/>
                  </a:moveTo>
                  <a:lnTo>
                    <a:pt x="574" y="554"/>
                  </a:lnTo>
                  <a:lnTo>
                    <a:pt x="564" y="564"/>
                  </a:lnTo>
                  <a:lnTo>
                    <a:pt x="543" y="585"/>
                  </a:lnTo>
                  <a:lnTo>
                    <a:pt x="522" y="606"/>
                  </a:lnTo>
                  <a:lnTo>
                    <a:pt x="501" y="627"/>
                  </a:lnTo>
                  <a:lnTo>
                    <a:pt x="491" y="637"/>
                  </a:lnTo>
                  <a:lnTo>
                    <a:pt x="470" y="648"/>
                  </a:lnTo>
                  <a:lnTo>
                    <a:pt x="449" y="669"/>
                  </a:lnTo>
                  <a:lnTo>
                    <a:pt x="428" y="679"/>
                  </a:lnTo>
                  <a:lnTo>
                    <a:pt x="407" y="690"/>
                  </a:lnTo>
                  <a:lnTo>
                    <a:pt x="386" y="700"/>
                  </a:lnTo>
                  <a:lnTo>
                    <a:pt x="365" y="710"/>
                  </a:lnTo>
                  <a:lnTo>
                    <a:pt x="355" y="721"/>
                  </a:lnTo>
                  <a:lnTo>
                    <a:pt x="324" y="731"/>
                  </a:lnTo>
                  <a:lnTo>
                    <a:pt x="303" y="742"/>
                  </a:lnTo>
                  <a:lnTo>
                    <a:pt x="271" y="752"/>
                  </a:lnTo>
                  <a:lnTo>
                    <a:pt x="261" y="763"/>
                  </a:lnTo>
                  <a:lnTo>
                    <a:pt x="230" y="763"/>
                  </a:lnTo>
                  <a:lnTo>
                    <a:pt x="0" y="0"/>
                  </a:lnTo>
                  <a:lnTo>
                    <a:pt x="595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246200" y="6068880"/>
              <a:ext cx="806760" cy="195480"/>
            </a:xfrm>
            <a:custGeom>
              <a:avLst/>
              <a:gdLst/>
              <a:ahLst/>
              <a:rect l="l" t="t" r="r" b="b"/>
              <a:pathLst>
                <a:path w="335" h="83">
                  <a:moveTo>
                    <a:pt x="335" y="0"/>
                  </a:moveTo>
                  <a:lnTo>
                    <a:pt x="314" y="10"/>
                  </a:lnTo>
                  <a:lnTo>
                    <a:pt x="282" y="21"/>
                  </a:lnTo>
                  <a:lnTo>
                    <a:pt x="251" y="21"/>
                  </a:lnTo>
                  <a:lnTo>
                    <a:pt x="230" y="31"/>
                  </a:lnTo>
                  <a:lnTo>
                    <a:pt x="199" y="31"/>
                  </a:lnTo>
                  <a:lnTo>
                    <a:pt x="167" y="31"/>
                  </a:lnTo>
                  <a:lnTo>
                    <a:pt x="147" y="41"/>
                  </a:lnTo>
                  <a:lnTo>
                    <a:pt x="115" y="41"/>
                  </a:lnTo>
                  <a:lnTo>
                    <a:pt x="84" y="41"/>
                  </a:lnTo>
                  <a:lnTo>
                    <a:pt x="63" y="41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73"/>
                  </a:lnTo>
                  <a:lnTo>
                    <a:pt x="32" y="73"/>
                  </a:lnTo>
                  <a:lnTo>
                    <a:pt x="63" y="83"/>
                  </a:lnTo>
                  <a:lnTo>
                    <a:pt x="84" y="83"/>
                  </a:lnTo>
                  <a:lnTo>
                    <a:pt x="115" y="83"/>
                  </a:lnTo>
                  <a:lnTo>
                    <a:pt x="147" y="83"/>
                  </a:lnTo>
                  <a:lnTo>
                    <a:pt x="167" y="73"/>
                  </a:lnTo>
                  <a:lnTo>
                    <a:pt x="199" y="73"/>
                  </a:lnTo>
                  <a:lnTo>
                    <a:pt x="230" y="73"/>
                  </a:lnTo>
                  <a:lnTo>
                    <a:pt x="251" y="62"/>
                  </a:lnTo>
                  <a:lnTo>
                    <a:pt x="282" y="62"/>
                  </a:lnTo>
                  <a:lnTo>
                    <a:pt x="314" y="52"/>
                  </a:lnTo>
                  <a:lnTo>
                    <a:pt x="335" y="41"/>
                  </a:lnTo>
                  <a:lnTo>
                    <a:pt x="33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46200" y="4265640"/>
              <a:ext cx="806760" cy="1900080"/>
            </a:xfrm>
            <a:custGeom>
              <a:avLst/>
              <a:gdLst/>
              <a:ahLst/>
              <a:rect l="l" t="t" r="r" b="b"/>
              <a:pathLst>
                <a:path w="335" h="804">
                  <a:moveTo>
                    <a:pt x="335" y="763"/>
                  </a:moveTo>
                  <a:lnTo>
                    <a:pt x="314" y="773"/>
                  </a:lnTo>
                  <a:lnTo>
                    <a:pt x="282" y="784"/>
                  </a:lnTo>
                  <a:lnTo>
                    <a:pt x="251" y="784"/>
                  </a:lnTo>
                  <a:lnTo>
                    <a:pt x="230" y="794"/>
                  </a:lnTo>
                  <a:lnTo>
                    <a:pt x="199" y="794"/>
                  </a:lnTo>
                  <a:lnTo>
                    <a:pt x="167" y="794"/>
                  </a:lnTo>
                  <a:lnTo>
                    <a:pt x="147" y="804"/>
                  </a:lnTo>
                  <a:lnTo>
                    <a:pt x="115" y="804"/>
                  </a:lnTo>
                  <a:lnTo>
                    <a:pt x="84" y="804"/>
                  </a:lnTo>
                  <a:lnTo>
                    <a:pt x="63" y="804"/>
                  </a:lnTo>
                  <a:lnTo>
                    <a:pt x="32" y="794"/>
                  </a:lnTo>
                  <a:lnTo>
                    <a:pt x="0" y="794"/>
                  </a:lnTo>
                  <a:lnTo>
                    <a:pt x="105" y="0"/>
                  </a:lnTo>
                  <a:lnTo>
                    <a:pt x="335" y="76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16120" y="5943600"/>
              <a:ext cx="628560" cy="2970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261" y="84"/>
                  </a:moveTo>
                  <a:lnTo>
                    <a:pt x="241" y="84"/>
                  </a:lnTo>
                  <a:lnTo>
                    <a:pt x="220" y="84"/>
                  </a:lnTo>
                  <a:lnTo>
                    <a:pt x="199" y="74"/>
                  </a:lnTo>
                  <a:lnTo>
                    <a:pt x="167" y="63"/>
                  </a:lnTo>
                  <a:lnTo>
                    <a:pt x="157" y="63"/>
                  </a:lnTo>
                  <a:lnTo>
                    <a:pt x="126" y="53"/>
                  </a:lnTo>
                  <a:lnTo>
                    <a:pt x="105" y="53"/>
                  </a:lnTo>
                  <a:lnTo>
                    <a:pt x="84" y="42"/>
                  </a:lnTo>
                  <a:lnTo>
                    <a:pt x="63" y="32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1" y="63"/>
                  </a:lnTo>
                  <a:lnTo>
                    <a:pt x="32" y="63"/>
                  </a:lnTo>
                  <a:lnTo>
                    <a:pt x="63" y="74"/>
                  </a:lnTo>
                  <a:lnTo>
                    <a:pt x="84" y="84"/>
                  </a:lnTo>
                  <a:lnTo>
                    <a:pt x="105" y="94"/>
                  </a:lnTo>
                  <a:lnTo>
                    <a:pt x="126" y="94"/>
                  </a:lnTo>
                  <a:lnTo>
                    <a:pt x="157" y="105"/>
                  </a:lnTo>
                  <a:lnTo>
                    <a:pt x="167" y="105"/>
                  </a:lnTo>
                  <a:lnTo>
                    <a:pt x="199" y="115"/>
                  </a:lnTo>
                  <a:lnTo>
                    <a:pt x="220" y="126"/>
                  </a:lnTo>
                  <a:lnTo>
                    <a:pt x="241" y="126"/>
                  </a:lnTo>
                  <a:lnTo>
                    <a:pt x="261" y="126"/>
                  </a:lnTo>
                  <a:lnTo>
                    <a:pt x="261" y="8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16120" y="4253040"/>
              <a:ext cx="880920" cy="1876320"/>
            </a:xfrm>
            <a:custGeom>
              <a:avLst/>
              <a:gdLst/>
              <a:ahLst/>
              <a:rect l="l" t="t" r="r" b="b"/>
              <a:pathLst>
                <a:path w="366" h="794">
                  <a:moveTo>
                    <a:pt x="261" y="794"/>
                  </a:moveTo>
                  <a:lnTo>
                    <a:pt x="241" y="794"/>
                  </a:lnTo>
                  <a:lnTo>
                    <a:pt x="220" y="794"/>
                  </a:lnTo>
                  <a:lnTo>
                    <a:pt x="199" y="784"/>
                  </a:lnTo>
                  <a:lnTo>
                    <a:pt x="167" y="773"/>
                  </a:lnTo>
                  <a:lnTo>
                    <a:pt x="157" y="773"/>
                  </a:lnTo>
                  <a:lnTo>
                    <a:pt x="126" y="763"/>
                  </a:lnTo>
                  <a:lnTo>
                    <a:pt x="105" y="763"/>
                  </a:lnTo>
                  <a:lnTo>
                    <a:pt x="84" y="752"/>
                  </a:lnTo>
                  <a:lnTo>
                    <a:pt x="63" y="742"/>
                  </a:lnTo>
                  <a:lnTo>
                    <a:pt x="32" y="731"/>
                  </a:lnTo>
                  <a:lnTo>
                    <a:pt x="21" y="731"/>
                  </a:lnTo>
                  <a:lnTo>
                    <a:pt x="0" y="710"/>
                  </a:lnTo>
                  <a:lnTo>
                    <a:pt x="366" y="0"/>
                  </a:lnTo>
                  <a:lnTo>
                    <a:pt x="261" y="79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46480" y="4265640"/>
              <a:ext cx="225360" cy="1974960"/>
            </a:xfrm>
            <a:custGeom>
              <a:avLst/>
              <a:gdLst/>
              <a:ahLst/>
              <a:rect l="l" t="t" r="r" b="b"/>
              <a:pathLst>
                <a:path w="94" h="836">
                  <a:moveTo>
                    <a:pt x="94" y="0"/>
                  </a:moveTo>
                  <a:lnTo>
                    <a:pt x="0" y="794"/>
                  </a:lnTo>
                  <a:lnTo>
                    <a:pt x="0" y="836"/>
                  </a:lnTo>
                  <a:lnTo>
                    <a:pt x="94" y="42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2760" y="3705120"/>
              <a:ext cx="1936440" cy="567000"/>
            </a:xfrm>
            <a:custGeom>
              <a:avLst/>
              <a:gdLst/>
              <a:ahLst/>
              <a:rect l="l" t="t" r="r" b="b"/>
              <a:pathLst>
                <a:path w="804" h="240">
                  <a:moveTo>
                    <a:pt x="0" y="240"/>
                  </a:moveTo>
                  <a:lnTo>
                    <a:pt x="0" y="209"/>
                  </a:lnTo>
                  <a:lnTo>
                    <a:pt x="0" y="188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84"/>
                  </a:lnTo>
                  <a:lnTo>
                    <a:pt x="0" y="63"/>
                  </a:lnTo>
                  <a:lnTo>
                    <a:pt x="10" y="32"/>
                  </a:lnTo>
                  <a:lnTo>
                    <a:pt x="10" y="0"/>
                  </a:lnTo>
                  <a:lnTo>
                    <a:pt x="804" y="167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93560" y="4113360"/>
              <a:ext cx="1913040" cy="247680"/>
            </a:xfrm>
            <a:custGeom>
              <a:avLst/>
              <a:gdLst/>
              <a:ahLst/>
              <a:rect l="l" t="t" r="r" b="b"/>
              <a:pathLst>
                <a:path w="794" h="105">
                  <a:moveTo>
                    <a:pt x="794" y="0"/>
                  </a:moveTo>
                  <a:lnTo>
                    <a:pt x="0" y="63"/>
                  </a:lnTo>
                  <a:lnTo>
                    <a:pt x="0" y="105"/>
                  </a:lnTo>
                  <a:lnTo>
                    <a:pt x="794" y="42"/>
                  </a:lnTo>
                  <a:lnTo>
                    <a:pt x="7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842920" y="2214720"/>
              <a:ext cx="1433520" cy="1650960"/>
              <a:chOff x="2842920" y="2214720"/>
              <a:chExt cx="1433520" cy="1650960"/>
            </a:xfrm>
          </p:grpSpPr>
          <p:sp>
            <p:nvSpPr>
              <p:cNvPr id="771" name=""/>
              <p:cNvSpPr/>
              <p:nvPr/>
            </p:nvSpPr>
            <p:spPr>
              <a:xfrm>
                <a:off x="2842920" y="2509920"/>
                <a:ext cx="1433520" cy="1355760"/>
              </a:xfrm>
              <a:custGeom>
                <a:avLst/>
                <a:gdLst/>
                <a:ahLst/>
                <a:rect l="l" t="t" r="r" b="b"/>
                <a:pathLst>
                  <a:path w="595" h="574">
                    <a:moveTo>
                      <a:pt x="595" y="532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595" y="574"/>
                    </a:lnTo>
                    <a:lnTo>
                      <a:pt x="595" y="53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842920" y="2214720"/>
                <a:ext cx="1433520" cy="1552680"/>
              </a:xfrm>
              <a:custGeom>
                <a:avLst/>
                <a:gdLst/>
                <a:ahLst/>
                <a:rect l="l" t="t" r="r" b="b"/>
                <a:pathLst>
                  <a:path w="595" h="657">
                    <a:moveTo>
                      <a:pt x="0" y="125"/>
                    </a:moveTo>
                    <a:lnTo>
                      <a:pt x="10" y="104"/>
                    </a:lnTo>
                    <a:lnTo>
                      <a:pt x="21" y="94"/>
                    </a:lnTo>
                    <a:lnTo>
                      <a:pt x="41" y="73"/>
                    </a:lnTo>
                    <a:lnTo>
                      <a:pt x="52" y="62"/>
                    </a:lnTo>
                    <a:lnTo>
                      <a:pt x="73" y="52"/>
                    </a:lnTo>
                    <a:lnTo>
                      <a:pt x="83" y="41"/>
                    </a:lnTo>
                    <a:lnTo>
                      <a:pt x="104" y="20"/>
                    </a:lnTo>
                    <a:lnTo>
                      <a:pt x="115" y="10"/>
                    </a:lnTo>
                    <a:lnTo>
                      <a:pt x="146" y="0"/>
                    </a:lnTo>
                    <a:lnTo>
                      <a:pt x="595" y="657"/>
                    </a:lnTo>
                    <a:lnTo>
                      <a:pt x="0" y="125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251240" y="1841400"/>
              <a:ext cx="101520" cy="1973520"/>
            </a:xfrm>
            <a:custGeom>
              <a:avLst/>
              <a:gdLst/>
              <a:ahLst/>
              <a:rect l="l" t="t" r="r" b="b"/>
              <a:pathLst>
                <a:path w="42" h="835">
                  <a:moveTo>
                    <a:pt x="42" y="793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42" y="835"/>
                  </a:lnTo>
                  <a:lnTo>
                    <a:pt x="42" y="79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1854360"/>
              <a:ext cx="101520" cy="187452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01760" y="1841400"/>
              <a:ext cx="351000" cy="1874880"/>
            </a:xfrm>
            <a:custGeom>
              <a:avLst/>
              <a:gdLst/>
              <a:ahLst/>
              <a:rect l="l" t="t" r="r" b="b"/>
              <a:pathLst>
                <a:path w="146" h="793">
                  <a:moveTo>
                    <a:pt x="0" y="10"/>
                  </a:moveTo>
                  <a:lnTo>
                    <a:pt x="21" y="10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46" y="793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74960" y="1865160"/>
              <a:ext cx="577800" cy="1851120"/>
            </a:xfrm>
            <a:custGeom>
              <a:avLst/>
              <a:gdLst/>
              <a:ahLst/>
              <a:rect l="l" t="t" r="r" b="b"/>
              <a:pathLst>
                <a:path w="240" h="783">
                  <a:moveTo>
                    <a:pt x="0" y="21"/>
                  </a:moveTo>
                  <a:lnTo>
                    <a:pt x="21" y="21"/>
                  </a:lnTo>
                  <a:lnTo>
                    <a:pt x="31" y="11"/>
                  </a:lnTo>
                  <a:lnTo>
                    <a:pt x="52" y="11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240" y="783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73360" y="1989000"/>
              <a:ext cx="779400" cy="1825920"/>
            </a:xfrm>
            <a:custGeom>
              <a:avLst/>
              <a:gdLst/>
              <a:ahLst/>
              <a:rect l="l" t="t" r="r" b="b"/>
              <a:pathLst>
                <a:path w="324" h="773">
                  <a:moveTo>
                    <a:pt x="324" y="731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324" y="773"/>
                  </a:lnTo>
                  <a:lnTo>
                    <a:pt x="324" y="7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47800" y="1914480"/>
              <a:ext cx="804960" cy="1801800"/>
            </a:xfrm>
            <a:custGeom>
              <a:avLst/>
              <a:gdLst/>
              <a:ahLst/>
              <a:rect l="l" t="t" r="r" b="b"/>
              <a:pathLst>
                <a:path w="334" h="762">
                  <a:moveTo>
                    <a:pt x="0" y="31"/>
                  </a:moveTo>
                  <a:lnTo>
                    <a:pt x="21" y="31"/>
                  </a:lnTo>
                  <a:lnTo>
                    <a:pt x="31" y="21"/>
                  </a:lnTo>
                  <a:lnTo>
                    <a:pt x="52" y="11"/>
                  </a:lnTo>
                  <a:lnTo>
                    <a:pt x="73" y="11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334" y="762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71680" y="2163600"/>
              <a:ext cx="1081080" cy="1651320"/>
            </a:xfrm>
            <a:custGeom>
              <a:avLst/>
              <a:gdLst/>
              <a:ahLst/>
              <a:rect l="l" t="t" r="r" b="b"/>
              <a:pathLst>
                <a:path w="449" h="699">
                  <a:moveTo>
                    <a:pt x="449" y="657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449" y="699"/>
                  </a:lnTo>
                  <a:lnTo>
                    <a:pt x="449" y="65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271680" y="1989000"/>
              <a:ext cx="1081080" cy="1727280"/>
            </a:xfrm>
            <a:custGeom>
              <a:avLst/>
              <a:gdLst/>
              <a:ahLst/>
              <a:rect l="l" t="t" r="r" b="b"/>
              <a:pathLst>
                <a:path w="449" h="731">
                  <a:moveTo>
                    <a:pt x="0" y="74"/>
                  </a:moveTo>
                  <a:lnTo>
                    <a:pt x="21" y="53"/>
                  </a:lnTo>
                  <a:lnTo>
                    <a:pt x="31" y="53"/>
                  </a:lnTo>
                  <a:lnTo>
                    <a:pt x="52" y="32"/>
                  </a:lnTo>
                  <a:lnTo>
                    <a:pt x="83" y="21"/>
                  </a:lnTo>
                  <a:lnTo>
                    <a:pt x="94" y="11"/>
                  </a:lnTo>
                  <a:lnTo>
                    <a:pt x="115" y="0"/>
                  </a:lnTo>
                  <a:lnTo>
                    <a:pt x="449" y="73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16040" y="2598840"/>
              <a:ext cx="1709640" cy="1257120"/>
            </a:xfrm>
            <a:custGeom>
              <a:avLst/>
              <a:gdLst/>
              <a:ahLst/>
              <a:rect l="l" t="t" r="r" b="b"/>
              <a:pathLst>
                <a:path w="710" h="532">
                  <a:moveTo>
                    <a:pt x="0" y="146"/>
                  </a:moveTo>
                  <a:lnTo>
                    <a:pt x="10" y="136"/>
                  </a:lnTo>
                  <a:lnTo>
                    <a:pt x="21" y="115"/>
                  </a:lnTo>
                  <a:lnTo>
                    <a:pt x="31" y="104"/>
                  </a:lnTo>
                  <a:lnTo>
                    <a:pt x="52" y="73"/>
                  </a:lnTo>
                  <a:lnTo>
                    <a:pt x="52" y="63"/>
                  </a:lnTo>
                  <a:lnTo>
                    <a:pt x="73" y="42"/>
                  </a:lnTo>
                  <a:lnTo>
                    <a:pt x="83" y="31"/>
                  </a:lnTo>
                  <a:lnTo>
                    <a:pt x="104" y="10"/>
                  </a:lnTo>
                  <a:lnTo>
                    <a:pt x="115" y="0"/>
                  </a:lnTo>
                  <a:lnTo>
                    <a:pt x="710" y="532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527200" y="2943360"/>
              <a:ext cx="1685880" cy="1011240"/>
            </a:xfrm>
            <a:custGeom>
              <a:avLst/>
              <a:gdLst/>
              <a:ahLst/>
              <a:rect l="l" t="t" r="r" b="b"/>
              <a:pathLst>
                <a:path w="700" h="428">
                  <a:moveTo>
                    <a:pt x="700" y="386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00" y="428"/>
                  </a:lnTo>
                  <a:lnTo>
                    <a:pt x="700" y="38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00040" y="3083040"/>
              <a:ext cx="1913040" cy="912600"/>
            </a:xfrm>
            <a:custGeom>
              <a:avLst/>
              <a:gdLst/>
              <a:ahLst/>
              <a:rect l="l" t="t" r="r" b="b"/>
              <a:pathLst>
                <a:path w="794" h="386">
                  <a:moveTo>
                    <a:pt x="0" y="219"/>
                  </a:moveTo>
                  <a:lnTo>
                    <a:pt x="11" y="198"/>
                  </a:lnTo>
                  <a:lnTo>
                    <a:pt x="21" y="167"/>
                  </a:lnTo>
                  <a:lnTo>
                    <a:pt x="32" y="146"/>
                  </a:lnTo>
                  <a:lnTo>
                    <a:pt x="32" y="115"/>
                  </a:lnTo>
                  <a:lnTo>
                    <a:pt x="42" y="104"/>
                  </a:lnTo>
                  <a:lnTo>
                    <a:pt x="53" y="73"/>
                  </a:lnTo>
                  <a:lnTo>
                    <a:pt x="63" y="52"/>
                  </a:lnTo>
                  <a:lnTo>
                    <a:pt x="73" y="31"/>
                  </a:lnTo>
                  <a:lnTo>
                    <a:pt x="84" y="0"/>
                  </a:lnTo>
                  <a:lnTo>
                    <a:pt x="794" y="386"/>
                  </a:lnTo>
                  <a:lnTo>
                    <a:pt x="0" y="219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01480" y="3575160"/>
              <a:ext cx="1886040" cy="493560"/>
            </a:xfrm>
            <a:custGeom>
              <a:avLst/>
              <a:gdLst/>
              <a:ahLst/>
              <a:rect l="l" t="t" r="r" b="b"/>
              <a:pathLst>
                <a:path w="783" h="209">
                  <a:moveTo>
                    <a:pt x="783" y="167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83" y="209"/>
                  </a:lnTo>
                  <a:lnTo>
                    <a:pt x="783" y="16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14600" y="4214880"/>
              <a:ext cx="880920" cy="1776240"/>
            </a:xfrm>
            <a:custGeom>
              <a:avLst/>
              <a:gdLst/>
              <a:ahLst/>
              <a:rect l="l" t="t" r="r" b="b"/>
              <a:pathLst>
                <a:path w="366" h="752">
                  <a:moveTo>
                    <a:pt x="366" y="0"/>
                  </a:moveTo>
                  <a:lnTo>
                    <a:pt x="0" y="710"/>
                  </a:lnTo>
                  <a:lnTo>
                    <a:pt x="0" y="752"/>
                  </a:lnTo>
                  <a:lnTo>
                    <a:pt x="366" y="42"/>
                  </a:lnTo>
                  <a:lnTo>
                    <a:pt x="366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33520" y="4373640"/>
              <a:ext cx="125280" cy="64296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52" y="230"/>
                  </a:moveTo>
                  <a:lnTo>
                    <a:pt x="42" y="199"/>
                  </a:lnTo>
                  <a:lnTo>
                    <a:pt x="42" y="178"/>
                  </a:lnTo>
                  <a:lnTo>
                    <a:pt x="31" y="147"/>
                  </a:lnTo>
                  <a:lnTo>
                    <a:pt x="21" y="126"/>
                  </a:lnTo>
                  <a:lnTo>
                    <a:pt x="21" y="105"/>
                  </a:lnTo>
                  <a:lnTo>
                    <a:pt x="10" y="84"/>
                  </a:lnTo>
                  <a:lnTo>
                    <a:pt x="10" y="5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74"/>
                  </a:lnTo>
                  <a:lnTo>
                    <a:pt x="10" y="94"/>
                  </a:lnTo>
                  <a:lnTo>
                    <a:pt x="10" y="126"/>
                  </a:lnTo>
                  <a:lnTo>
                    <a:pt x="21" y="147"/>
                  </a:lnTo>
                  <a:lnTo>
                    <a:pt x="21" y="168"/>
                  </a:lnTo>
                  <a:lnTo>
                    <a:pt x="31" y="188"/>
                  </a:lnTo>
                  <a:lnTo>
                    <a:pt x="42" y="220"/>
                  </a:lnTo>
                  <a:lnTo>
                    <a:pt x="42" y="241"/>
                  </a:lnTo>
                  <a:lnTo>
                    <a:pt x="52" y="272"/>
                  </a:lnTo>
                  <a:lnTo>
                    <a:pt x="52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85800" y="4202280"/>
              <a:ext cx="1784520" cy="790560"/>
            </a:xfrm>
            <a:custGeom>
              <a:avLst/>
              <a:gdLst/>
              <a:ahLst/>
              <a:rect l="l" t="t" r="r" b="b"/>
              <a:pathLst>
                <a:path w="741" h="335">
                  <a:moveTo>
                    <a:pt x="741" y="0"/>
                  </a:moveTo>
                  <a:lnTo>
                    <a:pt x="0" y="293"/>
                  </a:lnTo>
                  <a:lnTo>
                    <a:pt x="0" y="335"/>
                  </a:lnTo>
                  <a:lnTo>
                    <a:pt x="741" y="42"/>
                  </a:lnTo>
                  <a:lnTo>
                    <a:pt x="741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33520" y="4240080"/>
              <a:ext cx="1936800" cy="716040"/>
            </a:xfrm>
            <a:custGeom>
              <a:avLst/>
              <a:gdLst/>
              <a:ahLst/>
              <a:rect l="l" t="t" r="r" b="b"/>
              <a:pathLst>
                <a:path w="804" h="303">
                  <a:moveTo>
                    <a:pt x="52" y="303"/>
                  </a:moveTo>
                  <a:lnTo>
                    <a:pt x="42" y="272"/>
                  </a:lnTo>
                  <a:lnTo>
                    <a:pt x="42" y="251"/>
                  </a:lnTo>
                  <a:lnTo>
                    <a:pt x="31" y="220"/>
                  </a:lnTo>
                  <a:lnTo>
                    <a:pt x="21" y="199"/>
                  </a:lnTo>
                  <a:lnTo>
                    <a:pt x="21" y="178"/>
                  </a:lnTo>
                  <a:lnTo>
                    <a:pt x="10" y="157"/>
                  </a:lnTo>
                  <a:lnTo>
                    <a:pt x="10" y="126"/>
                  </a:lnTo>
                  <a:lnTo>
                    <a:pt x="0" y="105"/>
                  </a:lnTo>
                  <a:lnTo>
                    <a:pt x="0" y="73"/>
                  </a:lnTo>
                  <a:lnTo>
                    <a:pt x="804" y="0"/>
                  </a:lnTo>
                  <a:lnTo>
                    <a:pt x="52" y="30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58800" y="4917960"/>
              <a:ext cx="378000" cy="642960"/>
            </a:xfrm>
            <a:custGeom>
              <a:avLst/>
              <a:gdLst/>
              <a:ahLst/>
              <a:rect l="l" t="t" r="r" b="b"/>
              <a:pathLst>
                <a:path w="157" h="272">
                  <a:moveTo>
                    <a:pt x="157" y="230"/>
                  </a:moveTo>
                  <a:lnTo>
                    <a:pt x="136" y="209"/>
                  </a:lnTo>
                  <a:lnTo>
                    <a:pt x="125" y="199"/>
                  </a:lnTo>
                  <a:lnTo>
                    <a:pt x="105" y="178"/>
                  </a:lnTo>
                  <a:lnTo>
                    <a:pt x="94" y="157"/>
                  </a:lnTo>
                  <a:lnTo>
                    <a:pt x="84" y="146"/>
                  </a:lnTo>
                  <a:lnTo>
                    <a:pt x="63" y="125"/>
                  </a:lnTo>
                  <a:lnTo>
                    <a:pt x="52" y="105"/>
                  </a:lnTo>
                  <a:lnTo>
                    <a:pt x="42" y="84"/>
                  </a:lnTo>
                  <a:lnTo>
                    <a:pt x="31" y="63"/>
                  </a:lnTo>
                  <a:lnTo>
                    <a:pt x="21" y="42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1" y="63"/>
                  </a:lnTo>
                  <a:lnTo>
                    <a:pt x="21" y="84"/>
                  </a:lnTo>
                  <a:lnTo>
                    <a:pt x="31" y="105"/>
                  </a:lnTo>
                  <a:lnTo>
                    <a:pt x="42" y="125"/>
                  </a:lnTo>
                  <a:lnTo>
                    <a:pt x="52" y="146"/>
                  </a:lnTo>
                  <a:lnTo>
                    <a:pt x="63" y="167"/>
                  </a:lnTo>
                  <a:lnTo>
                    <a:pt x="84" y="188"/>
                  </a:lnTo>
                  <a:lnTo>
                    <a:pt x="94" y="199"/>
                  </a:lnTo>
                  <a:lnTo>
                    <a:pt x="105" y="219"/>
                  </a:lnTo>
                  <a:lnTo>
                    <a:pt x="125" y="240"/>
                  </a:lnTo>
                  <a:lnTo>
                    <a:pt x="136" y="251"/>
                  </a:lnTo>
                  <a:lnTo>
                    <a:pt x="157" y="272"/>
                  </a:lnTo>
                  <a:lnTo>
                    <a:pt x="157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458800" y="4202280"/>
              <a:ext cx="1811520" cy="1258560"/>
            </a:xfrm>
            <a:custGeom>
              <a:avLst/>
              <a:gdLst/>
              <a:ahLst/>
              <a:rect l="l" t="t" r="r" b="b"/>
              <a:pathLst>
                <a:path w="752" h="533">
                  <a:moveTo>
                    <a:pt x="157" y="533"/>
                  </a:moveTo>
                  <a:lnTo>
                    <a:pt x="136" y="512"/>
                  </a:lnTo>
                  <a:lnTo>
                    <a:pt x="125" y="502"/>
                  </a:lnTo>
                  <a:lnTo>
                    <a:pt x="105" y="481"/>
                  </a:lnTo>
                  <a:lnTo>
                    <a:pt x="94" y="460"/>
                  </a:lnTo>
                  <a:lnTo>
                    <a:pt x="84" y="449"/>
                  </a:lnTo>
                  <a:lnTo>
                    <a:pt x="63" y="428"/>
                  </a:lnTo>
                  <a:lnTo>
                    <a:pt x="52" y="408"/>
                  </a:lnTo>
                  <a:lnTo>
                    <a:pt x="42" y="387"/>
                  </a:lnTo>
                  <a:lnTo>
                    <a:pt x="31" y="366"/>
                  </a:lnTo>
                  <a:lnTo>
                    <a:pt x="21" y="345"/>
                  </a:lnTo>
                  <a:lnTo>
                    <a:pt x="11" y="324"/>
                  </a:lnTo>
                  <a:lnTo>
                    <a:pt x="0" y="303"/>
                  </a:lnTo>
                  <a:lnTo>
                    <a:pt x="752" y="0"/>
                  </a:lnTo>
                  <a:lnTo>
                    <a:pt x="157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36800" y="4202280"/>
              <a:ext cx="1433520" cy="135864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595" y="0"/>
                  </a:moveTo>
                  <a:lnTo>
                    <a:pt x="0" y="533"/>
                  </a:lnTo>
                  <a:lnTo>
                    <a:pt x="0" y="575"/>
                  </a:lnTo>
                  <a:lnTo>
                    <a:pt x="595" y="4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49400" y="5473800"/>
              <a:ext cx="552240" cy="517320"/>
            </a:xfrm>
            <a:custGeom>
              <a:avLst/>
              <a:gdLst/>
              <a:ahLst/>
              <a:rect l="l" t="t" r="r" b="b"/>
              <a:pathLst>
                <a:path w="229" h="219">
                  <a:moveTo>
                    <a:pt x="229" y="177"/>
                  </a:moveTo>
                  <a:lnTo>
                    <a:pt x="198" y="167"/>
                  </a:lnTo>
                  <a:lnTo>
                    <a:pt x="177" y="157"/>
                  </a:lnTo>
                  <a:lnTo>
                    <a:pt x="167" y="146"/>
                  </a:lnTo>
                  <a:lnTo>
                    <a:pt x="146" y="136"/>
                  </a:lnTo>
                  <a:lnTo>
                    <a:pt x="115" y="115"/>
                  </a:lnTo>
                  <a:lnTo>
                    <a:pt x="94" y="104"/>
                  </a:lnTo>
                  <a:lnTo>
                    <a:pt x="83" y="94"/>
                  </a:lnTo>
                  <a:lnTo>
                    <a:pt x="62" y="73"/>
                  </a:lnTo>
                  <a:lnTo>
                    <a:pt x="41" y="52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0" y="63"/>
                  </a:lnTo>
                  <a:lnTo>
                    <a:pt x="21" y="73"/>
                  </a:lnTo>
                  <a:lnTo>
                    <a:pt x="41" y="94"/>
                  </a:lnTo>
                  <a:lnTo>
                    <a:pt x="62" y="115"/>
                  </a:lnTo>
                  <a:lnTo>
                    <a:pt x="83" y="136"/>
                  </a:lnTo>
                  <a:lnTo>
                    <a:pt x="94" y="146"/>
                  </a:lnTo>
                  <a:lnTo>
                    <a:pt x="115" y="157"/>
                  </a:lnTo>
                  <a:lnTo>
                    <a:pt x="146" y="177"/>
                  </a:lnTo>
                  <a:lnTo>
                    <a:pt x="167" y="188"/>
                  </a:lnTo>
                  <a:lnTo>
                    <a:pt x="177" y="198"/>
                  </a:lnTo>
                  <a:lnTo>
                    <a:pt x="198" y="209"/>
                  </a:lnTo>
                  <a:lnTo>
                    <a:pt x="229" y="219"/>
                  </a:lnTo>
                  <a:lnTo>
                    <a:pt x="229" y="17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49400" y="4214880"/>
              <a:ext cx="1433520" cy="1677960"/>
            </a:xfrm>
            <a:custGeom>
              <a:avLst/>
              <a:gdLst/>
              <a:ahLst/>
              <a:rect l="l" t="t" r="r" b="b"/>
              <a:pathLst>
                <a:path w="595" h="710">
                  <a:moveTo>
                    <a:pt x="229" y="710"/>
                  </a:moveTo>
                  <a:lnTo>
                    <a:pt x="198" y="700"/>
                  </a:lnTo>
                  <a:lnTo>
                    <a:pt x="177" y="690"/>
                  </a:lnTo>
                  <a:lnTo>
                    <a:pt x="167" y="679"/>
                  </a:lnTo>
                  <a:lnTo>
                    <a:pt x="146" y="669"/>
                  </a:lnTo>
                  <a:lnTo>
                    <a:pt x="115" y="648"/>
                  </a:lnTo>
                  <a:lnTo>
                    <a:pt x="94" y="637"/>
                  </a:lnTo>
                  <a:lnTo>
                    <a:pt x="83" y="627"/>
                  </a:lnTo>
                  <a:lnTo>
                    <a:pt x="62" y="606"/>
                  </a:lnTo>
                  <a:lnTo>
                    <a:pt x="41" y="585"/>
                  </a:lnTo>
                  <a:lnTo>
                    <a:pt x="21" y="564"/>
                  </a:lnTo>
                  <a:lnTo>
                    <a:pt x="10" y="554"/>
                  </a:lnTo>
                  <a:lnTo>
                    <a:pt x="0" y="533"/>
                  </a:lnTo>
                  <a:lnTo>
                    <a:pt x="595" y="0"/>
                  </a:lnTo>
                  <a:lnTo>
                    <a:pt x="229" y="7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4854600" y="2513160"/>
            <a:ext cx="1433520" cy="1355400"/>
          </a:xfrm>
          <a:custGeom>
            <a:avLst/>
            <a:gdLst/>
            <a:ahLst/>
            <a:rect l="l" t="t" r="r" b="b"/>
            <a:pathLst>
              <a:path w="595" h="574">
                <a:moveTo>
                  <a:pt x="0" y="532"/>
                </a:moveTo>
                <a:lnTo>
                  <a:pt x="595" y="0"/>
                </a:lnTo>
                <a:lnTo>
                  <a:pt x="595" y="42"/>
                </a:lnTo>
                <a:lnTo>
                  <a:pt x="0" y="574"/>
                </a:lnTo>
                <a:lnTo>
                  <a:pt x="0" y="532"/>
                </a:lnTo>
                <a:close/>
              </a:path>
            </a:pathLst>
          </a:custGeom>
          <a:solidFill>
            <a:srgbClr val="4d4d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54600" y="1895400"/>
            <a:ext cx="1433520" cy="1874880"/>
          </a:xfrm>
          <a:custGeom>
            <a:avLst/>
            <a:gdLst/>
            <a:ahLst/>
            <a:rect l="l" t="t" r="r" b="b"/>
            <a:pathLst>
              <a:path w="595" h="793">
                <a:moveTo>
                  <a:pt x="0" y="0"/>
                </a:moveTo>
                <a:lnTo>
                  <a:pt x="21" y="0"/>
                </a:lnTo>
                <a:lnTo>
                  <a:pt x="52" y="0"/>
                </a:lnTo>
                <a:lnTo>
                  <a:pt x="83" y="0"/>
                </a:lnTo>
                <a:lnTo>
                  <a:pt x="104" y="0"/>
                </a:lnTo>
                <a:lnTo>
                  <a:pt x="136" y="10"/>
                </a:lnTo>
                <a:lnTo>
                  <a:pt x="167" y="10"/>
                </a:lnTo>
                <a:lnTo>
                  <a:pt x="188" y="21"/>
                </a:lnTo>
                <a:lnTo>
                  <a:pt x="219" y="31"/>
                </a:lnTo>
                <a:lnTo>
                  <a:pt x="250" y="31"/>
                </a:lnTo>
                <a:lnTo>
                  <a:pt x="271" y="42"/>
                </a:lnTo>
                <a:lnTo>
                  <a:pt x="303" y="52"/>
                </a:lnTo>
                <a:lnTo>
                  <a:pt x="324" y="62"/>
                </a:lnTo>
                <a:lnTo>
                  <a:pt x="355" y="73"/>
                </a:lnTo>
                <a:lnTo>
                  <a:pt x="376" y="94"/>
                </a:lnTo>
                <a:lnTo>
                  <a:pt x="397" y="104"/>
                </a:lnTo>
                <a:lnTo>
                  <a:pt x="428" y="115"/>
                </a:lnTo>
                <a:lnTo>
                  <a:pt x="449" y="136"/>
                </a:lnTo>
                <a:lnTo>
                  <a:pt x="470" y="146"/>
                </a:lnTo>
                <a:lnTo>
                  <a:pt x="491" y="167"/>
                </a:lnTo>
                <a:lnTo>
                  <a:pt x="511" y="188"/>
                </a:lnTo>
                <a:lnTo>
                  <a:pt x="532" y="198"/>
                </a:lnTo>
                <a:lnTo>
                  <a:pt x="553" y="219"/>
                </a:lnTo>
                <a:lnTo>
                  <a:pt x="574" y="240"/>
                </a:lnTo>
                <a:lnTo>
                  <a:pt x="595" y="261"/>
                </a:lnTo>
                <a:lnTo>
                  <a:pt x="0" y="793"/>
                </a:lnTo>
                <a:lnTo>
                  <a:pt x="0" y="0"/>
                </a:lnTo>
                <a:close/>
              </a:path>
            </a:pathLst>
          </a:custGeom>
          <a:solidFill>
            <a:srgbClr val="000082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288120" y="3844800"/>
            <a:ext cx="503280" cy="1284480"/>
          </a:xfrm>
          <a:custGeom>
            <a:avLst/>
            <a:gdLst/>
            <a:ahLst/>
            <a:rect l="l" t="t" r="r" b="b"/>
            <a:pathLst>
              <a:path w="209" h="543">
                <a:moveTo>
                  <a:pt x="209" y="0"/>
                </a:moveTo>
                <a:lnTo>
                  <a:pt x="209" y="31"/>
                </a:lnTo>
                <a:lnTo>
                  <a:pt x="198" y="52"/>
                </a:lnTo>
                <a:lnTo>
                  <a:pt x="198" y="83"/>
                </a:lnTo>
                <a:lnTo>
                  <a:pt x="198" y="115"/>
                </a:lnTo>
                <a:lnTo>
                  <a:pt x="188" y="135"/>
                </a:lnTo>
                <a:lnTo>
                  <a:pt x="188" y="146"/>
                </a:lnTo>
                <a:lnTo>
                  <a:pt x="177" y="177"/>
                </a:lnTo>
                <a:lnTo>
                  <a:pt x="167" y="209"/>
                </a:lnTo>
                <a:lnTo>
                  <a:pt x="167" y="229"/>
                </a:lnTo>
                <a:lnTo>
                  <a:pt x="157" y="261"/>
                </a:lnTo>
                <a:lnTo>
                  <a:pt x="146" y="282"/>
                </a:lnTo>
                <a:lnTo>
                  <a:pt x="136" y="313"/>
                </a:lnTo>
                <a:lnTo>
                  <a:pt x="115" y="334"/>
                </a:lnTo>
                <a:lnTo>
                  <a:pt x="104" y="355"/>
                </a:lnTo>
                <a:lnTo>
                  <a:pt x="94" y="386"/>
                </a:lnTo>
                <a:lnTo>
                  <a:pt x="83" y="396"/>
                </a:lnTo>
                <a:lnTo>
                  <a:pt x="73" y="417"/>
                </a:lnTo>
                <a:lnTo>
                  <a:pt x="52" y="438"/>
                </a:lnTo>
                <a:lnTo>
                  <a:pt x="31" y="459"/>
                </a:lnTo>
                <a:lnTo>
                  <a:pt x="21" y="480"/>
                </a:lnTo>
                <a:lnTo>
                  <a:pt x="0" y="501"/>
                </a:lnTo>
                <a:lnTo>
                  <a:pt x="0" y="543"/>
                </a:lnTo>
                <a:lnTo>
                  <a:pt x="21" y="522"/>
                </a:lnTo>
                <a:lnTo>
                  <a:pt x="31" y="501"/>
                </a:lnTo>
                <a:lnTo>
                  <a:pt x="52" y="480"/>
                </a:lnTo>
                <a:lnTo>
                  <a:pt x="73" y="459"/>
                </a:lnTo>
                <a:lnTo>
                  <a:pt x="83" y="438"/>
                </a:lnTo>
                <a:lnTo>
                  <a:pt x="94" y="428"/>
                </a:lnTo>
                <a:lnTo>
                  <a:pt x="104" y="396"/>
                </a:lnTo>
                <a:lnTo>
                  <a:pt x="115" y="376"/>
                </a:lnTo>
                <a:lnTo>
                  <a:pt x="136" y="355"/>
                </a:lnTo>
                <a:lnTo>
                  <a:pt x="146" y="323"/>
                </a:lnTo>
                <a:lnTo>
                  <a:pt x="157" y="303"/>
                </a:lnTo>
                <a:lnTo>
                  <a:pt x="167" y="271"/>
                </a:lnTo>
                <a:lnTo>
                  <a:pt x="167" y="250"/>
                </a:lnTo>
                <a:lnTo>
                  <a:pt x="177" y="219"/>
                </a:lnTo>
                <a:lnTo>
                  <a:pt x="188" y="188"/>
                </a:lnTo>
                <a:lnTo>
                  <a:pt x="188" y="177"/>
                </a:lnTo>
                <a:lnTo>
                  <a:pt x="198" y="156"/>
                </a:lnTo>
                <a:lnTo>
                  <a:pt x="198" y="125"/>
                </a:lnTo>
                <a:lnTo>
                  <a:pt x="198" y="94"/>
                </a:lnTo>
                <a:lnTo>
                  <a:pt x="209" y="73"/>
                </a:lnTo>
                <a:lnTo>
                  <a:pt x="209" y="41"/>
                </a:lnTo>
                <a:lnTo>
                  <a:pt x="209" y="0"/>
                </a:lnTo>
                <a:close/>
              </a:path>
            </a:pathLst>
          </a:custGeom>
          <a:solidFill>
            <a:srgbClr val="000082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54600" y="3770280"/>
            <a:ext cx="1433520" cy="1359000"/>
          </a:xfrm>
          <a:custGeom>
            <a:avLst/>
            <a:gdLst/>
            <a:ahLst/>
            <a:rect l="l" t="t" r="r" b="b"/>
            <a:pathLst>
              <a:path w="595" h="575">
                <a:moveTo>
                  <a:pt x="0" y="0"/>
                </a:moveTo>
                <a:lnTo>
                  <a:pt x="595" y="533"/>
                </a:lnTo>
                <a:lnTo>
                  <a:pt x="595" y="575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33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54600" y="3770280"/>
            <a:ext cx="1936800" cy="1258920"/>
          </a:xfrm>
          <a:custGeom>
            <a:avLst/>
            <a:gdLst/>
            <a:ahLst/>
            <a:rect l="l" t="t" r="r" b="b"/>
            <a:pathLst>
              <a:path w="804" h="533">
                <a:moveTo>
                  <a:pt x="804" y="32"/>
                </a:moveTo>
                <a:lnTo>
                  <a:pt x="804" y="63"/>
                </a:lnTo>
                <a:lnTo>
                  <a:pt x="793" y="84"/>
                </a:lnTo>
                <a:lnTo>
                  <a:pt x="793" y="115"/>
                </a:lnTo>
                <a:lnTo>
                  <a:pt x="793" y="147"/>
                </a:lnTo>
                <a:lnTo>
                  <a:pt x="783" y="167"/>
                </a:lnTo>
                <a:lnTo>
                  <a:pt x="783" y="178"/>
                </a:lnTo>
                <a:lnTo>
                  <a:pt x="772" y="209"/>
                </a:lnTo>
                <a:lnTo>
                  <a:pt x="762" y="241"/>
                </a:lnTo>
                <a:lnTo>
                  <a:pt x="762" y="261"/>
                </a:lnTo>
                <a:lnTo>
                  <a:pt x="752" y="293"/>
                </a:lnTo>
                <a:lnTo>
                  <a:pt x="741" y="314"/>
                </a:lnTo>
                <a:lnTo>
                  <a:pt x="731" y="345"/>
                </a:lnTo>
                <a:lnTo>
                  <a:pt x="710" y="366"/>
                </a:lnTo>
                <a:lnTo>
                  <a:pt x="699" y="387"/>
                </a:lnTo>
                <a:lnTo>
                  <a:pt x="689" y="418"/>
                </a:lnTo>
                <a:lnTo>
                  <a:pt x="678" y="428"/>
                </a:lnTo>
                <a:lnTo>
                  <a:pt x="668" y="449"/>
                </a:lnTo>
                <a:lnTo>
                  <a:pt x="647" y="470"/>
                </a:lnTo>
                <a:lnTo>
                  <a:pt x="626" y="491"/>
                </a:lnTo>
                <a:lnTo>
                  <a:pt x="616" y="512"/>
                </a:lnTo>
                <a:lnTo>
                  <a:pt x="595" y="533"/>
                </a:lnTo>
                <a:lnTo>
                  <a:pt x="0" y="0"/>
                </a:lnTo>
                <a:lnTo>
                  <a:pt x="804" y="32"/>
                </a:lnTo>
                <a:close/>
              </a:path>
            </a:pathLst>
          </a:custGeom>
          <a:solidFill>
            <a:srgbClr val="0000fe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0760" y="167940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Look"/Art,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741360" y="451152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,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4291560" y="1606680"/>
            <a:ext cx="546480" cy="2122200"/>
            <a:chOff x="4291560" y="1606680"/>
            <a:chExt cx="546480" cy="2122200"/>
          </a:xfrm>
        </p:grpSpPr>
        <p:sp>
          <p:nvSpPr>
            <p:cNvPr id="802" name=""/>
            <p:cNvSpPr/>
            <p:nvPr/>
          </p:nvSpPr>
          <p:spPr>
            <a:xfrm>
              <a:off x="4479840" y="1854000"/>
              <a:ext cx="101520" cy="187488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ab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291560" y="1606680"/>
              <a:ext cx="54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Price,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90600" y="1327320"/>
            <a:ext cx="21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of Impact; of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632960" y="1465200"/>
            <a:ext cx="2769120" cy="5026680"/>
            <a:chOff x="1632960" y="1465200"/>
            <a:chExt cx="2769120" cy="5026680"/>
          </a:xfrm>
        </p:grpSpPr>
        <p:grpSp>
          <p:nvGrpSpPr>
            <p:cNvPr id="806" name=""/>
            <p:cNvGrpSpPr/>
            <p:nvPr/>
          </p:nvGrpSpPr>
          <p:grpSpPr>
            <a:xfrm>
              <a:off x="3521160" y="4252680"/>
              <a:ext cx="880920" cy="1986840"/>
              <a:chOff x="3521160" y="4252680"/>
              <a:chExt cx="880920" cy="1986840"/>
            </a:xfrm>
          </p:grpSpPr>
          <p:sp>
            <p:nvSpPr>
              <p:cNvPr id="807" name=""/>
              <p:cNvSpPr/>
              <p:nvPr/>
            </p:nvSpPr>
            <p:spPr>
              <a:xfrm>
                <a:off x="3521160" y="5942880"/>
                <a:ext cx="628560" cy="296640"/>
              </a:xfrm>
              <a:custGeom>
                <a:avLst/>
                <a:gdLst/>
                <a:ahLst/>
                <a:rect l="l" t="t" r="r" b="b"/>
                <a:pathLst>
                  <a:path w="261" h="126">
                    <a:moveTo>
                      <a:pt x="261" y="84"/>
                    </a:moveTo>
                    <a:lnTo>
                      <a:pt x="241" y="84"/>
                    </a:lnTo>
                    <a:lnTo>
                      <a:pt x="220" y="84"/>
                    </a:lnTo>
                    <a:lnTo>
                      <a:pt x="199" y="74"/>
                    </a:lnTo>
                    <a:lnTo>
                      <a:pt x="167" y="63"/>
                    </a:lnTo>
                    <a:lnTo>
                      <a:pt x="157" y="63"/>
                    </a:lnTo>
                    <a:lnTo>
                      <a:pt x="126" y="53"/>
                    </a:lnTo>
                    <a:lnTo>
                      <a:pt x="105" y="53"/>
                    </a:lnTo>
                    <a:lnTo>
                      <a:pt x="84" y="42"/>
                    </a:lnTo>
                    <a:lnTo>
                      <a:pt x="63" y="32"/>
                    </a:lnTo>
                    <a:lnTo>
                      <a:pt x="32" y="21"/>
                    </a:lnTo>
                    <a:lnTo>
                      <a:pt x="21" y="21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21" y="63"/>
                    </a:lnTo>
                    <a:lnTo>
                      <a:pt x="32" y="63"/>
                    </a:lnTo>
                    <a:lnTo>
                      <a:pt x="63" y="74"/>
                    </a:lnTo>
                    <a:lnTo>
                      <a:pt x="84" y="84"/>
                    </a:lnTo>
                    <a:lnTo>
                      <a:pt x="105" y="94"/>
                    </a:lnTo>
                    <a:lnTo>
                      <a:pt x="126" y="94"/>
                    </a:lnTo>
                    <a:lnTo>
                      <a:pt x="157" y="105"/>
                    </a:lnTo>
                    <a:lnTo>
                      <a:pt x="167" y="105"/>
                    </a:lnTo>
                    <a:lnTo>
                      <a:pt x="199" y="115"/>
                    </a:lnTo>
                    <a:lnTo>
                      <a:pt x="220" y="126"/>
                    </a:lnTo>
                    <a:lnTo>
                      <a:pt x="241" y="126"/>
                    </a:lnTo>
                    <a:lnTo>
                      <a:pt x="261" y="126"/>
                    </a:lnTo>
                    <a:lnTo>
                      <a:pt x="261" y="84"/>
                    </a:lnTo>
                    <a:close/>
                  </a:path>
                </a:pathLst>
              </a:custGeom>
              <a:solidFill>
                <a:srgbClr val="660066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521160" y="4252680"/>
                <a:ext cx="880920" cy="1875960"/>
              </a:xfrm>
              <a:custGeom>
                <a:avLst/>
                <a:gdLst/>
                <a:ahLst/>
                <a:rect l="l" t="t" r="r" b="b"/>
                <a:pathLst>
                  <a:path w="366" h="794">
                    <a:moveTo>
                      <a:pt x="261" y="794"/>
                    </a:moveTo>
                    <a:lnTo>
                      <a:pt x="241" y="794"/>
                    </a:lnTo>
                    <a:lnTo>
                      <a:pt x="220" y="794"/>
                    </a:lnTo>
                    <a:lnTo>
                      <a:pt x="199" y="784"/>
                    </a:lnTo>
                    <a:lnTo>
                      <a:pt x="167" y="773"/>
                    </a:lnTo>
                    <a:lnTo>
                      <a:pt x="157" y="773"/>
                    </a:lnTo>
                    <a:lnTo>
                      <a:pt x="126" y="763"/>
                    </a:lnTo>
                    <a:lnTo>
                      <a:pt x="105" y="763"/>
                    </a:lnTo>
                    <a:lnTo>
                      <a:pt x="84" y="752"/>
                    </a:lnTo>
                    <a:lnTo>
                      <a:pt x="63" y="742"/>
                    </a:lnTo>
                    <a:lnTo>
                      <a:pt x="32" y="731"/>
                    </a:lnTo>
                    <a:lnTo>
                      <a:pt x="21" y="731"/>
                    </a:lnTo>
                    <a:lnTo>
                      <a:pt x="0" y="710"/>
                    </a:lnTo>
                    <a:lnTo>
                      <a:pt x="366" y="0"/>
                    </a:lnTo>
                    <a:lnTo>
                      <a:pt x="261" y="794"/>
                    </a:lnTo>
                    <a:close/>
                  </a:path>
                </a:pathLst>
              </a:custGeom>
              <a:solidFill>
                <a:srgbClr val="9a009a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151520" y="4264920"/>
                <a:ext cx="225360" cy="1974600"/>
              </a:xfrm>
              <a:custGeom>
                <a:avLst/>
                <a:gdLst/>
                <a:ahLst/>
                <a:rect l="l" t="t" r="r" b="b"/>
                <a:pathLst>
                  <a:path w="94" h="836">
                    <a:moveTo>
                      <a:pt x="94" y="0"/>
                    </a:moveTo>
                    <a:lnTo>
                      <a:pt x="0" y="794"/>
                    </a:lnTo>
                    <a:lnTo>
                      <a:pt x="0" y="836"/>
                    </a:lnTo>
                    <a:lnTo>
                      <a:pt x="94" y="4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0404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2430000" y="6278400"/>
              <a:ext cx="1361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levision Ads,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2847960" y="2214360"/>
              <a:ext cx="1433520" cy="1650240"/>
              <a:chOff x="2847960" y="2214360"/>
              <a:chExt cx="1433520" cy="1650240"/>
            </a:xfrm>
          </p:grpSpPr>
          <p:sp>
            <p:nvSpPr>
              <p:cNvPr id="812" name=""/>
              <p:cNvSpPr/>
              <p:nvPr/>
            </p:nvSpPr>
            <p:spPr>
              <a:xfrm>
                <a:off x="2847960" y="2509200"/>
                <a:ext cx="1433520" cy="1355400"/>
              </a:xfrm>
              <a:custGeom>
                <a:avLst/>
                <a:gdLst/>
                <a:ahLst/>
                <a:rect l="l" t="t" r="r" b="b"/>
                <a:pathLst>
                  <a:path w="595" h="574">
                    <a:moveTo>
                      <a:pt x="595" y="532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595" y="574"/>
                    </a:lnTo>
                    <a:lnTo>
                      <a:pt x="595" y="532"/>
                    </a:lnTo>
                    <a:close/>
                  </a:path>
                </a:pathLst>
              </a:custGeom>
              <a:solidFill>
                <a:srgbClr val="40004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847960" y="2214360"/>
                <a:ext cx="1433520" cy="1551960"/>
              </a:xfrm>
              <a:custGeom>
                <a:avLst/>
                <a:gdLst/>
                <a:ahLst/>
                <a:rect l="l" t="t" r="r" b="b"/>
                <a:pathLst>
                  <a:path w="595" h="657">
                    <a:moveTo>
                      <a:pt x="0" y="125"/>
                    </a:moveTo>
                    <a:lnTo>
                      <a:pt x="10" y="104"/>
                    </a:lnTo>
                    <a:lnTo>
                      <a:pt x="21" y="94"/>
                    </a:lnTo>
                    <a:lnTo>
                      <a:pt x="41" y="73"/>
                    </a:lnTo>
                    <a:lnTo>
                      <a:pt x="52" y="62"/>
                    </a:lnTo>
                    <a:lnTo>
                      <a:pt x="73" y="52"/>
                    </a:lnTo>
                    <a:lnTo>
                      <a:pt x="83" y="41"/>
                    </a:lnTo>
                    <a:lnTo>
                      <a:pt x="104" y="20"/>
                    </a:lnTo>
                    <a:lnTo>
                      <a:pt x="115" y="10"/>
                    </a:lnTo>
                    <a:lnTo>
                      <a:pt x="146" y="0"/>
                    </a:lnTo>
                    <a:lnTo>
                      <a:pt x="595" y="65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008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32960" y="2255400"/>
              <a:ext cx="128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onsorships,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99160" y="1949040"/>
              <a:ext cx="114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azine Ads,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23280" y="1760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dio,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6680" y="14652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nema,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255920" y="1841400"/>
              <a:ext cx="101880" cy="1972800"/>
            </a:xfrm>
            <a:custGeom>
              <a:avLst/>
              <a:gdLst/>
              <a:ahLst/>
              <a:rect l="l" t="t" r="r" b="b"/>
              <a:pathLst>
                <a:path w="42" h="835">
                  <a:moveTo>
                    <a:pt x="42" y="793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42" y="835"/>
                  </a:lnTo>
                  <a:lnTo>
                    <a:pt x="42" y="793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006800" y="1841400"/>
              <a:ext cx="351000" cy="1874160"/>
            </a:xfrm>
            <a:custGeom>
              <a:avLst/>
              <a:gdLst/>
              <a:ahLst/>
              <a:rect l="l" t="t" r="r" b="b"/>
              <a:pathLst>
                <a:path w="146" h="793">
                  <a:moveTo>
                    <a:pt x="0" y="10"/>
                  </a:moveTo>
                  <a:lnTo>
                    <a:pt x="21" y="10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46" y="79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5d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78400" y="1989000"/>
              <a:ext cx="779400" cy="1825200"/>
            </a:xfrm>
            <a:custGeom>
              <a:avLst/>
              <a:gdLst/>
              <a:ahLst/>
              <a:rect l="l" t="t" r="r" b="b"/>
              <a:pathLst>
                <a:path w="324" h="773">
                  <a:moveTo>
                    <a:pt x="324" y="731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324" y="773"/>
                  </a:lnTo>
                  <a:lnTo>
                    <a:pt x="324" y="731"/>
                  </a:lnTo>
                  <a:close/>
                </a:path>
              </a:pathLst>
            </a:custGeom>
            <a:solidFill>
              <a:srgbClr val="00404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52840" y="1914120"/>
              <a:ext cx="804960" cy="1801440"/>
            </a:xfrm>
            <a:custGeom>
              <a:avLst/>
              <a:gdLst/>
              <a:ahLst/>
              <a:rect l="l" t="t" r="r" b="b"/>
              <a:pathLst>
                <a:path w="334" h="762">
                  <a:moveTo>
                    <a:pt x="0" y="31"/>
                  </a:moveTo>
                  <a:lnTo>
                    <a:pt x="21" y="31"/>
                  </a:lnTo>
                  <a:lnTo>
                    <a:pt x="31" y="21"/>
                  </a:lnTo>
                  <a:lnTo>
                    <a:pt x="52" y="11"/>
                  </a:lnTo>
                  <a:lnTo>
                    <a:pt x="73" y="11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334" y="7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a400a4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6720" y="2163600"/>
              <a:ext cx="1081080" cy="1650600"/>
            </a:xfrm>
            <a:custGeom>
              <a:avLst/>
              <a:gdLst/>
              <a:ahLst/>
              <a:rect l="l" t="t" r="r" b="b"/>
              <a:pathLst>
                <a:path w="449" h="699">
                  <a:moveTo>
                    <a:pt x="449" y="657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449" y="699"/>
                  </a:lnTo>
                  <a:lnTo>
                    <a:pt x="449" y="657"/>
                  </a:lnTo>
                  <a:close/>
                </a:path>
              </a:pathLst>
            </a:custGeom>
            <a:solidFill>
              <a:srgbClr val="4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76720" y="1989000"/>
              <a:ext cx="1081080" cy="1726560"/>
            </a:xfrm>
            <a:custGeom>
              <a:avLst/>
              <a:gdLst/>
              <a:ahLst/>
              <a:rect l="l" t="t" r="r" b="b"/>
              <a:pathLst>
                <a:path w="449" h="731">
                  <a:moveTo>
                    <a:pt x="0" y="74"/>
                  </a:moveTo>
                  <a:lnTo>
                    <a:pt x="21" y="53"/>
                  </a:lnTo>
                  <a:lnTo>
                    <a:pt x="31" y="53"/>
                  </a:lnTo>
                  <a:lnTo>
                    <a:pt x="52" y="32"/>
                  </a:lnTo>
                  <a:lnTo>
                    <a:pt x="83" y="21"/>
                  </a:lnTo>
                  <a:lnTo>
                    <a:pt x="94" y="11"/>
                  </a:lnTo>
                  <a:lnTo>
                    <a:pt x="115" y="0"/>
                  </a:lnTo>
                  <a:lnTo>
                    <a:pt x="449" y="73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a400a4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d Advertising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36680" y="1541160"/>
            <a:ext cx="8270640" cy="48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levisio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executed well, often has a leading role among the paid media/touch-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if executed poorly (weak creative), it can have practically no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examples, advertising has been well recalled, but still failed to have an impact due to poor message content/strategic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3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ertising +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d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ertising have often been “middle of the mix” …or a little weak;… rare to see big impact from the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7b7bad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like all media + touch-points, they can work within the mix (in the right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7b7bad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high recall, one needs high media spend, and/or very strong creative (perhaps linked to television creativ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many other touch-points, success of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ponso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the context and how it is executed/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nsorships which tend to work well overtly leverage their involvement, have a natural (logical) fit, and integrate into the event.  - They are not just there as a passive “billboar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49440" y="2597040"/>
            <a:ext cx="8494560" cy="426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reative/Content is ke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93560" y="1407600"/>
            <a:ext cx="842976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547e"/>
                </a:solidFill>
                <a:latin typeface="Arial"/>
              </a:rPr>
              <a:t>For each touch-point, we have observed a large range for both Recall and Impact.  This shows a wide diversity within each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608040" y="2125800"/>
            <a:ext cx="8459640" cy="4507920"/>
            <a:chOff x="608040" y="2125800"/>
            <a:chExt cx="8459640" cy="4507920"/>
          </a:xfrm>
        </p:grpSpPr>
        <p:sp>
          <p:nvSpPr>
            <p:cNvPr id="830" name=""/>
            <p:cNvSpPr/>
            <p:nvPr/>
          </p:nvSpPr>
          <p:spPr>
            <a:xfrm>
              <a:off x="608040" y="2125800"/>
              <a:ext cx="82296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ange in Importance, highest to lowes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Percentile rank within a campaign -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.e. if a t-p is the highest, it gets 100 percentile in its m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97200" y="6186600"/>
              <a:ext cx="6188040" cy="201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97200" y="6207120"/>
              <a:ext cx="6188040" cy="219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97200" y="6229440"/>
              <a:ext cx="6188040" cy="1872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97200" y="6248520"/>
              <a:ext cx="6188040" cy="2160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97200" y="6270480"/>
              <a:ext cx="6188040" cy="2052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97200" y="6186600"/>
              <a:ext cx="6188040" cy="104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97200" y="5808600"/>
              <a:ext cx="6188040" cy="219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97200" y="5830920"/>
              <a:ext cx="6188040" cy="187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97200" y="5850000"/>
              <a:ext cx="6188040" cy="2160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97200" y="5871960"/>
              <a:ext cx="6188040" cy="205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97200" y="5892840"/>
              <a:ext cx="6188040" cy="201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97200" y="5808600"/>
              <a:ext cx="6188040" cy="104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897200" y="5599080"/>
              <a:ext cx="6188040" cy="219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97200" y="5621400"/>
              <a:ext cx="6188040" cy="187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97200" y="5640480"/>
              <a:ext cx="6188040" cy="2160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97200" y="5662440"/>
              <a:ext cx="6188040" cy="205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97200" y="5683320"/>
              <a:ext cx="6188040" cy="2160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97200" y="5599080"/>
              <a:ext cx="6188040" cy="1058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97200" y="5411880"/>
              <a:ext cx="6188040" cy="201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97200" y="5432400"/>
              <a:ext cx="6188040" cy="201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7200" y="5452920"/>
              <a:ext cx="6188040" cy="2052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897200" y="5473800"/>
              <a:ext cx="6188040" cy="2160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97200" y="5495760"/>
              <a:ext cx="6188040" cy="1872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97200" y="5411880"/>
              <a:ext cx="6188040" cy="1026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97200" y="5222880"/>
              <a:ext cx="6188040" cy="1872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897200" y="5241960"/>
              <a:ext cx="6188040" cy="219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97200" y="5264280"/>
              <a:ext cx="6188040" cy="2016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97200" y="5284800"/>
              <a:ext cx="6188040" cy="219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97200" y="5307120"/>
              <a:ext cx="6188040" cy="183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97200" y="5222880"/>
              <a:ext cx="6188040" cy="1026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2389320" y="5033880"/>
              <a:ext cx="4460760" cy="104040"/>
              <a:chOff x="2389320" y="5033880"/>
              <a:chExt cx="4460760" cy="104040"/>
            </a:xfrm>
          </p:grpSpPr>
          <p:sp>
            <p:nvSpPr>
              <p:cNvPr id="862" name=""/>
              <p:cNvSpPr/>
              <p:nvPr/>
            </p:nvSpPr>
            <p:spPr>
              <a:xfrm>
                <a:off x="2389320" y="5033880"/>
                <a:ext cx="4460760" cy="21600"/>
              </a:xfrm>
              <a:prstGeom prst="rect">
                <a:avLst/>
              </a:prstGeom>
              <a:solidFill>
                <a:srgbClr val="3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389320" y="5055480"/>
                <a:ext cx="4460760" cy="19440"/>
              </a:xfrm>
              <a:prstGeom prst="rect">
                <a:avLst/>
              </a:prstGeom>
              <a:solidFill>
                <a:srgbClr val="8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389320" y="5074920"/>
                <a:ext cx="4460760" cy="21600"/>
              </a:xfrm>
              <a:prstGeom prst="rect">
                <a:avLst/>
              </a:prstGeom>
              <a:solidFill>
                <a:srgbClr val="a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389320" y="5096520"/>
                <a:ext cx="4460760" cy="19800"/>
              </a:xfrm>
              <a:prstGeom prst="rect">
                <a:avLst/>
              </a:prstGeom>
              <a:solidFill>
                <a:srgbClr val="8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389320" y="5116320"/>
                <a:ext cx="4460760" cy="21600"/>
              </a:xfrm>
              <a:prstGeom prst="rect">
                <a:avLst/>
              </a:prstGeom>
              <a:solidFill>
                <a:srgbClr val="3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389320" y="5033880"/>
                <a:ext cx="4460760" cy="10404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1897200" y="4448160"/>
              <a:ext cx="6188040" cy="1872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897200" y="4467240"/>
              <a:ext cx="6188040" cy="219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97200" y="4489560"/>
              <a:ext cx="6188040" cy="2016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97200" y="4510080"/>
              <a:ext cx="6188040" cy="201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897200" y="4530600"/>
              <a:ext cx="6188040" cy="2052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97200" y="4448160"/>
              <a:ext cx="6188040" cy="1029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97200" y="4257720"/>
              <a:ext cx="5560920" cy="2160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897200" y="4279680"/>
              <a:ext cx="5560920" cy="205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897200" y="4300560"/>
              <a:ext cx="5560920" cy="2196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97200" y="4322880"/>
              <a:ext cx="5560920" cy="183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97200" y="4341600"/>
              <a:ext cx="5560920" cy="219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97200" y="4257720"/>
              <a:ext cx="5560920" cy="1058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97200" y="4068720"/>
              <a:ext cx="5203800" cy="219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97200" y="4091040"/>
              <a:ext cx="5203800" cy="201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97200" y="4111560"/>
              <a:ext cx="5203800" cy="2016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97200" y="4132080"/>
              <a:ext cx="5203800" cy="205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97200" y="4152960"/>
              <a:ext cx="5203800" cy="2160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97200" y="4068720"/>
              <a:ext cx="5203800" cy="1058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97200" y="3859200"/>
              <a:ext cx="5757840" cy="219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897200" y="3881520"/>
              <a:ext cx="5757840" cy="201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897200" y="3902040"/>
              <a:ext cx="5757840" cy="2196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897200" y="3924360"/>
              <a:ext cx="5757840" cy="187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97200" y="3943440"/>
              <a:ext cx="5757840" cy="2160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897200" y="3859200"/>
              <a:ext cx="5757840" cy="1058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2305080" y="3483000"/>
              <a:ext cx="4545000" cy="105120"/>
              <a:chOff x="2305080" y="3483000"/>
              <a:chExt cx="4545000" cy="105120"/>
            </a:xfrm>
          </p:grpSpPr>
          <p:sp>
            <p:nvSpPr>
              <p:cNvPr id="893" name=""/>
              <p:cNvSpPr/>
              <p:nvPr/>
            </p:nvSpPr>
            <p:spPr>
              <a:xfrm>
                <a:off x="2305080" y="3483000"/>
                <a:ext cx="4545000" cy="19800"/>
              </a:xfrm>
              <a:prstGeom prst="rect">
                <a:avLst/>
              </a:prstGeom>
              <a:solidFill>
                <a:srgbClr val="3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305080" y="3502800"/>
                <a:ext cx="4545000" cy="21960"/>
              </a:xfrm>
              <a:prstGeom prst="rect">
                <a:avLst/>
              </a:prstGeom>
              <a:solidFill>
                <a:srgbClr val="8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305080" y="3524760"/>
                <a:ext cx="4545000" cy="20160"/>
              </a:xfrm>
              <a:prstGeom prst="rect">
                <a:avLst/>
              </a:prstGeom>
              <a:solidFill>
                <a:srgbClr val="a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305080" y="3544920"/>
                <a:ext cx="4545000" cy="21960"/>
              </a:xfrm>
              <a:prstGeom prst="rect">
                <a:avLst/>
              </a:prstGeom>
              <a:solidFill>
                <a:srgbClr val="8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05080" y="3566880"/>
                <a:ext cx="4545000" cy="21240"/>
              </a:xfrm>
              <a:prstGeom prst="rect">
                <a:avLst/>
              </a:prstGeom>
              <a:solidFill>
                <a:srgbClr val="3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2305080" y="3483000"/>
              <a:ext cx="4545000" cy="1058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2192400" y="3294000"/>
              <a:ext cx="4782600" cy="104040"/>
              <a:chOff x="2192400" y="3294000"/>
              <a:chExt cx="4782600" cy="104040"/>
            </a:xfrm>
          </p:grpSpPr>
          <p:sp>
            <p:nvSpPr>
              <p:cNvPr id="900" name=""/>
              <p:cNvSpPr/>
              <p:nvPr/>
            </p:nvSpPr>
            <p:spPr>
              <a:xfrm>
                <a:off x="2192400" y="3294000"/>
                <a:ext cx="4782600" cy="21600"/>
              </a:xfrm>
              <a:prstGeom prst="rect">
                <a:avLst/>
              </a:prstGeom>
              <a:solidFill>
                <a:srgbClr val="3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192400" y="3315600"/>
                <a:ext cx="4782600" cy="19800"/>
              </a:xfrm>
              <a:prstGeom prst="rect">
                <a:avLst/>
              </a:prstGeom>
              <a:solidFill>
                <a:srgbClr val="8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192400" y="3335400"/>
                <a:ext cx="4782600" cy="20880"/>
              </a:xfrm>
              <a:prstGeom prst="rect">
                <a:avLst/>
              </a:prstGeom>
              <a:solidFill>
                <a:srgbClr val="a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192400" y="3356640"/>
                <a:ext cx="4782600" cy="19800"/>
              </a:xfrm>
              <a:prstGeom prst="rect">
                <a:avLst/>
              </a:prstGeom>
              <a:solidFill>
                <a:srgbClr val="8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192400" y="3376440"/>
                <a:ext cx="4782600" cy="21600"/>
              </a:xfrm>
              <a:prstGeom prst="rect">
                <a:avLst/>
              </a:prstGeom>
              <a:solidFill>
                <a:srgbClr val="3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192400" y="3294000"/>
                <a:ext cx="4782600" cy="10404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897200" y="3084480"/>
              <a:ext cx="4201920" cy="219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97200" y="3106800"/>
              <a:ext cx="4201920" cy="201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97200" y="3127320"/>
              <a:ext cx="4201920" cy="2016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97200" y="3147840"/>
              <a:ext cx="4201920" cy="205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97200" y="3168720"/>
              <a:ext cx="4201920" cy="2160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97200" y="3084480"/>
              <a:ext cx="4201920" cy="1058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97200" y="2895480"/>
              <a:ext cx="3343320" cy="219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97200" y="2917800"/>
              <a:ext cx="3343320" cy="219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897200" y="2940120"/>
              <a:ext cx="3343320" cy="1872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97200" y="2959200"/>
              <a:ext cx="3343320" cy="2160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97200" y="2981160"/>
              <a:ext cx="3343320" cy="1872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897200" y="2895480"/>
              <a:ext cx="3343320" cy="104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897200" y="6373800"/>
              <a:ext cx="616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1897200" y="6373440"/>
              <a:ext cx="144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130560" y="6373440"/>
              <a:ext cx="144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4363920" y="6373440"/>
              <a:ext cx="180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5597640" y="6373440"/>
              <a:ext cx="144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6850080" y="6373440"/>
              <a:ext cx="144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8085240" y="6373440"/>
              <a:ext cx="144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897200" y="2895480"/>
              <a:ext cx="1440" cy="347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60480" y="6373800"/>
              <a:ext cx="3672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60480" y="618660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594320" y="5997600"/>
              <a:ext cx="3239640" cy="105480"/>
              <a:chOff x="4594320" y="5997600"/>
              <a:chExt cx="3239640" cy="105480"/>
            </a:xfrm>
          </p:grpSpPr>
          <p:sp>
            <p:nvSpPr>
              <p:cNvPr id="929" name=""/>
              <p:cNvSpPr/>
              <p:nvPr/>
            </p:nvSpPr>
            <p:spPr>
              <a:xfrm>
                <a:off x="4613400" y="5997600"/>
                <a:ext cx="3220560" cy="19800"/>
              </a:xfrm>
              <a:prstGeom prst="rect">
                <a:avLst/>
              </a:prstGeom>
              <a:solidFill>
                <a:srgbClr val="3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613400" y="6017400"/>
                <a:ext cx="3220560" cy="21600"/>
              </a:xfrm>
              <a:prstGeom prst="rect">
                <a:avLst/>
              </a:prstGeom>
              <a:solidFill>
                <a:srgbClr val="8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613400" y="6039000"/>
                <a:ext cx="3220560" cy="21600"/>
              </a:xfrm>
              <a:prstGeom prst="rect">
                <a:avLst/>
              </a:prstGeom>
              <a:solidFill>
                <a:srgbClr val="a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613400" y="6060960"/>
                <a:ext cx="3220560" cy="20160"/>
              </a:xfrm>
              <a:prstGeom prst="rect">
                <a:avLst/>
              </a:prstGeom>
              <a:solidFill>
                <a:srgbClr val="84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613400" y="6081480"/>
                <a:ext cx="3220560" cy="21600"/>
              </a:xfrm>
              <a:prstGeom prst="rect">
                <a:avLst/>
              </a:prstGeom>
              <a:solidFill>
                <a:srgbClr val="38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13400" y="5997600"/>
                <a:ext cx="3220560" cy="10548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594320" y="5997600"/>
                <a:ext cx="19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1860480" y="578808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60480" y="559908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60480" y="541188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60480" y="522288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60480" y="501336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016440" y="4824360"/>
              <a:ext cx="5068800" cy="219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16440" y="4846680"/>
              <a:ext cx="5068800" cy="187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16440" y="4865760"/>
              <a:ext cx="5068800" cy="2160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16440" y="4887720"/>
              <a:ext cx="5068800" cy="205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16440" y="4908600"/>
              <a:ext cx="5068800" cy="201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16440" y="4824360"/>
              <a:ext cx="5068800" cy="104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987640" y="482436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90600" y="4635360"/>
              <a:ext cx="5894640" cy="2052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90600" y="4656240"/>
              <a:ext cx="5894640" cy="201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190600" y="4676760"/>
              <a:ext cx="5894640" cy="2196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90600" y="4699080"/>
              <a:ext cx="5894640" cy="1872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90600" y="4718160"/>
              <a:ext cx="5894640" cy="2160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190600" y="4635360"/>
              <a:ext cx="5894640" cy="104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859040" y="46353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860480" y="444816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860480" y="4257720"/>
              <a:ext cx="3672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60480" y="404964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860480" y="3859200"/>
              <a:ext cx="3672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49400" y="3672000"/>
              <a:ext cx="4857840" cy="2016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49400" y="3692520"/>
              <a:ext cx="4857840" cy="2196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49400" y="3714840"/>
              <a:ext cx="4857840" cy="18720"/>
            </a:xfrm>
            <a:prstGeom prst="rect">
              <a:avLst/>
            </a:prstGeom>
            <a:solidFill>
              <a:srgbClr val="a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49400" y="3733920"/>
              <a:ext cx="4857840" cy="21600"/>
            </a:xfrm>
            <a:prstGeom prst="rect">
              <a:avLst/>
            </a:prstGeom>
            <a:solidFill>
              <a:srgbClr val="8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49400" y="3755880"/>
              <a:ext cx="4857840" cy="20520"/>
            </a:xfrm>
            <a:prstGeom prst="rect">
              <a:avLst/>
            </a:prstGeom>
            <a:solidFill>
              <a:srgbClr val="38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849400" y="3672000"/>
              <a:ext cx="4857840" cy="104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860480" y="3672000"/>
              <a:ext cx="31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860480" y="348300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860480" y="3273480"/>
              <a:ext cx="3672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860480" y="3084480"/>
              <a:ext cx="3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860480" y="28954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44280" y="646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04920" y="646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38280" y="646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73440" y="646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25880" y="646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05600" y="64659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18800" y="6153120"/>
              <a:ext cx="77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Look"/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74320" y="596268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55720" y="5762520"/>
              <a:ext cx="93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7120" y="5560920"/>
              <a:ext cx="107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ord of Mou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38160" y="5389560"/>
              <a:ext cx="85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-line A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04880" y="5187960"/>
              <a:ext cx="109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levision A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223280" y="500040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08160" y="4811760"/>
              <a:ext cx="57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-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211760" y="46101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02400" y="4400640"/>
              <a:ext cx="58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142640" y="421308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s/P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64480" y="403704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55280" y="3833640"/>
              <a:ext cx="101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sorsh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99080" y="365112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gaz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84200" y="3460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63840" y="32605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46320" y="304632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n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28480" y="2870280"/>
              <a:ext cx="37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859040" y="4824360"/>
              <a:ext cx="3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29440" y="617688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966000" y="598644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191280" y="579276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189840" y="5584680"/>
              <a:ext cx="8856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32280" y="5396040"/>
              <a:ext cx="88920" cy="15804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700520" y="521496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46720" y="501156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614920" y="480852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653080" y="461808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33760" y="404640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16520" y="442764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64160" y="423684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890960" y="384336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33760" y="365292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13200" y="346212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42080" y="3271680"/>
              <a:ext cx="8856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13280" y="3056040"/>
              <a:ext cx="8856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57600" y="2878200"/>
              <a:ext cx="88920" cy="1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7175520" y="2944800"/>
              <a:ext cx="1892160" cy="624960"/>
              <a:chOff x="7175520" y="2944800"/>
              <a:chExt cx="1892160" cy="624960"/>
            </a:xfrm>
          </p:grpSpPr>
          <p:sp>
            <p:nvSpPr>
              <p:cNvPr id="1014" name=""/>
              <p:cNvSpPr/>
              <p:nvPr/>
            </p:nvSpPr>
            <p:spPr>
              <a:xfrm>
                <a:off x="7481880" y="3120480"/>
                <a:ext cx="88920" cy="158400"/>
              </a:xfrm>
              <a:prstGeom prst="triangle">
                <a:avLst>
                  <a:gd name="adj" fmla="val 50000"/>
                </a:avLst>
              </a:prstGeom>
              <a:solidFill>
                <a:srgbClr val="003399"/>
              </a:soli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5" name=""/>
              <p:cNvGrpSpPr/>
              <p:nvPr/>
            </p:nvGrpSpPr>
            <p:grpSpPr>
              <a:xfrm>
                <a:off x="7175520" y="2944800"/>
                <a:ext cx="1892160" cy="624960"/>
                <a:chOff x="7175520" y="2944800"/>
                <a:chExt cx="1892160" cy="62496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7523280" y="3069720"/>
                  <a:ext cx="152856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= Average across categori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175520" y="2944800"/>
                  <a:ext cx="1892160" cy="624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8" name=""/>
          <p:cNvSpPr/>
          <p:nvPr/>
        </p:nvSpPr>
        <p:spPr>
          <a:xfrm>
            <a:off x="3233880" y="3365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reative/Content is ke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36320" y="1407960"/>
            <a:ext cx="84294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547e"/>
                </a:solidFill>
                <a:latin typeface="Arial"/>
              </a:rPr>
              <a:t>Touch-points depend largely on the </a:t>
            </a:r>
            <a:r>
              <a:rPr b="0" i="1" lang="en-US" sz="2000" spc="-1" strike="noStrike" u="sng">
                <a:solidFill>
                  <a:srgbClr val="2a547e"/>
                </a:solidFill>
                <a:uFillTx/>
                <a:latin typeface="Arial"/>
              </a:rPr>
              <a:t>creative content</a:t>
            </a:r>
            <a:r>
              <a:rPr b="0" lang="en-US" sz="2000" spc="-1" strike="noStrike">
                <a:solidFill>
                  <a:srgbClr val="2a54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8080"/>
              </a:buClr>
              <a:buSzPct val="12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47e"/>
                </a:solidFill>
                <a:latin typeface="Arial"/>
              </a:rPr>
              <a:t>This is consistent with our Ad*Graph data-base which shows a significant range in recall for the same level of media exposure (with ‘creative’ explaining the varian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7b7bad"/>
              </a:buClr>
              <a:buSzPct val="12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47e"/>
                </a:solidFill>
                <a:latin typeface="Arial"/>
              </a:rPr>
              <a:t>Make sure you only use great creative. “Media channels” are secondary issues to ‘creative’ excell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985680" y="3035160"/>
            <a:ext cx="7320240" cy="3825360"/>
            <a:chOff x="985680" y="3035160"/>
            <a:chExt cx="7320240" cy="3825360"/>
          </a:xfrm>
        </p:grpSpPr>
        <p:sp>
          <p:nvSpPr>
            <p:cNvPr id="1022" name=""/>
            <p:cNvSpPr/>
            <p:nvPr/>
          </p:nvSpPr>
          <p:spPr>
            <a:xfrm>
              <a:off x="1743120" y="3467160"/>
              <a:ext cx="65160" cy="2419200"/>
            </a:xfrm>
            <a:custGeom>
              <a:avLst/>
              <a:gdLst/>
              <a:ahLst/>
              <a:rect l="l" t="t" r="r" b="b"/>
              <a:pathLst>
                <a:path w="39" h="1395">
                  <a:moveTo>
                    <a:pt x="0" y="1395"/>
                  </a:moveTo>
                  <a:lnTo>
                    <a:pt x="0" y="51"/>
                  </a:lnTo>
                  <a:lnTo>
                    <a:pt x="39" y="0"/>
                  </a:lnTo>
                  <a:lnTo>
                    <a:pt x="39" y="1344"/>
                  </a:lnTo>
                  <a:lnTo>
                    <a:pt x="0" y="139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743120" y="3467160"/>
              <a:ext cx="65160" cy="2419200"/>
            </a:xfrm>
            <a:custGeom>
              <a:avLst/>
              <a:gdLst/>
              <a:ahLst/>
              <a:rect l="l" t="t" r="r" b="b"/>
              <a:pathLst>
                <a:path w="39" h="1395">
                  <a:moveTo>
                    <a:pt x="0" y="1395"/>
                  </a:moveTo>
                  <a:lnTo>
                    <a:pt x="0" y="51"/>
                  </a:lnTo>
                  <a:lnTo>
                    <a:pt x="39" y="0"/>
                  </a:lnTo>
                  <a:lnTo>
                    <a:pt x="39" y="1344"/>
                  </a:lnTo>
                  <a:lnTo>
                    <a:pt x="0" y="139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785960" y="5797440"/>
              <a:ext cx="393840" cy="88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26560" y="5450040"/>
              <a:ext cx="588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71600" y="5797440"/>
              <a:ext cx="393840" cy="88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223720" y="5450040"/>
              <a:ext cx="588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66960" y="5699160"/>
              <a:ext cx="395280" cy="187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20520" y="5357880"/>
              <a:ext cx="588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251160" y="5043600"/>
              <a:ext cx="395280" cy="8427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82400" y="4754520"/>
              <a:ext cx="588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749760" y="4121280"/>
              <a:ext cx="384120" cy="1765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93520" y="3882960"/>
              <a:ext cx="687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233960" y="3556080"/>
              <a:ext cx="395280" cy="2330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079160" y="3290760"/>
              <a:ext cx="687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21400" y="4211640"/>
              <a:ext cx="395280" cy="16747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587120" y="3975120"/>
              <a:ext cx="687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18200" y="4765680"/>
              <a:ext cx="393480" cy="1120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82480" y="4476600"/>
              <a:ext cx="687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02400" y="5332320"/>
              <a:ext cx="395280" cy="5540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11320" y="4995720"/>
              <a:ext cx="588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9200" y="5419800"/>
              <a:ext cx="384120" cy="4665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06680" y="5070600"/>
              <a:ext cx="588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684840" y="5699160"/>
              <a:ext cx="393840" cy="187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46c5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603480" y="5357880"/>
              <a:ext cx="588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96080" y="5923080"/>
              <a:ext cx="98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% p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20400" y="5923080"/>
              <a:ext cx="672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79400" y="5923080"/>
              <a:ext cx="672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122280" y="5923080"/>
              <a:ext cx="60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649320" y="5923080"/>
              <a:ext cx="559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81680" y="5923080"/>
              <a:ext cx="63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11880" y="5923080"/>
              <a:ext cx="703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008680" y="5923080"/>
              <a:ext cx="703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94320" y="5923080"/>
              <a:ext cx="703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978520" y="5923080"/>
              <a:ext cx="703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65600" y="5923080"/>
              <a:ext cx="1019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30% p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70080" y="3311640"/>
              <a:ext cx="19922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64040" y="4114800"/>
              <a:ext cx="18522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% of campaig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85680" y="6238800"/>
              <a:ext cx="73202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43240" y="6308640"/>
              <a:ext cx="38102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% points gained in recall after 1000 TRP'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27200" y="4324320"/>
              <a:ext cx="4240440" cy="804960"/>
            </a:xfrm>
            <a:custGeom>
              <a:avLst/>
              <a:gdLst/>
              <a:ahLst/>
              <a:rect l="l" t="t" r="r" b="b"/>
              <a:pathLst>
                <a:path w="3168" h="632">
                  <a:moveTo>
                    <a:pt x="0" y="632"/>
                  </a:moveTo>
                  <a:cubicBezTo>
                    <a:pt x="296" y="444"/>
                    <a:pt x="592" y="256"/>
                    <a:pt x="864" y="152"/>
                  </a:cubicBezTo>
                  <a:cubicBezTo>
                    <a:pt x="1136" y="48"/>
                    <a:pt x="1368" y="16"/>
                    <a:pt x="1632" y="8"/>
                  </a:cubicBezTo>
                  <a:cubicBezTo>
                    <a:pt x="1896" y="0"/>
                    <a:pt x="2192" y="16"/>
                    <a:pt x="2448" y="104"/>
                  </a:cubicBezTo>
                  <a:cubicBezTo>
                    <a:pt x="2704" y="192"/>
                    <a:pt x="3048" y="464"/>
                    <a:pt x="3168" y="536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398680" y="5129280"/>
              <a:ext cx="128520" cy="619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6683760" y="4960440"/>
              <a:ext cx="101880" cy="939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333440" y="5889600"/>
              <a:ext cx="6232680" cy="144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35200" y="3035160"/>
              <a:ext cx="59180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44440" indent="-244440"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c4796"/>
                  </a:solidFill>
                  <a:latin typeface="Arial"/>
                </a:rPr>
                <a:t>Change after 1000 TV TRPs: % of campaig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433520" y="5710320"/>
              <a:ext cx="1500120" cy="4935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72120" y="5718240"/>
              <a:ext cx="1498680" cy="4935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85960" y="6629400"/>
              <a:ext cx="356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Source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:  N.A. Ad*Graph data-b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14708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gaging and relevant touch-points seem to earn better rec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503280" y="2625840"/>
            <a:ext cx="8277480" cy="3701160"/>
            <a:chOff x="503280" y="2625840"/>
            <a:chExt cx="8277480" cy="3701160"/>
          </a:xfrm>
        </p:grpSpPr>
        <p:sp>
          <p:nvSpPr>
            <p:cNvPr id="1071" name=""/>
            <p:cNvSpPr/>
            <p:nvPr/>
          </p:nvSpPr>
          <p:spPr>
            <a:xfrm>
              <a:off x="2017440" y="2625840"/>
              <a:ext cx="5580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VG Recall across studies (when present) + Maximu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5094000"/>
              <a:ext cx="3606840" cy="140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5160" y="5108400"/>
              <a:ext cx="3606840" cy="1224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05160" y="5121000"/>
              <a:ext cx="3606840" cy="140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05160" y="5135400"/>
              <a:ext cx="3606840" cy="26640"/>
            </a:xfrm>
            <a:prstGeom prst="rect">
              <a:avLst/>
            </a:prstGeom>
            <a:solidFill>
              <a:srgbClr val="9c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05160" y="5162400"/>
              <a:ext cx="3606840" cy="122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05160" y="5175000"/>
              <a:ext cx="3606840" cy="1260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05160" y="5187960"/>
              <a:ext cx="3606840" cy="1368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05160" y="5094000"/>
              <a:ext cx="3606840" cy="1076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432240" y="4922640"/>
              <a:ext cx="2803320" cy="122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32240" y="4935240"/>
              <a:ext cx="2803320" cy="1404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32240" y="4949640"/>
              <a:ext cx="2803320" cy="122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32240" y="4962240"/>
              <a:ext cx="2803320" cy="26640"/>
            </a:xfrm>
            <a:prstGeom prst="rect">
              <a:avLst/>
            </a:prstGeom>
            <a:solidFill>
              <a:srgbClr val="9c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32240" y="4989240"/>
              <a:ext cx="2803320" cy="1260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32240" y="5002200"/>
              <a:ext cx="2803320" cy="1224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32240" y="5014800"/>
              <a:ext cx="2803320" cy="140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32240" y="4922640"/>
              <a:ext cx="2803320" cy="1062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1868400" y="3251160"/>
              <a:ext cx="4029120" cy="2612520"/>
              <a:chOff x="1868400" y="3251160"/>
              <a:chExt cx="4029120" cy="2612520"/>
            </a:xfrm>
          </p:grpSpPr>
          <p:sp>
            <p:nvSpPr>
              <p:cNvPr id="1089" name=""/>
              <p:cNvSpPr/>
              <p:nvPr/>
            </p:nvSpPr>
            <p:spPr>
              <a:xfrm>
                <a:off x="1868400" y="5771160"/>
                <a:ext cx="816120" cy="1260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868400" y="5783760"/>
                <a:ext cx="816120" cy="1224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868400" y="5796360"/>
                <a:ext cx="816120" cy="1404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868400" y="5810760"/>
                <a:ext cx="816120" cy="12600"/>
              </a:xfrm>
              <a:prstGeom prst="rect">
                <a:avLst/>
              </a:pr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68400" y="5823720"/>
                <a:ext cx="816120" cy="1260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868400" y="5836320"/>
                <a:ext cx="816120" cy="1404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68400" y="5850720"/>
                <a:ext cx="816120" cy="1260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868400" y="5771160"/>
                <a:ext cx="816120" cy="92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68400" y="5598720"/>
                <a:ext cx="81612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68400" y="5611680"/>
                <a:ext cx="816120" cy="1260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868400" y="5624640"/>
                <a:ext cx="816120" cy="140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68400" y="5638680"/>
                <a:ext cx="816120" cy="2520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868400" y="5664240"/>
                <a:ext cx="816120" cy="140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868400" y="5678280"/>
                <a:ext cx="816120" cy="1260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868400" y="5691240"/>
                <a:ext cx="81612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68400" y="5598720"/>
                <a:ext cx="816120" cy="1051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868400" y="5425200"/>
                <a:ext cx="957240" cy="144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868400" y="5439600"/>
                <a:ext cx="957240" cy="122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68400" y="5452200"/>
                <a:ext cx="957240" cy="1260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68400" y="5465160"/>
                <a:ext cx="957240" cy="2700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868400" y="5492520"/>
                <a:ext cx="957240" cy="122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68400" y="5504760"/>
                <a:ext cx="957240" cy="140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68400" y="5519160"/>
                <a:ext cx="95724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8400" y="5425200"/>
                <a:ext cx="957240" cy="1065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68400" y="5266440"/>
                <a:ext cx="1225440" cy="1404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868400" y="5280480"/>
                <a:ext cx="1225440" cy="1224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868400" y="5293080"/>
                <a:ext cx="1225440" cy="1260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868400" y="5306040"/>
                <a:ext cx="1225440" cy="14040"/>
              </a:xfrm>
              <a:prstGeom prst="rect">
                <a:avLst/>
              </a:pr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868400" y="5320080"/>
                <a:ext cx="1225440" cy="1260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868400" y="5333040"/>
                <a:ext cx="1225440" cy="1224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868400" y="5345640"/>
                <a:ext cx="1225440" cy="1440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868400" y="5266440"/>
                <a:ext cx="1225440" cy="936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868400" y="5094000"/>
                <a:ext cx="143676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868400" y="5106960"/>
                <a:ext cx="1436760" cy="140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868400" y="5121000"/>
                <a:ext cx="1436760" cy="122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868400" y="5133600"/>
                <a:ext cx="1436760" cy="2700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868400" y="5160960"/>
                <a:ext cx="1436760" cy="1260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868400" y="5173560"/>
                <a:ext cx="1436760" cy="1260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68400" y="5186520"/>
                <a:ext cx="1436760" cy="1404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868400" y="5094000"/>
                <a:ext cx="1436760" cy="1065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868400" y="4921920"/>
                <a:ext cx="156348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868400" y="4934880"/>
                <a:ext cx="1563480" cy="140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868400" y="4948920"/>
                <a:ext cx="1563480" cy="1260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868400" y="4961880"/>
                <a:ext cx="1563480" cy="2700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868400" y="4988880"/>
                <a:ext cx="1563480" cy="122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868400" y="5001480"/>
                <a:ext cx="1563480" cy="1260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868400" y="5014440"/>
                <a:ext cx="1563480" cy="1404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868400" y="4921920"/>
                <a:ext cx="1563480" cy="1065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68400" y="4762800"/>
                <a:ext cx="1563480" cy="1224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68400" y="4775400"/>
                <a:ext cx="1563480" cy="1404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868400" y="4789440"/>
                <a:ext cx="1563480" cy="1260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868400" y="4802400"/>
                <a:ext cx="1563480" cy="12600"/>
              </a:xfrm>
              <a:prstGeom prst="rect">
                <a:avLst/>
              </a:pr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868400" y="4815360"/>
                <a:ext cx="1563480" cy="1404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68400" y="4829760"/>
                <a:ext cx="1563480" cy="1224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68400" y="4842360"/>
                <a:ext cx="1563480" cy="1260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8400" y="4762800"/>
                <a:ext cx="1563480" cy="921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68400" y="4590720"/>
                <a:ext cx="156348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868400" y="4603680"/>
                <a:ext cx="1563480" cy="122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868400" y="4616280"/>
                <a:ext cx="1563480" cy="140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68400" y="4630320"/>
                <a:ext cx="1563480" cy="2556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868400" y="4656240"/>
                <a:ext cx="1563480" cy="140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868400" y="4670280"/>
                <a:ext cx="1563480" cy="1260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868400" y="4683240"/>
                <a:ext cx="1563480" cy="1224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868400" y="4590720"/>
                <a:ext cx="1563480" cy="1051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868400" y="4418280"/>
                <a:ext cx="170496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868400" y="4431240"/>
                <a:ext cx="1704960" cy="1260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868400" y="4444200"/>
                <a:ext cx="1704960" cy="140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868400" y="4458240"/>
                <a:ext cx="1704960" cy="2520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868400" y="4483800"/>
                <a:ext cx="1704960" cy="1260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868400" y="4496760"/>
                <a:ext cx="1704960" cy="140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868400" y="4511160"/>
                <a:ext cx="170496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868400" y="4418280"/>
                <a:ext cx="1704960" cy="1051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868400" y="4259160"/>
                <a:ext cx="1915920" cy="1260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868400" y="4272120"/>
                <a:ext cx="1915920" cy="1260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868400" y="4285080"/>
                <a:ext cx="1915920" cy="1404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868400" y="4299120"/>
                <a:ext cx="1915920" cy="12600"/>
              </a:xfrm>
              <a:prstGeom prst="rect">
                <a:avLst/>
              </a:pr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868400" y="4312080"/>
                <a:ext cx="1915920" cy="1224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868400" y="4324680"/>
                <a:ext cx="1915920" cy="1404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868400" y="4338720"/>
                <a:ext cx="1915920" cy="1260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868400" y="4259160"/>
                <a:ext cx="1915920" cy="92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68400" y="4085640"/>
                <a:ext cx="2182680" cy="144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868400" y="4100040"/>
                <a:ext cx="2182680" cy="122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68400" y="4112640"/>
                <a:ext cx="2182680" cy="1260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868400" y="4125600"/>
                <a:ext cx="2182680" cy="2700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868400" y="4152600"/>
                <a:ext cx="2182680" cy="122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68400" y="4165200"/>
                <a:ext cx="2182680" cy="1440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868400" y="4179600"/>
                <a:ext cx="2182680" cy="1224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868400" y="4085640"/>
                <a:ext cx="2182680" cy="1065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868400" y="3913560"/>
                <a:ext cx="218268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868400" y="3926520"/>
                <a:ext cx="2182680" cy="140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868400" y="3940920"/>
                <a:ext cx="2182680" cy="122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8400" y="3953520"/>
                <a:ext cx="2182680" cy="2700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68400" y="3980520"/>
                <a:ext cx="2182680" cy="1260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868400" y="3993480"/>
                <a:ext cx="2182680" cy="1260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868400" y="4006440"/>
                <a:ext cx="2182680" cy="1404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868400" y="3913560"/>
                <a:ext cx="2182680" cy="1065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868400" y="3754440"/>
                <a:ext cx="2930400" cy="1404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868400" y="3768480"/>
                <a:ext cx="2930400" cy="1260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68400" y="3781440"/>
                <a:ext cx="2930400" cy="1224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868400" y="3794040"/>
                <a:ext cx="2930400" cy="14400"/>
              </a:xfrm>
              <a:prstGeom prst="rect">
                <a:avLst/>
              </a:pr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868400" y="3808440"/>
                <a:ext cx="2930400" cy="1224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868400" y="3821040"/>
                <a:ext cx="2930400" cy="1260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868400" y="3834000"/>
                <a:ext cx="2930400" cy="1404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868400" y="3754440"/>
                <a:ext cx="2930400" cy="936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868400" y="3582360"/>
                <a:ext cx="319716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868400" y="3594960"/>
                <a:ext cx="3197160" cy="140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868400" y="3609360"/>
                <a:ext cx="3197160" cy="1260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868400" y="3622320"/>
                <a:ext cx="3197160" cy="2700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868400" y="3649320"/>
                <a:ext cx="3197160" cy="122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868400" y="3661920"/>
                <a:ext cx="3197160" cy="1260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68400" y="3674880"/>
                <a:ext cx="3197160" cy="1404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868400" y="3582360"/>
                <a:ext cx="3197160" cy="1065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868400" y="3410280"/>
                <a:ext cx="347976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868400" y="3423240"/>
                <a:ext cx="3479760" cy="122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868400" y="3435840"/>
                <a:ext cx="3479760" cy="140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68400" y="3449880"/>
                <a:ext cx="3479760" cy="25560"/>
              </a:xfrm>
              <a:prstGeom prst="rect">
                <a:avLst/>
              </a:prstGeom>
              <a:solidFill>
                <a:srgbClr val="a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868400" y="3475800"/>
                <a:ext cx="3479760" cy="14040"/>
              </a:xfrm>
              <a:prstGeom prst="rect">
                <a:avLst/>
              </a:prstGeom>
              <a:solidFill>
                <a:srgbClr val="8d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868400" y="3489840"/>
                <a:ext cx="3479760" cy="12240"/>
              </a:xfrm>
              <a:prstGeom prst="rect">
                <a:avLst/>
              </a:prstGeom>
              <a:solidFill>
                <a:srgbClr val="606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868400" y="3502440"/>
                <a:ext cx="3479760" cy="12600"/>
              </a:xfrm>
              <a:prstGeom prst="rect">
                <a:avLst/>
              </a:prstGeom>
              <a:solidFill>
                <a:srgbClr val="29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68400" y="3410280"/>
                <a:ext cx="3479760" cy="1051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868400" y="3251160"/>
                <a:ext cx="3747960" cy="1260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868400" y="3263760"/>
                <a:ext cx="3747960" cy="1224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868400" y="3276360"/>
                <a:ext cx="3747960" cy="1404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868400" y="3290760"/>
                <a:ext cx="3747960" cy="12600"/>
              </a:xfrm>
              <a:prstGeom prst="rect">
                <a:avLst/>
              </a:prstGeom>
              <a:solidFill>
                <a:srgbClr val="a6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868400" y="3303720"/>
                <a:ext cx="3747960" cy="12600"/>
              </a:xfrm>
              <a:prstGeom prst="rect">
                <a:avLst/>
              </a:prstGeom>
              <a:solidFill>
                <a:srgbClr val="979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868400" y="3316320"/>
                <a:ext cx="3747960" cy="14040"/>
              </a:xfrm>
              <a:prstGeom prst="rect">
                <a:avLst/>
              </a:prstGeom>
              <a:solidFill>
                <a:srgbClr val="6b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868400" y="3330720"/>
                <a:ext cx="3747960" cy="12600"/>
              </a:xfrm>
              <a:prstGeom prst="rect">
                <a:avLst/>
              </a:prstGeom>
              <a:solidFill>
                <a:srgbClr val="2d2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868400" y="3251160"/>
                <a:ext cx="3747960" cy="92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684520" y="5771160"/>
                <a:ext cx="676080" cy="12600"/>
              </a:xfrm>
              <a:prstGeom prst="rect">
                <a:avLst/>
              </a:prstGeom>
              <a:solidFill>
                <a:srgbClr val="2c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684520" y="5783760"/>
                <a:ext cx="676080" cy="12240"/>
              </a:xfrm>
              <a:prstGeom prst="rect">
                <a:avLst/>
              </a:prstGeom>
              <a:solidFill>
                <a:srgbClr val="66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684520" y="5796360"/>
                <a:ext cx="676080" cy="14040"/>
              </a:xfrm>
              <a:prstGeom prst="rect">
                <a:avLst/>
              </a:prstGeom>
              <a:solidFill>
                <a:srgbClr val="90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84520" y="5810760"/>
                <a:ext cx="676080" cy="12600"/>
              </a:xfrm>
              <a:prstGeom prst="rect">
                <a:avLst/>
              </a:prstGeom>
              <a:solidFill>
                <a:srgbClr val="9f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84520" y="5823720"/>
                <a:ext cx="676080" cy="12600"/>
              </a:xfrm>
              <a:prstGeom prst="rect">
                <a:avLst/>
              </a:prstGeom>
              <a:solidFill>
                <a:srgbClr val="90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684520" y="5836320"/>
                <a:ext cx="676080" cy="14040"/>
              </a:xfrm>
              <a:prstGeom prst="rect">
                <a:avLst/>
              </a:prstGeom>
              <a:solidFill>
                <a:srgbClr val="66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84520" y="5850720"/>
                <a:ext cx="676080" cy="12600"/>
              </a:xfrm>
              <a:prstGeom prst="rect">
                <a:avLst/>
              </a:prstGeom>
              <a:solidFill>
                <a:srgbClr val="2c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684520" y="5771160"/>
                <a:ext cx="676080" cy="92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684520" y="5598720"/>
                <a:ext cx="1099800" cy="12600"/>
              </a:xfrm>
              <a:prstGeom prst="rect">
                <a:avLst/>
              </a:prstGeom>
              <a:solidFill>
                <a:srgbClr val="28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684520" y="5611680"/>
                <a:ext cx="1099800" cy="12600"/>
              </a:xfrm>
              <a:prstGeom prst="rect">
                <a:avLst/>
              </a:prstGeom>
              <a:solidFill>
                <a:srgbClr val="5c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684520" y="5624640"/>
                <a:ext cx="1099800" cy="14040"/>
              </a:xfrm>
              <a:prstGeom prst="rect">
                <a:avLst/>
              </a:prstGeom>
              <a:solidFill>
                <a:srgbClr val="8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84520" y="5638680"/>
                <a:ext cx="1099800" cy="25200"/>
              </a:xfrm>
              <a:prstGeom prst="rect">
                <a:avLst/>
              </a:prstGeom>
              <a:solidFill>
                <a:srgbClr val="9c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684520" y="5664240"/>
                <a:ext cx="1099800" cy="14040"/>
              </a:xfrm>
              <a:prstGeom prst="rect">
                <a:avLst/>
              </a:prstGeom>
              <a:solidFill>
                <a:srgbClr val="8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684520" y="5678280"/>
                <a:ext cx="1099800" cy="12600"/>
              </a:xfrm>
              <a:prstGeom prst="rect">
                <a:avLst/>
              </a:prstGeom>
              <a:solidFill>
                <a:srgbClr val="5c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684520" y="5691240"/>
                <a:ext cx="1099800" cy="12600"/>
              </a:xfrm>
              <a:prstGeom prst="rect">
                <a:avLst/>
              </a:prstGeom>
              <a:solidFill>
                <a:srgbClr val="28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684520" y="5598720"/>
                <a:ext cx="1099800" cy="1051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825640" y="5425200"/>
                <a:ext cx="2663640" cy="14400"/>
              </a:xfrm>
              <a:prstGeom prst="rect">
                <a:avLst/>
              </a:prstGeom>
              <a:solidFill>
                <a:srgbClr val="28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825640" y="5439600"/>
                <a:ext cx="2663640" cy="12240"/>
              </a:xfrm>
              <a:prstGeom prst="rect">
                <a:avLst/>
              </a:prstGeom>
              <a:solidFill>
                <a:srgbClr val="5c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825640" y="5452200"/>
                <a:ext cx="2663640" cy="12600"/>
              </a:xfrm>
              <a:prstGeom prst="rect">
                <a:avLst/>
              </a:prstGeom>
              <a:solidFill>
                <a:srgbClr val="8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825640" y="5465160"/>
                <a:ext cx="2663640" cy="27000"/>
              </a:xfrm>
              <a:prstGeom prst="rect">
                <a:avLst/>
              </a:prstGeom>
              <a:solidFill>
                <a:srgbClr val="9c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25640" y="5492520"/>
                <a:ext cx="2663640" cy="12240"/>
              </a:xfrm>
              <a:prstGeom prst="rect">
                <a:avLst/>
              </a:prstGeom>
              <a:solidFill>
                <a:srgbClr val="8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825640" y="5504760"/>
                <a:ext cx="2663640" cy="14040"/>
              </a:xfrm>
              <a:prstGeom prst="rect">
                <a:avLst/>
              </a:prstGeom>
              <a:solidFill>
                <a:srgbClr val="5c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25640" y="5519160"/>
                <a:ext cx="2663640" cy="12600"/>
              </a:xfrm>
              <a:prstGeom prst="rect">
                <a:avLst/>
              </a:prstGeom>
              <a:solidFill>
                <a:srgbClr val="28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825640" y="5425200"/>
                <a:ext cx="2663640" cy="1065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093840" y="5266440"/>
                <a:ext cx="2733840" cy="14040"/>
              </a:xfrm>
              <a:prstGeom prst="rect">
                <a:avLst/>
              </a:prstGeom>
              <a:solidFill>
                <a:srgbClr val="2c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093840" y="5280480"/>
                <a:ext cx="2733840" cy="12240"/>
              </a:xfrm>
              <a:prstGeom prst="rect">
                <a:avLst/>
              </a:prstGeom>
              <a:solidFill>
                <a:srgbClr val="66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93840" y="5293080"/>
                <a:ext cx="2733840" cy="12600"/>
              </a:xfrm>
              <a:prstGeom prst="rect">
                <a:avLst/>
              </a:prstGeom>
              <a:solidFill>
                <a:srgbClr val="90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93840" y="5306040"/>
                <a:ext cx="2733840" cy="14040"/>
              </a:xfrm>
              <a:prstGeom prst="rect">
                <a:avLst/>
              </a:prstGeom>
              <a:solidFill>
                <a:srgbClr val="9f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3840" y="5320080"/>
                <a:ext cx="2733840" cy="12600"/>
              </a:xfrm>
              <a:prstGeom prst="rect">
                <a:avLst/>
              </a:prstGeom>
              <a:solidFill>
                <a:srgbClr val="90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093840" y="5333040"/>
                <a:ext cx="2733840" cy="12240"/>
              </a:xfrm>
              <a:prstGeom prst="rect">
                <a:avLst/>
              </a:prstGeom>
              <a:solidFill>
                <a:srgbClr val="66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093840" y="5345640"/>
                <a:ext cx="2733840" cy="14400"/>
              </a:xfrm>
              <a:prstGeom prst="rect">
                <a:avLst/>
              </a:prstGeom>
              <a:solidFill>
                <a:srgbClr val="2c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093840" y="5266440"/>
                <a:ext cx="2733840" cy="936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431880" y="4762800"/>
                <a:ext cx="2184480" cy="12240"/>
              </a:xfrm>
              <a:prstGeom prst="rect">
                <a:avLst/>
              </a:prstGeom>
              <a:solidFill>
                <a:srgbClr val="2c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431880" y="4775400"/>
                <a:ext cx="2184480" cy="14040"/>
              </a:xfrm>
              <a:prstGeom prst="rect">
                <a:avLst/>
              </a:prstGeom>
              <a:solidFill>
                <a:srgbClr val="66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431880" y="4789440"/>
                <a:ext cx="2184480" cy="12600"/>
              </a:xfrm>
              <a:prstGeom prst="rect">
                <a:avLst/>
              </a:prstGeom>
              <a:solidFill>
                <a:srgbClr val="90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431880" y="4802400"/>
                <a:ext cx="2184480" cy="12600"/>
              </a:xfrm>
              <a:prstGeom prst="rect">
                <a:avLst/>
              </a:prstGeom>
              <a:solidFill>
                <a:srgbClr val="9f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431880" y="4815360"/>
                <a:ext cx="2184480" cy="14040"/>
              </a:xfrm>
              <a:prstGeom prst="rect">
                <a:avLst/>
              </a:prstGeom>
              <a:solidFill>
                <a:srgbClr val="90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431880" y="4829760"/>
                <a:ext cx="2184480" cy="12240"/>
              </a:xfrm>
              <a:prstGeom prst="rect">
                <a:avLst/>
              </a:prstGeom>
              <a:solidFill>
                <a:srgbClr val="66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431880" y="4842360"/>
                <a:ext cx="2184480" cy="12600"/>
              </a:xfrm>
              <a:prstGeom prst="rect">
                <a:avLst/>
              </a:prstGeom>
              <a:solidFill>
                <a:srgbClr val="2c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431880" y="4762800"/>
                <a:ext cx="2184480" cy="921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431880" y="4590720"/>
                <a:ext cx="2465640" cy="12600"/>
              </a:xfrm>
              <a:prstGeom prst="rect">
                <a:avLst/>
              </a:prstGeom>
              <a:solidFill>
                <a:srgbClr val="28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431880" y="4603680"/>
                <a:ext cx="2465640" cy="12240"/>
              </a:xfrm>
              <a:prstGeom prst="rect">
                <a:avLst/>
              </a:prstGeom>
              <a:solidFill>
                <a:srgbClr val="5c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431880" y="4616280"/>
                <a:ext cx="2465640" cy="14040"/>
              </a:xfrm>
              <a:prstGeom prst="rect">
                <a:avLst/>
              </a:prstGeom>
              <a:solidFill>
                <a:srgbClr val="8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431880" y="4630320"/>
                <a:ext cx="2465640" cy="25560"/>
              </a:xfrm>
              <a:prstGeom prst="rect">
                <a:avLst/>
              </a:prstGeom>
              <a:solidFill>
                <a:srgbClr val="9c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31880" y="4656240"/>
                <a:ext cx="2465640" cy="14040"/>
              </a:xfrm>
              <a:prstGeom prst="rect">
                <a:avLst/>
              </a:prstGeom>
              <a:solidFill>
                <a:srgbClr val="87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431880" y="4670280"/>
                <a:ext cx="2465640" cy="12600"/>
              </a:xfrm>
              <a:prstGeom prst="rect">
                <a:avLst/>
              </a:prstGeom>
              <a:solidFill>
                <a:srgbClr val="5c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431880" y="4683240"/>
                <a:ext cx="2465640" cy="12240"/>
              </a:xfrm>
              <a:prstGeom prst="rect">
                <a:avLst/>
              </a:prstGeom>
              <a:solidFill>
                <a:srgbClr val="28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431880" y="4590720"/>
                <a:ext cx="2465640" cy="1051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3573360" y="4419360"/>
              <a:ext cx="3621240" cy="1260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573360" y="4432320"/>
              <a:ext cx="3621240" cy="1224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573360" y="4444920"/>
              <a:ext cx="3621240" cy="140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73360" y="4459320"/>
              <a:ext cx="3621240" cy="24840"/>
            </a:xfrm>
            <a:prstGeom prst="rect">
              <a:avLst/>
            </a:prstGeom>
            <a:solidFill>
              <a:srgbClr val="9c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573360" y="4484520"/>
              <a:ext cx="3621240" cy="122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573360" y="4497120"/>
              <a:ext cx="3621240" cy="1404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73360" y="4511520"/>
              <a:ext cx="3621240" cy="122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573360" y="4419360"/>
              <a:ext cx="3621240" cy="1044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84680" y="4260600"/>
              <a:ext cx="3409920" cy="12600"/>
            </a:xfrm>
            <a:prstGeom prst="rect">
              <a:avLst/>
            </a:prstGeom>
            <a:solidFill>
              <a:srgbClr val="2c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784680" y="4273560"/>
              <a:ext cx="3409920" cy="12240"/>
            </a:xfrm>
            <a:prstGeom prst="rect">
              <a:avLst/>
            </a:prstGeom>
            <a:solidFill>
              <a:srgbClr val="66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84680" y="4286160"/>
              <a:ext cx="3409920" cy="14040"/>
            </a:xfrm>
            <a:prstGeom prst="rect">
              <a:avLst/>
            </a:prstGeom>
            <a:solidFill>
              <a:srgbClr val="9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784680" y="4300560"/>
              <a:ext cx="3409920" cy="12240"/>
            </a:xfrm>
            <a:prstGeom prst="rect">
              <a:avLst/>
            </a:prstGeom>
            <a:solidFill>
              <a:srgbClr val="9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784680" y="4313160"/>
              <a:ext cx="3409920" cy="12240"/>
            </a:xfrm>
            <a:prstGeom prst="rect">
              <a:avLst/>
            </a:prstGeom>
            <a:solidFill>
              <a:srgbClr val="9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784680" y="4325760"/>
              <a:ext cx="3409920" cy="14040"/>
            </a:xfrm>
            <a:prstGeom prst="rect">
              <a:avLst/>
            </a:prstGeom>
            <a:solidFill>
              <a:srgbClr val="66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784680" y="4340160"/>
              <a:ext cx="3409920" cy="12240"/>
            </a:xfrm>
            <a:prstGeom prst="rect">
              <a:avLst/>
            </a:prstGeom>
            <a:solidFill>
              <a:srgbClr val="2c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784680" y="4260600"/>
              <a:ext cx="3409920" cy="918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51440" y="4086000"/>
              <a:ext cx="2184120" cy="140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51440" y="4100400"/>
              <a:ext cx="2184120" cy="1224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51440" y="4113000"/>
              <a:ext cx="2184120" cy="122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51440" y="4125600"/>
              <a:ext cx="2184120" cy="26640"/>
            </a:xfrm>
            <a:prstGeom prst="rect">
              <a:avLst/>
            </a:prstGeom>
            <a:solidFill>
              <a:srgbClr val="9c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051440" y="4152600"/>
              <a:ext cx="2184120" cy="1260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051440" y="4165560"/>
              <a:ext cx="2184120" cy="1368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51440" y="4179600"/>
              <a:ext cx="2184120" cy="140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51440" y="4086000"/>
              <a:ext cx="2184120" cy="1076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51440" y="3914640"/>
              <a:ext cx="3889080" cy="122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1440" y="3927240"/>
              <a:ext cx="3889080" cy="1404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51440" y="3941640"/>
              <a:ext cx="3889080" cy="122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51440" y="3954240"/>
              <a:ext cx="3889080" cy="26640"/>
            </a:xfrm>
            <a:prstGeom prst="rect">
              <a:avLst/>
            </a:prstGeom>
            <a:solidFill>
              <a:srgbClr val="9c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51440" y="3981240"/>
              <a:ext cx="3889080" cy="122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051440" y="3993840"/>
              <a:ext cx="3889080" cy="1260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051440" y="4006800"/>
              <a:ext cx="3889080" cy="1368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051440" y="3914640"/>
              <a:ext cx="3889080" cy="105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799160" y="3755880"/>
              <a:ext cx="2592360" cy="14040"/>
            </a:xfrm>
            <a:prstGeom prst="rect">
              <a:avLst/>
            </a:prstGeom>
            <a:solidFill>
              <a:srgbClr val="2c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799160" y="3770280"/>
              <a:ext cx="2592360" cy="12240"/>
            </a:xfrm>
            <a:prstGeom prst="rect">
              <a:avLst/>
            </a:prstGeom>
            <a:solidFill>
              <a:srgbClr val="66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799160" y="3782880"/>
              <a:ext cx="2592360" cy="12240"/>
            </a:xfrm>
            <a:prstGeom prst="rect">
              <a:avLst/>
            </a:prstGeom>
            <a:solidFill>
              <a:srgbClr val="9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799160" y="3795480"/>
              <a:ext cx="2592360" cy="14040"/>
            </a:xfrm>
            <a:prstGeom prst="rect">
              <a:avLst/>
            </a:prstGeom>
            <a:solidFill>
              <a:srgbClr val="9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799160" y="3809880"/>
              <a:ext cx="2592360" cy="12240"/>
            </a:xfrm>
            <a:prstGeom prst="rect">
              <a:avLst/>
            </a:prstGeom>
            <a:solidFill>
              <a:srgbClr val="9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799160" y="3822480"/>
              <a:ext cx="2592360" cy="12600"/>
            </a:xfrm>
            <a:prstGeom prst="rect">
              <a:avLst/>
            </a:prstGeom>
            <a:solidFill>
              <a:srgbClr val="66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99160" y="3835440"/>
              <a:ext cx="2592360" cy="13680"/>
            </a:xfrm>
            <a:prstGeom prst="rect">
              <a:avLst/>
            </a:prstGeom>
            <a:solidFill>
              <a:srgbClr val="2c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799160" y="3755880"/>
              <a:ext cx="2592360" cy="932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65560" y="3582720"/>
              <a:ext cx="2254320" cy="1260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65560" y="3595680"/>
              <a:ext cx="2254320" cy="1368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65560" y="3609720"/>
              <a:ext cx="2254320" cy="1260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65560" y="3622680"/>
              <a:ext cx="2254320" cy="26640"/>
            </a:xfrm>
            <a:prstGeom prst="rect">
              <a:avLst/>
            </a:prstGeom>
            <a:solidFill>
              <a:srgbClr val="9c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65560" y="3649680"/>
              <a:ext cx="2254320" cy="122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65560" y="3662280"/>
              <a:ext cx="2254320" cy="1224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65560" y="3674880"/>
              <a:ext cx="2254320" cy="140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65560" y="3582720"/>
              <a:ext cx="2254320" cy="1062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348160" y="3411360"/>
              <a:ext cx="2381400" cy="122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348160" y="3423960"/>
              <a:ext cx="2381400" cy="1260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348160" y="3436920"/>
              <a:ext cx="2381400" cy="1368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348160" y="3450960"/>
              <a:ext cx="2381400" cy="25200"/>
            </a:xfrm>
            <a:prstGeom prst="rect">
              <a:avLst/>
            </a:prstGeom>
            <a:solidFill>
              <a:srgbClr val="9c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348160" y="3476520"/>
              <a:ext cx="2381400" cy="14040"/>
            </a:xfrm>
            <a:prstGeom prst="rect">
              <a:avLst/>
            </a:prstGeom>
            <a:solidFill>
              <a:srgbClr val="87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348160" y="3490920"/>
              <a:ext cx="2381400" cy="12240"/>
            </a:xfrm>
            <a:prstGeom prst="rect">
              <a:avLst/>
            </a:prstGeom>
            <a:solidFill>
              <a:srgbClr val="5c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348160" y="3503520"/>
              <a:ext cx="2381400" cy="12240"/>
            </a:xfrm>
            <a:prstGeom prst="rect">
              <a:avLst/>
            </a:prstGeom>
            <a:solidFill>
              <a:srgbClr val="28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348160" y="3411360"/>
              <a:ext cx="2381400" cy="1044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16720" y="3251160"/>
              <a:ext cx="1985760" cy="13680"/>
            </a:xfrm>
            <a:prstGeom prst="rect">
              <a:avLst/>
            </a:prstGeom>
            <a:solidFill>
              <a:srgbClr val="2c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16720" y="3265200"/>
              <a:ext cx="1985760" cy="12600"/>
            </a:xfrm>
            <a:prstGeom prst="rect">
              <a:avLst/>
            </a:prstGeom>
            <a:solidFill>
              <a:srgbClr val="66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616720" y="3278160"/>
              <a:ext cx="1985760" cy="13680"/>
            </a:xfrm>
            <a:prstGeom prst="rect">
              <a:avLst/>
            </a:prstGeom>
            <a:solidFill>
              <a:srgbClr val="9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616720" y="3292200"/>
              <a:ext cx="1985760" cy="12600"/>
            </a:xfrm>
            <a:prstGeom prst="rect">
              <a:avLst/>
            </a:prstGeom>
            <a:solidFill>
              <a:srgbClr val="9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616720" y="3305160"/>
              <a:ext cx="1985760" cy="12240"/>
            </a:xfrm>
            <a:prstGeom prst="rect">
              <a:avLst/>
            </a:prstGeom>
            <a:solidFill>
              <a:srgbClr val="9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16720" y="3317760"/>
              <a:ext cx="1985760" cy="14040"/>
            </a:xfrm>
            <a:prstGeom prst="rect">
              <a:avLst/>
            </a:prstGeom>
            <a:solidFill>
              <a:srgbClr val="66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16720" y="3332160"/>
              <a:ext cx="1985760" cy="12240"/>
            </a:xfrm>
            <a:prstGeom prst="rect">
              <a:avLst/>
            </a:prstGeom>
            <a:solidFill>
              <a:srgbClr val="2c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616720" y="3251160"/>
              <a:ext cx="1985760" cy="932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868400" y="6064200"/>
              <a:ext cx="6818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1868400" y="606420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2544840" y="606420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3235320" y="606420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911760" y="606420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4600440" y="606420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5278320" y="606420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5954760" y="606420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6643800" y="606420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7319880" y="606420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8010360" y="606420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8686800" y="606420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811160" y="606420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25200" y="6159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46200" y="6159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34880" y="6159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811320" y="6159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501800" y="6159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78240" y="6159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854320" y="6159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544800" y="6159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1240" y="6159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911720" y="6159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546760" y="61592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3" name=""/>
            <p:cNvGrpSpPr/>
            <p:nvPr/>
          </p:nvGrpSpPr>
          <p:grpSpPr>
            <a:xfrm>
              <a:off x="503280" y="3039840"/>
              <a:ext cx="1366920" cy="3064680"/>
              <a:chOff x="503280" y="3039840"/>
              <a:chExt cx="1366920" cy="3064680"/>
            </a:xfrm>
          </p:grpSpPr>
          <p:sp>
            <p:nvSpPr>
              <p:cNvPr id="1354" name=""/>
              <p:cNvSpPr/>
              <p:nvPr/>
            </p:nvSpPr>
            <p:spPr>
              <a:xfrm>
                <a:off x="1868760" y="3039840"/>
                <a:ext cx="1440" cy="302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811520" y="588996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811520" y="573120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811520" y="555876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811520" y="538560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811520" y="522612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811520" y="50540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811520" y="488232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811520" y="472284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811520" y="455076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811520" y="437904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811520" y="421956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811520" y="404604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811520" y="387396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811520" y="371520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811520" y="354276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811520" y="337068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811520" y="321156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811520" y="3039840"/>
                <a:ext cx="57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46480" y="5875920"/>
                <a:ext cx="120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Coupon Inser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937440" y="5703840"/>
                <a:ext cx="83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Magazin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66800" y="5531760"/>
                <a:ext cx="1000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On-line Ad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106640" y="5372640"/>
                <a:ext cx="659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Cinem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092240" y="5202000"/>
                <a:ext cx="681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In-Stor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12360" y="5028480"/>
                <a:ext cx="1162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Sponsorship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966960" y="4869360"/>
                <a:ext cx="794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ews/P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092240" y="4697280"/>
                <a:ext cx="649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oster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093320" y="4524120"/>
                <a:ext cx="659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mo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261800" y="4364640"/>
                <a:ext cx="50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Radio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03280" y="4191120"/>
                <a:ext cx="1256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Word of Mouth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332000" y="4020840"/>
                <a:ext cx="401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O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57160" y="3861360"/>
                <a:ext cx="916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elevision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304280" y="3689280"/>
                <a:ext cx="436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94600" y="3515760"/>
                <a:ext cx="84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"Look"/Ar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96600" y="3356640"/>
                <a:ext cx="1096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erformanc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065240" y="3184920"/>
                <a:ext cx="713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Channel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0" name=""/>
            <p:cNvSpPr/>
            <p:nvPr/>
          </p:nvSpPr>
          <p:spPr>
            <a:xfrm>
              <a:off x="1881360" y="5919480"/>
              <a:ext cx="815760" cy="12600"/>
            </a:xfrm>
            <a:prstGeom prst="rect">
              <a:avLst/>
            </a:prstGeom>
            <a:solidFill>
              <a:srgbClr val="2d2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881360" y="5932440"/>
              <a:ext cx="815760" cy="12240"/>
            </a:xfrm>
            <a:prstGeom prst="rect">
              <a:avLst/>
            </a:prstGeom>
            <a:solidFill>
              <a:srgbClr val="6b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881360" y="5945040"/>
              <a:ext cx="815760" cy="14040"/>
            </a:xfrm>
            <a:prstGeom prst="rect">
              <a:avLst/>
            </a:prstGeom>
            <a:solidFill>
              <a:srgbClr val="97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881360" y="5959440"/>
              <a:ext cx="815760" cy="12240"/>
            </a:xfrm>
            <a:prstGeom prst="rect">
              <a:avLst/>
            </a:prstGeom>
            <a:solidFill>
              <a:srgbClr val="a6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881360" y="5972040"/>
              <a:ext cx="815760" cy="12240"/>
            </a:xfrm>
            <a:prstGeom prst="rect">
              <a:avLst/>
            </a:prstGeom>
            <a:solidFill>
              <a:srgbClr val="97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881360" y="5984640"/>
              <a:ext cx="815760" cy="14040"/>
            </a:xfrm>
            <a:prstGeom prst="rect">
              <a:avLst/>
            </a:prstGeom>
            <a:solidFill>
              <a:srgbClr val="6b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881360" y="5999040"/>
              <a:ext cx="815760" cy="12240"/>
            </a:xfrm>
            <a:prstGeom prst="rect">
              <a:avLst/>
            </a:prstGeom>
            <a:solidFill>
              <a:srgbClr val="2d2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881360" y="5919480"/>
              <a:ext cx="815760" cy="918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8" name=""/>
            <p:cNvGrpSpPr/>
            <p:nvPr/>
          </p:nvGrpSpPr>
          <p:grpSpPr>
            <a:xfrm>
              <a:off x="2697120" y="5921280"/>
              <a:ext cx="2053080" cy="90000"/>
              <a:chOff x="2697120" y="5921280"/>
              <a:chExt cx="2053080" cy="90000"/>
            </a:xfrm>
          </p:grpSpPr>
          <p:sp>
            <p:nvSpPr>
              <p:cNvPr id="1399" name=""/>
              <p:cNvSpPr/>
              <p:nvPr/>
            </p:nvSpPr>
            <p:spPr>
              <a:xfrm>
                <a:off x="2697120" y="5921280"/>
                <a:ext cx="2053080" cy="12240"/>
              </a:xfrm>
              <a:prstGeom prst="rect">
                <a:avLst/>
              </a:prstGeom>
              <a:solidFill>
                <a:srgbClr val="2c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697120" y="5933520"/>
                <a:ext cx="2053080" cy="12240"/>
              </a:xfrm>
              <a:prstGeom prst="rect">
                <a:avLst/>
              </a:prstGeom>
              <a:solidFill>
                <a:srgbClr val="66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697120" y="5946120"/>
                <a:ext cx="2053080" cy="13680"/>
              </a:xfrm>
              <a:prstGeom prst="rect">
                <a:avLst/>
              </a:prstGeom>
              <a:solidFill>
                <a:srgbClr val="90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697120" y="5959800"/>
                <a:ext cx="2053080" cy="12240"/>
              </a:xfrm>
              <a:prstGeom prst="rect">
                <a:avLst/>
              </a:prstGeom>
              <a:solidFill>
                <a:srgbClr val="9f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697120" y="5972400"/>
                <a:ext cx="2053080" cy="12240"/>
              </a:xfrm>
              <a:prstGeom prst="rect">
                <a:avLst/>
              </a:prstGeom>
              <a:solidFill>
                <a:srgbClr val="90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697120" y="5984640"/>
                <a:ext cx="2053080" cy="14040"/>
              </a:xfrm>
              <a:prstGeom prst="rect">
                <a:avLst/>
              </a:prstGeom>
              <a:solidFill>
                <a:srgbClr val="66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697120" y="5999040"/>
                <a:ext cx="2053080" cy="12240"/>
              </a:xfrm>
              <a:prstGeom prst="rect">
                <a:avLst/>
              </a:prstGeom>
              <a:solidFill>
                <a:srgbClr val="2c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697120" y="5921280"/>
                <a:ext cx="2053080" cy="900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4632480" y="2952720"/>
              <a:ext cx="177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verage        </a:t>
              </a: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436680" y="1389240"/>
            <a:ext cx="827064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uch-points which seem to work best are those that lend themselv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g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where the creative content can be relevant or rewar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pposite to the more passive touch-points such as billboards, web banners, radio, sports stadium posters, etc, which tend to earn low recall, and often achieve low impact (due to low engagement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The Channel/Store is big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36680" y="1315800"/>
            <a:ext cx="827064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hann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ribution) plays an important role.  This is likely a reflection of conveniently finding/seeing the brand for purc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theless, seeing the brand becomes important because this allows consumers to assess the “look” and to learn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SzPct val="12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articularly important for NON-Users who are less familiar and less receptive to communications for products they do not us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080" indent="-312120">
              <a:lnSpc>
                <a:spcPct val="80000"/>
              </a:lnSpc>
              <a:spcBef>
                <a:spcPts val="499"/>
              </a:spcBef>
              <a:buClr>
                <a:srgbClr val="7b7bad"/>
              </a:buClr>
              <a:buSzPct val="12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ee ‘channel’ playing a bigger role for NON-Users perhaps because they are very difficult to intercept with paid media.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-store is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ddition to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tribution/cha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-store promo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s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l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o on,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SzPct val="10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ategories, such activities are the most important.  But perhaps this is not ideal since relying on such “price” characteristics does not lead to long term br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r Holistic Advertising Philosoph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1680" y="1488960"/>
            <a:ext cx="7953480" cy="497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1500"/>
              </a:spcBef>
              <a:buClr>
                <a:srgbClr val="00479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all new and traditional advertising touch-points can work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ts val="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1500"/>
              </a:spcBef>
              <a:buClr>
                <a:srgbClr val="00479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main concern is HOW well each touch-points works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red to the alternate use of the mone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80000"/>
              </a:lnSpc>
              <a:spcBef>
                <a:spcPts val="901"/>
              </a:spcBef>
              <a:buClr>
                <a:srgbClr val="008080"/>
              </a:buClr>
              <a:buSzPct val="11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l about efficiency and effic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80000"/>
              </a:lnSpc>
              <a:spcBef>
                <a:spcPts val="901"/>
              </a:spcBef>
              <a:buClr>
                <a:srgbClr val="008080"/>
              </a:buClr>
              <a:buSzPct val="11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bout each touch-poi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1500"/>
              </a:spcBef>
              <a:buClr>
                <a:srgbClr val="00479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touch-points work in different ways, among different targets, for different purposes/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80000"/>
              </a:lnSpc>
              <a:spcBef>
                <a:spcPts val="901"/>
              </a:spcBef>
              <a:buClr>
                <a:srgbClr val="008080"/>
              </a:buClr>
              <a:buSzPct val="11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o assess the touch-points in the context of the brand’s objectives and tar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52080" y="27756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ore 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2282760" y="1841400"/>
            <a:ext cx="4511520" cy="4422960"/>
            <a:chOff x="2282760" y="1841400"/>
            <a:chExt cx="4511520" cy="4422960"/>
          </a:xfrm>
        </p:grpSpPr>
        <p:sp>
          <p:nvSpPr>
            <p:cNvPr id="1413" name=""/>
            <p:cNvSpPr/>
            <p:nvPr/>
          </p:nvSpPr>
          <p:spPr>
            <a:xfrm>
              <a:off x="4854240" y="2513160"/>
              <a:ext cx="1433520" cy="13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0" y="532"/>
                  </a:moveTo>
                  <a:lnTo>
                    <a:pt x="595" y="0"/>
                  </a:lnTo>
                  <a:lnTo>
                    <a:pt x="595" y="42"/>
                  </a:lnTo>
                  <a:lnTo>
                    <a:pt x="0" y="574"/>
                  </a:lnTo>
                  <a:lnTo>
                    <a:pt x="0" y="5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854240" y="1895400"/>
              <a:ext cx="1433520" cy="1874880"/>
            </a:xfrm>
            <a:custGeom>
              <a:avLst/>
              <a:gdLst/>
              <a:ahLst/>
              <a:rect l="l" t="t" r="r" b="b"/>
              <a:pathLst>
                <a:path w="595" h="793">
                  <a:moveTo>
                    <a:pt x="0" y="0"/>
                  </a:moveTo>
                  <a:lnTo>
                    <a:pt x="21" y="0"/>
                  </a:lnTo>
                  <a:lnTo>
                    <a:pt x="52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36" y="10"/>
                  </a:lnTo>
                  <a:lnTo>
                    <a:pt x="167" y="10"/>
                  </a:lnTo>
                  <a:lnTo>
                    <a:pt x="188" y="21"/>
                  </a:lnTo>
                  <a:lnTo>
                    <a:pt x="219" y="31"/>
                  </a:lnTo>
                  <a:lnTo>
                    <a:pt x="250" y="31"/>
                  </a:lnTo>
                  <a:lnTo>
                    <a:pt x="271" y="42"/>
                  </a:lnTo>
                  <a:lnTo>
                    <a:pt x="303" y="52"/>
                  </a:lnTo>
                  <a:lnTo>
                    <a:pt x="324" y="62"/>
                  </a:lnTo>
                  <a:lnTo>
                    <a:pt x="355" y="73"/>
                  </a:lnTo>
                  <a:lnTo>
                    <a:pt x="376" y="94"/>
                  </a:lnTo>
                  <a:lnTo>
                    <a:pt x="397" y="104"/>
                  </a:lnTo>
                  <a:lnTo>
                    <a:pt x="428" y="115"/>
                  </a:lnTo>
                  <a:lnTo>
                    <a:pt x="449" y="136"/>
                  </a:lnTo>
                  <a:lnTo>
                    <a:pt x="470" y="146"/>
                  </a:lnTo>
                  <a:lnTo>
                    <a:pt x="491" y="167"/>
                  </a:lnTo>
                  <a:lnTo>
                    <a:pt x="511" y="188"/>
                  </a:lnTo>
                  <a:lnTo>
                    <a:pt x="532" y="198"/>
                  </a:lnTo>
                  <a:lnTo>
                    <a:pt x="553" y="219"/>
                  </a:lnTo>
                  <a:lnTo>
                    <a:pt x="574" y="240"/>
                  </a:lnTo>
                  <a:lnTo>
                    <a:pt x="595" y="261"/>
                  </a:lnTo>
                  <a:lnTo>
                    <a:pt x="0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91040" y="3770280"/>
              <a:ext cx="3240" cy="17136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854240" y="3770280"/>
              <a:ext cx="1936800" cy="147600"/>
            </a:xfrm>
            <a:custGeom>
              <a:avLst/>
              <a:gdLst/>
              <a:ahLst/>
              <a:rect l="l" t="t" r="r" b="b"/>
              <a:pathLst>
                <a:path w="804" h="63">
                  <a:moveTo>
                    <a:pt x="0" y="0"/>
                  </a:moveTo>
                  <a:lnTo>
                    <a:pt x="804" y="21"/>
                  </a:lnTo>
                  <a:lnTo>
                    <a:pt x="804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854240" y="2513160"/>
              <a:ext cx="1936800" cy="1331640"/>
            </a:xfrm>
            <a:custGeom>
              <a:avLst/>
              <a:gdLst/>
              <a:ahLst/>
              <a:rect l="l" t="t" r="r" b="b"/>
              <a:pathLst>
                <a:path w="804" h="564">
                  <a:moveTo>
                    <a:pt x="595" y="0"/>
                  </a:moveTo>
                  <a:lnTo>
                    <a:pt x="616" y="21"/>
                  </a:lnTo>
                  <a:lnTo>
                    <a:pt x="626" y="42"/>
                  </a:lnTo>
                  <a:lnTo>
                    <a:pt x="647" y="63"/>
                  </a:lnTo>
                  <a:lnTo>
                    <a:pt x="658" y="73"/>
                  </a:lnTo>
                  <a:lnTo>
                    <a:pt x="668" y="104"/>
                  </a:lnTo>
                  <a:lnTo>
                    <a:pt x="689" y="125"/>
                  </a:lnTo>
                  <a:lnTo>
                    <a:pt x="699" y="146"/>
                  </a:lnTo>
                  <a:lnTo>
                    <a:pt x="710" y="177"/>
                  </a:lnTo>
                  <a:lnTo>
                    <a:pt x="731" y="198"/>
                  </a:lnTo>
                  <a:lnTo>
                    <a:pt x="731" y="209"/>
                  </a:lnTo>
                  <a:lnTo>
                    <a:pt x="741" y="240"/>
                  </a:lnTo>
                  <a:lnTo>
                    <a:pt x="752" y="261"/>
                  </a:lnTo>
                  <a:lnTo>
                    <a:pt x="762" y="292"/>
                  </a:lnTo>
                  <a:lnTo>
                    <a:pt x="772" y="313"/>
                  </a:lnTo>
                  <a:lnTo>
                    <a:pt x="772" y="344"/>
                  </a:lnTo>
                  <a:lnTo>
                    <a:pt x="783" y="355"/>
                  </a:lnTo>
                  <a:lnTo>
                    <a:pt x="783" y="386"/>
                  </a:lnTo>
                  <a:lnTo>
                    <a:pt x="793" y="407"/>
                  </a:lnTo>
                  <a:lnTo>
                    <a:pt x="793" y="438"/>
                  </a:lnTo>
                  <a:lnTo>
                    <a:pt x="793" y="470"/>
                  </a:lnTo>
                  <a:lnTo>
                    <a:pt x="804" y="491"/>
                  </a:lnTo>
                  <a:lnTo>
                    <a:pt x="804" y="512"/>
                  </a:lnTo>
                  <a:lnTo>
                    <a:pt x="804" y="532"/>
                  </a:lnTo>
                  <a:lnTo>
                    <a:pt x="804" y="564"/>
                  </a:lnTo>
                  <a:lnTo>
                    <a:pt x="0" y="53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287760" y="3844800"/>
              <a:ext cx="503280" cy="1284480"/>
            </a:xfrm>
            <a:custGeom>
              <a:avLst/>
              <a:gdLst/>
              <a:ahLst/>
              <a:rect l="l" t="t" r="r" b="b"/>
              <a:pathLst>
                <a:path w="209" h="543">
                  <a:moveTo>
                    <a:pt x="209" y="0"/>
                  </a:moveTo>
                  <a:lnTo>
                    <a:pt x="209" y="31"/>
                  </a:lnTo>
                  <a:lnTo>
                    <a:pt x="198" y="52"/>
                  </a:lnTo>
                  <a:lnTo>
                    <a:pt x="198" y="83"/>
                  </a:lnTo>
                  <a:lnTo>
                    <a:pt x="198" y="115"/>
                  </a:lnTo>
                  <a:lnTo>
                    <a:pt x="188" y="135"/>
                  </a:lnTo>
                  <a:lnTo>
                    <a:pt x="188" y="146"/>
                  </a:lnTo>
                  <a:lnTo>
                    <a:pt x="177" y="177"/>
                  </a:lnTo>
                  <a:lnTo>
                    <a:pt x="167" y="209"/>
                  </a:lnTo>
                  <a:lnTo>
                    <a:pt x="167" y="229"/>
                  </a:lnTo>
                  <a:lnTo>
                    <a:pt x="157" y="261"/>
                  </a:lnTo>
                  <a:lnTo>
                    <a:pt x="146" y="282"/>
                  </a:lnTo>
                  <a:lnTo>
                    <a:pt x="136" y="313"/>
                  </a:lnTo>
                  <a:lnTo>
                    <a:pt x="115" y="334"/>
                  </a:lnTo>
                  <a:lnTo>
                    <a:pt x="104" y="355"/>
                  </a:lnTo>
                  <a:lnTo>
                    <a:pt x="94" y="386"/>
                  </a:lnTo>
                  <a:lnTo>
                    <a:pt x="83" y="396"/>
                  </a:lnTo>
                  <a:lnTo>
                    <a:pt x="73" y="417"/>
                  </a:lnTo>
                  <a:lnTo>
                    <a:pt x="52" y="438"/>
                  </a:lnTo>
                  <a:lnTo>
                    <a:pt x="31" y="459"/>
                  </a:lnTo>
                  <a:lnTo>
                    <a:pt x="21" y="480"/>
                  </a:lnTo>
                  <a:lnTo>
                    <a:pt x="0" y="501"/>
                  </a:lnTo>
                  <a:lnTo>
                    <a:pt x="0" y="543"/>
                  </a:lnTo>
                  <a:lnTo>
                    <a:pt x="21" y="522"/>
                  </a:lnTo>
                  <a:lnTo>
                    <a:pt x="31" y="501"/>
                  </a:lnTo>
                  <a:lnTo>
                    <a:pt x="52" y="480"/>
                  </a:lnTo>
                  <a:lnTo>
                    <a:pt x="73" y="459"/>
                  </a:lnTo>
                  <a:lnTo>
                    <a:pt x="83" y="438"/>
                  </a:lnTo>
                  <a:lnTo>
                    <a:pt x="94" y="428"/>
                  </a:lnTo>
                  <a:lnTo>
                    <a:pt x="104" y="396"/>
                  </a:lnTo>
                  <a:lnTo>
                    <a:pt x="115" y="376"/>
                  </a:lnTo>
                  <a:lnTo>
                    <a:pt x="136" y="355"/>
                  </a:lnTo>
                  <a:lnTo>
                    <a:pt x="146" y="323"/>
                  </a:lnTo>
                  <a:lnTo>
                    <a:pt x="157" y="303"/>
                  </a:lnTo>
                  <a:lnTo>
                    <a:pt x="167" y="271"/>
                  </a:lnTo>
                  <a:lnTo>
                    <a:pt x="167" y="250"/>
                  </a:lnTo>
                  <a:lnTo>
                    <a:pt x="177" y="219"/>
                  </a:lnTo>
                  <a:lnTo>
                    <a:pt x="188" y="188"/>
                  </a:lnTo>
                  <a:lnTo>
                    <a:pt x="188" y="177"/>
                  </a:lnTo>
                  <a:lnTo>
                    <a:pt x="198" y="156"/>
                  </a:lnTo>
                  <a:lnTo>
                    <a:pt x="198" y="125"/>
                  </a:lnTo>
                  <a:lnTo>
                    <a:pt x="198" y="94"/>
                  </a:lnTo>
                  <a:lnTo>
                    <a:pt x="209" y="73"/>
                  </a:lnTo>
                  <a:lnTo>
                    <a:pt x="209" y="41"/>
                  </a:lnTo>
                  <a:lnTo>
                    <a:pt x="209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54240" y="3770280"/>
              <a:ext cx="1433520" cy="135900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0" y="0"/>
                  </a:moveTo>
                  <a:lnTo>
                    <a:pt x="595" y="533"/>
                  </a:lnTo>
                  <a:lnTo>
                    <a:pt x="595" y="5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54240" y="3770280"/>
              <a:ext cx="1936800" cy="1258920"/>
            </a:xfrm>
            <a:custGeom>
              <a:avLst/>
              <a:gdLst/>
              <a:ahLst/>
              <a:rect l="l" t="t" r="r" b="b"/>
              <a:pathLst>
                <a:path w="804" h="533">
                  <a:moveTo>
                    <a:pt x="804" y="32"/>
                  </a:moveTo>
                  <a:lnTo>
                    <a:pt x="804" y="63"/>
                  </a:lnTo>
                  <a:lnTo>
                    <a:pt x="793" y="84"/>
                  </a:lnTo>
                  <a:lnTo>
                    <a:pt x="793" y="115"/>
                  </a:lnTo>
                  <a:lnTo>
                    <a:pt x="793" y="147"/>
                  </a:lnTo>
                  <a:lnTo>
                    <a:pt x="783" y="167"/>
                  </a:lnTo>
                  <a:lnTo>
                    <a:pt x="783" y="178"/>
                  </a:lnTo>
                  <a:lnTo>
                    <a:pt x="772" y="209"/>
                  </a:lnTo>
                  <a:lnTo>
                    <a:pt x="762" y="241"/>
                  </a:lnTo>
                  <a:lnTo>
                    <a:pt x="762" y="261"/>
                  </a:lnTo>
                  <a:lnTo>
                    <a:pt x="752" y="293"/>
                  </a:lnTo>
                  <a:lnTo>
                    <a:pt x="741" y="314"/>
                  </a:lnTo>
                  <a:lnTo>
                    <a:pt x="731" y="345"/>
                  </a:lnTo>
                  <a:lnTo>
                    <a:pt x="710" y="366"/>
                  </a:lnTo>
                  <a:lnTo>
                    <a:pt x="699" y="387"/>
                  </a:lnTo>
                  <a:lnTo>
                    <a:pt x="689" y="418"/>
                  </a:lnTo>
                  <a:lnTo>
                    <a:pt x="678" y="428"/>
                  </a:lnTo>
                  <a:lnTo>
                    <a:pt x="668" y="449"/>
                  </a:lnTo>
                  <a:lnTo>
                    <a:pt x="647" y="470"/>
                  </a:lnTo>
                  <a:lnTo>
                    <a:pt x="626" y="491"/>
                  </a:lnTo>
                  <a:lnTo>
                    <a:pt x="616" y="512"/>
                  </a:lnTo>
                  <a:lnTo>
                    <a:pt x="595" y="533"/>
                  </a:lnTo>
                  <a:lnTo>
                    <a:pt x="0" y="0"/>
                  </a:lnTo>
                  <a:lnTo>
                    <a:pt x="804" y="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230440" y="5448240"/>
              <a:ext cx="879480" cy="641520"/>
            </a:xfrm>
            <a:custGeom>
              <a:avLst/>
              <a:gdLst/>
              <a:ahLst/>
              <a:rect l="l" t="t" r="r" b="b"/>
              <a:pathLst>
                <a:path w="365" h="271">
                  <a:moveTo>
                    <a:pt x="365" y="0"/>
                  </a:moveTo>
                  <a:lnTo>
                    <a:pt x="344" y="21"/>
                  </a:lnTo>
                  <a:lnTo>
                    <a:pt x="334" y="31"/>
                  </a:lnTo>
                  <a:lnTo>
                    <a:pt x="313" y="52"/>
                  </a:lnTo>
                  <a:lnTo>
                    <a:pt x="292" y="73"/>
                  </a:lnTo>
                  <a:lnTo>
                    <a:pt x="271" y="94"/>
                  </a:lnTo>
                  <a:lnTo>
                    <a:pt x="261" y="104"/>
                  </a:lnTo>
                  <a:lnTo>
                    <a:pt x="240" y="115"/>
                  </a:lnTo>
                  <a:lnTo>
                    <a:pt x="219" y="136"/>
                  </a:lnTo>
                  <a:lnTo>
                    <a:pt x="198" y="146"/>
                  </a:lnTo>
                  <a:lnTo>
                    <a:pt x="177" y="157"/>
                  </a:lnTo>
                  <a:lnTo>
                    <a:pt x="156" y="167"/>
                  </a:lnTo>
                  <a:lnTo>
                    <a:pt x="135" y="177"/>
                  </a:lnTo>
                  <a:lnTo>
                    <a:pt x="125" y="188"/>
                  </a:lnTo>
                  <a:lnTo>
                    <a:pt x="94" y="198"/>
                  </a:lnTo>
                  <a:lnTo>
                    <a:pt x="73" y="209"/>
                  </a:lnTo>
                  <a:lnTo>
                    <a:pt x="41" y="219"/>
                  </a:lnTo>
                  <a:lnTo>
                    <a:pt x="31" y="230"/>
                  </a:lnTo>
                  <a:lnTo>
                    <a:pt x="0" y="230"/>
                  </a:lnTo>
                  <a:lnTo>
                    <a:pt x="0" y="271"/>
                  </a:lnTo>
                  <a:lnTo>
                    <a:pt x="31" y="271"/>
                  </a:lnTo>
                  <a:lnTo>
                    <a:pt x="41" y="261"/>
                  </a:lnTo>
                  <a:lnTo>
                    <a:pt x="73" y="251"/>
                  </a:lnTo>
                  <a:lnTo>
                    <a:pt x="94" y="240"/>
                  </a:lnTo>
                  <a:lnTo>
                    <a:pt x="125" y="230"/>
                  </a:lnTo>
                  <a:lnTo>
                    <a:pt x="135" y="219"/>
                  </a:lnTo>
                  <a:lnTo>
                    <a:pt x="156" y="209"/>
                  </a:lnTo>
                  <a:lnTo>
                    <a:pt x="177" y="198"/>
                  </a:lnTo>
                  <a:lnTo>
                    <a:pt x="198" y="188"/>
                  </a:lnTo>
                  <a:lnTo>
                    <a:pt x="219" y="177"/>
                  </a:lnTo>
                  <a:lnTo>
                    <a:pt x="240" y="157"/>
                  </a:lnTo>
                  <a:lnTo>
                    <a:pt x="261" y="146"/>
                  </a:lnTo>
                  <a:lnTo>
                    <a:pt x="271" y="136"/>
                  </a:lnTo>
                  <a:lnTo>
                    <a:pt x="292" y="115"/>
                  </a:lnTo>
                  <a:lnTo>
                    <a:pt x="313" y="94"/>
                  </a:lnTo>
                  <a:lnTo>
                    <a:pt x="334" y="73"/>
                  </a:lnTo>
                  <a:lnTo>
                    <a:pt x="344" y="63"/>
                  </a:lnTo>
                  <a:lnTo>
                    <a:pt x="365" y="42"/>
                  </a:lnTo>
                  <a:lnTo>
                    <a:pt x="36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676400" y="4189320"/>
              <a:ext cx="554040" cy="1900440"/>
            </a:xfrm>
            <a:custGeom>
              <a:avLst/>
              <a:gdLst/>
              <a:ahLst/>
              <a:rect l="l" t="t" r="r" b="b"/>
              <a:pathLst>
                <a:path w="230" h="804">
                  <a:moveTo>
                    <a:pt x="0" y="0"/>
                  </a:moveTo>
                  <a:lnTo>
                    <a:pt x="230" y="763"/>
                  </a:lnTo>
                  <a:lnTo>
                    <a:pt x="230" y="804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6400" y="4189320"/>
              <a:ext cx="1433520" cy="1803600"/>
            </a:xfrm>
            <a:custGeom>
              <a:avLst/>
              <a:gdLst/>
              <a:ahLst/>
              <a:rect l="l" t="t" r="r" b="b"/>
              <a:pathLst>
                <a:path w="595" h="763">
                  <a:moveTo>
                    <a:pt x="595" y="533"/>
                  </a:moveTo>
                  <a:lnTo>
                    <a:pt x="574" y="554"/>
                  </a:lnTo>
                  <a:lnTo>
                    <a:pt x="564" y="564"/>
                  </a:lnTo>
                  <a:lnTo>
                    <a:pt x="543" y="585"/>
                  </a:lnTo>
                  <a:lnTo>
                    <a:pt x="522" y="606"/>
                  </a:lnTo>
                  <a:lnTo>
                    <a:pt x="501" y="627"/>
                  </a:lnTo>
                  <a:lnTo>
                    <a:pt x="491" y="637"/>
                  </a:lnTo>
                  <a:lnTo>
                    <a:pt x="470" y="648"/>
                  </a:lnTo>
                  <a:lnTo>
                    <a:pt x="449" y="669"/>
                  </a:lnTo>
                  <a:lnTo>
                    <a:pt x="428" y="679"/>
                  </a:lnTo>
                  <a:lnTo>
                    <a:pt x="407" y="690"/>
                  </a:lnTo>
                  <a:lnTo>
                    <a:pt x="386" y="700"/>
                  </a:lnTo>
                  <a:lnTo>
                    <a:pt x="365" y="710"/>
                  </a:lnTo>
                  <a:lnTo>
                    <a:pt x="355" y="721"/>
                  </a:lnTo>
                  <a:lnTo>
                    <a:pt x="324" y="731"/>
                  </a:lnTo>
                  <a:lnTo>
                    <a:pt x="303" y="742"/>
                  </a:lnTo>
                  <a:lnTo>
                    <a:pt x="271" y="752"/>
                  </a:lnTo>
                  <a:lnTo>
                    <a:pt x="261" y="763"/>
                  </a:lnTo>
                  <a:lnTo>
                    <a:pt x="230" y="763"/>
                  </a:lnTo>
                  <a:lnTo>
                    <a:pt x="0" y="0"/>
                  </a:lnTo>
                  <a:lnTo>
                    <a:pt x="595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46200" y="6068880"/>
              <a:ext cx="806760" cy="195480"/>
            </a:xfrm>
            <a:custGeom>
              <a:avLst/>
              <a:gdLst/>
              <a:ahLst/>
              <a:rect l="l" t="t" r="r" b="b"/>
              <a:pathLst>
                <a:path w="335" h="83">
                  <a:moveTo>
                    <a:pt x="335" y="0"/>
                  </a:moveTo>
                  <a:lnTo>
                    <a:pt x="314" y="10"/>
                  </a:lnTo>
                  <a:lnTo>
                    <a:pt x="282" y="21"/>
                  </a:lnTo>
                  <a:lnTo>
                    <a:pt x="251" y="21"/>
                  </a:lnTo>
                  <a:lnTo>
                    <a:pt x="230" y="31"/>
                  </a:lnTo>
                  <a:lnTo>
                    <a:pt x="199" y="31"/>
                  </a:lnTo>
                  <a:lnTo>
                    <a:pt x="167" y="31"/>
                  </a:lnTo>
                  <a:lnTo>
                    <a:pt x="147" y="41"/>
                  </a:lnTo>
                  <a:lnTo>
                    <a:pt x="115" y="41"/>
                  </a:lnTo>
                  <a:lnTo>
                    <a:pt x="84" y="41"/>
                  </a:lnTo>
                  <a:lnTo>
                    <a:pt x="63" y="41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73"/>
                  </a:lnTo>
                  <a:lnTo>
                    <a:pt x="32" y="73"/>
                  </a:lnTo>
                  <a:lnTo>
                    <a:pt x="63" y="83"/>
                  </a:lnTo>
                  <a:lnTo>
                    <a:pt x="84" y="83"/>
                  </a:lnTo>
                  <a:lnTo>
                    <a:pt x="115" y="83"/>
                  </a:lnTo>
                  <a:lnTo>
                    <a:pt x="147" y="83"/>
                  </a:lnTo>
                  <a:lnTo>
                    <a:pt x="167" y="73"/>
                  </a:lnTo>
                  <a:lnTo>
                    <a:pt x="199" y="73"/>
                  </a:lnTo>
                  <a:lnTo>
                    <a:pt x="230" y="73"/>
                  </a:lnTo>
                  <a:lnTo>
                    <a:pt x="251" y="62"/>
                  </a:lnTo>
                  <a:lnTo>
                    <a:pt x="282" y="62"/>
                  </a:lnTo>
                  <a:lnTo>
                    <a:pt x="314" y="52"/>
                  </a:lnTo>
                  <a:lnTo>
                    <a:pt x="335" y="41"/>
                  </a:lnTo>
                  <a:lnTo>
                    <a:pt x="33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46200" y="4265640"/>
              <a:ext cx="806760" cy="1900080"/>
            </a:xfrm>
            <a:custGeom>
              <a:avLst/>
              <a:gdLst/>
              <a:ahLst/>
              <a:rect l="l" t="t" r="r" b="b"/>
              <a:pathLst>
                <a:path w="335" h="804">
                  <a:moveTo>
                    <a:pt x="335" y="763"/>
                  </a:moveTo>
                  <a:lnTo>
                    <a:pt x="314" y="773"/>
                  </a:lnTo>
                  <a:lnTo>
                    <a:pt x="282" y="784"/>
                  </a:lnTo>
                  <a:lnTo>
                    <a:pt x="251" y="784"/>
                  </a:lnTo>
                  <a:lnTo>
                    <a:pt x="230" y="794"/>
                  </a:lnTo>
                  <a:lnTo>
                    <a:pt x="199" y="794"/>
                  </a:lnTo>
                  <a:lnTo>
                    <a:pt x="167" y="794"/>
                  </a:lnTo>
                  <a:lnTo>
                    <a:pt x="147" y="804"/>
                  </a:lnTo>
                  <a:lnTo>
                    <a:pt x="115" y="804"/>
                  </a:lnTo>
                  <a:lnTo>
                    <a:pt x="84" y="804"/>
                  </a:lnTo>
                  <a:lnTo>
                    <a:pt x="63" y="804"/>
                  </a:lnTo>
                  <a:lnTo>
                    <a:pt x="32" y="794"/>
                  </a:lnTo>
                  <a:lnTo>
                    <a:pt x="0" y="794"/>
                  </a:lnTo>
                  <a:lnTo>
                    <a:pt x="105" y="0"/>
                  </a:lnTo>
                  <a:lnTo>
                    <a:pt x="335" y="76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516120" y="5943600"/>
              <a:ext cx="628560" cy="2970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261" y="84"/>
                  </a:moveTo>
                  <a:lnTo>
                    <a:pt x="241" y="84"/>
                  </a:lnTo>
                  <a:lnTo>
                    <a:pt x="220" y="84"/>
                  </a:lnTo>
                  <a:lnTo>
                    <a:pt x="199" y="74"/>
                  </a:lnTo>
                  <a:lnTo>
                    <a:pt x="167" y="63"/>
                  </a:lnTo>
                  <a:lnTo>
                    <a:pt x="157" y="63"/>
                  </a:lnTo>
                  <a:lnTo>
                    <a:pt x="126" y="53"/>
                  </a:lnTo>
                  <a:lnTo>
                    <a:pt x="105" y="53"/>
                  </a:lnTo>
                  <a:lnTo>
                    <a:pt x="84" y="42"/>
                  </a:lnTo>
                  <a:lnTo>
                    <a:pt x="63" y="32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1" y="63"/>
                  </a:lnTo>
                  <a:lnTo>
                    <a:pt x="32" y="63"/>
                  </a:lnTo>
                  <a:lnTo>
                    <a:pt x="63" y="74"/>
                  </a:lnTo>
                  <a:lnTo>
                    <a:pt x="84" y="84"/>
                  </a:lnTo>
                  <a:lnTo>
                    <a:pt x="105" y="94"/>
                  </a:lnTo>
                  <a:lnTo>
                    <a:pt x="126" y="94"/>
                  </a:lnTo>
                  <a:lnTo>
                    <a:pt x="157" y="105"/>
                  </a:lnTo>
                  <a:lnTo>
                    <a:pt x="167" y="105"/>
                  </a:lnTo>
                  <a:lnTo>
                    <a:pt x="199" y="115"/>
                  </a:lnTo>
                  <a:lnTo>
                    <a:pt x="220" y="126"/>
                  </a:lnTo>
                  <a:lnTo>
                    <a:pt x="241" y="126"/>
                  </a:lnTo>
                  <a:lnTo>
                    <a:pt x="261" y="126"/>
                  </a:lnTo>
                  <a:lnTo>
                    <a:pt x="261" y="8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516120" y="4253040"/>
              <a:ext cx="880920" cy="1876320"/>
            </a:xfrm>
            <a:custGeom>
              <a:avLst/>
              <a:gdLst/>
              <a:ahLst/>
              <a:rect l="l" t="t" r="r" b="b"/>
              <a:pathLst>
                <a:path w="366" h="794">
                  <a:moveTo>
                    <a:pt x="261" y="794"/>
                  </a:moveTo>
                  <a:lnTo>
                    <a:pt x="241" y="794"/>
                  </a:lnTo>
                  <a:lnTo>
                    <a:pt x="220" y="794"/>
                  </a:lnTo>
                  <a:lnTo>
                    <a:pt x="199" y="784"/>
                  </a:lnTo>
                  <a:lnTo>
                    <a:pt x="167" y="773"/>
                  </a:lnTo>
                  <a:lnTo>
                    <a:pt x="157" y="773"/>
                  </a:lnTo>
                  <a:lnTo>
                    <a:pt x="126" y="763"/>
                  </a:lnTo>
                  <a:lnTo>
                    <a:pt x="105" y="763"/>
                  </a:lnTo>
                  <a:lnTo>
                    <a:pt x="84" y="752"/>
                  </a:lnTo>
                  <a:lnTo>
                    <a:pt x="63" y="742"/>
                  </a:lnTo>
                  <a:lnTo>
                    <a:pt x="32" y="731"/>
                  </a:lnTo>
                  <a:lnTo>
                    <a:pt x="21" y="731"/>
                  </a:lnTo>
                  <a:lnTo>
                    <a:pt x="0" y="710"/>
                  </a:lnTo>
                  <a:lnTo>
                    <a:pt x="366" y="0"/>
                  </a:lnTo>
                  <a:lnTo>
                    <a:pt x="261" y="79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146480" y="4265640"/>
              <a:ext cx="225360" cy="1974960"/>
            </a:xfrm>
            <a:custGeom>
              <a:avLst/>
              <a:gdLst/>
              <a:ahLst/>
              <a:rect l="l" t="t" r="r" b="b"/>
              <a:pathLst>
                <a:path w="94" h="836">
                  <a:moveTo>
                    <a:pt x="94" y="0"/>
                  </a:moveTo>
                  <a:lnTo>
                    <a:pt x="0" y="794"/>
                  </a:lnTo>
                  <a:lnTo>
                    <a:pt x="0" y="836"/>
                  </a:lnTo>
                  <a:lnTo>
                    <a:pt x="94" y="42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2760" y="3705120"/>
              <a:ext cx="1936440" cy="567000"/>
            </a:xfrm>
            <a:custGeom>
              <a:avLst/>
              <a:gdLst/>
              <a:ahLst/>
              <a:rect l="l" t="t" r="r" b="b"/>
              <a:pathLst>
                <a:path w="804" h="240">
                  <a:moveTo>
                    <a:pt x="0" y="240"/>
                  </a:moveTo>
                  <a:lnTo>
                    <a:pt x="0" y="209"/>
                  </a:lnTo>
                  <a:lnTo>
                    <a:pt x="0" y="188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84"/>
                  </a:lnTo>
                  <a:lnTo>
                    <a:pt x="0" y="63"/>
                  </a:lnTo>
                  <a:lnTo>
                    <a:pt x="10" y="32"/>
                  </a:lnTo>
                  <a:lnTo>
                    <a:pt x="10" y="0"/>
                  </a:lnTo>
                  <a:lnTo>
                    <a:pt x="804" y="167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293560" y="4113360"/>
              <a:ext cx="1913040" cy="247680"/>
            </a:xfrm>
            <a:custGeom>
              <a:avLst/>
              <a:gdLst/>
              <a:ahLst/>
              <a:rect l="l" t="t" r="r" b="b"/>
              <a:pathLst>
                <a:path w="794" h="105">
                  <a:moveTo>
                    <a:pt x="794" y="0"/>
                  </a:moveTo>
                  <a:lnTo>
                    <a:pt x="0" y="63"/>
                  </a:lnTo>
                  <a:lnTo>
                    <a:pt x="0" y="105"/>
                  </a:lnTo>
                  <a:lnTo>
                    <a:pt x="794" y="42"/>
                  </a:lnTo>
                  <a:lnTo>
                    <a:pt x="7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1" name=""/>
            <p:cNvGrpSpPr/>
            <p:nvPr/>
          </p:nvGrpSpPr>
          <p:grpSpPr>
            <a:xfrm>
              <a:off x="2842920" y="2214720"/>
              <a:ext cx="1433520" cy="1650960"/>
              <a:chOff x="2842920" y="2214720"/>
              <a:chExt cx="1433520" cy="1650960"/>
            </a:xfrm>
          </p:grpSpPr>
          <p:sp>
            <p:nvSpPr>
              <p:cNvPr id="1432" name=""/>
              <p:cNvSpPr/>
              <p:nvPr/>
            </p:nvSpPr>
            <p:spPr>
              <a:xfrm>
                <a:off x="2842920" y="2509920"/>
                <a:ext cx="1433520" cy="1355760"/>
              </a:xfrm>
              <a:custGeom>
                <a:avLst/>
                <a:gdLst/>
                <a:ahLst/>
                <a:rect l="l" t="t" r="r" b="b"/>
                <a:pathLst>
                  <a:path w="595" h="574">
                    <a:moveTo>
                      <a:pt x="595" y="532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595" y="574"/>
                    </a:lnTo>
                    <a:lnTo>
                      <a:pt x="595" y="53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842920" y="2214720"/>
                <a:ext cx="1433520" cy="1552680"/>
              </a:xfrm>
              <a:custGeom>
                <a:avLst/>
                <a:gdLst/>
                <a:ahLst/>
                <a:rect l="l" t="t" r="r" b="b"/>
                <a:pathLst>
                  <a:path w="595" h="657">
                    <a:moveTo>
                      <a:pt x="0" y="125"/>
                    </a:moveTo>
                    <a:lnTo>
                      <a:pt x="10" y="104"/>
                    </a:lnTo>
                    <a:lnTo>
                      <a:pt x="21" y="94"/>
                    </a:lnTo>
                    <a:lnTo>
                      <a:pt x="41" y="73"/>
                    </a:lnTo>
                    <a:lnTo>
                      <a:pt x="52" y="62"/>
                    </a:lnTo>
                    <a:lnTo>
                      <a:pt x="73" y="52"/>
                    </a:lnTo>
                    <a:lnTo>
                      <a:pt x="83" y="41"/>
                    </a:lnTo>
                    <a:lnTo>
                      <a:pt x="104" y="20"/>
                    </a:lnTo>
                    <a:lnTo>
                      <a:pt x="115" y="10"/>
                    </a:lnTo>
                    <a:lnTo>
                      <a:pt x="146" y="0"/>
                    </a:lnTo>
                    <a:lnTo>
                      <a:pt x="595" y="657"/>
                    </a:lnTo>
                    <a:lnTo>
                      <a:pt x="0" y="125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4" name=""/>
            <p:cNvSpPr/>
            <p:nvPr/>
          </p:nvSpPr>
          <p:spPr>
            <a:xfrm>
              <a:off x="4251240" y="1841400"/>
              <a:ext cx="101520" cy="1973520"/>
            </a:xfrm>
            <a:custGeom>
              <a:avLst/>
              <a:gdLst/>
              <a:ahLst/>
              <a:rect l="l" t="t" r="r" b="b"/>
              <a:pathLst>
                <a:path w="42" h="835">
                  <a:moveTo>
                    <a:pt x="42" y="793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42" y="835"/>
                  </a:lnTo>
                  <a:lnTo>
                    <a:pt x="42" y="79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79840" y="1854360"/>
              <a:ext cx="101520" cy="187452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001760" y="1841400"/>
              <a:ext cx="351000" cy="1874880"/>
            </a:xfrm>
            <a:custGeom>
              <a:avLst/>
              <a:gdLst/>
              <a:ahLst/>
              <a:rect l="l" t="t" r="r" b="b"/>
              <a:pathLst>
                <a:path w="146" h="793">
                  <a:moveTo>
                    <a:pt x="0" y="10"/>
                  </a:moveTo>
                  <a:lnTo>
                    <a:pt x="21" y="10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46" y="793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774960" y="1865160"/>
              <a:ext cx="577800" cy="1851120"/>
            </a:xfrm>
            <a:custGeom>
              <a:avLst/>
              <a:gdLst/>
              <a:ahLst/>
              <a:rect l="l" t="t" r="r" b="b"/>
              <a:pathLst>
                <a:path w="240" h="783">
                  <a:moveTo>
                    <a:pt x="0" y="21"/>
                  </a:moveTo>
                  <a:lnTo>
                    <a:pt x="21" y="21"/>
                  </a:lnTo>
                  <a:lnTo>
                    <a:pt x="31" y="11"/>
                  </a:lnTo>
                  <a:lnTo>
                    <a:pt x="52" y="11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240" y="783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73360" y="1989000"/>
              <a:ext cx="779400" cy="1825920"/>
            </a:xfrm>
            <a:custGeom>
              <a:avLst/>
              <a:gdLst/>
              <a:ahLst/>
              <a:rect l="l" t="t" r="r" b="b"/>
              <a:pathLst>
                <a:path w="324" h="773">
                  <a:moveTo>
                    <a:pt x="324" y="731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324" y="773"/>
                  </a:lnTo>
                  <a:lnTo>
                    <a:pt x="324" y="7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547800" y="1914480"/>
              <a:ext cx="804960" cy="1801800"/>
            </a:xfrm>
            <a:custGeom>
              <a:avLst/>
              <a:gdLst/>
              <a:ahLst/>
              <a:rect l="l" t="t" r="r" b="b"/>
              <a:pathLst>
                <a:path w="334" h="762">
                  <a:moveTo>
                    <a:pt x="0" y="31"/>
                  </a:moveTo>
                  <a:lnTo>
                    <a:pt x="21" y="31"/>
                  </a:lnTo>
                  <a:lnTo>
                    <a:pt x="31" y="21"/>
                  </a:lnTo>
                  <a:lnTo>
                    <a:pt x="52" y="11"/>
                  </a:lnTo>
                  <a:lnTo>
                    <a:pt x="73" y="11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334" y="762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71680" y="2163600"/>
              <a:ext cx="1081080" cy="1651320"/>
            </a:xfrm>
            <a:custGeom>
              <a:avLst/>
              <a:gdLst/>
              <a:ahLst/>
              <a:rect l="l" t="t" r="r" b="b"/>
              <a:pathLst>
                <a:path w="449" h="699">
                  <a:moveTo>
                    <a:pt x="449" y="657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449" y="699"/>
                  </a:lnTo>
                  <a:lnTo>
                    <a:pt x="449" y="65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271680" y="1989000"/>
              <a:ext cx="1081080" cy="1727280"/>
            </a:xfrm>
            <a:custGeom>
              <a:avLst/>
              <a:gdLst/>
              <a:ahLst/>
              <a:rect l="l" t="t" r="r" b="b"/>
              <a:pathLst>
                <a:path w="449" h="731">
                  <a:moveTo>
                    <a:pt x="0" y="74"/>
                  </a:moveTo>
                  <a:lnTo>
                    <a:pt x="21" y="53"/>
                  </a:lnTo>
                  <a:lnTo>
                    <a:pt x="31" y="53"/>
                  </a:lnTo>
                  <a:lnTo>
                    <a:pt x="52" y="32"/>
                  </a:lnTo>
                  <a:lnTo>
                    <a:pt x="83" y="21"/>
                  </a:lnTo>
                  <a:lnTo>
                    <a:pt x="94" y="11"/>
                  </a:lnTo>
                  <a:lnTo>
                    <a:pt x="115" y="0"/>
                  </a:lnTo>
                  <a:lnTo>
                    <a:pt x="449" y="73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16040" y="2598840"/>
              <a:ext cx="1709640" cy="1257120"/>
            </a:xfrm>
            <a:custGeom>
              <a:avLst/>
              <a:gdLst/>
              <a:ahLst/>
              <a:rect l="l" t="t" r="r" b="b"/>
              <a:pathLst>
                <a:path w="710" h="532">
                  <a:moveTo>
                    <a:pt x="0" y="146"/>
                  </a:moveTo>
                  <a:lnTo>
                    <a:pt x="10" y="136"/>
                  </a:lnTo>
                  <a:lnTo>
                    <a:pt x="21" y="115"/>
                  </a:lnTo>
                  <a:lnTo>
                    <a:pt x="31" y="104"/>
                  </a:lnTo>
                  <a:lnTo>
                    <a:pt x="52" y="73"/>
                  </a:lnTo>
                  <a:lnTo>
                    <a:pt x="52" y="63"/>
                  </a:lnTo>
                  <a:lnTo>
                    <a:pt x="73" y="42"/>
                  </a:lnTo>
                  <a:lnTo>
                    <a:pt x="83" y="31"/>
                  </a:lnTo>
                  <a:lnTo>
                    <a:pt x="104" y="10"/>
                  </a:lnTo>
                  <a:lnTo>
                    <a:pt x="115" y="0"/>
                  </a:lnTo>
                  <a:lnTo>
                    <a:pt x="710" y="532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527200" y="2943360"/>
              <a:ext cx="1685880" cy="1011240"/>
            </a:xfrm>
            <a:custGeom>
              <a:avLst/>
              <a:gdLst/>
              <a:ahLst/>
              <a:rect l="l" t="t" r="r" b="b"/>
              <a:pathLst>
                <a:path w="700" h="428">
                  <a:moveTo>
                    <a:pt x="700" y="386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00" y="428"/>
                  </a:lnTo>
                  <a:lnTo>
                    <a:pt x="700" y="38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00040" y="3083040"/>
              <a:ext cx="1913040" cy="912600"/>
            </a:xfrm>
            <a:custGeom>
              <a:avLst/>
              <a:gdLst/>
              <a:ahLst/>
              <a:rect l="l" t="t" r="r" b="b"/>
              <a:pathLst>
                <a:path w="794" h="386">
                  <a:moveTo>
                    <a:pt x="0" y="219"/>
                  </a:moveTo>
                  <a:lnTo>
                    <a:pt x="11" y="198"/>
                  </a:lnTo>
                  <a:lnTo>
                    <a:pt x="21" y="167"/>
                  </a:lnTo>
                  <a:lnTo>
                    <a:pt x="32" y="146"/>
                  </a:lnTo>
                  <a:lnTo>
                    <a:pt x="32" y="115"/>
                  </a:lnTo>
                  <a:lnTo>
                    <a:pt x="42" y="104"/>
                  </a:lnTo>
                  <a:lnTo>
                    <a:pt x="53" y="73"/>
                  </a:lnTo>
                  <a:lnTo>
                    <a:pt x="63" y="52"/>
                  </a:lnTo>
                  <a:lnTo>
                    <a:pt x="73" y="31"/>
                  </a:lnTo>
                  <a:lnTo>
                    <a:pt x="84" y="0"/>
                  </a:lnTo>
                  <a:lnTo>
                    <a:pt x="794" y="386"/>
                  </a:lnTo>
                  <a:lnTo>
                    <a:pt x="0" y="219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01480" y="3575160"/>
              <a:ext cx="1886040" cy="493560"/>
            </a:xfrm>
            <a:custGeom>
              <a:avLst/>
              <a:gdLst/>
              <a:ahLst/>
              <a:rect l="l" t="t" r="r" b="b"/>
              <a:pathLst>
                <a:path w="783" h="209">
                  <a:moveTo>
                    <a:pt x="783" y="167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83" y="209"/>
                  </a:lnTo>
                  <a:lnTo>
                    <a:pt x="783" y="16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414600" y="4214880"/>
              <a:ext cx="880920" cy="1776240"/>
            </a:xfrm>
            <a:custGeom>
              <a:avLst/>
              <a:gdLst/>
              <a:ahLst/>
              <a:rect l="l" t="t" r="r" b="b"/>
              <a:pathLst>
                <a:path w="366" h="752">
                  <a:moveTo>
                    <a:pt x="366" y="0"/>
                  </a:moveTo>
                  <a:lnTo>
                    <a:pt x="0" y="710"/>
                  </a:lnTo>
                  <a:lnTo>
                    <a:pt x="0" y="752"/>
                  </a:lnTo>
                  <a:lnTo>
                    <a:pt x="366" y="42"/>
                  </a:lnTo>
                  <a:lnTo>
                    <a:pt x="366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333520" y="4373640"/>
              <a:ext cx="125280" cy="64296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52" y="230"/>
                  </a:moveTo>
                  <a:lnTo>
                    <a:pt x="42" y="199"/>
                  </a:lnTo>
                  <a:lnTo>
                    <a:pt x="42" y="178"/>
                  </a:lnTo>
                  <a:lnTo>
                    <a:pt x="31" y="147"/>
                  </a:lnTo>
                  <a:lnTo>
                    <a:pt x="21" y="126"/>
                  </a:lnTo>
                  <a:lnTo>
                    <a:pt x="21" y="105"/>
                  </a:lnTo>
                  <a:lnTo>
                    <a:pt x="10" y="84"/>
                  </a:lnTo>
                  <a:lnTo>
                    <a:pt x="10" y="5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74"/>
                  </a:lnTo>
                  <a:lnTo>
                    <a:pt x="10" y="94"/>
                  </a:lnTo>
                  <a:lnTo>
                    <a:pt x="10" y="126"/>
                  </a:lnTo>
                  <a:lnTo>
                    <a:pt x="21" y="147"/>
                  </a:lnTo>
                  <a:lnTo>
                    <a:pt x="21" y="168"/>
                  </a:lnTo>
                  <a:lnTo>
                    <a:pt x="31" y="188"/>
                  </a:lnTo>
                  <a:lnTo>
                    <a:pt x="42" y="220"/>
                  </a:lnTo>
                  <a:lnTo>
                    <a:pt x="42" y="241"/>
                  </a:lnTo>
                  <a:lnTo>
                    <a:pt x="52" y="272"/>
                  </a:lnTo>
                  <a:lnTo>
                    <a:pt x="52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485800" y="4202280"/>
              <a:ext cx="1784520" cy="790560"/>
            </a:xfrm>
            <a:custGeom>
              <a:avLst/>
              <a:gdLst/>
              <a:ahLst/>
              <a:rect l="l" t="t" r="r" b="b"/>
              <a:pathLst>
                <a:path w="741" h="335">
                  <a:moveTo>
                    <a:pt x="741" y="0"/>
                  </a:moveTo>
                  <a:lnTo>
                    <a:pt x="0" y="293"/>
                  </a:lnTo>
                  <a:lnTo>
                    <a:pt x="0" y="335"/>
                  </a:lnTo>
                  <a:lnTo>
                    <a:pt x="741" y="42"/>
                  </a:lnTo>
                  <a:lnTo>
                    <a:pt x="741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33520" y="4240080"/>
              <a:ext cx="1936800" cy="716040"/>
            </a:xfrm>
            <a:custGeom>
              <a:avLst/>
              <a:gdLst/>
              <a:ahLst/>
              <a:rect l="l" t="t" r="r" b="b"/>
              <a:pathLst>
                <a:path w="804" h="303">
                  <a:moveTo>
                    <a:pt x="52" y="303"/>
                  </a:moveTo>
                  <a:lnTo>
                    <a:pt x="42" y="272"/>
                  </a:lnTo>
                  <a:lnTo>
                    <a:pt x="42" y="251"/>
                  </a:lnTo>
                  <a:lnTo>
                    <a:pt x="31" y="220"/>
                  </a:lnTo>
                  <a:lnTo>
                    <a:pt x="21" y="199"/>
                  </a:lnTo>
                  <a:lnTo>
                    <a:pt x="21" y="178"/>
                  </a:lnTo>
                  <a:lnTo>
                    <a:pt x="10" y="157"/>
                  </a:lnTo>
                  <a:lnTo>
                    <a:pt x="10" y="126"/>
                  </a:lnTo>
                  <a:lnTo>
                    <a:pt x="0" y="105"/>
                  </a:lnTo>
                  <a:lnTo>
                    <a:pt x="0" y="73"/>
                  </a:lnTo>
                  <a:lnTo>
                    <a:pt x="804" y="0"/>
                  </a:lnTo>
                  <a:lnTo>
                    <a:pt x="52" y="30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58800" y="4917960"/>
              <a:ext cx="378000" cy="642960"/>
            </a:xfrm>
            <a:custGeom>
              <a:avLst/>
              <a:gdLst/>
              <a:ahLst/>
              <a:rect l="l" t="t" r="r" b="b"/>
              <a:pathLst>
                <a:path w="157" h="272">
                  <a:moveTo>
                    <a:pt x="157" y="230"/>
                  </a:moveTo>
                  <a:lnTo>
                    <a:pt x="136" y="209"/>
                  </a:lnTo>
                  <a:lnTo>
                    <a:pt x="125" y="199"/>
                  </a:lnTo>
                  <a:lnTo>
                    <a:pt x="105" y="178"/>
                  </a:lnTo>
                  <a:lnTo>
                    <a:pt x="94" y="157"/>
                  </a:lnTo>
                  <a:lnTo>
                    <a:pt x="84" y="146"/>
                  </a:lnTo>
                  <a:lnTo>
                    <a:pt x="63" y="125"/>
                  </a:lnTo>
                  <a:lnTo>
                    <a:pt x="52" y="105"/>
                  </a:lnTo>
                  <a:lnTo>
                    <a:pt x="42" y="84"/>
                  </a:lnTo>
                  <a:lnTo>
                    <a:pt x="31" y="63"/>
                  </a:lnTo>
                  <a:lnTo>
                    <a:pt x="21" y="42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1" y="63"/>
                  </a:lnTo>
                  <a:lnTo>
                    <a:pt x="21" y="84"/>
                  </a:lnTo>
                  <a:lnTo>
                    <a:pt x="31" y="105"/>
                  </a:lnTo>
                  <a:lnTo>
                    <a:pt x="42" y="125"/>
                  </a:lnTo>
                  <a:lnTo>
                    <a:pt x="52" y="146"/>
                  </a:lnTo>
                  <a:lnTo>
                    <a:pt x="63" y="167"/>
                  </a:lnTo>
                  <a:lnTo>
                    <a:pt x="84" y="188"/>
                  </a:lnTo>
                  <a:lnTo>
                    <a:pt x="94" y="199"/>
                  </a:lnTo>
                  <a:lnTo>
                    <a:pt x="105" y="219"/>
                  </a:lnTo>
                  <a:lnTo>
                    <a:pt x="125" y="240"/>
                  </a:lnTo>
                  <a:lnTo>
                    <a:pt x="136" y="251"/>
                  </a:lnTo>
                  <a:lnTo>
                    <a:pt x="157" y="272"/>
                  </a:lnTo>
                  <a:lnTo>
                    <a:pt x="157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58800" y="4202280"/>
              <a:ext cx="1811520" cy="1258560"/>
            </a:xfrm>
            <a:custGeom>
              <a:avLst/>
              <a:gdLst/>
              <a:ahLst/>
              <a:rect l="l" t="t" r="r" b="b"/>
              <a:pathLst>
                <a:path w="752" h="533">
                  <a:moveTo>
                    <a:pt x="157" y="533"/>
                  </a:moveTo>
                  <a:lnTo>
                    <a:pt x="136" y="512"/>
                  </a:lnTo>
                  <a:lnTo>
                    <a:pt x="125" y="502"/>
                  </a:lnTo>
                  <a:lnTo>
                    <a:pt x="105" y="481"/>
                  </a:lnTo>
                  <a:lnTo>
                    <a:pt x="94" y="460"/>
                  </a:lnTo>
                  <a:lnTo>
                    <a:pt x="84" y="449"/>
                  </a:lnTo>
                  <a:lnTo>
                    <a:pt x="63" y="428"/>
                  </a:lnTo>
                  <a:lnTo>
                    <a:pt x="52" y="408"/>
                  </a:lnTo>
                  <a:lnTo>
                    <a:pt x="42" y="387"/>
                  </a:lnTo>
                  <a:lnTo>
                    <a:pt x="31" y="366"/>
                  </a:lnTo>
                  <a:lnTo>
                    <a:pt x="21" y="345"/>
                  </a:lnTo>
                  <a:lnTo>
                    <a:pt x="11" y="324"/>
                  </a:lnTo>
                  <a:lnTo>
                    <a:pt x="0" y="303"/>
                  </a:lnTo>
                  <a:lnTo>
                    <a:pt x="752" y="0"/>
                  </a:lnTo>
                  <a:lnTo>
                    <a:pt x="157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836800" y="4202280"/>
              <a:ext cx="1433520" cy="135864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595" y="0"/>
                  </a:moveTo>
                  <a:lnTo>
                    <a:pt x="0" y="533"/>
                  </a:lnTo>
                  <a:lnTo>
                    <a:pt x="0" y="575"/>
                  </a:lnTo>
                  <a:lnTo>
                    <a:pt x="595" y="4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49400" y="5473800"/>
              <a:ext cx="552240" cy="517320"/>
            </a:xfrm>
            <a:custGeom>
              <a:avLst/>
              <a:gdLst/>
              <a:ahLst/>
              <a:rect l="l" t="t" r="r" b="b"/>
              <a:pathLst>
                <a:path w="229" h="219">
                  <a:moveTo>
                    <a:pt x="229" y="177"/>
                  </a:moveTo>
                  <a:lnTo>
                    <a:pt x="198" y="167"/>
                  </a:lnTo>
                  <a:lnTo>
                    <a:pt x="177" y="157"/>
                  </a:lnTo>
                  <a:lnTo>
                    <a:pt x="167" y="146"/>
                  </a:lnTo>
                  <a:lnTo>
                    <a:pt x="146" y="136"/>
                  </a:lnTo>
                  <a:lnTo>
                    <a:pt x="115" y="115"/>
                  </a:lnTo>
                  <a:lnTo>
                    <a:pt x="94" y="104"/>
                  </a:lnTo>
                  <a:lnTo>
                    <a:pt x="83" y="94"/>
                  </a:lnTo>
                  <a:lnTo>
                    <a:pt x="62" y="73"/>
                  </a:lnTo>
                  <a:lnTo>
                    <a:pt x="41" y="52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0" y="63"/>
                  </a:lnTo>
                  <a:lnTo>
                    <a:pt x="21" y="73"/>
                  </a:lnTo>
                  <a:lnTo>
                    <a:pt x="41" y="94"/>
                  </a:lnTo>
                  <a:lnTo>
                    <a:pt x="62" y="115"/>
                  </a:lnTo>
                  <a:lnTo>
                    <a:pt x="83" y="136"/>
                  </a:lnTo>
                  <a:lnTo>
                    <a:pt x="94" y="146"/>
                  </a:lnTo>
                  <a:lnTo>
                    <a:pt x="115" y="157"/>
                  </a:lnTo>
                  <a:lnTo>
                    <a:pt x="146" y="177"/>
                  </a:lnTo>
                  <a:lnTo>
                    <a:pt x="167" y="188"/>
                  </a:lnTo>
                  <a:lnTo>
                    <a:pt x="177" y="198"/>
                  </a:lnTo>
                  <a:lnTo>
                    <a:pt x="198" y="209"/>
                  </a:lnTo>
                  <a:lnTo>
                    <a:pt x="229" y="219"/>
                  </a:lnTo>
                  <a:lnTo>
                    <a:pt x="229" y="17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49400" y="4214880"/>
              <a:ext cx="1433520" cy="1677960"/>
            </a:xfrm>
            <a:custGeom>
              <a:avLst/>
              <a:gdLst/>
              <a:ahLst/>
              <a:rect l="l" t="t" r="r" b="b"/>
              <a:pathLst>
                <a:path w="595" h="710">
                  <a:moveTo>
                    <a:pt x="229" y="710"/>
                  </a:moveTo>
                  <a:lnTo>
                    <a:pt x="198" y="700"/>
                  </a:lnTo>
                  <a:lnTo>
                    <a:pt x="177" y="690"/>
                  </a:lnTo>
                  <a:lnTo>
                    <a:pt x="167" y="679"/>
                  </a:lnTo>
                  <a:lnTo>
                    <a:pt x="146" y="669"/>
                  </a:lnTo>
                  <a:lnTo>
                    <a:pt x="115" y="648"/>
                  </a:lnTo>
                  <a:lnTo>
                    <a:pt x="94" y="637"/>
                  </a:lnTo>
                  <a:lnTo>
                    <a:pt x="83" y="627"/>
                  </a:lnTo>
                  <a:lnTo>
                    <a:pt x="62" y="606"/>
                  </a:lnTo>
                  <a:lnTo>
                    <a:pt x="41" y="585"/>
                  </a:lnTo>
                  <a:lnTo>
                    <a:pt x="21" y="564"/>
                  </a:lnTo>
                  <a:lnTo>
                    <a:pt x="10" y="554"/>
                  </a:lnTo>
                  <a:lnTo>
                    <a:pt x="0" y="533"/>
                  </a:lnTo>
                  <a:lnTo>
                    <a:pt x="595" y="0"/>
                  </a:lnTo>
                  <a:lnTo>
                    <a:pt x="229" y="7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854600" y="2513160"/>
            <a:ext cx="1433520" cy="1355400"/>
          </a:xfrm>
          <a:custGeom>
            <a:avLst/>
            <a:gdLst/>
            <a:ahLst/>
            <a:rect l="l" t="t" r="r" b="b"/>
            <a:pathLst>
              <a:path w="595" h="574">
                <a:moveTo>
                  <a:pt x="0" y="532"/>
                </a:moveTo>
                <a:lnTo>
                  <a:pt x="595" y="0"/>
                </a:lnTo>
                <a:lnTo>
                  <a:pt x="595" y="42"/>
                </a:lnTo>
                <a:lnTo>
                  <a:pt x="0" y="574"/>
                </a:lnTo>
                <a:lnTo>
                  <a:pt x="0" y="532"/>
                </a:lnTo>
                <a:close/>
              </a:path>
            </a:pathLst>
          </a:custGeom>
          <a:solidFill>
            <a:srgbClr val="4d4d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854600" y="1895400"/>
            <a:ext cx="1433520" cy="1874880"/>
          </a:xfrm>
          <a:custGeom>
            <a:avLst/>
            <a:gdLst/>
            <a:ahLst/>
            <a:rect l="l" t="t" r="r" b="b"/>
            <a:pathLst>
              <a:path w="595" h="793">
                <a:moveTo>
                  <a:pt x="0" y="0"/>
                </a:moveTo>
                <a:lnTo>
                  <a:pt x="21" y="0"/>
                </a:lnTo>
                <a:lnTo>
                  <a:pt x="52" y="0"/>
                </a:lnTo>
                <a:lnTo>
                  <a:pt x="83" y="0"/>
                </a:lnTo>
                <a:lnTo>
                  <a:pt x="104" y="0"/>
                </a:lnTo>
                <a:lnTo>
                  <a:pt x="136" y="10"/>
                </a:lnTo>
                <a:lnTo>
                  <a:pt x="167" y="10"/>
                </a:lnTo>
                <a:lnTo>
                  <a:pt x="188" y="21"/>
                </a:lnTo>
                <a:lnTo>
                  <a:pt x="219" y="31"/>
                </a:lnTo>
                <a:lnTo>
                  <a:pt x="250" y="31"/>
                </a:lnTo>
                <a:lnTo>
                  <a:pt x="271" y="42"/>
                </a:lnTo>
                <a:lnTo>
                  <a:pt x="303" y="52"/>
                </a:lnTo>
                <a:lnTo>
                  <a:pt x="324" y="62"/>
                </a:lnTo>
                <a:lnTo>
                  <a:pt x="355" y="73"/>
                </a:lnTo>
                <a:lnTo>
                  <a:pt x="376" y="94"/>
                </a:lnTo>
                <a:lnTo>
                  <a:pt x="397" y="104"/>
                </a:lnTo>
                <a:lnTo>
                  <a:pt x="428" y="115"/>
                </a:lnTo>
                <a:lnTo>
                  <a:pt x="449" y="136"/>
                </a:lnTo>
                <a:lnTo>
                  <a:pt x="470" y="146"/>
                </a:lnTo>
                <a:lnTo>
                  <a:pt x="491" y="167"/>
                </a:lnTo>
                <a:lnTo>
                  <a:pt x="511" y="188"/>
                </a:lnTo>
                <a:lnTo>
                  <a:pt x="532" y="198"/>
                </a:lnTo>
                <a:lnTo>
                  <a:pt x="553" y="219"/>
                </a:lnTo>
                <a:lnTo>
                  <a:pt x="574" y="240"/>
                </a:lnTo>
                <a:lnTo>
                  <a:pt x="595" y="261"/>
                </a:lnTo>
                <a:lnTo>
                  <a:pt x="0" y="793"/>
                </a:lnTo>
                <a:lnTo>
                  <a:pt x="0" y="0"/>
                </a:lnTo>
                <a:close/>
              </a:path>
            </a:pathLst>
          </a:custGeom>
          <a:solidFill>
            <a:srgbClr val="000082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630760" y="167940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Look"/Art,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4291560" y="1606680"/>
            <a:ext cx="546480" cy="2122200"/>
            <a:chOff x="4291560" y="1606680"/>
            <a:chExt cx="546480" cy="2122200"/>
          </a:xfrm>
        </p:grpSpPr>
        <p:sp>
          <p:nvSpPr>
            <p:cNvPr id="1459" name=""/>
            <p:cNvSpPr/>
            <p:nvPr/>
          </p:nvSpPr>
          <p:spPr>
            <a:xfrm>
              <a:off x="4479840" y="1854000"/>
              <a:ext cx="101520" cy="187488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ab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291560" y="1606680"/>
              <a:ext cx="54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Price,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390600" y="1327320"/>
            <a:ext cx="21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of Impact; of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3516480" y="4253040"/>
            <a:ext cx="880920" cy="1987560"/>
            <a:chOff x="3516480" y="4253040"/>
            <a:chExt cx="880920" cy="1987560"/>
          </a:xfrm>
        </p:grpSpPr>
        <p:sp>
          <p:nvSpPr>
            <p:cNvPr id="1463" name=""/>
            <p:cNvSpPr/>
            <p:nvPr/>
          </p:nvSpPr>
          <p:spPr>
            <a:xfrm>
              <a:off x="3516480" y="5943600"/>
              <a:ext cx="628560" cy="2970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261" y="84"/>
                  </a:moveTo>
                  <a:lnTo>
                    <a:pt x="241" y="84"/>
                  </a:lnTo>
                  <a:lnTo>
                    <a:pt x="220" y="84"/>
                  </a:lnTo>
                  <a:lnTo>
                    <a:pt x="199" y="74"/>
                  </a:lnTo>
                  <a:lnTo>
                    <a:pt x="167" y="63"/>
                  </a:lnTo>
                  <a:lnTo>
                    <a:pt x="157" y="63"/>
                  </a:lnTo>
                  <a:lnTo>
                    <a:pt x="126" y="53"/>
                  </a:lnTo>
                  <a:lnTo>
                    <a:pt x="105" y="53"/>
                  </a:lnTo>
                  <a:lnTo>
                    <a:pt x="84" y="42"/>
                  </a:lnTo>
                  <a:lnTo>
                    <a:pt x="63" y="32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1" y="63"/>
                  </a:lnTo>
                  <a:lnTo>
                    <a:pt x="32" y="63"/>
                  </a:lnTo>
                  <a:lnTo>
                    <a:pt x="63" y="74"/>
                  </a:lnTo>
                  <a:lnTo>
                    <a:pt x="84" y="84"/>
                  </a:lnTo>
                  <a:lnTo>
                    <a:pt x="105" y="94"/>
                  </a:lnTo>
                  <a:lnTo>
                    <a:pt x="126" y="94"/>
                  </a:lnTo>
                  <a:lnTo>
                    <a:pt x="157" y="105"/>
                  </a:lnTo>
                  <a:lnTo>
                    <a:pt x="167" y="105"/>
                  </a:lnTo>
                  <a:lnTo>
                    <a:pt x="199" y="115"/>
                  </a:lnTo>
                  <a:lnTo>
                    <a:pt x="220" y="126"/>
                  </a:lnTo>
                  <a:lnTo>
                    <a:pt x="241" y="126"/>
                  </a:lnTo>
                  <a:lnTo>
                    <a:pt x="261" y="126"/>
                  </a:lnTo>
                  <a:lnTo>
                    <a:pt x="261" y="84"/>
                  </a:lnTo>
                  <a:close/>
                </a:path>
              </a:pathLst>
            </a:custGeom>
            <a:solidFill>
              <a:srgbClr val="660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516480" y="4253040"/>
              <a:ext cx="880920" cy="1876320"/>
            </a:xfrm>
            <a:custGeom>
              <a:avLst/>
              <a:gdLst/>
              <a:ahLst/>
              <a:rect l="l" t="t" r="r" b="b"/>
              <a:pathLst>
                <a:path w="366" h="794">
                  <a:moveTo>
                    <a:pt x="261" y="794"/>
                  </a:moveTo>
                  <a:lnTo>
                    <a:pt x="241" y="794"/>
                  </a:lnTo>
                  <a:lnTo>
                    <a:pt x="220" y="794"/>
                  </a:lnTo>
                  <a:lnTo>
                    <a:pt x="199" y="784"/>
                  </a:lnTo>
                  <a:lnTo>
                    <a:pt x="167" y="773"/>
                  </a:lnTo>
                  <a:lnTo>
                    <a:pt x="157" y="773"/>
                  </a:lnTo>
                  <a:lnTo>
                    <a:pt x="126" y="763"/>
                  </a:lnTo>
                  <a:lnTo>
                    <a:pt x="105" y="763"/>
                  </a:lnTo>
                  <a:lnTo>
                    <a:pt x="84" y="752"/>
                  </a:lnTo>
                  <a:lnTo>
                    <a:pt x="63" y="742"/>
                  </a:lnTo>
                  <a:lnTo>
                    <a:pt x="32" y="731"/>
                  </a:lnTo>
                  <a:lnTo>
                    <a:pt x="21" y="731"/>
                  </a:lnTo>
                  <a:lnTo>
                    <a:pt x="0" y="710"/>
                  </a:lnTo>
                  <a:lnTo>
                    <a:pt x="366" y="0"/>
                  </a:lnTo>
                  <a:lnTo>
                    <a:pt x="261" y="794"/>
                  </a:lnTo>
                  <a:close/>
                </a:path>
              </a:pathLst>
            </a:custGeom>
            <a:solidFill>
              <a:srgbClr val="9a009a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146840" y="4265640"/>
              <a:ext cx="225360" cy="1974960"/>
            </a:xfrm>
            <a:custGeom>
              <a:avLst/>
              <a:gdLst/>
              <a:ahLst/>
              <a:rect l="l" t="t" r="r" b="b"/>
              <a:pathLst>
                <a:path w="94" h="836">
                  <a:moveTo>
                    <a:pt x="94" y="0"/>
                  </a:moveTo>
                  <a:lnTo>
                    <a:pt x="0" y="794"/>
                  </a:lnTo>
                  <a:lnTo>
                    <a:pt x="0" y="836"/>
                  </a:lnTo>
                  <a:lnTo>
                    <a:pt x="94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0404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2425320" y="6278400"/>
            <a:ext cx="1361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vision Ads,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2843280" y="2214720"/>
            <a:ext cx="1433520" cy="1650960"/>
            <a:chOff x="2843280" y="2214720"/>
            <a:chExt cx="1433520" cy="1650960"/>
          </a:xfrm>
        </p:grpSpPr>
        <p:sp>
          <p:nvSpPr>
            <p:cNvPr id="1468" name=""/>
            <p:cNvSpPr/>
            <p:nvPr/>
          </p:nvSpPr>
          <p:spPr>
            <a:xfrm>
              <a:off x="2843280" y="2509920"/>
              <a:ext cx="1433520" cy="135576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595" y="532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595" y="574"/>
                  </a:lnTo>
                  <a:lnTo>
                    <a:pt x="595" y="532"/>
                  </a:lnTo>
                  <a:close/>
                </a:path>
              </a:pathLst>
            </a:custGeom>
            <a:solidFill>
              <a:srgbClr val="40004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843280" y="2214720"/>
              <a:ext cx="1433520" cy="1552320"/>
            </a:xfrm>
            <a:custGeom>
              <a:avLst/>
              <a:gdLst/>
              <a:ahLst/>
              <a:rect l="l" t="t" r="r" b="b"/>
              <a:pathLst>
                <a:path w="595" h="657">
                  <a:moveTo>
                    <a:pt x="0" y="125"/>
                  </a:moveTo>
                  <a:lnTo>
                    <a:pt x="10" y="104"/>
                  </a:lnTo>
                  <a:lnTo>
                    <a:pt x="21" y="94"/>
                  </a:lnTo>
                  <a:lnTo>
                    <a:pt x="41" y="73"/>
                  </a:lnTo>
                  <a:lnTo>
                    <a:pt x="52" y="62"/>
                  </a:lnTo>
                  <a:lnTo>
                    <a:pt x="73" y="52"/>
                  </a:lnTo>
                  <a:lnTo>
                    <a:pt x="83" y="41"/>
                  </a:lnTo>
                  <a:lnTo>
                    <a:pt x="104" y="20"/>
                  </a:lnTo>
                  <a:lnTo>
                    <a:pt x="115" y="10"/>
                  </a:lnTo>
                  <a:lnTo>
                    <a:pt x="146" y="0"/>
                  </a:lnTo>
                  <a:lnTo>
                    <a:pt x="595" y="65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0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1628280" y="2255760"/>
            <a:ext cx="128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sorships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094480" y="1949400"/>
            <a:ext cx="114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ds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018600" y="1760400"/>
            <a:ext cx="57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582000" y="1465200"/>
            <a:ext cx="69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ema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251240" y="1841400"/>
            <a:ext cx="101520" cy="1973520"/>
          </a:xfrm>
          <a:custGeom>
            <a:avLst/>
            <a:gdLst/>
            <a:ahLst/>
            <a:rect l="l" t="t" r="r" b="b"/>
            <a:pathLst>
              <a:path w="42" h="835">
                <a:moveTo>
                  <a:pt x="42" y="793"/>
                </a:moveTo>
                <a:lnTo>
                  <a:pt x="0" y="0"/>
                </a:lnTo>
                <a:lnTo>
                  <a:pt x="0" y="42"/>
                </a:lnTo>
                <a:lnTo>
                  <a:pt x="42" y="835"/>
                </a:lnTo>
                <a:lnTo>
                  <a:pt x="42" y="793"/>
                </a:lnTo>
                <a:close/>
              </a:path>
            </a:pathLst>
          </a:custGeom>
          <a:solidFill>
            <a:srgbClr val="6680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002120" y="1841400"/>
            <a:ext cx="350640" cy="1874880"/>
          </a:xfrm>
          <a:custGeom>
            <a:avLst/>
            <a:gdLst/>
            <a:ahLst/>
            <a:rect l="l" t="t" r="r" b="b"/>
            <a:pathLst>
              <a:path w="146" h="793">
                <a:moveTo>
                  <a:pt x="0" y="10"/>
                </a:moveTo>
                <a:lnTo>
                  <a:pt x="21" y="10"/>
                </a:lnTo>
                <a:lnTo>
                  <a:pt x="31" y="0"/>
                </a:lnTo>
                <a:lnTo>
                  <a:pt x="62" y="0"/>
                </a:lnTo>
                <a:lnTo>
                  <a:pt x="73" y="0"/>
                </a:lnTo>
                <a:lnTo>
                  <a:pt x="83" y="0"/>
                </a:lnTo>
                <a:lnTo>
                  <a:pt x="104" y="0"/>
                </a:lnTo>
                <a:lnTo>
                  <a:pt x="146" y="793"/>
                </a:lnTo>
                <a:lnTo>
                  <a:pt x="0" y="10"/>
                </a:lnTo>
                <a:close/>
              </a:path>
            </a:pathLst>
          </a:custGeom>
          <a:solidFill>
            <a:srgbClr val="ff5d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573360" y="1989000"/>
            <a:ext cx="779400" cy="1825920"/>
          </a:xfrm>
          <a:custGeom>
            <a:avLst/>
            <a:gdLst/>
            <a:ahLst/>
            <a:rect l="l" t="t" r="r" b="b"/>
            <a:pathLst>
              <a:path w="324" h="773">
                <a:moveTo>
                  <a:pt x="324" y="731"/>
                </a:moveTo>
                <a:lnTo>
                  <a:pt x="0" y="0"/>
                </a:lnTo>
                <a:lnTo>
                  <a:pt x="0" y="42"/>
                </a:lnTo>
                <a:lnTo>
                  <a:pt x="324" y="773"/>
                </a:lnTo>
                <a:lnTo>
                  <a:pt x="324" y="731"/>
                </a:lnTo>
                <a:close/>
              </a:path>
            </a:pathLst>
          </a:custGeom>
          <a:solidFill>
            <a:srgbClr val="00404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48160" y="1914480"/>
            <a:ext cx="804600" cy="1801800"/>
          </a:xfrm>
          <a:custGeom>
            <a:avLst/>
            <a:gdLst/>
            <a:ahLst/>
            <a:rect l="l" t="t" r="r" b="b"/>
            <a:pathLst>
              <a:path w="334" h="762">
                <a:moveTo>
                  <a:pt x="0" y="31"/>
                </a:moveTo>
                <a:lnTo>
                  <a:pt x="21" y="31"/>
                </a:lnTo>
                <a:lnTo>
                  <a:pt x="31" y="21"/>
                </a:lnTo>
                <a:lnTo>
                  <a:pt x="52" y="11"/>
                </a:lnTo>
                <a:lnTo>
                  <a:pt x="73" y="11"/>
                </a:lnTo>
                <a:lnTo>
                  <a:pt x="83" y="0"/>
                </a:lnTo>
                <a:lnTo>
                  <a:pt x="94" y="0"/>
                </a:lnTo>
                <a:lnTo>
                  <a:pt x="334" y="762"/>
                </a:lnTo>
                <a:lnTo>
                  <a:pt x="0" y="31"/>
                </a:lnTo>
                <a:close/>
              </a:path>
            </a:pathLst>
          </a:custGeom>
          <a:solidFill>
            <a:srgbClr val="a400a4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71680" y="2163600"/>
            <a:ext cx="1081080" cy="1651320"/>
          </a:xfrm>
          <a:custGeom>
            <a:avLst/>
            <a:gdLst/>
            <a:ahLst/>
            <a:rect l="l" t="t" r="r" b="b"/>
            <a:pathLst>
              <a:path w="449" h="699">
                <a:moveTo>
                  <a:pt x="449" y="657"/>
                </a:moveTo>
                <a:lnTo>
                  <a:pt x="0" y="0"/>
                </a:lnTo>
                <a:lnTo>
                  <a:pt x="0" y="41"/>
                </a:lnTo>
                <a:lnTo>
                  <a:pt x="449" y="699"/>
                </a:lnTo>
                <a:lnTo>
                  <a:pt x="449" y="657"/>
                </a:lnTo>
                <a:close/>
              </a:path>
            </a:pathLst>
          </a:custGeom>
          <a:solidFill>
            <a:srgbClr val="4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71680" y="1989000"/>
            <a:ext cx="1081080" cy="1727280"/>
          </a:xfrm>
          <a:custGeom>
            <a:avLst/>
            <a:gdLst/>
            <a:ahLst/>
            <a:rect l="l" t="t" r="r" b="b"/>
            <a:pathLst>
              <a:path w="449" h="731">
                <a:moveTo>
                  <a:pt x="0" y="74"/>
                </a:moveTo>
                <a:lnTo>
                  <a:pt x="21" y="53"/>
                </a:lnTo>
                <a:lnTo>
                  <a:pt x="31" y="53"/>
                </a:lnTo>
                <a:lnTo>
                  <a:pt x="52" y="32"/>
                </a:lnTo>
                <a:lnTo>
                  <a:pt x="83" y="21"/>
                </a:lnTo>
                <a:lnTo>
                  <a:pt x="94" y="11"/>
                </a:lnTo>
                <a:lnTo>
                  <a:pt x="115" y="0"/>
                </a:lnTo>
                <a:lnTo>
                  <a:pt x="449" y="731"/>
                </a:lnTo>
                <a:lnTo>
                  <a:pt x="0" y="74"/>
                </a:lnTo>
                <a:close/>
              </a:path>
            </a:pathLst>
          </a:custGeom>
          <a:solidFill>
            <a:srgbClr val="a400a4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426320" y="1630440"/>
            <a:ext cx="6557400" cy="4426560"/>
            <a:chOff x="1426320" y="1630440"/>
            <a:chExt cx="6557400" cy="4426560"/>
          </a:xfrm>
        </p:grpSpPr>
        <p:sp>
          <p:nvSpPr>
            <p:cNvPr id="1481" name=""/>
            <p:cNvSpPr/>
            <p:nvPr/>
          </p:nvSpPr>
          <p:spPr>
            <a:xfrm>
              <a:off x="4841640" y="2513160"/>
              <a:ext cx="1433520" cy="13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0" y="532"/>
                  </a:moveTo>
                  <a:lnTo>
                    <a:pt x="595" y="0"/>
                  </a:lnTo>
                  <a:lnTo>
                    <a:pt x="595" y="42"/>
                  </a:lnTo>
                  <a:lnTo>
                    <a:pt x="0" y="574"/>
                  </a:lnTo>
                  <a:lnTo>
                    <a:pt x="0" y="532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78440" y="3770280"/>
              <a:ext cx="3240" cy="17136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841640" y="3770280"/>
              <a:ext cx="1936800" cy="147600"/>
            </a:xfrm>
            <a:custGeom>
              <a:avLst/>
              <a:gdLst/>
              <a:ahLst/>
              <a:rect l="l" t="t" r="r" b="b"/>
              <a:pathLst>
                <a:path w="804" h="63">
                  <a:moveTo>
                    <a:pt x="0" y="0"/>
                  </a:moveTo>
                  <a:lnTo>
                    <a:pt x="804" y="21"/>
                  </a:lnTo>
                  <a:lnTo>
                    <a:pt x="804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41640" y="2513160"/>
              <a:ext cx="1936800" cy="1331640"/>
            </a:xfrm>
            <a:custGeom>
              <a:avLst/>
              <a:gdLst/>
              <a:ahLst/>
              <a:rect l="l" t="t" r="r" b="b"/>
              <a:pathLst>
                <a:path w="804" h="564">
                  <a:moveTo>
                    <a:pt x="595" y="0"/>
                  </a:moveTo>
                  <a:lnTo>
                    <a:pt x="616" y="21"/>
                  </a:lnTo>
                  <a:lnTo>
                    <a:pt x="626" y="42"/>
                  </a:lnTo>
                  <a:lnTo>
                    <a:pt x="647" y="63"/>
                  </a:lnTo>
                  <a:lnTo>
                    <a:pt x="658" y="73"/>
                  </a:lnTo>
                  <a:lnTo>
                    <a:pt x="668" y="104"/>
                  </a:lnTo>
                  <a:lnTo>
                    <a:pt x="689" y="125"/>
                  </a:lnTo>
                  <a:lnTo>
                    <a:pt x="699" y="146"/>
                  </a:lnTo>
                  <a:lnTo>
                    <a:pt x="710" y="177"/>
                  </a:lnTo>
                  <a:lnTo>
                    <a:pt x="731" y="198"/>
                  </a:lnTo>
                  <a:lnTo>
                    <a:pt x="731" y="209"/>
                  </a:lnTo>
                  <a:lnTo>
                    <a:pt x="741" y="240"/>
                  </a:lnTo>
                  <a:lnTo>
                    <a:pt x="752" y="261"/>
                  </a:lnTo>
                  <a:lnTo>
                    <a:pt x="762" y="292"/>
                  </a:lnTo>
                  <a:lnTo>
                    <a:pt x="772" y="313"/>
                  </a:lnTo>
                  <a:lnTo>
                    <a:pt x="772" y="344"/>
                  </a:lnTo>
                  <a:lnTo>
                    <a:pt x="783" y="355"/>
                  </a:lnTo>
                  <a:lnTo>
                    <a:pt x="783" y="386"/>
                  </a:lnTo>
                  <a:lnTo>
                    <a:pt x="793" y="407"/>
                  </a:lnTo>
                  <a:lnTo>
                    <a:pt x="793" y="438"/>
                  </a:lnTo>
                  <a:lnTo>
                    <a:pt x="793" y="470"/>
                  </a:lnTo>
                  <a:lnTo>
                    <a:pt x="804" y="491"/>
                  </a:lnTo>
                  <a:lnTo>
                    <a:pt x="804" y="512"/>
                  </a:lnTo>
                  <a:lnTo>
                    <a:pt x="804" y="532"/>
                  </a:lnTo>
                  <a:lnTo>
                    <a:pt x="804" y="564"/>
                  </a:lnTo>
                  <a:lnTo>
                    <a:pt x="0" y="532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0066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754680" y="2833560"/>
              <a:ext cx="122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nel, 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369600" y="16304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I,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62360" y="1865160"/>
              <a:ext cx="577800" cy="1851120"/>
            </a:xfrm>
            <a:custGeom>
              <a:avLst/>
              <a:gdLst/>
              <a:ahLst/>
              <a:rect l="l" t="t" r="r" b="b"/>
              <a:pathLst>
                <a:path w="240" h="783">
                  <a:moveTo>
                    <a:pt x="0" y="21"/>
                  </a:moveTo>
                  <a:lnTo>
                    <a:pt x="21" y="21"/>
                  </a:lnTo>
                  <a:lnTo>
                    <a:pt x="31" y="11"/>
                  </a:lnTo>
                  <a:lnTo>
                    <a:pt x="52" y="11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240" y="78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9ff1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8" name=""/>
            <p:cNvGrpSpPr/>
            <p:nvPr/>
          </p:nvGrpSpPr>
          <p:grpSpPr>
            <a:xfrm>
              <a:off x="1866600" y="2494080"/>
              <a:ext cx="2346480" cy="1460520"/>
              <a:chOff x="1866600" y="2494080"/>
              <a:chExt cx="2346480" cy="1460520"/>
            </a:xfrm>
          </p:grpSpPr>
          <p:sp>
            <p:nvSpPr>
              <p:cNvPr id="1489" name=""/>
              <p:cNvSpPr/>
              <p:nvPr/>
            </p:nvSpPr>
            <p:spPr>
              <a:xfrm>
                <a:off x="2503440" y="2598840"/>
                <a:ext cx="1709640" cy="1257480"/>
              </a:xfrm>
              <a:custGeom>
                <a:avLst/>
                <a:gdLst/>
                <a:ahLst/>
                <a:rect l="l" t="t" r="r" b="b"/>
                <a:pathLst>
                  <a:path w="710" h="532">
                    <a:moveTo>
                      <a:pt x="0" y="146"/>
                    </a:moveTo>
                    <a:lnTo>
                      <a:pt x="10" y="136"/>
                    </a:lnTo>
                    <a:lnTo>
                      <a:pt x="21" y="115"/>
                    </a:lnTo>
                    <a:lnTo>
                      <a:pt x="31" y="104"/>
                    </a:lnTo>
                    <a:lnTo>
                      <a:pt x="52" y="73"/>
                    </a:lnTo>
                    <a:lnTo>
                      <a:pt x="52" y="63"/>
                    </a:lnTo>
                    <a:lnTo>
                      <a:pt x="73" y="42"/>
                    </a:lnTo>
                    <a:lnTo>
                      <a:pt x="83" y="31"/>
                    </a:lnTo>
                    <a:lnTo>
                      <a:pt x="104" y="10"/>
                    </a:lnTo>
                    <a:lnTo>
                      <a:pt x="115" y="0"/>
                    </a:lnTo>
                    <a:lnTo>
                      <a:pt x="710" y="532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b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866600" y="2494080"/>
                <a:ext cx="576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,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514600" y="2943360"/>
                <a:ext cx="1685880" cy="1011240"/>
              </a:xfrm>
              <a:custGeom>
                <a:avLst/>
                <a:gdLst/>
                <a:ahLst/>
                <a:rect l="l" t="t" r="r" b="b"/>
                <a:pathLst>
                  <a:path w="700" h="428">
                    <a:moveTo>
                      <a:pt x="700" y="386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700" y="428"/>
                    </a:lnTo>
                    <a:lnTo>
                      <a:pt x="700" y="386"/>
                    </a:lnTo>
                    <a:close/>
                  </a:path>
                </a:pathLst>
              </a:custGeom>
              <a:solidFill>
                <a:srgbClr val="00808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1426320" y="4202280"/>
              <a:ext cx="2856600" cy="1854720"/>
              <a:chOff x="1426320" y="4202280"/>
              <a:chExt cx="2856600" cy="1854720"/>
            </a:xfrm>
          </p:grpSpPr>
          <p:sp>
            <p:nvSpPr>
              <p:cNvPr id="1493" name=""/>
              <p:cNvSpPr/>
              <p:nvPr/>
            </p:nvSpPr>
            <p:spPr>
              <a:xfrm>
                <a:off x="3402000" y="4214880"/>
                <a:ext cx="880920" cy="1776240"/>
              </a:xfrm>
              <a:custGeom>
                <a:avLst/>
                <a:gdLst/>
                <a:ahLst/>
                <a:rect l="l" t="t" r="r" b="b"/>
                <a:pathLst>
                  <a:path w="366" h="752">
                    <a:moveTo>
                      <a:pt x="366" y="0"/>
                    </a:moveTo>
                    <a:lnTo>
                      <a:pt x="0" y="710"/>
                    </a:lnTo>
                    <a:lnTo>
                      <a:pt x="0" y="752"/>
                    </a:lnTo>
                    <a:lnTo>
                      <a:pt x="366" y="42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003366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088360" y="58435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ers, 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5" name=""/>
              <p:cNvGrpSpPr/>
              <p:nvPr/>
            </p:nvGrpSpPr>
            <p:grpSpPr>
              <a:xfrm>
                <a:off x="1426320" y="4202280"/>
                <a:ext cx="2831040" cy="1358640"/>
                <a:chOff x="1426320" y="4202280"/>
                <a:chExt cx="2831040" cy="135864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2320920" y="4373640"/>
                  <a:ext cx="125280" cy="642600"/>
                </a:xfrm>
                <a:custGeom>
                  <a:avLst/>
                  <a:gdLst/>
                  <a:ahLst/>
                  <a:rect l="l" t="t" r="r" b="b"/>
                  <a:pathLst>
                    <a:path w="52" h="272">
                      <a:moveTo>
                        <a:pt x="52" y="230"/>
                      </a:moveTo>
                      <a:lnTo>
                        <a:pt x="42" y="199"/>
                      </a:lnTo>
                      <a:lnTo>
                        <a:pt x="42" y="178"/>
                      </a:lnTo>
                      <a:lnTo>
                        <a:pt x="31" y="147"/>
                      </a:lnTo>
                      <a:lnTo>
                        <a:pt x="21" y="126"/>
                      </a:lnTo>
                      <a:lnTo>
                        <a:pt x="21" y="105"/>
                      </a:lnTo>
                      <a:lnTo>
                        <a:pt x="10" y="84"/>
                      </a:lnTo>
                      <a:lnTo>
                        <a:pt x="10" y="53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0" y="74"/>
                      </a:lnTo>
                      <a:lnTo>
                        <a:pt x="10" y="94"/>
                      </a:lnTo>
                      <a:lnTo>
                        <a:pt x="10" y="126"/>
                      </a:lnTo>
                      <a:lnTo>
                        <a:pt x="21" y="147"/>
                      </a:lnTo>
                      <a:lnTo>
                        <a:pt x="21" y="168"/>
                      </a:lnTo>
                      <a:lnTo>
                        <a:pt x="31" y="188"/>
                      </a:lnTo>
                      <a:lnTo>
                        <a:pt x="42" y="220"/>
                      </a:lnTo>
                      <a:lnTo>
                        <a:pt x="42" y="241"/>
                      </a:lnTo>
                      <a:lnTo>
                        <a:pt x="52" y="272"/>
                      </a:lnTo>
                      <a:lnTo>
                        <a:pt x="52" y="230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2473200" y="4202280"/>
                  <a:ext cx="1784160" cy="790200"/>
                </a:xfrm>
                <a:custGeom>
                  <a:avLst/>
                  <a:gdLst/>
                  <a:ahLst/>
                  <a:rect l="l" t="t" r="r" b="b"/>
                  <a:pathLst>
                    <a:path w="741" h="335">
                      <a:moveTo>
                        <a:pt x="741" y="0"/>
                      </a:moveTo>
                      <a:lnTo>
                        <a:pt x="0" y="293"/>
                      </a:lnTo>
                      <a:lnTo>
                        <a:pt x="0" y="335"/>
                      </a:lnTo>
                      <a:lnTo>
                        <a:pt x="741" y="42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2320920" y="4240080"/>
                  <a:ext cx="1936440" cy="715680"/>
                </a:xfrm>
                <a:custGeom>
                  <a:avLst/>
                  <a:gdLst/>
                  <a:ahLst/>
                  <a:rect l="l" t="t" r="r" b="b"/>
                  <a:pathLst>
                    <a:path w="804" h="303">
                      <a:moveTo>
                        <a:pt x="52" y="303"/>
                      </a:moveTo>
                      <a:lnTo>
                        <a:pt x="42" y="272"/>
                      </a:lnTo>
                      <a:lnTo>
                        <a:pt x="42" y="251"/>
                      </a:lnTo>
                      <a:lnTo>
                        <a:pt x="31" y="220"/>
                      </a:lnTo>
                      <a:lnTo>
                        <a:pt x="21" y="199"/>
                      </a:lnTo>
                      <a:lnTo>
                        <a:pt x="21" y="178"/>
                      </a:lnTo>
                      <a:lnTo>
                        <a:pt x="10" y="157"/>
                      </a:lnTo>
                      <a:lnTo>
                        <a:pt x="10" y="126"/>
                      </a:lnTo>
                      <a:lnTo>
                        <a:pt x="0" y="105"/>
                      </a:lnTo>
                      <a:lnTo>
                        <a:pt x="0" y="73"/>
                      </a:lnTo>
                      <a:lnTo>
                        <a:pt x="804" y="0"/>
                      </a:lnTo>
                      <a:lnTo>
                        <a:pt x="52" y="303"/>
                      </a:lnTo>
                      <a:close/>
                    </a:path>
                  </a:pathLst>
                </a:custGeom>
                <a:solidFill>
                  <a:srgbClr val="0086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2446200" y="4917960"/>
                  <a:ext cx="377640" cy="642600"/>
                </a:xfrm>
                <a:custGeom>
                  <a:avLst/>
                  <a:gdLst/>
                  <a:ahLst/>
                  <a:rect l="l" t="t" r="r" b="b"/>
                  <a:pathLst>
                    <a:path w="157" h="272">
                      <a:moveTo>
                        <a:pt x="157" y="230"/>
                      </a:moveTo>
                      <a:lnTo>
                        <a:pt x="136" y="209"/>
                      </a:lnTo>
                      <a:lnTo>
                        <a:pt x="125" y="199"/>
                      </a:lnTo>
                      <a:lnTo>
                        <a:pt x="105" y="178"/>
                      </a:lnTo>
                      <a:lnTo>
                        <a:pt x="94" y="157"/>
                      </a:lnTo>
                      <a:lnTo>
                        <a:pt x="84" y="146"/>
                      </a:lnTo>
                      <a:lnTo>
                        <a:pt x="63" y="125"/>
                      </a:lnTo>
                      <a:lnTo>
                        <a:pt x="52" y="105"/>
                      </a:lnTo>
                      <a:lnTo>
                        <a:pt x="42" y="84"/>
                      </a:lnTo>
                      <a:lnTo>
                        <a:pt x="31" y="63"/>
                      </a:lnTo>
                      <a:lnTo>
                        <a:pt x="21" y="42"/>
                      </a:lnTo>
                      <a:lnTo>
                        <a:pt x="11" y="21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11" y="63"/>
                      </a:lnTo>
                      <a:lnTo>
                        <a:pt x="21" y="84"/>
                      </a:lnTo>
                      <a:lnTo>
                        <a:pt x="31" y="105"/>
                      </a:lnTo>
                      <a:lnTo>
                        <a:pt x="42" y="125"/>
                      </a:lnTo>
                      <a:lnTo>
                        <a:pt x="52" y="146"/>
                      </a:lnTo>
                      <a:lnTo>
                        <a:pt x="63" y="167"/>
                      </a:lnTo>
                      <a:lnTo>
                        <a:pt x="84" y="188"/>
                      </a:lnTo>
                      <a:lnTo>
                        <a:pt x="94" y="199"/>
                      </a:lnTo>
                      <a:lnTo>
                        <a:pt x="105" y="219"/>
                      </a:lnTo>
                      <a:lnTo>
                        <a:pt x="125" y="240"/>
                      </a:lnTo>
                      <a:lnTo>
                        <a:pt x="136" y="251"/>
                      </a:lnTo>
                      <a:lnTo>
                        <a:pt x="157" y="272"/>
                      </a:lnTo>
                      <a:lnTo>
                        <a:pt x="157" y="23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2446200" y="4202280"/>
                  <a:ext cx="1811160" cy="1258560"/>
                </a:xfrm>
                <a:custGeom>
                  <a:avLst/>
                  <a:gdLst/>
                  <a:ahLst/>
                  <a:rect l="l" t="t" r="r" b="b"/>
                  <a:pathLst>
                    <a:path w="752" h="533">
                      <a:moveTo>
                        <a:pt x="157" y="533"/>
                      </a:moveTo>
                      <a:lnTo>
                        <a:pt x="136" y="512"/>
                      </a:lnTo>
                      <a:lnTo>
                        <a:pt x="125" y="502"/>
                      </a:lnTo>
                      <a:lnTo>
                        <a:pt x="105" y="481"/>
                      </a:lnTo>
                      <a:lnTo>
                        <a:pt x="94" y="460"/>
                      </a:lnTo>
                      <a:lnTo>
                        <a:pt x="84" y="449"/>
                      </a:lnTo>
                      <a:lnTo>
                        <a:pt x="63" y="428"/>
                      </a:lnTo>
                      <a:lnTo>
                        <a:pt x="52" y="408"/>
                      </a:lnTo>
                      <a:lnTo>
                        <a:pt x="42" y="387"/>
                      </a:lnTo>
                      <a:lnTo>
                        <a:pt x="31" y="366"/>
                      </a:lnTo>
                      <a:lnTo>
                        <a:pt x="21" y="345"/>
                      </a:lnTo>
                      <a:lnTo>
                        <a:pt x="11" y="324"/>
                      </a:lnTo>
                      <a:lnTo>
                        <a:pt x="0" y="303"/>
                      </a:lnTo>
                      <a:lnTo>
                        <a:pt x="752" y="0"/>
                      </a:lnTo>
                      <a:lnTo>
                        <a:pt x="157" y="53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2823840" y="4202280"/>
                  <a:ext cx="1433520" cy="1358640"/>
                </a:xfrm>
                <a:custGeom>
                  <a:avLst/>
                  <a:gdLst/>
                  <a:ahLst/>
                  <a:rect l="l" t="t" r="r" b="b"/>
                  <a:pathLst>
                    <a:path w="595" h="575">
                      <a:moveTo>
                        <a:pt x="595" y="0"/>
                      </a:moveTo>
                      <a:lnTo>
                        <a:pt x="0" y="533"/>
                      </a:lnTo>
                      <a:lnTo>
                        <a:pt x="0" y="575"/>
                      </a:lnTo>
                      <a:lnTo>
                        <a:pt x="595" y="42"/>
                      </a:lnTo>
                      <a:lnTo>
                        <a:pt x="595" y="0"/>
                      </a:lnTo>
                      <a:close/>
                    </a:path>
                  </a:pathLst>
                </a:custGeom>
                <a:solidFill>
                  <a:srgbClr val="66668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1601280" y="5288040"/>
                  <a:ext cx="835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-Store, 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1426320" y="4622760"/>
                  <a:ext cx="8146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mos, 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4" name=""/>
              <p:cNvGrpSpPr/>
              <p:nvPr/>
            </p:nvGrpSpPr>
            <p:grpSpPr>
              <a:xfrm>
                <a:off x="2836800" y="4214880"/>
                <a:ext cx="1433160" cy="1775880"/>
                <a:chOff x="2836800" y="4214880"/>
                <a:chExt cx="1433160" cy="1775880"/>
              </a:xfrm>
            </p:grpSpPr>
            <p:sp>
              <p:nvSpPr>
                <p:cNvPr id="1505" name=""/>
                <p:cNvSpPr/>
                <p:nvPr/>
              </p:nvSpPr>
              <p:spPr>
                <a:xfrm>
                  <a:off x="2836800" y="5473440"/>
                  <a:ext cx="552240" cy="517320"/>
                </a:xfrm>
                <a:custGeom>
                  <a:avLst/>
                  <a:gdLst/>
                  <a:ahLst/>
                  <a:rect l="l" t="t" r="r" b="b"/>
                  <a:pathLst>
                    <a:path w="229" h="219">
                      <a:moveTo>
                        <a:pt x="229" y="177"/>
                      </a:moveTo>
                      <a:lnTo>
                        <a:pt x="198" y="167"/>
                      </a:lnTo>
                      <a:lnTo>
                        <a:pt x="177" y="157"/>
                      </a:lnTo>
                      <a:lnTo>
                        <a:pt x="167" y="146"/>
                      </a:lnTo>
                      <a:lnTo>
                        <a:pt x="146" y="136"/>
                      </a:lnTo>
                      <a:lnTo>
                        <a:pt x="115" y="115"/>
                      </a:lnTo>
                      <a:lnTo>
                        <a:pt x="94" y="104"/>
                      </a:lnTo>
                      <a:lnTo>
                        <a:pt x="83" y="94"/>
                      </a:lnTo>
                      <a:lnTo>
                        <a:pt x="62" y="73"/>
                      </a:lnTo>
                      <a:lnTo>
                        <a:pt x="41" y="52"/>
                      </a:lnTo>
                      <a:lnTo>
                        <a:pt x="21" y="31"/>
                      </a:lnTo>
                      <a:lnTo>
                        <a:pt x="10" y="21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10" y="63"/>
                      </a:lnTo>
                      <a:lnTo>
                        <a:pt x="21" y="73"/>
                      </a:lnTo>
                      <a:lnTo>
                        <a:pt x="41" y="94"/>
                      </a:lnTo>
                      <a:lnTo>
                        <a:pt x="62" y="115"/>
                      </a:lnTo>
                      <a:lnTo>
                        <a:pt x="83" y="136"/>
                      </a:lnTo>
                      <a:lnTo>
                        <a:pt x="94" y="146"/>
                      </a:lnTo>
                      <a:lnTo>
                        <a:pt x="115" y="157"/>
                      </a:lnTo>
                      <a:lnTo>
                        <a:pt x="146" y="177"/>
                      </a:lnTo>
                      <a:lnTo>
                        <a:pt x="167" y="188"/>
                      </a:lnTo>
                      <a:lnTo>
                        <a:pt x="177" y="198"/>
                      </a:lnTo>
                      <a:lnTo>
                        <a:pt x="198" y="209"/>
                      </a:lnTo>
                      <a:lnTo>
                        <a:pt x="229" y="219"/>
                      </a:lnTo>
                      <a:lnTo>
                        <a:pt x="229" y="17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2836800" y="4214880"/>
                  <a:ext cx="1433160" cy="1677600"/>
                </a:xfrm>
                <a:custGeom>
                  <a:avLst/>
                  <a:gdLst/>
                  <a:ahLst/>
                  <a:rect l="l" t="t" r="r" b="b"/>
                  <a:pathLst>
                    <a:path w="595" h="710">
                      <a:moveTo>
                        <a:pt x="229" y="710"/>
                      </a:moveTo>
                      <a:lnTo>
                        <a:pt x="198" y="700"/>
                      </a:lnTo>
                      <a:lnTo>
                        <a:pt x="177" y="690"/>
                      </a:lnTo>
                      <a:lnTo>
                        <a:pt x="167" y="679"/>
                      </a:lnTo>
                      <a:lnTo>
                        <a:pt x="146" y="669"/>
                      </a:lnTo>
                      <a:lnTo>
                        <a:pt x="115" y="648"/>
                      </a:lnTo>
                      <a:lnTo>
                        <a:pt x="94" y="637"/>
                      </a:lnTo>
                      <a:lnTo>
                        <a:pt x="83" y="627"/>
                      </a:lnTo>
                      <a:lnTo>
                        <a:pt x="62" y="606"/>
                      </a:lnTo>
                      <a:lnTo>
                        <a:pt x="41" y="585"/>
                      </a:lnTo>
                      <a:lnTo>
                        <a:pt x="21" y="564"/>
                      </a:lnTo>
                      <a:lnTo>
                        <a:pt x="10" y="554"/>
                      </a:lnTo>
                      <a:lnTo>
                        <a:pt x="0" y="533"/>
                      </a:lnTo>
                      <a:lnTo>
                        <a:pt x="595" y="0"/>
                      </a:lnTo>
                      <a:lnTo>
                        <a:pt x="229" y="71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7" name=""/>
          <p:cNvGrpSpPr/>
          <p:nvPr/>
        </p:nvGrpSpPr>
        <p:grpSpPr>
          <a:xfrm>
            <a:off x="4854600" y="3770280"/>
            <a:ext cx="3574440" cy="1359000"/>
            <a:chOff x="4854600" y="3770280"/>
            <a:chExt cx="3574440" cy="1359000"/>
          </a:xfrm>
        </p:grpSpPr>
        <p:sp>
          <p:nvSpPr>
            <p:cNvPr id="1508" name=""/>
            <p:cNvSpPr/>
            <p:nvPr/>
          </p:nvSpPr>
          <p:spPr>
            <a:xfrm>
              <a:off x="6288120" y="3844800"/>
              <a:ext cx="503280" cy="1284480"/>
            </a:xfrm>
            <a:custGeom>
              <a:avLst/>
              <a:gdLst/>
              <a:ahLst/>
              <a:rect l="l" t="t" r="r" b="b"/>
              <a:pathLst>
                <a:path w="209" h="543">
                  <a:moveTo>
                    <a:pt x="209" y="0"/>
                  </a:moveTo>
                  <a:lnTo>
                    <a:pt x="209" y="31"/>
                  </a:lnTo>
                  <a:lnTo>
                    <a:pt x="198" y="52"/>
                  </a:lnTo>
                  <a:lnTo>
                    <a:pt x="198" y="83"/>
                  </a:lnTo>
                  <a:lnTo>
                    <a:pt x="198" y="115"/>
                  </a:lnTo>
                  <a:lnTo>
                    <a:pt x="188" y="135"/>
                  </a:lnTo>
                  <a:lnTo>
                    <a:pt x="188" y="146"/>
                  </a:lnTo>
                  <a:lnTo>
                    <a:pt x="177" y="177"/>
                  </a:lnTo>
                  <a:lnTo>
                    <a:pt x="167" y="209"/>
                  </a:lnTo>
                  <a:lnTo>
                    <a:pt x="167" y="229"/>
                  </a:lnTo>
                  <a:lnTo>
                    <a:pt x="157" y="261"/>
                  </a:lnTo>
                  <a:lnTo>
                    <a:pt x="146" y="282"/>
                  </a:lnTo>
                  <a:lnTo>
                    <a:pt x="136" y="313"/>
                  </a:lnTo>
                  <a:lnTo>
                    <a:pt x="115" y="334"/>
                  </a:lnTo>
                  <a:lnTo>
                    <a:pt x="104" y="355"/>
                  </a:lnTo>
                  <a:lnTo>
                    <a:pt x="94" y="386"/>
                  </a:lnTo>
                  <a:lnTo>
                    <a:pt x="83" y="396"/>
                  </a:lnTo>
                  <a:lnTo>
                    <a:pt x="73" y="417"/>
                  </a:lnTo>
                  <a:lnTo>
                    <a:pt x="52" y="438"/>
                  </a:lnTo>
                  <a:lnTo>
                    <a:pt x="31" y="459"/>
                  </a:lnTo>
                  <a:lnTo>
                    <a:pt x="21" y="480"/>
                  </a:lnTo>
                  <a:lnTo>
                    <a:pt x="0" y="501"/>
                  </a:lnTo>
                  <a:lnTo>
                    <a:pt x="0" y="543"/>
                  </a:lnTo>
                  <a:lnTo>
                    <a:pt x="21" y="522"/>
                  </a:lnTo>
                  <a:lnTo>
                    <a:pt x="31" y="501"/>
                  </a:lnTo>
                  <a:lnTo>
                    <a:pt x="52" y="480"/>
                  </a:lnTo>
                  <a:lnTo>
                    <a:pt x="73" y="459"/>
                  </a:lnTo>
                  <a:lnTo>
                    <a:pt x="83" y="438"/>
                  </a:lnTo>
                  <a:lnTo>
                    <a:pt x="94" y="428"/>
                  </a:lnTo>
                  <a:lnTo>
                    <a:pt x="104" y="396"/>
                  </a:lnTo>
                  <a:lnTo>
                    <a:pt x="115" y="376"/>
                  </a:lnTo>
                  <a:lnTo>
                    <a:pt x="136" y="355"/>
                  </a:lnTo>
                  <a:lnTo>
                    <a:pt x="146" y="323"/>
                  </a:lnTo>
                  <a:lnTo>
                    <a:pt x="157" y="303"/>
                  </a:lnTo>
                  <a:lnTo>
                    <a:pt x="167" y="271"/>
                  </a:lnTo>
                  <a:lnTo>
                    <a:pt x="167" y="250"/>
                  </a:lnTo>
                  <a:lnTo>
                    <a:pt x="177" y="219"/>
                  </a:lnTo>
                  <a:lnTo>
                    <a:pt x="188" y="188"/>
                  </a:lnTo>
                  <a:lnTo>
                    <a:pt x="188" y="177"/>
                  </a:lnTo>
                  <a:lnTo>
                    <a:pt x="198" y="156"/>
                  </a:lnTo>
                  <a:lnTo>
                    <a:pt x="198" y="125"/>
                  </a:lnTo>
                  <a:lnTo>
                    <a:pt x="198" y="94"/>
                  </a:lnTo>
                  <a:lnTo>
                    <a:pt x="209" y="73"/>
                  </a:lnTo>
                  <a:lnTo>
                    <a:pt x="209" y="4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8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854600" y="3770280"/>
              <a:ext cx="1433520" cy="135900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0" y="0"/>
                  </a:moveTo>
                  <a:lnTo>
                    <a:pt x="595" y="533"/>
                  </a:lnTo>
                  <a:lnTo>
                    <a:pt x="595" y="5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41360" y="4511520"/>
              <a:ext cx="168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formance,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54600" y="3770280"/>
              <a:ext cx="1936800" cy="1258920"/>
            </a:xfrm>
            <a:custGeom>
              <a:avLst/>
              <a:gdLst/>
              <a:ahLst/>
              <a:rect l="l" t="t" r="r" b="b"/>
              <a:pathLst>
                <a:path w="804" h="533">
                  <a:moveTo>
                    <a:pt x="804" y="32"/>
                  </a:moveTo>
                  <a:lnTo>
                    <a:pt x="804" y="63"/>
                  </a:lnTo>
                  <a:lnTo>
                    <a:pt x="793" y="84"/>
                  </a:lnTo>
                  <a:lnTo>
                    <a:pt x="793" y="115"/>
                  </a:lnTo>
                  <a:lnTo>
                    <a:pt x="793" y="147"/>
                  </a:lnTo>
                  <a:lnTo>
                    <a:pt x="783" y="167"/>
                  </a:lnTo>
                  <a:lnTo>
                    <a:pt x="783" y="178"/>
                  </a:lnTo>
                  <a:lnTo>
                    <a:pt x="772" y="209"/>
                  </a:lnTo>
                  <a:lnTo>
                    <a:pt x="762" y="241"/>
                  </a:lnTo>
                  <a:lnTo>
                    <a:pt x="762" y="261"/>
                  </a:lnTo>
                  <a:lnTo>
                    <a:pt x="752" y="293"/>
                  </a:lnTo>
                  <a:lnTo>
                    <a:pt x="741" y="314"/>
                  </a:lnTo>
                  <a:lnTo>
                    <a:pt x="731" y="345"/>
                  </a:lnTo>
                  <a:lnTo>
                    <a:pt x="710" y="366"/>
                  </a:lnTo>
                  <a:lnTo>
                    <a:pt x="699" y="387"/>
                  </a:lnTo>
                  <a:lnTo>
                    <a:pt x="689" y="418"/>
                  </a:lnTo>
                  <a:lnTo>
                    <a:pt x="678" y="428"/>
                  </a:lnTo>
                  <a:lnTo>
                    <a:pt x="668" y="449"/>
                  </a:lnTo>
                  <a:lnTo>
                    <a:pt x="647" y="470"/>
                  </a:lnTo>
                  <a:lnTo>
                    <a:pt x="626" y="491"/>
                  </a:lnTo>
                  <a:lnTo>
                    <a:pt x="616" y="512"/>
                  </a:lnTo>
                  <a:lnTo>
                    <a:pt x="595" y="533"/>
                  </a:lnTo>
                  <a:lnTo>
                    <a:pt x="0" y="0"/>
                  </a:lnTo>
                  <a:lnTo>
                    <a:pt x="804" y="32"/>
                  </a:lnTo>
                  <a:close/>
                </a:path>
              </a:pathLst>
            </a:custGeom>
            <a:solidFill>
              <a:srgbClr val="0000fe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2438280" y="5964120"/>
            <a:ext cx="691848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873000" y="1636560"/>
            <a:ext cx="7578720" cy="43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830160" y="1498680"/>
            <a:ext cx="8008920" cy="1200240"/>
          </a:xfrm>
          <a:prstGeom prst="rightArrow">
            <a:avLst>
              <a:gd name="adj1" fmla="val 86167"/>
              <a:gd name="adj2" fmla="val 128852"/>
            </a:avLst>
          </a:prstGeom>
          <a:gradFill rotWithShape="0">
            <a:gsLst>
              <a:gs pos="0">
                <a:srgbClr val="3399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rot="5400000">
            <a:off x="5891040" y="3153960"/>
            <a:ext cx="4568760" cy="1263600"/>
          </a:xfrm>
          <a:prstGeom prst="rightArrow">
            <a:avLst>
              <a:gd name="adj1" fmla="val 80287"/>
              <a:gd name="adj2" fmla="val 86943"/>
            </a:avLst>
          </a:prstGeom>
          <a:gradFill rotWithShape="0">
            <a:gsLst>
              <a:gs pos="0">
                <a:srgbClr val="3399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147680" y="223560"/>
            <a:ext cx="77090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UT sometimes brands depend on “price discounting” too much  (not healthy?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7246800" y="1270080"/>
            <a:ext cx="1820520" cy="1109160"/>
            <a:chOff x="7246800" y="1270080"/>
            <a:chExt cx="1820520" cy="1109160"/>
          </a:xfrm>
        </p:grpSpPr>
        <p:sp>
          <p:nvSpPr>
            <p:cNvPr id="1518" name=""/>
            <p:cNvSpPr/>
            <p:nvPr/>
          </p:nvSpPr>
          <p:spPr>
            <a:xfrm>
              <a:off x="7246800" y="1270080"/>
              <a:ext cx="1820520" cy="1109160"/>
            </a:xfrm>
            <a:prstGeom prst="ellipse">
              <a:avLst/>
            </a:prstGeom>
            <a:gradFill rotWithShape="0">
              <a:gsLst>
                <a:gs pos="0">
                  <a:srgbClr val="eaf4ef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381440" y="1438200"/>
              <a:ext cx="146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Recall &amp; Respo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5334120" y="561816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sponsiv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066680" y="17272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call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826920" y="1812600"/>
            <a:ext cx="17640" cy="42512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801720" y="6063840"/>
            <a:ext cx="7704000" cy="126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2607120" y="5932440"/>
            <a:ext cx="4959000" cy="905040"/>
            <a:chOff x="2607120" y="5932440"/>
            <a:chExt cx="4959000" cy="905040"/>
          </a:xfrm>
        </p:grpSpPr>
        <p:sp>
          <p:nvSpPr>
            <p:cNvPr id="1525" name=""/>
            <p:cNvSpPr/>
            <p:nvPr/>
          </p:nvSpPr>
          <p:spPr>
            <a:xfrm>
              <a:off x="3511800" y="6147000"/>
              <a:ext cx="34891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ponse/Impact (Penalty/Rewar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6" name=""/>
            <p:cNvGrpSpPr/>
            <p:nvPr/>
          </p:nvGrpSpPr>
          <p:grpSpPr>
            <a:xfrm>
              <a:off x="2607120" y="5932440"/>
              <a:ext cx="4959000" cy="905040"/>
              <a:chOff x="2607120" y="5932440"/>
              <a:chExt cx="4959000" cy="905040"/>
            </a:xfrm>
          </p:grpSpPr>
          <p:sp>
            <p:nvSpPr>
              <p:cNvPr id="1527" name=""/>
              <p:cNvSpPr/>
              <p:nvPr/>
            </p:nvSpPr>
            <p:spPr>
              <a:xfrm rot="5400000">
                <a:off x="4633920" y="3905280"/>
                <a:ext cx="905040" cy="4959000"/>
              </a:xfrm>
              <a:prstGeom prst="upArrow">
                <a:avLst>
                  <a:gd name="adj1" fmla="val 50000"/>
                  <a:gd name="adj2" fmla="val 136983"/>
                </a:avLst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319560" y="6147360"/>
                <a:ext cx="35604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Importance for Response</a:t>
                </a:r>
                <a:br>
                  <a:rPr sz="1400"/>
                </a:b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(Derived from Requirements/Reward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9" name=""/>
          <p:cNvSpPr/>
          <p:nvPr/>
        </p:nvSpPr>
        <p:spPr>
          <a:xfrm>
            <a:off x="7288200" y="650880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: CPG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263520" y="1460520"/>
            <a:ext cx="593640" cy="4346640"/>
            <a:chOff x="263520" y="1460520"/>
            <a:chExt cx="593640" cy="4346640"/>
          </a:xfrm>
        </p:grpSpPr>
        <p:sp>
          <p:nvSpPr>
            <p:cNvPr id="1531" name=""/>
            <p:cNvSpPr/>
            <p:nvPr/>
          </p:nvSpPr>
          <p:spPr>
            <a:xfrm rot="16200000">
              <a:off x="-642600" y="3531600"/>
              <a:ext cx="24436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all (Visibility/Linke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263520" y="1460520"/>
              <a:ext cx="593640" cy="4346640"/>
              <a:chOff x="263520" y="1460520"/>
              <a:chExt cx="593640" cy="4346640"/>
            </a:xfrm>
          </p:grpSpPr>
          <p:sp>
            <p:nvSpPr>
              <p:cNvPr id="1533" name=""/>
              <p:cNvSpPr/>
              <p:nvPr/>
            </p:nvSpPr>
            <p:spPr>
              <a:xfrm rot="16200000">
                <a:off x="-1612800" y="3336840"/>
                <a:ext cx="4346640" cy="593640"/>
              </a:xfrm>
              <a:prstGeom prst="rightArrow">
                <a:avLst>
                  <a:gd name="adj1" fmla="val 50000"/>
                  <a:gd name="adj2" fmla="val 18305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6200000">
                <a:off x="-788400" y="4021920"/>
                <a:ext cx="278316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Recall;  touched!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5" name=""/>
          <p:cNvSpPr/>
          <p:nvPr/>
        </p:nvSpPr>
        <p:spPr>
          <a:xfrm>
            <a:off x="1338120" y="1257480"/>
            <a:ext cx="6686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4440" indent="-244440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0 Touch*Point Summary Audit …to Purchase Intent (Total Sam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946800" y="1866600"/>
            <a:ext cx="7186320" cy="3919680"/>
            <a:chOff x="946800" y="1866600"/>
            <a:chExt cx="7186320" cy="3919680"/>
          </a:xfrm>
        </p:grpSpPr>
        <p:sp>
          <p:nvSpPr>
            <p:cNvPr id="1537" name=""/>
            <p:cNvSpPr/>
            <p:nvPr/>
          </p:nvSpPr>
          <p:spPr>
            <a:xfrm>
              <a:off x="7588080" y="2242800"/>
              <a:ext cx="5508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48120" y="511164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8" y="0"/>
                  </a:moveTo>
                  <a:lnTo>
                    <a:pt x="35" y="17"/>
                  </a:lnTo>
                  <a:lnTo>
                    <a:pt x="18" y="34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219280" y="3404880"/>
              <a:ext cx="53640" cy="55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152600" y="2630160"/>
              <a:ext cx="53640" cy="55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954240" y="456876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771720" y="476244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732120" y="379404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644640" y="301932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7" y="0"/>
                  </a:moveTo>
                  <a:lnTo>
                    <a:pt x="35" y="17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206520" y="2049120"/>
              <a:ext cx="5508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71520" y="3211200"/>
              <a:ext cx="53640" cy="55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871360" y="5149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796840" y="282384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663640" y="4956120"/>
              <a:ext cx="5364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626920" y="437508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357280" y="476244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347560" y="41814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95280" y="456876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057040" y="5149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028600" y="5344920"/>
              <a:ext cx="5364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17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995120" y="5149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958760" y="534492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7" y="0"/>
                  </a:moveTo>
                  <a:lnTo>
                    <a:pt x="35" y="17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6480" y="495612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774440" y="573084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741320" y="5149800"/>
              <a:ext cx="5364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709640" y="534492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7" y="0"/>
                  </a:moveTo>
                  <a:lnTo>
                    <a:pt x="35" y="17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638000" y="514980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79200" y="5008320"/>
              <a:ext cx="968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V Ad #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46800" y="5236920"/>
              <a:ext cx="1544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enting Magazin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434960" y="5549760"/>
              <a:ext cx="7488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370160" y="4773600"/>
              <a:ext cx="9802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r. Foo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896840" y="5289480"/>
              <a:ext cx="10062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ki Te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667520" y="4838400"/>
              <a:ext cx="1058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nt Ad #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771920" y="5468760"/>
              <a:ext cx="11862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mily Circl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907640" y="5008320"/>
              <a:ext cx="12196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#2 Pl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667160" y="4387680"/>
              <a:ext cx="1148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chael Ra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66720" y="3998880"/>
              <a:ext cx="1244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ert Coup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637280" y="4579920"/>
              <a:ext cx="14619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Insert Coup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336040" y="4192560"/>
              <a:ext cx="6480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526840" y="4673520"/>
              <a:ext cx="16354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k of Line Packag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090960" y="4808520"/>
              <a:ext cx="6876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187360" y="2643120"/>
              <a:ext cx="1346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-store Coup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641680" y="5081400"/>
              <a:ext cx="14756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k of line #2 Bo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426400" y="3028680"/>
              <a:ext cx="12776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Packag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609640" y="1866600"/>
              <a:ext cx="15076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Ext  Packag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25880" y="2836800"/>
              <a:ext cx="114192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sta Ext #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33160" y="3611520"/>
              <a:ext cx="8478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log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608280" y="4735440"/>
              <a:ext cx="11358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k of  Bo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75720" y="4387680"/>
              <a:ext cx="1242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ord of Mout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670200" y="2447640"/>
              <a:ext cx="968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V Ad #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441320" y="3224160"/>
              <a:ext cx="15562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Price Promo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30160" y="4929120"/>
              <a:ext cx="9057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ebs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826680" y="2062080"/>
              <a:ext cx="13064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ce Promo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 rot="20005800">
            <a:off x="4711320" y="2195280"/>
            <a:ext cx="3378240" cy="121896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ose things that drive trial…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10760" y="1660320"/>
            <a:ext cx="8271000" cy="47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ry to popular belief,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rial promo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up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been observed to drive grea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d equ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rticularly for less established b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SzPct val="12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observed in our Equity*Builder database that ‘product performance’ is a key driver of brand equity and repeat purchase interest.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arketing events which driv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t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consumers to experience product performance, and in turn, drive “Familiarity”, “Relevance”, and “Quality” (the elements of equ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The Newer ‘digital media’ can work, but they often have low reach/recall…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36680" y="1514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ing digital media need to be divided into their executional part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anner a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Internet adverti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nd to ear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w re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they can h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impact (on excep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ebsi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ten h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w inc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visits, but in some exceptions we have observed high levels (e.g. durables, lotter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7b7bad"/>
              </a:buClr>
              <a:buSzPct val="13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websites are oft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act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rely “un-impactful”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a8a0"/>
              </a:buClr>
              <a:buSzPct val="13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th having as activ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iral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not been observed as noteworthy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he Internet has wide reach, and growing participation, any one website, video, or piece of on-line advertising tends to have low reach/recall.  - Naturally, there are excep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252080" y="27756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sites and On-Line contribut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2282760" y="1841400"/>
            <a:ext cx="4511520" cy="4422960"/>
            <a:chOff x="2282760" y="1841400"/>
            <a:chExt cx="4511520" cy="4422960"/>
          </a:xfrm>
        </p:grpSpPr>
        <p:sp>
          <p:nvSpPr>
            <p:cNvPr id="1596" name=""/>
            <p:cNvSpPr/>
            <p:nvPr/>
          </p:nvSpPr>
          <p:spPr>
            <a:xfrm>
              <a:off x="4854240" y="2513160"/>
              <a:ext cx="1433520" cy="13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0" y="532"/>
                  </a:moveTo>
                  <a:lnTo>
                    <a:pt x="595" y="0"/>
                  </a:lnTo>
                  <a:lnTo>
                    <a:pt x="595" y="42"/>
                  </a:lnTo>
                  <a:lnTo>
                    <a:pt x="0" y="574"/>
                  </a:lnTo>
                  <a:lnTo>
                    <a:pt x="0" y="5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854240" y="1895400"/>
              <a:ext cx="1433520" cy="1874880"/>
            </a:xfrm>
            <a:custGeom>
              <a:avLst/>
              <a:gdLst/>
              <a:ahLst/>
              <a:rect l="l" t="t" r="r" b="b"/>
              <a:pathLst>
                <a:path w="595" h="793">
                  <a:moveTo>
                    <a:pt x="0" y="0"/>
                  </a:moveTo>
                  <a:lnTo>
                    <a:pt x="21" y="0"/>
                  </a:lnTo>
                  <a:lnTo>
                    <a:pt x="52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36" y="10"/>
                  </a:lnTo>
                  <a:lnTo>
                    <a:pt x="167" y="10"/>
                  </a:lnTo>
                  <a:lnTo>
                    <a:pt x="188" y="21"/>
                  </a:lnTo>
                  <a:lnTo>
                    <a:pt x="219" y="31"/>
                  </a:lnTo>
                  <a:lnTo>
                    <a:pt x="250" y="31"/>
                  </a:lnTo>
                  <a:lnTo>
                    <a:pt x="271" y="42"/>
                  </a:lnTo>
                  <a:lnTo>
                    <a:pt x="303" y="52"/>
                  </a:lnTo>
                  <a:lnTo>
                    <a:pt x="324" y="62"/>
                  </a:lnTo>
                  <a:lnTo>
                    <a:pt x="355" y="73"/>
                  </a:lnTo>
                  <a:lnTo>
                    <a:pt x="376" y="94"/>
                  </a:lnTo>
                  <a:lnTo>
                    <a:pt x="397" y="104"/>
                  </a:lnTo>
                  <a:lnTo>
                    <a:pt x="428" y="115"/>
                  </a:lnTo>
                  <a:lnTo>
                    <a:pt x="449" y="136"/>
                  </a:lnTo>
                  <a:lnTo>
                    <a:pt x="470" y="146"/>
                  </a:lnTo>
                  <a:lnTo>
                    <a:pt x="491" y="167"/>
                  </a:lnTo>
                  <a:lnTo>
                    <a:pt x="511" y="188"/>
                  </a:lnTo>
                  <a:lnTo>
                    <a:pt x="532" y="198"/>
                  </a:lnTo>
                  <a:lnTo>
                    <a:pt x="553" y="219"/>
                  </a:lnTo>
                  <a:lnTo>
                    <a:pt x="574" y="240"/>
                  </a:lnTo>
                  <a:lnTo>
                    <a:pt x="595" y="261"/>
                  </a:lnTo>
                  <a:lnTo>
                    <a:pt x="0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91040" y="3770280"/>
              <a:ext cx="3240" cy="17136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854240" y="3770280"/>
              <a:ext cx="1936800" cy="147600"/>
            </a:xfrm>
            <a:custGeom>
              <a:avLst/>
              <a:gdLst/>
              <a:ahLst/>
              <a:rect l="l" t="t" r="r" b="b"/>
              <a:pathLst>
                <a:path w="804" h="63">
                  <a:moveTo>
                    <a:pt x="0" y="0"/>
                  </a:moveTo>
                  <a:lnTo>
                    <a:pt x="804" y="21"/>
                  </a:lnTo>
                  <a:lnTo>
                    <a:pt x="804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854240" y="2513160"/>
              <a:ext cx="1936800" cy="1331640"/>
            </a:xfrm>
            <a:custGeom>
              <a:avLst/>
              <a:gdLst/>
              <a:ahLst/>
              <a:rect l="l" t="t" r="r" b="b"/>
              <a:pathLst>
                <a:path w="804" h="564">
                  <a:moveTo>
                    <a:pt x="595" y="0"/>
                  </a:moveTo>
                  <a:lnTo>
                    <a:pt x="616" y="21"/>
                  </a:lnTo>
                  <a:lnTo>
                    <a:pt x="626" y="42"/>
                  </a:lnTo>
                  <a:lnTo>
                    <a:pt x="647" y="63"/>
                  </a:lnTo>
                  <a:lnTo>
                    <a:pt x="658" y="73"/>
                  </a:lnTo>
                  <a:lnTo>
                    <a:pt x="668" y="104"/>
                  </a:lnTo>
                  <a:lnTo>
                    <a:pt x="689" y="125"/>
                  </a:lnTo>
                  <a:lnTo>
                    <a:pt x="699" y="146"/>
                  </a:lnTo>
                  <a:lnTo>
                    <a:pt x="710" y="177"/>
                  </a:lnTo>
                  <a:lnTo>
                    <a:pt x="731" y="198"/>
                  </a:lnTo>
                  <a:lnTo>
                    <a:pt x="731" y="209"/>
                  </a:lnTo>
                  <a:lnTo>
                    <a:pt x="741" y="240"/>
                  </a:lnTo>
                  <a:lnTo>
                    <a:pt x="752" y="261"/>
                  </a:lnTo>
                  <a:lnTo>
                    <a:pt x="762" y="292"/>
                  </a:lnTo>
                  <a:lnTo>
                    <a:pt x="772" y="313"/>
                  </a:lnTo>
                  <a:lnTo>
                    <a:pt x="772" y="344"/>
                  </a:lnTo>
                  <a:lnTo>
                    <a:pt x="783" y="355"/>
                  </a:lnTo>
                  <a:lnTo>
                    <a:pt x="783" y="386"/>
                  </a:lnTo>
                  <a:lnTo>
                    <a:pt x="793" y="407"/>
                  </a:lnTo>
                  <a:lnTo>
                    <a:pt x="793" y="438"/>
                  </a:lnTo>
                  <a:lnTo>
                    <a:pt x="793" y="470"/>
                  </a:lnTo>
                  <a:lnTo>
                    <a:pt x="804" y="491"/>
                  </a:lnTo>
                  <a:lnTo>
                    <a:pt x="804" y="512"/>
                  </a:lnTo>
                  <a:lnTo>
                    <a:pt x="804" y="532"/>
                  </a:lnTo>
                  <a:lnTo>
                    <a:pt x="804" y="564"/>
                  </a:lnTo>
                  <a:lnTo>
                    <a:pt x="0" y="53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287760" y="3844800"/>
              <a:ext cx="503280" cy="1284480"/>
            </a:xfrm>
            <a:custGeom>
              <a:avLst/>
              <a:gdLst/>
              <a:ahLst/>
              <a:rect l="l" t="t" r="r" b="b"/>
              <a:pathLst>
                <a:path w="209" h="543">
                  <a:moveTo>
                    <a:pt x="209" y="0"/>
                  </a:moveTo>
                  <a:lnTo>
                    <a:pt x="209" y="31"/>
                  </a:lnTo>
                  <a:lnTo>
                    <a:pt x="198" y="52"/>
                  </a:lnTo>
                  <a:lnTo>
                    <a:pt x="198" y="83"/>
                  </a:lnTo>
                  <a:lnTo>
                    <a:pt x="198" y="115"/>
                  </a:lnTo>
                  <a:lnTo>
                    <a:pt x="188" y="135"/>
                  </a:lnTo>
                  <a:lnTo>
                    <a:pt x="188" y="146"/>
                  </a:lnTo>
                  <a:lnTo>
                    <a:pt x="177" y="177"/>
                  </a:lnTo>
                  <a:lnTo>
                    <a:pt x="167" y="209"/>
                  </a:lnTo>
                  <a:lnTo>
                    <a:pt x="167" y="229"/>
                  </a:lnTo>
                  <a:lnTo>
                    <a:pt x="157" y="261"/>
                  </a:lnTo>
                  <a:lnTo>
                    <a:pt x="146" y="282"/>
                  </a:lnTo>
                  <a:lnTo>
                    <a:pt x="136" y="313"/>
                  </a:lnTo>
                  <a:lnTo>
                    <a:pt x="115" y="334"/>
                  </a:lnTo>
                  <a:lnTo>
                    <a:pt x="104" y="355"/>
                  </a:lnTo>
                  <a:lnTo>
                    <a:pt x="94" y="386"/>
                  </a:lnTo>
                  <a:lnTo>
                    <a:pt x="83" y="396"/>
                  </a:lnTo>
                  <a:lnTo>
                    <a:pt x="73" y="417"/>
                  </a:lnTo>
                  <a:lnTo>
                    <a:pt x="52" y="438"/>
                  </a:lnTo>
                  <a:lnTo>
                    <a:pt x="31" y="459"/>
                  </a:lnTo>
                  <a:lnTo>
                    <a:pt x="21" y="480"/>
                  </a:lnTo>
                  <a:lnTo>
                    <a:pt x="0" y="501"/>
                  </a:lnTo>
                  <a:lnTo>
                    <a:pt x="0" y="543"/>
                  </a:lnTo>
                  <a:lnTo>
                    <a:pt x="21" y="522"/>
                  </a:lnTo>
                  <a:lnTo>
                    <a:pt x="31" y="501"/>
                  </a:lnTo>
                  <a:lnTo>
                    <a:pt x="52" y="480"/>
                  </a:lnTo>
                  <a:lnTo>
                    <a:pt x="73" y="459"/>
                  </a:lnTo>
                  <a:lnTo>
                    <a:pt x="83" y="438"/>
                  </a:lnTo>
                  <a:lnTo>
                    <a:pt x="94" y="428"/>
                  </a:lnTo>
                  <a:lnTo>
                    <a:pt x="104" y="396"/>
                  </a:lnTo>
                  <a:lnTo>
                    <a:pt x="115" y="376"/>
                  </a:lnTo>
                  <a:lnTo>
                    <a:pt x="136" y="355"/>
                  </a:lnTo>
                  <a:lnTo>
                    <a:pt x="146" y="323"/>
                  </a:lnTo>
                  <a:lnTo>
                    <a:pt x="157" y="303"/>
                  </a:lnTo>
                  <a:lnTo>
                    <a:pt x="167" y="271"/>
                  </a:lnTo>
                  <a:lnTo>
                    <a:pt x="167" y="250"/>
                  </a:lnTo>
                  <a:lnTo>
                    <a:pt x="177" y="219"/>
                  </a:lnTo>
                  <a:lnTo>
                    <a:pt x="188" y="188"/>
                  </a:lnTo>
                  <a:lnTo>
                    <a:pt x="188" y="177"/>
                  </a:lnTo>
                  <a:lnTo>
                    <a:pt x="198" y="156"/>
                  </a:lnTo>
                  <a:lnTo>
                    <a:pt x="198" y="125"/>
                  </a:lnTo>
                  <a:lnTo>
                    <a:pt x="198" y="94"/>
                  </a:lnTo>
                  <a:lnTo>
                    <a:pt x="209" y="73"/>
                  </a:lnTo>
                  <a:lnTo>
                    <a:pt x="209" y="41"/>
                  </a:lnTo>
                  <a:lnTo>
                    <a:pt x="209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854240" y="3770280"/>
              <a:ext cx="1433520" cy="135900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0" y="0"/>
                  </a:moveTo>
                  <a:lnTo>
                    <a:pt x="595" y="533"/>
                  </a:lnTo>
                  <a:lnTo>
                    <a:pt x="595" y="5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854240" y="3770280"/>
              <a:ext cx="1936800" cy="1258920"/>
            </a:xfrm>
            <a:custGeom>
              <a:avLst/>
              <a:gdLst/>
              <a:ahLst/>
              <a:rect l="l" t="t" r="r" b="b"/>
              <a:pathLst>
                <a:path w="804" h="533">
                  <a:moveTo>
                    <a:pt x="804" y="32"/>
                  </a:moveTo>
                  <a:lnTo>
                    <a:pt x="804" y="63"/>
                  </a:lnTo>
                  <a:lnTo>
                    <a:pt x="793" y="84"/>
                  </a:lnTo>
                  <a:lnTo>
                    <a:pt x="793" y="115"/>
                  </a:lnTo>
                  <a:lnTo>
                    <a:pt x="793" y="147"/>
                  </a:lnTo>
                  <a:lnTo>
                    <a:pt x="783" y="167"/>
                  </a:lnTo>
                  <a:lnTo>
                    <a:pt x="783" y="178"/>
                  </a:lnTo>
                  <a:lnTo>
                    <a:pt x="772" y="209"/>
                  </a:lnTo>
                  <a:lnTo>
                    <a:pt x="762" y="241"/>
                  </a:lnTo>
                  <a:lnTo>
                    <a:pt x="762" y="261"/>
                  </a:lnTo>
                  <a:lnTo>
                    <a:pt x="752" y="293"/>
                  </a:lnTo>
                  <a:lnTo>
                    <a:pt x="741" y="314"/>
                  </a:lnTo>
                  <a:lnTo>
                    <a:pt x="731" y="345"/>
                  </a:lnTo>
                  <a:lnTo>
                    <a:pt x="710" y="366"/>
                  </a:lnTo>
                  <a:lnTo>
                    <a:pt x="699" y="387"/>
                  </a:lnTo>
                  <a:lnTo>
                    <a:pt x="689" y="418"/>
                  </a:lnTo>
                  <a:lnTo>
                    <a:pt x="678" y="428"/>
                  </a:lnTo>
                  <a:lnTo>
                    <a:pt x="668" y="449"/>
                  </a:lnTo>
                  <a:lnTo>
                    <a:pt x="647" y="470"/>
                  </a:lnTo>
                  <a:lnTo>
                    <a:pt x="626" y="491"/>
                  </a:lnTo>
                  <a:lnTo>
                    <a:pt x="616" y="512"/>
                  </a:lnTo>
                  <a:lnTo>
                    <a:pt x="595" y="533"/>
                  </a:lnTo>
                  <a:lnTo>
                    <a:pt x="0" y="0"/>
                  </a:lnTo>
                  <a:lnTo>
                    <a:pt x="804" y="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230440" y="5448240"/>
              <a:ext cx="879480" cy="641520"/>
            </a:xfrm>
            <a:custGeom>
              <a:avLst/>
              <a:gdLst/>
              <a:ahLst/>
              <a:rect l="l" t="t" r="r" b="b"/>
              <a:pathLst>
                <a:path w="365" h="271">
                  <a:moveTo>
                    <a:pt x="365" y="0"/>
                  </a:moveTo>
                  <a:lnTo>
                    <a:pt x="344" y="21"/>
                  </a:lnTo>
                  <a:lnTo>
                    <a:pt x="334" y="31"/>
                  </a:lnTo>
                  <a:lnTo>
                    <a:pt x="313" y="52"/>
                  </a:lnTo>
                  <a:lnTo>
                    <a:pt x="292" y="73"/>
                  </a:lnTo>
                  <a:lnTo>
                    <a:pt x="271" y="94"/>
                  </a:lnTo>
                  <a:lnTo>
                    <a:pt x="261" y="104"/>
                  </a:lnTo>
                  <a:lnTo>
                    <a:pt x="240" y="115"/>
                  </a:lnTo>
                  <a:lnTo>
                    <a:pt x="219" y="136"/>
                  </a:lnTo>
                  <a:lnTo>
                    <a:pt x="198" y="146"/>
                  </a:lnTo>
                  <a:lnTo>
                    <a:pt x="177" y="157"/>
                  </a:lnTo>
                  <a:lnTo>
                    <a:pt x="156" y="167"/>
                  </a:lnTo>
                  <a:lnTo>
                    <a:pt x="135" y="177"/>
                  </a:lnTo>
                  <a:lnTo>
                    <a:pt x="125" y="188"/>
                  </a:lnTo>
                  <a:lnTo>
                    <a:pt x="94" y="198"/>
                  </a:lnTo>
                  <a:lnTo>
                    <a:pt x="73" y="209"/>
                  </a:lnTo>
                  <a:lnTo>
                    <a:pt x="41" y="219"/>
                  </a:lnTo>
                  <a:lnTo>
                    <a:pt x="31" y="230"/>
                  </a:lnTo>
                  <a:lnTo>
                    <a:pt x="0" y="230"/>
                  </a:lnTo>
                  <a:lnTo>
                    <a:pt x="0" y="271"/>
                  </a:lnTo>
                  <a:lnTo>
                    <a:pt x="31" y="271"/>
                  </a:lnTo>
                  <a:lnTo>
                    <a:pt x="41" y="261"/>
                  </a:lnTo>
                  <a:lnTo>
                    <a:pt x="73" y="251"/>
                  </a:lnTo>
                  <a:lnTo>
                    <a:pt x="94" y="240"/>
                  </a:lnTo>
                  <a:lnTo>
                    <a:pt x="125" y="230"/>
                  </a:lnTo>
                  <a:lnTo>
                    <a:pt x="135" y="219"/>
                  </a:lnTo>
                  <a:lnTo>
                    <a:pt x="156" y="209"/>
                  </a:lnTo>
                  <a:lnTo>
                    <a:pt x="177" y="198"/>
                  </a:lnTo>
                  <a:lnTo>
                    <a:pt x="198" y="188"/>
                  </a:lnTo>
                  <a:lnTo>
                    <a:pt x="219" y="177"/>
                  </a:lnTo>
                  <a:lnTo>
                    <a:pt x="240" y="157"/>
                  </a:lnTo>
                  <a:lnTo>
                    <a:pt x="261" y="146"/>
                  </a:lnTo>
                  <a:lnTo>
                    <a:pt x="271" y="136"/>
                  </a:lnTo>
                  <a:lnTo>
                    <a:pt x="292" y="115"/>
                  </a:lnTo>
                  <a:lnTo>
                    <a:pt x="313" y="94"/>
                  </a:lnTo>
                  <a:lnTo>
                    <a:pt x="334" y="73"/>
                  </a:lnTo>
                  <a:lnTo>
                    <a:pt x="344" y="63"/>
                  </a:lnTo>
                  <a:lnTo>
                    <a:pt x="365" y="42"/>
                  </a:lnTo>
                  <a:lnTo>
                    <a:pt x="36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76400" y="4189320"/>
              <a:ext cx="554040" cy="1900440"/>
            </a:xfrm>
            <a:custGeom>
              <a:avLst/>
              <a:gdLst/>
              <a:ahLst/>
              <a:rect l="l" t="t" r="r" b="b"/>
              <a:pathLst>
                <a:path w="230" h="804">
                  <a:moveTo>
                    <a:pt x="0" y="0"/>
                  </a:moveTo>
                  <a:lnTo>
                    <a:pt x="230" y="763"/>
                  </a:lnTo>
                  <a:lnTo>
                    <a:pt x="230" y="804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676400" y="4189320"/>
              <a:ext cx="1433520" cy="1803600"/>
            </a:xfrm>
            <a:custGeom>
              <a:avLst/>
              <a:gdLst/>
              <a:ahLst/>
              <a:rect l="l" t="t" r="r" b="b"/>
              <a:pathLst>
                <a:path w="595" h="763">
                  <a:moveTo>
                    <a:pt x="595" y="533"/>
                  </a:moveTo>
                  <a:lnTo>
                    <a:pt x="574" y="554"/>
                  </a:lnTo>
                  <a:lnTo>
                    <a:pt x="564" y="564"/>
                  </a:lnTo>
                  <a:lnTo>
                    <a:pt x="543" y="585"/>
                  </a:lnTo>
                  <a:lnTo>
                    <a:pt x="522" y="606"/>
                  </a:lnTo>
                  <a:lnTo>
                    <a:pt x="501" y="627"/>
                  </a:lnTo>
                  <a:lnTo>
                    <a:pt x="491" y="637"/>
                  </a:lnTo>
                  <a:lnTo>
                    <a:pt x="470" y="648"/>
                  </a:lnTo>
                  <a:lnTo>
                    <a:pt x="449" y="669"/>
                  </a:lnTo>
                  <a:lnTo>
                    <a:pt x="428" y="679"/>
                  </a:lnTo>
                  <a:lnTo>
                    <a:pt x="407" y="690"/>
                  </a:lnTo>
                  <a:lnTo>
                    <a:pt x="386" y="700"/>
                  </a:lnTo>
                  <a:lnTo>
                    <a:pt x="365" y="710"/>
                  </a:lnTo>
                  <a:lnTo>
                    <a:pt x="355" y="721"/>
                  </a:lnTo>
                  <a:lnTo>
                    <a:pt x="324" y="731"/>
                  </a:lnTo>
                  <a:lnTo>
                    <a:pt x="303" y="742"/>
                  </a:lnTo>
                  <a:lnTo>
                    <a:pt x="271" y="752"/>
                  </a:lnTo>
                  <a:lnTo>
                    <a:pt x="261" y="763"/>
                  </a:lnTo>
                  <a:lnTo>
                    <a:pt x="230" y="763"/>
                  </a:lnTo>
                  <a:lnTo>
                    <a:pt x="0" y="0"/>
                  </a:lnTo>
                  <a:lnTo>
                    <a:pt x="595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246200" y="6068880"/>
              <a:ext cx="806760" cy="195480"/>
            </a:xfrm>
            <a:custGeom>
              <a:avLst/>
              <a:gdLst/>
              <a:ahLst/>
              <a:rect l="l" t="t" r="r" b="b"/>
              <a:pathLst>
                <a:path w="335" h="83">
                  <a:moveTo>
                    <a:pt x="335" y="0"/>
                  </a:moveTo>
                  <a:lnTo>
                    <a:pt x="314" y="10"/>
                  </a:lnTo>
                  <a:lnTo>
                    <a:pt x="282" y="21"/>
                  </a:lnTo>
                  <a:lnTo>
                    <a:pt x="251" y="21"/>
                  </a:lnTo>
                  <a:lnTo>
                    <a:pt x="230" y="31"/>
                  </a:lnTo>
                  <a:lnTo>
                    <a:pt x="199" y="31"/>
                  </a:lnTo>
                  <a:lnTo>
                    <a:pt x="167" y="31"/>
                  </a:lnTo>
                  <a:lnTo>
                    <a:pt x="147" y="41"/>
                  </a:lnTo>
                  <a:lnTo>
                    <a:pt x="115" y="41"/>
                  </a:lnTo>
                  <a:lnTo>
                    <a:pt x="84" y="41"/>
                  </a:lnTo>
                  <a:lnTo>
                    <a:pt x="63" y="41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73"/>
                  </a:lnTo>
                  <a:lnTo>
                    <a:pt x="32" y="73"/>
                  </a:lnTo>
                  <a:lnTo>
                    <a:pt x="63" y="83"/>
                  </a:lnTo>
                  <a:lnTo>
                    <a:pt x="84" y="83"/>
                  </a:lnTo>
                  <a:lnTo>
                    <a:pt x="115" y="83"/>
                  </a:lnTo>
                  <a:lnTo>
                    <a:pt x="147" y="83"/>
                  </a:lnTo>
                  <a:lnTo>
                    <a:pt x="167" y="73"/>
                  </a:lnTo>
                  <a:lnTo>
                    <a:pt x="199" y="73"/>
                  </a:lnTo>
                  <a:lnTo>
                    <a:pt x="230" y="73"/>
                  </a:lnTo>
                  <a:lnTo>
                    <a:pt x="251" y="62"/>
                  </a:lnTo>
                  <a:lnTo>
                    <a:pt x="282" y="62"/>
                  </a:lnTo>
                  <a:lnTo>
                    <a:pt x="314" y="52"/>
                  </a:lnTo>
                  <a:lnTo>
                    <a:pt x="335" y="41"/>
                  </a:lnTo>
                  <a:lnTo>
                    <a:pt x="33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46200" y="4265640"/>
              <a:ext cx="806760" cy="1900080"/>
            </a:xfrm>
            <a:custGeom>
              <a:avLst/>
              <a:gdLst/>
              <a:ahLst/>
              <a:rect l="l" t="t" r="r" b="b"/>
              <a:pathLst>
                <a:path w="335" h="804">
                  <a:moveTo>
                    <a:pt x="335" y="763"/>
                  </a:moveTo>
                  <a:lnTo>
                    <a:pt x="314" y="773"/>
                  </a:lnTo>
                  <a:lnTo>
                    <a:pt x="282" y="784"/>
                  </a:lnTo>
                  <a:lnTo>
                    <a:pt x="251" y="784"/>
                  </a:lnTo>
                  <a:lnTo>
                    <a:pt x="230" y="794"/>
                  </a:lnTo>
                  <a:lnTo>
                    <a:pt x="199" y="794"/>
                  </a:lnTo>
                  <a:lnTo>
                    <a:pt x="167" y="794"/>
                  </a:lnTo>
                  <a:lnTo>
                    <a:pt x="147" y="804"/>
                  </a:lnTo>
                  <a:lnTo>
                    <a:pt x="115" y="804"/>
                  </a:lnTo>
                  <a:lnTo>
                    <a:pt x="84" y="804"/>
                  </a:lnTo>
                  <a:lnTo>
                    <a:pt x="63" y="804"/>
                  </a:lnTo>
                  <a:lnTo>
                    <a:pt x="32" y="794"/>
                  </a:lnTo>
                  <a:lnTo>
                    <a:pt x="0" y="794"/>
                  </a:lnTo>
                  <a:lnTo>
                    <a:pt x="105" y="0"/>
                  </a:lnTo>
                  <a:lnTo>
                    <a:pt x="335" y="76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516120" y="5943600"/>
              <a:ext cx="628560" cy="2970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261" y="84"/>
                  </a:moveTo>
                  <a:lnTo>
                    <a:pt x="241" y="84"/>
                  </a:lnTo>
                  <a:lnTo>
                    <a:pt x="220" y="84"/>
                  </a:lnTo>
                  <a:lnTo>
                    <a:pt x="199" y="74"/>
                  </a:lnTo>
                  <a:lnTo>
                    <a:pt x="167" y="63"/>
                  </a:lnTo>
                  <a:lnTo>
                    <a:pt x="157" y="63"/>
                  </a:lnTo>
                  <a:lnTo>
                    <a:pt x="126" y="53"/>
                  </a:lnTo>
                  <a:lnTo>
                    <a:pt x="105" y="53"/>
                  </a:lnTo>
                  <a:lnTo>
                    <a:pt x="84" y="42"/>
                  </a:lnTo>
                  <a:lnTo>
                    <a:pt x="63" y="32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1" y="63"/>
                  </a:lnTo>
                  <a:lnTo>
                    <a:pt x="32" y="63"/>
                  </a:lnTo>
                  <a:lnTo>
                    <a:pt x="63" y="74"/>
                  </a:lnTo>
                  <a:lnTo>
                    <a:pt x="84" y="84"/>
                  </a:lnTo>
                  <a:lnTo>
                    <a:pt x="105" y="94"/>
                  </a:lnTo>
                  <a:lnTo>
                    <a:pt x="126" y="94"/>
                  </a:lnTo>
                  <a:lnTo>
                    <a:pt x="157" y="105"/>
                  </a:lnTo>
                  <a:lnTo>
                    <a:pt x="167" y="105"/>
                  </a:lnTo>
                  <a:lnTo>
                    <a:pt x="199" y="115"/>
                  </a:lnTo>
                  <a:lnTo>
                    <a:pt x="220" y="126"/>
                  </a:lnTo>
                  <a:lnTo>
                    <a:pt x="241" y="126"/>
                  </a:lnTo>
                  <a:lnTo>
                    <a:pt x="261" y="126"/>
                  </a:lnTo>
                  <a:lnTo>
                    <a:pt x="261" y="8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16120" y="4253040"/>
              <a:ext cx="880920" cy="1876320"/>
            </a:xfrm>
            <a:custGeom>
              <a:avLst/>
              <a:gdLst/>
              <a:ahLst/>
              <a:rect l="l" t="t" r="r" b="b"/>
              <a:pathLst>
                <a:path w="366" h="794">
                  <a:moveTo>
                    <a:pt x="261" y="794"/>
                  </a:moveTo>
                  <a:lnTo>
                    <a:pt x="241" y="794"/>
                  </a:lnTo>
                  <a:lnTo>
                    <a:pt x="220" y="794"/>
                  </a:lnTo>
                  <a:lnTo>
                    <a:pt x="199" y="784"/>
                  </a:lnTo>
                  <a:lnTo>
                    <a:pt x="167" y="773"/>
                  </a:lnTo>
                  <a:lnTo>
                    <a:pt x="157" y="773"/>
                  </a:lnTo>
                  <a:lnTo>
                    <a:pt x="126" y="763"/>
                  </a:lnTo>
                  <a:lnTo>
                    <a:pt x="105" y="763"/>
                  </a:lnTo>
                  <a:lnTo>
                    <a:pt x="84" y="752"/>
                  </a:lnTo>
                  <a:lnTo>
                    <a:pt x="63" y="742"/>
                  </a:lnTo>
                  <a:lnTo>
                    <a:pt x="32" y="731"/>
                  </a:lnTo>
                  <a:lnTo>
                    <a:pt x="21" y="731"/>
                  </a:lnTo>
                  <a:lnTo>
                    <a:pt x="0" y="710"/>
                  </a:lnTo>
                  <a:lnTo>
                    <a:pt x="366" y="0"/>
                  </a:lnTo>
                  <a:lnTo>
                    <a:pt x="261" y="79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146480" y="4265640"/>
              <a:ext cx="225360" cy="1974960"/>
            </a:xfrm>
            <a:custGeom>
              <a:avLst/>
              <a:gdLst/>
              <a:ahLst/>
              <a:rect l="l" t="t" r="r" b="b"/>
              <a:pathLst>
                <a:path w="94" h="836">
                  <a:moveTo>
                    <a:pt x="94" y="0"/>
                  </a:moveTo>
                  <a:lnTo>
                    <a:pt x="0" y="794"/>
                  </a:lnTo>
                  <a:lnTo>
                    <a:pt x="0" y="836"/>
                  </a:lnTo>
                  <a:lnTo>
                    <a:pt x="94" y="42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82760" y="3705120"/>
              <a:ext cx="1936440" cy="567000"/>
            </a:xfrm>
            <a:custGeom>
              <a:avLst/>
              <a:gdLst/>
              <a:ahLst/>
              <a:rect l="l" t="t" r="r" b="b"/>
              <a:pathLst>
                <a:path w="804" h="240">
                  <a:moveTo>
                    <a:pt x="0" y="240"/>
                  </a:moveTo>
                  <a:lnTo>
                    <a:pt x="0" y="209"/>
                  </a:lnTo>
                  <a:lnTo>
                    <a:pt x="0" y="188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84"/>
                  </a:lnTo>
                  <a:lnTo>
                    <a:pt x="0" y="63"/>
                  </a:lnTo>
                  <a:lnTo>
                    <a:pt x="10" y="32"/>
                  </a:lnTo>
                  <a:lnTo>
                    <a:pt x="10" y="0"/>
                  </a:lnTo>
                  <a:lnTo>
                    <a:pt x="804" y="167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293560" y="4113360"/>
              <a:ext cx="1913040" cy="247680"/>
            </a:xfrm>
            <a:custGeom>
              <a:avLst/>
              <a:gdLst/>
              <a:ahLst/>
              <a:rect l="l" t="t" r="r" b="b"/>
              <a:pathLst>
                <a:path w="794" h="105">
                  <a:moveTo>
                    <a:pt x="794" y="0"/>
                  </a:moveTo>
                  <a:lnTo>
                    <a:pt x="0" y="63"/>
                  </a:lnTo>
                  <a:lnTo>
                    <a:pt x="0" y="105"/>
                  </a:lnTo>
                  <a:lnTo>
                    <a:pt x="794" y="42"/>
                  </a:lnTo>
                  <a:lnTo>
                    <a:pt x="7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2842920" y="2214720"/>
              <a:ext cx="1433520" cy="1650960"/>
              <a:chOff x="2842920" y="2214720"/>
              <a:chExt cx="1433520" cy="1650960"/>
            </a:xfrm>
          </p:grpSpPr>
          <p:sp>
            <p:nvSpPr>
              <p:cNvPr id="1615" name=""/>
              <p:cNvSpPr/>
              <p:nvPr/>
            </p:nvSpPr>
            <p:spPr>
              <a:xfrm>
                <a:off x="2842920" y="2509920"/>
                <a:ext cx="1433520" cy="1355760"/>
              </a:xfrm>
              <a:custGeom>
                <a:avLst/>
                <a:gdLst/>
                <a:ahLst/>
                <a:rect l="l" t="t" r="r" b="b"/>
                <a:pathLst>
                  <a:path w="595" h="574">
                    <a:moveTo>
                      <a:pt x="595" y="532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595" y="574"/>
                    </a:lnTo>
                    <a:lnTo>
                      <a:pt x="595" y="53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842920" y="2214720"/>
                <a:ext cx="1433520" cy="1552680"/>
              </a:xfrm>
              <a:custGeom>
                <a:avLst/>
                <a:gdLst/>
                <a:ahLst/>
                <a:rect l="l" t="t" r="r" b="b"/>
                <a:pathLst>
                  <a:path w="595" h="657">
                    <a:moveTo>
                      <a:pt x="0" y="125"/>
                    </a:moveTo>
                    <a:lnTo>
                      <a:pt x="10" y="104"/>
                    </a:lnTo>
                    <a:lnTo>
                      <a:pt x="21" y="94"/>
                    </a:lnTo>
                    <a:lnTo>
                      <a:pt x="41" y="73"/>
                    </a:lnTo>
                    <a:lnTo>
                      <a:pt x="52" y="62"/>
                    </a:lnTo>
                    <a:lnTo>
                      <a:pt x="73" y="52"/>
                    </a:lnTo>
                    <a:lnTo>
                      <a:pt x="83" y="41"/>
                    </a:lnTo>
                    <a:lnTo>
                      <a:pt x="104" y="20"/>
                    </a:lnTo>
                    <a:lnTo>
                      <a:pt x="115" y="10"/>
                    </a:lnTo>
                    <a:lnTo>
                      <a:pt x="146" y="0"/>
                    </a:lnTo>
                    <a:lnTo>
                      <a:pt x="595" y="657"/>
                    </a:lnTo>
                    <a:lnTo>
                      <a:pt x="0" y="125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>
              <a:off x="4251240" y="1841400"/>
              <a:ext cx="101520" cy="1973520"/>
            </a:xfrm>
            <a:custGeom>
              <a:avLst/>
              <a:gdLst/>
              <a:ahLst/>
              <a:rect l="l" t="t" r="r" b="b"/>
              <a:pathLst>
                <a:path w="42" h="835">
                  <a:moveTo>
                    <a:pt x="42" y="793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42" y="835"/>
                  </a:lnTo>
                  <a:lnTo>
                    <a:pt x="42" y="79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479840" y="1854360"/>
              <a:ext cx="101520" cy="187452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001760" y="1841400"/>
              <a:ext cx="351000" cy="1874880"/>
            </a:xfrm>
            <a:custGeom>
              <a:avLst/>
              <a:gdLst/>
              <a:ahLst/>
              <a:rect l="l" t="t" r="r" b="b"/>
              <a:pathLst>
                <a:path w="146" h="793">
                  <a:moveTo>
                    <a:pt x="0" y="10"/>
                  </a:moveTo>
                  <a:lnTo>
                    <a:pt x="21" y="10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46" y="793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774960" y="1865160"/>
              <a:ext cx="577800" cy="1851120"/>
            </a:xfrm>
            <a:custGeom>
              <a:avLst/>
              <a:gdLst/>
              <a:ahLst/>
              <a:rect l="l" t="t" r="r" b="b"/>
              <a:pathLst>
                <a:path w="240" h="783">
                  <a:moveTo>
                    <a:pt x="0" y="21"/>
                  </a:moveTo>
                  <a:lnTo>
                    <a:pt x="21" y="21"/>
                  </a:lnTo>
                  <a:lnTo>
                    <a:pt x="31" y="11"/>
                  </a:lnTo>
                  <a:lnTo>
                    <a:pt x="52" y="11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240" y="783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573360" y="1989000"/>
              <a:ext cx="779400" cy="1825920"/>
            </a:xfrm>
            <a:custGeom>
              <a:avLst/>
              <a:gdLst/>
              <a:ahLst/>
              <a:rect l="l" t="t" r="r" b="b"/>
              <a:pathLst>
                <a:path w="324" h="773">
                  <a:moveTo>
                    <a:pt x="324" y="731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324" y="773"/>
                  </a:lnTo>
                  <a:lnTo>
                    <a:pt x="324" y="7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547800" y="1914480"/>
              <a:ext cx="804960" cy="1801800"/>
            </a:xfrm>
            <a:custGeom>
              <a:avLst/>
              <a:gdLst/>
              <a:ahLst/>
              <a:rect l="l" t="t" r="r" b="b"/>
              <a:pathLst>
                <a:path w="334" h="762">
                  <a:moveTo>
                    <a:pt x="0" y="31"/>
                  </a:moveTo>
                  <a:lnTo>
                    <a:pt x="21" y="31"/>
                  </a:lnTo>
                  <a:lnTo>
                    <a:pt x="31" y="21"/>
                  </a:lnTo>
                  <a:lnTo>
                    <a:pt x="52" y="11"/>
                  </a:lnTo>
                  <a:lnTo>
                    <a:pt x="73" y="11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334" y="762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271680" y="2163600"/>
              <a:ext cx="1081080" cy="1651320"/>
            </a:xfrm>
            <a:custGeom>
              <a:avLst/>
              <a:gdLst/>
              <a:ahLst/>
              <a:rect l="l" t="t" r="r" b="b"/>
              <a:pathLst>
                <a:path w="449" h="699">
                  <a:moveTo>
                    <a:pt x="449" y="657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449" y="699"/>
                  </a:lnTo>
                  <a:lnTo>
                    <a:pt x="449" y="65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271680" y="1989000"/>
              <a:ext cx="1081080" cy="1727280"/>
            </a:xfrm>
            <a:custGeom>
              <a:avLst/>
              <a:gdLst/>
              <a:ahLst/>
              <a:rect l="l" t="t" r="r" b="b"/>
              <a:pathLst>
                <a:path w="449" h="731">
                  <a:moveTo>
                    <a:pt x="0" y="74"/>
                  </a:moveTo>
                  <a:lnTo>
                    <a:pt x="21" y="53"/>
                  </a:lnTo>
                  <a:lnTo>
                    <a:pt x="31" y="53"/>
                  </a:lnTo>
                  <a:lnTo>
                    <a:pt x="52" y="32"/>
                  </a:lnTo>
                  <a:lnTo>
                    <a:pt x="83" y="21"/>
                  </a:lnTo>
                  <a:lnTo>
                    <a:pt x="94" y="11"/>
                  </a:lnTo>
                  <a:lnTo>
                    <a:pt x="115" y="0"/>
                  </a:lnTo>
                  <a:lnTo>
                    <a:pt x="449" y="73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516040" y="2598840"/>
              <a:ext cx="1709640" cy="1257120"/>
            </a:xfrm>
            <a:custGeom>
              <a:avLst/>
              <a:gdLst/>
              <a:ahLst/>
              <a:rect l="l" t="t" r="r" b="b"/>
              <a:pathLst>
                <a:path w="710" h="532">
                  <a:moveTo>
                    <a:pt x="0" y="146"/>
                  </a:moveTo>
                  <a:lnTo>
                    <a:pt x="10" y="136"/>
                  </a:lnTo>
                  <a:lnTo>
                    <a:pt x="21" y="115"/>
                  </a:lnTo>
                  <a:lnTo>
                    <a:pt x="31" y="104"/>
                  </a:lnTo>
                  <a:lnTo>
                    <a:pt x="52" y="73"/>
                  </a:lnTo>
                  <a:lnTo>
                    <a:pt x="52" y="63"/>
                  </a:lnTo>
                  <a:lnTo>
                    <a:pt x="73" y="42"/>
                  </a:lnTo>
                  <a:lnTo>
                    <a:pt x="83" y="31"/>
                  </a:lnTo>
                  <a:lnTo>
                    <a:pt x="104" y="10"/>
                  </a:lnTo>
                  <a:lnTo>
                    <a:pt x="115" y="0"/>
                  </a:lnTo>
                  <a:lnTo>
                    <a:pt x="710" y="532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527200" y="2943360"/>
              <a:ext cx="1685880" cy="1011240"/>
            </a:xfrm>
            <a:custGeom>
              <a:avLst/>
              <a:gdLst/>
              <a:ahLst/>
              <a:rect l="l" t="t" r="r" b="b"/>
              <a:pathLst>
                <a:path w="700" h="428">
                  <a:moveTo>
                    <a:pt x="700" y="386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00" y="428"/>
                  </a:lnTo>
                  <a:lnTo>
                    <a:pt x="700" y="38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300040" y="3083040"/>
              <a:ext cx="1913040" cy="912600"/>
            </a:xfrm>
            <a:custGeom>
              <a:avLst/>
              <a:gdLst/>
              <a:ahLst/>
              <a:rect l="l" t="t" r="r" b="b"/>
              <a:pathLst>
                <a:path w="794" h="386">
                  <a:moveTo>
                    <a:pt x="0" y="219"/>
                  </a:moveTo>
                  <a:lnTo>
                    <a:pt x="11" y="198"/>
                  </a:lnTo>
                  <a:lnTo>
                    <a:pt x="21" y="167"/>
                  </a:lnTo>
                  <a:lnTo>
                    <a:pt x="32" y="146"/>
                  </a:lnTo>
                  <a:lnTo>
                    <a:pt x="32" y="115"/>
                  </a:lnTo>
                  <a:lnTo>
                    <a:pt x="42" y="104"/>
                  </a:lnTo>
                  <a:lnTo>
                    <a:pt x="53" y="73"/>
                  </a:lnTo>
                  <a:lnTo>
                    <a:pt x="63" y="52"/>
                  </a:lnTo>
                  <a:lnTo>
                    <a:pt x="73" y="31"/>
                  </a:lnTo>
                  <a:lnTo>
                    <a:pt x="84" y="0"/>
                  </a:lnTo>
                  <a:lnTo>
                    <a:pt x="794" y="386"/>
                  </a:lnTo>
                  <a:lnTo>
                    <a:pt x="0" y="219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301480" y="3575160"/>
              <a:ext cx="1886040" cy="493560"/>
            </a:xfrm>
            <a:custGeom>
              <a:avLst/>
              <a:gdLst/>
              <a:ahLst/>
              <a:rect l="l" t="t" r="r" b="b"/>
              <a:pathLst>
                <a:path w="783" h="209">
                  <a:moveTo>
                    <a:pt x="783" y="167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83" y="209"/>
                  </a:lnTo>
                  <a:lnTo>
                    <a:pt x="783" y="16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14600" y="4214880"/>
              <a:ext cx="880920" cy="1776240"/>
            </a:xfrm>
            <a:custGeom>
              <a:avLst/>
              <a:gdLst/>
              <a:ahLst/>
              <a:rect l="l" t="t" r="r" b="b"/>
              <a:pathLst>
                <a:path w="366" h="752">
                  <a:moveTo>
                    <a:pt x="366" y="0"/>
                  </a:moveTo>
                  <a:lnTo>
                    <a:pt x="0" y="710"/>
                  </a:lnTo>
                  <a:lnTo>
                    <a:pt x="0" y="752"/>
                  </a:lnTo>
                  <a:lnTo>
                    <a:pt x="366" y="42"/>
                  </a:lnTo>
                  <a:lnTo>
                    <a:pt x="366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333520" y="4373640"/>
              <a:ext cx="125280" cy="64296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52" y="230"/>
                  </a:moveTo>
                  <a:lnTo>
                    <a:pt x="42" y="199"/>
                  </a:lnTo>
                  <a:lnTo>
                    <a:pt x="42" y="178"/>
                  </a:lnTo>
                  <a:lnTo>
                    <a:pt x="31" y="147"/>
                  </a:lnTo>
                  <a:lnTo>
                    <a:pt x="21" y="126"/>
                  </a:lnTo>
                  <a:lnTo>
                    <a:pt x="21" y="105"/>
                  </a:lnTo>
                  <a:lnTo>
                    <a:pt x="10" y="84"/>
                  </a:lnTo>
                  <a:lnTo>
                    <a:pt x="10" y="5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74"/>
                  </a:lnTo>
                  <a:lnTo>
                    <a:pt x="10" y="94"/>
                  </a:lnTo>
                  <a:lnTo>
                    <a:pt x="10" y="126"/>
                  </a:lnTo>
                  <a:lnTo>
                    <a:pt x="21" y="147"/>
                  </a:lnTo>
                  <a:lnTo>
                    <a:pt x="21" y="168"/>
                  </a:lnTo>
                  <a:lnTo>
                    <a:pt x="31" y="188"/>
                  </a:lnTo>
                  <a:lnTo>
                    <a:pt x="42" y="220"/>
                  </a:lnTo>
                  <a:lnTo>
                    <a:pt x="42" y="241"/>
                  </a:lnTo>
                  <a:lnTo>
                    <a:pt x="52" y="272"/>
                  </a:lnTo>
                  <a:lnTo>
                    <a:pt x="52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485800" y="4202280"/>
              <a:ext cx="1784520" cy="790560"/>
            </a:xfrm>
            <a:custGeom>
              <a:avLst/>
              <a:gdLst/>
              <a:ahLst/>
              <a:rect l="l" t="t" r="r" b="b"/>
              <a:pathLst>
                <a:path w="741" h="335">
                  <a:moveTo>
                    <a:pt x="741" y="0"/>
                  </a:moveTo>
                  <a:lnTo>
                    <a:pt x="0" y="293"/>
                  </a:lnTo>
                  <a:lnTo>
                    <a:pt x="0" y="335"/>
                  </a:lnTo>
                  <a:lnTo>
                    <a:pt x="741" y="42"/>
                  </a:lnTo>
                  <a:lnTo>
                    <a:pt x="741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333520" y="4240080"/>
              <a:ext cx="1936800" cy="716040"/>
            </a:xfrm>
            <a:custGeom>
              <a:avLst/>
              <a:gdLst/>
              <a:ahLst/>
              <a:rect l="l" t="t" r="r" b="b"/>
              <a:pathLst>
                <a:path w="804" h="303">
                  <a:moveTo>
                    <a:pt x="52" y="303"/>
                  </a:moveTo>
                  <a:lnTo>
                    <a:pt x="42" y="272"/>
                  </a:lnTo>
                  <a:lnTo>
                    <a:pt x="42" y="251"/>
                  </a:lnTo>
                  <a:lnTo>
                    <a:pt x="31" y="220"/>
                  </a:lnTo>
                  <a:lnTo>
                    <a:pt x="21" y="199"/>
                  </a:lnTo>
                  <a:lnTo>
                    <a:pt x="21" y="178"/>
                  </a:lnTo>
                  <a:lnTo>
                    <a:pt x="10" y="157"/>
                  </a:lnTo>
                  <a:lnTo>
                    <a:pt x="10" y="126"/>
                  </a:lnTo>
                  <a:lnTo>
                    <a:pt x="0" y="105"/>
                  </a:lnTo>
                  <a:lnTo>
                    <a:pt x="0" y="73"/>
                  </a:lnTo>
                  <a:lnTo>
                    <a:pt x="804" y="0"/>
                  </a:lnTo>
                  <a:lnTo>
                    <a:pt x="52" y="30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458800" y="4917960"/>
              <a:ext cx="378000" cy="642960"/>
            </a:xfrm>
            <a:custGeom>
              <a:avLst/>
              <a:gdLst/>
              <a:ahLst/>
              <a:rect l="l" t="t" r="r" b="b"/>
              <a:pathLst>
                <a:path w="157" h="272">
                  <a:moveTo>
                    <a:pt x="157" y="230"/>
                  </a:moveTo>
                  <a:lnTo>
                    <a:pt x="136" y="209"/>
                  </a:lnTo>
                  <a:lnTo>
                    <a:pt x="125" y="199"/>
                  </a:lnTo>
                  <a:lnTo>
                    <a:pt x="105" y="178"/>
                  </a:lnTo>
                  <a:lnTo>
                    <a:pt x="94" y="157"/>
                  </a:lnTo>
                  <a:lnTo>
                    <a:pt x="84" y="146"/>
                  </a:lnTo>
                  <a:lnTo>
                    <a:pt x="63" y="125"/>
                  </a:lnTo>
                  <a:lnTo>
                    <a:pt x="52" y="105"/>
                  </a:lnTo>
                  <a:lnTo>
                    <a:pt x="42" y="84"/>
                  </a:lnTo>
                  <a:lnTo>
                    <a:pt x="31" y="63"/>
                  </a:lnTo>
                  <a:lnTo>
                    <a:pt x="21" y="42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1" y="63"/>
                  </a:lnTo>
                  <a:lnTo>
                    <a:pt x="21" y="84"/>
                  </a:lnTo>
                  <a:lnTo>
                    <a:pt x="31" y="105"/>
                  </a:lnTo>
                  <a:lnTo>
                    <a:pt x="42" y="125"/>
                  </a:lnTo>
                  <a:lnTo>
                    <a:pt x="52" y="146"/>
                  </a:lnTo>
                  <a:lnTo>
                    <a:pt x="63" y="167"/>
                  </a:lnTo>
                  <a:lnTo>
                    <a:pt x="84" y="188"/>
                  </a:lnTo>
                  <a:lnTo>
                    <a:pt x="94" y="199"/>
                  </a:lnTo>
                  <a:lnTo>
                    <a:pt x="105" y="219"/>
                  </a:lnTo>
                  <a:lnTo>
                    <a:pt x="125" y="240"/>
                  </a:lnTo>
                  <a:lnTo>
                    <a:pt x="136" y="251"/>
                  </a:lnTo>
                  <a:lnTo>
                    <a:pt x="157" y="272"/>
                  </a:lnTo>
                  <a:lnTo>
                    <a:pt x="157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458800" y="4202280"/>
              <a:ext cx="1811520" cy="1258560"/>
            </a:xfrm>
            <a:custGeom>
              <a:avLst/>
              <a:gdLst/>
              <a:ahLst/>
              <a:rect l="l" t="t" r="r" b="b"/>
              <a:pathLst>
                <a:path w="752" h="533">
                  <a:moveTo>
                    <a:pt x="157" y="533"/>
                  </a:moveTo>
                  <a:lnTo>
                    <a:pt x="136" y="512"/>
                  </a:lnTo>
                  <a:lnTo>
                    <a:pt x="125" y="502"/>
                  </a:lnTo>
                  <a:lnTo>
                    <a:pt x="105" y="481"/>
                  </a:lnTo>
                  <a:lnTo>
                    <a:pt x="94" y="460"/>
                  </a:lnTo>
                  <a:lnTo>
                    <a:pt x="84" y="449"/>
                  </a:lnTo>
                  <a:lnTo>
                    <a:pt x="63" y="428"/>
                  </a:lnTo>
                  <a:lnTo>
                    <a:pt x="52" y="408"/>
                  </a:lnTo>
                  <a:lnTo>
                    <a:pt x="42" y="387"/>
                  </a:lnTo>
                  <a:lnTo>
                    <a:pt x="31" y="366"/>
                  </a:lnTo>
                  <a:lnTo>
                    <a:pt x="21" y="345"/>
                  </a:lnTo>
                  <a:lnTo>
                    <a:pt x="11" y="324"/>
                  </a:lnTo>
                  <a:lnTo>
                    <a:pt x="0" y="303"/>
                  </a:lnTo>
                  <a:lnTo>
                    <a:pt x="752" y="0"/>
                  </a:lnTo>
                  <a:lnTo>
                    <a:pt x="157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836800" y="4202280"/>
              <a:ext cx="1433520" cy="135864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595" y="0"/>
                  </a:moveTo>
                  <a:lnTo>
                    <a:pt x="0" y="533"/>
                  </a:lnTo>
                  <a:lnTo>
                    <a:pt x="0" y="575"/>
                  </a:lnTo>
                  <a:lnTo>
                    <a:pt x="595" y="4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849400" y="5473800"/>
              <a:ext cx="552240" cy="517320"/>
            </a:xfrm>
            <a:custGeom>
              <a:avLst/>
              <a:gdLst/>
              <a:ahLst/>
              <a:rect l="l" t="t" r="r" b="b"/>
              <a:pathLst>
                <a:path w="229" h="219">
                  <a:moveTo>
                    <a:pt x="229" y="177"/>
                  </a:moveTo>
                  <a:lnTo>
                    <a:pt x="198" y="167"/>
                  </a:lnTo>
                  <a:lnTo>
                    <a:pt x="177" y="157"/>
                  </a:lnTo>
                  <a:lnTo>
                    <a:pt x="167" y="146"/>
                  </a:lnTo>
                  <a:lnTo>
                    <a:pt x="146" y="136"/>
                  </a:lnTo>
                  <a:lnTo>
                    <a:pt x="115" y="115"/>
                  </a:lnTo>
                  <a:lnTo>
                    <a:pt x="94" y="104"/>
                  </a:lnTo>
                  <a:lnTo>
                    <a:pt x="83" y="94"/>
                  </a:lnTo>
                  <a:lnTo>
                    <a:pt x="62" y="73"/>
                  </a:lnTo>
                  <a:lnTo>
                    <a:pt x="41" y="52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0" y="63"/>
                  </a:lnTo>
                  <a:lnTo>
                    <a:pt x="21" y="73"/>
                  </a:lnTo>
                  <a:lnTo>
                    <a:pt x="41" y="94"/>
                  </a:lnTo>
                  <a:lnTo>
                    <a:pt x="62" y="115"/>
                  </a:lnTo>
                  <a:lnTo>
                    <a:pt x="83" y="136"/>
                  </a:lnTo>
                  <a:lnTo>
                    <a:pt x="94" y="146"/>
                  </a:lnTo>
                  <a:lnTo>
                    <a:pt x="115" y="157"/>
                  </a:lnTo>
                  <a:lnTo>
                    <a:pt x="146" y="177"/>
                  </a:lnTo>
                  <a:lnTo>
                    <a:pt x="167" y="188"/>
                  </a:lnTo>
                  <a:lnTo>
                    <a:pt x="177" y="198"/>
                  </a:lnTo>
                  <a:lnTo>
                    <a:pt x="198" y="209"/>
                  </a:lnTo>
                  <a:lnTo>
                    <a:pt x="229" y="219"/>
                  </a:lnTo>
                  <a:lnTo>
                    <a:pt x="229" y="17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849400" y="4214880"/>
              <a:ext cx="1433520" cy="1677960"/>
            </a:xfrm>
            <a:custGeom>
              <a:avLst/>
              <a:gdLst/>
              <a:ahLst/>
              <a:rect l="l" t="t" r="r" b="b"/>
              <a:pathLst>
                <a:path w="595" h="710">
                  <a:moveTo>
                    <a:pt x="229" y="710"/>
                  </a:moveTo>
                  <a:lnTo>
                    <a:pt x="198" y="700"/>
                  </a:lnTo>
                  <a:lnTo>
                    <a:pt x="177" y="690"/>
                  </a:lnTo>
                  <a:lnTo>
                    <a:pt x="167" y="679"/>
                  </a:lnTo>
                  <a:lnTo>
                    <a:pt x="146" y="669"/>
                  </a:lnTo>
                  <a:lnTo>
                    <a:pt x="115" y="648"/>
                  </a:lnTo>
                  <a:lnTo>
                    <a:pt x="94" y="637"/>
                  </a:lnTo>
                  <a:lnTo>
                    <a:pt x="83" y="627"/>
                  </a:lnTo>
                  <a:lnTo>
                    <a:pt x="62" y="606"/>
                  </a:lnTo>
                  <a:lnTo>
                    <a:pt x="41" y="585"/>
                  </a:lnTo>
                  <a:lnTo>
                    <a:pt x="21" y="564"/>
                  </a:lnTo>
                  <a:lnTo>
                    <a:pt x="10" y="554"/>
                  </a:lnTo>
                  <a:lnTo>
                    <a:pt x="0" y="533"/>
                  </a:lnTo>
                  <a:lnTo>
                    <a:pt x="595" y="0"/>
                  </a:lnTo>
                  <a:lnTo>
                    <a:pt x="229" y="7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4854600" y="2513160"/>
            <a:ext cx="1433520" cy="1355400"/>
          </a:xfrm>
          <a:custGeom>
            <a:avLst/>
            <a:gdLst/>
            <a:ahLst/>
            <a:rect l="l" t="t" r="r" b="b"/>
            <a:pathLst>
              <a:path w="595" h="574">
                <a:moveTo>
                  <a:pt x="0" y="532"/>
                </a:moveTo>
                <a:lnTo>
                  <a:pt x="595" y="0"/>
                </a:lnTo>
                <a:lnTo>
                  <a:pt x="595" y="42"/>
                </a:lnTo>
                <a:lnTo>
                  <a:pt x="0" y="574"/>
                </a:lnTo>
                <a:lnTo>
                  <a:pt x="0" y="532"/>
                </a:lnTo>
                <a:close/>
              </a:path>
            </a:pathLst>
          </a:custGeom>
          <a:solidFill>
            <a:srgbClr val="4d4d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54600" y="1895400"/>
            <a:ext cx="1433520" cy="1874880"/>
          </a:xfrm>
          <a:custGeom>
            <a:avLst/>
            <a:gdLst/>
            <a:ahLst/>
            <a:rect l="l" t="t" r="r" b="b"/>
            <a:pathLst>
              <a:path w="595" h="793">
                <a:moveTo>
                  <a:pt x="0" y="0"/>
                </a:moveTo>
                <a:lnTo>
                  <a:pt x="21" y="0"/>
                </a:lnTo>
                <a:lnTo>
                  <a:pt x="52" y="0"/>
                </a:lnTo>
                <a:lnTo>
                  <a:pt x="83" y="0"/>
                </a:lnTo>
                <a:lnTo>
                  <a:pt x="104" y="0"/>
                </a:lnTo>
                <a:lnTo>
                  <a:pt x="136" y="10"/>
                </a:lnTo>
                <a:lnTo>
                  <a:pt x="167" y="10"/>
                </a:lnTo>
                <a:lnTo>
                  <a:pt x="188" y="21"/>
                </a:lnTo>
                <a:lnTo>
                  <a:pt x="219" y="31"/>
                </a:lnTo>
                <a:lnTo>
                  <a:pt x="250" y="31"/>
                </a:lnTo>
                <a:lnTo>
                  <a:pt x="271" y="42"/>
                </a:lnTo>
                <a:lnTo>
                  <a:pt x="303" y="52"/>
                </a:lnTo>
                <a:lnTo>
                  <a:pt x="324" y="62"/>
                </a:lnTo>
                <a:lnTo>
                  <a:pt x="355" y="73"/>
                </a:lnTo>
                <a:lnTo>
                  <a:pt x="376" y="94"/>
                </a:lnTo>
                <a:lnTo>
                  <a:pt x="397" y="104"/>
                </a:lnTo>
                <a:lnTo>
                  <a:pt x="428" y="115"/>
                </a:lnTo>
                <a:lnTo>
                  <a:pt x="449" y="136"/>
                </a:lnTo>
                <a:lnTo>
                  <a:pt x="470" y="146"/>
                </a:lnTo>
                <a:lnTo>
                  <a:pt x="491" y="167"/>
                </a:lnTo>
                <a:lnTo>
                  <a:pt x="511" y="188"/>
                </a:lnTo>
                <a:lnTo>
                  <a:pt x="532" y="198"/>
                </a:lnTo>
                <a:lnTo>
                  <a:pt x="553" y="219"/>
                </a:lnTo>
                <a:lnTo>
                  <a:pt x="574" y="240"/>
                </a:lnTo>
                <a:lnTo>
                  <a:pt x="595" y="261"/>
                </a:lnTo>
                <a:lnTo>
                  <a:pt x="0" y="793"/>
                </a:lnTo>
                <a:lnTo>
                  <a:pt x="0" y="0"/>
                </a:lnTo>
                <a:close/>
              </a:path>
            </a:pathLst>
          </a:custGeom>
          <a:solidFill>
            <a:srgbClr val="000082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630760" y="167940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Look"/Art,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4291560" y="1606680"/>
            <a:ext cx="546480" cy="2122200"/>
            <a:chOff x="4291560" y="1606680"/>
            <a:chExt cx="546480" cy="2122200"/>
          </a:xfrm>
        </p:grpSpPr>
        <p:sp>
          <p:nvSpPr>
            <p:cNvPr id="1642" name=""/>
            <p:cNvSpPr/>
            <p:nvPr/>
          </p:nvSpPr>
          <p:spPr>
            <a:xfrm>
              <a:off x="4479840" y="1854000"/>
              <a:ext cx="101520" cy="187488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ab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291560" y="1606680"/>
              <a:ext cx="54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Price,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4" name=""/>
          <p:cNvSpPr/>
          <p:nvPr/>
        </p:nvSpPr>
        <p:spPr>
          <a:xfrm>
            <a:off x="390600" y="1327320"/>
            <a:ext cx="21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of Impact; of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4101120" y="4265640"/>
            <a:ext cx="1132920" cy="2423160"/>
            <a:chOff x="4101120" y="4265640"/>
            <a:chExt cx="1132920" cy="2423160"/>
          </a:xfrm>
        </p:grpSpPr>
        <p:sp>
          <p:nvSpPr>
            <p:cNvPr id="1646" name=""/>
            <p:cNvSpPr/>
            <p:nvPr/>
          </p:nvSpPr>
          <p:spPr>
            <a:xfrm>
              <a:off x="4246560" y="6068880"/>
              <a:ext cx="806760" cy="195480"/>
            </a:xfrm>
            <a:custGeom>
              <a:avLst/>
              <a:gdLst/>
              <a:ahLst/>
              <a:rect l="l" t="t" r="r" b="b"/>
              <a:pathLst>
                <a:path w="335" h="83">
                  <a:moveTo>
                    <a:pt x="335" y="0"/>
                  </a:moveTo>
                  <a:lnTo>
                    <a:pt x="314" y="10"/>
                  </a:lnTo>
                  <a:lnTo>
                    <a:pt x="282" y="21"/>
                  </a:lnTo>
                  <a:lnTo>
                    <a:pt x="251" y="21"/>
                  </a:lnTo>
                  <a:lnTo>
                    <a:pt x="230" y="31"/>
                  </a:lnTo>
                  <a:lnTo>
                    <a:pt x="199" y="31"/>
                  </a:lnTo>
                  <a:lnTo>
                    <a:pt x="167" y="31"/>
                  </a:lnTo>
                  <a:lnTo>
                    <a:pt x="147" y="41"/>
                  </a:lnTo>
                  <a:lnTo>
                    <a:pt x="115" y="41"/>
                  </a:lnTo>
                  <a:lnTo>
                    <a:pt x="84" y="41"/>
                  </a:lnTo>
                  <a:lnTo>
                    <a:pt x="63" y="41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73"/>
                  </a:lnTo>
                  <a:lnTo>
                    <a:pt x="32" y="73"/>
                  </a:lnTo>
                  <a:lnTo>
                    <a:pt x="63" y="83"/>
                  </a:lnTo>
                  <a:lnTo>
                    <a:pt x="84" y="83"/>
                  </a:lnTo>
                  <a:lnTo>
                    <a:pt x="115" y="83"/>
                  </a:lnTo>
                  <a:lnTo>
                    <a:pt x="147" y="83"/>
                  </a:lnTo>
                  <a:lnTo>
                    <a:pt x="167" y="73"/>
                  </a:lnTo>
                  <a:lnTo>
                    <a:pt x="199" y="73"/>
                  </a:lnTo>
                  <a:lnTo>
                    <a:pt x="230" y="73"/>
                  </a:lnTo>
                  <a:lnTo>
                    <a:pt x="251" y="62"/>
                  </a:lnTo>
                  <a:lnTo>
                    <a:pt x="282" y="62"/>
                  </a:lnTo>
                  <a:lnTo>
                    <a:pt x="314" y="52"/>
                  </a:lnTo>
                  <a:lnTo>
                    <a:pt x="335" y="41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4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246560" y="4265640"/>
              <a:ext cx="806760" cy="1900080"/>
            </a:xfrm>
            <a:custGeom>
              <a:avLst/>
              <a:gdLst/>
              <a:ahLst/>
              <a:rect l="l" t="t" r="r" b="b"/>
              <a:pathLst>
                <a:path w="335" h="804">
                  <a:moveTo>
                    <a:pt x="335" y="763"/>
                  </a:moveTo>
                  <a:lnTo>
                    <a:pt x="314" y="773"/>
                  </a:lnTo>
                  <a:lnTo>
                    <a:pt x="282" y="784"/>
                  </a:lnTo>
                  <a:lnTo>
                    <a:pt x="251" y="784"/>
                  </a:lnTo>
                  <a:lnTo>
                    <a:pt x="230" y="794"/>
                  </a:lnTo>
                  <a:lnTo>
                    <a:pt x="199" y="794"/>
                  </a:lnTo>
                  <a:lnTo>
                    <a:pt x="167" y="794"/>
                  </a:lnTo>
                  <a:lnTo>
                    <a:pt x="147" y="804"/>
                  </a:lnTo>
                  <a:lnTo>
                    <a:pt x="115" y="804"/>
                  </a:lnTo>
                  <a:lnTo>
                    <a:pt x="84" y="804"/>
                  </a:lnTo>
                  <a:lnTo>
                    <a:pt x="63" y="804"/>
                  </a:lnTo>
                  <a:lnTo>
                    <a:pt x="32" y="794"/>
                  </a:lnTo>
                  <a:lnTo>
                    <a:pt x="0" y="794"/>
                  </a:lnTo>
                  <a:lnTo>
                    <a:pt x="105" y="0"/>
                  </a:lnTo>
                  <a:lnTo>
                    <a:pt x="335" y="763"/>
                  </a:lnTo>
                  <a:close/>
                </a:path>
              </a:pathLst>
            </a:custGeom>
            <a:solidFill>
              <a:srgbClr val="ff505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01120" y="647532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-line Ads,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516480" y="4253040"/>
            <a:ext cx="880920" cy="1987560"/>
            <a:chOff x="3516480" y="4253040"/>
            <a:chExt cx="880920" cy="1987560"/>
          </a:xfrm>
        </p:grpSpPr>
        <p:sp>
          <p:nvSpPr>
            <p:cNvPr id="1650" name=""/>
            <p:cNvSpPr/>
            <p:nvPr/>
          </p:nvSpPr>
          <p:spPr>
            <a:xfrm>
              <a:off x="3516480" y="5943600"/>
              <a:ext cx="628560" cy="2970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261" y="84"/>
                  </a:moveTo>
                  <a:lnTo>
                    <a:pt x="241" y="84"/>
                  </a:lnTo>
                  <a:lnTo>
                    <a:pt x="220" y="84"/>
                  </a:lnTo>
                  <a:lnTo>
                    <a:pt x="199" y="74"/>
                  </a:lnTo>
                  <a:lnTo>
                    <a:pt x="167" y="63"/>
                  </a:lnTo>
                  <a:lnTo>
                    <a:pt x="157" y="63"/>
                  </a:lnTo>
                  <a:lnTo>
                    <a:pt x="126" y="53"/>
                  </a:lnTo>
                  <a:lnTo>
                    <a:pt x="105" y="53"/>
                  </a:lnTo>
                  <a:lnTo>
                    <a:pt x="84" y="42"/>
                  </a:lnTo>
                  <a:lnTo>
                    <a:pt x="63" y="32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1" y="63"/>
                  </a:lnTo>
                  <a:lnTo>
                    <a:pt x="32" y="63"/>
                  </a:lnTo>
                  <a:lnTo>
                    <a:pt x="63" y="74"/>
                  </a:lnTo>
                  <a:lnTo>
                    <a:pt x="84" y="84"/>
                  </a:lnTo>
                  <a:lnTo>
                    <a:pt x="105" y="94"/>
                  </a:lnTo>
                  <a:lnTo>
                    <a:pt x="126" y="94"/>
                  </a:lnTo>
                  <a:lnTo>
                    <a:pt x="157" y="105"/>
                  </a:lnTo>
                  <a:lnTo>
                    <a:pt x="167" y="105"/>
                  </a:lnTo>
                  <a:lnTo>
                    <a:pt x="199" y="115"/>
                  </a:lnTo>
                  <a:lnTo>
                    <a:pt x="220" y="126"/>
                  </a:lnTo>
                  <a:lnTo>
                    <a:pt x="241" y="126"/>
                  </a:lnTo>
                  <a:lnTo>
                    <a:pt x="261" y="126"/>
                  </a:lnTo>
                  <a:lnTo>
                    <a:pt x="261" y="84"/>
                  </a:lnTo>
                  <a:close/>
                </a:path>
              </a:pathLst>
            </a:custGeom>
            <a:solidFill>
              <a:srgbClr val="660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516480" y="4253040"/>
              <a:ext cx="880920" cy="1876320"/>
            </a:xfrm>
            <a:custGeom>
              <a:avLst/>
              <a:gdLst/>
              <a:ahLst/>
              <a:rect l="l" t="t" r="r" b="b"/>
              <a:pathLst>
                <a:path w="366" h="794">
                  <a:moveTo>
                    <a:pt x="261" y="794"/>
                  </a:moveTo>
                  <a:lnTo>
                    <a:pt x="241" y="794"/>
                  </a:lnTo>
                  <a:lnTo>
                    <a:pt x="220" y="794"/>
                  </a:lnTo>
                  <a:lnTo>
                    <a:pt x="199" y="784"/>
                  </a:lnTo>
                  <a:lnTo>
                    <a:pt x="167" y="773"/>
                  </a:lnTo>
                  <a:lnTo>
                    <a:pt x="157" y="773"/>
                  </a:lnTo>
                  <a:lnTo>
                    <a:pt x="126" y="763"/>
                  </a:lnTo>
                  <a:lnTo>
                    <a:pt x="105" y="763"/>
                  </a:lnTo>
                  <a:lnTo>
                    <a:pt x="84" y="752"/>
                  </a:lnTo>
                  <a:lnTo>
                    <a:pt x="63" y="742"/>
                  </a:lnTo>
                  <a:lnTo>
                    <a:pt x="32" y="731"/>
                  </a:lnTo>
                  <a:lnTo>
                    <a:pt x="21" y="731"/>
                  </a:lnTo>
                  <a:lnTo>
                    <a:pt x="0" y="710"/>
                  </a:lnTo>
                  <a:lnTo>
                    <a:pt x="366" y="0"/>
                  </a:lnTo>
                  <a:lnTo>
                    <a:pt x="261" y="794"/>
                  </a:lnTo>
                  <a:close/>
                </a:path>
              </a:pathLst>
            </a:custGeom>
            <a:solidFill>
              <a:srgbClr val="9a009a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146840" y="4265640"/>
              <a:ext cx="225360" cy="1974960"/>
            </a:xfrm>
            <a:custGeom>
              <a:avLst/>
              <a:gdLst/>
              <a:ahLst/>
              <a:rect l="l" t="t" r="r" b="b"/>
              <a:pathLst>
                <a:path w="94" h="836">
                  <a:moveTo>
                    <a:pt x="94" y="0"/>
                  </a:moveTo>
                  <a:lnTo>
                    <a:pt x="0" y="794"/>
                  </a:lnTo>
                  <a:lnTo>
                    <a:pt x="0" y="836"/>
                  </a:lnTo>
                  <a:lnTo>
                    <a:pt x="94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0404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2425320" y="6278400"/>
            <a:ext cx="1361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vision Ads,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2843280" y="2214720"/>
            <a:ext cx="1433520" cy="1650960"/>
            <a:chOff x="2843280" y="2214720"/>
            <a:chExt cx="1433520" cy="1650960"/>
          </a:xfrm>
        </p:grpSpPr>
        <p:sp>
          <p:nvSpPr>
            <p:cNvPr id="1655" name=""/>
            <p:cNvSpPr/>
            <p:nvPr/>
          </p:nvSpPr>
          <p:spPr>
            <a:xfrm>
              <a:off x="2843280" y="2509920"/>
              <a:ext cx="1433520" cy="135576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595" y="532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595" y="574"/>
                  </a:lnTo>
                  <a:lnTo>
                    <a:pt x="595" y="532"/>
                  </a:lnTo>
                  <a:close/>
                </a:path>
              </a:pathLst>
            </a:custGeom>
            <a:solidFill>
              <a:srgbClr val="40004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843280" y="2214720"/>
              <a:ext cx="1433520" cy="1552320"/>
            </a:xfrm>
            <a:custGeom>
              <a:avLst/>
              <a:gdLst/>
              <a:ahLst/>
              <a:rect l="l" t="t" r="r" b="b"/>
              <a:pathLst>
                <a:path w="595" h="657">
                  <a:moveTo>
                    <a:pt x="0" y="125"/>
                  </a:moveTo>
                  <a:lnTo>
                    <a:pt x="10" y="104"/>
                  </a:lnTo>
                  <a:lnTo>
                    <a:pt x="21" y="94"/>
                  </a:lnTo>
                  <a:lnTo>
                    <a:pt x="41" y="73"/>
                  </a:lnTo>
                  <a:lnTo>
                    <a:pt x="52" y="62"/>
                  </a:lnTo>
                  <a:lnTo>
                    <a:pt x="73" y="52"/>
                  </a:lnTo>
                  <a:lnTo>
                    <a:pt x="83" y="41"/>
                  </a:lnTo>
                  <a:lnTo>
                    <a:pt x="104" y="20"/>
                  </a:lnTo>
                  <a:lnTo>
                    <a:pt x="115" y="10"/>
                  </a:lnTo>
                  <a:lnTo>
                    <a:pt x="146" y="0"/>
                  </a:lnTo>
                  <a:lnTo>
                    <a:pt x="595" y="65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0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1628280" y="2255760"/>
            <a:ext cx="128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sorships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094480" y="1949400"/>
            <a:ext cx="114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ds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018600" y="1760400"/>
            <a:ext cx="57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582000" y="1465200"/>
            <a:ext cx="69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ema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51240" y="1841400"/>
            <a:ext cx="101520" cy="1973520"/>
          </a:xfrm>
          <a:custGeom>
            <a:avLst/>
            <a:gdLst/>
            <a:ahLst/>
            <a:rect l="l" t="t" r="r" b="b"/>
            <a:pathLst>
              <a:path w="42" h="835">
                <a:moveTo>
                  <a:pt x="42" y="793"/>
                </a:moveTo>
                <a:lnTo>
                  <a:pt x="0" y="0"/>
                </a:lnTo>
                <a:lnTo>
                  <a:pt x="0" y="42"/>
                </a:lnTo>
                <a:lnTo>
                  <a:pt x="42" y="835"/>
                </a:lnTo>
                <a:lnTo>
                  <a:pt x="42" y="793"/>
                </a:lnTo>
                <a:close/>
              </a:path>
            </a:pathLst>
          </a:custGeom>
          <a:solidFill>
            <a:srgbClr val="6680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002120" y="1841400"/>
            <a:ext cx="350640" cy="1874880"/>
          </a:xfrm>
          <a:custGeom>
            <a:avLst/>
            <a:gdLst/>
            <a:ahLst/>
            <a:rect l="l" t="t" r="r" b="b"/>
            <a:pathLst>
              <a:path w="146" h="793">
                <a:moveTo>
                  <a:pt x="0" y="10"/>
                </a:moveTo>
                <a:lnTo>
                  <a:pt x="21" y="10"/>
                </a:lnTo>
                <a:lnTo>
                  <a:pt x="31" y="0"/>
                </a:lnTo>
                <a:lnTo>
                  <a:pt x="62" y="0"/>
                </a:lnTo>
                <a:lnTo>
                  <a:pt x="73" y="0"/>
                </a:lnTo>
                <a:lnTo>
                  <a:pt x="83" y="0"/>
                </a:lnTo>
                <a:lnTo>
                  <a:pt x="104" y="0"/>
                </a:lnTo>
                <a:lnTo>
                  <a:pt x="146" y="793"/>
                </a:lnTo>
                <a:lnTo>
                  <a:pt x="0" y="10"/>
                </a:lnTo>
                <a:close/>
              </a:path>
            </a:pathLst>
          </a:custGeom>
          <a:solidFill>
            <a:srgbClr val="ff5d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73360" y="1989000"/>
            <a:ext cx="779400" cy="1825920"/>
          </a:xfrm>
          <a:custGeom>
            <a:avLst/>
            <a:gdLst/>
            <a:ahLst/>
            <a:rect l="l" t="t" r="r" b="b"/>
            <a:pathLst>
              <a:path w="324" h="773">
                <a:moveTo>
                  <a:pt x="324" y="731"/>
                </a:moveTo>
                <a:lnTo>
                  <a:pt x="0" y="0"/>
                </a:lnTo>
                <a:lnTo>
                  <a:pt x="0" y="42"/>
                </a:lnTo>
                <a:lnTo>
                  <a:pt x="324" y="773"/>
                </a:lnTo>
                <a:lnTo>
                  <a:pt x="324" y="731"/>
                </a:lnTo>
                <a:close/>
              </a:path>
            </a:pathLst>
          </a:custGeom>
          <a:solidFill>
            <a:srgbClr val="00404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548160" y="1914480"/>
            <a:ext cx="804600" cy="1801800"/>
          </a:xfrm>
          <a:custGeom>
            <a:avLst/>
            <a:gdLst/>
            <a:ahLst/>
            <a:rect l="l" t="t" r="r" b="b"/>
            <a:pathLst>
              <a:path w="334" h="762">
                <a:moveTo>
                  <a:pt x="0" y="31"/>
                </a:moveTo>
                <a:lnTo>
                  <a:pt x="21" y="31"/>
                </a:lnTo>
                <a:lnTo>
                  <a:pt x="31" y="21"/>
                </a:lnTo>
                <a:lnTo>
                  <a:pt x="52" y="11"/>
                </a:lnTo>
                <a:lnTo>
                  <a:pt x="73" y="11"/>
                </a:lnTo>
                <a:lnTo>
                  <a:pt x="83" y="0"/>
                </a:lnTo>
                <a:lnTo>
                  <a:pt x="94" y="0"/>
                </a:lnTo>
                <a:lnTo>
                  <a:pt x="334" y="762"/>
                </a:lnTo>
                <a:lnTo>
                  <a:pt x="0" y="31"/>
                </a:lnTo>
                <a:close/>
              </a:path>
            </a:pathLst>
          </a:custGeom>
          <a:solidFill>
            <a:srgbClr val="a400a4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1680" y="2163600"/>
            <a:ext cx="1081080" cy="1651320"/>
          </a:xfrm>
          <a:custGeom>
            <a:avLst/>
            <a:gdLst/>
            <a:ahLst/>
            <a:rect l="l" t="t" r="r" b="b"/>
            <a:pathLst>
              <a:path w="449" h="699">
                <a:moveTo>
                  <a:pt x="449" y="657"/>
                </a:moveTo>
                <a:lnTo>
                  <a:pt x="0" y="0"/>
                </a:lnTo>
                <a:lnTo>
                  <a:pt x="0" y="41"/>
                </a:lnTo>
                <a:lnTo>
                  <a:pt x="449" y="699"/>
                </a:lnTo>
                <a:lnTo>
                  <a:pt x="449" y="657"/>
                </a:lnTo>
                <a:close/>
              </a:path>
            </a:pathLst>
          </a:custGeom>
          <a:solidFill>
            <a:srgbClr val="4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1680" y="1989000"/>
            <a:ext cx="1081080" cy="1727280"/>
          </a:xfrm>
          <a:custGeom>
            <a:avLst/>
            <a:gdLst/>
            <a:ahLst/>
            <a:rect l="l" t="t" r="r" b="b"/>
            <a:pathLst>
              <a:path w="449" h="731">
                <a:moveTo>
                  <a:pt x="0" y="74"/>
                </a:moveTo>
                <a:lnTo>
                  <a:pt x="21" y="53"/>
                </a:lnTo>
                <a:lnTo>
                  <a:pt x="31" y="53"/>
                </a:lnTo>
                <a:lnTo>
                  <a:pt x="52" y="32"/>
                </a:lnTo>
                <a:lnTo>
                  <a:pt x="83" y="21"/>
                </a:lnTo>
                <a:lnTo>
                  <a:pt x="94" y="11"/>
                </a:lnTo>
                <a:lnTo>
                  <a:pt x="115" y="0"/>
                </a:lnTo>
                <a:lnTo>
                  <a:pt x="449" y="731"/>
                </a:lnTo>
                <a:lnTo>
                  <a:pt x="0" y="74"/>
                </a:lnTo>
                <a:close/>
              </a:path>
            </a:pathLst>
          </a:custGeom>
          <a:solidFill>
            <a:srgbClr val="a400a4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1426320" y="1630440"/>
            <a:ext cx="6557400" cy="4426560"/>
            <a:chOff x="1426320" y="1630440"/>
            <a:chExt cx="6557400" cy="4426560"/>
          </a:xfrm>
        </p:grpSpPr>
        <p:sp>
          <p:nvSpPr>
            <p:cNvPr id="1668" name=""/>
            <p:cNvSpPr/>
            <p:nvPr/>
          </p:nvSpPr>
          <p:spPr>
            <a:xfrm>
              <a:off x="4841640" y="2513160"/>
              <a:ext cx="1433520" cy="13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0" y="532"/>
                  </a:moveTo>
                  <a:lnTo>
                    <a:pt x="595" y="0"/>
                  </a:lnTo>
                  <a:lnTo>
                    <a:pt x="595" y="42"/>
                  </a:lnTo>
                  <a:lnTo>
                    <a:pt x="0" y="574"/>
                  </a:lnTo>
                  <a:lnTo>
                    <a:pt x="0" y="532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8440" y="3770280"/>
              <a:ext cx="3240" cy="17136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841640" y="3770280"/>
              <a:ext cx="1936800" cy="147600"/>
            </a:xfrm>
            <a:custGeom>
              <a:avLst/>
              <a:gdLst/>
              <a:ahLst/>
              <a:rect l="l" t="t" r="r" b="b"/>
              <a:pathLst>
                <a:path w="804" h="63">
                  <a:moveTo>
                    <a:pt x="0" y="0"/>
                  </a:moveTo>
                  <a:lnTo>
                    <a:pt x="804" y="21"/>
                  </a:lnTo>
                  <a:lnTo>
                    <a:pt x="804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41640" y="2513160"/>
              <a:ext cx="1936800" cy="1331640"/>
            </a:xfrm>
            <a:custGeom>
              <a:avLst/>
              <a:gdLst/>
              <a:ahLst/>
              <a:rect l="l" t="t" r="r" b="b"/>
              <a:pathLst>
                <a:path w="804" h="564">
                  <a:moveTo>
                    <a:pt x="595" y="0"/>
                  </a:moveTo>
                  <a:lnTo>
                    <a:pt x="616" y="21"/>
                  </a:lnTo>
                  <a:lnTo>
                    <a:pt x="626" y="42"/>
                  </a:lnTo>
                  <a:lnTo>
                    <a:pt x="647" y="63"/>
                  </a:lnTo>
                  <a:lnTo>
                    <a:pt x="658" y="73"/>
                  </a:lnTo>
                  <a:lnTo>
                    <a:pt x="668" y="104"/>
                  </a:lnTo>
                  <a:lnTo>
                    <a:pt x="689" y="125"/>
                  </a:lnTo>
                  <a:lnTo>
                    <a:pt x="699" y="146"/>
                  </a:lnTo>
                  <a:lnTo>
                    <a:pt x="710" y="177"/>
                  </a:lnTo>
                  <a:lnTo>
                    <a:pt x="731" y="198"/>
                  </a:lnTo>
                  <a:lnTo>
                    <a:pt x="731" y="209"/>
                  </a:lnTo>
                  <a:lnTo>
                    <a:pt x="741" y="240"/>
                  </a:lnTo>
                  <a:lnTo>
                    <a:pt x="752" y="261"/>
                  </a:lnTo>
                  <a:lnTo>
                    <a:pt x="762" y="292"/>
                  </a:lnTo>
                  <a:lnTo>
                    <a:pt x="772" y="313"/>
                  </a:lnTo>
                  <a:lnTo>
                    <a:pt x="772" y="344"/>
                  </a:lnTo>
                  <a:lnTo>
                    <a:pt x="783" y="355"/>
                  </a:lnTo>
                  <a:lnTo>
                    <a:pt x="783" y="386"/>
                  </a:lnTo>
                  <a:lnTo>
                    <a:pt x="793" y="407"/>
                  </a:lnTo>
                  <a:lnTo>
                    <a:pt x="793" y="438"/>
                  </a:lnTo>
                  <a:lnTo>
                    <a:pt x="793" y="470"/>
                  </a:lnTo>
                  <a:lnTo>
                    <a:pt x="804" y="491"/>
                  </a:lnTo>
                  <a:lnTo>
                    <a:pt x="804" y="512"/>
                  </a:lnTo>
                  <a:lnTo>
                    <a:pt x="804" y="532"/>
                  </a:lnTo>
                  <a:lnTo>
                    <a:pt x="804" y="564"/>
                  </a:lnTo>
                  <a:lnTo>
                    <a:pt x="0" y="532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0066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754680" y="2833560"/>
              <a:ext cx="122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nel, 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369600" y="16304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I,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762360" y="1865160"/>
              <a:ext cx="577800" cy="1851120"/>
            </a:xfrm>
            <a:custGeom>
              <a:avLst/>
              <a:gdLst/>
              <a:ahLst/>
              <a:rect l="l" t="t" r="r" b="b"/>
              <a:pathLst>
                <a:path w="240" h="783">
                  <a:moveTo>
                    <a:pt x="0" y="21"/>
                  </a:moveTo>
                  <a:lnTo>
                    <a:pt x="21" y="21"/>
                  </a:lnTo>
                  <a:lnTo>
                    <a:pt x="31" y="11"/>
                  </a:lnTo>
                  <a:lnTo>
                    <a:pt x="52" y="11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240" y="78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9ff1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5" name=""/>
            <p:cNvGrpSpPr/>
            <p:nvPr/>
          </p:nvGrpSpPr>
          <p:grpSpPr>
            <a:xfrm>
              <a:off x="1866600" y="2494080"/>
              <a:ext cx="2346480" cy="1460520"/>
              <a:chOff x="1866600" y="2494080"/>
              <a:chExt cx="2346480" cy="1460520"/>
            </a:xfrm>
          </p:grpSpPr>
          <p:sp>
            <p:nvSpPr>
              <p:cNvPr id="1676" name=""/>
              <p:cNvSpPr/>
              <p:nvPr/>
            </p:nvSpPr>
            <p:spPr>
              <a:xfrm>
                <a:off x="2503440" y="2598840"/>
                <a:ext cx="1709640" cy="1257480"/>
              </a:xfrm>
              <a:custGeom>
                <a:avLst/>
                <a:gdLst/>
                <a:ahLst/>
                <a:rect l="l" t="t" r="r" b="b"/>
                <a:pathLst>
                  <a:path w="710" h="532">
                    <a:moveTo>
                      <a:pt x="0" y="146"/>
                    </a:moveTo>
                    <a:lnTo>
                      <a:pt x="10" y="136"/>
                    </a:lnTo>
                    <a:lnTo>
                      <a:pt x="21" y="115"/>
                    </a:lnTo>
                    <a:lnTo>
                      <a:pt x="31" y="104"/>
                    </a:lnTo>
                    <a:lnTo>
                      <a:pt x="52" y="73"/>
                    </a:lnTo>
                    <a:lnTo>
                      <a:pt x="52" y="63"/>
                    </a:lnTo>
                    <a:lnTo>
                      <a:pt x="73" y="42"/>
                    </a:lnTo>
                    <a:lnTo>
                      <a:pt x="83" y="31"/>
                    </a:lnTo>
                    <a:lnTo>
                      <a:pt x="104" y="10"/>
                    </a:lnTo>
                    <a:lnTo>
                      <a:pt x="115" y="0"/>
                    </a:lnTo>
                    <a:lnTo>
                      <a:pt x="710" y="532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b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866600" y="2494080"/>
                <a:ext cx="576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,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14600" y="2943360"/>
                <a:ext cx="1685880" cy="1011240"/>
              </a:xfrm>
              <a:custGeom>
                <a:avLst/>
                <a:gdLst/>
                <a:ahLst/>
                <a:rect l="l" t="t" r="r" b="b"/>
                <a:pathLst>
                  <a:path w="700" h="428">
                    <a:moveTo>
                      <a:pt x="700" y="386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700" y="428"/>
                    </a:lnTo>
                    <a:lnTo>
                      <a:pt x="700" y="386"/>
                    </a:lnTo>
                    <a:close/>
                  </a:path>
                </a:pathLst>
              </a:custGeom>
              <a:solidFill>
                <a:srgbClr val="00808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1426320" y="4202280"/>
              <a:ext cx="2856600" cy="1854720"/>
              <a:chOff x="1426320" y="4202280"/>
              <a:chExt cx="2856600" cy="1854720"/>
            </a:xfrm>
          </p:grpSpPr>
          <p:sp>
            <p:nvSpPr>
              <p:cNvPr id="1680" name=""/>
              <p:cNvSpPr/>
              <p:nvPr/>
            </p:nvSpPr>
            <p:spPr>
              <a:xfrm>
                <a:off x="3402000" y="4214880"/>
                <a:ext cx="880920" cy="1776240"/>
              </a:xfrm>
              <a:custGeom>
                <a:avLst/>
                <a:gdLst/>
                <a:ahLst/>
                <a:rect l="l" t="t" r="r" b="b"/>
                <a:pathLst>
                  <a:path w="366" h="752">
                    <a:moveTo>
                      <a:pt x="366" y="0"/>
                    </a:moveTo>
                    <a:lnTo>
                      <a:pt x="0" y="710"/>
                    </a:lnTo>
                    <a:lnTo>
                      <a:pt x="0" y="752"/>
                    </a:lnTo>
                    <a:lnTo>
                      <a:pt x="366" y="42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003366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88360" y="58435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ers, 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2" name=""/>
              <p:cNvGrpSpPr/>
              <p:nvPr/>
            </p:nvGrpSpPr>
            <p:grpSpPr>
              <a:xfrm>
                <a:off x="1426320" y="4202280"/>
                <a:ext cx="2831040" cy="1358640"/>
                <a:chOff x="1426320" y="4202280"/>
                <a:chExt cx="2831040" cy="135864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2320920" y="4373640"/>
                  <a:ext cx="125280" cy="642600"/>
                </a:xfrm>
                <a:custGeom>
                  <a:avLst/>
                  <a:gdLst/>
                  <a:ahLst/>
                  <a:rect l="l" t="t" r="r" b="b"/>
                  <a:pathLst>
                    <a:path w="52" h="272">
                      <a:moveTo>
                        <a:pt x="52" y="230"/>
                      </a:moveTo>
                      <a:lnTo>
                        <a:pt x="42" y="199"/>
                      </a:lnTo>
                      <a:lnTo>
                        <a:pt x="42" y="178"/>
                      </a:lnTo>
                      <a:lnTo>
                        <a:pt x="31" y="147"/>
                      </a:lnTo>
                      <a:lnTo>
                        <a:pt x="21" y="126"/>
                      </a:lnTo>
                      <a:lnTo>
                        <a:pt x="21" y="105"/>
                      </a:lnTo>
                      <a:lnTo>
                        <a:pt x="10" y="84"/>
                      </a:lnTo>
                      <a:lnTo>
                        <a:pt x="10" y="53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0" y="74"/>
                      </a:lnTo>
                      <a:lnTo>
                        <a:pt x="10" y="94"/>
                      </a:lnTo>
                      <a:lnTo>
                        <a:pt x="10" y="126"/>
                      </a:lnTo>
                      <a:lnTo>
                        <a:pt x="21" y="147"/>
                      </a:lnTo>
                      <a:lnTo>
                        <a:pt x="21" y="168"/>
                      </a:lnTo>
                      <a:lnTo>
                        <a:pt x="31" y="188"/>
                      </a:lnTo>
                      <a:lnTo>
                        <a:pt x="42" y="220"/>
                      </a:lnTo>
                      <a:lnTo>
                        <a:pt x="42" y="241"/>
                      </a:lnTo>
                      <a:lnTo>
                        <a:pt x="52" y="272"/>
                      </a:lnTo>
                      <a:lnTo>
                        <a:pt x="52" y="230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2473200" y="4202280"/>
                  <a:ext cx="1784160" cy="790200"/>
                </a:xfrm>
                <a:custGeom>
                  <a:avLst/>
                  <a:gdLst/>
                  <a:ahLst/>
                  <a:rect l="l" t="t" r="r" b="b"/>
                  <a:pathLst>
                    <a:path w="741" h="335">
                      <a:moveTo>
                        <a:pt x="741" y="0"/>
                      </a:moveTo>
                      <a:lnTo>
                        <a:pt x="0" y="293"/>
                      </a:lnTo>
                      <a:lnTo>
                        <a:pt x="0" y="335"/>
                      </a:lnTo>
                      <a:lnTo>
                        <a:pt x="741" y="42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2320920" y="4240080"/>
                  <a:ext cx="1936440" cy="715680"/>
                </a:xfrm>
                <a:custGeom>
                  <a:avLst/>
                  <a:gdLst/>
                  <a:ahLst/>
                  <a:rect l="l" t="t" r="r" b="b"/>
                  <a:pathLst>
                    <a:path w="804" h="303">
                      <a:moveTo>
                        <a:pt x="52" y="303"/>
                      </a:moveTo>
                      <a:lnTo>
                        <a:pt x="42" y="272"/>
                      </a:lnTo>
                      <a:lnTo>
                        <a:pt x="42" y="251"/>
                      </a:lnTo>
                      <a:lnTo>
                        <a:pt x="31" y="220"/>
                      </a:lnTo>
                      <a:lnTo>
                        <a:pt x="21" y="199"/>
                      </a:lnTo>
                      <a:lnTo>
                        <a:pt x="21" y="178"/>
                      </a:lnTo>
                      <a:lnTo>
                        <a:pt x="10" y="157"/>
                      </a:lnTo>
                      <a:lnTo>
                        <a:pt x="10" y="126"/>
                      </a:lnTo>
                      <a:lnTo>
                        <a:pt x="0" y="105"/>
                      </a:lnTo>
                      <a:lnTo>
                        <a:pt x="0" y="73"/>
                      </a:lnTo>
                      <a:lnTo>
                        <a:pt x="804" y="0"/>
                      </a:lnTo>
                      <a:lnTo>
                        <a:pt x="52" y="303"/>
                      </a:lnTo>
                      <a:close/>
                    </a:path>
                  </a:pathLst>
                </a:custGeom>
                <a:solidFill>
                  <a:srgbClr val="0086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2446200" y="4917960"/>
                  <a:ext cx="377640" cy="642600"/>
                </a:xfrm>
                <a:custGeom>
                  <a:avLst/>
                  <a:gdLst/>
                  <a:ahLst/>
                  <a:rect l="l" t="t" r="r" b="b"/>
                  <a:pathLst>
                    <a:path w="157" h="272">
                      <a:moveTo>
                        <a:pt x="157" y="230"/>
                      </a:moveTo>
                      <a:lnTo>
                        <a:pt x="136" y="209"/>
                      </a:lnTo>
                      <a:lnTo>
                        <a:pt x="125" y="199"/>
                      </a:lnTo>
                      <a:lnTo>
                        <a:pt x="105" y="178"/>
                      </a:lnTo>
                      <a:lnTo>
                        <a:pt x="94" y="157"/>
                      </a:lnTo>
                      <a:lnTo>
                        <a:pt x="84" y="146"/>
                      </a:lnTo>
                      <a:lnTo>
                        <a:pt x="63" y="125"/>
                      </a:lnTo>
                      <a:lnTo>
                        <a:pt x="52" y="105"/>
                      </a:lnTo>
                      <a:lnTo>
                        <a:pt x="42" y="84"/>
                      </a:lnTo>
                      <a:lnTo>
                        <a:pt x="31" y="63"/>
                      </a:lnTo>
                      <a:lnTo>
                        <a:pt x="21" y="42"/>
                      </a:lnTo>
                      <a:lnTo>
                        <a:pt x="11" y="21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11" y="63"/>
                      </a:lnTo>
                      <a:lnTo>
                        <a:pt x="21" y="84"/>
                      </a:lnTo>
                      <a:lnTo>
                        <a:pt x="31" y="105"/>
                      </a:lnTo>
                      <a:lnTo>
                        <a:pt x="42" y="125"/>
                      </a:lnTo>
                      <a:lnTo>
                        <a:pt x="52" y="146"/>
                      </a:lnTo>
                      <a:lnTo>
                        <a:pt x="63" y="167"/>
                      </a:lnTo>
                      <a:lnTo>
                        <a:pt x="84" y="188"/>
                      </a:lnTo>
                      <a:lnTo>
                        <a:pt x="94" y="199"/>
                      </a:lnTo>
                      <a:lnTo>
                        <a:pt x="105" y="219"/>
                      </a:lnTo>
                      <a:lnTo>
                        <a:pt x="125" y="240"/>
                      </a:lnTo>
                      <a:lnTo>
                        <a:pt x="136" y="251"/>
                      </a:lnTo>
                      <a:lnTo>
                        <a:pt x="157" y="272"/>
                      </a:lnTo>
                      <a:lnTo>
                        <a:pt x="157" y="23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446200" y="4202280"/>
                  <a:ext cx="1811160" cy="1258560"/>
                </a:xfrm>
                <a:custGeom>
                  <a:avLst/>
                  <a:gdLst/>
                  <a:ahLst/>
                  <a:rect l="l" t="t" r="r" b="b"/>
                  <a:pathLst>
                    <a:path w="752" h="533">
                      <a:moveTo>
                        <a:pt x="157" y="533"/>
                      </a:moveTo>
                      <a:lnTo>
                        <a:pt x="136" y="512"/>
                      </a:lnTo>
                      <a:lnTo>
                        <a:pt x="125" y="502"/>
                      </a:lnTo>
                      <a:lnTo>
                        <a:pt x="105" y="481"/>
                      </a:lnTo>
                      <a:lnTo>
                        <a:pt x="94" y="460"/>
                      </a:lnTo>
                      <a:lnTo>
                        <a:pt x="84" y="449"/>
                      </a:lnTo>
                      <a:lnTo>
                        <a:pt x="63" y="428"/>
                      </a:lnTo>
                      <a:lnTo>
                        <a:pt x="52" y="408"/>
                      </a:lnTo>
                      <a:lnTo>
                        <a:pt x="42" y="387"/>
                      </a:lnTo>
                      <a:lnTo>
                        <a:pt x="31" y="366"/>
                      </a:lnTo>
                      <a:lnTo>
                        <a:pt x="21" y="345"/>
                      </a:lnTo>
                      <a:lnTo>
                        <a:pt x="11" y="324"/>
                      </a:lnTo>
                      <a:lnTo>
                        <a:pt x="0" y="303"/>
                      </a:lnTo>
                      <a:lnTo>
                        <a:pt x="752" y="0"/>
                      </a:lnTo>
                      <a:lnTo>
                        <a:pt x="157" y="53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2823840" y="4202280"/>
                  <a:ext cx="1433520" cy="1358640"/>
                </a:xfrm>
                <a:custGeom>
                  <a:avLst/>
                  <a:gdLst/>
                  <a:ahLst/>
                  <a:rect l="l" t="t" r="r" b="b"/>
                  <a:pathLst>
                    <a:path w="595" h="575">
                      <a:moveTo>
                        <a:pt x="595" y="0"/>
                      </a:moveTo>
                      <a:lnTo>
                        <a:pt x="0" y="533"/>
                      </a:lnTo>
                      <a:lnTo>
                        <a:pt x="0" y="575"/>
                      </a:lnTo>
                      <a:lnTo>
                        <a:pt x="595" y="42"/>
                      </a:lnTo>
                      <a:lnTo>
                        <a:pt x="595" y="0"/>
                      </a:lnTo>
                      <a:close/>
                    </a:path>
                  </a:pathLst>
                </a:custGeom>
                <a:solidFill>
                  <a:srgbClr val="66668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1601280" y="5288040"/>
                  <a:ext cx="835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-Store, 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1426320" y="4622760"/>
                  <a:ext cx="8146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mos, 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1" name=""/>
              <p:cNvGrpSpPr/>
              <p:nvPr/>
            </p:nvGrpSpPr>
            <p:grpSpPr>
              <a:xfrm>
                <a:off x="2836800" y="4214880"/>
                <a:ext cx="1433160" cy="1775880"/>
                <a:chOff x="2836800" y="4214880"/>
                <a:chExt cx="1433160" cy="177588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2836800" y="5473440"/>
                  <a:ext cx="552240" cy="517320"/>
                </a:xfrm>
                <a:custGeom>
                  <a:avLst/>
                  <a:gdLst/>
                  <a:ahLst/>
                  <a:rect l="l" t="t" r="r" b="b"/>
                  <a:pathLst>
                    <a:path w="229" h="219">
                      <a:moveTo>
                        <a:pt x="229" y="177"/>
                      </a:moveTo>
                      <a:lnTo>
                        <a:pt x="198" y="167"/>
                      </a:lnTo>
                      <a:lnTo>
                        <a:pt x="177" y="157"/>
                      </a:lnTo>
                      <a:lnTo>
                        <a:pt x="167" y="146"/>
                      </a:lnTo>
                      <a:lnTo>
                        <a:pt x="146" y="136"/>
                      </a:lnTo>
                      <a:lnTo>
                        <a:pt x="115" y="115"/>
                      </a:lnTo>
                      <a:lnTo>
                        <a:pt x="94" y="104"/>
                      </a:lnTo>
                      <a:lnTo>
                        <a:pt x="83" y="94"/>
                      </a:lnTo>
                      <a:lnTo>
                        <a:pt x="62" y="73"/>
                      </a:lnTo>
                      <a:lnTo>
                        <a:pt x="41" y="52"/>
                      </a:lnTo>
                      <a:lnTo>
                        <a:pt x="21" y="31"/>
                      </a:lnTo>
                      <a:lnTo>
                        <a:pt x="10" y="21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10" y="63"/>
                      </a:lnTo>
                      <a:lnTo>
                        <a:pt x="21" y="73"/>
                      </a:lnTo>
                      <a:lnTo>
                        <a:pt x="41" y="94"/>
                      </a:lnTo>
                      <a:lnTo>
                        <a:pt x="62" y="115"/>
                      </a:lnTo>
                      <a:lnTo>
                        <a:pt x="83" y="136"/>
                      </a:lnTo>
                      <a:lnTo>
                        <a:pt x="94" y="146"/>
                      </a:lnTo>
                      <a:lnTo>
                        <a:pt x="115" y="157"/>
                      </a:lnTo>
                      <a:lnTo>
                        <a:pt x="146" y="177"/>
                      </a:lnTo>
                      <a:lnTo>
                        <a:pt x="167" y="188"/>
                      </a:lnTo>
                      <a:lnTo>
                        <a:pt x="177" y="198"/>
                      </a:lnTo>
                      <a:lnTo>
                        <a:pt x="198" y="209"/>
                      </a:lnTo>
                      <a:lnTo>
                        <a:pt x="229" y="219"/>
                      </a:lnTo>
                      <a:lnTo>
                        <a:pt x="229" y="17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2836800" y="4214880"/>
                  <a:ext cx="1433160" cy="1677600"/>
                </a:xfrm>
                <a:custGeom>
                  <a:avLst/>
                  <a:gdLst/>
                  <a:ahLst/>
                  <a:rect l="l" t="t" r="r" b="b"/>
                  <a:pathLst>
                    <a:path w="595" h="710">
                      <a:moveTo>
                        <a:pt x="229" y="710"/>
                      </a:moveTo>
                      <a:lnTo>
                        <a:pt x="198" y="700"/>
                      </a:lnTo>
                      <a:lnTo>
                        <a:pt x="177" y="690"/>
                      </a:lnTo>
                      <a:lnTo>
                        <a:pt x="167" y="679"/>
                      </a:lnTo>
                      <a:lnTo>
                        <a:pt x="146" y="669"/>
                      </a:lnTo>
                      <a:lnTo>
                        <a:pt x="115" y="648"/>
                      </a:lnTo>
                      <a:lnTo>
                        <a:pt x="94" y="637"/>
                      </a:lnTo>
                      <a:lnTo>
                        <a:pt x="83" y="627"/>
                      </a:lnTo>
                      <a:lnTo>
                        <a:pt x="62" y="606"/>
                      </a:lnTo>
                      <a:lnTo>
                        <a:pt x="41" y="585"/>
                      </a:lnTo>
                      <a:lnTo>
                        <a:pt x="21" y="564"/>
                      </a:lnTo>
                      <a:lnTo>
                        <a:pt x="10" y="554"/>
                      </a:lnTo>
                      <a:lnTo>
                        <a:pt x="0" y="533"/>
                      </a:lnTo>
                      <a:lnTo>
                        <a:pt x="595" y="0"/>
                      </a:lnTo>
                      <a:lnTo>
                        <a:pt x="229" y="71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94" name=""/>
          <p:cNvGrpSpPr/>
          <p:nvPr/>
        </p:nvGrpSpPr>
        <p:grpSpPr>
          <a:xfrm>
            <a:off x="4854600" y="3770280"/>
            <a:ext cx="3574440" cy="1359000"/>
            <a:chOff x="4854600" y="3770280"/>
            <a:chExt cx="3574440" cy="1359000"/>
          </a:xfrm>
        </p:grpSpPr>
        <p:sp>
          <p:nvSpPr>
            <p:cNvPr id="1695" name=""/>
            <p:cNvSpPr/>
            <p:nvPr/>
          </p:nvSpPr>
          <p:spPr>
            <a:xfrm>
              <a:off x="6288120" y="3844800"/>
              <a:ext cx="503280" cy="1284480"/>
            </a:xfrm>
            <a:custGeom>
              <a:avLst/>
              <a:gdLst/>
              <a:ahLst/>
              <a:rect l="l" t="t" r="r" b="b"/>
              <a:pathLst>
                <a:path w="209" h="543">
                  <a:moveTo>
                    <a:pt x="209" y="0"/>
                  </a:moveTo>
                  <a:lnTo>
                    <a:pt x="209" y="31"/>
                  </a:lnTo>
                  <a:lnTo>
                    <a:pt x="198" y="52"/>
                  </a:lnTo>
                  <a:lnTo>
                    <a:pt x="198" y="83"/>
                  </a:lnTo>
                  <a:lnTo>
                    <a:pt x="198" y="115"/>
                  </a:lnTo>
                  <a:lnTo>
                    <a:pt x="188" y="135"/>
                  </a:lnTo>
                  <a:lnTo>
                    <a:pt x="188" y="146"/>
                  </a:lnTo>
                  <a:lnTo>
                    <a:pt x="177" y="177"/>
                  </a:lnTo>
                  <a:lnTo>
                    <a:pt x="167" y="209"/>
                  </a:lnTo>
                  <a:lnTo>
                    <a:pt x="167" y="229"/>
                  </a:lnTo>
                  <a:lnTo>
                    <a:pt x="157" y="261"/>
                  </a:lnTo>
                  <a:lnTo>
                    <a:pt x="146" y="282"/>
                  </a:lnTo>
                  <a:lnTo>
                    <a:pt x="136" y="313"/>
                  </a:lnTo>
                  <a:lnTo>
                    <a:pt x="115" y="334"/>
                  </a:lnTo>
                  <a:lnTo>
                    <a:pt x="104" y="355"/>
                  </a:lnTo>
                  <a:lnTo>
                    <a:pt x="94" y="386"/>
                  </a:lnTo>
                  <a:lnTo>
                    <a:pt x="83" y="396"/>
                  </a:lnTo>
                  <a:lnTo>
                    <a:pt x="73" y="417"/>
                  </a:lnTo>
                  <a:lnTo>
                    <a:pt x="52" y="438"/>
                  </a:lnTo>
                  <a:lnTo>
                    <a:pt x="31" y="459"/>
                  </a:lnTo>
                  <a:lnTo>
                    <a:pt x="21" y="480"/>
                  </a:lnTo>
                  <a:lnTo>
                    <a:pt x="0" y="501"/>
                  </a:lnTo>
                  <a:lnTo>
                    <a:pt x="0" y="543"/>
                  </a:lnTo>
                  <a:lnTo>
                    <a:pt x="21" y="522"/>
                  </a:lnTo>
                  <a:lnTo>
                    <a:pt x="31" y="501"/>
                  </a:lnTo>
                  <a:lnTo>
                    <a:pt x="52" y="480"/>
                  </a:lnTo>
                  <a:lnTo>
                    <a:pt x="73" y="459"/>
                  </a:lnTo>
                  <a:lnTo>
                    <a:pt x="83" y="438"/>
                  </a:lnTo>
                  <a:lnTo>
                    <a:pt x="94" y="428"/>
                  </a:lnTo>
                  <a:lnTo>
                    <a:pt x="104" y="396"/>
                  </a:lnTo>
                  <a:lnTo>
                    <a:pt x="115" y="376"/>
                  </a:lnTo>
                  <a:lnTo>
                    <a:pt x="136" y="355"/>
                  </a:lnTo>
                  <a:lnTo>
                    <a:pt x="146" y="323"/>
                  </a:lnTo>
                  <a:lnTo>
                    <a:pt x="157" y="303"/>
                  </a:lnTo>
                  <a:lnTo>
                    <a:pt x="167" y="271"/>
                  </a:lnTo>
                  <a:lnTo>
                    <a:pt x="167" y="250"/>
                  </a:lnTo>
                  <a:lnTo>
                    <a:pt x="177" y="219"/>
                  </a:lnTo>
                  <a:lnTo>
                    <a:pt x="188" y="188"/>
                  </a:lnTo>
                  <a:lnTo>
                    <a:pt x="188" y="177"/>
                  </a:lnTo>
                  <a:lnTo>
                    <a:pt x="198" y="156"/>
                  </a:lnTo>
                  <a:lnTo>
                    <a:pt x="198" y="125"/>
                  </a:lnTo>
                  <a:lnTo>
                    <a:pt x="198" y="94"/>
                  </a:lnTo>
                  <a:lnTo>
                    <a:pt x="209" y="73"/>
                  </a:lnTo>
                  <a:lnTo>
                    <a:pt x="209" y="4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8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854600" y="3770280"/>
              <a:ext cx="1433520" cy="135900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0" y="0"/>
                  </a:moveTo>
                  <a:lnTo>
                    <a:pt x="595" y="533"/>
                  </a:lnTo>
                  <a:lnTo>
                    <a:pt x="595" y="5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741360" y="4511520"/>
              <a:ext cx="168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formance,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54600" y="3770280"/>
              <a:ext cx="1936800" cy="1258920"/>
            </a:xfrm>
            <a:custGeom>
              <a:avLst/>
              <a:gdLst/>
              <a:ahLst/>
              <a:rect l="l" t="t" r="r" b="b"/>
              <a:pathLst>
                <a:path w="804" h="533">
                  <a:moveTo>
                    <a:pt x="804" y="32"/>
                  </a:moveTo>
                  <a:lnTo>
                    <a:pt x="804" y="63"/>
                  </a:lnTo>
                  <a:lnTo>
                    <a:pt x="793" y="84"/>
                  </a:lnTo>
                  <a:lnTo>
                    <a:pt x="793" y="115"/>
                  </a:lnTo>
                  <a:lnTo>
                    <a:pt x="793" y="147"/>
                  </a:lnTo>
                  <a:lnTo>
                    <a:pt x="783" y="167"/>
                  </a:lnTo>
                  <a:lnTo>
                    <a:pt x="783" y="178"/>
                  </a:lnTo>
                  <a:lnTo>
                    <a:pt x="772" y="209"/>
                  </a:lnTo>
                  <a:lnTo>
                    <a:pt x="762" y="241"/>
                  </a:lnTo>
                  <a:lnTo>
                    <a:pt x="762" y="261"/>
                  </a:lnTo>
                  <a:lnTo>
                    <a:pt x="752" y="293"/>
                  </a:lnTo>
                  <a:lnTo>
                    <a:pt x="741" y="314"/>
                  </a:lnTo>
                  <a:lnTo>
                    <a:pt x="731" y="345"/>
                  </a:lnTo>
                  <a:lnTo>
                    <a:pt x="710" y="366"/>
                  </a:lnTo>
                  <a:lnTo>
                    <a:pt x="699" y="387"/>
                  </a:lnTo>
                  <a:lnTo>
                    <a:pt x="689" y="418"/>
                  </a:lnTo>
                  <a:lnTo>
                    <a:pt x="678" y="428"/>
                  </a:lnTo>
                  <a:lnTo>
                    <a:pt x="668" y="449"/>
                  </a:lnTo>
                  <a:lnTo>
                    <a:pt x="647" y="470"/>
                  </a:lnTo>
                  <a:lnTo>
                    <a:pt x="626" y="491"/>
                  </a:lnTo>
                  <a:lnTo>
                    <a:pt x="616" y="512"/>
                  </a:lnTo>
                  <a:lnTo>
                    <a:pt x="595" y="533"/>
                  </a:lnTo>
                  <a:lnTo>
                    <a:pt x="0" y="0"/>
                  </a:lnTo>
                  <a:lnTo>
                    <a:pt x="804" y="32"/>
                  </a:lnTo>
                  <a:close/>
                </a:path>
              </a:pathLst>
            </a:custGeom>
            <a:solidFill>
              <a:srgbClr val="0000fe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276200" y="3692520"/>
            <a:ext cx="2943360" cy="655560"/>
            <a:chOff x="1276200" y="3692520"/>
            <a:chExt cx="2943360" cy="655560"/>
          </a:xfrm>
        </p:grpSpPr>
        <p:sp>
          <p:nvSpPr>
            <p:cNvPr id="1700" name=""/>
            <p:cNvSpPr/>
            <p:nvPr/>
          </p:nvSpPr>
          <p:spPr>
            <a:xfrm>
              <a:off x="2282760" y="3692520"/>
              <a:ext cx="1936800" cy="566640"/>
            </a:xfrm>
            <a:custGeom>
              <a:avLst/>
              <a:gdLst/>
              <a:ahLst/>
              <a:rect l="l" t="t" r="r" b="b"/>
              <a:pathLst>
                <a:path w="804" h="240">
                  <a:moveTo>
                    <a:pt x="0" y="240"/>
                  </a:moveTo>
                  <a:lnTo>
                    <a:pt x="0" y="209"/>
                  </a:lnTo>
                  <a:lnTo>
                    <a:pt x="0" y="188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84"/>
                  </a:lnTo>
                  <a:lnTo>
                    <a:pt x="0" y="63"/>
                  </a:lnTo>
                  <a:lnTo>
                    <a:pt x="10" y="32"/>
                  </a:lnTo>
                  <a:lnTo>
                    <a:pt x="10" y="0"/>
                  </a:lnTo>
                  <a:lnTo>
                    <a:pt x="804" y="16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6d6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93920" y="4100400"/>
              <a:ext cx="1913040" cy="247680"/>
            </a:xfrm>
            <a:custGeom>
              <a:avLst/>
              <a:gdLst/>
              <a:ahLst/>
              <a:rect l="l" t="t" r="r" b="b"/>
              <a:pathLst>
                <a:path w="794" h="105">
                  <a:moveTo>
                    <a:pt x="794" y="0"/>
                  </a:moveTo>
                  <a:lnTo>
                    <a:pt x="0" y="63"/>
                  </a:lnTo>
                  <a:lnTo>
                    <a:pt x="0" y="105"/>
                  </a:lnTo>
                  <a:lnTo>
                    <a:pt x="794" y="42"/>
                  </a:lnTo>
                  <a:lnTo>
                    <a:pt x="794" y="0"/>
                  </a:lnTo>
                  <a:close/>
                </a:path>
              </a:pathLst>
            </a:custGeom>
            <a:solidFill>
              <a:srgbClr val="b4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76200" y="379260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bsite,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Word-of-Mouth is often very impactful, and so is PR/Ne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36680" y="1514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ord-of-Mou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ten has low incidence. BUT it is often very strong for impa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51"/>
              </a:spcBef>
              <a:buClr>
                <a:srgbClr val="008080"/>
              </a:buClr>
              <a:buSzPct val="12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ategories, W.o.M h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iden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ong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51"/>
              </a:spcBef>
              <a:buClr>
                <a:srgbClr val="008080"/>
              </a:buClr>
              <a:buSzPct val="12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.o.M is off-line (not blogs, not chat room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7b7bad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not seen any strong on-line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iral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t (low recall, and low impact, perhaps because corporate attempts to drive viral marketing are recognized as commerci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challenge is to drive/create this buz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37960" y="172800"/>
            <a:ext cx="78246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mpact of WoM and News/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2282760" y="1841400"/>
            <a:ext cx="4511520" cy="4422960"/>
            <a:chOff x="2282760" y="1841400"/>
            <a:chExt cx="4511520" cy="4422960"/>
          </a:xfrm>
        </p:grpSpPr>
        <p:sp>
          <p:nvSpPr>
            <p:cNvPr id="1707" name=""/>
            <p:cNvSpPr/>
            <p:nvPr/>
          </p:nvSpPr>
          <p:spPr>
            <a:xfrm>
              <a:off x="4854240" y="2513160"/>
              <a:ext cx="1433520" cy="13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0" y="532"/>
                  </a:moveTo>
                  <a:lnTo>
                    <a:pt x="595" y="0"/>
                  </a:lnTo>
                  <a:lnTo>
                    <a:pt x="595" y="42"/>
                  </a:lnTo>
                  <a:lnTo>
                    <a:pt x="0" y="574"/>
                  </a:lnTo>
                  <a:lnTo>
                    <a:pt x="0" y="5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854240" y="1895400"/>
              <a:ext cx="1433520" cy="1874880"/>
            </a:xfrm>
            <a:custGeom>
              <a:avLst/>
              <a:gdLst/>
              <a:ahLst/>
              <a:rect l="l" t="t" r="r" b="b"/>
              <a:pathLst>
                <a:path w="595" h="793">
                  <a:moveTo>
                    <a:pt x="0" y="0"/>
                  </a:moveTo>
                  <a:lnTo>
                    <a:pt x="21" y="0"/>
                  </a:lnTo>
                  <a:lnTo>
                    <a:pt x="52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36" y="10"/>
                  </a:lnTo>
                  <a:lnTo>
                    <a:pt x="167" y="10"/>
                  </a:lnTo>
                  <a:lnTo>
                    <a:pt x="188" y="21"/>
                  </a:lnTo>
                  <a:lnTo>
                    <a:pt x="219" y="31"/>
                  </a:lnTo>
                  <a:lnTo>
                    <a:pt x="250" y="31"/>
                  </a:lnTo>
                  <a:lnTo>
                    <a:pt x="271" y="42"/>
                  </a:lnTo>
                  <a:lnTo>
                    <a:pt x="303" y="52"/>
                  </a:lnTo>
                  <a:lnTo>
                    <a:pt x="324" y="62"/>
                  </a:lnTo>
                  <a:lnTo>
                    <a:pt x="355" y="73"/>
                  </a:lnTo>
                  <a:lnTo>
                    <a:pt x="376" y="94"/>
                  </a:lnTo>
                  <a:lnTo>
                    <a:pt x="397" y="104"/>
                  </a:lnTo>
                  <a:lnTo>
                    <a:pt x="428" y="115"/>
                  </a:lnTo>
                  <a:lnTo>
                    <a:pt x="449" y="136"/>
                  </a:lnTo>
                  <a:lnTo>
                    <a:pt x="470" y="146"/>
                  </a:lnTo>
                  <a:lnTo>
                    <a:pt x="491" y="167"/>
                  </a:lnTo>
                  <a:lnTo>
                    <a:pt x="511" y="188"/>
                  </a:lnTo>
                  <a:lnTo>
                    <a:pt x="532" y="198"/>
                  </a:lnTo>
                  <a:lnTo>
                    <a:pt x="553" y="219"/>
                  </a:lnTo>
                  <a:lnTo>
                    <a:pt x="574" y="240"/>
                  </a:lnTo>
                  <a:lnTo>
                    <a:pt x="595" y="261"/>
                  </a:lnTo>
                  <a:lnTo>
                    <a:pt x="0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791040" y="3770280"/>
              <a:ext cx="3240" cy="17136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54240" y="3770280"/>
              <a:ext cx="1936800" cy="147600"/>
            </a:xfrm>
            <a:custGeom>
              <a:avLst/>
              <a:gdLst/>
              <a:ahLst/>
              <a:rect l="l" t="t" r="r" b="b"/>
              <a:pathLst>
                <a:path w="804" h="63">
                  <a:moveTo>
                    <a:pt x="0" y="0"/>
                  </a:moveTo>
                  <a:lnTo>
                    <a:pt x="804" y="21"/>
                  </a:lnTo>
                  <a:lnTo>
                    <a:pt x="804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54240" y="2513160"/>
              <a:ext cx="1936800" cy="1331640"/>
            </a:xfrm>
            <a:custGeom>
              <a:avLst/>
              <a:gdLst/>
              <a:ahLst/>
              <a:rect l="l" t="t" r="r" b="b"/>
              <a:pathLst>
                <a:path w="804" h="564">
                  <a:moveTo>
                    <a:pt x="595" y="0"/>
                  </a:moveTo>
                  <a:lnTo>
                    <a:pt x="616" y="21"/>
                  </a:lnTo>
                  <a:lnTo>
                    <a:pt x="626" y="42"/>
                  </a:lnTo>
                  <a:lnTo>
                    <a:pt x="647" y="63"/>
                  </a:lnTo>
                  <a:lnTo>
                    <a:pt x="658" y="73"/>
                  </a:lnTo>
                  <a:lnTo>
                    <a:pt x="668" y="104"/>
                  </a:lnTo>
                  <a:lnTo>
                    <a:pt x="689" y="125"/>
                  </a:lnTo>
                  <a:lnTo>
                    <a:pt x="699" y="146"/>
                  </a:lnTo>
                  <a:lnTo>
                    <a:pt x="710" y="177"/>
                  </a:lnTo>
                  <a:lnTo>
                    <a:pt x="731" y="198"/>
                  </a:lnTo>
                  <a:lnTo>
                    <a:pt x="731" y="209"/>
                  </a:lnTo>
                  <a:lnTo>
                    <a:pt x="741" y="240"/>
                  </a:lnTo>
                  <a:lnTo>
                    <a:pt x="752" y="261"/>
                  </a:lnTo>
                  <a:lnTo>
                    <a:pt x="762" y="292"/>
                  </a:lnTo>
                  <a:lnTo>
                    <a:pt x="772" y="313"/>
                  </a:lnTo>
                  <a:lnTo>
                    <a:pt x="772" y="344"/>
                  </a:lnTo>
                  <a:lnTo>
                    <a:pt x="783" y="355"/>
                  </a:lnTo>
                  <a:lnTo>
                    <a:pt x="783" y="386"/>
                  </a:lnTo>
                  <a:lnTo>
                    <a:pt x="793" y="407"/>
                  </a:lnTo>
                  <a:lnTo>
                    <a:pt x="793" y="438"/>
                  </a:lnTo>
                  <a:lnTo>
                    <a:pt x="793" y="470"/>
                  </a:lnTo>
                  <a:lnTo>
                    <a:pt x="804" y="491"/>
                  </a:lnTo>
                  <a:lnTo>
                    <a:pt x="804" y="512"/>
                  </a:lnTo>
                  <a:lnTo>
                    <a:pt x="804" y="532"/>
                  </a:lnTo>
                  <a:lnTo>
                    <a:pt x="804" y="564"/>
                  </a:lnTo>
                  <a:lnTo>
                    <a:pt x="0" y="53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287760" y="3844800"/>
              <a:ext cx="503280" cy="1284480"/>
            </a:xfrm>
            <a:custGeom>
              <a:avLst/>
              <a:gdLst/>
              <a:ahLst/>
              <a:rect l="l" t="t" r="r" b="b"/>
              <a:pathLst>
                <a:path w="209" h="543">
                  <a:moveTo>
                    <a:pt x="209" y="0"/>
                  </a:moveTo>
                  <a:lnTo>
                    <a:pt x="209" y="31"/>
                  </a:lnTo>
                  <a:lnTo>
                    <a:pt x="198" y="52"/>
                  </a:lnTo>
                  <a:lnTo>
                    <a:pt x="198" y="83"/>
                  </a:lnTo>
                  <a:lnTo>
                    <a:pt x="198" y="115"/>
                  </a:lnTo>
                  <a:lnTo>
                    <a:pt x="188" y="135"/>
                  </a:lnTo>
                  <a:lnTo>
                    <a:pt x="188" y="146"/>
                  </a:lnTo>
                  <a:lnTo>
                    <a:pt x="177" y="177"/>
                  </a:lnTo>
                  <a:lnTo>
                    <a:pt x="167" y="209"/>
                  </a:lnTo>
                  <a:lnTo>
                    <a:pt x="167" y="229"/>
                  </a:lnTo>
                  <a:lnTo>
                    <a:pt x="157" y="261"/>
                  </a:lnTo>
                  <a:lnTo>
                    <a:pt x="146" y="282"/>
                  </a:lnTo>
                  <a:lnTo>
                    <a:pt x="136" y="313"/>
                  </a:lnTo>
                  <a:lnTo>
                    <a:pt x="115" y="334"/>
                  </a:lnTo>
                  <a:lnTo>
                    <a:pt x="104" y="355"/>
                  </a:lnTo>
                  <a:lnTo>
                    <a:pt x="94" y="386"/>
                  </a:lnTo>
                  <a:lnTo>
                    <a:pt x="83" y="396"/>
                  </a:lnTo>
                  <a:lnTo>
                    <a:pt x="73" y="417"/>
                  </a:lnTo>
                  <a:lnTo>
                    <a:pt x="52" y="438"/>
                  </a:lnTo>
                  <a:lnTo>
                    <a:pt x="31" y="459"/>
                  </a:lnTo>
                  <a:lnTo>
                    <a:pt x="21" y="480"/>
                  </a:lnTo>
                  <a:lnTo>
                    <a:pt x="0" y="501"/>
                  </a:lnTo>
                  <a:lnTo>
                    <a:pt x="0" y="543"/>
                  </a:lnTo>
                  <a:lnTo>
                    <a:pt x="21" y="522"/>
                  </a:lnTo>
                  <a:lnTo>
                    <a:pt x="31" y="501"/>
                  </a:lnTo>
                  <a:lnTo>
                    <a:pt x="52" y="480"/>
                  </a:lnTo>
                  <a:lnTo>
                    <a:pt x="73" y="459"/>
                  </a:lnTo>
                  <a:lnTo>
                    <a:pt x="83" y="438"/>
                  </a:lnTo>
                  <a:lnTo>
                    <a:pt x="94" y="428"/>
                  </a:lnTo>
                  <a:lnTo>
                    <a:pt x="104" y="396"/>
                  </a:lnTo>
                  <a:lnTo>
                    <a:pt x="115" y="376"/>
                  </a:lnTo>
                  <a:lnTo>
                    <a:pt x="136" y="355"/>
                  </a:lnTo>
                  <a:lnTo>
                    <a:pt x="146" y="323"/>
                  </a:lnTo>
                  <a:lnTo>
                    <a:pt x="157" y="303"/>
                  </a:lnTo>
                  <a:lnTo>
                    <a:pt x="167" y="271"/>
                  </a:lnTo>
                  <a:lnTo>
                    <a:pt x="167" y="250"/>
                  </a:lnTo>
                  <a:lnTo>
                    <a:pt x="177" y="219"/>
                  </a:lnTo>
                  <a:lnTo>
                    <a:pt x="188" y="188"/>
                  </a:lnTo>
                  <a:lnTo>
                    <a:pt x="188" y="177"/>
                  </a:lnTo>
                  <a:lnTo>
                    <a:pt x="198" y="156"/>
                  </a:lnTo>
                  <a:lnTo>
                    <a:pt x="198" y="125"/>
                  </a:lnTo>
                  <a:lnTo>
                    <a:pt x="198" y="94"/>
                  </a:lnTo>
                  <a:lnTo>
                    <a:pt x="209" y="73"/>
                  </a:lnTo>
                  <a:lnTo>
                    <a:pt x="209" y="41"/>
                  </a:lnTo>
                  <a:lnTo>
                    <a:pt x="209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54240" y="3770280"/>
              <a:ext cx="1433520" cy="135900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0" y="0"/>
                  </a:moveTo>
                  <a:lnTo>
                    <a:pt x="595" y="533"/>
                  </a:lnTo>
                  <a:lnTo>
                    <a:pt x="595" y="5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854240" y="3770280"/>
              <a:ext cx="1936800" cy="1258920"/>
            </a:xfrm>
            <a:custGeom>
              <a:avLst/>
              <a:gdLst/>
              <a:ahLst/>
              <a:rect l="l" t="t" r="r" b="b"/>
              <a:pathLst>
                <a:path w="804" h="533">
                  <a:moveTo>
                    <a:pt x="804" y="32"/>
                  </a:moveTo>
                  <a:lnTo>
                    <a:pt x="804" y="63"/>
                  </a:lnTo>
                  <a:lnTo>
                    <a:pt x="793" y="84"/>
                  </a:lnTo>
                  <a:lnTo>
                    <a:pt x="793" y="115"/>
                  </a:lnTo>
                  <a:lnTo>
                    <a:pt x="793" y="147"/>
                  </a:lnTo>
                  <a:lnTo>
                    <a:pt x="783" y="167"/>
                  </a:lnTo>
                  <a:lnTo>
                    <a:pt x="783" y="178"/>
                  </a:lnTo>
                  <a:lnTo>
                    <a:pt x="772" y="209"/>
                  </a:lnTo>
                  <a:lnTo>
                    <a:pt x="762" y="241"/>
                  </a:lnTo>
                  <a:lnTo>
                    <a:pt x="762" y="261"/>
                  </a:lnTo>
                  <a:lnTo>
                    <a:pt x="752" y="293"/>
                  </a:lnTo>
                  <a:lnTo>
                    <a:pt x="741" y="314"/>
                  </a:lnTo>
                  <a:lnTo>
                    <a:pt x="731" y="345"/>
                  </a:lnTo>
                  <a:lnTo>
                    <a:pt x="710" y="366"/>
                  </a:lnTo>
                  <a:lnTo>
                    <a:pt x="699" y="387"/>
                  </a:lnTo>
                  <a:lnTo>
                    <a:pt x="689" y="418"/>
                  </a:lnTo>
                  <a:lnTo>
                    <a:pt x="678" y="428"/>
                  </a:lnTo>
                  <a:lnTo>
                    <a:pt x="668" y="449"/>
                  </a:lnTo>
                  <a:lnTo>
                    <a:pt x="647" y="470"/>
                  </a:lnTo>
                  <a:lnTo>
                    <a:pt x="626" y="491"/>
                  </a:lnTo>
                  <a:lnTo>
                    <a:pt x="616" y="512"/>
                  </a:lnTo>
                  <a:lnTo>
                    <a:pt x="595" y="533"/>
                  </a:lnTo>
                  <a:lnTo>
                    <a:pt x="0" y="0"/>
                  </a:lnTo>
                  <a:lnTo>
                    <a:pt x="804" y="32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230440" y="5448240"/>
              <a:ext cx="879480" cy="641520"/>
            </a:xfrm>
            <a:custGeom>
              <a:avLst/>
              <a:gdLst/>
              <a:ahLst/>
              <a:rect l="l" t="t" r="r" b="b"/>
              <a:pathLst>
                <a:path w="365" h="271">
                  <a:moveTo>
                    <a:pt x="365" y="0"/>
                  </a:moveTo>
                  <a:lnTo>
                    <a:pt x="344" y="21"/>
                  </a:lnTo>
                  <a:lnTo>
                    <a:pt x="334" y="31"/>
                  </a:lnTo>
                  <a:lnTo>
                    <a:pt x="313" y="52"/>
                  </a:lnTo>
                  <a:lnTo>
                    <a:pt x="292" y="73"/>
                  </a:lnTo>
                  <a:lnTo>
                    <a:pt x="271" y="94"/>
                  </a:lnTo>
                  <a:lnTo>
                    <a:pt x="261" y="104"/>
                  </a:lnTo>
                  <a:lnTo>
                    <a:pt x="240" y="115"/>
                  </a:lnTo>
                  <a:lnTo>
                    <a:pt x="219" y="136"/>
                  </a:lnTo>
                  <a:lnTo>
                    <a:pt x="198" y="146"/>
                  </a:lnTo>
                  <a:lnTo>
                    <a:pt x="177" y="157"/>
                  </a:lnTo>
                  <a:lnTo>
                    <a:pt x="156" y="167"/>
                  </a:lnTo>
                  <a:lnTo>
                    <a:pt x="135" y="177"/>
                  </a:lnTo>
                  <a:lnTo>
                    <a:pt x="125" y="188"/>
                  </a:lnTo>
                  <a:lnTo>
                    <a:pt x="94" y="198"/>
                  </a:lnTo>
                  <a:lnTo>
                    <a:pt x="73" y="209"/>
                  </a:lnTo>
                  <a:lnTo>
                    <a:pt x="41" y="219"/>
                  </a:lnTo>
                  <a:lnTo>
                    <a:pt x="31" y="230"/>
                  </a:lnTo>
                  <a:lnTo>
                    <a:pt x="0" y="230"/>
                  </a:lnTo>
                  <a:lnTo>
                    <a:pt x="0" y="271"/>
                  </a:lnTo>
                  <a:lnTo>
                    <a:pt x="31" y="271"/>
                  </a:lnTo>
                  <a:lnTo>
                    <a:pt x="41" y="261"/>
                  </a:lnTo>
                  <a:lnTo>
                    <a:pt x="73" y="251"/>
                  </a:lnTo>
                  <a:lnTo>
                    <a:pt x="94" y="240"/>
                  </a:lnTo>
                  <a:lnTo>
                    <a:pt x="125" y="230"/>
                  </a:lnTo>
                  <a:lnTo>
                    <a:pt x="135" y="219"/>
                  </a:lnTo>
                  <a:lnTo>
                    <a:pt x="156" y="209"/>
                  </a:lnTo>
                  <a:lnTo>
                    <a:pt x="177" y="198"/>
                  </a:lnTo>
                  <a:lnTo>
                    <a:pt x="198" y="188"/>
                  </a:lnTo>
                  <a:lnTo>
                    <a:pt x="219" y="177"/>
                  </a:lnTo>
                  <a:lnTo>
                    <a:pt x="240" y="157"/>
                  </a:lnTo>
                  <a:lnTo>
                    <a:pt x="261" y="146"/>
                  </a:lnTo>
                  <a:lnTo>
                    <a:pt x="271" y="136"/>
                  </a:lnTo>
                  <a:lnTo>
                    <a:pt x="292" y="115"/>
                  </a:lnTo>
                  <a:lnTo>
                    <a:pt x="313" y="94"/>
                  </a:lnTo>
                  <a:lnTo>
                    <a:pt x="334" y="73"/>
                  </a:lnTo>
                  <a:lnTo>
                    <a:pt x="344" y="63"/>
                  </a:lnTo>
                  <a:lnTo>
                    <a:pt x="365" y="42"/>
                  </a:lnTo>
                  <a:lnTo>
                    <a:pt x="36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676400" y="4189320"/>
              <a:ext cx="554040" cy="1900440"/>
            </a:xfrm>
            <a:custGeom>
              <a:avLst/>
              <a:gdLst/>
              <a:ahLst/>
              <a:rect l="l" t="t" r="r" b="b"/>
              <a:pathLst>
                <a:path w="230" h="804">
                  <a:moveTo>
                    <a:pt x="0" y="0"/>
                  </a:moveTo>
                  <a:lnTo>
                    <a:pt x="230" y="763"/>
                  </a:lnTo>
                  <a:lnTo>
                    <a:pt x="230" y="804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676400" y="4189320"/>
              <a:ext cx="1433520" cy="1803600"/>
            </a:xfrm>
            <a:custGeom>
              <a:avLst/>
              <a:gdLst/>
              <a:ahLst/>
              <a:rect l="l" t="t" r="r" b="b"/>
              <a:pathLst>
                <a:path w="595" h="763">
                  <a:moveTo>
                    <a:pt x="595" y="533"/>
                  </a:moveTo>
                  <a:lnTo>
                    <a:pt x="574" y="554"/>
                  </a:lnTo>
                  <a:lnTo>
                    <a:pt x="564" y="564"/>
                  </a:lnTo>
                  <a:lnTo>
                    <a:pt x="543" y="585"/>
                  </a:lnTo>
                  <a:lnTo>
                    <a:pt x="522" y="606"/>
                  </a:lnTo>
                  <a:lnTo>
                    <a:pt x="501" y="627"/>
                  </a:lnTo>
                  <a:lnTo>
                    <a:pt x="491" y="637"/>
                  </a:lnTo>
                  <a:lnTo>
                    <a:pt x="470" y="648"/>
                  </a:lnTo>
                  <a:lnTo>
                    <a:pt x="449" y="669"/>
                  </a:lnTo>
                  <a:lnTo>
                    <a:pt x="428" y="679"/>
                  </a:lnTo>
                  <a:lnTo>
                    <a:pt x="407" y="690"/>
                  </a:lnTo>
                  <a:lnTo>
                    <a:pt x="386" y="700"/>
                  </a:lnTo>
                  <a:lnTo>
                    <a:pt x="365" y="710"/>
                  </a:lnTo>
                  <a:lnTo>
                    <a:pt x="355" y="721"/>
                  </a:lnTo>
                  <a:lnTo>
                    <a:pt x="324" y="731"/>
                  </a:lnTo>
                  <a:lnTo>
                    <a:pt x="303" y="742"/>
                  </a:lnTo>
                  <a:lnTo>
                    <a:pt x="271" y="752"/>
                  </a:lnTo>
                  <a:lnTo>
                    <a:pt x="261" y="763"/>
                  </a:lnTo>
                  <a:lnTo>
                    <a:pt x="230" y="763"/>
                  </a:lnTo>
                  <a:lnTo>
                    <a:pt x="0" y="0"/>
                  </a:lnTo>
                  <a:lnTo>
                    <a:pt x="595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246200" y="6068880"/>
              <a:ext cx="806760" cy="195480"/>
            </a:xfrm>
            <a:custGeom>
              <a:avLst/>
              <a:gdLst/>
              <a:ahLst/>
              <a:rect l="l" t="t" r="r" b="b"/>
              <a:pathLst>
                <a:path w="335" h="83">
                  <a:moveTo>
                    <a:pt x="335" y="0"/>
                  </a:moveTo>
                  <a:lnTo>
                    <a:pt x="314" y="10"/>
                  </a:lnTo>
                  <a:lnTo>
                    <a:pt x="282" y="21"/>
                  </a:lnTo>
                  <a:lnTo>
                    <a:pt x="251" y="21"/>
                  </a:lnTo>
                  <a:lnTo>
                    <a:pt x="230" y="31"/>
                  </a:lnTo>
                  <a:lnTo>
                    <a:pt x="199" y="31"/>
                  </a:lnTo>
                  <a:lnTo>
                    <a:pt x="167" y="31"/>
                  </a:lnTo>
                  <a:lnTo>
                    <a:pt x="147" y="41"/>
                  </a:lnTo>
                  <a:lnTo>
                    <a:pt x="115" y="41"/>
                  </a:lnTo>
                  <a:lnTo>
                    <a:pt x="84" y="41"/>
                  </a:lnTo>
                  <a:lnTo>
                    <a:pt x="63" y="41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73"/>
                  </a:lnTo>
                  <a:lnTo>
                    <a:pt x="32" y="73"/>
                  </a:lnTo>
                  <a:lnTo>
                    <a:pt x="63" y="83"/>
                  </a:lnTo>
                  <a:lnTo>
                    <a:pt x="84" y="83"/>
                  </a:lnTo>
                  <a:lnTo>
                    <a:pt x="115" y="83"/>
                  </a:lnTo>
                  <a:lnTo>
                    <a:pt x="147" y="83"/>
                  </a:lnTo>
                  <a:lnTo>
                    <a:pt x="167" y="73"/>
                  </a:lnTo>
                  <a:lnTo>
                    <a:pt x="199" y="73"/>
                  </a:lnTo>
                  <a:lnTo>
                    <a:pt x="230" y="73"/>
                  </a:lnTo>
                  <a:lnTo>
                    <a:pt x="251" y="62"/>
                  </a:lnTo>
                  <a:lnTo>
                    <a:pt x="282" y="62"/>
                  </a:lnTo>
                  <a:lnTo>
                    <a:pt x="314" y="52"/>
                  </a:lnTo>
                  <a:lnTo>
                    <a:pt x="335" y="41"/>
                  </a:lnTo>
                  <a:lnTo>
                    <a:pt x="33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246200" y="4265640"/>
              <a:ext cx="806760" cy="1900080"/>
            </a:xfrm>
            <a:custGeom>
              <a:avLst/>
              <a:gdLst/>
              <a:ahLst/>
              <a:rect l="l" t="t" r="r" b="b"/>
              <a:pathLst>
                <a:path w="335" h="804">
                  <a:moveTo>
                    <a:pt x="335" y="763"/>
                  </a:moveTo>
                  <a:lnTo>
                    <a:pt x="314" y="773"/>
                  </a:lnTo>
                  <a:lnTo>
                    <a:pt x="282" y="784"/>
                  </a:lnTo>
                  <a:lnTo>
                    <a:pt x="251" y="784"/>
                  </a:lnTo>
                  <a:lnTo>
                    <a:pt x="230" y="794"/>
                  </a:lnTo>
                  <a:lnTo>
                    <a:pt x="199" y="794"/>
                  </a:lnTo>
                  <a:lnTo>
                    <a:pt x="167" y="794"/>
                  </a:lnTo>
                  <a:lnTo>
                    <a:pt x="147" y="804"/>
                  </a:lnTo>
                  <a:lnTo>
                    <a:pt x="115" y="804"/>
                  </a:lnTo>
                  <a:lnTo>
                    <a:pt x="84" y="804"/>
                  </a:lnTo>
                  <a:lnTo>
                    <a:pt x="63" y="804"/>
                  </a:lnTo>
                  <a:lnTo>
                    <a:pt x="32" y="794"/>
                  </a:lnTo>
                  <a:lnTo>
                    <a:pt x="0" y="794"/>
                  </a:lnTo>
                  <a:lnTo>
                    <a:pt x="105" y="0"/>
                  </a:lnTo>
                  <a:lnTo>
                    <a:pt x="335" y="76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516120" y="5943600"/>
              <a:ext cx="628560" cy="2970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261" y="84"/>
                  </a:moveTo>
                  <a:lnTo>
                    <a:pt x="241" y="84"/>
                  </a:lnTo>
                  <a:lnTo>
                    <a:pt x="220" y="84"/>
                  </a:lnTo>
                  <a:lnTo>
                    <a:pt x="199" y="74"/>
                  </a:lnTo>
                  <a:lnTo>
                    <a:pt x="167" y="63"/>
                  </a:lnTo>
                  <a:lnTo>
                    <a:pt x="157" y="63"/>
                  </a:lnTo>
                  <a:lnTo>
                    <a:pt x="126" y="53"/>
                  </a:lnTo>
                  <a:lnTo>
                    <a:pt x="105" y="53"/>
                  </a:lnTo>
                  <a:lnTo>
                    <a:pt x="84" y="42"/>
                  </a:lnTo>
                  <a:lnTo>
                    <a:pt x="63" y="32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1" y="63"/>
                  </a:lnTo>
                  <a:lnTo>
                    <a:pt x="32" y="63"/>
                  </a:lnTo>
                  <a:lnTo>
                    <a:pt x="63" y="74"/>
                  </a:lnTo>
                  <a:lnTo>
                    <a:pt x="84" y="84"/>
                  </a:lnTo>
                  <a:lnTo>
                    <a:pt x="105" y="94"/>
                  </a:lnTo>
                  <a:lnTo>
                    <a:pt x="126" y="94"/>
                  </a:lnTo>
                  <a:lnTo>
                    <a:pt x="157" y="105"/>
                  </a:lnTo>
                  <a:lnTo>
                    <a:pt x="167" y="105"/>
                  </a:lnTo>
                  <a:lnTo>
                    <a:pt x="199" y="115"/>
                  </a:lnTo>
                  <a:lnTo>
                    <a:pt x="220" y="126"/>
                  </a:lnTo>
                  <a:lnTo>
                    <a:pt x="241" y="126"/>
                  </a:lnTo>
                  <a:lnTo>
                    <a:pt x="261" y="126"/>
                  </a:lnTo>
                  <a:lnTo>
                    <a:pt x="261" y="8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516120" y="4253040"/>
              <a:ext cx="880920" cy="1876320"/>
            </a:xfrm>
            <a:custGeom>
              <a:avLst/>
              <a:gdLst/>
              <a:ahLst/>
              <a:rect l="l" t="t" r="r" b="b"/>
              <a:pathLst>
                <a:path w="366" h="794">
                  <a:moveTo>
                    <a:pt x="261" y="794"/>
                  </a:moveTo>
                  <a:lnTo>
                    <a:pt x="241" y="794"/>
                  </a:lnTo>
                  <a:lnTo>
                    <a:pt x="220" y="794"/>
                  </a:lnTo>
                  <a:lnTo>
                    <a:pt x="199" y="784"/>
                  </a:lnTo>
                  <a:lnTo>
                    <a:pt x="167" y="773"/>
                  </a:lnTo>
                  <a:lnTo>
                    <a:pt x="157" y="773"/>
                  </a:lnTo>
                  <a:lnTo>
                    <a:pt x="126" y="763"/>
                  </a:lnTo>
                  <a:lnTo>
                    <a:pt x="105" y="763"/>
                  </a:lnTo>
                  <a:lnTo>
                    <a:pt x="84" y="752"/>
                  </a:lnTo>
                  <a:lnTo>
                    <a:pt x="63" y="742"/>
                  </a:lnTo>
                  <a:lnTo>
                    <a:pt x="32" y="731"/>
                  </a:lnTo>
                  <a:lnTo>
                    <a:pt x="21" y="731"/>
                  </a:lnTo>
                  <a:lnTo>
                    <a:pt x="0" y="710"/>
                  </a:lnTo>
                  <a:lnTo>
                    <a:pt x="366" y="0"/>
                  </a:lnTo>
                  <a:lnTo>
                    <a:pt x="261" y="79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146480" y="4265640"/>
              <a:ext cx="225360" cy="1974960"/>
            </a:xfrm>
            <a:custGeom>
              <a:avLst/>
              <a:gdLst/>
              <a:ahLst/>
              <a:rect l="l" t="t" r="r" b="b"/>
              <a:pathLst>
                <a:path w="94" h="836">
                  <a:moveTo>
                    <a:pt x="94" y="0"/>
                  </a:moveTo>
                  <a:lnTo>
                    <a:pt x="0" y="794"/>
                  </a:lnTo>
                  <a:lnTo>
                    <a:pt x="0" y="836"/>
                  </a:lnTo>
                  <a:lnTo>
                    <a:pt x="94" y="42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282760" y="3705120"/>
              <a:ext cx="1936440" cy="567000"/>
            </a:xfrm>
            <a:custGeom>
              <a:avLst/>
              <a:gdLst/>
              <a:ahLst/>
              <a:rect l="l" t="t" r="r" b="b"/>
              <a:pathLst>
                <a:path w="804" h="240">
                  <a:moveTo>
                    <a:pt x="0" y="240"/>
                  </a:moveTo>
                  <a:lnTo>
                    <a:pt x="0" y="209"/>
                  </a:lnTo>
                  <a:lnTo>
                    <a:pt x="0" y="188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84"/>
                  </a:lnTo>
                  <a:lnTo>
                    <a:pt x="0" y="63"/>
                  </a:lnTo>
                  <a:lnTo>
                    <a:pt x="10" y="32"/>
                  </a:lnTo>
                  <a:lnTo>
                    <a:pt x="10" y="0"/>
                  </a:lnTo>
                  <a:lnTo>
                    <a:pt x="804" y="167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93560" y="4113360"/>
              <a:ext cx="1913040" cy="247680"/>
            </a:xfrm>
            <a:custGeom>
              <a:avLst/>
              <a:gdLst/>
              <a:ahLst/>
              <a:rect l="l" t="t" r="r" b="b"/>
              <a:pathLst>
                <a:path w="794" h="105">
                  <a:moveTo>
                    <a:pt x="794" y="0"/>
                  </a:moveTo>
                  <a:lnTo>
                    <a:pt x="0" y="63"/>
                  </a:lnTo>
                  <a:lnTo>
                    <a:pt x="0" y="105"/>
                  </a:lnTo>
                  <a:lnTo>
                    <a:pt x="794" y="42"/>
                  </a:lnTo>
                  <a:lnTo>
                    <a:pt x="794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5" name=""/>
            <p:cNvGrpSpPr/>
            <p:nvPr/>
          </p:nvGrpSpPr>
          <p:grpSpPr>
            <a:xfrm>
              <a:off x="2842920" y="2214720"/>
              <a:ext cx="1433520" cy="1650960"/>
              <a:chOff x="2842920" y="2214720"/>
              <a:chExt cx="1433520" cy="1650960"/>
            </a:xfrm>
          </p:grpSpPr>
          <p:sp>
            <p:nvSpPr>
              <p:cNvPr id="1726" name=""/>
              <p:cNvSpPr/>
              <p:nvPr/>
            </p:nvSpPr>
            <p:spPr>
              <a:xfrm>
                <a:off x="2842920" y="2509920"/>
                <a:ext cx="1433520" cy="1355760"/>
              </a:xfrm>
              <a:custGeom>
                <a:avLst/>
                <a:gdLst/>
                <a:ahLst/>
                <a:rect l="l" t="t" r="r" b="b"/>
                <a:pathLst>
                  <a:path w="595" h="574">
                    <a:moveTo>
                      <a:pt x="595" y="532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595" y="574"/>
                    </a:lnTo>
                    <a:lnTo>
                      <a:pt x="595" y="532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842920" y="2214720"/>
                <a:ext cx="1433520" cy="1552680"/>
              </a:xfrm>
              <a:custGeom>
                <a:avLst/>
                <a:gdLst/>
                <a:ahLst/>
                <a:rect l="l" t="t" r="r" b="b"/>
                <a:pathLst>
                  <a:path w="595" h="657">
                    <a:moveTo>
                      <a:pt x="0" y="125"/>
                    </a:moveTo>
                    <a:lnTo>
                      <a:pt x="10" y="104"/>
                    </a:lnTo>
                    <a:lnTo>
                      <a:pt x="21" y="94"/>
                    </a:lnTo>
                    <a:lnTo>
                      <a:pt x="41" y="73"/>
                    </a:lnTo>
                    <a:lnTo>
                      <a:pt x="52" y="62"/>
                    </a:lnTo>
                    <a:lnTo>
                      <a:pt x="73" y="52"/>
                    </a:lnTo>
                    <a:lnTo>
                      <a:pt x="83" y="41"/>
                    </a:lnTo>
                    <a:lnTo>
                      <a:pt x="104" y="20"/>
                    </a:lnTo>
                    <a:lnTo>
                      <a:pt x="115" y="10"/>
                    </a:lnTo>
                    <a:lnTo>
                      <a:pt x="146" y="0"/>
                    </a:lnTo>
                    <a:lnTo>
                      <a:pt x="595" y="657"/>
                    </a:lnTo>
                    <a:lnTo>
                      <a:pt x="0" y="125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8" name=""/>
            <p:cNvSpPr/>
            <p:nvPr/>
          </p:nvSpPr>
          <p:spPr>
            <a:xfrm>
              <a:off x="4251240" y="1841400"/>
              <a:ext cx="101520" cy="1973520"/>
            </a:xfrm>
            <a:custGeom>
              <a:avLst/>
              <a:gdLst/>
              <a:ahLst/>
              <a:rect l="l" t="t" r="r" b="b"/>
              <a:pathLst>
                <a:path w="42" h="835">
                  <a:moveTo>
                    <a:pt x="42" y="793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42" y="835"/>
                  </a:lnTo>
                  <a:lnTo>
                    <a:pt x="42" y="79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479840" y="1854360"/>
              <a:ext cx="101520" cy="187452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001760" y="1841400"/>
              <a:ext cx="351000" cy="1874880"/>
            </a:xfrm>
            <a:custGeom>
              <a:avLst/>
              <a:gdLst/>
              <a:ahLst/>
              <a:rect l="l" t="t" r="r" b="b"/>
              <a:pathLst>
                <a:path w="146" h="793">
                  <a:moveTo>
                    <a:pt x="0" y="10"/>
                  </a:moveTo>
                  <a:lnTo>
                    <a:pt x="21" y="10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46" y="793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774960" y="1865160"/>
              <a:ext cx="577800" cy="1851120"/>
            </a:xfrm>
            <a:custGeom>
              <a:avLst/>
              <a:gdLst/>
              <a:ahLst/>
              <a:rect l="l" t="t" r="r" b="b"/>
              <a:pathLst>
                <a:path w="240" h="783">
                  <a:moveTo>
                    <a:pt x="0" y="21"/>
                  </a:moveTo>
                  <a:lnTo>
                    <a:pt x="21" y="21"/>
                  </a:lnTo>
                  <a:lnTo>
                    <a:pt x="31" y="11"/>
                  </a:lnTo>
                  <a:lnTo>
                    <a:pt x="52" y="11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240" y="783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573360" y="1989000"/>
              <a:ext cx="779400" cy="1825920"/>
            </a:xfrm>
            <a:custGeom>
              <a:avLst/>
              <a:gdLst/>
              <a:ahLst/>
              <a:rect l="l" t="t" r="r" b="b"/>
              <a:pathLst>
                <a:path w="324" h="773">
                  <a:moveTo>
                    <a:pt x="324" y="731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324" y="773"/>
                  </a:lnTo>
                  <a:lnTo>
                    <a:pt x="324" y="7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547800" y="1914480"/>
              <a:ext cx="804960" cy="1801800"/>
            </a:xfrm>
            <a:custGeom>
              <a:avLst/>
              <a:gdLst/>
              <a:ahLst/>
              <a:rect l="l" t="t" r="r" b="b"/>
              <a:pathLst>
                <a:path w="334" h="762">
                  <a:moveTo>
                    <a:pt x="0" y="31"/>
                  </a:moveTo>
                  <a:lnTo>
                    <a:pt x="21" y="31"/>
                  </a:lnTo>
                  <a:lnTo>
                    <a:pt x="31" y="21"/>
                  </a:lnTo>
                  <a:lnTo>
                    <a:pt x="52" y="11"/>
                  </a:lnTo>
                  <a:lnTo>
                    <a:pt x="73" y="11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334" y="762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271680" y="2163600"/>
              <a:ext cx="1081080" cy="1651320"/>
            </a:xfrm>
            <a:custGeom>
              <a:avLst/>
              <a:gdLst/>
              <a:ahLst/>
              <a:rect l="l" t="t" r="r" b="b"/>
              <a:pathLst>
                <a:path w="449" h="699">
                  <a:moveTo>
                    <a:pt x="449" y="657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449" y="699"/>
                  </a:lnTo>
                  <a:lnTo>
                    <a:pt x="449" y="65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271680" y="1989000"/>
              <a:ext cx="1081080" cy="1727280"/>
            </a:xfrm>
            <a:custGeom>
              <a:avLst/>
              <a:gdLst/>
              <a:ahLst/>
              <a:rect l="l" t="t" r="r" b="b"/>
              <a:pathLst>
                <a:path w="449" h="731">
                  <a:moveTo>
                    <a:pt x="0" y="74"/>
                  </a:moveTo>
                  <a:lnTo>
                    <a:pt x="21" y="53"/>
                  </a:lnTo>
                  <a:lnTo>
                    <a:pt x="31" y="53"/>
                  </a:lnTo>
                  <a:lnTo>
                    <a:pt x="52" y="32"/>
                  </a:lnTo>
                  <a:lnTo>
                    <a:pt x="83" y="21"/>
                  </a:lnTo>
                  <a:lnTo>
                    <a:pt x="94" y="11"/>
                  </a:lnTo>
                  <a:lnTo>
                    <a:pt x="115" y="0"/>
                  </a:lnTo>
                  <a:lnTo>
                    <a:pt x="449" y="73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516040" y="2598840"/>
              <a:ext cx="1709640" cy="1257120"/>
            </a:xfrm>
            <a:custGeom>
              <a:avLst/>
              <a:gdLst/>
              <a:ahLst/>
              <a:rect l="l" t="t" r="r" b="b"/>
              <a:pathLst>
                <a:path w="710" h="532">
                  <a:moveTo>
                    <a:pt x="0" y="146"/>
                  </a:moveTo>
                  <a:lnTo>
                    <a:pt x="10" y="136"/>
                  </a:lnTo>
                  <a:lnTo>
                    <a:pt x="21" y="115"/>
                  </a:lnTo>
                  <a:lnTo>
                    <a:pt x="31" y="104"/>
                  </a:lnTo>
                  <a:lnTo>
                    <a:pt x="52" y="73"/>
                  </a:lnTo>
                  <a:lnTo>
                    <a:pt x="52" y="63"/>
                  </a:lnTo>
                  <a:lnTo>
                    <a:pt x="73" y="42"/>
                  </a:lnTo>
                  <a:lnTo>
                    <a:pt x="83" y="31"/>
                  </a:lnTo>
                  <a:lnTo>
                    <a:pt x="104" y="10"/>
                  </a:lnTo>
                  <a:lnTo>
                    <a:pt x="115" y="0"/>
                  </a:lnTo>
                  <a:lnTo>
                    <a:pt x="710" y="532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527200" y="2943360"/>
              <a:ext cx="1685880" cy="1011240"/>
            </a:xfrm>
            <a:custGeom>
              <a:avLst/>
              <a:gdLst/>
              <a:ahLst/>
              <a:rect l="l" t="t" r="r" b="b"/>
              <a:pathLst>
                <a:path w="700" h="428">
                  <a:moveTo>
                    <a:pt x="700" y="386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00" y="428"/>
                  </a:lnTo>
                  <a:lnTo>
                    <a:pt x="700" y="386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300040" y="3083040"/>
              <a:ext cx="1913040" cy="912600"/>
            </a:xfrm>
            <a:custGeom>
              <a:avLst/>
              <a:gdLst/>
              <a:ahLst/>
              <a:rect l="l" t="t" r="r" b="b"/>
              <a:pathLst>
                <a:path w="794" h="386">
                  <a:moveTo>
                    <a:pt x="0" y="219"/>
                  </a:moveTo>
                  <a:lnTo>
                    <a:pt x="11" y="198"/>
                  </a:lnTo>
                  <a:lnTo>
                    <a:pt x="21" y="167"/>
                  </a:lnTo>
                  <a:lnTo>
                    <a:pt x="32" y="146"/>
                  </a:lnTo>
                  <a:lnTo>
                    <a:pt x="32" y="115"/>
                  </a:lnTo>
                  <a:lnTo>
                    <a:pt x="42" y="104"/>
                  </a:lnTo>
                  <a:lnTo>
                    <a:pt x="53" y="73"/>
                  </a:lnTo>
                  <a:lnTo>
                    <a:pt x="63" y="52"/>
                  </a:lnTo>
                  <a:lnTo>
                    <a:pt x="73" y="31"/>
                  </a:lnTo>
                  <a:lnTo>
                    <a:pt x="84" y="0"/>
                  </a:lnTo>
                  <a:lnTo>
                    <a:pt x="794" y="386"/>
                  </a:lnTo>
                  <a:lnTo>
                    <a:pt x="0" y="219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01480" y="3575160"/>
              <a:ext cx="1886040" cy="493560"/>
            </a:xfrm>
            <a:custGeom>
              <a:avLst/>
              <a:gdLst/>
              <a:ahLst/>
              <a:rect l="l" t="t" r="r" b="b"/>
              <a:pathLst>
                <a:path w="783" h="209">
                  <a:moveTo>
                    <a:pt x="783" y="167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83" y="209"/>
                  </a:lnTo>
                  <a:lnTo>
                    <a:pt x="783" y="16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414600" y="4214880"/>
              <a:ext cx="880920" cy="1776240"/>
            </a:xfrm>
            <a:custGeom>
              <a:avLst/>
              <a:gdLst/>
              <a:ahLst/>
              <a:rect l="l" t="t" r="r" b="b"/>
              <a:pathLst>
                <a:path w="366" h="752">
                  <a:moveTo>
                    <a:pt x="366" y="0"/>
                  </a:moveTo>
                  <a:lnTo>
                    <a:pt x="0" y="710"/>
                  </a:lnTo>
                  <a:lnTo>
                    <a:pt x="0" y="752"/>
                  </a:lnTo>
                  <a:lnTo>
                    <a:pt x="366" y="42"/>
                  </a:lnTo>
                  <a:lnTo>
                    <a:pt x="366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333520" y="4373640"/>
              <a:ext cx="125280" cy="64296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52" y="230"/>
                  </a:moveTo>
                  <a:lnTo>
                    <a:pt x="42" y="199"/>
                  </a:lnTo>
                  <a:lnTo>
                    <a:pt x="42" y="178"/>
                  </a:lnTo>
                  <a:lnTo>
                    <a:pt x="31" y="147"/>
                  </a:lnTo>
                  <a:lnTo>
                    <a:pt x="21" y="126"/>
                  </a:lnTo>
                  <a:lnTo>
                    <a:pt x="21" y="105"/>
                  </a:lnTo>
                  <a:lnTo>
                    <a:pt x="10" y="84"/>
                  </a:lnTo>
                  <a:lnTo>
                    <a:pt x="10" y="5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74"/>
                  </a:lnTo>
                  <a:lnTo>
                    <a:pt x="10" y="94"/>
                  </a:lnTo>
                  <a:lnTo>
                    <a:pt x="10" y="126"/>
                  </a:lnTo>
                  <a:lnTo>
                    <a:pt x="21" y="147"/>
                  </a:lnTo>
                  <a:lnTo>
                    <a:pt x="21" y="168"/>
                  </a:lnTo>
                  <a:lnTo>
                    <a:pt x="31" y="188"/>
                  </a:lnTo>
                  <a:lnTo>
                    <a:pt x="42" y="220"/>
                  </a:lnTo>
                  <a:lnTo>
                    <a:pt x="42" y="241"/>
                  </a:lnTo>
                  <a:lnTo>
                    <a:pt x="52" y="272"/>
                  </a:lnTo>
                  <a:lnTo>
                    <a:pt x="52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485800" y="4202280"/>
              <a:ext cx="1784520" cy="790560"/>
            </a:xfrm>
            <a:custGeom>
              <a:avLst/>
              <a:gdLst/>
              <a:ahLst/>
              <a:rect l="l" t="t" r="r" b="b"/>
              <a:pathLst>
                <a:path w="741" h="335">
                  <a:moveTo>
                    <a:pt x="741" y="0"/>
                  </a:moveTo>
                  <a:lnTo>
                    <a:pt x="0" y="293"/>
                  </a:lnTo>
                  <a:lnTo>
                    <a:pt x="0" y="335"/>
                  </a:lnTo>
                  <a:lnTo>
                    <a:pt x="741" y="42"/>
                  </a:lnTo>
                  <a:lnTo>
                    <a:pt x="741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333520" y="4240080"/>
              <a:ext cx="1936800" cy="716040"/>
            </a:xfrm>
            <a:custGeom>
              <a:avLst/>
              <a:gdLst/>
              <a:ahLst/>
              <a:rect l="l" t="t" r="r" b="b"/>
              <a:pathLst>
                <a:path w="804" h="303">
                  <a:moveTo>
                    <a:pt x="52" y="303"/>
                  </a:moveTo>
                  <a:lnTo>
                    <a:pt x="42" y="272"/>
                  </a:lnTo>
                  <a:lnTo>
                    <a:pt x="42" y="251"/>
                  </a:lnTo>
                  <a:lnTo>
                    <a:pt x="31" y="220"/>
                  </a:lnTo>
                  <a:lnTo>
                    <a:pt x="21" y="199"/>
                  </a:lnTo>
                  <a:lnTo>
                    <a:pt x="21" y="178"/>
                  </a:lnTo>
                  <a:lnTo>
                    <a:pt x="10" y="157"/>
                  </a:lnTo>
                  <a:lnTo>
                    <a:pt x="10" y="126"/>
                  </a:lnTo>
                  <a:lnTo>
                    <a:pt x="0" y="105"/>
                  </a:lnTo>
                  <a:lnTo>
                    <a:pt x="0" y="73"/>
                  </a:lnTo>
                  <a:lnTo>
                    <a:pt x="804" y="0"/>
                  </a:lnTo>
                  <a:lnTo>
                    <a:pt x="52" y="30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458800" y="4917960"/>
              <a:ext cx="378000" cy="642960"/>
            </a:xfrm>
            <a:custGeom>
              <a:avLst/>
              <a:gdLst/>
              <a:ahLst/>
              <a:rect l="l" t="t" r="r" b="b"/>
              <a:pathLst>
                <a:path w="157" h="272">
                  <a:moveTo>
                    <a:pt x="157" y="230"/>
                  </a:moveTo>
                  <a:lnTo>
                    <a:pt x="136" y="209"/>
                  </a:lnTo>
                  <a:lnTo>
                    <a:pt x="125" y="199"/>
                  </a:lnTo>
                  <a:lnTo>
                    <a:pt x="105" y="178"/>
                  </a:lnTo>
                  <a:lnTo>
                    <a:pt x="94" y="157"/>
                  </a:lnTo>
                  <a:lnTo>
                    <a:pt x="84" y="146"/>
                  </a:lnTo>
                  <a:lnTo>
                    <a:pt x="63" y="125"/>
                  </a:lnTo>
                  <a:lnTo>
                    <a:pt x="52" y="105"/>
                  </a:lnTo>
                  <a:lnTo>
                    <a:pt x="42" y="84"/>
                  </a:lnTo>
                  <a:lnTo>
                    <a:pt x="31" y="63"/>
                  </a:lnTo>
                  <a:lnTo>
                    <a:pt x="21" y="42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1" y="63"/>
                  </a:lnTo>
                  <a:lnTo>
                    <a:pt x="21" y="84"/>
                  </a:lnTo>
                  <a:lnTo>
                    <a:pt x="31" y="105"/>
                  </a:lnTo>
                  <a:lnTo>
                    <a:pt x="42" y="125"/>
                  </a:lnTo>
                  <a:lnTo>
                    <a:pt x="52" y="146"/>
                  </a:lnTo>
                  <a:lnTo>
                    <a:pt x="63" y="167"/>
                  </a:lnTo>
                  <a:lnTo>
                    <a:pt x="84" y="188"/>
                  </a:lnTo>
                  <a:lnTo>
                    <a:pt x="94" y="199"/>
                  </a:lnTo>
                  <a:lnTo>
                    <a:pt x="105" y="219"/>
                  </a:lnTo>
                  <a:lnTo>
                    <a:pt x="125" y="240"/>
                  </a:lnTo>
                  <a:lnTo>
                    <a:pt x="136" y="251"/>
                  </a:lnTo>
                  <a:lnTo>
                    <a:pt x="157" y="272"/>
                  </a:lnTo>
                  <a:lnTo>
                    <a:pt x="157" y="23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458800" y="4202280"/>
              <a:ext cx="1811520" cy="1258560"/>
            </a:xfrm>
            <a:custGeom>
              <a:avLst/>
              <a:gdLst/>
              <a:ahLst/>
              <a:rect l="l" t="t" r="r" b="b"/>
              <a:pathLst>
                <a:path w="752" h="533">
                  <a:moveTo>
                    <a:pt x="157" y="533"/>
                  </a:moveTo>
                  <a:lnTo>
                    <a:pt x="136" y="512"/>
                  </a:lnTo>
                  <a:lnTo>
                    <a:pt x="125" y="502"/>
                  </a:lnTo>
                  <a:lnTo>
                    <a:pt x="105" y="481"/>
                  </a:lnTo>
                  <a:lnTo>
                    <a:pt x="94" y="460"/>
                  </a:lnTo>
                  <a:lnTo>
                    <a:pt x="84" y="449"/>
                  </a:lnTo>
                  <a:lnTo>
                    <a:pt x="63" y="428"/>
                  </a:lnTo>
                  <a:lnTo>
                    <a:pt x="52" y="408"/>
                  </a:lnTo>
                  <a:lnTo>
                    <a:pt x="42" y="387"/>
                  </a:lnTo>
                  <a:lnTo>
                    <a:pt x="31" y="366"/>
                  </a:lnTo>
                  <a:lnTo>
                    <a:pt x="21" y="345"/>
                  </a:lnTo>
                  <a:lnTo>
                    <a:pt x="11" y="324"/>
                  </a:lnTo>
                  <a:lnTo>
                    <a:pt x="0" y="303"/>
                  </a:lnTo>
                  <a:lnTo>
                    <a:pt x="752" y="0"/>
                  </a:lnTo>
                  <a:lnTo>
                    <a:pt x="157" y="533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836800" y="4202280"/>
              <a:ext cx="1433520" cy="135864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595" y="0"/>
                  </a:moveTo>
                  <a:lnTo>
                    <a:pt x="0" y="533"/>
                  </a:lnTo>
                  <a:lnTo>
                    <a:pt x="0" y="575"/>
                  </a:lnTo>
                  <a:lnTo>
                    <a:pt x="595" y="42"/>
                  </a:lnTo>
                  <a:lnTo>
                    <a:pt x="595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849400" y="5473800"/>
              <a:ext cx="552240" cy="517320"/>
            </a:xfrm>
            <a:custGeom>
              <a:avLst/>
              <a:gdLst/>
              <a:ahLst/>
              <a:rect l="l" t="t" r="r" b="b"/>
              <a:pathLst>
                <a:path w="229" h="219">
                  <a:moveTo>
                    <a:pt x="229" y="177"/>
                  </a:moveTo>
                  <a:lnTo>
                    <a:pt x="198" y="167"/>
                  </a:lnTo>
                  <a:lnTo>
                    <a:pt x="177" y="157"/>
                  </a:lnTo>
                  <a:lnTo>
                    <a:pt x="167" y="146"/>
                  </a:lnTo>
                  <a:lnTo>
                    <a:pt x="146" y="136"/>
                  </a:lnTo>
                  <a:lnTo>
                    <a:pt x="115" y="115"/>
                  </a:lnTo>
                  <a:lnTo>
                    <a:pt x="94" y="104"/>
                  </a:lnTo>
                  <a:lnTo>
                    <a:pt x="83" y="94"/>
                  </a:lnTo>
                  <a:lnTo>
                    <a:pt x="62" y="73"/>
                  </a:lnTo>
                  <a:lnTo>
                    <a:pt x="41" y="52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0" y="63"/>
                  </a:lnTo>
                  <a:lnTo>
                    <a:pt x="21" y="73"/>
                  </a:lnTo>
                  <a:lnTo>
                    <a:pt x="41" y="94"/>
                  </a:lnTo>
                  <a:lnTo>
                    <a:pt x="62" y="115"/>
                  </a:lnTo>
                  <a:lnTo>
                    <a:pt x="83" y="136"/>
                  </a:lnTo>
                  <a:lnTo>
                    <a:pt x="94" y="146"/>
                  </a:lnTo>
                  <a:lnTo>
                    <a:pt x="115" y="157"/>
                  </a:lnTo>
                  <a:lnTo>
                    <a:pt x="146" y="177"/>
                  </a:lnTo>
                  <a:lnTo>
                    <a:pt x="167" y="188"/>
                  </a:lnTo>
                  <a:lnTo>
                    <a:pt x="177" y="198"/>
                  </a:lnTo>
                  <a:lnTo>
                    <a:pt x="198" y="209"/>
                  </a:lnTo>
                  <a:lnTo>
                    <a:pt x="229" y="219"/>
                  </a:lnTo>
                  <a:lnTo>
                    <a:pt x="229" y="17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849400" y="4214880"/>
              <a:ext cx="1433520" cy="1677960"/>
            </a:xfrm>
            <a:custGeom>
              <a:avLst/>
              <a:gdLst/>
              <a:ahLst/>
              <a:rect l="l" t="t" r="r" b="b"/>
              <a:pathLst>
                <a:path w="595" h="710">
                  <a:moveTo>
                    <a:pt x="229" y="710"/>
                  </a:moveTo>
                  <a:lnTo>
                    <a:pt x="198" y="700"/>
                  </a:lnTo>
                  <a:lnTo>
                    <a:pt x="177" y="690"/>
                  </a:lnTo>
                  <a:lnTo>
                    <a:pt x="167" y="679"/>
                  </a:lnTo>
                  <a:lnTo>
                    <a:pt x="146" y="669"/>
                  </a:lnTo>
                  <a:lnTo>
                    <a:pt x="115" y="648"/>
                  </a:lnTo>
                  <a:lnTo>
                    <a:pt x="94" y="637"/>
                  </a:lnTo>
                  <a:lnTo>
                    <a:pt x="83" y="627"/>
                  </a:lnTo>
                  <a:lnTo>
                    <a:pt x="62" y="606"/>
                  </a:lnTo>
                  <a:lnTo>
                    <a:pt x="41" y="585"/>
                  </a:lnTo>
                  <a:lnTo>
                    <a:pt x="21" y="564"/>
                  </a:lnTo>
                  <a:lnTo>
                    <a:pt x="10" y="554"/>
                  </a:lnTo>
                  <a:lnTo>
                    <a:pt x="0" y="533"/>
                  </a:lnTo>
                  <a:lnTo>
                    <a:pt x="595" y="0"/>
                  </a:lnTo>
                  <a:lnTo>
                    <a:pt x="229" y="71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9" name=""/>
          <p:cNvSpPr/>
          <p:nvPr/>
        </p:nvSpPr>
        <p:spPr>
          <a:xfrm>
            <a:off x="4854600" y="2513160"/>
            <a:ext cx="1433520" cy="1355400"/>
          </a:xfrm>
          <a:custGeom>
            <a:avLst/>
            <a:gdLst/>
            <a:ahLst/>
            <a:rect l="l" t="t" r="r" b="b"/>
            <a:pathLst>
              <a:path w="595" h="574">
                <a:moveTo>
                  <a:pt x="0" y="532"/>
                </a:moveTo>
                <a:lnTo>
                  <a:pt x="595" y="0"/>
                </a:lnTo>
                <a:lnTo>
                  <a:pt x="595" y="42"/>
                </a:lnTo>
                <a:lnTo>
                  <a:pt x="0" y="574"/>
                </a:lnTo>
                <a:lnTo>
                  <a:pt x="0" y="532"/>
                </a:lnTo>
                <a:close/>
              </a:path>
            </a:pathLst>
          </a:custGeom>
          <a:solidFill>
            <a:srgbClr val="4d4d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854600" y="1895400"/>
            <a:ext cx="1433520" cy="1874880"/>
          </a:xfrm>
          <a:custGeom>
            <a:avLst/>
            <a:gdLst/>
            <a:ahLst/>
            <a:rect l="l" t="t" r="r" b="b"/>
            <a:pathLst>
              <a:path w="595" h="793">
                <a:moveTo>
                  <a:pt x="0" y="0"/>
                </a:moveTo>
                <a:lnTo>
                  <a:pt x="21" y="0"/>
                </a:lnTo>
                <a:lnTo>
                  <a:pt x="52" y="0"/>
                </a:lnTo>
                <a:lnTo>
                  <a:pt x="83" y="0"/>
                </a:lnTo>
                <a:lnTo>
                  <a:pt x="104" y="0"/>
                </a:lnTo>
                <a:lnTo>
                  <a:pt x="136" y="10"/>
                </a:lnTo>
                <a:lnTo>
                  <a:pt x="167" y="10"/>
                </a:lnTo>
                <a:lnTo>
                  <a:pt x="188" y="21"/>
                </a:lnTo>
                <a:lnTo>
                  <a:pt x="219" y="31"/>
                </a:lnTo>
                <a:lnTo>
                  <a:pt x="250" y="31"/>
                </a:lnTo>
                <a:lnTo>
                  <a:pt x="271" y="42"/>
                </a:lnTo>
                <a:lnTo>
                  <a:pt x="303" y="52"/>
                </a:lnTo>
                <a:lnTo>
                  <a:pt x="324" y="62"/>
                </a:lnTo>
                <a:lnTo>
                  <a:pt x="355" y="73"/>
                </a:lnTo>
                <a:lnTo>
                  <a:pt x="376" y="94"/>
                </a:lnTo>
                <a:lnTo>
                  <a:pt x="397" y="104"/>
                </a:lnTo>
                <a:lnTo>
                  <a:pt x="428" y="115"/>
                </a:lnTo>
                <a:lnTo>
                  <a:pt x="449" y="136"/>
                </a:lnTo>
                <a:lnTo>
                  <a:pt x="470" y="146"/>
                </a:lnTo>
                <a:lnTo>
                  <a:pt x="491" y="167"/>
                </a:lnTo>
                <a:lnTo>
                  <a:pt x="511" y="188"/>
                </a:lnTo>
                <a:lnTo>
                  <a:pt x="532" y="198"/>
                </a:lnTo>
                <a:lnTo>
                  <a:pt x="553" y="219"/>
                </a:lnTo>
                <a:lnTo>
                  <a:pt x="574" y="240"/>
                </a:lnTo>
                <a:lnTo>
                  <a:pt x="595" y="261"/>
                </a:lnTo>
                <a:lnTo>
                  <a:pt x="0" y="793"/>
                </a:lnTo>
                <a:lnTo>
                  <a:pt x="0" y="0"/>
                </a:lnTo>
                <a:close/>
              </a:path>
            </a:pathLst>
          </a:custGeom>
          <a:solidFill>
            <a:srgbClr val="000082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630760" y="167940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Look"/Art,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4291560" y="1606680"/>
            <a:ext cx="546480" cy="2122200"/>
            <a:chOff x="4291560" y="1606680"/>
            <a:chExt cx="546480" cy="2122200"/>
          </a:xfrm>
        </p:grpSpPr>
        <p:sp>
          <p:nvSpPr>
            <p:cNvPr id="1753" name=""/>
            <p:cNvSpPr/>
            <p:nvPr/>
          </p:nvSpPr>
          <p:spPr>
            <a:xfrm>
              <a:off x="4479840" y="1854000"/>
              <a:ext cx="101520" cy="1874880"/>
            </a:xfrm>
            <a:custGeom>
              <a:avLst/>
              <a:gdLst/>
              <a:ahLst/>
              <a:rect l="l" t="t" r="r" b="b"/>
              <a:pathLst>
                <a:path w="42" h="79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42" y="0"/>
                  </a:lnTo>
                  <a:lnTo>
                    <a:pt x="42" y="7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ab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1560" y="1606680"/>
              <a:ext cx="54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Price,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390600" y="1327320"/>
            <a:ext cx="21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of Impact; of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4101120" y="4265640"/>
            <a:ext cx="1132920" cy="2423160"/>
            <a:chOff x="4101120" y="4265640"/>
            <a:chExt cx="1132920" cy="2423160"/>
          </a:xfrm>
        </p:grpSpPr>
        <p:sp>
          <p:nvSpPr>
            <p:cNvPr id="1757" name=""/>
            <p:cNvSpPr/>
            <p:nvPr/>
          </p:nvSpPr>
          <p:spPr>
            <a:xfrm>
              <a:off x="4246560" y="6068880"/>
              <a:ext cx="806760" cy="195480"/>
            </a:xfrm>
            <a:custGeom>
              <a:avLst/>
              <a:gdLst/>
              <a:ahLst/>
              <a:rect l="l" t="t" r="r" b="b"/>
              <a:pathLst>
                <a:path w="335" h="83">
                  <a:moveTo>
                    <a:pt x="335" y="0"/>
                  </a:moveTo>
                  <a:lnTo>
                    <a:pt x="314" y="10"/>
                  </a:lnTo>
                  <a:lnTo>
                    <a:pt x="282" y="21"/>
                  </a:lnTo>
                  <a:lnTo>
                    <a:pt x="251" y="21"/>
                  </a:lnTo>
                  <a:lnTo>
                    <a:pt x="230" y="31"/>
                  </a:lnTo>
                  <a:lnTo>
                    <a:pt x="199" y="31"/>
                  </a:lnTo>
                  <a:lnTo>
                    <a:pt x="167" y="31"/>
                  </a:lnTo>
                  <a:lnTo>
                    <a:pt x="147" y="41"/>
                  </a:lnTo>
                  <a:lnTo>
                    <a:pt x="115" y="41"/>
                  </a:lnTo>
                  <a:lnTo>
                    <a:pt x="84" y="41"/>
                  </a:lnTo>
                  <a:lnTo>
                    <a:pt x="63" y="41"/>
                  </a:lnTo>
                  <a:lnTo>
                    <a:pt x="32" y="31"/>
                  </a:lnTo>
                  <a:lnTo>
                    <a:pt x="0" y="31"/>
                  </a:lnTo>
                  <a:lnTo>
                    <a:pt x="0" y="73"/>
                  </a:lnTo>
                  <a:lnTo>
                    <a:pt x="32" y="73"/>
                  </a:lnTo>
                  <a:lnTo>
                    <a:pt x="63" y="83"/>
                  </a:lnTo>
                  <a:lnTo>
                    <a:pt x="84" y="83"/>
                  </a:lnTo>
                  <a:lnTo>
                    <a:pt x="115" y="83"/>
                  </a:lnTo>
                  <a:lnTo>
                    <a:pt x="147" y="83"/>
                  </a:lnTo>
                  <a:lnTo>
                    <a:pt x="167" y="73"/>
                  </a:lnTo>
                  <a:lnTo>
                    <a:pt x="199" y="73"/>
                  </a:lnTo>
                  <a:lnTo>
                    <a:pt x="230" y="73"/>
                  </a:lnTo>
                  <a:lnTo>
                    <a:pt x="251" y="62"/>
                  </a:lnTo>
                  <a:lnTo>
                    <a:pt x="282" y="62"/>
                  </a:lnTo>
                  <a:lnTo>
                    <a:pt x="314" y="52"/>
                  </a:lnTo>
                  <a:lnTo>
                    <a:pt x="335" y="41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4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46560" y="4265640"/>
              <a:ext cx="806760" cy="1900080"/>
            </a:xfrm>
            <a:custGeom>
              <a:avLst/>
              <a:gdLst/>
              <a:ahLst/>
              <a:rect l="l" t="t" r="r" b="b"/>
              <a:pathLst>
                <a:path w="335" h="804">
                  <a:moveTo>
                    <a:pt x="335" y="763"/>
                  </a:moveTo>
                  <a:lnTo>
                    <a:pt x="314" y="773"/>
                  </a:lnTo>
                  <a:lnTo>
                    <a:pt x="282" y="784"/>
                  </a:lnTo>
                  <a:lnTo>
                    <a:pt x="251" y="784"/>
                  </a:lnTo>
                  <a:lnTo>
                    <a:pt x="230" y="794"/>
                  </a:lnTo>
                  <a:lnTo>
                    <a:pt x="199" y="794"/>
                  </a:lnTo>
                  <a:lnTo>
                    <a:pt x="167" y="794"/>
                  </a:lnTo>
                  <a:lnTo>
                    <a:pt x="147" y="804"/>
                  </a:lnTo>
                  <a:lnTo>
                    <a:pt x="115" y="804"/>
                  </a:lnTo>
                  <a:lnTo>
                    <a:pt x="84" y="804"/>
                  </a:lnTo>
                  <a:lnTo>
                    <a:pt x="63" y="804"/>
                  </a:lnTo>
                  <a:lnTo>
                    <a:pt x="32" y="794"/>
                  </a:lnTo>
                  <a:lnTo>
                    <a:pt x="0" y="794"/>
                  </a:lnTo>
                  <a:lnTo>
                    <a:pt x="105" y="0"/>
                  </a:lnTo>
                  <a:lnTo>
                    <a:pt x="335" y="763"/>
                  </a:lnTo>
                  <a:close/>
                </a:path>
              </a:pathLst>
            </a:custGeom>
            <a:solidFill>
              <a:srgbClr val="ff505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101120" y="647532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-line Ads,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3516480" y="4253040"/>
            <a:ext cx="880920" cy="1987560"/>
            <a:chOff x="3516480" y="4253040"/>
            <a:chExt cx="880920" cy="1987560"/>
          </a:xfrm>
        </p:grpSpPr>
        <p:sp>
          <p:nvSpPr>
            <p:cNvPr id="1761" name=""/>
            <p:cNvSpPr/>
            <p:nvPr/>
          </p:nvSpPr>
          <p:spPr>
            <a:xfrm>
              <a:off x="3516480" y="5943600"/>
              <a:ext cx="628560" cy="2970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261" y="84"/>
                  </a:moveTo>
                  <a:lnTo>
                    <a:pt x="241" y="84"/>
                  </a:lnTo>
                  <a:lnTo>
                    <a:pt x="220" y="84"/>
                  </a:lnTo>
                  <a:lnTo>
                    <a:pt x="199" y="74"/>
                  </a:lnTo>
                  <a:lnTo>
                    <a:pt x="167" y="63"/>
                  </a:lnTo>
                  <a:lnTo>
                    <a:pt x="157" y="63"/>
                  </a:lnTo>
                  <a:lnTo>
                    <a:pt x="126" y="53"/>
                  </a:lnTo>
                  <a:lnTo>
                    <a:pt x="105" y="53"/>
                  </a:lnTo>
                  <a:lnTo>
                    <a:pt x="84" y="42"/>
                  </a:lnTo>
                  <a:lnTo>
                    <a:pt x="63" y="32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1" y="63"/>
                  </a:lnTo>
                  <a:lnTo>
                    <a:pt x="32" y="63"/>
                  </a:lnTo>
                  <a:lnTo>
                    <a:pt x="63" y="74"/>
                  </a:lnTo>
                  <a:lnTo>
                    <a:pt x="84" y="84"/>
                  </a:lnTo>
                  <a:lnTo>
                    <a:pt x="105" y="94"/>
                  </a:lnTo>
                  <a:lnTo>
                    <a:pt x="126" y="94"/>
                  </a:lnTo>
                  <a:lnTo>
                    <a:pt x="157" y="105"/>
                  </a:lnTo>
                  <a:lnTo>
                    <a:pt x="167" y="105"/>
                  </a:lnTo>
                  <a:lnTo>
                    <a:pt x="199" y="115"/>
                  </a:lnTo>
                  <a:lnTo>
                    <a:pt x="220" y="126"/>
                  </a:lnTo>
                  <a:lnTo>
                    <a:pt x="241" y="126"/>
                  </a:lnTo>
                  <a:lnTo>
                    <a:pt x="261" y="126"/>
                  </a:lnTo>
                  <a:lnTo>
                    <a:pt x="261" y="84"/>
                  </a:lnTo>
                  <a:close/>
                </a:path>
              </a:pathLst>
            </a:custGeom>
            <a:solidFill>
              <a:srgbClr val="660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516480" y="4253040"/>
              <a:ext cx="880920" cy="1876320"/>
            </a:xfrm>
            <a:custGeom>
              <a:avLst/>
              <a:gdLst/>
              <a:ahLst/>
              <a:rect l="l" t="t" r="r" b="b"/>
              <a:pathLst>
                <a:path w="366" h="794">
                  <a:moveTo>
                    <a:pt x="261" y="794"/>
                  </a:moveTo>
                  <a:lnTo>
                    <a:pt x="241" y="794"/>
                  </a:lnTo>
                  <a:lnTo>
                    <a:pt x="220" y="794"/>
                  </a:lnTo>
                  <a:lnTo>
                    <a:pt x="199" y="784"/>
                  </a:lnTo>
                  <a:lnTo>
                    <a:pt x="167" y="773"/>
                  </a:lnTo>
                  <a:lnTo>
                    <a:pt x="157" y="773"/>
                  </a:lnTo>
                  <a:lnTo>
                    <a:pt x="126" y="763"/>
                  </a:lnTo>
                  <a:lnTo>
                    <a:pt x="105" y="763"/>
                  </a:lnTo>
                  <a:lnTo>
                    <a:pt x="84" y="752"/>
                  </a:lnTo>
                  <a:lnTo>
                    <a:pt x="63" y="742"/>
                  </a:lnTo>
                  <a:lnTo>
                    <a:pt x="32" y="731"/>
                  </a:lnTo>
                  <a:lnTo>
                    <a:pt x="21" y="731"/>
                  </a:lnTo>
                  <a:lnTo>
                    <a:pt x="0" y="710"/>
                  </a:lnTo>
                  <a:lnTo>
                    <a:pt x="366" y="0"/>
                  </a:lnTo>
                  <a:lnTo>
                    <a:pt x="261" y="794"/>
                  </a:lnTo>
                  <a:close/>
                </a:path>
              </a:pathLst>
            </a:custGeom>
            <a:solidFill>
              <a:srgbClr val="9a009a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146840" y="4265640"/>
              <a:ext cx="225360" cy="1974960"/>
            </a:xfrm>
            <a:custGeom>
              <a:avLst/>
              <a:gdLst/>
              <a:ahLst/>
              <a:rect l="l" t="t" r="r" b="b"/>
              <a:pathLst>
                <a:path w="94" h="836">
                  <a:moveTo>
                    <a:pt x="94" y="0"/>
                  </a:moveTo>
                  <a:lnTo>
                    <a:pt x="0" y="794"/>
                  </a:lnTo>
                  <a:lnTo>
                    <a:pt x="0" y="836"/>
                  </a:lnTo>
                  <a:lnTo>
                    <a:pt x="94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0404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2425320" y="6278400"/>
            <a:ext cx="1361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vision Ads,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2843280" y="2214720"/>
            <a:ext cx="1433520" cy="1650960"/>
            <a:chOff x="2843280" y="2214720"/>
            <a:chExt cx="1433520" cy="1650960"/>
          </a:xfrm>
        </p:grpSpPr>
        <p:sp>
          <p:nvSpPr>
            <p:cNvPr id="1766" name=""/>
            <p:cNvSpPr/>
            <p:nvPr/>
          </p:nvSpPr>
          <p:spPr>
            <a:xfrm>
              <a:off x="2843280" y="2509920"/>
              <a:ext cx="1433520" cy="135576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595" y="532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595" y="574"/>
                  </a:lnTo>
                  <a:lnTo>
                    <a:pt x="595" y="532"/>
                  </a:lnTo>
                  <a:close/>
                </a:path>
              </a:pathLst>
            </a:custGeom>
            <a:solidFill>
              <a:srgbClr val="40004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843280" y="2214720"/>
              <a:ext cx="1433520" cy="1552320"/>
            </a:xfrm>
            <a:custGeom>
              <a:avLst/>
              <a:gdLst/>
              <a:ahLst/>
              <a:rect l="l" t="t" r="r" b="b"/>
              <a:pathLst>
                <a:path w="595" h="657">
                  <a:moveTo>
                    <a:pt x="0" y="125"/>
                  </a:moveTo>
                  <a:lnTo>
                    <a:pt x="10" y="104"/>
                  </a:lnTo>
                  <a:lnTo>
                    <a:pt x="21" y="94"/>
                  </a:lnTo>
                  <a:lnTo>
                    <a:pt x="41" y="73"/>
                  </a:lnTo>
                  <a:lnTo>
                    <a:pt x="52" y="62"/>
                  </a:lnTo>
                  <a:lnTo>
                    <a:pt x="73" y="52"/>
                  </a:lnTo>
                  <a:lnTo>
                    <a:pt x="83" y="41"/>
                  </a:lnTo>
                  <a:lnTo>
                    <a:pt x="104" y="20"/>
                  </a:lnTo>
                  <a:lnTo>
                    <a:pt x="115" y="10"/>
                  </a:lnTo>
                  <a:lnTo>
                    <a:pt x="146" y="0"/>
                  </a:lnTo>
                  <a:lnTo>
                    <a:pt x="595" y="65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0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1628280" y="2255760"/>
            <a:ext cx="128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nsorships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094480" y="1949400"/>
            <a:ext cx="114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ds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018600" y="1760400"/>
            <a:ext cx="57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582000" y="1465200"/>
            <a:ext cx="69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ema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251240" y="1841400"/>
            <a:ext cx="101520" cy="1973520"/>
          </a:xfrm>
          <a:custGeom>
            <a:avLst/>
            <a:gdLst/>
            <a:ahLst/>
            <a:rect l="l" t="t" r="r" b="b"/>
            <a:pathLst>
              <a:path w="42" h="835">
                <a:moveTo>
                  <a:pt x="42" y="793"/>
                </a:moveTo>
                <a:lnTo>
                  <a:pt x="0" y="0"/>
                </a:lnTo>
                <a:lnTo>
                  <a:pt x="0" y="42"/>
                </a:lnTo>
                <a:lnTo>
                  <a:pt x="42" y="835"/>
                </a:lnTo>
                <a:lnTo>
                  <a:pt x="42" y="793"/>
                </a:lnTo>
                <a:close/>
              </a:path>
            </a:pathLst>
          </a:custGeom>
          <a:solidFill>
            <a:srgbClr val="6680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002120" y="1841400"/>
            <a:ext cx="350640" cy="1874880"/>
          </a:xfrm>
          <a:custGeom>
            <a:avLst/>
            <a:gdLst/>
            <a:ahLst/>
            <a:rect l="l" t="t" r="r" b="b"/>
            <a:pathLst>
              <a:path w="146" h="793">
                <a:moveTo>
                  <a:pt x="0" y="10"/>
                </a:moveTo>
                <a:lnTo>
                  <a:pt x="21" y="10"/>
                </a:lnTo>
                <a:lnTo>
                  <a:pt x="31" y="0"/>
                </a:lnTo>
                <a:lnTo>
                  <a:pt x="62" y="0"/>
                </a:lnTo>
                <a:lnTo>
                  <a:pt x="73" y="0"/>
                </a:lnTo>
                <a:lnTo>
                  <a:pt x="83" y="0"/>
                </a:lnTo>
                <a:lnTo>
                  <a:pt x="104" y="0"/>
                </a:lnTo>
                <a:lnTo>
                  <a:pt x="146" y="793"/>
                </a:lnTo>
                <a:lnTo>
                  <a:pt x="0" y="10"/>
                </a:lnTo>
                <a:close/>
              </a:path>
            </a:pathLst>
          </a:custGeom>
          <a:solidFill>
            <a:srgbClr val="ff5d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573360" y="1989000"/>
            <a:ext cx="779400" cy="1825920"/>
          </a:xfrm>
          <a:custGeom>
            <a:avLst/>
            <a:gdLst/>
            <a:ahLst/>
            <a:rect l="l" t="t" r="r" b="b"/>
            <a:pathLst>
              <a:path w="324" h="773">
                <a:moveTo>
                  <a:pt x="324" y="731"/>
                </a:moveTo>
                <a:lnTo>
                  <a:pt x="0" y="0"/>
                </a:lnTo>
                <a:lnTo>
                  <a:pt x="0" y="42"/>
                </a:lnTo>
                <a:lnTo>
                  <a:pt x="324" y="773"/>
                </a:lnTo>
                <a:lnTo>
                  <a:pt x="324" y="731"/>
                </a:lnTo>
                <a:close/>
              </a:path>
            </a:pathLst>
          </a:custGeom>
          <a:solidFill>
            <a:srgbClr val="00404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48160" y="1914480"/>
            <a:ext cx="804600" cy="1801800"/>
          </a:xfrm>
          <a:custGeom>
            <a:avLst/>
            <a:gdLst/>
            <a:ahLst/>
            <a:rect l="l" t="t" r="r" b="b"/>
            <a:pathLst>
              <a:path w="334" h="762">
                <a:moveTo>
                  <a:pt x="0" y="31"/>
                </a:moveTo>
                <a:lnTo>
                  <a:pt x="21" y="31"/>
                </a:lnTo>
                <a:lnTo>
                  <a:pt x="31" y="21"/>
                </a:lnTo>
                <a:lnTo>
                  <a:pt x="52" y="11"/>
                </a:lnTo>
                <a:lnTo>
                  <a:pt x="73" y="11"/>
                </a:lnTo>
                <a:lnTo>
                  <a:pt x="83" y="0"/>
                </a:lnTo>
                <a:lnTo>
                  <a:pt x="94" y="0"/>
                </a:lnTo>
                <a:lnTo>
                  <a:pt x="334" y="762"/>
                </a:lnTo>
                <a:lnTo>
                  <a:pt x="0" y="31"/>
                </a:lnTo>
                <a:close/>
              </a:path>
            </a:pathLst>
          </a:custGeom>
          <a:solidFill>
            <a:srgbClr val="a400a4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271680" y="2163600"/>
            <a:ext cx="1081080" cy="1651320"/>
          </a:xfrm>
          <a:custGeom>
            <a:avLst/>
            <a:gdLst/>
            <a:ahLst/>
            <a:rect l="l" t="t" r="r" b="b"/>
            <a:pathLst>
              <a:path w="449" h="699">
                <a:moveTo>
                  <a:pt x="449" y="657"/>
                </a:moveTo>
                <a:lnTo>
                  <a:pt x="0" y="0"/>
                </a:lnTo>
                <a:lnTo>
                  <a:pt x="0" y="41"/>
                </a:lnTo>
                <a:lnTo>
                  <a:pt x="449" y="699"/>
                </a:lnTo>
                <a:lnTo>
                  <a:pt x="449" y="657"/>
                </a:lnTo>
                <a:close/>
              </a:path>
            </a:pathLst>
          </a:custGeom>
          <a:solidFill>
            <a:srgbClr val="4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271680" y="1989000"/>
            <a:ext cx="1081080" cy="1727280"/>
          </a:xfrm>
          <a:custGeom>
            <a:avLst/>
            <a:gdLst/>
            <a:ahLst/>
            <a:rect l="l" t="t" r="r" b="b"/>
            <a:pathLst>
              <a:path w="449" h="731">
                <a:moveTo>
                  <a:pt x="0" y="74"/>
                </a:moveTo>
                <a:lnTo>
                  <a:pt x="21" y="53"/>
                </a:lnTo>
                <a:lnTo>
                  <a:pt x="31" y="53"/>
                </a:lnTo>
                <a:lnTo>
                  <a:pt x="52" y="32"/>
                </a:lnTo>
                <a:lnTo>
                  <a:pt x="83" y="21"/>
                </a:lnTo>
                <a:lnTo>
                  <a:pt x="94" y="11"/>
                </a:lnTo>
                <a:lnTo>
                  <a:pt x="115" y="0"/>
                </a:lnTo>
                <a:lnTo>
                  <a:pt x="449" y="731"/>
                </a:lnTo>
                <a:lnTo>
                  <a:pt x="0" y="74"/>
                </a:lnTo>
                <a:close/>
              </a:path>
            </a:pathLst>
          </a:custGeom>
          <a:solidFill>
            <a:srgbClr val="a400a4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1426320" y="1630440"/>
            <a:ext cx="6557400" cy="4426560"/>
            <a:chOff x="1426320" y="1630440"/>
            <a:chExt cx="6557400" cy="4426560"/>
          </a:xfrm>
        </p:grpSpPr>
        <p:sp>
          <p:nvSpPr>
            <p:cNvPr id="1779" name=""/>
            <p:cNvSpPr/>
            <p:nvPr/>
          </p:nvSpPr>
          <p:spPr>
            <a:xfrm>
              <a:off x="4841640" y="2513160"/>
              <a:ext cx="1433520" cy="13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0" y="532"/>
                  </a:moveTo>
                  <a:lnTo>
                    <a:pt x="595" y="0"/>
                  </a:lnTo>
                  <a:lnTo>
                    <a:pt x="595" y="42"/>
                  </a:lnTo>
                  <a:lnTo>
                    <a:pt x="0" y="574"/>
                  </a:lnTo>
                  <a:lnTo>
                    <a:pt x="0" y="532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78440" y="3770280"/>
              <a:ext cx="3240" cy="17136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841640" y="3770280"/>
              <a:ext cx="1936800" cy="147600"/>
            </a:xfrm>
            <a:custGeom>
              <a:avLst/>
              <a:gdLst/>
              <a:ahLst/>
              <a:rect l="l" t="t" r="r" b="b"/>
              <a:pathLst>
                <a:path w="804" h="63">
                  <a:moveTo>
                    <a:pt x="0" y="0"/>
                  </a:moveTo>
                  <a:lnTo>
                    <a:pt x="804" y="21"/>
                  </a:lnTo>
                  <a:lnTo>
                    <a:pt x="804" y="6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841640" y="2513160"/>
              <a:ext cx="1936800" cy="1331640"/>
            </a:xfrm>
            <a:custGeom>
              <a:avLst/>
              <a:gdLst/>
              <a:ahLst/>
              <a:rect l="l" t="t" r="r" b="b"/>
              <a:pathLst>
                <a:path w="804" h="564">
                  <a:moveTo>
                    <a:pt x="595" y="0"/>
                  </a:moveTo>
                  <a:lnTo>
                    <a:pt x="616" y="21"/>
                  </a:lnTo>
                  <a:lnTo>
                    <a:pt x="626" y="42"/>
                  </a:lnTo>
                  <a:lnTo>
                    <a:pt x="647" y="63"/>
                  </a:lnTo>
                  <a:lnTo>
                    <a:pt x="658" y="73"/>
                  </a:lnTo>
                  <a:lnTo>
                    <a:pt x="668" y="104"/>
                  </a:lnTo>
                  <a:lnTo>
                    <a:pt x="689" y="125"/>
                  </a:lnTo>
                  <a:lnTo>
                    <a:pt x="699" y="146"/>
                  </a:lnTo>
                  <a:lnTo>
                    <a:pt x="710" y="177"/>
                  </a:lnTo>
                  <a:lnTo>
                    <a:pt x="731" y="198"/>
                  </a:lnTo>
                  <a:lnTo>
                    <a:pt x="731" y="209"/>
                  </a:lnTo>
                  <a:lnTo>
                    <a:pt x="741" y="240"/>
                  </a:lnTo>
                  <a:lnTo>
                    <a:pt x="752" y="261"/>
                  </a:lnTo>
                  <a:lnTo>
                    <a:pt x="762" y="292"/>
                  </a:lnTo>
                  <a:lnTo>
                    <a:pt x="772" y="313"/>
                  </a:lnTo>
                  <a:lnTo>
                    <a:pt x="772" y="344"/>
                  </a:lnTo>
                  <a:lnTo>
                    <a:pt x="783" y="355"/>
                  </a:lnTo>
                  <a:lnTo>
                    <a:pt x="783" y="386"/>
                  </a:lnTo>
                  <a:lnTo>
                    <a:pt x="793" y="407"/>
                  </a:lnTo>
                  <a:lnTo>
                    <a:pt x="793" y="438"/>
                  </a:lnTo>
                  <a:lnTo>
                    <a:pt x="793" y="470"/>
                  </a:lnTo>
                  <a:lnTo>
                    <a:pt x="804" y="491"/>
                  </a:lnTo>
                  <a:lnTo>
                    <a:pt x="804" y="512"/>
                  </a:lnTo>
                  <a:lnTo>
                    <a:pt x="804" y="532"/>
                  </a:lnTo>
                  <a:lnTo>
                    <a:pt x="804" y="564"/>
                  </a:lnTo>
                  <a:lnTo>
                    <a:pt x="0" y="532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0066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54680" y="2833560"/>
              <a:ext cx="122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nel, 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369600" y="16304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I,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762360" y="1865160"/>
              <a:ext cx="577800" cy="1851120"/>
            </a:xfrm>
            <a:custGeom>
              <a:avLst/>
              <a:gdLst/>
              <a:ahLst/>
              <a:rect l="l" t="t" r="r" b="b"/>
              <a:pathLst>
                <a:path w="240" h="783">
                  <a:moveTo>
                    <a:pt x="0" y="21"/>
                  </a:moveTo>
                  <a:lnTo>
                    <a:pt x="21" y="21"/>
                  </a:lnTo>
                  <a:lnTo>
                    <a:pt x="31" y="11"/>
                  </a:lnTo>
                  <a:lnTo>
                    <a:pt x="52" y="11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240" y="78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9ff1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6" name=""/>
            <p:cNvGrpSpPr/>
            <p:nvPr/>
          </p:nvGrpSpPr>
          <p:grpSpPr>
            <a:xfrm>
              <a:off x="1866600" y="2494080"/>
              <a:ext cx="2346480" cy="1460520"/>
              <a:chOff x="1866600" y="2494080"/>
              <a:chExt cx="2346480" cy="1460520"/>
            </a:xfrm>
          </p:grpSpPr>
          <p:sp>
            <p:nvSpPr>
              <p:cNvPr id="1787" name=""/>
              <p:cNvSpPr/>
              <p:nvPr/>
            </p:nvSpPr>
            <p:spPr>
              <a:xfrm>
                <a:off x="2503440" y="2598840"/>
                <a:ext cx="1709640" cy="1257480"/>
              </a:xfrm>
              <a:custGeom>
                <a:avLst/>
                <a:gdLst/>
                <a:ahLst/>
                <a:rect l="l" t="t" r="r" b="b"/>
                <a:pathLst>
                  <a:path w="710" h="532">
                    <a:moveTo>
                      <a:pt x="0" y="146"/>
                    </a:moveTo>
                    <a:lnTo>
                      <a:pt x="10" y="136"/>
                    </a:lnTo>
                    <a:lnTo>
                      <a:pt x="21" y="115"/>
                    </a:lnTo>
                    <a:lnTo>
                      <a:pt x="31" y="104"/>
                    </a:lnTo>
                    <a:lnTo>
                      <a:pt x="52" y="73"/>
                    </a:lnTo>
                    <a:lnTo>
                      <a:pt x="52" y="63"/>
                    </a:lnTo>
                    <a:lnTo>
                      <a:pt x="73" y="42"/>
                    </a:lnTo>
                    <a:lnTo>
                      <a:pt x="83" y="31"/>
                    </a:lnTo>
                    <a:lnTo>
                      <a:pt x="104" y="10"/>
                    </a:lnTo>
                    <a:lnTo>
                      <a:pt x="115" y="0"/>
                    </a:lnTo>
                    <a:lnTo>
                      <a:pt x="710" y="532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b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866600" y="2494080"/>
                <a:ext cx="576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,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514600" y="2943360"/>
                <a:ext cx="1685880" cy="1011240"/>
              </a:xfrm>
              <a:custGeom>
                <a:avLst/>
                <a:gdLst/>
                <a:ahLst/>
                <a:rect l="l" t="t" r="r" b="b"/>
                <a:pathLst>
                  <a:path w="700" h="428">
                    <a:moveTo>
                      <a:pt x="700" y="386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700" y="428"/>
                    </a:lnTo>
                    <a:lnTo>
                      <a:pt x="700" y="386"/>
                    </a:lnTo>
                    <a:close/>
                  </a:path>
                </a:pathLst>
              </a:custGeom>
              <a:solidFill>
                <a:srgbClr val="00808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1426320" y="4202280"/>
              <a:ext cx="2856600" cy="1854720"/>
              <a:chOff x="1426320" y="4202280"/>
              <a:chExt cx="2856600" cy="1854720"/>
            </a:xfrm>
          </p:grpSpPr>
          <p:sp>
            <p:nvSpPr>
              <p:cNvPr id="1791" name=""/>
              <p:cNvSpPr/>
              <p:nvPr/>
            </p:nvSpPr>
            <p:spPr>
              <a:xfrm>
                <a:off x="3402000" y="4214880"/>
                <a:ext cx="880920" cy="1776240"/>
              </a:xfrm>
              <a:custGeom>
                <a:avLst/>
                <a:gdLst/>
                <a:ahLst/>
                <a:rect l="l" t="t" r="r" b="b"/>
                <a:pathLst>
                  <a:path w="366" h="752">
                    <a:moveTo>
                      <a:pt x="366" y="0"/>
                    </a:moveTo>
                    <a:lnTo>
                      <a:pt x="0" y="710"/>
                    </a:lnTo>
                    <a:lnTo>
                      <a:pt x="0" y="752"/>
                    </a:lnTo>
                    <a:lnTo>
                      <a:pt x="366" y="42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003366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088360" y="58435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ers, 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3" name=""/>
              <p:cNvGrpSpPr/>
              <p:nvPr/>
            </p:nvGrpSpPr>
            <p:grpSpPr>
              <a:xfrm>
                <a:off x="1426320" y="4202280"/>
                <a:ext cx="2831040" cy="1358640"/>
                <a:chOff x="1426320" y="4202280"/>
                <a:chExt cx="2831040" cy="1358640"/>
              </a:xfrm>
            </p:grpSpPr>
            <p:sp>
              <p:nvSpPr>
                <p:cNvPr id="1794" name=""/>
                <p:cNvSpPr/>
                <p:nvPr/>
              </p:nvSpPr>
              <p:spPr>
                <a:xfrm>
                  <a:off x="2320920" y="4373640"/>
                  <a:ext cx="125280" cy="642600"/>
                </a:xfrm>
                <a:custGeom>
                  <a:avLst/>
                  <a:gdLst/>
                  <a:ahLst/>
                  <a:rect l="l" t="t" r="r" b="b"/>
                  <a:pathLst>
                    <a:path w="52" h="272">
                      <a:moveTo>
                        <a:pt x="52" y="230"/>
                      </a:moveTo>
                      <a:lnTo>
                        <a:pt x="42" y="199"/>
                      </a:lnTo>
                      <a:lnTo>
                        <a:pt x="42" y="178"/>
                      </a:lnTo>
                      <a:lnTo>
                        <a:pt x="31" y="147"/>
                      </a:lnTo>
                      <a:lnTo>
                        <a:pt x="21" y="126"/>
                      </a:lnTo>
                      <a:lnTo>
                        <a:pt x="21" y="105"/>
                      </a:lnTo>
                      <a:lnTo>
                        <a:pt x="10" y="84"/>
                      </a:lnTo>
                      <a:lnTo>
                        <a:pt x="10" y="53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0" y="74"/>
                      </a:lnTo>
                      <a:lnTo>
                        <a:pt x="10" y="94"/>
                      </a:lnTo>
                      <a:lnTo>
                        <a:pt x="10" y="126"/>
                      </a:lnTo>
                      <a:lnTo>
                        <a:pt x="21" y="147"/>
                      </a:lnTo>
                      <a:lnTo>
                        <a:pt x="21" y="168"/>
                      </a:lnTo>
                      <a:lnTo>
                        <a:pt x="31" y="188"/>
                      </a:lnTo>
                      <a:lnTo>
                        <a:pt x="42" y="220"/>
                      </a:lnTo>
                      <a:lnTo>
                        <a:pt x="42" y="241"/>
                      </a:lnTo>
                      <a:lnTo>
                        <a:pt x="52" y="272"/>
                      </a:lnTo>
                      <a:lnTo>
                        <a:pt x="52" y="230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2473200" y="4202280"/>
                  <a:ext cx="1784160" cy="790200"/>
                </a:xfrm>
                <a:custGeom>
                  <a:avLst/>
                  <a:gdLst/>
                  <a:ahLst/>
                  <a:rect l="l" t="t" r="r" b="b"/>
                  <a:pathLst>
                    <a:path w="741" h="335">
                      <a:moveTo>
                        <a:pt x="741" y="0"/>
                      </a:moveTo>
                      <a:lnTo>
                        <a:pt x="0" y="293"/>
                      </a:lnTo>
                      <a:lnTo>
                        <a:pt x="0" y="335"/>
                      </a:lnTo>
                      <a:lnTo>
                        <a:pt x="741" y="42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2320920" y="4240080"/>
                  <a:ext cx="1936440" cy="715680"/>
                </a:xfrm>
                <a:custGeom>
                  <a:avLst/>
                  <a:gdLst/>
                  <a:ahLst/>
                  <a:rect l="l" t="t" r="r" b="b"/>
                  <a:pathLst>
                    <a:path w="804" h="303">
                      <a:moveTo>
                        <a:pt x="52" y="303"/>
                      </a:moveTo>
                      <a:lnTo>
                        <a:pt x="42" y="272"/>
                      </a:lnTo>
                      <a:lnTo>
                        <a:pt x="42" y="251"/>
                      </a:lnTo>
                      <a:lnTo>
                        <a:pt x="31" y="220"/>
                      </a:lnTo>
                      <a:lnTo>
                        <a:pt x="21" y="199"/>
                      </a:lnTo>
                      <a:lnTo>
                        <a:pt x="21" y="178"/>
                      </a:lnTo>
                      <a:lnTo>
                        <a:pt x="10" y="157"/>
                      </a:lnTo>
                      <a:lnTo>
                        <a:pt x="10" y="126"/>
                      </a:lnTo>
                      <a:lnTo>
                        <a:pt x="0" y="105"/>
                      </a:lnTo>
                      <a:lnTo>
                        <a:pt x="0" y="73"/>
                      </a:lnTo>
                      <a:lnTo>
                        <a:pt x="804" y="0"/>
                      </a:lnTo>
                      <a:lnTo>
                        <a:pt x="52" y="303"/>
                      </a:lnTo>
                      <a:close/>
                    </a:path>
                  </a:pathLst>
                </a:custGeom>
                <a:solidFill>
                  <a:srgbClr val="0086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2446200" y="4917960"/>
                  <a:ext cx="377640" cy="642600"/>
                </a:xfrm>
                <a:custGeom>
                  <a:avLst/>
                  <a:gdLst/>
                  <a:ahLst/>
                  <a:rect l="l" t="t" r="r" b="b"/>
                  <a:pathLst>
                    <a:path w="157" h="272">
                      <a:moveTo>
                        <a:pt x="157" y="230"/>
                      </a:moveTo>
                      <a:lnTo>
                        <a:pt x="136" y="209"/>
                      </a:lnTo>
                      <a:lnTo>
                        <a:pt x="125" y="199"/>
                      </a:lnTo>
                      <a:lnTo>
                        <a:pt x="105" y="178"/>
                      </a:lnTo>
                      <a:lnTo>
                        <a:pt x="94" y="157"/>
                      </a:lnTo>
                      <a:lnTo>
                        <a:pt x="84" y="146"/>
                      </a:lnTo>
                      <a:lnTo>
                        <a:pt x="63" y="125"/>
                      </a:lnTo>
                      <a:lnTo>
                        <a:pt x="52" y="105"/>
                      </a:lnTo>
                      <a:lnTo>
                        <a:pt x="42" y="84"/>
                      </a:lnTo>
                      <a:lnTo>
                        <a:pt x="31" y="63"/>
                      </a:lnTo>
                      <a:lnTo>
                        <a:pt x="21" y="42"/>
                      </a:lnTo>
                      <a:lnTo>
                        <a:pt x="11" y="21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11" y="63"/>
                      </a:lnTo>
                      <a:lnTo>
                        <a:pt x="21" y="84"/>
                      </a:lnTo>
                      <a:lnTo>
                        <a:pt x="31" y="105"/>
                      </a:lnTo>
                      <a:lnTo>
                        <a:pt x="42" y="125"/>
                      </a:lnTo>
                      <a:lnTo>
                        <a:pt x="52" y="146"/>
                      </a:lnTo>
                      <a:lnTo>
                        <a:pt x="63" y="167"/>
                      </a:lnTo>
                      <a:lnTo>
                        <a:pt x="84" y="188"/>
                      </a:lnTo>
                      <a:lnTo>
                        <a:pt x="94" y="199"/>
                      </a:lnTo>
                      <a:lnTo>
                        <a:pt x="105" y="219"/>
                      </a:lnTo>
                      <a:lnTo>
                        <a:pt x="125" y="240"/>
                      </a:lnTo>
                      <a:lnTo>
                        <a:pt x="136" y="251"/>
                      </a:lnTo>
                      <a:lnTo>
                        <a:pt x="157" y="272"/>
                      </a:lnTo>
                      <a:lnTo>
                        <a:pt x="157" y="23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2446200" y="4202280"/>
                  <a:ext cx="1811160" cy="1258560"/>
                </a:xfrm>
                <a:custGeom>
                  <a:avLst/>
                  <a:gdLst/>
                  <a:ahLst/>
                  <a:rect l="l" t="t" r="r" b="b"/>
                  <a:pathLst>
                    <a:path w="752" h="533">
                      <a:moveTo>
                        <a:pt x="157" y="533"/>
                      </a:moveTo>
                      <a:lnTo>
                        <a:pt x="136" y="512"/>
                      </a:lnTo>
                      <a:lnTo>
                        <a:pt x="125" y="502"/>
                      </a:lnTo>
                      <a:lnTo>
                        <a:pt x="105" y="481"/>
                      </a:lnTo>
                      <a:lnTo>
                        <a:pt x="94" y="460"/>
                      </a:lnTo>
                      <a:lnTo>
                        <a:pt x="84" y="449"/>
                      </a:lnTo>
                      <a:lnTo>
                        <a:pt x="63" y="428"/>
                      </a:lnTo>
                      <a:lnTo>
                        <a:pt x="52" y="408"/>
                      </a:lnTo>
                      <a:lnTo>
                        <a:pt x="42" y="387"/>
                      </a:lnTo>
                      <a:lnTo>
                        <a:pt x="31" y="366"/>
                      </a:lnTo>
                      <a:lnTo>
                        <a:pt x="21" y="345"/>
                      </a:lnTo>
                      <a:lnTo>
                        <a:pt x="11" y="324"/>
                      </a:lnTo>
                      <a:lnTo>
                        <a:pt x="0" y="303"/>
                      </a:lnTo>
                      <a:lnTo>
                        <a:pt x="752" y="0"/>
                      </a:lnTo>
                      <a:lnTo>
                        <a:pt x="157" y="53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2823840" y="4202280"/>
                  <a:ext cx="1433520" cy="1358640"/>
                </a:xfrm>
                <a:custGeom>
                  <a:avLst/>
                  <a:gdLst/>
                  <a:ahLst/>
                  <a:rect l="l" t="t" r="r" b="b"/>
                  <a:pathLst>
                    <a:path w="595" h="575">
                      <a:moveTo>
                        <a:pt x="595" y="0"/>
                      </a:moveTo>
                      <a:lnTo>
                        <a:pt x="0" y="533"/>
                      </a:lnTo>
                      <a:lnTo>
                        <a:pt x="0" y="575"/>
                      </a:lnTo>
                      <a:lnTo>
                        <a:pt x="595" y="42"/>
                      </a:lnTo>
                      <a:lnTo>
                        <a:pt x="595" y="0"/>
                      </a:lnTo>
                      <a:close/>
                    </a:path>
                  </a:pathLst>
                </a:custGeom>
                <a:solidFill>
                  <a:srgbClr val="66668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601280" y="5288040"/>
                  <a:ext cx="835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-Store, 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1426320" y="4622760"/>
                  <a:ext cx="8146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mos, 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2836800" y="4214880"/>
                <a:ext cx="1433160" cy="1775880"/>
                <a:chOff x="2836800" y="4214880"/>
                <a:chExt cx="1433160" cy="177588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2836800" y="5473440"/>
                  <a:ext cx="552240" cy="517320"/>
                </a:xfrm>
                <a:custGeom>
                  <a:avLst/>
                  <a:gdLst/>
                  <a:ahLst/>
                  <a:rect l="l" t="t" r="r" b="b"/>
                  <a:pathLst>
                    <a:path w="229" h="219">
                      <a:moveTo>
                        <a:pt x="229" y="177"/>
                      </a:moveTo>
                      <a:lnTo>
                        <a:pt x="198" y="167"/>
                      </a:lnTo>
                      <a:lnTo>
                        <a:pt x="177" y="157"/>
                      </a:lnTo>
                      <a:lnTo>
                        <a:pt x="167" y="146"/>
                      </a:lnTo>
                      <a:lnTo>
                        <a:pt x="146" y="136"/>
                      </a:lnTo>
                      <a:lnTo>
                        <a:pt x="115" y="115"/>
                      </a:lnTo>
                      <a:lnTo>
                        <a:pt x="94" y="104"/>
                      </a:lnTo>
                      <a:lnTo>
                        <a:pt x="83" y="94"/>
                      </a:lnTo>
                      <a:lnTo>
                        <a:pt x="62" y="73"/>
                      </a:lnTo>
                      <a:lnTo>
                        <a:pt x="41" y="52"/>
                      </a:lnTo>
                      <a:lnTo>
                        <a:pt x="21" y="31"/>
                      </a:lnTo>
                      <a:lnTo>
                        <a:pt x="10" y="21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10" y="63"/>
                      </a:lnTo>
                      <a:lnTo>
                        <a:pt x="21" y="73"/>
                      </a:lnTo>
                      <a:lnTo>
                        <a:pt x="41" y="94"/>
                      </a:lnTo>
                      <a:lnTo>
                        <a:pt x="62" y="115"/>
                      </a:lnTo>
                      <a:lnTo>
                        <a:pt x="83" y="136"/>
                      </a:lnTo>
                      <a:lnTo>
                        <a:pt x="94" y="146"/>
                      </a:lnTo>
                      <a:lnTo>
                        <a:pt x="115" y="157"/>
                      </a:lnTo>
                      <a:lnTo>
                        <a:pt x="146" y="177"/>
                      </a:lnTo>
                      <a:lnTo>
                        <a:pt x="167" y="188"/>
                      </a:lnTo>
                      <a:lnTo>
                        <a:pt x="177" y="198"/>
                      </a:lnTo>
                      <a:lnTo>
                        <a:pt x="198" y="209"/>
                      </a:lnTo>
                      <a:lnTo>
                        <a:pt x="229" y="219"/>
                      </a:lnTo>
                      <a:lnTo>
                        <a:pt x="229" y="17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2836800" y="4214880"/>
                  <a:ext cx="1433160" cy="1677600"/>
                </a:xfrm>
                <a:custGeom>
                  <a:avLst/>
                  <a:gdLst/>
                  <a:ahLst/>
                  <a:rect l="l" t="t" r="r" b="b"/>
                  <a:pathLst>
                    <a:path w="595" h="710">
                      <a:moveTo>
                        <a:pt x="229" y="710"/>
                      </a:moveTo>
                      <a:lnTo>
                        <a:pt x="198" y="700"/>
                      </a:lnTo>
                      <a:lnTo>
                        <a:pt x="177" y="690"/>
                      </a:lnTo>
                      <a:lnTo>
                        <a:pt x="167" y="679"/>
                      </a:lnTo>
                      <a:lnTo>
                        <a:pt x="146" y="669"/>
                      </a:lnTo>
                      <a:lnTo>
                        <a:pt x="115" y="648"/>
                      </a:lnTo>
                      <a:lnTo>
                        <a:pt x="94" y="637"/>
                      </a:lnTo>
                      <a:lnTo>
                        <a:pt x="83" y="627"/>
                      </a:lnTo>
                      <a:lnTo>
                        <a:pt x="62" y="606"/>
                      </a:lnTo>
                      <a:lnTo>
                        <a:pt x="41" y="585"/>
                      </a:lnTo>
                      <a:lnTo>
                        <a:pt x="21" y="564"/>
                      </a:lnTo>
                      <a:lnTo>
                        <a:pt x="10" y="554"/>
                      </a:lnTo>
                      <a:lnTo>
                        <a:pt x="0" y="533"/>
                      </a:lnTo>
                      <a:lnTo>
                        <a:pt x="595" y="0"/>
                      </a:lnTo>
                      <a:lnTo>
                        <a:pt x="229" y="71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05" name=""/>
          <p:cNvGrpSpPr/>
          <p:nvPr/>
        </p:nvGrpSpPr>
        <p:grpSpPr>
          <a:xfrm>
            <a:off x="4854600" y="3770280"/>
            <a:ext cx="3574440" cy="1359000"/>
            <a:chOff x="4854600" y="3770280"/>
            <a:chExt cx="3574440" cy="1359000"/>
          </a:xfrm>
        </p:grpSpPr>
        <p:sp>
          <p:nvSpPr>
            <p:cNvPr id="1806" name=""/>
            <p:cNvSpPr/>
            <p:nvPr/>
          </p:nvSpPr>
          <p:spPr>
            <a:xfrm>
              <a:off x="6288120" y="3844800"/>
              <a:ext cx="503280" cy="1284480"/>
            </a:xfrm>
            <a:custGeom>
              <a:avLst/>
              <a:gdLst/>
              <a:ahLst/>
              <a:rect l="l" t="t" r="r" b="b"/>
              <a:pathLst>
                <a:path w="209" h="543">
                  <a:moveTo>
                    <a:pt x="209" y="0"/>
                  </a:moveTo>
                  <a:lnTo>
                    <a:pt x="209" y="31"/>
                  </a:lnTo>
                  <a:lnTo>
                    <a:pt x="198" y="52"/>
                  </a:lnTo>
                  <a:lnTo>
                    <a:pt x="198" y="83"/>
                  </a:lnTo>
                  <a:lnTo>
                    <a:pt x="198" y="115"/>
                  </a:lnTo>
                  <a:lnTo>
                    <a:pt x="188" y="135"/>
                  </a:lnTo>
                  <a:lnTo>
                    <a:pt x="188" y="146"/>
                  </a:lnTo>
                  <a:lnTo>
                    <a:pt x="177" y="177"/>
                  </a:lnTo>
                  <a:lnTo>
                    <a:pt x="167" y="209"/>
                  </a:lnTo>
                  <a:lnTo>
                    <a:pt x="167" y="229"/>
                  </a:lnTo>
                  <a:lnTo>
                    <a:pt x="157" y="261"/>
                  </a:lnTo>
                  <a:lnTo>
                    <a:pt x="146" y="282"/>
                  </a:lnTo>
                  <a:lnTo>
                    <a:pt x="136" y="313"/>
                  </a:lnTo>
                  <a:lnTo>
                    <a:pt x="115" y="334"/>
                  </a:lnTo>
                  <a:lnTo>
                    <a:pt x="104" y="355"/>
                  </a:lnTo>
                  <a:lnTo>
                    <a:pt x="94" y="386"/>
                  </a:lnTo>
                  <a:lnTo>
                    <a:pt x="83" y="396"/>
                  </a:lnTo>
                  <a:lnTo>
                    <a:pt x="73" y="417"/>
                  </a:lnTo>
                  <a:lnTo>
                    <a:pt x="52" y="438"/>
                  </a:lnTo>
                  <a:lnTo>
                    <a:pt x="31" y="459"/>
                  </a:lnTo>
                  <a:lnTo>
                    <a:pt x="21" y="480"/>
                  </a:lnTo>
                  <a:lnTo>
                    <a:pt x="0" y="501"/>
                  </a:lnTo>
                  <a:lnTo>
                    <a:pt x="0" y="543"/>
                  </a:lnTo>
                  <a:lnTo>
                    <a:pt x="21" y="522"/>
                  </a:lnTo>
                  <a:lnTo>
                    <a:pt x="31" y="501"/>
                  </a:lnTo>
                  <a:lnTo>
                    <a:pt x="52" y="480"/>
                  </a:lnTo>
                  <a:lnTo>
                    <a:pt x="73" y="459"/>
                  </a:lnTo>
                  <a:lnTo>
                    <a:pt x="83" y="438"/>
                  </a:lnTo>
                  <a:lnTo>
                    <a:pt x="94" y="428"/>
                  </a:lnTo>
                  <a:lnTo>
                    <a:pt x="104" y="396"/>
                  </a:lnTo>
                  <a:lnTo>
                    <a:pt x="115" y="376"/>
                  </a:lnTo>
                  <a:lnTo>
                    <a:pt x="136" y="355"/>
                  </a:lnTo>
                  <a:lnTo>
                    <a:pt x="146" y="323"/>
                  </a:lnTo>
                  <a:lnTo>
                    <a:pt x="157" y="303"/>
                  </a:lnTo>
                  <a:lnTo>
                    <a:pt x="167" y="271"/>
                  </a:lnTo>
                  <a:lnTo>
                    <a:pt x="167" y="250"/>
                  </a:lnTo>
                  <a:lnTo>
                    <a:pt x="177" y="219"/>
                  </a:lnTo>
                  <a:lnTo>
                    <a:pt x="188" y="188"/>
                  </a:lnTo>
                  <a:lnTo>
                    <a:pt x="188" y="177"/>
                  </a:lnTo>
                  <a:lnTo>
                    <a:pt x="198" y="156"/>
                  </a:lnTo>
                  <a:lnTo>
                    <a:pt x="198" y="125"/>
                  </a:lnTo>
                  <a:lnTo>
                    <a:pt x="198" y="94"/>
                  </a:lnTo>
                  <a:lnTo>
                    <a:pt x="209" y="73"/>
                  </a:lnTo>
                  <a:lnTo>
                    <a:pt x="209" y="4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8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54600" y="3770280"/>
              <a:ext cx="1433520" cy="1359000"/>
            </a:xfrm>
            <a:custGeom>
              <a:avLst/>
              <a:gdLst/>
              <a:ahLst/>
              <a:rect l="l" t="t" r="r" b="b"/>
              <a:pathLst>
                <a:path w="595" h="575">
                  <a:moveTo>
                    <a:pt x="0" y="0"/>
                  </a:moveTo>
                  <a:lnTo>
                    <a:pt x="595" y="533"/>
                  </a:lnTo>
                  <a:lnTo>
                    <a:pt x="595" y="5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741360" y="4511520"/>
              <a:ext cx="168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formance,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854600" y="3770280"/>
              <a:ext cx="1936800" cy="1258920"/>
            </a:xfrm>
            <a:custGeom>
              <a:avLst/>
              <a:gdLst/>
              <a:ahLst/>
              <a:rect l="l" t="t" r="r" b="b"/>
              <a:pathLst>
                <a:path w="804" h="533">
                  <a:moveTo>
                    <a:pt x="804" y="32"/>
                  </a:moveTo>
                  <a:lnTo>
                    <a:pt x="804" y="63"/>
                  </a:lnTo>
                  <a:lnTo>
                    <a:pt x="793" y="84"/>
                  </a:lnTo>
                  <a:lnTo>
                    <a:pt x="793" y="115"/>
                  </a:lnTo>
                  <a:lnTo>
                    <a:pt x="793" y="147"/>
                  </a:lnTo>
                  <a:lnTo>
                    <a:pt x="783" y="167"/>
                  </a:lnTo>
                  <a:lnTo>
                    <a:pt x="783" y="178"/>
                  </a:lnTo>
                  <a:lnTo>
                    <a:pt x="772" y="209"/>
                  </a:lnTo>
                  <a:lnTo>
                    <a:pt x="762" y="241"/>
                  </a:lnTo>
                  <a:lnTo>
                    <a:pt x="762" y="261"/>
                  </a:lnTo>
                  <a:lnTo>
                    <a:pt x="752" y="293"/>
                  </a:lnTo>
                  <a:lnTo>
                    <a:pt x="741" y="314"/>
                  </a:lnTo>
                  <a:lnTo>
                    <a:pt x="731" y="345"/>
                  </a:lnTo>
                  <a:lnTo>
                    <a:pt x="710" y="366"/>
                  </a:lnTo>
                  <a:lnTo>
                    <a:pt x="699" y="387"/>
                  </a:lnTo>
                  <a:lnTo>
                    <a:pt x="689" y="418"/>
                  </a:lnTo>
                  <a:lnTo>
                    <a:pt x="678" y="428"/>
                  </a:lnTo>
                  <a:lnTo>
                    <a:pt x="668" y="449"/>
                  </a:lnTo>
                  <a:lnTo>
                    <a:pt x="647" y="470"/>
                  </a:lnTo>
                  <a:lnTo>
                    <a:pt x="626" y="491"/>
                  </a:lnTo>
                  <a:lnTo>
                    <a:pt x="616" y="512"/>
                  </a:lnTo>
                  <a:lnTo>
                    <a:pt x="595" y="533"/>
                  </a:lnTo>
                  <a:lnTo>
                    <a:pt x="0" y="0"/>
                  </a:lnTo>
                  <a:lnTo>
                    <a:pt x="804" y="32"/>
                  </a:lnTo>
                  <a:close/>
                </a:path>
              </a:pathLst>
            </a:custGeom>
            <a:solidFill>
              <a:srgbClr val="0000fe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1276200" y="3692520"/>
            <a:ext cx="2943360" cy="655560"/>
            <a:chOff x="1276200" y="3692520"/>
            <a:chExt cx="2943360" cy="655560"/>
          </a:xfrm>
        </p:grpSpPr>
        <p:sp>
          <p:nvSpPr>
            <p:cNvPr id="1811" name=""/>
            <p:cNvSpPr/>
            <p:nvPr/>
          </p:nvSpPr>
          <p:spPr>
            <a:xfrm>
              <a:off x="2282760" y="3692520"/>
              <a:ext cx="1936800" cy="566640"/>
            </a:xfrm>
            <a:custGeom>
              <a:avLst/>
              <a:gdLst/>
              <a:ahLst/>
              <a:rect l="l" t="t" r="r" b="b"/>
              <a:pathLst>
                <a:path w="804" h="240">
                  <a:moveTo>
                    <a:pt x="0" y="240"/>
                  </a:moveTo>
                  <a:lnTo>
                    <a:pt x="0" y="209"/>
                  </a:lnTo>
                  <a:lnTo>
                    <a:pt x="0" y="188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84"/>
                  </a:lnTo>
                  <a:lnTo>
                    <a:pt x="0" y="63"/>
                  </a:lnTo>
                  <a:lnTo>
                    <a:pt x="10" y="32"/>
                  </a:lnTo>
                  <a:lnTo>
                    <a:pt x="10" y="0"/>
                  </a:lnTo>
                  <a:lnTo>
                    <a:pt x="804" y="16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6d6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293920" y="4100400"/>
              <a:ext cx="1913040" cy="247680"/>
            </a:xfrm>
            <a:custGeom>
              <a:avLst/>
              <a:gdLst/>
              <a:ahLst/>
              <a:rect l="l" t="t" r="r" b="b"/>
              <a:pathLst>
                <a:path w="794" h="105">
                  <a:moveTo>
                    <a:pt x="794" y="0"/>
                  </a:moveTo>
                  <a:lnTo>
                    <a:pt x="0" y="63"/>
                  </a:lnTo>
                  <a:lnTo>
                    <a:pt x="0" y="105"/>
                  </a:lnTo>
                  <a:lnTo>
                    <a:pt x="794" y="42"/>
                  </a:lnTo>
                  <a:lnTo>
                    <a:pt x="794" y="0"/>
                  </a:lnTo>
                  <a:close/>
                </a:path>
              </a:pathLst>
            </a:custGeom>
            <a:solidFill>
              <a:srgbClr val="b4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276200" y="379260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bsite,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233720" y="3033720"/>
            <a:ext cx="6449760" cy="3060720"/>
            <a:chOff x="1233720" y="3033720"/>
            <a:chExt cx="6449760" cy="3060720"/>
          </a:xfrm>
        </p:grpSpPr>
        <p:grpSp>
          <p:nvGrpSpPr>
            <p:cNvPr id="1815" name=""/>
            <p:cNvGrpSpPr/>
            <p:nvPr/>
          </p:nvGrpSpPr>
          <p:grpSpPr>
            <a:xfrm>
              <a:off x="4676400" y="4189320"/>
              <a:ext cx="3007080" cy="1905120"/>
              <a:chOff x="4676400" y="4189320"/>
              <a:chExt cx="3007080" cy="1905120"/>
            </a:xfrm>
          </p:grpSpPr>
          <p:sp>
            <p:nvSpPr>
              <p:cNvPr id="1816" name=""/>
              <p:cNvSpPr/>
              <p:nvPr/>
            </p:nvSpPr>
            <p:spPr>
              <a:xfrm>
                <a:off x="5230440" y="5448240"/>
                <a:ext cx="879480" cy="641160"/>
              </a:xfrm>
              <a:custGeom>
                <a:avLst/>
                <a:gdLst/>
                <a:ahLst/>
                <a:rect l="l" t="t" r="r" b="b"/>
                <a:pathLst>
                  <a:path w="365" h="271">
                    <a:moveTo>
                      <a:pt x="365" y="0"/>
                    </a:moveTo>
                    <a:lnTo>
                      <a:pt x="344" y="21"/>
                    </a:lnTo>
                    <a:lnTo>
                      <a:pt x="334" y="31"/>
                    </a:lnTo>
                    <a:lnTo>
                      <a:pt x="313" y="52"/>
                    </a:lnTo>
                    <a:lnTo>
                      <a:pt x="292" y="73"/>
                    </a:lnTo>
                    <a:lnTo>
                      <a:pt x="271" y="94"/>
                    </a:lnTo>
                    <a:lnTo>
                      <a:pt x="261" y="104"/>
                    </a:lnTo>
                    <a:lnTo>
                      <a:pt x="240" y="115"/>
                    </a:lnTo>
                    <a:lnTo>
                      <a:pt x="219" y="136"/>
                    </a:lnTo>
                    <a:lnTo>
                      <a:pt x="198" y="146"/>
                    </a:lnTo>
                    <a:lnTo>
                      <a:pt x="177" y="157"/>
                    </a:lnTo>
                    <a:lnTo>
                      <a:pt x="156" y="167"/>
                    </a:lnTo>
                    <a:lnTo>
                      <a:pt x="135" y="177"/>
                    </a:lnTo>
                    <a:lnTo>
                      <a:pt x="125" y="188"/>
                    </a:lnTo>
                    <a:lnTo>
                      <a:pt x="94" y="198"/>
                    </a:lnTo>
                    <a:lnTo>
                      <a:pt x="73" y="209"/>
                    </a:lnTo>
                    <a:lnTo>
                      <a:pt x="41" y="219"/>
                    </a:lnTo>
                    <a:lnTo>
                      <a:pt x="31" y="230"/>
                    </a:lnTo>
                    <a:lnTo>
                      <a:pt x="0" y="230"/>
                    </a:lnTo>
                    <a:lnTo>
                      <a:pt x="0" y="271"/>
                    </a:lnTo>
                    <a:lnTo>
                      <a:pt x="31" y="271"/>
                    </a:lnTo>
                    <a:lnTo>
                      <a:pt x="41" y="261"/>
                    </a:lnTo>
                    <a:lnTo>
                      <a:pt x="73" y="251"/>
                    </a:lnTo>
                    <a:lnTo>
                      <a:pt x="94" y="240"/>
                    </a:lnTo>
                    <a:lnTo>
                      <a:pt x="125" y="230"/>
                    </a:lnTo>
                    <a:lnTo>
                      <a:pt x="135" y="219"/>
                    </a:lnTo>
                    <a:lnTo>
                      <a:pt x="156" y="209"/>
                    </a:lnTo>
                    <a:lnTo>
                      <a:pt x="177" y="198"/>
                    </a:lnTo>
                    <a:lnTo>
                      <a:pt x="198" y="188"/>
                    </a:lnTo>
                    <a:lnTo>
                      <a:pt x="219" y="177"/>
                    </a:lnTo>
                    <a:lnTo>
                      <a:pt x="240" y="157"/>
                    </a:lnTo>
                    <a:lnTo>
                      <a:pt x="261" y="146"/>
                    </a:lnTo>
                    <a:lnTo>
                      <a:pt x="271" y="136"/>
                    </a:lnTo>
                    <a:lnTo>
                      <a:pt x="292" y="115"/>
                    </a:lnTo>
                    <a:lnTo>
                      <a:pt x="313" y="94"/>
                    </a:lnTo>
                    <a:lnTo>
                      <a:pt x="334" y="73"/>
                    </a:lnTo>
                    <a:lnTo>
                      <a:pt x="344" y="63"/>
                    </a:lnTo>
                    <a:lnTo>
                      <a:pt x="365" y="42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d0a8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76400" y="4189320"/>
                <a:ext cx="554040" cy="1900080"/>
              </a:xfrm>
              <a:custGeom>
                <a:avLst/>
                <a:gdLst/>
                <a:ahLst/>
                <a:rect l="l" t="t" r="r" b="b"/>
                <a:pathLst>
                  <a:path w="230" h="804">
                    <a:moveTo>
                      <a:pt x="0" y="0"/>
                    </a:moveTo>
                    <a:lnTo>
                      <a:pt x="230" y="763"/>
                    </a:lnTo>
                    <a:lnTo>
                      <a:pt x="230" y="804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808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676400" y="4189320"/>
                <a:ext cx="1433520" cy="1803240"/>
              </a:xfrm>
              <a:custGeom>
                <a:avLst/>
                <a:gdLst/>
                <a:ahLst/>
                <a:rect l="l" t="t" r="r" b="b"/>
                <a:pathLst>
                  <a:path w="595" h="763">
                    <a:moveTo>
                      <a:pt x="595" y="533"/>
                    </a:moveTo>
                    <a:lnTo>
                      <a:pt x="574" y="554"/>
                    </a:lnTo>
                    <a:lnTo>
                      <a:pt x="564" y="564"/>
                    </a:lnTo>
                    <a:lnTo>
                      <a:pt x="543" y="585"/>
                    </a:lnTo>
                    <a:lnTo>
                      <a:pt x="522" y="606"/>
                    </a:lnTo>
                    <a:lnTo>
                      <a:pt x="501" y="627"/>
                    </a:lnTo>
                    <a:lnTo>
                      <a:pt x="491" y="637"/>
                    </a:lnTo>
                    <a:lnTo>
                      <a:pt x="470" y="648"/>
                    </a:lnTo>
                    <a:lnTo>
                      <a:pt x="449" y="669"/>
                    </a:lnTo>
                    <a:lnTo>
                      <a:pt x="428" y="679"/>
                    </a:lnTo>
                    <a:lnTo>
                      <a:pt x="407" y="690"/>
                    </a:lnTo>
                    <a:lnTo>
                      <a:pt x="386" y="700"/>
                    </a:lnTo>
                    <a:lnTo>
                      <a:pt x="365" y="710"/>
                    </a:lnTo>
                    <a:lnTo>
                      <a:pt x="355" y="721"/>
                    </a:lnTo>
                    <a:lnTo>
                      <a:pt x="324" y="731"/>
                    </a:lnTo>
                    <a:lnTo>
                      <a:pt x="303" y="742"/>
                    </a:lnTo>
                    <a:lnTo>
                      <a:pt x="271" y="752"/>
                    </a:lnTo>
                    <a:lnTo>
                      <a:pt x="261" y="763"/>
                    </a:lnTo>
                    <a:lnTo>
                      <a:pt x="230" y="763"/>
                    </a:lnTo>
                    <a:lnTo>
                      <a:pt x="0" y="0"/>
                    </a:lnTo>
                    <a:lnTo>
                      <a:pt x="595" y="533"/>
                    </a:lnTo>
                    <a:close/>
                  </a:path>
                </a:pathLst>
              </a:custGeom>
              <a:solidFill>
                <a:srgbClr val="ffcc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930280" y="5819760"/>
                <a:ext cx="1753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ord of Mouth, 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"/>
            <p:cNvGrpSpPr/>
            <p:nvPr/>
          </p:nvGrpSpPr>
          <p:grpSpPr>
            <a:xfrm>
              <a:off x="1233720" y="3033720"/>
              <a:ext cx="2979360" cy="1035000"/>
              <a:chOff x="1233720" y="3033720"/>
              <a:chExt cx="2979360" cy="1035000"/>
            </a:xfrm>
          </p:grpSpPr>
          <p:sp>
            <p:nvSpPr>
              <p:cNvPr id="1821" name=""/>
              <p:cNvSpPr/>
              <p:nvPr/>
            </p:nvSpPr>
            <p:spPr>
              <a:xfrm>
                <a:off x="2300040" y="3082680"/>
                <a:ext cx="1913040" cy="912960"/>
              </a:xfrm>
              <a:custGeom>
                <a:avLst/>
                <a:gdLst/>
                <a:ahLst/>
                <a:rect l="l" t="t" r="r" b="b"/>
                <a:pathLst>
                  <a:path w="794" h="386">
                    <a:moveTo>
                      <a:pt x="0" y="219"/>
                    </a:moveTo>
                    <a:lnTo>
                      <a:pt x="11" y="198"/>
                    </a:lnTo>
                    <a:lnTo>
                      <a:pt x="21" y="167"/>
                    </a:lnTo>
                    <a:lnTo>
                      <a:pt x="32" y="146"/>
                    </a:lnTo>
                    <a:lnTo>
                      <a:pt x="32" y="115"/>
                    </a:lnTo>
                    <a:lnTo>
                      <a:pt x="42" y="104"/>
                    </a:lnTo>
                    <a:lnTo>
                      <a:pt x="53" y="73"/>
                    </a:lnTo>
                    <a:lnTo>
                      <a:pt x="63" y="52"/>
                    </a:lnTo>
                    <a:lnTo>
                      <a:pt x="73" y="31"/>
                    </a:lnTo>
                    <a:lnTo>
                      <a:pt x="84" y="0"/>
                    </a:lnTo>
                    <a:lnTo>
                      <a:pt x="794" y="386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ffcc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233720" y="3033720"/>
                <a:ext cx="942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ws/PR,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301480" y="3574800"/>
                <a:ext cx="1886040" cy="493920"/>
              </a:xfrm>
              <a:custGeom>
                <a:avLst/>
                <a:gdLst/>
                <a:ahLst/>
                <a:rect l="l" t="t" r="r" b="b"/>
                <a:pathLst>
                  <a:path w="783" h="209">
                    <a:moveTo>
                      <a:pt x="783" y="167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783" y="209"/>
                    </a:lnTo>
                    <a:lnTo>
                      <a:pt x="783" y="167"/>
                    </a:lnTo>
                    <a:close/>
                  </a:path>
                </a:pathLst>
              </a:custGeom>
              <a:solidFill>
                <a:srgbClr val="808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244520" y="355320"/>
            <a:ext cx="7537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are of Impact for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sideratio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;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Word of Mouth is strong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5" name=""/>
          <p:cNvGraphicFramePr/>
          <p:nvPr/>
        </p:nvGraphicFramePr>
        <p:xfrm>
          <a:off x="368280" y="1689120"/>
          <a:ext cx="739152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689120"/>
                    <a:ext cx="73915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7" name=""/>
          <p:cNvSpPr/>
          <p:nvPr/>
        </p:nvSpPr>
        <p:spPr>
          <a:xfrm>
            <a:off x="2197080" y="6000840"/>
            <a:ext cx="144792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n-Line 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321160" y="5956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-Store 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907920" y="4570560"/>
            <a:ext cx="2133720" cy="730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85840" y="1252440"/>
            <a:ext cx="57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.A. Case study; common outcome for “impac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5330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. Touch-points indeed work differently for different objectives, against different targe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ften see difference in the impact of the touch-points (within the same studies) for the different brand measures or objectives (e.g.  “Brand Familiarity” versus “Purchase Inten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really “one for all, and all for one”.  - Integration and holistic marketing is about each touch-point doing what it is best at do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-points rarely live in much exclusivity.  The many touch-points overla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 by Objecti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36680" y="1395360"/>
            <a:ext cx="82706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uch-points can differ in impact depending on the objective (dependent vari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5" name=""/>
          <p:cNvGraphicFramePr/>
          <p:nvPr/>
        </p:nvGraphicFramePr>
        <p:xfrm>
          <a:off x="457200" y="3102120"/>
          <a:ext cx="5557680" cy="32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02120"/>
                    <a:ext cx="555768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7" name=""/>
          <p:cNvSpPr/>
          <p:nvPr/>
        </p:nvSpPr>
        <p:spPr>
          <a:xfrm>
            <a:off x="0" y="306072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ontrolled Media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80880" y="565164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d Media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002040" y="5486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n the look/ On shel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200400" y="4432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d/Served the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6320" y="23763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Arial"/>
              </a:rPr>
              <a:t>Famili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362320" y="3289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n the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717640" y="5383080"/>
            <a:ext cx="2014560" cy="70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245200" y="2374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Arial"/>
              </a:rPr>
              <a:t>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5" name=""/>
          <p:cNvGraphicFramePr/>
          <p:nvPr/>
        </p:nvGraphicFramePr>
        <p:xfrm>
          <a:off x="4788000" y="3102120"/>
          <a:ext cx="3886200" cy="32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102120"/>
                    <a:ext cx="388620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7" name=""/>
          <p:cNvSpPr/>
          <p:nvPr/>
        </p:nvSpPr>
        <p:spPr>
          <a:xfrm>
            <a:off x="4368960" y="328932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ontrolled Media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788000" y="58197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d Media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493040" y="5197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n the look/ On shel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531200" y="42037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d/Served the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997680" y="32893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n the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167600" y="4965840"/>
            <a:ext cx="2014560" cy="795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603600" y="655812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PG Exam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16040" y="1789200"/>
            <a:ext cx="752796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59080" y="3103560"/>
            <a:ext cx="5043600" cy="876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94040" y="2460240"/>
            <a:ext cx="6960960" cy="131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3399"/>
                </a:solidFill>
                <a:latin typeface="Arial"/>
              </a:rPr>
              <a:t>What is</a:t>
            </a:r>
            <a:br>
              <a:rPr sz="4600"/>
            </a:br>
            <a:r>
              <a:rPr b="1" i="1" lang="en-US" sz="46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i="1" lang="en-US" sz="4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4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4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4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4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46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257120" y="398160"/>
            <a:ext cx="6081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e of Importance across different brand measur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088040" y="1336680"/>
            <a:ext cx="18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PG Case Exam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700280" y="3773520"/>
            <a:ext cx="9360" cy="195408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709640" y="3773520"/>
            <a:ext cx="11160" cy="1954080"/>
          </a:xfrm>
          <a:prstGeom prst="rect">
            <a:avLst/>
          </a:prstGeom>
          <a:solidFill>
            <a:srgbClr val="3131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720800" y="3773520"/>
            <a:ext cx="9720" cy="195408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730520" y="3773520"/>
            <a:ext cx="10800" cy="195408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741320" y="3773520"/>
            <a:ext cx="9720" cy="195408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751040" y="3773520"/>
            <a:ext cx="11160" cy="1954080"/>
          </a:xfrm>
          <a:prstGeom prst="rect">
            <a:avLst/>
          </a:prstGeom>
          <a:solidFill>
            <a:srgbClr val="373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62200" y="3773520"/>
            <a:ext cx="9360" cy="1954080"/>
          </a:xfrm>
          <a:prstGeom prst="rect">
            <a:avLst/>
          </a:prstGeom>
          <a:solidFill>
            <a:srgbClr val="3939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771560" y="3773520"/>
            <a:ext cx="9720" cy="1954080"/>
          </a:xfrm>
          <a:prstGeom prst="rect">
            <a:avLst/>
          </a:prstGeom>
          <a:solidFill>
            <a:srgbClr val="3c3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781280" y="3773520"/>
            <a:ext cx="11160" cy="1954080"/>
          </a:xfrm>
          <a:prstGeom prst="rect">
            <a:avLst/>
          </a:prstGeom>
          <a:solidFill>
            <a:srgbClr val="3e3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792440" y="3773520"/>
            <a:ext cx="9360" cy="1954080"/>
          </a:xfrm>
          <a:prstGeom prst="rect">
            <a:avLst/>
          </a:prstGeom>
          <a:solidFill>
            <a:srgbClr val="414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801800" y="3773520"/>
            <a:ext cx="11160" cy="1954080"/>
          </a:xfrm>
          <a:prstGeom prst="rect">
            <a:avLst/>
          </a:prstGeom>
          <a:solidFill>
            <a:srgbClr val="444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812960" y="3773520"/>
            <a:ext cx="9360" cy="1954080"/>
          </a:xfrm>
          <a:prstGeom prst="rect">
            <a:avLst/>
          </a:prstGeom>
          <a:solidFill>
            <a:srgbClr val="474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822320" y="3773520"/>
            <a:ext cx="11160" cy="1954080"/>
          </a:xfrm>
          <a:prstGeom prst="rect">
            <a:avLst/>
          </a:prstGeom>
          <a:solidFill>
            <a:srgbClr val="4a4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833480" y="3773520"/>
            <a:ext cx="9720" cy="1954080"/>
          </a:xfrm>
          <a:prstGeom prst="rect">
            <a:avLst/>
          </a:prstGeom>
          <a:solidFill>
            <a:srgbClr val="4e4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843200" y="3773520"/>
            <a:ext cx="9360" cy="1954080"/>
          </a:xfrm>
          <a:prstGeom prst="rect">
            <a:avLst/>
          </a:prstGeom>
          <a:solidFill>
            <a:srgbClr val="5151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852560" y="3773520"/>
            <a:ext cx="11160" cy="1954080"/>
          </a:xfrm>
          <a:prstGeom prst="rect">
            <a:avLst/>
          </a:prstGeom>
          <a:solidFill>
            <a:srgbClr val="5353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863720" y="3773520"/>
            <a:ext cx="9360" cy="1954080"/>
          </a:xfrm>
          <a:prstGeom prst="rect">
            <a:avLst/>
          </a:prstGeom>
          <a:solidFill>
            <a:srgbClr val="565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873080" y="3773520"/>
            <a:ext cx="11160" cy="1954080"/>
          </a:xfrm>
          <a:prstGeom prst="rect">
            <a:avLst/>
          </a:prstGeom>
          <a:solidFill>
            <a:srgbClr val="5858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884240" y="3773520"/>
            <a:ext cx="9720" cy="1954080"/>
          </a:xfrm>
          <a:prstGeom prst="rect">
            <a:avLst/>
          </a:prstGeom>
          <a:solidFill>
            <a:srgbClr val="5b5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893960" y="3773520"/>
            <a:ext cx="11160" cy="1954080"/>
          </a:xfrm>
          <a:prstGeom prst="rect">
            <a:avLst/>
          </a:prstGeom>
          <a:solidFill>
            <a:srgbClr val="5c5c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905120" y="3773520"/>
            <a:ext cx="9360" cy="1954080"/>
          </a:xfrm>
          <a:prstGeom prst="rect">
            <a:avLst/>
          </a:prstGeom>
          <a:solidFill>
            <a:srgbClr val="5e5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914480" y="3773520"/>
            <a:ext cx="11160" cy="1954080"/>
          </a:xfrm>
          <a:prstGeom prst="rect">
            <a:avLst/>
          </a:prstGeom>
          <a:solidFill>
            <a:srgbClr val="606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925640" y="3773520"/>
            <a:ext cx="9360" cy="1954080"/>
          </a:xfrm>
          <a:prstGeom prst="rect">
            <a:avLst/>
          </a:prstGeom>
          <a:solidFill>
            <a:srgbClr val="616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935000" y="3773520"/>
            <a:ext cx="9720" cy="1954080"/>
          </a:xfrm>
          <a:prstGeom prst="rect">
            <a:avLst/>
          </a:prstGeom>
          <a:solidFill>
            <a:srgbClr val="62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944720" y="3773520"/>
            <a:ext cx="11160" cy="1954080"/>
          </a:xfrm>
          <a:prstGeom prst="rect">
            <a:avLst/>
          </a:prstGeom>
          <a:solidFill>
            <a:srgbClr val="636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955880" y="3773520"/>
            <a:ext cx="9360" cy="1954080"/>
          </a:xfrm>
          <a:prstGeom prst="rect">
            <a:avLst/>
          </a:prstGeom>
          <a:solidFill>
            <a:srgbClr val="64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965240" y="3773520"/>
            <a:ext cx="11160" cy="1954080"/>
          </a:xfrm>
          <a:prstGeom prst="rect">
            <a:avLst/>
          </a:prstGeom>
          <a:solidFill>
            <a:srgbClr val="656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76400" y="3773520"/>
            <a:ext cx="9720" cy="1954080"/>
          </a:xfrm>
          <a:prstGeom prst="rect">
            <a:avLst/>
          </a:prstGeom>
          <a:solidFill>
            <a:srgbClr val="65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986120" y="3773520"/>
            <a:ext cx="20520" cy="1954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006640" y="3773520"/>
            <a:ext cx="9360" cy="1954080"/>
          </a:xfrm>
          <a:prstGeom prst="rect">
            <a:avLst/>
          </a:prstGeom>
          <a:solidFill>
            <a:srgbClr val="65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016000" y="3773520"/>
            <a:ext cx="11160" cy="1954080"/>
          </a:xfrm>
          <a:prstGeom prst="rect">
            <a:avLst/>
          </a:prstGeom>
          <a:solidFill>
            <a:srgbClr val="656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027160" y="3773520"/>
            <a:ext cx="9720" cy="1954080"/>
          </a:xfrm>
          <a:prstGeom prst="rect">
            <a:avLst/>
          </a:prstGeom>
          <a:solidFill>
            <a:srgbClr val="64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036880" y="3773520"/>
            <a:ext cx="11160" cy="1954080"/>
          </a:xfrm>
          <a:prstGeom prst="rect">
            <a:avLst/>
          </a:prstGeom>
          <a:solidFill>
            <a:srgbClr val="636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048040" y="3773520"/>
            <a:ext cx="9360" cy="1954080"/>
          </a:xfrm>
          <a:prstGeom prst="rect">
            <a:avLst/>
          </a:prstGeom>
          <a:solidFill>
            <a:srgbClr val="62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57400" y="3773520"/>
            <a:ext cx="11160" cy="1954080"/>
          </a:xfrm>
          <a:prstGeom prst="rect">
            <a:avLst/>
          </a:prstGeom>
          <a:solidFill>
            <a:srgbClr val="616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068560" y="3773520"/>
            <a:ext cx="9360" cy="1954080"/>
          </a:xfrm>
          <a:prstGeom prst="rect">
            <a:avLst/>
          </a:prstGeom>
          <a:solidFill>
            <a:srgbClr val="606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077920" y="3773520"/>
            <a:ext cx="9720" cy="1954080"/>
          </a:xfrm>
          <a:prstGeom prst="rect">
            <a:avLst/>
          </a:prstGeom>
          <a:solidFill>
            <a:srgbClr val="5e5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087640" y="3773520"/>
            <a:ext cx="11160" cy="1954080"/>
          </a:xfrm>
          <a:prstGeom prst="rect">
            <a:avLst/>
          </a:prstGeom>
          <a:solidFill>
            <a:srgbClr val="5c5c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098800" y="3773520"/>
            <a:ext cx="9360" cy="1954080"/>
          </a:xfrm>
          <a:prstGeom prst="rect">
            <a:avLst/>
          </a:prstGeom>
          <a:solidFill>
            <a:srgbClr val="5b5b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108160" y="3773520"/>
            <a:ext cx="11160" cy="1954080"/>
          </a:xfrm>
          <a:prstGeom prst="rect">
            <a:avLst/>
          </a:prstGeom>
          <a:solidFill>
            <a:srgbClr val="5858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119320" y="3773520"/>
            <a:ext cx="9360" cy="1954080"/>
          </a:xfrm>
          <a:prstGeom prst="rect">
            <a:avLst/>
          </a:prstGeom>
          <a:solidFill>
            <a:srgbClr val="565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128680" y="3773520"/>
            <a:ext cx="11160" cy="1954080"/>
          </a:xfrm>
          <a:prstGeom prst="rect">
            <a:avLst/>
          </a:prstGeom>
          <a:solidFill>
            <a:srgbClr val="5353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139840" y="3773520"/>
            <a:ext cx="9720" cy="1954080"/>
          </a:xfrm>
          <a:prstGeom prst="rect">
            <a:avLst/>
          </a:prstGeom>
          <a:solidFill>
            <a:srgbClr val="5151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149560" y="3773520"/>
            <a:ext cx="11160" cy="1954080"/>
          </a:xfrm>
          <a:prstGeom prst="rect">
            <a:avLst/>
          </a:prstGeom>
          <a:solidFill>
            <a:srgbClr val="4e4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160720" y="3773520"/>
            <a:ext cx="9360" cy="1954080"/>
          </a:xfrm>
          <a:prstGeom prst="rect">
            <a:avLst/>
          </a:prstGeom>
          <a:solidFill>
            <a:srgbClr val="4a4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170080" y="3773520"/>
            <a:ext cx="9720" cy="1954080"/>
          </a:xfrm>
          <a:prstGeom prst="rect">
            <a:avLst/>
          </a:prstGeom>
          <a:solidFill>
            <a:srgbClr val="474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179800" y="3773520"/>
            <a:ext cx="10800" cy="1954080"/>
          </a:xfrm>
          <a:prstGeom prst="rect">
            <a:avLst/>
          </a:prstGeom>
          <a:solidFill>
            <a:srgbClr val="444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190600" y="3773520"/>
            <a:ext cx="9720" cy="1954080"/>
          </a:xfrm>
          <a:prstGeom prst="rect">
            <a:avLst/>
          </a:prstGeom>
          <a:solidFill>
            <a:srgbClr val="414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200320" y="3773520"/>
            <a:ext cx="11160" cy="1954080"/>
          </a:xfrm>
          <a:prstGeom prst="rect">
            <a:avLst/>
          </a:prstGeom>
          <a:solidFill>
            <a:srgbClr val="3e3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211480" y="3773520"/>
            <a:ext cx="9360" cy="1954080"/>
          </a:xfrm>
          <a:prstGeom prst="rect">
            <a:avLst/>
          </a:prstGeom>
          <a:solidFill>
            <a:srgbClr val="3c3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220840" y="3773520"/>
            <a:ext cx="11160" cy="1954080"/>
          </a:xfrm>
          <a:prstGeom prst="rect">
            <a:avLst/>
          </a:prstGeom>
          <a:solidFill>
            <a:srgbClr val="3939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232000" y="3773520"/>
            <a:ext cx="9720" cy="1954080"/>
          </a:xfrm>
          <a:prstGeom prst="rect">
            <a:avLst/>
          </a:prstGeom>
          <a:solidFill>
            <a:srgbClr val="3737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241720" y="3773520"/>
            <a:ext cx="9360" cy="195408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251080" y="3773520"/>
            <a:ext cx="11160" cy="195408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262240" y="3773520"/>
            <a:ext cx="9360" cy="195408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271600" y="3773520"/>
            <a:ext cx="11160" cy="1954080"/>
          </a:xfrm>
          <a:prstGeom prst="rect">
            <a:avLst/>
          </a:prstGeom>
          <a:solidFill>
            <a:srgbClr val="3131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82760" y="3773520"/>
            <a:ext cx="9720" cy="195408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700280" y="3773520"/>
            <a:ext cx="592200" cy="19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527200" y="3460680"/>
            <a:ext cx="11160" cy="226692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538360" y="3460680"/>
            <a:ext cx="9720" cy="2266920"/>
          </a:xfrm>
          <a:prstGeom prst="rect">
            <a:avLst/>
          </a:prstGeom>
          <a:solidFill>
            <a:srgbClr val="313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548080" y="3460680"/>
            <a:ext cx="9360" cy="226692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557440" y="3460680"/>
            <a:ext cx="11160" cy="226692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68600" y="3460680"/>
            <a:ext cx="9360" cy="226692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577960" y="3460680"/>
            <a:ext cx="11160" cy="2266920"/>
          </a:xfrm>
          <a:prstGeom prst="rect">
            <a:avLst/>
          </a:prstGeom>
          <a:solidFill>
            <a:srgbClr val="373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589120" y="3460680"/>
            <a:ext cx="9720" cy="2266920"/>
          </a:xfrm>
          <a:prstGeom prst="rect">
            <a:avLst/>
          </a:prstGeom>
          <a:solidFill>
            <a:srgbClr val="3a3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598840" y="3460680"/>
            <a:ext cx="11160" cy="2266920"/>
          </a:xfrm>
          <a:prstGeom prst="rect">
            <a:avLst/>
          </a:prstGeom>
          <a:solidFill>
            <a:srgbClr val="3c3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610000" y="3460680"/>
            <a:ext cx="9360" cy="2266920"/>
          </a:xfrm>
          <a:prstGeom prst="rect">
            <a:avLst/>
          </a:prstGeom>
          <a:solidFill>
            <a:srgbClr val="3f3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619360" y="3460680"/>
            <a:ext cx="11160" cy="2266920"/>
          </a:xfrm>
          <a:prstGeom prst="rect">
            <a:avLst/>
          </a:prstGeom>
          <a:solidFill>
            <a:srgbClr val="424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630520" y="3460680"/>
            <a:ext cx="9360" cy="2266920"/>
          </a:xfrm>
          <a:prstGeom prst="rect">
            <a:avLst/>
          </a:prstGeom>
          <a:solidFill>
            <a:srgbClr val="4444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639880" y="3460680"/>
            <a:ext cx="9720" cy="2266920"/>
          </a:xfrm>
          <a:prstGeom prst="rect">
            <a:avLst/>
          </a:prstGeom>
          <a:solidFill>
            <a:srgbClr val="48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649600" y="3460680"/>
            <a:ext cx="11160" cy="2266920"/>
          </a:xfrm>
          <a:prstGeom prst="rect">
            <a:avLst/>
          </a:prstGeom>
          <a:solidFill>
            <a:srgbClr val="4b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660760" y="3460680"/>
            <a:ext cx="9360" cy="2266920"/>
          </a:xfrm>
          <a:prstGeom prst="rect">
            <a:avLst/>
          </a:prstGeom>
          <a:solidFill>
            <a:srgbClr val="4e4e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670120" y="3460680"/>
            <a:ext cx="11160" cy="2266920"/>
          </a:xfrm>
          <a:prstGeom prst="rect">
            <a:avLst/>
          </a:prstGeom>
          <a:solidFill>
            <a:srgbClr val="525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681280" y="3460680"/>
            <a:ext cx="9360" cy="2266920"/>
          </a:xfrm>
          <a:prstGeom prst="rect">
            <a:avLst/>
          </a:prstGeom>
          <a:solidFill>
            <a:srgbClr val="545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690640" y="3460680"/>
            <a:ext cx="11160" cy="2266920"/>
          </a:xfrm>
          <a:prstGeom prst="rect">
            <a:avLst/>
          </a:prstGeom>
          <a:solidFill>
            <a:srgbClr val="575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701800" y="3460680"/>
            <a:ext cx="9720" cy="2266920"/>
          </a:xfrm>
          <a:prstGeom prst="rect">
            <a:avLst/>
          </a:prstGeom>
          <a:solidFill>
            <a:srgbClr val="595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711520" y="3460680"/>
            <a:ext cx="9360" cy="226692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720880" y="3460680"/>
            <a:ext cx="11160" cy="2266920"/>
          </a:xfrm>
          <a:prstGeom prst="rect">
            <a:avLst/>
          </a:prstGeom>
          <a:solidFill>
            <a:srgbClr val="5d5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732040" y="3460680"/>
            <a:ext cx="9720" cy="2266920"/>
          </a:xfrm>
          <a:prstGeom prst="rect">
            <a:avLst/>
          </a:prstGeom>
          <a:solidFill>
            <a:srgbClr val="5f5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741760" y="3460680"/>
            <a:ext cx="10800" cy="2266920"/>
          </a:xfrm>
          <a:prstGeom prst="rect">
            <a:avLst/>
          </a:prstGeom>
          <a:solidFill>
            <a:srgbClr val="60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752560" y="3460680"/>
            <a:ext cx="9720" cy="2266920"/>
          </a:xfrm>
          <a:prstGeom prst="rect">
            <a:avLst/>
          </a:prstGeom>
          <a:solidFill>
            <a:srgbClr val="61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762280" y="3460680"/>
            <a:ext cx="11160" cy="2266920"/>
          </a:xfrm>
          <a:prstGeom prst="rect">
            <a:avLst/>
          </a:prstGeom>
          <a:solidFill>
            <a:srgbClr val="626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773440" y="3460680"/>
            <a:ext cx="9360" cy="2266920"/>
          </a:xfrm>
          <a:prstGeom prst="rect">
            <a:avLst/>
          </a:prstGeom>
          <a:solidFill>
            <a:srgbClr val="6464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782800" y="3460680"/>
            <a:ext cx="9720" cy="2266920"/>
          </a:xfrm>
          <a:prstGeom prst="rect">
            <a:avLst/>
          </a:prstGeom>
          <a:solidFill>
            <a:srgbClr val="64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792520" y="3460680"/>
            <a:ext cx="11160" cy="2266920"/>
          </a:xfrm>
          <a:prstGeom prst="rect">
            <a:avLst/>
          </a:prstGeom>
          <a:solidFill>
            <a:srgbClr val="656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803680" y="3460680"/>
            <a:ext cx="9360" cy="2266920"/>
          </a:xfrm>
          <a:prstGeom prst="rect">
            <a:avLst/>
          </a:prstGeom>
          <a:solidFill>
            <a:srgbClr val="65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813040" y="3460680"/>
            <a:ext cx="11160" cy="226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24200" y="3460680"/>
            <a:ext cx="9360" cy="2266920"/>
          </a:xfrm>
          <a:prstGeom prst="rect">
            <a:avLst/>
          </a:prstGeom>
          <a:solidFill>
            <a:srgbClr val="65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33560" y="3460680"/>
            <a:ext cx="11160" cy="2266920"/>
          </a:xfrm>
          <a:prstGeom prst="rect">
            <a:avLst/>
          </a:prstGeom>
          <a:solidFill>
            <a:srgbClr val="656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844720" y="3460680"/>
            <a:ext cx="9720" cy="2266920"/>
          </a:xfrm>
          <a:prstGeom prst="rect">
            <a:avLst/>
          </a:prstGeom>
          <a:solidFill>
            <a:srgbClr val="64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854440" y="3460680"/>
            <a:ext cx="11160" cy="2266920"/>
          </a:xfrm>
          <a:prstGeom prst="rect">
            <a:avLst/>
          </a:prstGeom>
          <a:solidFill>
            <a:srgbClr val="6464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865600" y="3460680"/>
            <a:ext cx="9360" cy="2266920"/>
          </a:xfrm>
          <a:prstGeom prst="rect">
            <a:avLst/>
          </a:prstGeom>
          <a:solidFill>
            <a:srgbClr val="626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874960" y="3460680"/>
            <a:ext cx="9360" cy="2266920"/>
          </a:xfrm>
          <a:prstGeom prst="rect">
            <a:avLst/>
          </a:prstGeom>
          <a:solidFill>
            <a:srgbClr val="61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884320" y="3460680"/>
            <a:ext cx="11160" cy="2266920"/>
          </a:xfrm>
          <a:prstGeom prst="rect">
            <a:avLst/>
          </a:prstGeom>
          <a:solidFill>
            <a:srgbClr val="60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895480" y="3460680"/>
            <a:ext cx="9720" cy="2266920"/>
          </a:xfrm>
          <a:prstGeom prst="rect">
            <a:avLst/>
          </a:prstGeom>
          <a:solidFill>
            <a:srgbClr val="5f5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905200" y="3460680"/>
            <a:ext cx="11160" cy="2266920"/>
          </a:xfrm>
          <a:prstGeom prst="rect">
            <a:avLst/>
          </a:prstGeom>
          <a:solidFill>
            <a:srgbClr val="5d5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916360" y="3460680"/>
            <a:ext cx="9360" cy="226692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925720" y="3460680"/>
            <a:ext cx="11160" cy="2266920"/>
          </a:xfrm>
          <a:prstGeom prst="rect">
            <a:avLst/>
          </a:prstGeom>
          <a:solidFill>
            <a:srgbClr val="595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936880" y="3460680"/>
            <a:ext cx="9360" cy="2266920"/>
          </a:xfrm>
          <a:prstGeom prst="rect">
            <a:avLst/>
          </a:prstGeom>
          <a:solidFill>
            <a:srgbClr val="575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946240" y="3460680"/>
            <a:ext cx="9720" cy="2266920"/>
          </a:xfrm>
          <a:prstGeom prst="rect">
            <a:avLst/>
          </a:prstGeom>
          <a:solidFill>
            <a:srgbClr val="545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955960" y="3460680"/>
            <a:ext cx="11160" cy="2266920"/>
          </a:xfrm>
          <a:prstGeom prst="rect">
            <a:avLst/>
          </a:prstGeom>
          <a:solidFill>
            <a:srgbClr val="525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967120" y="3460680"/>
            <a:ext cx="9360" cy="2266920"/>
          </a:xfrm>
          <a:prstGeom prst="rect">
            <a:avLst/>
          </a:prstGeom>
          <a:solidFill>
            <a:srgbClr val="4f4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976480" y="3460680"/>
            <a:ext cx="11160" cy="2266920"/>
          </a:xfrm>
          <a:prstGeom prst="rect">
            <a:avLst/>
          </a:prstGeom>
          <a:solidFill>
            <a:srgbClr val="4b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987640" y="3460680"/>
            <a:ext cx="9720" cy="2266920"/>
          </a:xfrm>
          <a:prstGeom prst="rect">
            <a:avLst/>
          </a:prstGeom>
          <a:solidFill>
            <a:srgbClr val="48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997360" y="3460680"/>
            <a:ext cx="10800" cy="2266920"/>
          </a:xfrm>
          <a:prstGeom prst="rect">
            <a:avLst/>
          </a:prstGeom>
          <a:solidFill>
            <a:srgbClr val="4444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008160" y="3460680"/>
            <a:ext cx="9720" cy="2266920"/>
          </a:xfrm>
          <a:prstGeom prst="rect">
            <a:avLst/>
          </a:prstGeom>
          <a:solidFill>
            <a:srgbClr val="424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017880" y="3460680"/>
            <a:ext cx="9360" cy="2266920"/>
          </a:xfrm>
          <a:prstGeom prst="rect">
            <a:avLst/>
          </a:prstGeom>
          <a:solidFill>
            <a:srgbClr val="3f3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027240" y="3460680"/>
            <a:ext cx="11160" cy="2266920"/>
          </a:xfrm>
          <a:prstGeom prst="rect">
            <a:avLst/>
          </a:prstGeom>
          <a:solidFill>
            <a:srgbClr val="3c3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038400" y="3460680"/>
            <a:ext cx="9720" cy="2266920"/>
          </a:xfrm>
          <a:prstGeom prst="rect">
            <a:avLst/>
          </a:prstGeom>
          <a:solidFill>
            <a:srgbClr val="3a3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048120" y="3460680"/>
            <a:ext cx="11160" cy="2266920"/>
          </a:xfrm>
          <a:prstGeom prst="rect">
            <a:avLst/>
          </a:prstGeom>
          <a:solidFill>
            <a:srgbClr val="373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059280" y="3460680"/>
            <a:ext cx="9360" cy="226692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068640" y="3460680"/>
            <a:ext cx="11160" cy="226692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079800" y="3460680"/>
            <a:ext cx="9360" cy="226692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089160" y="3460680"/>
            <a:ext cx="11160" cy="2266920"/>
          </a:xfrm>
          <a:prstGeom prst="rect">
            <a:avLst/>
          </a:prstGeom>
          <a:solidFill>
            <a:srgbClr val="313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100320" y="3460680"/>
            <a:ext cx="9720" cy="226692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527200" y="3460680"/>
            <a:ext cx="582840" cy="22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344760" y="3606840"/>
            <a:ext cx="9720" cy="212076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54480" y="3606840"/>
            <a:ext cx="11160" cy="2120760"/>
          </a:xfrm>
          <a:prstGeom prst="rect">
            <a:avLst/>
          </a:prstGeom>
          <a:solidFill>
            <a:srgbClr val="313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365640" y="3606840"/>
            <a:ext cx="9360" cy="212076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375000" y="3606840"/>
            <a:ext cx="11160" cy="212076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386160" y="3606840"/>
            <a:ext cx="9360" cy="212076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395520" y="3606840"/>
            <a:ext cx="11160" cy="2120760"/>
          </a:xfrm>
          <a:prstGeom prst="rect">
            <a:avLst/>
          </a:prstGeom>
          <a:solidFill>
            <a:srgbClr val="373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406680" y="3606840"/>
            <a:ext cx="9720" cy="2120760"/>
          </a:xfrm>
          <a:prstGeom prst="rect">
            <a:avLst/>
          </a:prstGeom>
          <a:solidFill>
            <a:srgbClr val="3a3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416400" y="3606840"/>
            <a:ext cx="9360" cy="2120760"/>
          </a:xfrm>
          <a:prstGeom prst="rect">
            <a:avLst/>
          </a:prstGeom>
          <a:solidFill>
            <a:srgbClr val="3c3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425760" y="3606840"/>
            <a:ext cx="11160" cy="2120760"/>
          </a:xfrm>
          <a:prstGeom prst="rect">
            <a:avLst/>
          </a:prstGeom>
          <a:solidFill>
            <a:srgbClr val="3f3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436920" y="3606840"/>
            <a:ext cx="9720" cy="2120760"/>
          </a:xfrm>
          <a:prstGeom prst="rect">
            <a:avLst/>
          </a:prstGeom>
          <a:solidFill>
            <a:srgbClr val="424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446640" y="3606840"/>
            <a:ext cx="10800" cy="2120760"/>
          </a:xfrm>
          <a:prstGeom prst="rect">
            <a:avLst/>
          </a:prstGeom>
          <a:solidFill>
            <a:srgbClr val="4444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457440" y="3606840"/>
            <a:ext cx="9720" cy="2120760"/>
          </a:xfrm>
          <a:prstGeom prst="rect">
            <a:avLst/>
          </a:prstGeom>
          <a:solidFill>
            <a:srgbClr val="48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467160" y="3606840"/>
            <a:ext cx="11160" cy="2120760"/>
          </a:xfrm>
          <a:prstGeom prst="rect">
            <a:avLst/>
          </a:prstGeom>
          <a:solidFill>
            <a:srgbClr val="4b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478320" y="3606840"/>
            <a:ext cx="9360" cy="2120760"/>
          </a:xfrm>
          <a:prstGeom prst="rect">
            <a:avLst/>
          </a:prstGeom>
          <a:solidFill>
            <a:srgbClr val="4e4e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487680" y="3606840"/>
            <a:ext cx="11160" cy="2120760"/>
          </a:xfrm>
          <a:prstGeom prst="rect">
            <a:avLst/>
          </a:prstGeom>
          <a:solidFill>
            <a:srgbClr val="525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498840" y="3606840"/>
            <a:ext cx="9360" cy="2120760"/>
          </a:xfrm>
          <a:prstGeom prst="rect">
            <a:avLst/>
          </a:prstGeom>
          <a:solidFill>
            <a:srgbClr val="545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508200" y="3606840"/>
            <a:ext cx="9720" cy="2120760"/>
          </a:xfrm>
          <a:prstGeom prst="rect">
            <a:avLst/>
          </a:prstGeom>
          <a:solidFill>
            <a:srgbClr val="575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517920" y="3606840"/>
            <a:ext cx="11160" cy="2120760"/>
          </a:xfrm>
          <a:prstGeom prst="rect">
            <a:avLst/>
          </a:prstGeom>
          <a:solidFill>
            <a:srgbClr val="595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529080" y="3606840"/>
            <a:ext cx="9360" cy="212076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538440" y="3606840"/>
            <a:ext cx="11160" cy="2120760"/>
          </a:xfrm>
          <a:prstGeom prst="rect">
            <a:avLst/>
          </a:prstGeom>
          <a:solidFill>
            <a:srgbClr val="5d5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549600" y="3606840"/>
            <a:ext cx="9720" cy="2120760"/>
          </a:xfrm>
          <a:prstGeom prst="rect">
            <a:avLst/>
          </a:prstGeom>
          <a:solidFill>
            <a:srgbClr val="5f5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559320" y="3606840"/>
            <a:ext cx="10800" cy="2120760"/>
          </a:xfrm>
          <a:prstGeom prst="rect">
            <a:avLst/>
          </a:prstGeom>
          <a:solidFill>
            <a:srgbClr val="60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570120" y="3606840"/>
            <a:ext cx="9720" cy="2120760"/>
          </a:xfrm>
          <a:prstGeom prst="rect">
            <a:avLst/>
          </a:prstGeom>
          <a:solidFill>
            <a:srgbClr val="61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579840" y="3606840"/>
            <a:ext cx="9360" cy="2120760"/>
          </a:xfrm>
          <a:prstGeom prst="rect">
            <a:avLst/>
          </a:prstGeom>
          <a:solidFill>
            <a:srgbClr val="626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589200" y="3606840"/>
            <a:ext cx="11160" cy="2120760"/>
          </a:xfrm>
          <a:prstGeom prst="rect">
            <a:avLst/>
          </a:prstGeom>
          <a:solidFill>
            <a:srgbClr val="6464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600360" y="3606840"/>
            <a:ext cx="9720" cy="2120760"/>
          </a:xfrm>
          <a:prstGeom prst="rect">
            <a:avLst/>
          </a:prstGeom>
          <a:solidFill>
            <a:srgbClr val="64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3344760" y="3586320"/>
            <a:ext cx="2992320" cy="2141280"/>
            <a:chOff x="3344760" y="3586320"/>
            <a:chExt cx="2992320" cy="2141280"/>
          </a:xfrm>
        </p:grpSpPr>
        <p:sp>
          <p:nvSpPr>
            <p:cNvPr id="1999" name=""/>
            <p:cNvSpPr/>
            <p:nvPr/>
          </p:nvSpPr>
          <p:spPr>
            <a:xfrm>
              <a:off x="3609720" y="3606840"/>
              <a:ext cx="11160" cy="2120760"/>
            </a:xfrm>
            <a:prstGeom prst="rect">
              <a:avLst/>
            </a:prstGeom>
            <a:solidFill>
              <a:srgbClr val="65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620880" y="3606840"/>
              <a:ext cx="9720" cy="2120760"/>
            </a:xfrm>
            <a:prstGeom prst="rect">
              <a:avLst/>
            </a:prstGeom>
            <a:solidFill>
              <a:srgbClr val="65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630600" y="3606840"/>
              <a:ext cx="11160" cy="212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641760" y="3606840"/>
              <a:ext cx="9360" cy="2120760"/>
            </a:xfrm>
            <a:prstGeom prst="rect">
              <a:avLst/>
            </a:prstGeom>
            <a:solidFill>
              <a:srgbClr val="65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651120" y="3606840"/>
              <a:ext cx="9720" cy="2120760"/>
            </a:xfrm>
            <a:prstGeom prst="rect">
              <a:avLst/>
            </a:prstGeom>
            <a:solidFill>
              <a:srgbClr val="65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60840" y="3606840"/>
              <a:ext cx="10800" cy="212076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671640" y="3606840"/>
              <a:ext cx="9720" cy="2120760"/>
            </a:xfrm>
            <a:prstGeom prst="rect">
              <a:avLst/>
            </a:prstGeom>
            <a:solidFill>
              <a:srgbClr val="646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681360" y="3606840"/>
              <a:ext cx="11160" cy="2120760"/>
            </a:xfrm>
            <a:prstGeom prst="rect">
              <a:avLst/>
            </a:prstGeom>
            <a:solidFill>
              <a:srgbClr val="626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692520" y="3606840"/>
              <a:ext cx="9360" cy="212076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701880" y="3606840"/>
              <a:ext cx="11160" cy="2120760"/>
            </a:xfrm>
            <a:prstGeom prst="rect">
              <a:avLst/>
            </a:prstGeom>
            <a:solidFill>
              <a:srgbClr val="606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713040" y="3606840"/>
              <a:ext cx="9720" cy="212076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722760" y="3606840"/>
              <a:ext cx="10800" cy="2120760"/>
            </a:xfrm>
            <a:prstGeom prst="rect">
              <a:avLst/>
            </a:prstGeom>
            <a:solidFill>
              <a:srgbClr val="5d5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733560" y="3606840"/>
              <a:ext cx="9720" cy="2120760"/>
            </a:xfrm>
            <a:prstGeom prst="rect">
              <a:avLst/>
            </a:prstGeom>
            <a:solidFill>
              <a:srgbClr val="5b5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743280" y="3606840"/>
              <a:ext cx="9360" cy="2120760"/>
            </a:xfrm>
            <a:prstGeom prst="rect">
              <a:avLst/>
            </a:prstGeom>
            <a:solidFill>
              <a:srgbClr val="595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752640" y="3606840"/>
              <a:ext cx="11160" cy="2120760"/>
            </a:xfrm>
            <a:prstGeom prst="rect">
              <a:avLst/>
            </a:prstGeom>
            <a:solidFill>
              <a:srgbClr val="575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763800" y="3606840"/>
              <a:ext cx="9720" cy="2120760"/>
            </a:xfrm>
            <a:prstGeom prst="rect">
              <a:avLst/>
            </a:prstGeom>
            <a:solidFill>
              <a:srgbClr val="545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773520" y="3606840"/>
              <a:ext cx="11160" cy="2120760"/>
            </a:xfrm>
            <a:prstGeom prst="rect">
              <a:avLst/>
            </a:prstGeom>
            <a:solidFill>
              <a:srgbClr val="525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784680" y="3606840"/>
              <a:ext cx="9360" cy="2120760"/>
            </a:xfrm>
            <a:prstGeom prst="rect">
              <a:avLst/>
            </a:prstGeom>
            <a:solidFill>
              <a:srgbClr val="4f4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794040" y="3606840"/>
              <a:ext cx="11160" cy="2120760"/>
            </a:xfrm>
            <a:prstGeom prst="rect">
              <a:avLst/>
            </a:prstGeom>
            <a:solidFill>
              <a:srgbClr val="4b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805200" y="3606840"/>
              <a:ext cx="9360" cy="2120760"/>
            </a:xfrm>
            <a:prstGeom prst="rect">
              <a:avLst/>
            </a:prstGeom>
            <a:solidFill>
              <a:srgbClr val="484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814560" y="3606840"/>
              <a:ext cx="9720" cy="2120760"/>
            </a:xfrm>
            <a:prstGeom prst="rect">
              <a:avLst/>
            </a:prstGeom>
            <a:solidFill>
              <a:srgbClr val="444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824280" y="3606840"/>
              <a:ext cx="11160" cy="2120760"/>
            </a:xfrm>
            <a:prstGeom prst="rect">
              <a:avLst/>
            </a:prstGeom>
            <a:solidFill>
              <a:srgbClr val="424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835440" y="3606840"/>
              <a:ext cx="9360" cy="2120760"/>
            </a:xfrm>
            <a:prstGeom prst="rect">
              <a:avLst/>
            </a:prstGeom>
            <a:solidFill>
              <a:srgbClr val="3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844800" y="3606840"/>
              <a:ext cx="11160" cy="212076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855960" y="3606840"/>
              <a:ext cx="9360" cy="2120760"/>
            </a:xfrm>
            <a:prstGeom prst="rect">
              <a:avLst/>
            </a:prstGeom>
            <a:solidFill>
              <a:srgbClr val="3a3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865320" y="3606840"/>
              <a:ext cx="11160" cy="2120760"/>
            </a:xfrm>
            <a:prstGeom prst="rect">
              <a:avLst/>
            </a:prstGeom>
            <a:solidFill>
              <a:srgbClr val="37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876480" y="3606840"/>
              <a:ext cx="9720" cy="2120760"/>
            </a:xfrm>
            <a:prstGeom prst="rect">
              <a:avLst/>
            </a:prstGeom>
            <a:solidFill>
              <a:srgbClr val="353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886200" y="3606840"/>
              <a:ext cx="9360" cy="2120760"/>
            </a:xfrm>
            <a:prstGeom prst="rect">
              <a:avLst/>
            </a:prstGeom>
            <a:solidFill>
              <a:srgbClr val="333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95560" y="3606840"/>
              <a:ext cx="11160" cy="2120760"/>
            </a:xfrm>
            <a:prstGeom prst="rect">
              <a:avLst/>
            </a:prstGeom>
            <a:solidFill>
              <a:srgbClr val="32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06720" y="3606840"/>
              <a:ext cx="9720" cy="2120760"/>
            </a:xfrm>
            <a:prstGeom prst="rect">
              <a:avLst/>
            </a:prstGeom>
            <a:solidFill>
              <a:srgbClr val="313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16440" y="3606840"/>
              <a:ext cx="10800" cy="212076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344760" y="3606840"/>
              <a:ext cx="582480" cy="212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162320" y="3773520"/>
              <a:ext cx="9720" cy="195408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172040" y="3773520"/>
              <a:ext cx="10800" cy="1954080"/>
            </a:xfrm>
            <a:prstGeom prst="rect">
              <a:avLst/>
            </a:prstGeom>
            <a:solidFill>
              <a:srgbClr val="313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182840" y="3773520"/>
              <a:ext cx="9720" cy="1954080"/>
            </a:xfrm>
            <a:prstGeom prst="rect">
              <a:avLst/>
            </a:prstGeom>
            <a:solidFill>
              <a:srgbClr val="32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192560" y="3773520"/>
              <a:ext cx="11160" cy="1954080"/>
            </a:xfrm>
            <a:prstGeom prst="rect">
              <a:avLst/>
            </a:prstGeom>
            <a:solidFill>
              <a:srgbClr val="333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203720" y="3773520"/>
              <a:ext cx="9360" cy="1954080"/>
            </a:xfrm>
            <a:prstGeom prst="rect">
              <a:avLst/>
            </a:prstGeom>
            <a:solidFill>
              <a:srgbClr val="353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213080" y="3773520"/>
              <a:ext cx="9720" cy="1954080"/>
            </a:xfrm>
            <a:prstGeom prst="rect">
              <a:avLst/>
            </a:prstGeom>
            <a:solidFill>
              <a:srgbClr val="37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222800" y="3773520"/>
              <a:ext cx="11160" cy="1954080"/>
            </a:xfrm>
            <a:prstGeom prst="rect">
              <a:avLst/>
            </a:prstGeom>
            <a:solidFill>
              <a:srgbClr val="3a3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233960" y="3773520"/>
              <a:ext cx="9360" cy="19540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43320" y="3773520"/>
              <a:ext cx="11160" cy="1954080"/>
            </a:xfrm>
            <a:prstGeom prst="rect">
              <a:avLst/>
            </a:prstGeom>
            <a:solidFill>
              <a:srgbClr val="3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254480" y="3773520"/>
              <a:ext cx="9360" cy="1954080"/>
            </a:xfrm>
            <a:prstGeom prst="rect">
              <a:avLst/>
            </a:prstGeom>
            <a:solidFill>
              <a:srgbClr val="424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263840" y="3773520"/>
              <a:ext cx="11160" cy="1954080"/>
            </a:xfrm>
            <a:prstGeom prst="rect">
              <a:avLst/>
            </a:prstGeom>
            <a:solidFill>
              <a:srgbClr val="444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275000" y="3773520"/>
              <a:ext cx="9720" cy="1954080"/>
            </a:xfrm>
            <a:prstGeom prst="rect">
              <a:avLst/>
            </a:prstGeom>
            <a:solidFill>
              <a:srgbClr val="484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284720" y="3773520"/>
              <a:ext cx="9360" cy="1954080"/>
            </a:xfrm>
            <a:prstGeom prst="rect">
              <a:avLst/>
            </a:prstGeom>
            <a:solidFill>
              <a:srgbClr val="4b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294080" y="3773520"/>
              <a:ext cx="11160" cy="1954080"/>
            </a:xfrm>
            <a:prstGeom prst="rect">
              <a:avLst/>
            </a:prstGeom>
            <a:solidFill>
              <a:srgbClr val="4e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305240" y="3773520"/>
              <a:ext cx="9360" cy="1954080"/>
            </a:xfrm>
            <a:prstGeom prst="rect">
              <a:avLst/>
            </a:prstGeom>
            <a:solidFill>
              <a:srgbClr val="525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314600" y="3773520"/>
              <a:ext cx="11160" cy="1954080"/>
            </a:xfrm>
            <a:prstGeom prst="rect">
              <a:avLst/>
            </a:prstGeom>
            <a:solidFill>
              <a:srgbClr val="545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325760" y="3773520"/>
              <a:ext cx="9720" cy="1954080"/>
            </a:xfrm>
            <a:prstGeom prst="rect">
              <a:avLst/>
            </a:prstGeom>
            <a:solidFill>
              <a:srgbClr val="575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335480" y="3773520"/>
              <a:ext cx="11160" cy="1954080"/>
            </a:xfrm>
            <a:prstGeom prst="rect">
              <a:avLst/>
            </a:prstGeom>
            <a:solidFill>
              <a:srgbClr val="595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346640" y="3773520"/>
              <a:ext cx="9360" cy="1954080"/>
            </a:xfrm>
            <a:prstGeom prst="rect">
              <a:avLst/>
            </a:prstGeom>
            <a:solidFill>
              <a:srgbClr val="5b5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356000" y="3773520"/>
              <a:ext cx="9720" cy="1954080"/>
            </a:xfrm>
            <a:prstGeom prst="rect">
              <a:avLst/>
            </a:prstGeom>
            <a:solidFill>
              <a:srgbClr val="5d5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365720" y="3773520"/>
              <a:ext cx="10800" cy="195408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376520" y="3773520"/>
              <a:ext cx="9720" cy="1954080"/>
            </a:xfrm>
            <a:prstGeom prst="rect">
              <a:avLst/>
            </a:prstGeom>
            <a:solidFill>
              <a:srgbClr val="606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386240" y="3773520"/>
              <a:ext cx="11160" cy="19540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397400" y="3773520"/>
              <a:ext cx="9360" cy="1954080"/>
            </a:xfrm>
            <a:prstGeom prst="rect">
              <a:avLst/>
            </a:prstGeom>
            <a:solidFill>
              <a:srgbClr val="626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406760" y="3773520"/>
              <a:ext cx="11160" cy="1954080"/>
            </a:xfrm>
            <a:prstGeom prst="rect">
              <a:avLst/>
            </a:prstGeom>
            <a:solidFill>
              <a:srgbClr val="646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417920" y="3773520"/>
              <a:ext cx="9360" cy="19540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427280" y="3773520"/>
              <a:ext cx="11160" cy="1954080"/>
            </a:xfrm>
            <a:prstGeom prst="rect">
              <a:avLst/>
            </a:prstGeom>
            <a:solidFill>
              <a:srgbClr val="65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438440" y="3773520"/>
              <a:ext cx="9720" cy="1954080"/>
            </a:xfrm>
            <a:prstGeom prst="rect">
              <a:avLst/>
            </a:prstGeom>
            <a:solidFill>
              <a:srgbClr val="65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448160" y="3773520"/>
              <a:ext cx="9360" cy="1954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457520" y="3773520"/>
              <a:ext cx="11160" cy="1954080"/>
            </a:xfrm>
            <a:prstGeom prst="rect">
              <a:avLst/>
            </a:prstGeom>
            <a:solidFill>
              <a:srgbClr val="65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68680" y="3773520"/>
              <a:ext cx="9720" cy="1954080"/>
            </a:xfrm>
            <a:prstGeom prst="rect">
              <a:avLst/>
            </a:prstGeom>
            <a:solidFill>
              <a:srgbClr val="65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78400" y="3773520"/>
              <a:ext cx="10800" cy="19540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489200" y="3773520"/>
              <a:ext cx="9720" cy="1954080"/>
            </a:xfrm>
            <a:prstGeom prst="rect">
              <a:avLst/>
            </a:prstGeom>
            <a:solidFill>
              <a:srgbClr val="646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98920" y="3773520"/>
              <a:ext cx="11160" cy="1954080"/>
            </a:xfrm>
            <a:prstGeom prst="rect">
              <a:avLst/>
            </a:prstGeom>
            <a:solidFill>
              <a:srgbClr val="626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510080" y="3773520"/>
              <a:ext cx="9360" cy="19540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19440" y="3773520"/>
              <a:ext cx="9720" cy="1954080"/>
            </a:xfrm>
            <a:prstGeom prst="rect">
              <a:avLst/>
            </a:prstGeom>
            <a:solidFill>
              <a:srgbClr val="606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529160" y="3773520"/>
              <a:ext cx="11160" cy="195408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540320" y="3773520"/>
              <a:ext cx="9360" cy="1954080"/>
            </a:xfrm>
            <a:prstGeom prst="rect">
              <a:avLst/>
            </a:prstGeom>
            <a:solidFill>
              <a:srgbClr val="5d5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49680" y="3773520"/>
              <a:ext cx="11160" cy="1954080"/>
            </a:xfrm>
            <a:prstGeom prst="rect">
              <a:avLst/>
            </a:prstGeom>
            <a:solidFill>
              <a:srgbClr val="5b5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560840" y="3773520"/>
              <a:ext cx="9360" cy="1954080"/>
            </a:xfrm>
            <a:prstGeom prst="rect">
              <a:avLst/>
            </a:prstGeom>
            <a:solidFill>
              <a:srgbClr val="595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570200" y="3773520"/>
              <a:ext cx="11160" cy="1954080"/>
            </a:xfrm>
            <a:prstGeom prst="rect">
              <a:avLst/>
            </a:prstGeom>
            <a:solidFill>
              <a:srgbClr val="575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581360" y="3773520"/>
              <a:ext cx="9720" cy="1954080"/>
            </a:xfrm>
            <a:prstGeom prst="rect">
              <a:avLst/>
            </a:prstGeom>
            <a:solidFill>
              <a:srgbClr val="545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591080" y="3773520"/>
              <a:ext cx="9360" cy="1954080"/>
            </a:xfrm>
            <a:prstGeom prst="rect">
              <a:avLst/>
            </a:prstGeom>
            <a:solidFill>
              <a:srgbClr val="525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600440" y="3773520"/>
              <a:ext cx="11160" cy="1954080"/>
            </a:xfrm>
            <a:prstGeom prst="rect">
              <a:avLst/>
            </a:prstGeom>
            <a:solidFill>
              <a:srgbClr val="4f4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611600" y="3773520"/>
              <a:ext cx="9360" cy="1954080"/>
            </a:xfrm>
            <a:prstGeom prst="rect">
              <a:avLst/>
            </a:prstGeom>
            <a:solidFill>
              <a:srgbClr val="4b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620960" y="3773520"/>
              <a:ext cx="11160" cy="1954080"/>
            </a:xfrm>
            <a:prstGeom prst="rect">
              <a:avLst/>
            </a:prstGeom>
            <a:solidFill>
              <a:srgbClr val="484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632120" y="3773520"/>
              <a:ext cx="9720" cy="1954080"/>
            </a:xfrm>
            <a:prstGeom prst="rect">
              <a:avLst/>
            </a:prstGeom>
            <a:solidFill>
              <a:srgbClr val="444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641840" y="3773520"/>
              <a:ext cx="11160" cy="1954080"/>
            </a:xfrm>
            <a:prstGeom prst="rect">
              <a:avLst/>
            </a:prstGeom>
            <a:solidFill>
              <a:srgbClr val="424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653000" y="3773520"/>
              <a:ext cx="9360" cy="1954080"/>
            </a:xfrm>
            <a:prstGeom prst="rect">
              <a:avLst/>
            </a:prstGeom>
            <a:solidFill>
              <a:srgbClr val="3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662360" y="3773520"/>
              <a:ext cx="11160" cy="19540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673520" y="3773520"/>
              <a:ext cx="9360" cy="1954080"/>
            </a:xfrm>
            <a:prstGeom prst="rect">
              <a:avLst/>
            </a:prstGeom>
            <a:solidFill>
              <a:srgbClr val="3a3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682880" y="3773520"/>
              <a:ext cx="9720" cy="1954080"/>
            </a:xfrm>
            <a:prstGeom prst="rect">
              <a:avLst/>
            </a:prstGeom>
            <a:solidFill>
              <a:srgbClr val="37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692600" y="3773520"/>
              <a:ext cx="11160" cy="1954080"/>
            </a:xfrm>
            <a:prstGeom prst="rect">
              <a:avLst/>
            </a:prstGeom>
            <a:solidFill>
              <a:srgbClr val="353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703760" y="3773520"/>
              <a:ext cx="9360" cy="1954080"/>
            </a:xfrm>
            <a:prstGeom prst="rect">
              <a:avLst/>
            </a:prstGeom>
            <a:solidFill>
              <a:srgbClr val="333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713120" y="3773520"/>
              <a:ext cx="11160" cy="1954080"/>
            </a:xfrm>
            <a:prstGeom prst="rect">
              <a:avLst/>
            </a:prstGeom>
            <a:solidFill>
              <a:srgbClr val="32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724280" y="3773520"/>
              <a:ext cx="9720" cy="1954080"/>
            </a:xfrm>
            <a:prstGeom prst="rect">
              <a:avLst/>
            </a:prstGeom>
            <a:solidFill>
              <a:srgbClr val="313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734000" y="3773520"/>
              <a:ext cx="10800" cy="195408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162320" y="3773520"/>
              <a:ext cx="582480" cy="195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979880" y="3586320"/>
              <a:ext cx="9720" cy="214128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989600" y="3586320"/>
              <a:ext cx="9360" cy="2141280"/>
            </a:xfrm>
            <a:prstGeom prst="rect">
              <a:avLst/>
            </a:prstGeom>
            <a:solidFill>
              <a:srgbClr val="313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998960" y="3586320"/>
              <a:ext cx="11160" cy="2141280"/>
            </a:xfrm>
            <a:prstGeom prst="rect">
              <a:avLst/>
            </a:prstGeom>
            <a:solidFill>
              <a:srgbClr val="32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010120" y="3586320"/>
              <a:ext cx="9360" cy="2141280"/>
            </a:xfrm>
            <a:prstGeom prst="rect">
              <a:avLst/>
            </a:prstGeom>
            <a:solidFill>
              <a:srgbClr val="333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019480" y="3586320"/>
              <a:ext cx="11160" cy="2141280"/>
            </a:xfrm>
            <a:prstGeom prst="rect">
              <a:avLst/>
            </a:prstGeom>
            <a:solidFill>
              <a:srgbClr val="353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030640" y="3586320"/>
              <a:ext cx="9720" cy="2141280"/>
            </a:xfrm>
            <a:prstGeom prst="rect">
              <a:avLst/>
            </a:prstGeom>
            <a:solidFill>
              <a:srgbClr val="37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040360" y="3586320"/>
              <a:ext cx="11160" cy="2141280"/>
            </a:xfrm>
            <a:prstGeom prst="rect">
              <a:avLst/>
            </a:prstGeom>
            <a:solidFill>
              <a:srgbClr val="3a3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051520" y="3586320"/>
              <a:ext cx="9360" cy="21412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060880" y="3586320"/>
              <a:ext cx="11160" cy="2141280"/>
            </a:xfrm>
            <a:prstGeom prst="rect">
              <a:avLst/>
            </a:prstGeom>
            <a:solidFill>
              <a:srgbClr val="3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72040" y="3586320"/>
              <a:ext cx="9360" cy="2141280"/>
            </a:xfrm>
            <a:prstGeom prst="rect">
              <a:avLst/>
            </a:prstGeom>
            <a:solidFill>
              <a:srgbClr val="424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081400" y="3586320"/>
              <a:ext cx="9720" cy="2141280"/>
            </a:xfrm>
            <a:prstGeom prst="rect">
              <a:avLst/>
            </a:prstGeom>
            <a:solidFill>
              <a:srgbClr val="444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091120" y="3586320"/>
              <a:ext cx="11160" cy="2141280"/>
            </a:xfrm>
            <a:prstGeom prst="rect">
              <a:avLst/>
            </a:prstGeom>
            <a:solidFill>
              <a:srgbClr val="484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102280" y="3586320"/>
              <a:ext cx="9360" cy="2141280"/>
            </a:xfrm>
            <a:prstGeom prst="rect">
              <a:avLst/>
            </a:prstGeom>
            <a:solidFill>
              <a:srgbClr val="4b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111640" y="3586320"/>
              <a:ext cx="11160" cy="2141280"/>
            </a:xfrm>
            <a:prstGeom prst="rect">
              <a:avLst/>
            </a:prstGeom>
            <a:solidFill>
              <a:srgbClr val="4e4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122800" y="3586320"/>
              <a:ext cx="9360" cy="2141280"/>
            </a:xfrm>
            <a:prstGeom prst="rect">
              <a:avLst/>
            </a:prstGeom>
            <a:solidFill>
              <a:srgbClr val="525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132160" y="3586320"/>
              <a:ext cx="11160" cy="2141280"/>
            </a:xfrm>
            <a:prstGeom prst="rect">
              <a:avLst/>
            </a:prstGeom>
            <a:solidFill>
              <a:srgbClr val="545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143320" y="3586320"/>
              <a:ext cx="9720" cy="2141280"/>
            </a:xfrm>
            <a:prstGeom prst="rect">
              <a:avLst/>
            </a:prstGeom>
            <a:solidFill>
              <a:srgbClr val="575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53040" y="3586320"/>
              <a:ext cx="9360" cy="2141280"/>
            </a:xfrm>
            <a:prstGeom prst="rect">
              <a:avLst/>
            </a:prstGeom>
            <a:solidFill>
              <a:srgbClr val="595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162400" y="3586320"/>
              <a:ext cx="11160" cy="2141280"/>
            </a:xfrm>
            <a:prstGeom prst="rect">
              <a:avLst/>
            </a:prstGeom>
            <a:solidFill>
              <a:srgbClr val="5b5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173560" y="3586320"/>
              <a:ext cx="9720" cy="2141280"/>
            </a:xfrm>
            <a:prstGeom prst="rect">
              <a:avLst/>
            </a:prstGeom>
            <a:solidFill>
              <a:srgbClr val="5d5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183280" y="3586320"/>
              <a:ext cx="10800" cy="214128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194080" y="3586320"/>
              <a:ext cx="9720" cy="2141280"/>
            </a:xfrm>
            <a:prstGeom prst="rect">
              <a:avLst/>
            </a:prstGeom>
            <a:solidFill>
              <a:srgbClr val="606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203800" y="3586320"/>
              <a:ext cx="11160" cy="21412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214960" y="3586320"/>
              <a:ext cx="9360" cy="2141280"/>
            </a:xfrm>
            <a:prstGeom prst="rect">
              <a:avLst/>
            </a:prstGeom>
            <a:solidFill>
              <a:srgbClr val="626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24320" y="3586320"/>
              <a:ext cx="9720" cy="2141280"/>
            </a:xfrm>
            <a:prstGeom prst="rect">
              <a:avLst/>
            </a:prstGeom>
            <a:solidFill>
              <a:srgbClr val="646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234040" y="3586320"/>
              <a:ext cx="11160" cy="21412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245200" y="3586320"/>
              <a:ext cx="9360" cy="2141280"/>
            </a:xfrm>
            <a:prstGeom prst="rect">
              <a:avLst/>
            </a:prstGeom>
            <a:solidFill>
              <a:srgbClr val="65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254560" y="3586320"/>
              <a:ext cx="11160" cy="2141280"/>
            </a:xfrm>
            <a:prstGeom prst="rect">
              <a:avLst/>
            </a:prstGeom>
            <a:solidFill>
              <a:srgbClr val="65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65720" y="3586320"/>
              <a:ext cx="9360" cy="214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275080" y="3586320"/>
              <a:ext cx="11160" cy="2141280"/>
            </a:xfrm>
            <a:prstGeom prst="rect">
              <a:avLst/>
            </a:prstGeom>
            <a:solidFill>
              <a:srgbClr val="65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286240" y="3586320"/>
              <a:ext cx="9720" cy="2141280"/>
            </a:xfrm>
            <a:prstGeom prst="rect">
              <a:avLst/>
            </a:prstGeom>
            <a:solidFill>
              <a:srgbClr val="65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295960" y="3586320"/>
              <a:ext cx="10800" cy="21412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306760" y="3586320"/>
              <a:ext cx="9720" cy="2141280"/>
            </a:xfrm>
            <a:prstGeom prst="rect">
              <a:avLst/>
            </a:prstGeom>
            <a:solidFill>
              <a:srgbClr val="646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16480" y="3586320"/>
              <a:ext cx="9360" cy="2141280"/>
            </a:xfrm>
            <a:prstGeom prst="rect">
              <a:avLst/>
            </a:prstGeom>
            <a:solidFill>
              <a:srgbClr val="626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325840" y="3586320"/>
              <a:ext cx="11160" cy="21412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7000" y="3586320"/>
              <a:ext cx="9720" cy="2141280"/>
            </a:xfrm>
            <a:prstGeom prst="rect">
              <a:avLst/>
            </a:prstGeom>
            <a:solidFill>
              <a:srgbClr val="606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346720" y="3586320"/>
              <a:ext cx="11160" cy="214128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357880" y="3586320"/>
              <a:ext cx="9360" cy="2141280"/>
            </a:xfrm>
            <a:prstGeom prst="rect">
              <a:avLst/>
            </a:prstGeom>
            <a:solidFill>
              <a:srgbClr val="5d5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367240" y="3586320"/>
              <a:ext cx="11160" cy="2141280"/>
            </a:xfrm>
            <a:prstGeom prst="rect">
              <a:avLst/>
            </a:prstGeom>
            <a:solidFill>
              <a:srgbClr val="5b5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378400" y="3586320"/>
              <a:ext cx="9360" cy="2141280"/>
            </a:xfrm>
            <a:prstGeom prst="rect">
              <a:avLst/>
            </a:prstGeom>
            <a:solidFill>
              <a:srgbClr val="5959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87760" y="3586320"/>
              <a:ext cx="9720" cy="2141280"/>
            </a:xfrm>
            <a:prstGeom prst="rect">
              <a:avLst/>
            </a:prstGeom>
            <a:solidFill>
              <a:srgbClr val="575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397480" y="3586320"/>
              <a:ext cx="11160" cy="2141280"/>
            </a:xfrm>
            <a:prstGeom prst="rect">
              <a:avLst/>
            </a:prstGeom>
            <a:solidFill>
              <a:srgbClr val="545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408640" y="3586320"/>
              <a:ext cx="9360" cy="2141280"/>
            </a:xfrm>
            <a:prstGeom prst="rect">
              <a:avLst/>
            </a:prstGeom>
            <a:solidFill>
              <a:srgbClr val="525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418000" y="3586320"/>
              <a:ext cx="11160" cy="2141280"/>
            </a:xfrm>
            <a:prstGeom prst="rect">
              <a:avLst/>
            </a:prstGeom>
            <a:solidFill>
              <a:srgbClr val="4f4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429160" y="3586320"/>
              <a:ext cx="9360" cy="2141280"/>
            </a:xfrm>
            <a:prstGeom prst="rect">
              <a:avLst/>
            </a:prstGeom>
            <a:solidFill>
              <a:srgbClr val="4b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438520" y="3586320"/>
              <a:ext cx="11160" cy="2141280"/>
            </a:xfrm>
            <a:prstGeom prst="rect">
              <a:avLst/>
            </a:prstGeom>
            <a:solidFill>
              <a:srgbClr val="484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449680" y="3586320"/>
              <a:ext cx="9720" cy="2141280"/>
            </a:xfrm>
            <a:prstGeom prst="rect">
              <a:avLst/>
            </a:prstGeom>
            <a:solidFill>
              <a:srgbClr val="444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59400" y="3586320"/>
              <a:ext cx="9360" cy="2141280"/>
            </a:xfrm>
            <a:prstGeom prst="rect">
              <a:avLst/>
            </a:prstGeom>
            <a:solidFill>
              <a:srgbClr val="424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468760" y="3586320"/>
              <a:ext cx="11160" cy="2141280"/>
            </a:xfrm>
            <a:prstGeom prst="rect">
              <a:avLst/>
            </a:prstGeom>
            <a:solidFill>
              <a:srgbClr val="3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479920" y="3586320"/>
              <a:ext cx="9720" cy="21412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489640" y="3586320"/>
              <a:ext cx="10800" cy="2141280"/>
            </a:xfrm>
            <a:prstGeom prst="rect">
              <a:avLst/>
            </a:prstGeom>
            <a:solidFill>
              <a:srgbClr val="3a3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500440" y="3586320"/>
              <a:ext cx="9720" cy="2141280"/>
            </a:xfrm>
            <a:prstGeom prst="rect">
              <a:avLst/>
            </a:prstGeom>
            <a:solidFill>
              <a:srgbClr val="37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510160" y="3586320"/>
              <a:ext cx="11160" cy="2141280"/>
            </a:xfrm>
            <a:prstGeom prst="rect">
              <a:avLst/>
            </a:prstGeom>
            <a:solidFill>
              <a:srgbClr val="353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521320" y="3586320"/>
              <a:ext cx="9360" cy="2141280"/>
            </a:xfrm>
            <a:prstGeom prst="rect">
              <a:avLst/>
            </a:prstGeom>
            <a:solidFill>
              <a:srgbClr val="333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30680" y="3586320"/>
              <a:ext cx="11160" cy="2141280"/>
            </a:xfrm>
            <a:prstGeom prst="rect">
              <a:avLst/>
            </a:prstGeom>
            <a:solidFill>
              <a:srgbClr val="32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541840" y="3586320"/>
              <a:ext cx="9720" cy="2141280"/>
            </a:xfrm>
            <a:prstGeom prst="rect">
              <a:avLst/>
            </a:prstGeom>
            <a:solidFill>
              <a:srgbClr val="313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551560" y="3586320"/>
              <a:ext cx="9360" cy="214128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979880" y="3586320"/>
              <a:ext cx="581040" cy="21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796000" y="3803760"/>
              <a:ext cx="11160" cy="192384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807160" y="3803760"/>
              <a:ext cx="9360" cy="1923840"/>
            </a:xfrm>
            <a:prstGeom prst="rect">
              <a:avLst/>
            </a:prstGeom>
            <a:solidFill>
              <a:srgbClr val="313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816520" y="3803760"/>
              <a:ext cx="11160" cy="1923840"/>
            </a:xfrm>
            <a:prstGeom prst="rect">
              <a:avLst/>
            </a:prstGeom>
            <a:solidFill>
              <a:srgbClr val="32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827680" y="3803760"/>
              <a:ext cx="9360" cy="1923840"/>
            </a:xfrm>
            <a:prstGeom prst="rect">
              <a:avLst/>
            </a:prstGeom>
            <a:solidFill>
              <a:srgbClr val="333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837040" y="3803760"/>
              <a:ext cx="11160" cy="1923840"/>
            </a:xfrm>
            <a:prstGeom prst="rect">
              <a:avLst/>
            </a:prstGeom>
            <a:solidFill>
              <a:srgbClr val="353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848200" y="3803760"/>
              <a:ext cx="9720" cy="1923840"/>
            </a:xfrm>
            <a:prstGeom prst="rect">
              <a:avLst/>
            </a:prstGeom>
            <a:solidFill>
              <a:srgbClr val="373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857920" y="3803760"/>
              <a:ext cx="9360" cy="1923840"/>
            </a:xfrm>
            <a:prstGeom prst="rect">
              <a:avLst/>
            </a:prstGeom>
            <a:solidFill>
              <a:srgbClr val="393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867280" y="3803760"/>
              <a:ext cx="11160" cy="1923840"/>
            </a:xfrm>
            <a:prstGeom prst="rect">
              <a:avLst/>
            </a:prstGeom>
            <a:solidFill>
              <a:srgbClr val="3c3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878440" y="3803760"/>
              <a:ext cx="9360" cy="1923840"/>
            </a:xfrm>
            <a:prstGeom prst="rect">
              <a:avLst/>
            </a:prstGeom>
            <a:solidFill>
              <a:srgbClr val="3e3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887800" y="3803760"/>
              <a:ext cx="11160" cy="1923840"/>
            </a:xfrm>
            <a:prstGeom prst="rect">
              <a:avLst/>
            </a:prstGeom>
            <a:solidFill>
              <a:srgbClr val="41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898960" y="3803760"/>
              <a:ext cx="9720" cy="1923840"/>
            </a:xfrm>
            <a:prstGeom prst="rect">
              <a:avLst/>
            </a:prstGeom>
            <a:solidFill>
              <a:srgbClr val="444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908680" y="3803760"/>
              <a:ext cx="11160" cy="1923840"/>
            </a:xfrm>
            <a:prstGeom prst="rect">
              <a:avLst/>
            </a:prstGeom>
            <a:solidFill>
              <a:srgbClr val="474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919840" y="3803760"/>
              <a:ext cx="9360" cy="1923840"/>
            </a:xfrm>
            <a:prstGeom prst="rect">
              <a:avLst/>
            </a:prstGeom>
            <a:solidFill>
              <a:srgbClr val="4a4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929200" y="3803760"/>
              <a:ext cx="9720" cy="1923840"/>
            </a:xfrm>
            <a:prstGeom prst="rect">
              <a:avLst/>
            </a:prstGeom>
            <a:solidFill>
              <a:srgbClr val="4e4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938920" y="3803760"/>
              <a:ext cx="10800" cy="1923840"/>
            </a:xfrm>
            <a:prstGeom prst="rect">
              <a:avLst/>
            </a:prstGeom>
            <a:solidFill>
              <a:srgbClr val="515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949720" y="3803760"/>
              <a:ext cx="9720" cy="1923840"/>
            </a:xfrm>
            <a:prstGeom prst="rect">
              <a:avLst/>
            </a:prstGeom>
            <a:solidFill>
              <a:srgbClr val="535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59440" y="3803760"/>
              <a:ext cx="11160" cy="1923840"/>
            </a:xfrm>
            <a:prstGeom prst="rect">
              <a:avLst/>
            </a:prstGeom>
            <a:solidFill>
              <a:srgbClr val="565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970600" y="3803760"/>
              <a:ext cx="9360" cy="1923840"/>
            </a:xfrm>
            <a:prstGeom prst="rect">
              <a:avLst/>
            </a:prstGeom>
            <a:solidFill>
              <a:srgbClr val="585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979960" y="3803760"/>
              <a:ext cx="11160" cy="1923840"/>
            </a:xfrm>
            <a:prstGeom prst="rect">
              <a:avLst/>
            </a:prstGeom>
            <a:solidFill>
              <a:srgbClr val="5b5b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991120" y="3803760"/>
              <a:ext cx="9720" cy="1923840"/>
            </a:xfrm>
            <a:prstGeom prst="rect">
              <a:avLst/>
            </a:prstGeom>
            <a:solidFill>
              <a:srgbClr val="5c5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00840" y="3803760"/>
              <a:ext cx="10800" cy="1923840"/>
            </a:xfrm>
            <a:prstGeom prst="rect">
              <a:avLst/>
            </a:prstGeom>
            <a:solidFill>
              <a:srgbClr val="5e5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011640" y="3803760"/>
              <a:ext cx="9720" cy="1923840"/>
            </a:xfrm>
            <a:prstGeom prst="rect">
              <a:avLst/>
            </a:prstGeom>
            <a:solidFill>
              <a:srgbClr val="606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21360" y="3803760"/>
              <a:ext cx="9360" cy="1923840"/>
            </a:xfrm>
            <a:prstGeom prst="rect">
              <a:avLst/>
            </a:prstGeom>
            <a:solidFill>
              <a:srgbClr val="61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30720" y="3803760"/>
              <a:ext cx="11160" cy="1923840"/>
            </a:xfrm>
            <a:prstGeom prst="rect">
              <a:avLst/>
            </a:prstGeom>
            <a:solidFill>
              <a:srgbClr val="626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41880" y="3803760"/>
              <a:ext cx="9720" cy="1923840"/>
            </a:xfrm>
            <a:prstGeom prst="rect">
              <a:avLst/>
            </a:prstGeom>
            <a:solidFill>
              <a:srgbClr val="636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051600" y="3803760"/>
              <a:ext cx="11160" cy="192384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062760" y="3803760"/>
              <a:ext cx="9360" cy="1923840"/>
            </a:xfrm>
            <a:prstGeom prst="rect">
              <a:avLst/>
            </a:prstGeom>
            <a:solidFill>
              <a:srgbClr val="65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072120" y="3803760"/>
              <a:ext cx="11160" cy="1923840"/>
            </a:xfrm>
            <a:prstGeom prst="rect">
              <a:avLst/>
            </a:prstGeom>
            <a:solidFill>
              <a:srgbClr val="65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083280" y="3803760"/>
              <a:ext cx="19080" cy="19238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102360" y="3803760"/>
              <a:ext cx="11160" cy="1923840"/>
            </a:xfrm>
            <a:prstGeom prst="rect">
              <a:avLst/>
            </a:prstGeom>
            <a:solidFill>
              <a:srgbClr val="65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113520" y="3803760"/>
              <a:ext cx="9360" cy="1923840"/>
            </a:xfrm>
            <a:prstGeom prst="rect">
              <a:avLst/>
            </a:prstGeom>
            <a:solidFill>
              <a:srgbClr val="65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122880" y="3803760"/>
              <a:ext cx="11160" cy="192384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34040" y="3803760"/>
              <a:ext cx="9360" cy="1923840"/>
            </a:xfrm>
            <a:prstGeom prst="rect">
              <a:avLst/>
            </a:prstGeom>
            <a:solidFill>
              <a:srgbClr val="636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43400" y="3803760"/>
              <a:ext cx="11160" cy="1923840"/>
            </a:xfrm>
            <a:prstGeom prst="rect">
              <a:avLst/>
            </a:prstGeom>
            <a:solidFill>
              <a:srgbClr val="626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154560" y="3803760"/>
              <a:ext cx="9720" cy="1923840"/>
            </a:xfrm>
            <a:prstGeom prst="rect">
              <a:avLst/>
            </a:prstGeom>
            <a:solidFill>
              <a:srgbClr val="616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164280" y="3803760"/>
              <a:ext cx="11160" cy="1923840"/>
            </a:xfrm>
            <a:prstGeom prst="rect">
              <a:avLst/>
            </a:prstGeom>
            <a:solidFill>
              <a:srgbClr val="606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175440" y="3803760"/>
              <a:ext cx="9360" cy="1923840"/>
            </a:xfrm>
            <a:prstGeom prst="rect">
              <a:avLst/>
            </a:prstGeom>
            <a:solidFill>
              <a:srgbClr val="5e5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184800" y="3803760"/>
              <a:ext cx="9720" cy="1923840"/>
            </a:xfrm>
            <a:prstGeom prst="rect">
              <a:avLst/>
            </a:prstGeom>
            <a:solidFill>
              <a:srgbClr val="5c5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194520" y="3803760"/>
              <a:ext cx="10800" cy="1923840"/>
            </a:xfrm>
            <a:prstGeom prst="rect">
              <a:avLst/>
            </a:prstGeom>
            <a:solidFill>
              <a:srgbClr val="5b5b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205320" y="3803760"/>
              <a:ext cx="9720" cy="1923840"/>
            </a:xfrm>
            <a:prstGeom prst="rect">
              <a:avLst/>
            </a:prstGeom>
            <a:solidFill>
              <a:srgbClr val="585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215040" y="3803760"/>
              <a:ext cx="11160" cy="1923840"/>
            </a:xfrm>
            <a:prstGeom prst="rect">
              <a:avLst/>
            </a:prstGeom>
            <a:solidFill>
              <a:srgbClr val="565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226200" y="3803760"/>
              <a:ext cx="9360" cy="1923840"/>
            </a:xfrm>
            <a:prstGeom prst="rect">
              <a:avLst/>
            </a:prstGeom>
            <a:solidFill>
              <a:srgbClr val="535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235560" y="3803760"/>
              <a:ext cx="11160" cy="1923840"/>
            </a:xfrm>
            <a:prstGeom prst="rect">
              <a:avLst/>
            </a:prstGeom>
            <a:solidFill>
              <a:srgbClr val="515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246720" y="3803760"/>
              <a:ext cx="9360" cy="1923840"/>
            </a:xfrm>
            <a:prstGeom prst="rect">
              <a:avLst/>
            </a:prstGeom>
            <a:solidFill>
              <a:srgbClr val="4e4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256080" y="3803760"/>
              <a:ext cx="9720" cy="1923840"/>
            </a:xfrm>
            <a:prstGeom prst="rect">
              <a:avLst/>
            </a:prstGeom>
            <a:solidFill>
              <a:srgbClr val="4a4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265800" y="3803760"/>
              <a:ext cx="11160" cy="1923840"/>
            </a:xfrm>
            <a:prstGeom prst="rect">
              <a:avLst/>
            </a:prstGeom>
            <a:solidFill>
              <a:srgbClr val="474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276960" y="3803760"/>
              <a:ext cx="9360" cy="1923840"/>
            </a:xfrm>
            <a:prstGeom prst="rect">
              <a:avLst/>
            </a:prstGeom>
            <a:solidFill>
              <a:srgbClr val="444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286320" y="3803760"/>
              <a:ext cx="11160" cy="1923840"/>
            </a:xfrm>
            <a:prstGeom prst="rect">
              <a:avLst/>
            </a:prstGeom>
            <a:solidFill>
              <a:srgbClr val="41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297480" y="3803760"/>
              <a:ext cx="9720" cy="1923840"/>
            </a:xfrm>
            <a:prstGeom prst="rect">
              <a:avLst/>
            </a:prstGeom>
            <a:solidFill>
              <a:srgbClr val="3e3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307200" y="3803760"/>
              <a:ext cx="10800" cy="1923840"/>
            </a:xfrm>
            <a:prstGeom prst="rect">
              <a:avLst/>
            </a:prstGeom>
            <a:solidFill>
              <a:srgbClr val="3c3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318000" y="3803760"/>
              <a:ext cx="9720" cy="1923840"/>
            </a:xfrm>
            <a:prstGeom prst="rect">
              <a:avLst/>
            </a:prstGeom>
            <a:solidFill>
              <a:srgbClr val="393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327720" y="3803760"/>
              <a:ext cx="9360" cy="1923840"/>
            </a:xfrm>
            <a:prstGeom prst="rect">
              <a:avLst/>
            </a:prstGeom>
            <a:solidFill>
              <a:srgbClr val="373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9" name=""/>
          <p:cNvSpPr/>
          <p:nvPr/>
        </p:nvSpPr>
        <p:spPr>
          <a:xfrm>
            <a:off x="6337440" y="3803760"/>
            <a:ext cx="10800" cy="192384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348240" y="3803760"/>
            <a:ext cx="9720" cy="192384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357960" y="3803760"/>
            <a:ext cx="11160" cy="192384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369120" y="3803760"/>
            <a:ext cx="9360" cy="1923840"/>
          </a:xfrm>
          <a:prstGeom prst="rect">
            <a:avLst/>
          </a:prstGeom>
          <a:solidFill>
            <a:srgbClr val="3131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378480" y="3803760"/>
            <a:ext cx="11160" cy="192384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5796000" y="3803760"/>
            <a:ext cx="593640" cy="19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624720" y="4272120"/>
            <a:ext cx="9360" cy="145548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634080" y="4272120"/>
            <a:ext cx="11160" cy="1455480"/>
          </a:xfrm>
          <a:prstGeom prst="rect">
            <a:avLst/>
          </a:prstGeom>
          <a:solidFill>
            <a:srgbClr val="313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645240" y="4272120"/>
            <a:ext cx="9720" cy="145548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654960" y="4272120"/>
            <a:ext cx="9360" cy="145548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664320" y="4272120"/>
            <a:ext cx="11160" cy="145548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75480" y="4272120"/>
            <a:ext cx="9360" cy="1455480"/>
          </a:xfrm>
          <a:prstGeom prst="rect">
            <a:avLst/>
          </a:prstGeom>
          <a:solidFill>
            <a:srgbClr val="373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684840" y="4272120"/>
            <a:ext cx="11160" cy="1455480"/>
          </a:xfrm>
          <a:prstGeom prst="rect">
            <a:avLst/>
          </a:prstGeom>
          <a:solidFill>
            <a:srgbClr val="3a3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696000" y="4272120"/>
            <a:ext cx="9720" cy="1455480"/>
          </a:xfrm>
          <a:prstGeom prst="rect">
            <a:avLst/>
          </a:prstGeom>
          <a:solidFill>
            <a:srgbClr val="3c3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05720" y="4272120"/>
            <a:ext cx="11160" cy="1455480"/>
          </a:xfrm>
          <a:prstGeom prst="rect">
            <a:avLst/>
          </a:prstGeom>
          <a:solidFill>
            <a:srgbClr val="3f3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716880" y="4272120"/>
            <a:ext cx="9360" cy="1455480"/>
          </a:xfrm>
          <a:prstGeom prst="rect">
            <a:avLst/>
          </a:prstGeom>
          <a:solidFill>
            <a:srgbClr val="424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726240" y="4272120"/>
            <a:ext cx="9360" cy="1455480"/>
          </a:xfrm>
          <a:prstGeom prst="rect">
            <a:avLst/>
          </a:prstGeom>
          <a:solidFill>
            <a:srgbClr val="4444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735600" y="4272120"/>
            <a:ext cx="11160" cy="1455480"/>
          </a:xfrm>
          <a:prstGeom prst="rect">
            <a:avLst/>
          </a:prstGeom>
          <a:solidFill>
            <a:srgbClr val="48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746760" y="4272120"/>
            <a:ext cx="9720" cy="1455480"/>
          </a:xfrm>
          <a:prstGeom prst="rect">
            <a:avLst/>
          </a:prstGeom>
          <a:solidFill>
            <a:srgbClr val="4b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756480" y="4272120"/>
            <a:ext cx="11160" cy="1455480"/>
          </a:xfrm>
          <a:prstGeom prst="rect">
            <a:avLst/>
          </a:prstGeom>
          <a:solidFill>
            <a:srgbClr val="4e4e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767640" y="4272120"/>
            <a:ext cx="9360" cy="1455480"/>
          </a:xfrm>
          <a:prstGeom prst="rect">
            <a:avLst/>
          </a:prstGeom>
          <a:solidFill>
            <a:srgbClr val="525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777000" y="4272120"/>
            <a:ext cx="11160" cy="1455480"/>
          </a:xfrm>
          <a:prstGeom prst="rect">
            <a:avLst/>
          </a:prstGeom>
          <a:solidFill>
            <a:srgbClr val="545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788160" y="4272120"/>
            <a:ext cx="9360" cy="1455480"/>
          </a:xfrm>
          <a:prstGeom prst="rect">
            <a:avLst/>
          </a:prstGeom>
          <a:solidFill>
            <a:srgbClr val="575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97520" y="4272120"/>
            <a:ext cx="9720" cy="1455480"/>
          </a:xfrm>
          <a:prstGeom prst="rect">
            <a:avLst/>
          </a:prstGeom>
          <a:solidFill>
            <a:srgbClr val="595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07240" y="4272120"/>
            <a:ext cx="11160" cy="145548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818400" y="4272120"/>
            <a:ext cx="9360" cy="1455480"/>
          </a:xfrm>
          <a:prstGeom prst="rect">
            <a:avLst/>
          </a:prstGeom>
          <a:solidFill>
            <a:srgbClr val="5d5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827760" y="4272120"/>
            <a:ext cx="11160" cy="1455480"/>
          </a:xfrm>
          <a:prstGeom prst="rect">
            <a:avLst/>
          </a:prstGeom>
          <a:solidFill>
            <a:srgbClr val="5f5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838920" y="4272120"/>
            <a:ext cx="9720" cy="1455480"/>
          </a:xfrm>
          <a:prstGeom prst="rect">
            <a:avLst/>
          </a:prstGeom>
          <a:solidFill>
            <a:srgbClr val="60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848640" y="4272120"/>
            <a:ext cx="10800" cy="1455480"/>
          </a:xfrm>
          <a:prstGeom prst="rect">
            <a:avLst/>
          </a:prstGeom>
          <a:solidFill>
            <a:srgbClr val="61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859440" y="4272120"/>
            <a:ext cx="9720" cy="1455480"/>
          </a:xfrm>
          <a:prstGeom prst="rect">
            <a:avLst/>
          </a:prstGeom>
          <a:solidFill>
            <a:srgbClr val="626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869160" y="4272120"/>
            <a:ext cx="11160" cy="1455480"/>
          </a:xfrm>
          <a:prstGeom prst="rect">
            <a:avLst/>
          </a:prstGeom>
          <a:solidFill>
            <a:srgbClr val="6464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80320" y="4272120"/>
            <a:ext cx="9360" cy="1455480"/>
          </a:xfrm>
          <a:prstGeom prst="rect">
            <a:avLst/>
          </a:prstGeom>
          <a:solidFill>
            <a:srgbClr val="64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889680" y="4272120"/>
            <a:ext cx="9720" cy="1455480"/>
          </a:xfrm>
          <a:prstGeom prst="rect">
            <a:avLst/>
          </a:prstGeom>
          <a:solidFill>
            <a:srgbClr val="656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899400" y="4272120"/>
            <a:ext cx="11160" cy="1455480"/>
          </a:xfrm>
          <a:prstGeom prst="rect">
            <a:avLst/>
          </a:prstGeom>
          <a:solidFill>
            <a:srgbClr val="65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910560" y="4272120"/>
            <a:ext cx="9360" cy="14554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919920" y="4272120"/>
            <a:ext cx="11160" cy="1455480"/>
          </a:xfrm>
          <a:prstGeom prst="rect">
            <a:avLst/>
          </a:prstGeom>
          <a:solidFill>
            <a:srgbClr val="65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931080" y="4272120"/>
            <a:ext cx="9360" cy="1455480"/>
          </a:xfrm>
          <a:prstGeom prst="rect">
            <a:avLst/>
          </a:prstGeom>
          <a:solidFill>
            <a:srgbClr val="656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40440" y="4272120"/>
            <a:ext cx="11160" cy="1455480"/>
          </a:xfrm>
          <a:prstGeom prst="rect">
            <a:avLst/>
          </a:prstGeom>
          <a:solidFill>
            <a:srgbClr val="64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951600" y="4272120"/>
            <a:ext cx="9720" cy="1455480"/>
          </a:xfrm>
          <a:prstGeom prst="rect">
            <a:avLst/>
          </a:prstGeom>
          <a:solidFill>
            <a:srgbClr val="6464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961320" y="4272120"/>
            <a:ext cx="9360" cy="1455480"/>
          </a:xfrm>
          <a:prstGeom prst="rect">
            <a:avLst/>
          </a:prstGeom>
          <a:solidFill>
            <a:srgbClr val="626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970680" y="4272120"/>
            <a:ext cx="11160" cy="1455480"/>
          </a:xfrm>
          <a:prstGeom prst="rect">
            <a:avLst/>
          </a:prstGeom>
          <a:solidFill>
            <a:srgbClr val="61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981840" y="4272120"/>
            <a:ext cx="9360" cy="1455480"/>
          </a:xfrm>
          <a:prstGeom prst="rect">
            <a:avLst/>
          </a:prstGeom>
          <a:solidFill>
            <a:srgbClr val="60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991200" y="4272120"/>
            <a:ext cx="11160" cy="1455480"/>
          </a:xfrm>
          <a:prstGeom prst="rect">
            <a:avLst/>
          </a:prstGeom>
          <a:solidFill>
            <a:srgbClr val="5f5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002360" y="4272120"/>
            <a:ext cx="9720" cy="1455480"/>
          </a:xfrm>
          <a:prstGeom prst="rect">
            <a:avLst/>
          </a:prstGeom>
          <a:solidFill>
            <a:srgbClr val="5d5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012080" y="4272120"/>
            <a:ext cx="11160" cy="145548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023240" y="4272120"/>
            <a:ext cx="9360" cy="1455480"/>
          </a:xfrm>
          <a:prstGeom prst="rect">
            <a:avLst/>
          </a:prstGeom>
          <a:solidFill>
            <a:srgbClr val="595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7032600" y="4272120"/>
            <a:ext cx="9720" cy="1455480"/>
          </a:xfrm>
          <a:prstGeom prst="rect">
            <a:avLst/>
          </a:prstGeom>
          <a:solidFill>
            <a:srgbClr val="575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7042320" y="4272120"/>
            <a:ext cx="10800" cy="1455480"/>
          </a:xfrm>
          <a:prstGeom prst="rect">
            <a:avLst/>
          </a:prstGeom>
          <a:solidFill>
            <a:srgbClr val="545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053120" y="4272120"/>
            <a:ext cx="9720" cy="1455480"/>
          </a:xfrm>
          <a:prstGeom prst="rect">
            <a:avLst/>
          </a:prstGeom>
          <a:solidFill>
            <a:srgbClr val="525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7062840" y="4272120"/>
            <a:ext cx="11160" cy="1455480"/>
          </a:xfrm>
          <a:prstGeom prst="rect">
            <a:avLst/>
          </a:prstGeom>
          <a:solidFill>
            <a:srgbClr val="4f4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7074000" y="4272120"/>
            <a:ext cx="9360" cy="1455480"/>
          </a:xfrm>
          <a:prstGeom prst="rect">
            <a:avLst/>
          </a:prstGeom>
          <a:solidFill>
            <a:srgbClr val="4b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7083360" y="4272120"/>
            <a:ext cx="11160" cy="1455480"/>
          </a:xfrm>
          <a:prstGeom prst="rect">
            <a:avLst/>
          </a:prstGeom>
          <a:solidFill>
            <a:srgbClr val="48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094520" y="4272120"/>
            <a:ext cx="9720" cy="1455480"/>
          </a:xfrm>
          <a:prstGeom prst="rect">
            <a:avLst/>
          </a:prstGeom>
          <a:solidFill>
            <a:srgbClr val="4444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104240" y="4272120"/>
            <a:ext cx="10800" cy="1455480"/>
          </a:xfrm>
          <a:prstGeom prst="rect">
            <a:avLst/>
          </a:prstGeom>
          <a:solidFill>
            <a:srgbClr val="424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7115040" y="4272120"/>
            <a:ext cx="9720" cy="1455480"/>
          </a:xfrm>
          <a:prstGeom prst="rect">
            <a:avLst/>
          </a:prstGeom>
          <a:solidFill>
            <a:srgbClr val="3f3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7124760" y="4272120"/>
            <a:ext cx="9360" cy="1455480"/>
          </a:xfrm>
          <a:prstGeom prst="rect">
            <a:avLst/>
          </a:prstGeom>
          <a:solidFill>
            <a:srgbClr val="3c3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7134120" y="4272120"/>
            <a:ext cx="11160" cy="1455480"/>
          </a:xfrm>
          <a:prstGeom prst="rect">
            <a:avLst/>
          </a:prstGeom>
          <a:solidFill>
            <a:srgbClr val="3a3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7145280" y="4272120"/>
            <a:ext cx="9720" cy="1455480"/>
          </a:xfrm>
          <a:prstGeom prst="rect">
            <a:avLst/>
          </a:prstGeom>
          <a:solidFill>
            <a:srgbClr val="373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7155000" y="4272120"/>
            <a:ext cx="10800" cy="145548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7165800" y="4272120"/>
            <a:ext cx="9720" cy="145548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175520" y="4272120"/>
            <a:ext cx="11160" cy="145548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186680" y="4272120"/>
            <a:ext cx="9360" cy="1455480"/>
          </a:xfrm>
          <a:prstGeom prst="rect">
            <a:avLst/>
          </a:prstGeom>
          <a:solidFill>
            <a:srgbClr val="313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196040" y="4272120"/>
            <a:ext cx="9720" cy="145548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624720" y="4272120"/>
            <a:ext cx="581040" cy="145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7440480" y="3753000"/>
            <a:ext cx="11160" cy="197460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451640" y="3753000"/>
            <a:ext cx="9720" cy="1974600"/>
          </a:xfrm>
          <a:prstGeom prst="rect">
            <a:avLst/>
          </a:prstGeom>
          <a:solidFill>
            <a:srgbClr val="313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461360" y="3753000"/>
            <a:ext cx="11160" cy="197460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472520" y="3753000"/>
            <a:ext cx="9360" cy="197460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481880" y="3753000"/>
            <a:ext cx="11160" cy="197460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7493040" y="3753000"/>
            <a:ext cx="9360" cy="1974600"/>
          </a:xfrm>
          <a:prstGeom prst="rect">
            <a:avLst/>
          </a:prstGeom>
          <a:solidFill>
            <a:srgbClr val="373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7502400" y="3753000"/>
            <a:ext cx="9720" cy="1974600"/>
          </a:xfrm>
          <a:prstGeom prst="rect">
            <a:avLst/>
          </a:prstGeom>
          <a:solidFill>
            <a:srgbClr val="3a3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7512120" y="3753000"/>
            <a:ext cx="11160" cy="1974600"/>
          </a:xfrm>
          <a:prstGeom prst="rect">
            <a:avLst/>
          </a:prstGeom>
          <a:solidFill>
            <a:srgbClr val="3c3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523280" y="3753000"/>
            <a:ext cx="9360" cy="1974600"/>
          </a:xfrm>
          <a:prstGeom prst="rect">
            <a:avLst/>
          </a:prstGeom>
          <a:solidFill>
            <a:srgbClr val="3f3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7532640" y="3753000"/>
            <a:ext cx="11160" cy="1974600"/>
          </a:xfrm>
          <a:prstGeom prst="rect">
            <a:avLst/>
          </a:prstGeom>
          <a:solidFill>
            <a:srgbClr val="424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543800" y="3753000"/>
            <a:ext cx="9360" cy="1974600"/>
          </a:xfrm>
          <a:prstGeom prst="rect">
            <a:avLst/>
          </a:prstGeom>
          <a:solidFill>
            <a:srgbClr val="4444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553160" y="3753000"/>
            <a:ext cx="11160" cy="1974600"/>
          </a:xfrm>
          <a:prstGeom prst="rect">
            <a:avLst/>
          </a:prstGeom>
          <a:solidFill>
            <a:srgbClr val="48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64320" y="3753000"/>
            <a:ext cx="9720" cy="1974600"/>
          </a:xfrm>
          <a:prstGeom prst="rect">
            <a:avLst/>
          </a:prstGeom>
          <a:solidFill>
            <a:srgbClr val="4b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574040" y="3753000"/>
            <a:ext cx="11160" cy="1974600"/>
          </a:xfrm>
          <a:prstGeom prst="rect">
            <a:avLst/>
          </a:prstGeom>
          <a:solidFill>
            <a:srgbClr val="4e4e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7585200" y="3753000"/>
            <a:ext cx="9360" cy="1974600"/>
          </a:xfrm>
          <a:prstGeom prst="rect">
            <a:avLst/>
          </a:prstGeom>
          <a:solidFill>
            <a:srgbClr val="525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594560" y="3753000"/>
            <a:ext cx="9720" cy="1974600"/>
          </a:xfrm>
          <a:prstGeom prst="rect">
            <a:avLst/>
          </a:prstGeom>
          <a:solidFill>
            <a:srgbClr val="545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7604280" y="3753000"/>
            <a:ext cx="10800" cy="1974600"/>
          </a:xfrm>
          <a:prstGeom prst="rect">
            <a:avLst/>
          </a:prstGeom>
          <a:solidFill>
            <a:srgbClr val="575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615080" y="3753000"/>
            <a:ext cx="9720" cy="1974600"/>
          </a:xfrm>
          <a:prstGeom prst="rect">
            <a:avLst/>
          </a:prstGeom>
          <a:solidFill>
            <a:srgbClr val="595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624800" y="3753000"/>
            <a:ext cx="11160" cy="197460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635960" y="3753000"/>
            <a:ext cx="9360" cy="1974600"/>
          </a:xfrm>
          <a:prstGeom prst="rect">
            <a:avLst/>
          </a:prstGeom>
          <a:solidFill>
            <a:srgbClr val="5d5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645320" y="3753000"/>
            <a:ext cx="11160" cy="1974600"/>
          </a:xfrm>
          <a:prstGeom prst="rect">
            <a:avLst/>
          </a:prstGeom>
          <a:solidFill>
            <a:srgbClr val="5f5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656480" y="3753000"/>
            <a:ext cx="9720" cy="1974600"/>
          </a:xfrm>
          <a:prstGeom prst="rect">
            <a:avLst/>
          </a:prstGeom>
          <a:solidFill>
            <a:srgbClr val="60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666200" y="3753000"/>
            <a:ext cx="9360" cy="1974600"/>
          </a:xfrm>
          <a:prstGeom prst="rect">
            <a:avLst/>
          </a:prstGeom>
          <a:solidFill>
            <a:srgbClr val="61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675560" y="3753000"/>
            <a:ext cx="11160" cy="1974600"/>
          </a:xfrm>
          <a:prstGeom prst="rect">
            <a:avLst/>
          </a:prstGeom>
          <a:solidFill>
            <a:srgbClr val="626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7686720" y="3753000"/>
            <a:ext cx="9360" cy="1974600"/>
          </a:xfrm>
          <a:prstGeom prst="rect">
            <a:avLst/>
          </a:prstGeom>
          <a:solidFill>
            <a:srgbClr val="6464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7696080" y="3753000"/>
            <a:ext cx="11160" cy="1974600"/>
          </a:xfrm>
          <a:prstGeom prst="rect">
            <a:avLst/>
          </a:prstGeom>
          <a:solidFill>
            <a:srgbClr val="64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7707240" y="3753000"/>
            <a:ext cx="9720" cy="1974600"/>
          </a:xfrm>
          <a:prstGeom prst="rect">
            <a:avLst/>
          </a:prstGeom>
          <a:solidFill>
            <a:srgbClr val="656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716960" y="3753000"/>
            <a:ext cx="11160" cy="1974600"/>
          </a:xfrm>
          <a:prstGeom prst="rect">
            <a:avLst/>
          </a:prstGeom>
          <a:solidFill>
            <a:srgbClr val="65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728120" y="3753000"/>
            <a:ext cx="9360" cy="1974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7737480" y="3753000"/>
            <a:ext cx="11160" cy="1974600"/>
          </a:xfrm>
          <a:prstGeom prst="rect">
            <a:avLst/>
          </a:prstGeom>
          <a:solidFill>
            <a:srgbClr val="65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748640" y="3753000"/>
            <a:ext cx="9360" cy="1974600"/>
          </a:xfrm>
          <a:prstGeom prst="rect">
            <a:avLst/>
          </a:prstGeom>
          <a:solidFill>
            <a:srgbClr val="656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7758000" y="3753000"/>
            <a:ext cx="9720" cy="1974600"/>
          </a:xfrm>
          <a:prstGeom prst="rect">
            <a:avLst/>
          </a:prstGeom>
          <a:solidFill>
            <a:srgbClr val="64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767720" y="3753000"/>
            <a:ext cx="11160" cy="1974600"/>
          </a:xfrm>
          <a:prstGeom prst="rect">
            <a:avLst/>
          </a:prstGeom>
          <a:solidFill>
            <a:srgbClr val="6464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778880" y="3753000"/>
            <a:ext cx="9360" cy="1974600"/>
          </a:xfrm>
          <a:prstGeom prst="rect">
            <a:avLst/>
          </a:prstGeom>
          <a:solidFill>
            <a:srgbClr val="626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7788240" y="3753000"/>
            <a:ext cx="11160" cy="1974600"/>
          </a:xfrm>
          <a:prstGeom prst="rect">
            <a:avLst/>
          </a:prstGeom>
          <a:solidFill>
            <a:srgbClr val="61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799400" y="3753000"/>
            <a:ext cx="9360" cy="1974600"/>
          </a:xfrm>
          <a:prstGeom prst="rect">
            <a:avLst/>
          </a:prstGeom>
          <a:solidFill>
            <a:srgbClr val="60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808760" y="3753000"/>
            <a:ext cx="11160" cy="1974600"/>
          </a:xfrm>
          <a:prstGeom prst="rect">
            <a:avLst/>
          </a:prstGeom>
          <a:solidFill>
            <a:srgbClr val="5f5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819920" y="3753000"/>
            <a:ext cx="9720" cy="1974600"/>
          </a:xfrm>
          <a:prstGeom prst="rect">
            <a:avLst/>
          </a:prstGeom>
          <a:solidFill>
            <a:srgbClr val="5d5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7829640" y="3753000"/>
            <a:ext cx="9360" cy="197460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7839000" y="3753000"/>
            <a:ext cx="11160" cy="1974600"/>
          </a:xfrm>
          <a:prstGeom prst="rect">
            <a:avLst/>
          </a:prstGeom>
          <a:solidFill>
            <a:srgbClr val="595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7850160" y="3753000"/>
            <a:ext cx="9720" cy="1974600"/>
          </a:xfrm>
          <a:prstGeom prst="rect">
            <a:avLst/>
          </a:prstGeom>
          <a:solidFill>
            <a:srgbClr val="575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7859880" y="3753000"/>
            <a:ext cx="10800" cy="1974600"/>
          </a:xfrm>
          <a:prstGeom prst="rect">
            <a:avLst/>
          </a:prstGeom>
          <a:solidFill>
            <a:srgbClr val="545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7870680" y="3753000"/>
            <a:ext cx="9720" cy="1974600"/>
          </a:xfrm>
          <a:prstGeom prst="rect">
            <a:avLst/>
          </a:prstGeom>
          <a:solidFill>
            <a:srgbClr val="525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7880400" y="3753000"/>
            <a:ext cx="11160" cy="1974600"/>
          </a:xfrm>
          <a:prstGeom prst="rect">
            <a:avLst/>
          </a:prstGeom>
          <a:solidFill>
            <a:srgbClr val="4f4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891560" y="3753000"/>
            <a:ext cx="9360" cy="1974600"/>
          </a:xfrm>
          <a:prstGeom prst="rect">
            <a:avLst/>
          </a:prstGeom>
          <a:solidFill>
            <a:srgbClr val="4b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7900920" y="3753000"/>
            <a:ext cx="9720" cy="1974600"/>
          </a:xfrm>
          <a:prstGeom prst="rect">
            <a:avLst/>
          </a:prstGeom>
          <a:solidFill>
            <a:srgbClr val="48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910640" y="3753000"/>
            <a:ext cx="11160" cy="1974600"/>
          </a:xfrm>
          <a:prstGeom prst="rect">
            <a:avLst/>
          </a:prstGeom>
          <a:solidFill>
            <a:srgbClr val="4444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921800" y="3753000"/>
            <a:ext cx="9360" cy="1974600"/>
          </a:xfrm>
          <a:prstGeom prst="rect">
            <a:avLst/>
          </a:prstGeom>
          <a:solidFill>
            <a:srgbClr val="424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931160" y="3753000"/>
            <a:ext cx="11160" cy="1974600"/>
          </a:xfrm>
          <a:prstGeom prst="rect">
            <a:avLst/>
          </a:prstGeom>
          <a:solidFill>
            <a:srgbClr val="3f3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42320" y="3753000"/>
            <a:ext cx="9360" cy="1974600"/>
          </a:xfrm>
          <a:prstGeom prst="rect">
            <a:avLst/>
          </a:prstGeom>
          <a:solidFill>
            <a:srgbClr val="3c3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7951680" y="3753000"/>
            <a:ext cx="11160" cy="1974600"/>
          </a:xfrm>
          <a:prstGeom prst="rect">
            <a:avLst/>
          </a:prstGeom>
          <a:solidFill>
            <a:srgbClr val="3a3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7962840" y="3753000"/>
            <a:ext cx="9720" cy="1974600"/>
          </a:xfrm>
          <a:prstGeom prst="rect">
            <a:avLst/>
          </a:prstGeom>
          <a:solidFill>
            <a:srgbClr val="373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7972560" y="3753000"/>
            <a:ext cx="10800" cy="1974600"/>
          </a:xfrm>
          <a:prstGeom prst="rect">
            <a:avLst/>
          </a:prstGeom>
          <a:solidFill>
            <a:srgbClr val="3535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983360" y="3753000"/>
            <a:ext cx="9720" cy="1974600"/>
          </a:xfrm>
          <a:prstGeom prst="rect">
            <a:avLst/>
          </a:prstGeom>
          <a:solidFill>
            <a:srgbClr val="333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993080" y="3753000"/>
            <a:ext cx="9360" cy="1974600"/>
          </a:xfrm>
          <a:prstGeom prst="rect">
            <a:avLst/>
          </a:prstGeom>
          <a:solidFill>
            <a:srgbClr val="3232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8002440" y="3753000"/>
            <a:ext cx="11160" cy="1974600"/>
          </a:xfrm>
          <a:prstGeom prst="rect">
            <a:avLst/>
          </a:prstGeom>
          <a:solidFill>
            <a:srgbClr val="313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8013600" y="3753000"/>
            <a:ext cx="9720" cy="1974600"/>
          </a:xfrm>
          <a:prstGeom prst="rect">
            <a:avLst/>
          </a:prstGeom>
          <a:solidFill>
            <a:srgbClr val="303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7440480" y="3753000"/>
            <a:ext cx="582840" cy="19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700280" y="2816280"/>
            <a:ext cx="9360" cy="957240"/>
          </a:xfrm>
          <a:prstGeom prst="rect">
            <a:avLst/>
          </a:prstGeom>
          <a:solidFill>
            <a:srgbClr val="485f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709640" y="2816280"/>
            <a:ext cx="11160" cy="957240"/>
          </a:xfrm>
          <a:prstGeom prst="rect">
            <a:avLst/>
          </a:prstGeom>
          <a:solidFill>
            <a:srgbClr val="496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1720800" y="2816280"/>
            <a:ext cx="9720" cy="957240"/>
          </a:xfrm>
          <a:prstGeom prst="rect">
            <a:avLst/>
          </a:prstGeom>
          <a:solidFill>
            <a:srgbClr val="4b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1730520" y="2816280"/>
            <a:ext cx="10800" cy="957240"/>
          </a:xfrm>
          <a:prstGeom prst="rect">
            <a:avLst/>
          </a:prstGeom>
          <a:solidFill>
            <a:srgbClr val="4d6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741320" y="2816280"/>
            <a:ext cx="9720" cy="957240"/>
          </a:xfrm>
          <a:prstGeom prst="rect">
            <a:avLst/>
          </a:prstGeom>
          <a:solidFill>
            <a:srgbClr val="506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1751040" y="2816280"/>
            <a:ext cx="11160" cy="957240"/>
          </a:xfrm>
          <a:prstGeom prst="rect">
            <a:avLst/>
          </a:prstGeom>
          <a:solidFill>
            <a:srgbClr val="536f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1762200" y="2816280"/>
            <a:ext cx="9360" cy="957240"/>
          </a:xfrm>
          <a:prstGeom prst="rect">
            <a:avLst/>
          </a:prstGeom>
          <a:solidFill>
            <a:srgbClr val="5773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1771560" y="2816280"/>
            <a:ext cx="9720" cy="957240"/>
          </a:xfrm>
          <a:prstGeom prst="rect">
            <a:avLst/>
          </a:prstGeom>
          <a:solidFill>
            <a:srgbClr val="5a7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781280" y="2816280"/>
            <a:ext cx="11160" cy="957240"/>
          </a:xfrm>
          <a:prstGeom prst="rect">
            <a:avLst/>
          </a:prstGeom>
          <a:solidFill>
            <a:srgbClr val="5e7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792440" y="2816280"/>
            <a:ext cx="9360" cy="957240"/>
          </a:xfrm>
          <a:prstGeom prst="rect">
            <a:avLst/>
          </a:prstGeom>
          <a:solidFill>
            <a:srgbClr val="628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1801800" y="2816280"/>
            <a:ext cx="11160" cy="957240"/>
          </a:xfrm>
          <a:prstGeom prst="rect">
            <a:avLst/>
          </a:prstGeom>
          <a:solidFill>
            <a:srgbClr val="668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812960" y="2816280"/>
            <a:ext cx="9360" cy="957240"/>
          </a:xfrm>
          <a:prstGeom prst="rect">
            <a:avLst/>
          </a:prstGeom>
          <a:solidFill>
            <a:srgbClr val="6b8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1822320" y="2816280"/>
            <a:ext cx="11160" cy="957240"/>
          </a:xfrm>
          <a:prstGeom prst="rect">
            <a:avLst/>
          </a:prstGeom>
          <a:solidFill>
            <a:srgbClr val="7094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833480" y="2816280"/>
            <a:ext cx="9720" cy="957240"/>
          </a:xfrm>
          <a:prstGeom prst="rect">
            <a:avLst/>
          </a:prstGeom>
          <a:solidFill>
            <a:srgbClr val="749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843200" y="2816280"/>
            <a:ext cx="9360" cy="957240"/>
          </a:xfrm>
          <a:prstGeom prst="rect">
            <a:avLst/>
          </a:prstGeom>
          <a:solidFill>
            <a:srgbClr val="79a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852560" y="2816280"/>
            <a:ext cx="11160" cy="957240"/>
          </a:xfrm>
          <a:prstGeom prst="rect">
            <a:avLst/>
          </a:prstGeom>
          <a:solidFill>
            <a:srgbClr val="7da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863720" y="2816280"/>
            <a:ext cx="9360" cy="957240"/>
          </a:xfrm>
          <a:prstGeom prst="rect">
            <a:avLst/>
          </a:prstGeom>
          <a:solidFill>
            <a:srgbClr val="81ab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73080" y="2816280"/>
            <a:ext cx="11160" cy="957240"/>
          </a:xfrm>
          <a:prstGeom prst="rect">
            <a:avLst/>
          </a:prstGeom>
          <a:solidFill>
            <a:srgbClr val="85b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884240" y="2816280"/>
            <a:ext cx="9720" cy="957240"/>
          </a:xfrm>
          <a:prstGeom prst="rect">
            <a:avLst/>
          </a:prstGeom>
          <a:solidFill>
            <a:srgbClr val="88b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893960" y="2816280"/>
            <a:ext cx="11160" cy="957240"/>
          </a:xfrm>
          <a:prstGeom prst="rect">
            <a:avLst/>
          </a:prstGeom>
          <a:solidFill>
            <a:srgbClr val="8bb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1" name=""/>
          <p:cNvGrpSpPr/>
          <p:nvPr/>
        </p:nvGrpSpPr>
        <p:grpSpPr>
          <a:xfrm>
            <a:off x="1700280" y="2660760"/>
            <a:ext cx="2931840" cy="1112760"/>
            <a:chOff x="1700280" y="2660760"/>
            <a:chExt cx="2931840" cy="1112760"/>
          </a:xfrm>
        </p:grpSpPr>
        <p:sp>
          <p:nvSpPr>
            <p:cNvPr id="2342" name=""/>
            <p:cNvSpPr/>
            <p:nvPr/>
          </p:nvSpPr>
          <p:spPr>
            <a:xfrm>
              <a:off x="1904760" y="2816280"/>
              <a:ext cx="9720" cy="957240"/>
            </a:xfrm>
            <a:prstGeom prst="rect">
              <a:avLst/>
            </a:prstGeom>
            <a:solidFill>
              <a:srgbClr val="8eb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914480" y="2816280"/>
              <a:ext cx="11160" cy="957240"/>
            </a:xfrm>
            <a:prstGeom prst="rect">
              <a:avLst/>
            </a:prstGeom>
            <a:solidFill>
              <a:srgbClr val="90c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925640" y="2816280"/>
              <a:ext cx="9360" cy="957240"/>
            </a:xfrm>
            <a:prstGeom prst="rect">
              <a:avLst/>
            </a:prstGeom>
            <a:solidFill>
              <a:srgbClr val="92c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935000" y="2816280"/>
              <a:ext cx="9720" cy="957240"/>
            </a:xfrm>
            <a:prstGeom prst="rect">
              <a:avLst/>
            </a:prstGeom>
            <a:solidFill>
              <a:srgbClr val="93c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944720" y="2816280"/>
              <a:ext cx="11160" cy="957240"/>
            </a:xfrm>
            <a:prstGeom prst="rect">
              <a:avLst/>
            </a:prstGeom>
            <a:solidFill>
              <a:srgbClr val="95c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955880" y="2816280"/>
              <a:ext cx="9360" cy="957240"/>
            </a:xfrm>
            <a:prstGeom prst="rect">
              <a:avLst/>
            </a:prstGeom>
            <a:solidFill>
              <a:srgbClr val="96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965240" y="2816280"/>
              <a:ext cx="11160" cy="957240"/>
            </a:xfrm>
            <a:prstGeom prst="rect">
              <a:avLst/>
            </a:prstGeom>
            <a:solidFill>
              <a:srgbClr val="97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76400" y="2816280"/>
              <a:ext cx="9360" cy="957240"/>
            </a:xfrm>
            <a:prstGeom prst="rect">
              <a:avLst/>
            </a:prstGeom>
            <a:solidFill>
              <a:srgbClr val="98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85760" y="2816280"/>
              <a:ext cx="20880" cy="957240"/>
            </a:xfrm>
            <a:prstGeom prst="rect">
              <a:avLst/>
            </a:prstGeom>
            <a:solidFill>
              <a:srgbClr val="99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006640" y="2816280"/>
              <a:ext cx="9360" cy="957240"/>
            </a:xfrm>
            <a:prstGeom prst="rect">
              <a:avLst/>
            </a:prstGeom>
            <a:solidFill>
              <a:srgbClr val="98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016000" y="2816280"/>
              <a:ext cx="11160" cy="957240"/>
            </a:xfrm>
            <a:prstGeom prst="rect">
              <a:avLst/>
            </a:prstGeom>
            <a:solidFill>
              <a:srgbClr val="97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027160" y="2816280"/>
              <a:ext cx="9360" cy="957240"/>
            </a:xfrm>
            <a:prstGeom prst="rect">
              <a:avLst/>
            </a:prstGeom>
            <a:solidFill>
              <a:srgbClr val="96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036520" y="2816280"/>
              <a:ext cx="11160" cy="957240"/>
            </a:xfrm>
            <a:prstGeom prst="rect">
              <a:avLst/>
            </a:prstGeom>
            <a:solidFill>
              <a:srgbClr val="95c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047680" y="2816280"/>
              <a:ext cx="9720" cy="957240"/>
            </a:xfrm>
            <a:prstGeom prst="rect">
              <a:avLst/>
            </a:prstGeom>
            <a:solidFill>
              <a:srgbClr val="93c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057400" y="2816280"/>
              <a:ext cx="11160" cy="957240"/>
            </a:xfrm>
            <a:prstGeom prst="rect">
              <a:avLst/>
            </a:prstGeom>
            <a:solidFill>
              <a:srgbClr val="92c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068560" y="2816280"/>
              <a:ext cx="9360" cy="957240"/>
            </a:xfrm>
            <a:prstGeom prst="rect">
              <a:avLst/>
            </a:prstGeom>
            <a:solidFill>
              <a:srgbClr val="90c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077920" y="2816280"/>
              <a:ext cx="9720" cy="957240"/>
            </a:xfrm>
            <a:prstGeom prst="rect">
              <a:avLst/>
            </a:prstGeom>
            <a:solidFill>
              <a:srgbClr val="8e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087640" y="2816280"/>
              <a:ext cx="10800" cy="957240"/>
            </a:xfrm>
            <a:prstGeom prst="rect">
              <a:avLst/>
            </a:prstGeom>
            <a:solidFill>
              <a:srgbClr val="8b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98440" y="2816280"/>
              <a:ext cx="9720" cy="957240"/>
            </a:xfrm>
            <a:prstGeom prst="rect">
              <a:avLst/>
            </a:prstGeom>
            <a:solidFill>
              <a:srgbClr val="88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108160" y="2816280"/>
              <a:ext cx="11160" cy="957240"/>
            </a:xfrm>
            <a:prstGeom prst="rect">
              <a:avLst/>
            </a:prstGeom>
            <a:solidFill>
              <a:srgbClr val="85b1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119320" y="2816280"/>
              <a:ext cx="9360" cy="957240"/>
            </a:xfrm>
            <a:prstGeom prst="rect">
              <a:avLst/>
            </a:prstGeom>
            <a:solidFill>
              <a:srgbClr val="81a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128680" y="2816280"/>
              <a:ext cx="11160" cy="957240"/>
            </a:xfrm>
            <a:prstGeom prst="rect">
              <a:avLst/>
            </a:prstGeom>
            <a:solidFill>
              <a:srgbClr val="7d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39840" y="2816280"/>
              <a:ext cx="9720" cy="957240"/>
            </a:xfrm>
            <a:prstGeom prst="rect">
              <a:avLst/>
            </a:prstGeom>
            <a:solidFill>
              <a:srgbClr val="79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149560" y="2816280"/>
              <a:ext cx="10800" cy="957240"/>
            </a:xfrm>
            <a:prstGeom prst="rect">
              <a:avLst/>
            </a:prstGeom>
            <a:solidFill>
              <a:srgbClr val="749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160360" y="2816280"/>
              <a:ext cx="9720" cy="957240"/>
            </a:xfrm>
            <a:prstGeom prst="rect">
              <a:avLst/>
            </a:prstGeom>
            <a:solidFill>
              <a:srgbClr val="709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170080" y="2816280"/>
              <a:ext cx="9360" cy="957240"/>
            </a:xfrm>
            <a:prstGeom prst="rect">
              <a:avLst/>
            </a:prstGeom>
            <a:solidFill>
              <a:srgbClr val="6b8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179440" y="2816280"/>
              <a:ext cx="11160" cy="957240"/>
            </a:xfrm>
            <a:prstGeom prst="rect">
              <a:avLst/>
            </a:prstGeom>
            <a:solidFill>
              <a:srgbClr val="668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190600" y="2816280"/>
              <a:ext cx="9720" cy="957240"/>
            </a:xfrm>
            <a:prstGeom prst="rect">
              <a:avLst/>
            </a:prstGeom>
            <a:solidFill>
              <a:srgbClr val="628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200320" y="2816280"/>
              <a:ext cx="11160" cy="957240"/>
            </a:xfrm>
            <a:prstGeom prst="rect">
              <a:avLst/>
            </a:prstGeom>
            <a:solidFill>
              <a:srgbClr val="5e7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211480" y="2816280"/>
              <a:ext cx="9360" cy="957240"/>
            </a:xfrm>
            <a:prstGeom prst="rect">
              <a:avLst/>
            </a:prstGeom>
            <a:solidFill>
              <a:srgbClr val="5a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220840" y="2816280"/>
              <a:ext cx="11160" cy="957240"/>
            </a:xfrm>
            <a:prstGeom prst="rect">
              <a:avLst/>
            </a:prstGeom>
            <a:solidFill>
              <a:srgbClr val="57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232000" y="2816280"/>
              <a:ext cx="9360" cy="957240"/>
            </a:xfrm>
            <a:prstGeom prst="rect">
              <a:avLst/>
            </a:prstGeom>
            <a:solidFill>
              <a:srgbClr val="536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241360" y="2816280"/>
              <a:ext cx="9720" cy="95724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51080" y="2816280"/>
              <a:ext cx="11160" cy="95724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2240" y="2816280"/>
              <a:ext cx="9360" cy="95724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271600" y="2816280"/>
              <a:ext cx="11160" cy="957240"/>
            </a:xfrm>
            <a:prstGeom prst="rect">
              <a:avLst/>
            </a:prstGeom>
            <a:solidFill>
              <a:srgbClr val="49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82760" y="2816280"/>
              <a:ext cx="9360" cy="95724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700280" y="2816280"/>
              <a:ext cx="591840" cy="95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527200" y="2660760"/>
              <a:ext cx="11160" cy="79992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538360" y="2660760"/>
              <a:ext cx="9360" cy="79992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547720" y="2660760"/>
              <a:ext cx="9720" cy="79992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557440" y="2660760"/>
              <a:ext cx="11160" cy="79992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568600" y="2660760"/>
              <a:ext cx="9360" cy="79992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577960" y="2660760"/>
              <a:ext cx="11160" cy="79992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589120" y="2660760"/>
              <a:ext cx="9360" cy="799920"/>
            </a:xfrm>
            <a:prstGeom prst="rect">
              <a:avLst/>
            </a:prstGeom>
            <a:solidFill>
              <a:srgbClr val="57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98480" y="2660760"/>
              <a:ext cx="11160" cy="79992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609640" y="2660760"/>
              <a:ext cx="9720" cy="79992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619360" y="2660760"/>
              <a:ext cx="11160" cy="79992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630520" y="2660760"/>
              <a:ext cx="9360" cy="79992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639880" y="2660760"/>
              <a:ext cx="9720" cy="79992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649600" y="2660760"/>
              <a:ext cx="10800" cy="79992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660400" y="2660760"/>
              <a:ext cx="9720" cy="79992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670120" y="2660760"/>
              <a:ext cx="11160" cy="79992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681280" y="2660760"/>
              <a:ext cx="9360" cy="79992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690640" y="2660760"/>
              <a:ext cx="11160" cy="79992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701800" y="2660760"/>
              <a:ext cx="9720" cy="79992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711520" y="2660760"/>
              <a:ext cx="9360" cy="799920"/>
            </a:xfrm>
            <a:prstGeom prst="rect">
              <a:avLst/>
            </a:prstGeom>
            <a:solidFill>
              <a:srgbClr val="89b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720880" y="2660760"/>
              <a:ext cx="11160" cy="79992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732040" y="2660760"/>
              <a:ext cx="9360" cy="79992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741400" y="2660760"/>
              <a:ext cx="11160" cy="79992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752560" y="2660760"/>
              <a:ext cx="9720" cy="79992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762280" y="2660760"/>
              <a:ext cx="11160" cy="79992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773440" y="2660760"/>
              <a:ext cx="9360" cy="79992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782800" y="2660760"/>
              <a:ext cx="9360" cy="79992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792160" y="2660760"/>
              <a:ext cx="11160" cy="79992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803320" y="2660760"/>
              <a:ext cx="9720" cy="79992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813040" y="2660760"/>
              <a:ext cx="11160" cy="799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824200" y="2660760"/>
              <a:ext cx="9360" cy="79992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833560" y="2660760"/>
              <a:ext cx="11160" cy="79992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844720" y="2660760"/>
              <a:ext cx="9360" cy="79992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854080" y="2660760"/>
              <a:ext cx="11160" cy="79992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865240" y="2660760"/>
              <a:ext cx="9720" cy="79992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874960" y="2660760"/>
              <a:ext cx="9360" cy="79992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884320" y="2660760"/>
              <a:ext cx="11160" cy="79992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895480" y="2660760"/>
              <a:ext cx="9720" cy="79992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905200" y="2660760"/>
              <a:ext cx="10800" cy="79992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916000" y="2660760"/>
              <a:ext cx="9720" cy="799920"/>
            </a:xfrm>
            <a:prstGeom prst="rect">
              <a:avLst/>
            </a:prstGeom>
            <a:solidFill>
              <a:srgbClr val="89b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925720" y="2660760"/>
              <a:ext cx="11160" cy="79992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936880" y="2660760"/>
              <a:ext cx="9360" cy="79992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46240" y="2660760"/>
              <a:ext cx="9720" cy="79992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55960" y="2660760"/>
              <a:ext cx="11160" cy="79992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967120" y="2660760"/>
              <a:ext cx="9360" cy="79992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976480" y="2660760"/>
              <a:ext cx="11160" cy="79992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987640" y="2660760"/>
              <a:ext cx="9360" cy="79992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997000" y="2660760"/>
              <a:ext cx="11160" cy="79992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008160" y="2660760"/>
              <a:ext cx="9720" cy="79992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017880" y="2660760"/>
              <a:ext cx="9360" cy="79992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027240" y="2660760"/>
              <a:ext cx="11160" cy="79992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038400" y="2660760"/>
              <a:ext cx="9360" cy="799920"/>
            </a:xfrm>
            <a:prstGeom prst="rect">
              <a:avLst/>
            </a:prstGeom>
            <a:solidFill>
              <a:srgbClr val="57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047760" y="2660760"/>
              <a:ext cx="11160" cy="79992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058920" y="2660760"/>
              <a:ext cx="9720" cy="79992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068640" y="2660760"/>
              <a:ext cx="11160" cy="79992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079800" y="2660760"/>
              <a:ext cx="9360" cy="79992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089160" y="2660760"/>
              <a:ext cx="11160" cy="79992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100320" y="2660760"/>
              <a:ext cx="9360" cy="79992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27200" y="2660760"/>
              <a:ext cx="582480" cy="79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344760" y="2765520"/>
              <a:ext cx="9720" cy="84132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354480" y="2765520"/>
              <a:ext cx="10800" cy="84132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365280" y="2765520"/>
              <a:ext cx="9720" cy="84132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375000" y="2765520"/>
              <a:ext cx="11160" cy="84132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386160" y="2765520"/>
              <a:ext cx="9360" cy="84132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395520" y="2765520"/>
              <a:ext cx="11160" cy="84132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406680" y="2765520"/>
              <a:ext cx="9720" cy="841320"/>
            </a:xfrm>
            <a:prstGeom prst="rect">
              <a:avLst/>
            </a:prstGeom>
            <a:solidFill>
              <a:srgbClr val="57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416400" y="2765520"/>
              <a:ext cx="9360" cy="84132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25760" y="2765520"/>
              <a:ext cx="11160" cy="84132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36920" y="2765520"/>
              <a:ext cx="9360" cy="84132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446280" y="2765520"/>
              <a:ext cx="11160" cy="84132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457440" y="2765520"/>
              <a:ext cx="9720" cy="84132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467160" y="2765520"/>
              <a:ext cx="10800" cy="84132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477960" y="2765520"/>
              <a:ext cx="9720" cy="84132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487680" y="2765520"/>
              <a:ext cx="11160" cy="84132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498840" y="2765520"/>
              <a:ext cx="9360" cy="84132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508200" y="2765520"/>
              <a:ext cx="9720" cy="84132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517920" y="2765520"/>
              <a:ext cx="11160" cy="84132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529080" y="2765520"/>
              <a:ext cx="9360" cy="841320"/>
            </a:xfrm>
            <a:prstGeom prst="rect">
              <a:avLst/>
            </a:prstGeom>
            <a:solidFill>
              <a:srgbClr val="89b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538440" y="2765520"/>
              <a:ext cx="11160" cy="84132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49600" y="2765520"/>
              <a:ext cx="9360" cy="84132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558960" y="2765520"/>
              <a:ext cx="11160" cy="84132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570120" y="2765520"/>
              <a:ext cx="9720" cy="84132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579840" y="2765520"/>
              <a:ext cx="9360" cy="84132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589200" y="2765520"/>
              <a:ext cx="11160" cy="84132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600360" y="2765520"/>
              <a:ext cx="9360" cy="84132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609720" y="2765520"/>
              <a:ext cx="11160" cy="84132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620880" y="2765520"/>
              <a:ext cx="9720" cy="84132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630600" y="2765520"/>
              <a:ext cx="11160" cy="841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641760" y="2765520"/>
              <a:ext cx="9360" cy="84132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651120" y="2765520"/>
              <a:ext cx="9720" cy="84132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660840" y="2765520"/>
              <a:ext cx="10800" cy="84132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671640" y="2765520"/>
              <a:ext cx="9720" cy="84132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681360" y="2765520"/>
              <a:ext cx="11160" cy="84132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692520" y="2765520"/>
              <a:ext cx="9360" cy="84132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701880" y="2765520"/>
              <a:ext cx="11160" cy="84132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713040" y="2765520"/>
              <a:ext cx="9720" cy="84132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722760" y="2765520"/>
              <a:ext cx="10800" cy="84132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733560" y="2765520"/>
              <a:ext cx="9720" cy="841320"/>
            </a:xfrm>
            <a:prstGeom prst="rect">
              <a:avLst/>
            </a:prstGeom>
            <a:solidFill>
              <a:srgbClr val="89b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743280" y="2765520"/>
              <a:ext cx="9360" cy="84132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752640" y="2765520"/>
              <a:ext cx="11160" cy="84132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763800" y="2765520"/>
              <a:ext cx="9720" cy="84132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773520" y="2765520"/>
              <a:ext cx="11160" cy="84132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784680" y="2765520"/>
              <a:ext cx="9360" cy="84132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794040" y="2765520"/>
              <a:ext cx="11160" cy="84132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805200" y="2765520"/>
              <a:ext cx="9360" cy="84132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814560" y="2765520"/>
              <a:ext cx="9720" cy="84132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824280" y="2765520"/>
              <a:ext cx="11160" cy="84132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835440" y="2765520"/>
              <a:ext cx="9360" cy="84132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844800" y="2765520"/>
              <a:ext cx="11160" cy="84132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855960" y="2765520"/>
              <a:ext cx="9360" cy="841320"/>
            </a:xfrm>
            <a:prstGeom prst="rect">
              <a:avLst/>
            </a:prstGeom>
            <a:solidFill>
              <a:srgbClr val="57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865320" y="2765520"/>
              <a:ext cx="11160" cy="84132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876480" y="2765520"/>
              <a:ext cx="9720" cy="84132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886200" y="2765520"/>
              <a:ext cx="9360" cy="84132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895560" y="2765520"/>
              <a:ext cx="11160" cy="84132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906720" y="2765520"/>
              <a:ext cx="9720" cy="84132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916440" y="2765520"/>
              <a:ext cx="10800" cy="84132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344760" y="2765520"/>
              <a:ext cx="582480" cy="84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162320" y="2962440"/>
              <a:ext cx="9720" cy="81108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172040" y="2962440"/>
              <a:ext cx="10800" cy="81108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182840" y="2962440"/>
              <a:ext cx="9720" cy="81108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192560" y="2962440"/>
              <a:ext cx="11160" cy="81108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203720" y="2962440"/>
              <a:ext cx="9360" cy="81108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213080" y="2962440"/>
              <a:ext cx="9720" cy="81108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222800" y="2962440"/>
              <a:ext cx="11160" cy="811080"/>
            </a:xfrm>
            <a:prstGeom prst="rect">
              <a:avLst/>
            </a:prstGeom>
            <a:solidFill>
              <a:srgbClr val="57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233960" y="2962440"/>
              <a:ext cx="9360" cy="81108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243320" y="2962440"/>
              <a:ext cx="11160" cy="81108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254480" y="2962440"/>
              <a:ext cx="9360" cy="81108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263840" y="2962440"/>
              <a:ext cx="11160" cy="81108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275000" y="2962440"/>
              <a:ext cx="9720" cy="81108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284720" y="2962440"/>
              <a:ext cx="9360" cy="81108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294080" y="2962440"/>
              <a:ext cx="11160" cy="81108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305240" y="2962440"/>
              <a:ext cx="9360" cy="81108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314600" y="2962440"/>
              <a:ext cx="11160" cy="81108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325760" y="2962440"/>
              <a:ext cx="9720" cy="81108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335480" y="2962440"/>
              <a:ext cx="11160" cy="81108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346640" y="2962440"/>
              <a:ext cx="9360" cy="811080"/>
            </a:xfrm>
            <a:prstGeom prst="rect">
              <a:avLst/>
            </a:prstGeom>
            <a:solidFill>
              <a:srgbClr val="89b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356000" y="2962440"/>
              <a:ext cx="9720" cy="81108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365720" y="2962440"/>
              <a:ext cx="10800" cy="81108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376520" y="2962440"/>
              <a:ext cx="9720" cy="81108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386240" y="2962440"/>
              <a:ext cx="11160" cy="81108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397400" y="2962440"/>
              <a:ext cx="9360" cy="81108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406760" y="2962440"/>
              <a:ext cx="11160" cy="81108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417920" y="2962440"/>
              <a:ext cx="9360" cy="81108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427280" y="2962440"/>
              <a:ext cx="11160" cy="81108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438440" y="2962440"/>
              <a:ext cx="9720" cy="81108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448160" y="2962440"/>
              <a:ext cx="9360" cy="811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457520" y="2962440"/>
              <a:ext cx="11160" cy="81108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468680" y="2962440"/>
              <a:ext cx="9720" cy="81108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478400" y="2962440"/>
              <a:ext cx="10800" cy="81108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489200" y="2962440"/>
              <a:ext cx="9720" cy="81108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498920" y="2962440"/>
              <a:ext cx="11160" cy="81108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510080" y="2962440"/>
              <a:ext cx="9360" cy="81108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519440" y="2962440"/>
              <a:ext cx="9720" cy="81108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529160" y="2962440"/>
              <a:ext cx="11160" cy="81108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540320" y="2962440"/>
              <a:ext cx="9360" cy="81108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549680" y="2962440"/>
              <a:ext cx="11160" cy="811080"/>
            </a:xfrm>
            <a:prstGeom prst="rect">
              <a:avLst/>
            </a:prstGeom>
            <a:solidFill>
              <a:srgbClr val="89b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560840" y="2962440"/>
              <a:ext cx="9360" cy="81108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570200" y="2962440"/>
              <a:ext cx="11160" cy="81108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581360" y="2962440"/>
              <a:ext cx="9720" cy="81108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591080" y="2962440"/>
              <a:ext cx="9360" cy="81108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600440" y="2962440"/>
              <a:ext cx="11160" cy="81108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611600" y="2962440"/>
              <a:ext cx="9360" cy="81108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620960" y="2962440"/>
              <a:ext cx="11160" cy="81108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2" name=""/>
          <p:cNvGrpSpPr/>
          <p:nvPr/>
        </p:nvGrpSpPr>
        <p:grpSpPr>
          <a:xfrm>
            <a:off x="4162320" y="2774880"/>
            <a:ext cx="3422520" cy="1497240"/>
            <a:chOff x="4162320" y="2774880"/>
            <a:chExt cx="3422520" cy="1497240"/>
          </a:xfrm>
        </p:grpSpPr>
        <p:sp>
          <p:nvSpPr>
            <p:cNvPr id="2543" name=""/>
            <p:cNvSpPr/>
            <p:nvPr/>
          </p:nvSpPr>
          <p:spPr>
            <a:xfrm>
              <a:off x="4632120" y="2962440"/>
              <a:ext cx="9720" cy="81108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641840" y="2962440"/>
              <a:ext cx="11160" cy="81108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653000" y="2962440"/>
              <a:ext cx="9360" cy="81108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662360" y="2962440"/>
              <a:ext cx="11160" cy="81108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73520" y="2962440"/>
              <a:ext cx="9360" cy="811080"/>
            </a:xfrm>
            <a:prstGeom prst="rect">
              <a:avLst/>
            </a:prstGeom>
            <a:solidFill>
              <a:srgbClr val="57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682880" y="2962440"/>
              <a:ext cx="9720" cy="81108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692600" y="2962440"/>
              <a:ext cx="11160" cy="81108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703760" y="2962440"/>
              <a:ext cx="9360" cy="81108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713120" y="2962440"/>
              <a:ext cx="11160" cy="81108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724280" y="2962440"/>
              <a:ext cx="9720" cy="81108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734000" y="2962440"/>
              <a:ext cx="10800" cy="81108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162320" y="2962440"/>
              <a:ext cx="582480" cy="81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979880" y="2774880"/>
              <a:ext cx="9720" cy="81144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989600" y="2774880"/>
              <a:ext cx="9360" cy="81144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998960" y="2774880"/>
              <a:ext cx="11160" cy="81144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010120" y="2774880"/>
              <a:ext cx="9360" cy="81144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019480" y="2774880"/>
              <a:ext cx="11160" cy="81144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030640" y="2774880"/>
              <a:ext cx="9720" cy="81144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040360" y="2774880"/>
              <a:ext cx="11160" cy="811440"/>
            </a:xfrm>
            <a:prstGeom prst="rect">
              <a:avLst/>
            </a:prstGeom>
            <a:solidFill>
              <a:srgbClr val="57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051520" y="2774880"/>
              <a:ext cx="9360" cy="81144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060880" y="2774880"/>
              <a:ext cx="11160" cy="81144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072040" y="2774880"/>
              <a:ext cx="9360" cy="81144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081400" y="2774880"/>
              <a:ext cx="9720" cy="81144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091120" y="2774880"/>
              <a:ext cx="11160" cy="81144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102280" y="2774880"/>
              <a:ext cx="9360" cy="81144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111640" y="2774880"/>
              <a:ext cx="11160" cy="81144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122800" y="2774880"/>
              <a:ext cx="9360" cy="81144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132160" y="2774880"/>
              <a:ext cx="11160" cy="81144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143320" y="2774880"/>
              <a:ext cx="9720" cy="81144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153040" y="2774880"/>
              <a:ext cx="9360" cy="81144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162400" y="2774880"/>
              <a:ext cx="11160" cy="811440"/>
            </a:xfrm>
            <a:prstGeom prst="rect">
              <a:avLst/>
            </a:prstGeom>
            <a:solidFill>
              <a:srgbClr val="89b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173560" y="2774880"/>
              <a:ext cx="9720" cy="81144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183280" y="2774880"/>
              <a:ext cx="10800" cy="81144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194080" y="2774880"/>
              <a:ext cx="9720" cy="81144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203800" y="2774880"/>
              <a:ext cx="11160" cy="81144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214960" y="2774880"/>
              <a:ext cx="9360" cy="81144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224320" y="2774880"/>
              <a:ext cx="9720" cy="81144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234040" y="2774880"/>
              <a:ext cx="11160" cy="81144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245200" y="2774880"/>
              <a:ext cx="9360" cy="81144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254560" y="2774880"/>
              <a:ext cx="11160" cy="81144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265720" y="2774880"/>
              <a:ext cx="9360" cy="8114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275080" y="2774880"/>
              <a:ext cx="11160" cy="81144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286240" y="2774880"/>
              <a:ext cx="9720" cy="81144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295960" y="2774880"/>
              <a:ext cx="10800" cy="81144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306760" y="2774880"/>
              <a:ext cx="9720" cy="81144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316480" y="2774880"/>
              <a:ext cx="9360" cy="81144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325840" y="2774880"/>
              <a:ext cx="11160" cy="81144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337000" y="2774880"/>
              <a:ext cx="9720" cy="81144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346720" y="2774880"/>
              <a:ext cx="11160" cy="81144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357880" y="2774880"/>
              <a:ext cx="9360" cy="81144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367240" y="2774880"/>
              <a:ext cx="11160" cy="811440"/>
            </a:xfrm>
            <a:prstGeom prst="rect">
              <a:avLst/>
            </a:prstGeom>
            <a:solidFill>
              <a:srgbClr val="89b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378400" y="2774880"/>
              <a:ext cx="9360" cy="81144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387760" y="2774880"/>
              <a:ext cx="9720" cy="81144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397480" y="2774880"/>
              <a:ext cx="11160" cy="81144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08640" y="2774880"/>
              <a:ext cx="9360" cy="81144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18000" y="2774880"/>
              <a:ext cx="11160" cy="81144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29160" y="2774880"/>
              <a:ext cx="9360" cy="81144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38520" y="2774880"/>
              <a:ext cx="11160" cy="81144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49680" y="2774880"/>
              <a:ext cx="9720" cy="81144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459400" y="2774880"/>
              <a:ext cx="9360" cy="81144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468760" y="2774880"/>
              <a:ext cx="11160" cy="81144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479920" y="2774880"/>
              <a:ext cx="9720" cy="81144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489640" y="2774880"/>
              <a:ext cx="10800" cy="811440"/>
            </a:xfrm>
            <a:prstGeom prst="rect">
              <a:avLst/>
            </a:prstGeom>
            <a:solidFill>
              <a:srgbClr val="57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500440" y="2774880"/>
              <a:ext cx="9720" cy="81144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510160" y="2774880"/>
              <a:ext cx="11160" cy="81144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521320" y="2774880"/>
              <a:ext cx="9360" cy="81144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530680" y="2774880"/>
              <a:ext cx="11160" cy="81144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541840" y="2774880"/>
              <a:ext cx="9720" cy="81144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551560" y="2774880"/>
              <a:ext cx="9360" cy="81144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979880" y="2774880"/>
              <a:ext cx="581040" cy="81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796000" y="2921040"/>
              <a:ext cx="11160" cy="88272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807160" y="2921040"/>
              <a:ext cx="9360" cy="882720"/>
            </a:xfrm>
            <a:prstGeom prst="rect">
              <a:avLst/>
            </a:prstGeom>
            <a:solidFill>
              <a:srgbClr val="49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816520" y="2921040"/>
              <a:ext cx="11160" cy="88272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827680" y="2921040"/>
              <a:ext cx="9360" cy="88272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837040" y="2921040"/>
              <a:ext cx="11160" cy="88272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848200" y="2921040"/>
              <a:ext cx="9720" cy="882720"/>
            </a:xfrm>
            <a:prstGeom prst="rect">
              <a:avLst/>
            </a:prstGeom>
            <a:solidFill>
              <a:srgbClr val="536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857920" y="2921040"/>
              <a:ext cx="9360" cy="882720"/>
            </a:xfrm>
            <a:prstGeom prst="rect">
              <a:avLst/>
            </a:prstGeom>
            <a:solidFill>
              <a:srgbClr val="57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867280" y="2921040"/>
              <a:ext cx="11160" cy="882720"/>
            </a:xfrm>
            <a:prstGeom prst="rect">
              <a:avLst/>
            </a:prstGeom>
            <a:solidFill>
              <a:srgbClr val="5a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878440" y="2921040"/>
              <a:ext cx="9360" cy="882720"/>
            </a:xfrm>
            <a:prstGeom prst="rect">
              <a:avLst/>
            </a:prstGeom>
            <a:solidFill>
              <a:srgbClr val="5e7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887800" y="2921040"/>
              <a:ext cx="11160" cy="882720"/>
            </a:xfrm>
            <a:prstGeom prst="rect">
              <a:avLst/>
            </a:prstGeom>
            <a:solidFill>
              <a:srgbClr val="62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898960" y="2921040"/>
              <a:ext cx="9720" cy="882720"/>
            </a:xfrm>
            <a:prstGeom prst="rect">
              <a:avLst/>
            </a:prstGeom>
            <a:solidFill>
              <a:srgbClr val="668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908680" y="2921040"/>
              <a:ext cx="11160" cy="882720"/>
            </a:xfrm>
            <a:prstGeom prst="rect">
              <a:avLst/>
            </a:prstGeom>
            <a:solidFill>
              <a:srgbClr val="6b8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919840" y="2921040"/>
              <a:ext cx="9360" cy="882720"/>
            </a:xfrm>
            <a:prstGeom prst="rect">
              <a:avLst/>
            </a:prstGeom>
            <a:solidFill>
              <a:srgbClr val="70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929200" y="2921040"/>
              <a:ext cx="9720" cy="882720"/>
            </a:xfrm>
            <a:prstGeom prst="rect">
              <a:avLst/>
            </a:prstGeom>
            <a:solidFill>
              <a:srgbClr val="749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938920" y="2921040"/>
              <a:ext cx="10800" cy="882720"/>
            </a:xfrm>
            <a:prstGeom prst="rect">
              <a:avLst/>
            </a:prstGeom>
            <a:solidFill>
              <a:srgbClr val="79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949720" y="2921040"/>
              <a:ext cx="9720" cy="882720"/>
            </a:xfrm>
            <a:prstGeom prst="rect">
              <a:avLst/>
            </a:prstGeom>
            <a:solidFill>
              <a:srgbClr val="7d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959440" y="2921040"/>
              <a:ext cx="11160" cy="882720"/>
            </a:xfrm>
            <a:prstGeom prst="rect">
              <a:avLst/>
            </a:prstGeom>
            <a:solidFill>
              <a:srgbClr val="81a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970600" y="2921040"/>
              <a:ext cx="9360" cy="882720"/>
            </a:xfrm>
            <a:prstGeom prst="rect">
              <a:avLst/>
            </a:prstGeom>
            <a:solidFill>
              <a:srgbClr val="85b1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979960" y="2921040"/>
              <a:ext cx="11160" cy="882720"/>
            </a:xfrm>
            <a:prstGeom prst="rect">
              <a:avLst/>
            </a:prstGeom>
            <a:solidFill>
              <a:srgbClr val="88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991120" y="2921040"/>
              <a:ext cx="9720" cy="882720"/>
            </a:xfrm>
            <a:prstGeom prst="rect">
              <a:avLst/>
            </a:prstGeom>
            <a:solidFill>
              <a:srgbClr val="8b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000840" y="2921040"/>
              <a:ext cx="10800" cy="882720"/>
            </a:xfrm>
            <a:prstGeom prst="rect">
              <a:avLst/>
            </a:prstGeom>
            <a:solidFill>
              <a:srgbClr val="8ebc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011640" y="2921040"/>
              <a:ext cx="9720" cy="882720"/>
            </a:xfrm>
            <a:prstGeom prst="rect">
              <a:avLst/>
            </a:prstGeom>
            <a:solidFill>
              <a:srgbClr val="90c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021360" y="2921040"/>
              <a:ext cx="9360" cy="882720"/>
            </a:xfrm>
            <a:prstGeom prst="rect">
              <a:avLst/>
            </a:prstGeom>
            <a:solidFill>
              <a:srgbClr val="92c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030720" y="2921040"/>
              <a:ext cx="11160" cy="882720"/>
            </a:xfrm>
            <a:prstGeom prst="rect">
              <a:avLst/>
            </a:prstGeom>
            <a:solidFill>
              <a:srgbClr val="93c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041880" y="2921040"/>
              <a:ext cx="9720" cy="882720"/>
            </a:xfrm>
            <a:prstGeom prst="rect">
              <a:avLst/>
            </a:prstGeom>
            <a:solidFill>
              <a:srgbClr val="95c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051600" y="2921040"/>
              <a:ext cx="11160" cy="882720"/>
            </a:xfrm>
            <a:prstGeom prst="rect">
              <a:avLst/>
            </a:prstGeom>
            <a:solidFill>
              <a:srgbClr val="96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062760" y="2921040"/>
              <a:ext cx="9360" cy="882720"/>
            </a:xfrm>
            <a:prstGeom prst="rect">
              <a:avLst/>
            </a:prstGeom>
            <a:solidFill>
              <a:srgbClr val="97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072120" y="2921040"/>
              <a:ext cx="11160" cy="882720"/>
            </a:xfrm>
            <a:prstGeom prst="rect">
              <a:avLst/>
            </a:prstGeom>
            <a:solidFill>
              <a:srgbClr val="98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083280" y="2921040"/>
              <a:ext cx="19080" cy="882720"/>
            </a:xfrm>
            <a:prstGeom prst="rect">
              <a:avLst/>
            </a:prstGeom>
            <a:solidFill>
              <a:srgbClr val="99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102360" y="2921040"/>
              <a:ext cx="11160" cy="882720"/>
            </a:xfrm>
            <a:prstGeom prst="rect">
              <a:avLst/>
            </a:prstGeom>
            <a:solidFill>
              <a:srgbClr val="98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113520" y="2921040"/>
              <a:ext cx="9360" cy="882720"/>
            </a:xfrm>
            <a:prstGeom prst="rect">
              <a:avLst/>
            </a:prstGeom>
            <a:solidFill>
              <a:srgbClr val="97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122880" y="2921040"/>
              <a:ext cx="11160" cy="882720"/>
            </a:xfrm>
            <a:prstGeom prst="rect">
              <a:avLst/>
            </a:prstGeom>
            <a:solidFill>
              <a:srgbClr val="96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134040" y="2921040"/>
              <a:ext cx="9360" cy="882720"/>
            </a:xfrm>
            <a:prstGeom prst="rect">
              <a:avLst/>
            </a:prstGeom>
            <a:solidFill>
              <a:srgbClr val="95c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143400" y="2921040"/>
              <a:ext cx="11160" cy="882720"/>
            </a:xfrm>
            <a:prstGeom prst="rect">
              <a:avLst/>
            </a:prstGeom>
            <a:solidFill>
              <a:srgbClr val="93c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154560" y="2921040"/>
              <a:ext cx="9720" cy="882720"/>
            </a:xfrm>
            <a:prstGeom prst="rect">
              <a:avLst/>
            </a:prstGeom>
            <a:solidFill>
              <a:srgbClr val="92c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164280" y="2921040"/>
              <a:ext cx="11160" cy="882720"/>
            </a:xfrm>
            <a:prstGeom prst="rect">
              <a:avLst/>
            </a:prstGeom>
            <a:solidFill>
              <a:srgbClr val="90c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175440" y="2921040"/>
              <a:ext cx="9360" cy="882720"/>
            </a:xfrm>
            <a:prstGeom prst="rect">
              <a:avLst/>
            </a:prstGeom>
            <a:solidFill>
              <a:srgbClr val="8e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184800" y="2921040"/>
              <a:ext cx="9720" cy="882720"/>
            </a:xfrm>
            <a:prstGeom prst="rect">
              <a:avLst/>
            </a:prstGeom>
            <a:solidFill>
              <a:srgbClr val="8b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194520" y="2921040"/>
              <a:ext cx="10800" cy="882720"/>
            </a:xfrm>
            <a:prstGeom prst="rect">
              <a:avLst/>
            </a:prstGeom>
            <a:solidFill>
              <a:srgbClr val="88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205320" y="2921040"/>
              <a:ext cx="9720" cy="882720"/>
            </a:xfrm>
            <a:prstGeom prst="rect">
              <a:avLst/>
            </a:prstGeom>
            <a:solidFill>
              <a:srgbClr val="85b1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215040" y="2921040"/>
              <a:ext cx="11160" cy="882720"/>
            </a:xfrm>
            <a:prstGeom prst="rect">
              <a:avLst/>
            </a:prstGeom>
            <a:solidFill>
              <a:srgbClr val="81a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226200" y="2921040"/>
              <a:ext cx="9360" cy="882720"/>
            </a:xfrm>
            <a:prstGeom prst="rect">
              <a:avLst/>
            </a:prstGeom>
            <a:solidFill>
              <a:srgbClr val="7d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235560" y="2921040"/>
              <a:ext cx="11160" cy="882720"/>
            </a:xfrm>
            <a:prstGeom prst="rect">
              <a:avLst/>
            </a:prstGeom>
            <a:solidFill>
              <a:srgbClr val="79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246720" y="2921040"/>
              <a:ext cx="9360" cy="882720"/>
            </a:xfrm>
            <a:prstGeom prst="rect">
              <a:avLst/>
            </a:prstGeom>
            <a:solidFill>
              <a:srgbClr val="749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256080" y="2921040"/>
              <a:ext cx="9720" cy="882720"/>
            </a:xfrm>
            <a:prstGeom prst="rect">
              <a:avLst/>
            </a:prstGeom>
            <a:solidFill>
              <a:srgbClr val="709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265800" y="2921040"/>
              <a:ext cx="11160" cy="882720"/>
            </a:xfrm>
            <a:prstGeom prst="rect">
              <a:avLst/>
            </a:prstGeom>
            <a:solidFill>
              <a:srgbClr val="6b8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276960" y="2921040"/>
              <a:ext cx="9360" cy="882720"/>
            </a:xfrm>
            <a:prstGeom prst="rect">
              <a:avLst/>
            </a:prstGeom>
            <a:solidFill>
              <a:srgbClr val="668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286320" y="2921040"/>
              <a:ext cx="11160" cy="882720"/>
            </a:xfrm>
            <a:prstGeom prst="rect">
              <a:avLst/>
            </a:prstGeom>
            <a:solidFill>
              <a:srgbClr val="628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297480" y="2921040"/>
              <a:ext cx="9720" cy="882720"/>
            </a:xfrm>
            <a:prstGeom prst="rect">
              <a:avLst/>
            </a:prstGeom>
            <a:solidFill>
              <a:srgbClr val="5e7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307200" y="2921040"/>
              <a:ext cx="10800" cy="882720"/>
            </a:xfrm>
            <a:prstGeom prst="rect">
              <a:avLst/>
            </a:prstGeom>
            <a:solidFill>
              <a:srgbClr val="5a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318000" y="2921040"/>
              <a:ext cx="9720" cy="882720"/>
            </a:xfrm>
            <a:prstGeom prst="rect">
              <a:avLst/>
            </a:prstGeom>
            <a:solidFill>
              <a:srgbClr val="57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327720" y="2921040"/>
              <a:ext cx="9360" cy="882720"/>
            </a:xfrm>
            <a:prstGeom prst="rect">
              <a:avLst/>
            </a:prstGeom>
            <a:solidFill>
              <a:srgbClr val="536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337080" y="2921040"/>
              <a:ext cx="11160" cy="88272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348240" y="2921040"/>
              <a:ext cx="9720" cy="88272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357960" y="2921040"/>
              <a:ext cx="11160" cy="88272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369120" y="2921040"/>
              <a:ext cx="9360" cy="882720"/>
            </a:xfrm>
            <a:prstGeom prst="rect">
              <a:avLst/>
            </a:prstGeom>
            <a:solidFill>
              <a:srgbClr val="49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378480" y="2921040"/>
              <a:ext cx="11160" cy="88272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796000" y="2921040"/>
              <a:ext cx="593640" cy="88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624720" y="3117960"/>
              <a:ext cx="9360" cy="115416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634080" y="3117960"/>
              <a:ext cx="11160" cy="115416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645240" y="3117960"/>
              <a:ext cx="9360" cy="115416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654600" y="3117960"/>
              <a:ext cx="9720" cy="115416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664320" y="3117960"/>
              <a:ext cx="11160" cy="115416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675480" y="3117960"/>
              <a:ext cx="9360" cy="115416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684840" y="3117960"/>
              <a:ext cx="11160" cy="1154160"/>
            </a:xfrm>
            <a:prstGeom prst="rect">
              <a:avLst/>
            </a:prstGeom>
            <a:solidFill>
              <a:srgbClr val="57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696000" y="3117960"/>
              <a:ext cx="9360" cy="115416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705360" y="3117960"/>
              <a:ext cx="11160" cy="115416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716520" y="3117960"/>
              <a:ext cx="9720" cy="115416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726240" y="3117960"/>
              <a:ext cx="9360" cy="115416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735600" y="3117960"/>
              <a:ext cx="11160" cy="115416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746760" y="3117960"/>
              <a:ext cx="9720" cy="115416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756480" y="3117960"/>
              <a:ext cx="10800" cy="115416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767280" y="3117960"/>
              <a:ext cx="9720" cy="115416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777000" y="3117960"/>
              <a:ext cx="11160" cy="115416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788160" y="3117960"/>
              <a:ext cx="9360" cy="115416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797520" y="3117960"/>
              <a:ext cx="9720" cy="115416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807240" y="3117960"/>
              <a:ext cx="11160" cy="1154160"/>
            </a:xfrm>
            <a:prstGeom prst="rect">
              <a:avLst/>
            </a:prstGeom>
            <a:solidFill>
              <a:srgbClr val="89b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818400" y="3117960"/>
              <a:ext cx="9360" cy="115416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827760" y="3117960"/>
              <a:ext cx="11160" cy="115416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838920" y="3117960"/>
              <a:ext cx="9360" cy="115416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848280" y="3117960"/>
              <a:ext cx="11160" cy="115416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859440" y="3117960"/>
              <a:ext cx="9720" cy="115416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869160" y="3117960"/>
              <a:ext cx="11160" cy="115416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880320" y="3117960"/>
              <a:ext cx="9360" cy="115416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889680" y="3117960"/>
              <a:ext cx="9360" cy="115416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99040" y="3117960"/>
              <a:ext cx="11160" cy="115416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910200" y="3117960"/>
              <a:ext cx="9720" cy="1154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919920" y="3117960"/>
              <a:ext cx="11160" cy="1154160"/>
            </a:xfrm>
            <a:prstGeom prst="rect">
              <a:avLst/>
            </a:prstGeom>
            <a:solidFill>
              <a:srgbClr val="98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931080" y="3117960"/>
              <a:ext cx="9360" cy="1154160"/>
            </a:xfrm>
            <a:prstGeom prst="rect">
              <a:avLst/>
            </a:prstGeom>
            <a:solidFill>
              <a:srgbClr val="97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940440" y="3117960"/>
              <a:ext cx="11160" cy="1154160"/>
            </a:xfrm>
            <a:prstGeom prst="rect">
              <a:avLst/>
            </a:prstGeom>
            <a:solidFill>
              <a:srgbClr val="96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951600" y="3117960"/>
              <a:ext cx="9360" cy="1154160"/>
            </a:xfrm>
            <a:prstGeom prst="rect">
              <a:avLst/>
            </a:prstGeom>
            <a:solidFill>
              <a:srgbClr val="95c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960960" y="3117960"/>
              <a:ext cx="9720" cy="1154160"/>
            </a:xfrm>
            <a:prstGeom prst="rect">
              <a:avLst/>
            </a:prstGeom>
            <a:solidFill>
              <a:srgbClr val="94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970680" y="3117960"/>
              <a:ext cx="11160" cy="1154160"/>
            </a:xfrm>
            <a:prstGeom prst="rect">
              <a:avLst/>
            </a:prstGeom>
            <a:solidFill>
              <a:srgbClr val="9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981840" y="3117960"/>
              <a:ext cx="9360" cy="115416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991200" y="3117960"/>
              <a:ext cx="11160" cy="1154160"/>
            </a:xfrm>
            <a:prstGeom prst="rect">
              <a:avLst/>
            </a:prstGeom>
            <a:solidFill>
              <a:srgbClr val="8fb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002360" y="3117960"/>
              <a:ext cx="9720" cy="1154160"/>
            </a:xfrm>
            <a:prstGeom prst="rect">
              <a:avLst/>
            </a:prstGeom>
            <a:solidFill>
              <a:srgbClr val="8c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012080" y="3117960"/>
              <a:ext cx="10800" cy="1154160"/>
            </a:xfrm>
            <a:prstGeom prst="rect">
              <a:avLst/>
            </a:prstGeom>
            <a:solidFill>
              <a:srgbClr val="89b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022880" y="3117960"/>
              <a:ext cx="9720" cy="1154160"/>
            </a:xfrm>
            <a:prstGeom prst="rect">
              <a:avLst/>
            </a:prstGeom>
            <a:solidFill>
              <a:srgbClr val="86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032600" y="3117960"/>
              <a:ext cx="9360" cy="1154160"/>
            </a:xfrm>
            <a:prstGeom prst="rect">
              <a:avLst/>
            </a:prstGeom>
            <a:solidFill>
              <a:srgbClr val="82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041960" y="3117960"/>
              <a:ext cx="11160" cy="1154160"/>
            </a:xfrm>
            <a:prstGeom prst="rect">
              <a:avLst/>
            </a:prstGeom>
            <a:solidFill>
              <a:srgbClr val="7ea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053120" y="3117960"/>
              <a:ext cx="9720" cy="1154160"/>
            </a:xfrm>
            <a:prstGeom prst="rect">
              <a:avLst/>
            </a:prstGeom>
            <a:solidFill>
              <a:srgbClr val="7a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062840" y="3117960"/>
              <a:ext cx="11160" cy="115416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074000" y="3117960"/>
              <a:ext cx="9360" cy="115416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083360" y="3117960"/>
              <a:ext cx="11160" cy="115416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094520" y="3117960"/>
              <a:ext cx="9360" cy="115416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103880" y="3117960"/>
              <a:ext cx="11160" cy="115416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115040" y="3117960"/>
              <a:ext cx="9720" cy="115416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124760" y="3117960"/>
              <a:ext cx="9360" cy="115416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134120" y="3117960"/>
              <a:ext cx="11160" cy="1154160"/>
            </a:xfrm>
            <a:prstGeom prst="rect">
              <a:avLst/>
            </a:prstGeom>
            <a:solidFill>
              <a:srgbClr val="57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145280" y="3117960"/>
              <a:ext cx="9360" cy="115416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154640" y="3117960"/>
              <a:ext cx="11160" cy="115416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165800" y="3117960"/>
              <a:ext cx="9720" cy="115416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175520" y="3117960"/>
              <a:ext cx="11160" cy="115416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186680" y="3117960"/>
              <a:ext cx="9360" cy="115416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196040" y="3117960"/>
              <a:ext cx="9720" cy="115416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624720" y="3117960"/>
              <a:ext cx="581040" cy="11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440480" y="2879640"/>
              <a:ext cx="11160" cy="87336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451640" y="2879640"/>
              <a:ext cx="9360" cy="873360"/>
            </a:xfrm>
            <a:prstGeom prst="rect">
              <a:avLst/>
            </a:prstGeom>
            <a:solidFill>
              <a:srgbClr val="4a6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461000" y="2879640"/>
              <a:ext cx="11160" cy="87336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472160" y="2879640"/>
              <a:ext cx="9720" cy="873360"/>
            </a:xfrm>
            <a:prstGeom prst="rect">
              <a:avLst/>
            </a:prstGeom>
            <a:solidFill>
              <a:srgbClr val="4d6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481880" y="2879640"/>
              <a:ext cx="11160" cy="873360"/>
            </a:xfrm>
            <a:prstGeom prst="rect">
              <a:avLst/>
            </a:prstGeom>
            <a:solidFill>
              <a:srgbClr val="506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493040" y="2879640"/>
              <a:ext cx="9360" cy="873360"/>
            </a:xfrm>
            <a:prstGeom prst="rect">
              <a:avLst/>
            </a:prstGeom>
            <a:solidFill>
              <a:srgbClr val="54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502400" y="2879640"/>
              <a:ext cx="9720" cy="873360"/>
            </a:xfrm>
            <a:prstGeom prst="rect">
              <a:avLst/>
            </a:prstGeom>
            <a:solidFill>
              <a:srgbClr val="57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512120" y="2879640"/>
              <a:ext cx="10800" cy="873360"/>
            </a:xfrm>
            <a:prstGeom prst="rect">
              <a:avLst/>
            </a:prstGeom>
            <a:solidFill>
              <a:srgbClr val="5b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22920" y="2879640"/>
              <a:ext cx="9720" cy="873360"/>
            </a:xfrm>
            <a:prstGeom prst="rect">
              <a:avLst/>
            </a:prstGeom>
            <a:solidFill>
              <a:srgbClr val="5f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532640" y="2879640"/>
              <a:ext cx="11160" cy="873360"/>
            </a:xfrm>
            <a:prstGeom prst="rect">
              <a:avLst/>
            </a:prstGeom>
            <a:solidFill>
              <a:srgbClr val="638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543800" y="2879640"/>
              <a:ext cx="9360" cy="873360"/>
            </a:xfrm>
            <a:prstGeom prst="rect">
              <a:avLst/>
            </a:prstGeom>
            <a:solidFill>
              <a:srgbClr val="67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553160" y="2879640"/>
              <a:ext cx="11160" cy="873360"/>
            </a:xfrm>
            <a:prstGeom prst="rect">
              <a:avLst/>
            </a:prstGeom>
            <a:solidFill>
              <a:srgbClr val="6c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564320" y="2879640"/>
              <a:ext cx="9720" cy="873360"/>
            </a:xfrm>
            <a:prstGeom prst="rect">
              <a:avLst/>
            </a:prstGeom>
            <a:solidFill>
              <a:srgbClr val="71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574040" y="2879640"/>
              <a:ext cx="10800" cy="873360"/>
            </a:xfrm>
            <a:prstGeom prst="rect">
              <a:avLst/>
            </a:prstGeom>
            <a:solidFill>
              <a:srgbClr val="7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3" name=""/>
          <p:cNvSpPr/>
          <p:nvPr/>
        </p:nvSpPr>
        <p:spPr>
          <a:xfrm>
            <a:off x="7585200" y="2879640"/>
            <a:ext cx="9360" cy="873360"/>
          </a:xfrm>
          <a:prstGeom prst="rect">
            <a:avLst/>
          </a:prstGeom>
          <a:solidFill>
            <a:srgbClr val="7a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594560" y="2879640"/>
            <a:ext cx="9720" cy="873360"/>
          </a:xfrm>
          <a:prstGeom prst="rect">
            <a:avLst/>
          </a:prstGeom>
          <a:solidFill>
            <a:srgbClr val="7e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604280" y="2879640"/>
            <a:ext cx="10800" cy="873360"/>
          </a:xfrm>
          <a:prstGeom prst="rect">
            <a:avLst/>
          </a:prstGeom>
          <a:solidFill>
            <a:srgbClr val="82ad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7615080" y="2879640"/>
            <a:ext cx="9720" cy="873360"/>
          </a:xfrm>
          <a:prstGeom prst="rect">
            <a:avLst/>
          </a:prstGeom>
          <a:solidFill>
            <a:srgbClr val="86b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624800" y="2879640"/>
            <a:ext cx="11160" cy="873360"/>
          </a:xfrm>
          <a:prstGeom prst="rect">
            <a:avLst/>
          </a:prstGeom>
          <a:solidFill>
            <a:srgbClr val="89b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7635960" y="2879640"/>
            <a:ext cx="9360" cy="873360"/>
          </a:xfrm>
          <a:prstGeom prst="rect">
            <a:avLst/>
          </a:prstGeom>
          <a:solidFill>
            <a:srgbClr val="8cb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7645320" y="2879640"/>
            <a:ext cx="11160" cy="873360"/>
          </a:xfrm>
          <a:prstGeom prst="rect">
            <a:avLst/>
          </a:prstGeom>
          <a:solidFill>
            <a:srgbClr val="8fb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7656480" y="2879640"/>
            <a:ext cx="9720" cy="873360"/>
          </a:xfrm>
          <a:prstGeom prst="rect">
            <a:avLst/>
          </a:prstGeom>
          <a:solidFill>
            <a:srgbClr val="91c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7666200" y="2879640"/>
            <a:ext cx="9360" cy="873360"/>
          </a:xfrm>
          <a:prstGeom prst="rect">
            <a:avLst/>
          </a:prstGeom>
          <a:solidFill>
            <a:srgbClr val="93c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675560" y="2879640"/>
            <a:ext cx="11160" cy="873360"/>
          </a:xfrm>
          <a:prstGeom prst="rect">
            <a:avLst/>
          </a:prstGeom>
          <a:solidFill>
            <a:srgbClr val="94c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7686720" y="2879640"/>
            <a:ext cx="9360" cy="873360"/>
          </a:xfrm>
          <a:prstGeom prst="rect">
            <a:avLst/>
          </a:prstGeom>
          <a:solidFill>
            <a:srgbClr val="95c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7696080" y="2879640"/>
            <a:ext cx="11160" cy="873360"/>
          </a:xfrm>
          <a:prstGeom prst="rect">
            <a:avLst/>
          </a:prstGeom>
          <a:solidFill>
            <a:srgbClr val="96c9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707240" y="2879640"/>
            <a:ext cx="9720" cy="873360"/>
          </a:xfrm>
          <a:prstGeom prst="rect">
            <a:avLst/>
          </a:prstGeom>
          <a:solidFill>
            <a:srgbClr val="97ca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716960" y="2879640"/>
            <a:ext cx="11160" cy="873360"/>
          </a:xfrm>
          <a:prstGeom prst="rect">
            <a:avLst/>
          </a:prstGeom>
          <a:solidFill>
            <a:srgbClr val="98c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728120" y="2879640"/>
            <a:ext cx="9360" cy="87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737480" y="2879640"/>
            <a:ext cx="11160" cy="873360"/>
          </a:xfrm>
          <a:prstGeom prst="rect">
            <a:avLst/>
          </a:prstGeom>
          <a:solidFill>
            <a:srgbClr val="98c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7748640" y="2879640"/>
            <a:ext cx="9360" cy="873360"/>
          </a:xfrm>
          <a:prstGeom prst="rect">
            <a:avLst/>
          </a:prstGeom>
          <a:solidFill>
            <a:srgbClr val="97ca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7758000" y="2879640"/>
            <a:ext cx="9720" cy="873360"/>
          </a:xfrm>
          <a:prstGeom prst="rect">
            <a:avLst/>
          </a:prstGeom>
          <a:solidFill>
            <a:srgbClr val="96c9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767720" y="2879640"/>
            <a:ext cx="11160" cy="873360"/>
          </a:xfrm>
          <a:prstGeom prst="rect">
            <a:avLst/>
          </a:prstGeom>
          <a:solidFill>
            <a:srgbClr val="95c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778880" y="2879640"/>
            <a:ext cx="9360" cy="873360"/>
          </a:xfrm>
          <a:prstGeom prst="rect">
            <a:avLst/>
          </a:prstGeom>
          <a:solidFill>
            <a:srgbClr val="94c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7788240" y="2879640"/>
            <a:ext cx="11160" cy="873360"/>
          </a:xfrm>
          <a:prstGeom prst="rect">
            <a:avLst/>
          </a:prstGeom>
          <a:solidFill>
            <a:srgbClr val="93c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7799400" y="2879640"/>
            <a:ext cx="9360" cy="873360"/>
          </a:xfrm>
          <a:prstGeom prst="rect">
            <a:avLst/>
          </a:prstGeom>
          <a:solidFill>
            <a:srgbClr val="91c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7808760" y="2879640"/>
            <a:ext cx="11160" cy="873360"/>
          </a:xfrm>
          <a:prstGeom prst="rect">
            <a:avLst/>
          </a:prstGeom>
          <a:solidFill>
            <a:srgbClr val="8fb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7819920" y="2879640"/>
            <a:ext cx="9720" cy="873360"/>
          </a:xfrm>
          <a:prstGeom prst="rect">
            <a:avLst/>
          </a:prstGeom>
          <a:solidFill>
            <a:srgbClr val="8cb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7829640" y="2879640"/>
            <a:ext cx="9360" cy="873360"/>
          </a:xfrm>
          <a:prstGeom prst="rect">
            <a:avLst/>
          </a:prstGeom>
          <a:solidFill>
            <a:srgbClr val="89b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839000" y="2879640"/>
            <a:ext cx="11160" cy="873360"/>
          </a:xfrm>
          <a:prstGeom prst="rect">
            <a:avLst/>
          </a:prstGeom>
          <a:solidFill>
            <a:srgbClr val="86b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7850160" y="2879640"/>
            <a:ext cx="9720" cy="873360"/>
          </a:xfrm>
          <a:prstGeom prst="rect">
            <a:avLst/>
          </a:prstGeom>
          <a:solidFill>
            <a:srgbClr val="82ad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7859880" y="2879640"/>
            <a:ext cx="10800" cy="873360"/>
          </a:xfrm>
          <a:prstGeom prst="rect">
            <a:avLst/>
          </a:prstGeom>
          <a:solidFill>
            <a:srgbClr val="7ea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7870680" y="2879640"/>
            <a:ext cx="9720" cy="873360"/>
          </a:xfrm>
          <a:prstGeom prst="rect">
            <a:avLst/>
          </a:prstGeom>
          <a:solidFill>
            <a:srgbClr val="7a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7880400" y="2879640"/>
            <a:ext cx="11160" cy="873360"/>
          </a:xfrm>
          <a:prstGeom prst="rect">
            <a:avLst/>
          </a:prstGeom>
          <a:solidFill>
            <a:srgbClr val="759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891560" y="2879640"/>
            <a:ext cx="9360" cy="873360"/>
          </a:xfrm>
          <a:prstGeom prst="rect">
            <a:avLst/>
          </a:prstGeom>
          <a:solidFill>
            <a:srgbClr val="719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7900920" y="2879640"/>
            <a:ext cx="9720" cy="873360"/>
          </a:xfrm>
          <a:prstGeom prst="rect">
            <a:avLst/>
          </a:prstGeom>
          <a:solidFill>
            <a:srgbClr val="6c8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7910640" y="2879640"/>
            <a:ext cx="11160" cy="873360"/>
          </a:xfrm>
          <a:prstGeom prst="rect">
            <a:avLst/>
          </a:prstGeom>
          <a:solidFill>
            <a:srgbClr val="67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7921800" y="2879640"/>
            <a:ext cx="9360" cy="873360"/>
          </a:xfrm>
          <a:prstGeom prst="rect">
            <a:avLst/>
          </a:prstGeom>
          <a:solidFill>
            <a:srgbClr val="63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931160" y="2879640"/>
            <a:ext cx="11160" cy="873360"/>
          </a:xfrm>
          <a:prstGeom prst="rect">
            <a:avLst/>
          </a:prstGeom>
          <a:solidFill>
            <a:srgbClr val="5f7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942320" y="2879640"/>
            <a:ext cx="9360" cy="873360"/>
          </a:xfrm>
          <a:prstGeom prst="rect">
            <a:avLst/>
          </a:prstGeom>
          <a:solidFill>
            <a:srgbClr val="5b7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951680" y="2879640"/>
            <a:ext cx="11160" cy="873360"/>
          </a:xfrm>
          <a:prstGeom prst="rect">
            <a:avLst/>
          </a:prstGeom>
          <a:solidFill>
            <a:srgbClr val="577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962840" y="2879640"/>
            <a:ext cx="9720" cy="873360"/>
          </a:xfrm>
          <a:prstGeom prst="rect">
            <a:avLst/>
          </a:prstGeom>
          <a:solidFill>
            <a:srgbClr val="546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7972560" y="2879640"/>
            <a:ext cx="10800" cy="873360"/>
          </a:xfrm>
          <a:prstGeom prst="rect">
            <a:avLst/>
          </a:prstGeom>
          <a:solidFill>
            <a:srgbClr val="506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7983360" y="2879640"/>
            <a:ext cx="9720" cy="873360"/>
          </a:xfrm>
          <a:prstGeom prst="rect">
            <a:avLst/>
          </a:prstGeom>
          <a:solidFill>
            <a:srgbClr val="4d6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993080" y="2879640"/>
            <a:ext cx="9360" cy="873360"/>
          </a:xfrm>
          <a:prstGeom prst="rect">
            <a:avLst/>
          </a:prstGeom>
          <a:solidFill>
            <a:srgbClr val="4b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8002440" y="2879640"/>
            <a:ext cx="11160" cy="873360"/>
          </a:xfrm>
          <a:prstGeom prst="rect">
            <a:avLst/>
          </a:prstGeom>
          <a:solidFill>
            <a:srgbClr val="4a62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8013600" y="2879640"/>
            <a:ext cx="9720" cy="873360"/>
          </a:xfrm>
          <a:prstGeom prst="rect">
            <a:avLst/>
          </a:prstGeom>
          <a:solidFill>
            <a:srgbClr val="485f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440480" y="2879640"/>
            <a:ext cx="582840" cy="87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700280" y="2036880"/>
            <a:ext cx="9360" cy="779400"/>
          </a:xfrm>
          <a:prstGeom prst="rect">
            <a:avLst/>
          </a:prstGeom>
          <a:solidFill>
            <a:srgbClr val="5f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709640" y="2036880"/>
            <a:ext cx="11160" cy="779400"/>
          </a:xfrm>
          <a:prstGeom prst="rect">
            <a:avLst/>
          </a:prstGeom>
          <a:solidFill>
            <a:srgbClr val="62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720800" y="2036880"/>
            <a:ext cx="9720" cy="779400"/>
          </a:xfrm>
          <a:prstGeom prst="rect">
            <a:avLst/>
          </a:prstGeom>
          <a:solidFill>
            <a:srgbClr val="64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730520" y="2036880"/>
            <a:ext cx="10800" cy="779400"/>
          </a:xfrm>
          <a:prstGeom prst="rect">
            <a:avLst/>
          </a:prstGeom>
          <a:solidFill>
            <a:srgbClr val="67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741320" y="2036880"/>
            <a:ext cx="9720" cy="779400"/>
          </a:xfrm>
          <a:prstGeom prst="rect">
            <a:avLst/>
          </a:prstGeom>
          <a:solidFill>
            <a:srgbClr val="6b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751040" y="2036880"/>
            <a:ext cx="11160" cy="779400"/>
          </a:xfrm>
          <a:prstGeom prst="rect">
            <a:avLst/>
          </a:prstGeom>
          <a:solidFill>
            <a:srgbClr val="6f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762200" y="2036880"/>
            <a:ext cx="9360" cy="779400"/>
          </a:xfrm>
          <a:prstGeom prst="rect">
            <a:avLst/>
          </a:prstGeom>
          <a:solidFill>
            <a:srgbClr val="73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771560" y="2036880"/>
            <a:ext cx="9720" cy="779400"/>
          </a:xfrm>
          <a:prstGeom prst="rect">
            <a:avLst/>
          </a:prstGeom>
          <a:solidFill>
            <a:srgbClr val="77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781280" y="2036880"/>
            <a:ext cx="11160" cy="779400"/>
          </a:xfrm>
          <a:prstGeom prst="rect">
            <a:avLst/>
          </a:prstGeom>
          <a:solidFill>
            <a:srgbClr val="7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792440" y="2036880"/>
            <a:ext cx="9360" cy="779400"/>
          </a:xfrm>
          <a:prstGeom prst="rect">
            <a:avLst/>
          </a:prstGeom>
          <a:solidFill>
            <a:srgbClr val="82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01800" y="2036880"/>
            <a:ext cx="11160" cy="779400"/>
          </a:xfrm>
          <a:prstGeom prst="rect">
            <a:avLst/>
          </a:prstGeom>
          <a:solidFill>
            <a:srgbClr val="88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812960" y="2036880"/>
            <a:ext cx="9360" cy="779400"/>
          </a:xfrm>
          <a:prstGeom prst="rect">
            <a:avLst/>
          </a:prstGeom>
          <a:solidFill>
            <a:srgbClr val="8e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1822320" y="2036880"/>
            <a:ext cx="11160" cy="779400"/>
          </a:xfrm>
          <a:prstGeom prst="rect">
            <a:avLst/>
          </a:prstGeom>
          <a:solidFill>
            <a:srgbClr val="94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1833480" y="2036880"/>
            <a:ext cx="9720" cy="779400"/>
          </a:xfrm>
          <a:prstGeom prst="rect">
            <a:avLst/>
          </a:prstGeom>
          <a:solidFill>
            <a:srgbClr val="9b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843200" y="2036880"/>
            <a:ext cx="9360" cy="779400"/>
          </a:xfrm>
          <a:prstGeom prst="rect">
            <a:avLst/>
          </a:prstGeom>
          <a:solidFill>
            <a:srgbClr val="a1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852560" y="2036880"/>
            <a:ext cx="11160" cy="779400"/>
          </a:xfrm>
          <a:prstGeom prst="rect">
            <a:avLst/>
          </a:prstGeom>
          <a:solidFill>
            <a:srgbClr val="a6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1863720" y="2036880"/>
            <a:ext cx="9360" cy="779400"/>
          </a:xfrm>
          <a:prstGeom prst="rect">
            <a:avLst/>
          </a:prstGeom>
          <a:solidFill>
            <a:srgbClr val="ab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873080" y="2036880"/>
            <a:ext cx="11160" cy="779400"/>
          </a:xfrm>
          <a:prstGeom prst="rect">
            <a:avLst/>
          </a:prstGeom>
          <a:solidFill>
            <a:srgbClr val="b1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884240" y="2036880"/>
            <a:ext cx="9720" cy="779400"/>
          </a:xfrm>
          <a:prstGeom prst="rect">
            <a:avLst/>
          </a:prstGeom>
          <a:solidFill>
            <a:srgbClr val="b5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1893960" y="2036880"/>
            <a:ext cx="11160" cy="779400"/>
          </a:xfrm>
          <a:prstGeom prst="rect">
            <a:avLst/>
          </a:prstGeom>
          <a:solidFill>
            <a:srgbClr val="b9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1905120" y="2036880"/>
            <a:ext cx="9360" cy="779400"/>
          </a:xfrm>
          <a:prstGeom prst="rect">
            <a:avLst/>
          </a:prstGeom>
          <a:solidFill>
            <a:srgbClr val="bc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1914480" y="2036880"/>
            <a:ext cx="11160" cy="779400"/>
          </a:xfrm>
          <a:prstGeom prst="rect">
            <a:avLst/>
          </a:prstGeom>
          <a:solidFill>
            <a:srgbClr val="c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925640" y="2036880"/>
            <a:ext cx="9360" cy="779400"/>
          </a:xfrm>
          <a:prstGeom prst="rect">
            <a:avLst/>
          </a:prstGeom>
          <a:solidFill>
            <a:srgbClr val="c2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935000" y="2036880"/>
            <a:ext cx="9720" cy="779400"/>
          </a:xfrm>
          <a:prstGeom prst="rect">
            <a:avLst/>
          </a:prstGeom>
          <a:solidFill>
            <a:srgbClr val="c4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944720" y="2036880"/>
            <a:ext cx="11160" cy="779400"/>
          </a:xfrm>
          <a:prstGeom prst="rect">
            <a:avLst/>
          </a:prstGeom>
          <a:solidFill>
            <a:srgbClr val="c6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955880" y="2036880"/>
            <a:ext cx="9360" cy="779400"/>
          </a:xfrm>
          <a:prstGeom prst="rect">
            <a:avLst/>
          </a:prstGeom>
          <a:solidFill>
            <a:srgbClr val="c8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965240" y="2036880"/>
            <a:ext cx="11160" cy="77940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976400" y="2036880"/>
            <a:ext cx="9720" cy="77940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986120" y="2036880"/>
            <a:ext cx="20520" cy="779400"/>
          </a:xfrm>
          <a:prstGeom prst="rect">
            <a:avLst/>
          </a:prstGeom>
          <a:solidFill>
            <a:srgbClr val="cb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2006640" y="2036880"/>
            <a:ext cx="9360" cy="77940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2016000" y="2036880"/>
            <a:ext cx="11160" cy="77940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027160" y="2036880"/>
            <a:ext cx="9720" cy="779400"/>
          </a:xfrm>
          <a:prstGeom prst="rect">
            <a:avLst/>
          </a:prstGeom>
          <a:solidFill>
            <a:srgbClr val="c8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036880" y="2036880"/>
            <a:ext cx="11160" cy="779400"/>
          </a:xfrm>
          <a:prstGeom prst="rect">
            <a:avLst/>
          </a:prstGeom>
          <a:solidFill>
            <a:srgbClr val="c6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048040" y="2036880"/>
            <a:ext cx="9360" cy="779400"/>
          </a:xfrm>
          <a:prstGeom prst="rect">
            <a:avLst/>
          </a:prstGeom>
          <a:solidFill>
            <a:srgbClr val="c4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057400" y="2036880"/>
            <a:ext cx="11160" cy="779400"/>
          </a:xfrm>
          <a:prstGeom prst="rect">
            <a:avLst/>
          </a:prstGeom>
          <a:solidFill>
            <a:srgbClr val="c2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068560" y="2036880"/>
            <a:ext cx="9360" cy="779400"/>
          </a:xfrm>
          <a:prstGeom prst="rect">
            <a:avLst/>
          </a:prstGeom>
          <a:solidFill>
            <a:srgbClr val="c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077920" y="2036880"/>
            <a:ext cx="9720" cy="779400"/>
          </a:xfrm>
          <a:prstGeom prst="rect">
            <a:avLst/>
          </a:prstGeom>
          <a:solidFill>
            <a:srgbClr val="bd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087640" y="2036880"/>
            <a:ext cx="11160" cy="779400"/>
          </a:xfrm>
          <a:prstGeom prst="rect">
            <a:avLst/>
          </a:prstGeom>
          <a:solidFill>
            <a:srgbClr val="b9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098800" y="2036880"/>
            <a:ext cx="9360" cy="779400"/>
          </a:xfrm>
          <a:prstGeom prst="rect">
            <a:avLst/>
          </a:prstGeom>
          <a:solidFill>
            <a:srgbClr val="b5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108160" y="2036880"/>
            <a:ext cx="11160" cy="779400"/>
          </a:xfrm>
          <a:prstGeom prst="rect">
            <a:avLst/>
          </a:prstGeom>
          <a:solidFill>
            <a:srgbClr val="b1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119320" y="2036880"/>
            <a:ext cx="9360" cy="779400"/>
          </a:xfrm>
          <a:prstGeom prst="rect">
            <a:avLst/>
          </a:prstGeom>
          <a:solidFill>
            <a:srgbClr val="ac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128680" y="2036880"/>
            <a:ext cx="11160" cy="779400"/>
          </a:xfrm>
          <a:prstGeom prst="rect">
            <a:avLst/>
          </a:prstGeom>
          <a:solidFill>
            <a:srgbClr val="a6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139840" y="2036880"/>
            <a:ext cx="9720" cy="779400"/>
          </a:xfrm>
          <a:prstGeom prst="rect">
            <a:avLst/>
          </a:prstGeom>
          <a:solidFill>
            <a:srgbClr val="a1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2149560" y="2036880"/>
            <a:ext cx="11160" cy="779400"/>
          </a:xfrm>
          <a:prstGeom prst="rect">
            <a:avLst/>
          </a:prstGeom>
          <a:solidFill>
            <a:srgbClr val="9b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160720" y="2036880"/>
            <a:ext cx="9360" cy="779400"/>
          </a:xfrm>
          <a:prstGeom prst="rect">
            <a:avLst/>
          </a:prstGeom>
          <a:solidFill>
            <a:srgbClr val="94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170080" y="2036880"/>
            <a:ext cx="9720" cy="779400"/>
          </a:xfrm>
          <a:prstGeom prst="rect">
            <a:avLst/>
          </a:prstGeom>
          <a:solidFill>
            <a:srgbClr val="8e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179800" y="2036880"/>
            <a:ext cx="10800" cy="779400"/>
          </a:xfrm>
          <a:prstGeom prst="rect">
            <a:avLst/>
          </a:prstGeom>
          <a:solidFill>
            <a:srgbClr val="88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190600" y="2036880"/>
            <a:ext cx="9720" cy="779400"/>
          </a:xfrm>
          <a:prstGeom prst="rect">
            <a:avLst/>
          </a:prstGeom>
          <a:solidFill>
            <a:srgbClr val="82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200320" y="2036880"/>
            <a:ext cx="11160" cy="779400"/>
          </a:xfrm>
          <a:prstGeom prst="rect">
            <a:avLst/>
          </a:prstGeom>
          <a:solidFill>
            <a:srgbClr val="7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211480" y="2036880"/>
            <a:ext cx="9360" cy="779400"/>
          </a:xfrm>
          <a:prstGeom prst="rect">
            <a:avLst/>
          </a:prstGeom>
          <a:solidFill>
            <a:srgbClr val="77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2220840" y="2036880"/>
            <a:ext cx="11160" cy="779400"/>
          </a:xfrm>
          <a:prstGeom prst="rect">
            <a:avLst/>
          </a:prstGeom>
          <a:solidFill>
            <a:srgbClr val="73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2232000" y="2036880"/>
            <a:ext cx="9720" cy="779400"/>
          </a:xfrm>
          <a:prstGeom prst="rect">
            <a:avLst/>
          </a:prstGeom>
          <a:solidFill>
            <a:srgbClr val="6f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2241720" y="2036880"/>
            <a:ext cx="9360" cy="779400"/>
          </a:xfrm>
          <a:prstGeom prst="rect">
            <a:avLst/>
          </a:prstGeom>
          <a:solidFill>
            <a:srgbClr val="6b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2251080" y="2036880"/>
            <a:ext cx="11160" cy="779400"/>
          </a:xfrm>
          <a:prstGeom prst="rect">
            <a:avLst/>
          </a:prstGeom>
          <a:solidFill>
            <a:srgbClr val="67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2262240" y="2036880"/>
            <a:ext cx="9360" cy="779400"/>
          </a:xfrm>
          <a:prstGeom prst="rect">
            <a:avLst/>
          </a:prstGeom>
          <a:solidFill>
            <a:srgbClr val="64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2271600" y="2036880"/>
            <a:ext cx="11160" cy="779400"/>
          </a:xfrm>
          <a:prstGeom prst="rect">
            <a:avLst/>
          </a:prstGeom>
          <a:solidFill>
            <a:srgbClr val="62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2282760" y="2036880"/>
            <a:ext cx="9720" cy="779400"/>
          </a:xfrm>
          <a:prstGeom prst="rect">
            <a:avLst/>
          </a:prstGeom>
          <a:solidFill>
            <a:srgbClr val="5f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700280" y="2036880"/>
            <a:ext cx="59220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2527200" y="2036880"/>
            <a:ext cx="11160" cy="623880"/>
          </a:xfrm>
          <a:prstGeom prst="rect">
            <a:avLst/>
          </a:prstGeom>
          <a:solidFill>
            <a:srgbClr val="5f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538360" y="2036880"/>
            <a:ext cx="9720" cy="623880"/>
          </a:xfrm>
          <a:prstGeom prst="rect">
            <a:avLst/>
          </a:prstGeom>
          <a:solidFill>
            <a:srgbClr val="62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2548080" y="2036880"/>
            <a:ext cx="9360" cy="623880"/>
          </a:xfrm>
          <a:prstGeom prst="rect">
            <a:avLst/>
          </a:prstGeom>
          <a:solidFill>
            <a:srgbClr val="64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557440" y="2036880"/>
            <a:ext cx="11160" cy="623880"/>
          </a:xfrm>
          <a:prstGeom prst="rect">
            <a:avLst/>
          </a:prstGeom>
          <a:solidFill>
            <a:srgbClr val="67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568600" y="2036880"/>
            <a:ext cx="9360" cy="623880"/>
          </a:xfrm>
          <a:prstGeom prst="rect">
            <a:avLst/>
          </a:prstGeom>
          <a:solidFill>
            <a:srgbClr val="6b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577960" y="2036880"/>
            <a:ext cx="11160" cy="623880"/>
          </a:xfrm>
          <a:prstGeom prst="rect">
            <a:avLst/>
          </a:prstGeom>
          <a:solidFill>
            <a:srgbClr val="6f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589120" y="2036880"/>
            <a:ext cx="9720" cy="623880"/>
          </a:xfrm>
          <a:prstGeom prst="rect">
            <a:avLst/>
          </a:prstGeom>
          <a:solidFill>
            <a:srgbClr val="73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598840" y="2036880"/>
            <a:ext cx="11160" cy="623880"/>
          </a:xfrm>
          <a:prstGeom prst="rect">
            <a:avLst/>
          </a:prstGeom>
          <a:solidFill>
            <a:srgbClr val="78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610000" y="2036880"/>
            <a:ext cx="9360" cy="623880"/>
          </a:xfrm>
          <a:prstGeom prst="rect">
            <a:avLst/>
          </a:prstGeom>
          <a:solidFill>
            <a:srgbClr val="7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619360" y="2036880"/>
            <a:ext cx="11160" cy="623880"/>
          </a:xfrm>
          <a:prstGeom prst="rect">
            <a:avLst/>
          </a:prstGeom>
          <a:solidFill>
            <a:srgbClr val="83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630520" y="2036880"/>
            <a:ext cx="9360" cy="623880"/>
          </a:xfrm>
          <a:prstGeom prst="rect">
            <a:avLst/>
          </a:prstGeom>
          <a:solidFill>
            <a:srgbClr val="89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639880" y="2036880"/>
            <a:ext cx="9720" cy="623880"/>
          </a:xfrm>
          <a:prstGeom prst="rect">
            <a:avLst/>
          </a:prstGeom>
          <a:solidFill>
            <a:srgbClr val="8f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649600" y="2036880"/>
            <a:ext cx="11160" cy="623880"/>
          </a:xfrm>
          <a:prstGeom prst="rect">
            <a:avLst/>
          </a:prstGeom>
          <a:solidFill>
            <a:srgbClr val="96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660760" y="2036880"/>
            <a:ext cx="9360" cy="623880"/>
          </a:xfrm>
          <a:prstGeom prst="rect">
            <a:avLst/>
          </a:prstGeom>
          <a:solidFill>
            <a:srgbClr val="9c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670120" y="2036880"/>
            <a:ext cx="11160" cy="623880"/>
          </a:xfrm>
          <a:prstGeom prst="rect">
            <a:avLst/>
          </a:prstGeom>
          <a:solidFill>
            <a:srgbClr val="a2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681280" y="2036880"/>
            <a:ext cx="9360" cy="623880"/>
          </a:xfrm>
          <a:prstGeom prst="rect">
            <a:avLst/>
          </a:prstGeom>
          <a:solidFill>
            <a:srgbClr val="a8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690640" y="2036880"/>
            <a:ext cx="11160" cy="623880"/>
          </a:xfrm>
          <a:prstGeom prst="rect">
            <a:avLst/>
          </a:prstGeom>
          <a:solidFill>
            <a:srgbClr val="ad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701800" y="2036880"/>
            <a:ext cx="9720" cy="623880"/>
          </a:xfrm>
          <a:prstGeom prst="rect">
            <a:avLst/>
          </a:prstGeom>
          <a:solidFill>
            <a:srgbClr val="b2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711520" y="2036880"/>
            <a:ext cx="9360" cy="623880"/>
          </a:xfrm>
          <a:prstGeom prst="rect">
            <a:avLst/>
          </a:prstGeom>
          <a:solidFill>
            <a:srgbClr val="b6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720880" y="2036880"/>
            <a:ext cx="11160" cy="623880"/>
          </a:xfrm>
          <a:prstGeom prst="rect">
            <a:avLst/>
          </a:prstGeom>
          <a:solidFill>
            <a:srgbClr val="ba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732040" y="2036880"/>
            <a:ext cx="9720" cy="623880"/>
          </a:xfrm>
          <a:prstGeom prst="rect">
            <a:avLst/>
          </a:prstGeom>
          <a:solidFill>
            <a:srgbClr val="be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741760" y="2036880"/>
            <a:ext cx="10800" cy="623880"/>
          </a:xfrm>
          <a:prstGeom prst="rect">
            <a:avLst/>
          </a:prstGeom>
          <a:solidFill>
            <a:srgbClr val="c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752560" y="2036880"/>
            <a:ext cx="9720" cy="623880"/>
          </a:xfrm>
          <a:prstGeom prst="rect">
            <a:avLst/>
          </a:prstGeom>
          <a:solidFill>
            <a:srgbClr val="c3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762280" y="2036880"/>
            <a:ext cx="11160" cy="623880"/>
          </a:xfrm>
          <a:prstGeom prst="rect">
            <a:avLst/>
          </a:prstGeom>
          <a:solidFill>
            <a:srgbClr val="c5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773440" y="2036880"/>
            <a:ext cx="9360" cy="623880"/>
          </a:xfrm>
          <a:prstGeom prst="rect">
            <a:avLst/>
          </a:prstGeom>
          <a:solidFill>
            <a:srgbClr val="c7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782800" y="2036880"/>
            <a:ext cx="9720" cy="62388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792520" y="2036880"/>
            <a:ext cx="11160" cy="62388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803680" y="2036880"/>
            <a:ext cx="9360" cy="623880"/>
          </a:xfrm>
          <a:prstGeom prst="rect">
            <a:avLst/>
          </a:prstGeom>
          <a:solidFill>
            <a:srgbClr val="cb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2813040" y="2036880"/>
            <a:ext cx="11160" cy="623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2824200" y="2036880"/>
            <a:ext cx="9360" cy="623880"/>
          </a:xfrm>
          <a:prstGeom prst="rect">
            <a:avLst/>
          </a:prstGeom>
          <a:solidFill>
            <a:srgbClr val="cb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833560" y="2036880"/>
            <a:ext cx="11160" cy="62388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844720" y="2036880"/>
            <a:ext cx="9720" cy="62388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854440" y="2036880"/>
            <a:ext cx="11160" cy="623880"/>
          </a:xfrm>
          <a:prstGeom prst="rect">
            <a:avLst/>
          </a:prstGeom>
          <a:solidFill>
            <a:srgbClr val="c7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2865600" y="2036880"/>
            <a:ext cx="9360" cy="623880"/>
          </a:xfrm>
          <a:prstGeom prst="rect">
            <a:avLst/>
          </a:prstGeom>
          <a:solidFill>
            <a:srgbClr val="c5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2874960" y="2036880"/>
            <a:ext cx="9360" cy="623880"/>
          </a:xfrm>
          <a:prstGeom prst="rect">
            <a:avLst/>
          </a:prstGeom>
          <a:solidFill>
            <a:srgbClr val="c3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2884320" y="2036880"/>
            <a:ext cx="11160" cy="623880"/>
          </a:xfrm>
          <a:prstGeom prst="rect">
            <a:avLst/>
          </a:prstGeom>
          <a:solidFill>
            <a:srgbClr val="c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2895480" y="2036880"/>
            <a:ext cx="9720" cy="623880"/>
          </a:xfrm>
          <a:prstGeom prst="rect">
            <a:avLst/>
          </a:prstGeom>
          <a:solidFill>
            <a:srgbClr val="be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2905200" y="2036880"/>
            <a:ext cx="11160" cy="623880"/>
          </a:xfrm>
          <a:prstGeom prst="rect">
            <a:avLst/>
          </a:prstGeom>
          <a:solidFill>
            <a:srgbClr val="ba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916360" y="2036880"/>
            <a:ext cx="9360" cy="623880"/>
          </a:xfrm>
          <a:prstGeom prst="rect">
            <a:avLst/>
          </a:prstGeom>
          <a:solidFill>
            <a:srgbClr val="b7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925720" y="2036880"/>
            <a:ext cx="11160" cy="623880"/>
          </a:xfrm>
          <a:prstGeom prst="rect">
            <a:avLst/>
          </a:prstGeom>
          <a:solidFill>
            <a:srgbClr val="b2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5" name=""/>
          <p:cNvGrpSpPr/>
          <p:nvPr/>
        </p:nvGrpSpPr>
        <p:grpSpPr>
          <a:xfrm>
            <a:off x="2527200" y="2036880"/>
            <a:ext cx="3351240" cy="925560"/>
            <a:chOff x="2527200" y="2036880"/>
            <a:chExt cx="3351240" cy="925560"/>
          </a:xfrm>
        </p:grpSpPr>
        <p:sp>
          <p:nvSpPr>
            <p:cNvPr id="2886" name=""/>
            <p:cNvSpPr/>
            <p:nvPr/>
          </p:nvSpPr>
          <p:spPr>
            <a:xfrm>
              <a:off x="2936880" y="2036880"/>
              <a:ext cx="9360" cy="623880"/>
            </a:xfrm>
            <a:prstGeom prst="rect">
              <a:avLst/>
            </a:prstGeom>
            <a:solidFill>
              <a:srgbClr val="a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946240" y="2036880"/>
              <a:ext cx="9720" cy="623880"/>
            </a:xfrm>
            <a:prstGeom prst="rect">
              <a:avLst/>
            </a:prstGeom>
            <a:solidFill>
              <a:srgbClr val="a8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955960" y="2036880"/>
              <a:ext cx="11160" cy="623880"/>
            </a:xfrm>
            <a:prstGeom prst="rect">
              <a:avLst/>
            </a:prstGeom>
            <a:solidFill>
              <a:srgbClr val="a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967120" y="2036880"/>
              <a:ext cx="9360" cy="62388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976480" y="2036880"/>
              <a:ext cx="11160" cy="623880"/>
            </a:xfrm>
            <a:prstGeom prst="rect">
              <a:avLst/>
            </a:prstGeom>
            <a:solidFill>
              <a:srgbClr val="96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987640" y="2036880"/>
              <a:ext cx="9360" cy="623880"/>
            </a:xfrm>
            <a:prstGeom prst="rect">
              <a:avLst/>
            </a:prstGeom>
            <a:solidFill>
              <a:srgbClr val="8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997000" y="2036880"/>
              <a:ext cx="11160" cy="623880"/>
            </a:xfrm>
            <a:prstGeom prst="rect">
              <a:avLst/>
            </a:prstGeom>
            <a:solidFill>
              <a:srgbClr val="8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008160" y="2036880"/>
              <a:ext cx="9720" cy="623880"/>
            </a:xfrm>
            <a:prstGeom prst="rect">
              <a:avLst/>
            </a:prstGeom>
            <a:solidFill>
              <a:srgbClr val="8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17880" y="2036880"/>
              <a:ext cx="9360" cy="623880"/>
            </a:xfrm>
            <a:prstGeom prst="rect">
              <a:avLst/>
            </a:prstGeom>
            <a:solidFill>
              <a:srgbClr val="7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027240" y="2036880"/>
              <a:ext cx="11160" cy="623880"/>
            </a:xfrm>
            <a:prstGeom prst="rect">
              <a:avLst/>
            </a:prstGeom>
            <a:solidFill>
              <a:srgbClr val="7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038400" y="2036880"/>
              <a:ext cx="9360" cy="623880"/>
            </a:xfrm>
            <a:prstGeom prst="rect">
              <a:avLst/>
            </a:prstGeom>
            <a:solidFill>
              <a:srgbClr val="73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047760" y="2036880"/>
              <a:ext cx="11160" cy="623880"/>
            </a:xfrm>
            <a:prstGeom prst="rect">
              <a:avLst/>
            </a:prstGeom>
            <a:solidFill>
              <a:srgbClr val="6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058920" y="2036880"/>
              <a:ext cx="9720" cy="623880"/>
            </a:xfrm>
            <a:prstGeom prst="rect">
              <a:avLst/>
            </a:prstGeom>
            <a:solidFill>
              <a:srgbClr val="6b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068640" y="2036880"/>
              <a:ext cx="11160" cy="623880"/>
            </a:xfrm>
            <a:prstGeom prst="rect">
              <a:avLst/>
            </a:prstGeom>
            <a:solidFill>
              <a:srgbClr val="67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079800" y="2036880"/>
              <a:ext cx="9360" cy="623880"/>
            </a:xfrm>
            <a:prstGeom prst="rect">
              <a:avLst/>
            </a:prstGeom>
            <a:solidFill>
              <a:srgbClr val="64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089160" y="2036880"/>
              <a:ext cx="11160" cy="623880"/>
            </a:xfrm>
            <a:prstGeom prst="rect">
              <a:avLst/>
            </a:prstGeom>
            <a:solidFill>
              <a:srgbClr val="62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100320" y="2036880"/>
              <a:ext cx="9360" cy="623880"/>
            </a:xfrm>
            <a:prstGeom prst="rect">
              <a:avLst/>
            </a:prstGeom>
            <a:solidFill>
              <a:srgbClr val="5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2527200" y="2036880"/>
              <a:ext cx="582480" cy="6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344760" y="2036880"/>
              <a:ext cx="9720" cy="728640"/>
            </a:xfrm>
            <a:prstGeom prst="rect">
              <a:avLst/>
            </a:prstGeom>
            <a:solidFill>
              <a:srgbClr val="5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54480" y="2036880"/>
              <a:ext cx="10800" cy="728640"/>
            </a:xfrm>
            <a:prstGeom prst="rect">
              <a:avLst/>
            </a:prstGeom>
            <a:solidFill>
              <a:srgbClr val="62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65280" y="2036880"/>
              <a:ext cx="9720" cy="728640"/>
            </a:xfrm>
            <a:prstGeom prst="rect">
              <a:avLst/>
            </a:prstGeom>
            <a:solidFill>
              <a:srgbClr val="64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375000" y="2036880"/>
              <a:ext cx="11160" cy="728640"/>
            </a:xfrm>
            <a:prstGeom prst="rect">
              <a:avLst/>
            </a:prstGeom>
            <a:solidFill>
              <a:srgbClr val="67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86160" y="2036880"/>
              <a:ext cx="9360" cy="728640"/>
            </a:xfrm>
            <a:prstGeom prst="rect">
              <a:avLst/>
            </a:prstGeom>
            <a:solidFill>
              <a:srgbClr val="6b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395520" y="2036880"/>
              <a:ext cx="11160" cy="728640"/>
            </a:xfrm>
            <a:prstGeom prst="rect">
              <a:avLst/>
            </a:prstGeom>
            <a:solidFill>
              <a:srgbClr val="6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406680" y="2036880"/>
              <a:ext cx="9720" cy="728640"/>
            </a:xfrm>
            <a:prstGeom prst="rect">
              <a:avLst/>
            </a:prstGeom>
            <a:solidFill>
              <a:srgbClr val="7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416400" y="2036880"/>
              <a:ext cx="9360" cy="728640"/>
            </a:xfrm>
            <a:prstGeom prst="rect">
              <a:avLst/>
            </a:prstGeom>
            <a:solidFill>
              <a:srgbClr val="7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425760" y="2036880"/>
              <a:ext cx="11160" cy="728640"/>
            </a:xfrm>
            <a:prstGeom prst="rect">
              <a:avLst/>
            </a:prstGeom>
            <a:solidFill>
              <a:srgbClr val="7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436920" y="2036880"/>
              <a:ext cx="9360" cy="728640"/>
            </a:xfrm>
            <a:prstGeom prst="rect">
              <a:avLst/>
            </a:prstGeom>
            <a:solidFill>
              <a:srgbClr val="8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446280" y="2036880"/>
              <a:ext cx="11160" cy="728640"/>
            </a:xfrm>
            <a:prstGeom prst="rect">
              <a:avLst/>
            </a:prstGeom>
            <a:solidFill>
              <a:srgbClr val="8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457440" y="2036880"/>
              <a:ext cx="9720" cy="728640"/>
            </a:xfrm>
            <a:prstGeom prst="rect">
              <a:avLst/>
            </a:prstGeom>
            <a:solidFill>
              <a:srgbClr val="8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467160" y="2036880"/>
              <a:ext cx="10800" cy="728640"/>
            </a:xfrm>
            <a:prstGeom prst="rect">
              <a:avLst/>
            </a:prstGeom>
            <a:solidFill>
              <a:srgbClr val="96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477960" y="2036880"/>
              <a:ext cx="9720" cy="72864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487680" y="2036880"/>
              <a:ext cx="11160" cy="728640"/>
            </a:xfrm>
            <a:prstGeom prst="rect">
              <a:avLst/>
            </a:prstGeom>
            <a:solidFill>
              <a:srgbClr val="a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498840" y="2036880"/>
              <a:ext cx="9360" cy="728640"/>
            </a:xfrm>
            <a:prstGeom prst="rect">
              <a:avLst/>
            </a:prstGeom>
            <a:solidFill>
              <a:srgbClr val="a8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508200" y="2036880"/>
              <a:ext cx="9720" cy="728640"/>
            </a:xfrm>
            <a:prstGeom prst="rect">
              <a:avLst/>
            </a:prstGeom>
            <a:solidFill>
              <a:srgbClr val="a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517920" y="2036880"/>
              <a:ext cx="11160" cy="728640"/>
            </a:xfrm>
            <a:prstGeom prst="rect">
              <a:avLst/>
            </a:pr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529080" y="2036880"/>
              <a:ext cx="9360" cy="728640"/>
            </a:xfrm>
            <a:prstGeom prst="rect">
              <a:avLst/>
            </a:prstGeom>
            <a:solidFill>
              <a:srgbClr val="b6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538440" y="2036880"/>
              <a:ext cx="11160" cy="728640"/>
            </a:xfrm>
            <a:prstGeom prst="rect">
              <a:avLst/>
            </a:prstGeom>
            <a:solidFill>
              <a:srgbClr val="ba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549600" y="2036880"/>
              <a:ext cx="9360" cy="728640"/>
            </a:xfrm>
            <a:prstGeom prst="rect">
              <a:avLst/>
            </a:prstGeom>
            <a:solidFill>
              <a:srgbClr val="b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558960" y="2036880"/>
              <a:ext cx="11160" cy="728640"/>
            </a:xfrm>
            <a:prstGeom prst="rect">
              <a:avLst/>
            </a:prstGeom>
            <a:solidFill>
              <a:srgbClr val="c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570120" y="2036880"/>
              <a:ext cx="9720" cy="728640"/>
            </a:xfrm>
            <a:prstGeom prst="rect">
              <a:avLst/>
            </a:prstGeom>
            <a:solidFill>
              <a:srgbClr val="c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579840" y="2036880"/>
              <a:ext cx="9360" cy="728640"/>
            </a:xfrm>
            <a:prstGeom prst="rect">
              <a:avLst/>
            </a:prstGeom>
            <a:solidFill>
              <a:srgbClr val="c5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589200" y="2036880"/>
              <a:ext cx="11160" cy="728640"/>
            </a:xfrm>
            <a:prstGeom prst="rect">
              <a:avLst/>
            </a:prstGeom>
            <a:solidFill>
              <a:srgbClr val="c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600360" y="2036880"/>
              <a:ext cx="9360" cy="728640"/>
            </a:xfrm>
            <a:prstGeom prst="rect">
              <a:avLst/>
            </a:prstGeom>
            <a:solidFill>
              <a:srgbClr val="c9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609720" y="2036880"/>
              <a:ext cx="11160" cy="728640"/>
            </a:xfrm>
            <a:prstGeom prst="rect">
              <a:avLst/>
            </a:prstGeom>
            <a:solidFill>
              <a:srgbClr val="ca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620880" y="2036880"/>
              <a:ext cx="9720" cy="728640"/>
            </a:xfrm>
            <a:prstGeom prst="rect">
              <a:avLst/>
            </a:prstGeom>
            <a:solidFill>
              <a:srgbClr val="cb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630600" y="2036880"/>
              <a:ext cx="11160" cy="728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641760" y="2036880"/>
              <a:ext cx="9360" cy="728640"/>
            </a:xfrm>
            <a:prstGeom prst="rect">
              <a:avLst/>
            </a:prstGeom>
            <a:solidFill>
              <a:srgbClr val="cb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651120" y="2036880"/>
              <a:ext cx="9720" cy="728640"/>
            </a:xfrm>
            <a:prstGeom prst="rect">
              <a:avLst/>
            </a:prstGeom>
            <a:solidFill>
              <a:srgbClr val="ca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660840" y="2036880"/>
              <a:ext cx="10800" cy="728640"/>
            </a:xfrm>
            <a:prstGeom prst="rect">
              <a:avLst/>
            </a:prstGeom>
            <a:solidFill>
              <a:srgbClr val="c9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671640" y="2036880"/>
              <a:ext cx="9720" cy="728640"/>
            </a:xfrm>
            <a:prstGeom prst="rect">
              <a:avLst/>
            </a:prstGeom>
            <a:solidFill>
              <a:srgbClr val="c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681360" y="2036880"/>
              <a:ext cx="11160" cy="728640"/>
            </a:xfrm>
            <a:prstGeom prst="rect">
              <a:avLst/>
            </a:prstGeom>
            <a:solidFill>
              <a:srgbClr val="c5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692520" y="2036880"/>
              <a:ext cx="9360" cy="728640"/>
            </a:xfrm>
            <a:prstGeom prst="rect">
              <a:avLst/>
            </a:prstGeom>
            <a:solidFill>
              <a:srgbClr val="c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701880" y="2036880"/>
              <a:ext cx="11160" cy="728640"/>
            </a:xfrm>
            <a:prstGeom prst="rect">
              <a:avLst/>
            </a:prstGeom>
            <a:solidFill>
              <a:srgbClr val="c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713040" y="2036880"/>
              <a:ext cx="9720" cy="728640"/>
            </a:xfrm>
            <a:prstGeom prst="rect">
              <a:avLst/>
            </a:prstGeom>
            <a:solidFill>
              <a:srgbClr val="b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722760" y="2036880"/>
              <a:ext cx="10800" cy="728640"/>
            </a:xfrm>
            <a:prstGeom prst="rect">
              <a:avLst/>
            </a:prstGeom>
            <a:solidFill>
              <a:srgbClr val="ba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733560" y="2036880"/>
              <a:ext cx="9720" cy="728640"/>
            </a:xfrm>
            <a:prstGeom prst="rect">
              <a:avLst/>
            </a:prstGeom>
            <a:solidFill>
              <a:srgbClr val="b7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743280" y="2036880"/>
              <a:ext cx="9360" cy="728640"/>
            </a:xfrm>
            <a:prstGeom prst="rect">
              <a:avLst/>
            </a:pr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752640" y="2036880"/>
              <a:ext cx="11160" cy="728640"/>
            </a:xfrm>
            <a:prstGeom prst="rect">
              <a:avLst/>
            </a:prstGeom>
            <a:solidFill>
              <a:srgbClr val="a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763800" y="2036880"/>
              <a:ext cx="9720" cy="728640"/>
            </a:xfrm>
            <a:prstGeom prst="rect">
              <a:avLst/>
            </a:prstGeom>
            <a:solidFill>
              <a:srgbClr val="a8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773520" y="2036880"/>
              <a:ext cx="11160" cy="728640"/>
            </a:xfrm>
            <a:prstGeom prst="rect">
              <a:avLst/>
            </a:prstGeom>
            <a:solidFill>
              <a:srgbClr val="a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784680" y="2036880"/>
              <a:ext cx="9360" cy="72864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794040" y="2036880"/>
              <a:ext cx="11160" cy="728640"/>
            </a:xfrm>
            <a:prstGeom prst="rect">
              <a:avLst/>
            </a:prstGeom>
            <a:solidFill>
              <a:srgbClr val="96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805200" y="2036880"/>
              <a:ext cx="9360" cy="728640"/>
            </a:xfrm>
            <a:prstGeom prst="rect">
              <a:avLst/>
            </a:prstGeom>
            <a:solidFill>
              <a:srgbClr val="8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814560" y="2036880"/>
              <a:ext cx="9720" cy="728640"/>
            </a:xfrm>
            <a:prstGeom prst="rect">
              <a:avLst/>
            </a:prstGeom>
            <a:solidFill>
              <a:srgbClr val="8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824280" y="2036880"/>
              <a:ext cx="11160" cy="728640"/>
            </a:xfrm>
            <a:prstGeom prst="rect">
              <a:avLst/>
            </a:prstGeom>
            <a:solidFill>
              <a:srgbClr val="8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835440" y="2036880"/>
              <a:ext cx="9360" cy="728640"/>
            </a:xfrm>
            <a:prstGeom prst="rect">
              <a:avLst/>
            </a:prstGeom>
            <a:solidFill>
              <a:srgbClr val="7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844800" y="2036880"/>
              <a:ext cx="11160" cy="728640"/>
            </a:xfrm>
            <a:prstGeom prst="rect">
              <a:avLst/>
            </a:prstGeom>
            <a:solidFill>
              <a:srgbClr val="7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855960" y="2036880"/>
              <a:ext cx="9360" cy="728640"/>
            </a:xfrm>
            <a:prstGeom prst="rect">
              <a:avLst/>
            </a:prstGeom>
            <a:solidFill>
              <a:srgbClr val="73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865320" y="2036880"/>
              <a:ext cx="11160" cy="728640"/>
            </a:xfrm>
            <a:prstGeom prst="rect">
              <a:avLst/>
            </a:prstGeom>
            <a:solidFill>
              <a:srgbClr val="6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876480" y="2036880"/>
              <a:ext cx="9720" cy="728640"/>
            </a:xfrm>
            <a:prstGeom prst="rect">
              <a:avLst/>
            </a:prstGeom>
            <a:solidFill>
              <a:srgbClr val="6b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886200" y="2036880"/>
              <a:ext cx="9360" cy="728640"/>
            </a:xfrm>
            <a:prstGeom prst="rect">
              <a:avLst/>
            </a:prstGeom>
            <a:solidFill>
              <a:srgbClr val="67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895560" y="2036880"/>
              <a:ext cx="11160" cy="728640"/>
            </a:xfrm>
            <a:prstGeom prst="rect">
              <a:avLst/>
            </a:prstGeom>
            <a:solidFill>
              <a:srgbClr val="64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906720" y="2036880"/>
              <a:ext cx="9720" cy="728640"/>
            </a:xfrm>
            <a:prstGeom prst="rect">
              <a:avLst/>
            </a:prstGeom>
            <a:solidFill>
              <a:srgbClr val="62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916440" y="2036880"/>
              <a:ext cx="10800" cy="728640"/>
            </a:xfrm>
            <a:prstGeom prst="rect">
              <a:avLst/>
            </a:prstGeom>
            <a:solidFill>
              <a:srgbClr val="5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344760" y="2036880"/>
              <a:ext cx="582480" cy="72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162320" y="2036880"/>
              <a:ext cx="9720" cy="925560"/>
            </a:xfrm>
            <a:prstGeom prst="rect">
              <a:avLst/>
            </a:prstGeom>
            <a:solidFill>
              <a:srgbClr val="5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172040" y="2036880"/>
              <a:ext cx="10800" cy="925560"/>
            </a:xfrm>
            <a:prstGeom prst="rect">
              <a:avLst/>
            </a:prstGeom>
            <a:solidFill>
              <a:srgbClr val="62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182840" y="2036880"/>
              <a:ext cx="9720" cy="925560"/>
            </a:xfrm>
            <a:prstGeom prst="rect">
              <a:avLst/>
            </a:prstGeom>
            <a:solidFill>
              <a:srgbClr val="64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192560" y="2036880"/>
              <a:ext cx="11160" cy="925560"/>
            </a:xfrm>
            <a:prstGeom prst="rect">
              <a:avLst/>
            </a:prstGeom>
            <a:solidFill>
              <a:srgbClr val="67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203720" y="2036880"/>
              <a:ext cx="9360" cy="925560"/>
            </a:xfrm>
            <a:prstGeom prst="rect">
              <a:avLst/>
            </a:prstGeom>
            <a:solidFill>
              <a:srgbClr val="6b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13080" y="2036880"/>
              <a:ext cx="9720" cy="925560"/>
            </a:xfrm>
            <a:prstGeom prst="rect">
              <a:avLst/>
            </a:prstGeom>
            <a:solidFill>
              <a:srgbClr val="6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222800" y="2036880"/>
              <a:ext cx="11160" cy="925560"/>
            </a:xfrm>
            <a:prstGeom prst="rect">
              <a:avLst/>
            </a:prstGeom>
            <a:solidFill>
              <a:srgbClr val="7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233960" y="2036880"/>
              <a:ext cx="9360" cy="925560"/>
            </a:xfrm>
            <a:prstGeom prst="rect">
              <a:avLst/>
            </a:prstGeom>
            <a:solidFill>
              <a:srgbClr val="7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243320" y="2036880"/>
              <a:ext cx="11160" cy="925560"/>
            </a:xfrm>
            <a:prstGeom prst="rect">
              <a:avLst/>
            </a:prstGeom>
            <a:solidFill>
              <a:srgbClr val="7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254480" y="2036880"/>
              <a:ext cx="9360" cy="925560"/>
            </a:xfrm>
            <a:prstGeom prst="rect">
              <a:avLst/>
            </a:prstGeom>
            <a:solidFill>
              <a:srgbClr val="8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263840" y="2036880"/>
              <a:ext cx="11160" cy="925560"/>
            </a:xfrm>
            <a:prstGeom prst="rect">
              <a:avLst/>
            </a:prstGeom>
            <a:solidFill>
              <a:srgbClr val="8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275000" y="2036880"/>
              <a:ext cx="9720" cy="925560"/>
            </a:xfrm>
            <a:prstGeom prst="rect">
              <a:avLst/>
            </a:prstGeom>
            <a:solidFill>
              <a:srgbClr val="8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284720" y="2036880"/>
              <a:ext cx="9360" cy="925560"/>
            </a:xfrm>
            <a:prstGeom prst="rect">
              <a:avLst/>
            </a:prstGeom>
            <a:solidFill>
              <a:srgbClr val="96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294080" y="2036880"/>
              <a:ext cx="11160" cy="92556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305240" y="2036880"/>
              <a:ext cx="9360" cy="925560"/>
            </a:xfrm>
            <a:prstGeom prst="rect">
              <a:avLst/>
            </a:prstGeom>
            <a:solidFill>
              <a:srgbClr val="a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314600" y="2036880"/>
              <a:ext cx="11160" cy="925560"/>
            </a:xfrm>
            <a:prstGeom prst="rect">
              <a:avLst/>
            </a:prstGeom>
            <a:solidFill>
              <a:srgbClr val="a8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325760" y="2036880"/>
              <a:ext cx="9720" cy="925560"/>
            </a:xfrm>
            <a:prstGeom prst="rect">
              <a:avLst/>
            </a:prstGeom>
            <a:solidFill>
              <a:srgbClr val="a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335480" y="2036880"/>
              <a:ext cx="11160" cy="925560"/>
            </a:xfrm>
            <a:prstGeom prst="rect">
              <a:avLst/>
            </a:pr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346640" y="2036880"/>
              <a:ext cx="9360" cy="925560"/>
            </a:xfrm>
            <a:prstGeom prst="rect">
              <a:avLst/>
            </a:prstGeom>
            <a:solidFill>
              <a:srgbClr val="b6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356000" y="2036880"/>
              <a:ext cx="9720" cy="925560"/>
            </a:xfrm>
            <a:prstGeom prst="rect">
              <a:avLst/>
            </a:prstGeom>
            <a:solidFill>
              <a:srgbClr val="ba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365720" y="2036880"/>
              <a:ext cx="10800" cy="925560"/>
            </a:xfrm>
            <a:prstGeom prst="rect">
              <a:avLst/>
            </a:prstGeom>
            <a:solidFill>
              <a:srgbClr val="b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376520" y="2036880"/>
              <a:ext cx="9720" cy="925560"/>
            </a:xfrm>
            <a:prstGeom prst="rect">
              <a:avLst/>
            </a:prstGeom>
            <a:solidFill>
              <a:srgbClr val="c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386240" y="2036880"/>
              <a:ext cx="11160" cy="925560"/>
            </a:xfrm>
            <a:prstGeom prst="rect">
              <a:avLst/>
            </a:prstGeom>
            <a:solidFill>
              <a:srgbClr val="c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397400" y="2036880"/>
              <a:ext cx="9360" cy="925560"/>
            </a:xfrm>
            <a:prstGeom prst="rect">
              <a:avLst/>
            </a:prstGeom>
            <a:solidFill>
              <a:srgbClr val="c5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406760" y="2036880"/>
              <a:ext cx="11160" cy="925560"/>
            </a:xfrm>
            <a:prstGeom prst="rect">
              <a:avLst/>
            </a:prstGeom>
            <a:solidFill>
              <a:srgbClr val="c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417920" y="2036880"/>
              <a:ext cx="9360" cy="925560"/>
            </a:xfrm>
            <a:prstGeom prst="rect">
              <a:avLst/>
            </a:prstGeom>
            <a:solidFill>
              <a:srgbClr val="c9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427280" y="2036880"/>
              <a:ext cx="11160" cy="925560"/>
            </a:xfrm>
            <a:prstGeom prst="rect">
              <a:avLst/>
            </a:prstGeom>
            <a:solidFill>
              <a:srgbClr val="ca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438440" y="2036880"/>
              <a:ext cx="9720" cy="925560"/>
            </a:xfrm>
            <a:prstGeom prst="rect">
              <a:avLst/>
            </a:prstGeom>
            <a:solidFill>
              <a:srgbClr val="cb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448160" y="2036880"/>
              <a:ext cx="9360" cy="925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457520" y="2036880"/>
              <a:ext cx="11160" cy="925560"/>
            </a:xfrm>
            <a:prstGeom prst="rect">
              <a:avLst/>
            </a:prstGeom>
            <a:solidFill>
              <a:srgbClr val="cb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468680" y="2036880"/>
              <a:ext cx="9720" cy="925560"/>
            </a:xfrm>
            <a:prstGeom prst="rect">
              <a:avLst/>
            </a:prstGeom>
            <a:solidFill>
              <a:srgbClr val="ca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478400" y="2036880"/>
              <a:ext cx="10800" cy="925560"/>
            </a:xfrm>
            <a:prstGeom prst="rect">
              <a:avLst/>
            </a:prstGeom>
            <a:solidFill>
              <a:srgbClr val="c9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489200" y="2036880"/>
              <a:ext cx="9720" cy="925560"/>
            </a:xfrm>
            <a:prstGeom prst="rect">
              <a:avLst/>
            </a:prstGeom>
            <a:solidFill>
              <a:srgbClr val="c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498920" y="2036880"/>
              <a:ext cx="11160" cy="925560"/>
            </a:xfrm>
            <a:prstGeom prst="rect">
              <a:avLst/>
            </a:prstGeom>
            <a:solidFill>
              <a:srgbClr val="c5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10080" y="2036880"/>
              <a:ext cx="9360" cy="925560"/>
            </a:xfrm>
            <a:prstGeom prst="rect">
              <a:avLst/>
            </a:prstGeom>
            <a:solidFill>
              <a:srgbClr val="c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519440" y="2036880"/>
              <a:ext cx="9720" cy="925560"/>
            </a:xfrm>
            <a:prstGeom prst="rect">
              <a:avLst/>
            </a:prstGeom>
            <a:solidFill>
              <a:srgbClr val="c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529160" y="2036880"/>
              <a:ext cx="11160" cy="925560"/>
            </a:xfrm>
            <a:prstGeom prst="rect">
              <a:avLst/>
            </a:prstGeom>
            <a:solidFill>
              <a:srgbClr val="b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540320" y="2036880"/>
              <a:ext cx="9360" cy="925560"/>
            </a:xfrm>
            <a:prstGeom prst="rect">
              <a:avLst/>
            </a:prstGeom>
            <a:solidFill>
              <a:srgbClr val="ba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549680" y="2036880"/>
              <a:ext cx="11160" cy="925560"/>
            </a:xfrm>
            <a:prstGeom prst="rect">
              <a:avLst/>
            </a:prstGeom>
            <a:solidFill>
              <a:srgbClr val="b7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560840" y="2036880"/>
              <a:ext cx="9360" cy="925560"/>
            </a:xfrm>
            <a:prstGeom prst="rect">
              <a:avLst/>
            </a:pr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570200" y="2036880"/>
              <a:ext cx="11160" cy="925560"/>
            </a:xfrm>
            <a:prstGeom prst="rect">
              <a:avLst/>
            </a:prstGeom>
            <a:solidFill>
              <a:srgbClr val="a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581360" y="2036880"/>
              <a:ext cx="9720" cy="925560"/>
            </a:xfrm>
            <a:prstGeom prst="rect">
              <a:avLst/>
            </a:prstGeom>
            <a:solidFill>
              <a:srgbClr val="a8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591080" y="2036880"/>
              <a:ext cx="9360" cy="925560"/>
            </a:xfrm>
            <a:prstGeom prst="rect">
              <a:avLst/>
            </a:prstGeom>
            <a:solidFill>
              <a:srgbClr val="a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600440" y="2036880"/>
              <a:ext cx="11160" cy="92556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611600" y="2036880"/>
              <a:ext cx="9360" cy="925560"/>
            </a:xfrm>
            <a:prstGeom prst="rect">
              <a:avLst/>
            </a:prstGeom>
            <a:solidFill>
              <a:srgbClr val="96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620960" y="2036880"/>
              <a:ext cx="11160" cy="925560"/>
            </a:xfrm>
            <a:prstGeom prst="rect">
              <a:avLst/>
            </a:prstGeom>
            <a:solidFill>
              <a:srgbClr val="8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632120" y="2036880"/>
              <a:ext cx="9720" cy="925560"/>
            </a:xfrm>
            <a:prstGeom prst="rect">
              <a:avLst/>
            </a:prstGeom>
            <a:solidFill>
              <a:srgbClr val="8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641840" y="2036880"/>
              <a:ext cx="11160" cy="925560"/>
            </a:xfrm>
            <a:prstGeom prst="rect">
              <a:avLst/>
            </a:prstGeom>
            <a:solidFill>
              <a:srgbClr val="8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653000" y="2036880"/>
              <a:ext cx="9360" cy="925560"/>
            </a:xfrm>
            <a:prstGeom prst="rect">
              <a:avLst/>
            </a:prstGeom>
            <a:solidFill>
              <a:srgbClr val="7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662360" y="2036880"/>
              <a:ext cx="11160" cy="925560"/>
            </a:xfrm>
            <a:prstGeom prst="rect">
              <a:avLst/>
            </a:prstGeom>
            <a:solidFill>
              <a:srgbClr val="7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673520" y="2036880"/>
              <a:ext cx="9360" cy="925560"/>
            </a:xfrm>
            <a:prstGeom prst="rect">
              <a:avLst/>
            </a:prstGeom>
            <a:solidFill>
              <a:srgbClr val="73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682880" y="2036880"/>
              <a:ext cx="9720" cy="925560"/>
            </a:xfrm>
            <a:prstGeom prst="rect">
              <a:avLst/>
            </a:prstGeom>
            <a:solidFill>
              <a:srgbClr val="6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692600" y="2036880"/>
              <a:ext cx="11160" cy="925560"/>
            </a:xfrm>
            <a:prstGeom prst="rect">
              <a:avLst/>
            </a:prstGeom>
            <a:solidFill>
              <a:srgbClr val="6b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703760" y="2036880"/>
              <a:ext cx="9360" cy="925560"/>
            </a:xfrm>
            <a:prstGeom prst="rect">
              <a:avLst/>
            </a:prstGeom>
            <a:solidFill>
              <a:srgbClr val="67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713120" y="2036880"/>
              <a:ext cx="11160" cy="925560"/>
            </a:xfrm>
            <a:prstGeom prst="rect">
              <a:avLst/>
            </a:prstGeom>
            <a:solidFill>
              <a:srgbClr val="64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724280" y="2036880"/>
              <a:ext cx="9720" cy="925560"/>
            </a:xfrm>
            <a:prstGeom prst="rect">
              <a:avLst/>
            </a:prstGeom>
            <a:solidFill>
              <a:srgbClr val="62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34000" y="2036880"/>
              <a:ext cx="10800" cy="925560"/>
            </a:xfrm>
            <a:prstGeom prst="rect">
              <a:avLst/>
            </a:prstGeom>
            <a:solidFill>
              <a:srgbClr val="5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162320" y="2036880"/>
              <a:ext cx="582480" cy="92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979880" y="2036880"/>
              <a:ext cx="9720" cy="738000"/>
            </a:xfrm>
            <a:prstGeom prst="rect">
              <a:avLst/>
            </a:prstGeom>
            <a:solidFill>
              <a:srgbClr val="5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989600" y="2036880"/>
              <a:ext cx="9360" cy="738000"/>
            </a:xfrm>
            <a:prstGeom prst="rect">
              <a:avLst/>
            </a:prstGeom>
            <a:solidFill>
              <a:srgbClr val="62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998960" y="2036880"/>
              <a:ext cx="11160" cy="738000"/>
            </a:xfrm>
            <a:prstGeom prst="rect">
              <a:avLst/>
            </a:prstGeom>
            <a:solidFill>
              <a:srgbClr val="64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010120" y="2036880"/>
              <a:ext cx="9360" cy="738000"/>
            </a:xfrm>
            <a:prstGeom prst="rect">
              <a:avLst/>
            </a:prstGeom>
            <a:solidFill>
              <a:srgbClr val="67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019480" y="2036880"/>
              <a:ext cx="11160" cy="738000"/>
            </a:xfrm>
            <a:prstGeom prst="rect">
              <a:avLst/>
            </a:prstGeom>
            <a:solidFill>
              <a:srgbClr val="6b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030640" y="2036880"/>
              <a:ext cx="9720" cy="738000"/>
            </a:xfrm>
            <a:prstGeom prst="rect">
              <a:avLst/>
            </a:prstGeom>
            <a:solidFill>
              <a:srgbClr val="6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040360" y="2036880"/>
              <a:ext cx="11160" cy="738000"/>
            </a:xfrm>
            <a:prstGeom prst="rect">
              <a:avLst/>
            </a:prstGeom>
            <a:solidFill>
              <a:srgbClr val="7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051520" y="2036880"/>
              <a:ext cx="9360" cy="738000"/>
            </a:xfrm>
            <a:prstGeom prst="rect">
              <a:avLst/>
            </a:prstGeom>
            <a:solidFill>
              <a:srgbClr val="7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060880" y="2036880"/>
              <a:ext cx="11160" cy="738000"/>
            </a:xfrm>
            <a:prstGeom prst="rect">
              <a:avLst/>
            </a:prstGeom>
            <a:solidFill>
              <a:srgbClr val="7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072040" y="2036880"/>
              <a:ext cx="9360" cy="738000"/>
            </a:xfrm>
            <a:prstGeom prst="rect">
              <a:avLst/>
            </a:prstGeom>
            <a:solidFill>
              <a:srgbClr val="8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081400" y="2036880"/>
              <a:ext cx="9720" cy="738000"/>
            </a:xfrm>
            <a:prstGeom prst="rect">
              <a:avLst/>
            </a:prstGeom>
            <a:solidFill>
              <a:srgbClr val="8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091120" y="2036880"/>
              <a:ext cx="11160" cy="738000"/>
            </a:xfrm>
            <a:prstGeom prst="rect">
              <a:avLst/>
            </a:prstGeom>
            <a:solidFill>
              <a:srgbClr val="8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102280" y="2036880"/>
              <a:ext cx="9360" cy="738000"/>
            </a:xfrm>
            <a:prstGeom prst="rect">
              <a:avLst/>
            </a:prstGeom>
            <a:solidFill>
              <a:srgbClr val="96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111640" y="2036880"/>
              <a:ext cx="11160" cy="73800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122800" y="2036880"/>
              <a:ext cx="9360" cy="738000"/>
            </a:xfrm>
            <a:prstGeom prst="rect">
              <a:avLst/>
            </a:prstGeom>
            <a:solidFill>
              <a:srgbClr val="a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132160" y="2036880"/>
              <a:ext cx="11160" cy="738000"/>
            </a:xfrm>
            <a:prstGeom prst="rect">
              <a:avLst/>
            </a:prstGeom>
            <a:solidFill>
              <a:srgbClr val="a8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143320" y="2036880"/>
              <a:ext cx="9720" cy="738000"/>
            </a:xfrm>
            <a:prstGeom prst="rect">
              <a:avLst/>
            </a:prstGeom>
            <a:solidFill>
              <a:srgbClr val="a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153040" y="2036880"/>
              <a:ext cx="9360" cy="738000"/>
            </a:xfrm>
            <a:prstGeom prst="rect">
              <a:avLst/>
            </a:pr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162400" y="2036880"/>
              <a:ext cx="11160" cy="738000"/>
            </a:xfrm>
            <a:prstGeom prst="rect">
              <a:avLst/>
            </a:prstGeom>
            <a:solidFill>
              <a:srgbClr val="b6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173560" y="2036880"/>
              <a:ext cx="9720" cy="738000"/>
            </a:xfrm>
            <a:prstGeom prst="rect">
              <a:avLst/>
            </a:prstGeom>
            <a:solidFill>
              <a:srgbClr val="ba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183280" y="2036880"/>
              <a:ext cx="10800" cy="738000"/>
            </a:xfrm>
            <a:prstGeom prst="rect">
              <a:avLst/>
            </a:prstGeom>
            <a:solidFill>
              <a:srgbClr val="b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194080" y="2036880"/>
              <a:ext cx="9720" cy="738000"/>
            </a:xfrm>
            <a:prstGeom prst="rect">
              <a:avLst/>
            </a:prstGeom>
            <a:solidFill>
              <a:srgbClr val="c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203800" y="2036880"/>
              <a:ext cx="11160" cy="738000"/>
            </a:xfrm>
            <a:prstGeom prst="rect">
              <a:avLst/>
            </a:prstGeom>
            <a:solidFill>
              <a:srgbClr val="c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214960" y="2036880"/>
              <a:ext cx="9360" cy="738000"/>
            </a:xfrm>
            <a:prstGeom prst="rect">
              <a:avLst/>
            </a:prstGeom>
            <a:solidFill>
              <a:srgbClr val="c5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224320" y="2036880"/>
              <a:ext cx="9720" cy="738000"/>
            </a:xfrm>
            <a:prstGeom prst="rect">
              <a:avLst/>
            </a:prstGeom>
            <a:solidFill>
              <a:srgbClr val="c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234040" y="2036880"/>
              <a:ext cx="11160" cy="738000"/>
            </a:xfrm>
            <a:prstGeom prst="rect">
              <a:avLst/>
            </a:prstGeom>
            <a:solidFill>
              <a:srgbClr val="c9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245200" y="2036880"/>
              <a:ext cx="9360" cy="738000"/>
            </a:xfrm>
            <a:prstGeom prst="rect">
              <a:avLst/>
            </a:prstGeom>
            <a:solidFill>
              <a:srgbClr val="ca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254560" y="2036880"/>
              <a:ext cx="11160" cy="738000"/>
            </a:xfrm>
            <a:prstGeom prst="rect">
              <a:avLst/>
            </a:prstGeom>
            <a:solidFill>
              <a:srgbClr val="cb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265720" y="2036880"/>
              <a:ext cx="9360" cy="738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5275080" y="2036880"/>
              <a:ext cx="11160" cy="738000"/>
            </a:xfrm>
            <a:prstGeom prst="rect">
              <a:avLst/>
            </a:prstGeom>
            <a:solidFill>
              <a:srgbClr val="cb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286240" y="2036880"/>
              <a:ext cx="9720" cy="738000"/>
            </a:xfrm>
            <a:prstGeom prst="rect">
              <a:avLst/>
            </a:prstGeom>
            <a:solidFill>
              <a:srgbClr val="ca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5295960" y="2036880"/>
              <a:ext cx="10800" cy="738000"/>
            </a:xfrm>
            <a:prstGeom prst="rect">
              <a:avLst/>
            </a:prstGeom>
            <a:solidFill>
              <a:srgbClr val="c9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306760" y="2036880"/>
              <a:ext cx="9720" cy="738000"/>
            </a:xfrm>
            <a:prstGeom prst="rect">
              <a:avLst/>
            </a:prstGeom>
            <a:solidFill>
              <a:srgbClr val="c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316480" y="2036880"/>
              <a:ext cx="9360" cy="738000"/>
            </a:xfrm>
            <a:prstGeom prst="rect">
              <a:avLst/>
            </a:prstGeom>
            <a:solidFill>
              <a:srgbClr val="c5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325840" y="2036880"/>
              <a:ext cx="11160" cy="738000"/>
            </a:xfrm>
            <a:prstGeom prst="rect">
              <a:avLst/>
            </a:prstGeom>
            <a:solidFill>
              <a:srgbClr val="c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337000" y="2036880"/>
              <a:ext cx="9720" cy="738000"/>
            </a:xfrm>
            <a:prstGeom prst="rect">
              <a:avLst/>
            </a:prstGeom>
            <a:solidFill>
              <a:srgbClr val="c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346720" y="2036880"/>
              <a:ext cx="11160" cy="738000"/>
            </a:xfrm>
            <a:prstGeom prst="rect">
              <a:avLst/>
            </a:prstGeom>
            <a:solidFill>
              <a:srgbClr val="b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357880" y="2036880"/>
              <a:ext cx="9360" cy="738000"/>
            </a:xfrm>
            <a:prstGeom prst="rect">
              <a:avLst/>
            </a:prstGeom>
            <a:solidFill>
              <a:srgbClr val="ba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5367240" y="2036880"/>
              <a:ext cx="11160" cy="738000"/>
            </a:xfrm>
            <a:prstGeom prst="rect">
              <a:avLst/>
            </a:prstGeom>
            <a:solidFill>
              <a:srgbClr val="b7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378400" y="2036880"/>
              <a:ext cx="9360" cy="738000"/>
            </a:xfrm>
            <a:prstGeom prst="rect">
              <a:avLst/>
            </a:prstGeom>
            <a:solidFill>
              <a:srgbClr val="b2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387760" y="2036880"/>
              <a:ext cx="9720" cy="738000"/>
            </a:xfrm>
            <a:prstGeom prst="rect">
              <a:avLst/>
            </a:prstGeom>
            <a:solidFill>
              <a:srgbClr val="ad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397480" y="2036880"/>
              <a:ext cx="11160" cy="738000"/>
            </a:xfrm>
            <a:prstGeom prst="rect">
              <a:avLst/>
            </a:prstGeom>
            <a:solidFill>
              <a:srgbClr val="a8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08640" y="2036880"/>
              <a:ext cx="9360" cy="738000"/>
            </a:xfrm>
            <a:prstGeom prst="rect">
              <a:avLst/>
            </a:prstGeom>
            <a:solidFill>
              <a:srgbClr val="a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418000" y="2036880"/>
              <a:ext cx="11160" cy="73800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429160" y="2036880"/>
              <a:ext cx="9360" cy="738000"/>
            </a:xfrm>
            <a:prstGeom prst="rect">
              <a:avLst/>
            </a:prstGeom>
            <a:solidFill>
              <a:srgbClr val="96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38520" y="2036880"/>
              <a:ext cx="11160" cy="738000"/>
            </a:xfrm>
            <a:prstGeom prst="rect">
              <a:avLst/>
            </a:prstGeom>
            <a:solidFill>
              <a:srgbClr val="8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449680" y="2036880"/>
              <a:ext cx="9720" cy="738000"/>
            </a:xfrm>
            <a:prstGeom prst="rect">
              <a:avLst/>
            </a:prstGeom>
            <a:solidFill>
              <a:srgbClr val="89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459400" y="2036880"/>
              <a:ext cx="9360" cy="738000"/>
            </a:xfrm>
            <a:prstGeom prst="rect">
              <a:avLst/>
            </a:prstGeom>
            <a:solidFill>
              <a:srgbClr val="8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468760" y="2036880"/>
              <a:ext cx="11160" cy="738000"/>
            </a:xfrm>
            <a:prstGeom prst="rect">
              <a:avLst/>
            </a:prstGeom>
            <a:solidFill>
              <a:srgbClr val="7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5479920" y="2036880"/>
              <a:ext cx="9720" cy="738000"/>
            </a:xfrm>
            <a:prstGeom prst="rect">
              <a:avLst/>
            </a:prstGeom>
            <a:solidFill>
              <a:srgbClr val="7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489640" y="2036880"/>
              <a:ext cx="10800" cy="738000"/>
            </a:xfrm>
            <a:prstGeom prst="rect">
              <a:avLst/>
            </a:prstGeom>
            <a:solidFill>
              <a:srgbClr val="73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500440" y="2036880"/>
              <a:ext cx="9720" cy="738000"/>
            </a:xfrm>
            <a:prstGeom prst="rect">
              <a:avLst/>
            </a:prstGeom>
            <a:solidFill>
              <a:srgbClr val="6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510160" y="2036880"/>
              <a:ext cx="11160" cy="738000"/>
            </a:xfrm>
            <a:prstGeom prst="rect">
              <a:avLst/>
            </a:prstGeom>
            <a:solidFill>
              <a:srgbClr val="6b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521320" y="2036880"/>
              <a:ext cx="9360" cy="738000"/>
            </a:xfrm>
            <a:prstGeom prst="rect">
              <a:avLst/>
            </a:prstGeom>
            <a:solidFill>
              <a:srgbClr val="67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530680" y="2036880"/>
              <a:ext cx="11160" cy="738000"/>
            </a:xfrm>
            <a:prstGeom prst="rect">
              <a:avLst/>
            </a:prstGeom>
            <a:solidFill>
              <a:srgbClr val="64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541840" y="2036880"/>
              <a:ext cx="9720" cy="738000"/>
            </a:xfrm>
            <a:prstGeom prst="rect">
              <a:avLst/>
            </a:prstGeom>
            <a:solidFill>
              <a:srgbClr val="62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551560" y="2036880"/>
              <a:ext cx="9360" cy="738000"/>
            </a:xfrm>
            <a:prstGeom prst="rect">
              <a:avLst/>
            </a:prstGeom>
            <a:solidFill>
              <a:srgbClr val="5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979880" y="2036880"/>
              <a:ext cx="581040" cy="73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796000" y="2036880"/>
              <a:ext cx="11160" cy="884160"/>
            </a:xfrm>
            <a:prstGeom prst="rect">
              <a:avLst/>
            </a:prstGeom>
            <a:solidFill>
              <a:srgbClr val="5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807160" y="2036880"/>
              <a:ext cx="9360" cy="884160"/>
            </a:xfrm>
            <a:prstGeom prst="rect">
              <a:avLst/>
            </a:prstGeom>
            <a:solidFill>
              <a:srgbClr val="62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816520" y="2036880"/>
              <a:ext cx="11160" cy="884160"/>
            </a:xfrm>
            <a:prstGeom prst="rect">
              <a:avLst/>
            </a:prstGeom>
            <a:solidFill>
              <a:srgbClr val="64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827680" y="2036880"/>
              <a:ext cx="9360" cy="884160"/>
            </a:xfrm>
            <a:prstGeom prst="rect">
              <a:avLst/>
            </a:prstGeom>
            <a:solidFill>
              <a:srgbClr val="67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837040" y="2036880"/>
              <a:ext cx="11160" cy="884160"/>
            </a:xfrm>
            <a:prstGeom prst="rect">
              <a:avLst/>
            </a:prstGeom>
            <a:solidFill>
              <a:srgbClr val="6b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848200" y="2036880"/>
              <a:ext cx="9720" cy="884160"/>
            </a:xfrm>
            <a:prstGeom prst="rect">
              <a:avLst/>
            </a:prstGeom>
            <a:solidFill>
              <a:srgbClr val="6f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857920" y="2036880"/>
              <a:ext cx="9360" cy="884160"/>
            </a:xfrm>
            <a:prstGeom prst="rect">
              <a:avLst/>
            </a:prstGeom>
            <a:solidFill>
              <a:srgbClr val="7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867280" y="2036880"/>
              <a:ext cx="11160" cy="884160"/>
            </a:xfrm>
            <a:prstGeom prst="rect">
              <a:avLst/>
            </a:prstGeom>
            <a:solidFill>
              <a:srgbClr val="77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>
            <a:off x="5878440" y="2036880"/>
            <a:ext cx="9720" cy="884160"/>
          </a:xfrm>
          <a:prstGeom prst="rect">
            <a:avLst/>
          </a:prstGeom>
          <a:solidFill>
            <a:srgbClr val="7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5888160" y="2036880"/>
            <a:ext cx="11160" cy="884160"/>
          </a:xfrm>
          <a:prstGeom prst="rect">
            <a:avLst/>
          </a:prstGeom>
          <a:solidFill>
            <a:srgbClr val="82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5899320" y="2036880"/>
            <a:ext cx="9360" cy="884160"/>
          </a:xfrm>
          <a:prstGeom prst="rect">
            <a:avLst/>
          </a:prstGeom>
          <a:solidFill>
            <a:srgbClr val="88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5908680" y="2036880"/>
            <a:ext cx="11160" cy="884160"/>
          </a:xfrm>
          <a:prstGeom prst="rect">
            <a:avLst/>
          </a:prstGeom>
          <a:solidFill>
            <a:srgbClr val="8e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5919840" y="2036880"/>
            <a:ext cx="9360" cy="884160"/>
          </a:xfrm>
          <a:prstGeom prst="rect">
            <a:avLst/>
          </a:prstGeom>
          <a:solidFill>
            <a:srgbClr val="94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5929200" y="2036880"/>
            <a:ext cx="9720" cy="884160"/>
          </a:xfrm>
          <a:prstGeom prst="rect">
            <a:avLst/>
          </a:prstGeom>
          <a:solidFill>
            <a:srgbClr val="9b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5938920" y="2036880"/>
            <a:ext cx="11160" cy="884160"/>
          </a:xfrm>
          <a:prstGeom prst="rect">
            <a:avLst/>
          </a:prstGeom>
          <a:solidFill>
            <a:srgbClr val="a1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5950080" y="2036880"/>
            <a:ext cx="9360" cy="884160"/>
          </a:xfrm>
          <a:prstGeom prst="rect">
            <a:avLst/>
          </a:prstGeom>
          <a:solidFill>
            <a:srgbClr val="a6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5959440" y="2036880"/>
            <a:ext cx="11160" cy="884160"/>
          </a:xfrm>
          <a:prstGeom prst="rect">
            <a:avLst/>
          </a:prstGeom>
          <a:solidFill>
            <a:srgbClr val="ab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970600" y="2036880"/>
            <a:ext cx="9360" cy="884160"/>
          </a:xfrm>
          <a:prstGeom prst="rect">
            <a:avLst/>
          </a:prstGeom>
          <a:solidFill>
            <a:srgbClr val="b1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5979960" y="2036880"/>
            <a:ext cx="11160" cy="884160"/>
          </a:xfrm>
          <a:prstGeom prst="rect">
            <a:avLst/>
          </a:prstGeom>
          <a:solidFill>
            <a:srgbClr val="b5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5991120" y="2036880"/>
            <a:ext cx="9720" cy="884160"/>
          </a:xfrm>
          <a:prstGeom prst="rect">
            <a:avLst/>
          </a:prstGeom>
          <a:solidFill>
            <a:srgbClr val="b9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6000840" y="2036880"/>
            <a:ext cx="11160" cy="884160"/>
          </a:xfrm>
          <a:prstGeom prst="rect">
            <a:avLst/>
          </a:prstGeom>
          <a:solidFill>
            <a:srgbClr val="bc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6012000" y="2036880"/>
            <a:ext cx="9360" cy="884160"/>
          </a:xfrm>
          <a:prstGeom prst="rect">
            <a:avLst/>
          </a:prstGeom>
          <a:solidFill>
            <a:srgbClr val="c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6021360" y="2036880"/>
            <a:ext cx="9720" cy="884160"/>
          </a:xfrm>
          <a:prstGeom prst="rect">
            <a:avLst/>
          </a:prstGeom>
          <a:solidFill>
            <a:srgbClr val="c2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6031080" y="2036880"/>
            <a:ext cx="10800" cy="884160"/>
          </a:xfrm>
          <a:prstGeom prst="rect">
            <a:avLst/>
          </a:prstGeom>
          <a:solidFill>
            <a:srgbClr val="c4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6041880" y="2036880"/>
            <a:ext cx="9720" cy="884160"/>
          </a:xfrm>
          <a:prstGeom prst="rect">
            <a:avLst/>
          </a:prstGeom>
          <a:solidFill>
            <a:srgbClr val="c6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6051600" y="2036880"/>
            <a:ext cx="11160" cy="884160"/>
          </a:xfrm>
          <a:prstGeom prst="rect">
            <a:avLst/>
          </a:prstGeom>
          <a:solidFill>
            <a:srgbClr val="c8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6062760" y="2036880"/>
            <a:ext cx="9360" cy="88416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6072120" y="2036880"/>
            <a:ext cx="11160" cy="88416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6083280" y="2036880"/>
            <a:ext cx="19080" cy="884160"/>
          </a:xfrm>
          <a:prstGeom prst="rect">
            <a:avLst/>
          </a:prstGeom>
          <a:solidFill>
            <a:srgbClr val="cb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6102360" y="2036880"/>
            <a:ext cx="11160" cy="88416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6113520" y="2036880"/>
            <a:ext cx="9360" cy="88416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6122880" y="2036880"/>
            <a:ext cx="11160" cy="884160"/>
          </a:xfrm>
          <a:prstGeom prst="rect">
            <a:avLst/>
          </a:prstGeom>
          <a:solidFill>
            <a:srgbClr val="c8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134040" y="2036880"/>
            <a:ext cx="9720" cy="884160"/>
          </a:xfrm>
          <a:prstGeom prst="rect">
            <a:avLst/>
          </a:prstGeom>
          <a:solidFill>
            <a:srgbClr val="c6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6143760" y="2036880"/>
            <a:ext cx="10800" cy="884160"/>
          </a:xfrm>
          <a:prstGeom prst="rect">
            <a:avLst/>
          </a:prstGeom>
          <a:solidFill>
            <a:srgbClr val="c4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6154560" y="2036880"/>
            <a:ext cx="9720" cy="884160"/>
          </a:xfrm>
          <a:prstGeom prst="rect">
            <a:avLst/>
          </a:prstGeom>
          <a:solidFill>
            <a:srgbClr val="c2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6164280" y="2036880"/>
            <a:ext cx="11160" cy="884160"/>
          </a:xfrm>
          <a:prstGeom prst="rect">
            <a:avLst/>
          </a:prstGeom>
          <a:solidFill>
            <a:srgbClr val="c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6175440" y="2036880"/>
            <a:ext cx="9360" cy="884160"/>
          </a:xfrm>
          <a:prstGeom prst="rect">
            <a:avLst/>
          </a:prstGeom>
          <a:solidFill>
            <a:srgbClr val="bd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6184800" y="2036880"/>
            <a:ext cx="9720" cy="884160"/>
          </a:xfrm>
          <a:prstGeom prst="rect">
            <a:avLst/>
          </a:prstGeom>
          <a:solidFill>
            <a:srgbClr val="b9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6194520" y="2036880"/>
            <a:ext cx="11160" cy="884160"/>
          </a:xfrm>
          <a:prstGeom prst="rect">
            <a:avLst/>
          </a:prstGeom>
          <a:solidFill>
            <a:srgbClr val="b5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205680" y="2036880"/>
            <a:ext cx="9360" cy="884160"/>
          </a:xfrm>
          <a:prstGeom prst="rect">
            <a:avLst/>
          </a:prstGeom>
          <a:solidFill>
            <a:srgbClr val="b1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6215040" y="2036880"/>
            <a:ext cx="11160" cy="884160"/>
          </a:xfrm>
          <a:prstGeom prst="rect">
            <a:avLst/>
          </a:prstGeom>
          <a:solidFill>
            <a:srgbClr val="ac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6226200" y="2036880"/>
            <a:ext cx="9360" cy="884160"/>
          </a:xfrm>
          <a:prstGeom prst="rect">
            <a:avLst/>
          </a:prstGeom>
          <a:solidFill>
            <a:srgbClr val="a6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235560" y="2036880"/>
            <a:ext cx="11160" cy="884160"/>
          </a:xfrm>
          <a:prstGeom prst="rect">
            <a:avLst/>
          </a:prstGeom>
          <a:solidFill>
            <a:srgbClr val="a1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6246720" y="2036880"/>
            <a:ext cx="9720" cy="884160"/>
          </a:xfrm>
          <a:prstGeom prst="rect">
            <a:avLst/>
          </a:prstGeom>
          <a:solidFill>
            <a:srgbClr val="9b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6256440" y="2036880"/>
            <a:ext cx="9360" cy="884160"/>
          </a:xfrm>
          <a:prstGeom prst="rect">
            <a:avLst/>
          </a:prstGeom>
          <a:solidFill>
            <a:srgbClr val="94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265800" y="2036880"/>
            <a:ext cx="11160" cy="884160"/>
          </a:xfrm>
          <a:prstGeom prst="rect">
            <a:avLst/>
          </a:prstGeom>
          <a:solidFill>
            <a:srgbClr val="8e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6276960" y="2036880"/>
            <a:ext cx="9720" cy="884160"/>
          </a:xfrm>
          <a:prstGeom prst="rect">
            <a:avLst/>
          </a:prstGeom>
          <a:solidFill>
            <a:srgbClr val="88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6286680" y="2036880"/>
            <a:ext cx="10800" cy="884160"/>
          </a:xfrm>
          <a:prstGeom prst="rect">
            <a:avLst/>
          </a:prstGeom>
          <a:solidFill>
            <a:srgbClr val="82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6297480" y="2036880"/>
            <a:ext cx="9720" cy="884160"/>
          </a:xfrm>
          <a:prstGeom prst="rect">
            <a:avLst/>
          </a:prstGeom>
          <a:solidFill>
            <a:srgbClr val="7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307200" y="2036880"/>
            <a:ext cx="11160" cy="884160"/>
          </a:xfrm>
          <a:prstGeom prst="rect">
            <a:avLst/>
          </a:prstGeom>
          <a:solidFill>
            <a:srgbClr val="77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6318360" y="2036880"/>
            <a:ext cx="9360" cy="884160"/>
          </a:xfrm>
          <a:prstGeom prst="rect">
            <a:avLst/>
          </a:prstGeom>
          <a:solidFill>
            <a:srgbClr val="73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327720" y="2036880"/>
            <a:ext cx="9720" cy="884160"/>
          </a:xfrm>
          <a:prstGeom prst="rect">
            <a:avLst/>
          </a:prstGeom>
          <a:solidFill>
            <a:srgbClr val="6f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337440" y="2036880"/>
            <a:ext cx="10800" cy="884160"/>
          </a:xfrm>
          <a:prstGeom prst="rect">
            <a:avLst/>
          </a:prstGeom>
          <a:solidFill>
            <a:srgbClr val="6b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348240" y="2036880"/>
            <a:ext cx="9720" cy="884160"/>
          </a:xfrm>
          <a:prstGeom prst="rect">
            <a:avLst/>
          </a:prstGeom>
          <a:solidFill>
            <a:srgbClr val="67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6357960" y="2036880"/>
            <a:ext cx="11160" cy="884160"/>
          </a:xfrm>
          <a:prstGeom prst="rect">
            <a:avLst/>
          </a:prstGeom>
          <a:solidFill>
            <a:srgbClr val="64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6369120" y="2036880"/>
            <a:ext cx="9360" cy="884160"/>
          </a:xfrm>
          <a:prstGeom prst="rect">
            <a:avLst/>
          </a:prstGeom>
          <a:solidFill>
            <a:srgbClr val="62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378480" y="2036880"/>
            <a:ext cx="11160" cy="884160"/>
          </a:xfrm>
          <a:prstGeom prst="rect">
            <a:avLst/>
          </a:prstGeom>
          <a:solidFill>
            <a:srgbClr val="5f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796000" y="2036880"/>
            <a:ext cx="593640" cy="88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6624720" y="2036880"/>
            <a:ext cx="9360" cy="1081080"/>
          </a:xfrm>
          <a:prstGeom prst="rect">
            <a:avLst/>
          </a:prstGeom>
          <a:solidFill>
            <a:srgbClr val="5f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6634080" y="2036880"/>
            <a:ext cx="11160" cy="1081080"/>
          </a:xfrm>
          <a:prstGeom prst="rect">
            <a:avLst/>
          </a:prstGeom>
          <a:solidFill>
            <a:srgbClr val="62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6645240" y="2036880"/>
            <a:ext cx="9720" cy="1081080"/>
          </a:xfrm>
          <a:prstGeom prst="rect">
            <a:avLst/>
          </a:prstGeom>
          <a:solidFill>
            <a:srgbClr val="64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6654960" y="2036880"/>
            <a:ext cx="9360" cy="1081080"/>
          </a:xfrm>
          <a:prstGeom prst="rect">
            <a:avLst/>
          </a:prstGeom>
          <a:solidFill>
            <a:srgbClr val="67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6664320" y="2036880"/>
            <a:ext cx="11160" cy="1081080"/>
          </a:xfrm>
          <a:prstGeom prst="rect">
            <a:avLst/>
          </a:prstGeom>
          <a:solidFill>
            <a:srgbClr val="6b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6675480" y="2036880"/>
            <a:ext cx="9360" cy="1081080"/>
          </a:xfrm>
          <a:prstGeom prst="rect">
            <a:avLst/>
          </a:prstGeom>
          <a:solidFill>
            <a:srgbClr val="6f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6684840" y="2036880"/>
            <a:ext cx="11160" cy="1081080"/>
          </a:xfrm>
          <a:prstGeom prst="rect">
            <a:avLst/>
          </a:prstGeom>
          <a:solidFill>
            <a:srgbClr val="73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6696000" y="2036880"/>
            <a:ext cx="9720" cy="1081080"/>
          </a:xfrm>
          <a:prstGeom prst="rect">
            <a:avLst/>
          </a:prstGeom>
          <a:solidFill>
            <a:srgbClr val="78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6705720" y="2036880"/>
            <a:ext cx="11160" cy="1081080"/>
          </a:xfrm>
          <a:prstGeom prst="rect">
            <a:avLst/>
          </a:prstGeom>
          <a:solidFill>
            <a:srgbClr val="7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6716880" y="2036880"/>
            <a:ext cx="9360" cy="1081080"/>
          </a:xfrm>
          <a:prstGeom prst="rect">
            <a:avLst/>
          </a:prstGeom>
          <a:solidFill>
            <a:srgbClr val="83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6726240" y="2036880"/>
            <a:ext cx="9360" cy="1081080"/>
          </a:xfrm>
          <a:prstGeom prst="rect">
            <a:avLst/>
          </a:prstGeom>
          <a:solidFill>
            <a:srgbClr val="89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6735600" y="2036880"/>
            <a:ext cx="11160" cy="1081080"/>
          </a:xfrm>
          <a:prstGeom prst="rect">
            <a:avLst/>
          </a:prstGeom>
          <a:solidFill>
            <a:srgbClr val="8f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6746760" y="2036880"/>
            <a:ext cx="9720" cy="1081080"/>
          </a:xfrm>
          <a:prstGeom prst="rect">
            <a:avLst/>
          </a:prstGeom>
          <a:solidFill>
            <a:srgbClr val="96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6756480" y="2036880"/>
            <a:ext cx="11160" cy="1081080"/>
          </a:xfrm>
          <a:prstGeom prst="rect">
            <a:avLst/>
          </a:prstGeom>
          <a:solidFill>
            <a:srgbClr val="9c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6767640" y="2036880"/>
            <a:ext cx="9360" cy="1081080"/>
          </a:xfrm>
          <a:prstGeom prst="rect">
            <a:avLst/>
          </a:prstGeom>
          <a:solidFill>
            <a:srgbClr val="a2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777000" y="2036880"/>
            <a:ext cx="11160" cy="1081080"/>
          </a:xfrm>
          <a:prstGeom prst="rect">
            <a:avLst/>
          </a:prstGeom>
          <a:solidFill>
            <a:srgbClr val="a8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6788160" y="2036880"/>
            <a:ext cx="9360" cy="1081080"/>
          </a:xfrm>
          <a:prstGeom prst="rect">
            <a:avLst/>
          </a:prstGeom>
          <a:solidFill>
            <a:srgbClr val="ad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6797520" y="2036880"/>
            <a:ext cx="9720" cy="1081080"/>
          </a:xfrm>
          <a:prstGeom prst="rect">
            <a:avLst/>
          </a:prstGeom>
          <a:solidFill>
            <a:srgbClr val="b2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6807240" y="2036880"/>
            <a:ext cx="11160" cy="1081080"/>
          </a:xfrm>
          <a:prstGeom prst="rect">
            <a:avLst/>
          </a:prstGeom>
          <a:solidFill>
            <a:srgbClr val="b6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6818400" y="2036880"/>
            <a:ext cx="9360" cy="1081080"/>
          </a:xfrm>
          <a:prstGeom prst="rect">
            <a:avLst/>
          </a:prstGeom>
          <a:solidFill>
            <a:srgbClr val="ba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6827760" y="2036880"/>
            <a:ext cx="11160" cy="1081080"/>
          </a:xfrm>
          <a:prstGeom prst="rect">
            <a:avLst/>
          </a:prstGeom>
          <a:solidFill>
            <a:srgbClr val="be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6838920" y="2036880"/>
            <a:ext cx="9720" cy="1081080"/>
          </a:xfrm>
          <a:prstGeom prst="rect">
            <a:avLst/>
          </a:prstGeom>
          <a:solidFill>
            <a:srgbClr val="c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848640" y="2036880"/>
            <a:ext cx="10800" cy="1081080"/>
          </a:xfrm>
          <a:prstGeom prst="rect">
            <a:avLst/>
          </a:prstGeom>
          <a:solidFill>
            <a:srgbClr val="c3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859440" y="2036880"/>
            <a:ext cx="9720" cy="1081080"/>
          </a:xfrm>
          <a:prstGeom prst="rect">
            <a:avLst/>
          </a:prstGeom>
          <a:solidFill>
            <a:srgbClr val="c5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6869160" y="2036880"/>
            <a:ext cx="11160" cy="1081080"/>
          </a:xfrm>
          <a:prstGeom prst="rect">
            <a:avLst/>
          </a:prstGeom>
          <a:solidFill>
            <a:srgbClr val="c7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6880320" y="2036880"/>
            <a:ext cx="9360" cy="108108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889680" y="2036880"/>
            <a:ext cx="9720" cy="108108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899400" y="2036880"/>
            <a:ext cx="11160" cy="1081080"/>
          </a:xfrm>
          <a:prstGeom prst="rect">
            <a:avLst/>
          </a:prstGeom>
          <a:solidFill>
            <a:srgbClr val="cb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6910560" y="2036880"/>
            <a:ext cx="9360" cy="10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6919920" y="2036880"/>
            <a:ext cx="11160" cy="1081080"/>
          </a:xfrm>
          <a:prstGeom prst="rect">
            <a:avLst/>
          </a:prstGeom>
          <a:solidFill>
            <a:srgbClr val="cb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6931080" y="2036880"/>
            <a:ext cx="9360" cy="108108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940440" y="2036880"/>
            <a:ext cx="11160" cy="108108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951600" y="2036880"/>
            <a:ext cx="9720" cy="1081080"/>
          </a:xfrm>
          <a:prstGeom prst="rect">
            <a:avLst/>
          </a:prstGeom>
          <a:solidFill>
            <a:srgbClr val="c7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961320" y="2036880"/>
            <a:ext cx="9360" cy="1081080"/>
          </a:xfrm>
          <a:prstGeom prst="rect">
            <a:avLst/>
          </a:prstGeom>
          <a:solidFill>
            <a:srgbClr val="c5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6970680" y="2036880"/>
            <a:ext cx="11160" cy="1081080"/>
          </a:xfrm>
          <a:prstGeom prst="rect">
            <a:avLst/>
          </a:prstGeom>
          <a:solidFill>
            <a:srgbClr val="c3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6981840" y="2036880"/>
            <a:ext cx="9360" cy="1081080"/>
          </a:xfrm>
          <a:prstGeom prst="rect">
            <a:avLst/>
          </a:prstGeom>
          <a:solidFill>
            <a:srgbClr val="c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6991200" y="2036880"/>
            <a:ext cx="11160" cy="1081080"/>
          </a:xfrm>
          <a:prstGeom prst="rect">
            <a:avLst/>
          </a:prstGeom>
          <a:solidFill>
            <a:srgbClr val="be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7002360" y="2036880"/>
            <a:ext cx="9720" cy="1081080"/>
          </a:xfrm>
          <a:prstGeom prst="rect">
            <a:avLst/>
          </a:prstGeom>
          <a:solidFill>
            <a:srgbClr val="ba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012080" y="2036880"/>
            <a:ext cx="11160" cy="1081080"/>
          </a:xfrm>
          <a:prstGeom prst="rect">
            <a:avLst/>
          </a:prstGeom>
          <a:solidFill>
            <a:srgbClr val="b7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7023240" y="2036880"/>
            <a:ext cx="9360" cy="1081080"/>
          </a:xfrm>
          <a:prstGeom prst="rect">
            <a:avLst/>
          </a:prstGeom>
          <a:solidFill>
            <a:srgbClr val="b2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7032600" y="2036880"/>
            <a:ext cx="9720" cy="1081080"/>
          </a:xfrm>
          <a:prstGeom prst="rect">
            <a:avLst/>
          </a:prstGeom>
          <a:solidFill>
            <a:srgbClr val="ad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7042320" y="2036880"/>
            <a:ext cx="10800" cy="1081080"/>
          </a:xfrm>
          <a:prstGeom prst="rect">
            <a:avLst/>
          </a:prstGeom>
          <a:solidFill>
            <a:srgbClr val="a8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7053120" y="2036880"/>
            <a:ext cx="9720" cy="1081080"/>
          </a:xfrm>
          <a:prstGeom prst="rect">
            <a:avLst/>
          </a:prstGeom>
          <a:solidFill>
            <a:srgbClr val="a2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7062840" y="2036880"/>
            <a:ext cx="11160" cy="1081080"/>
          </a:xfrm>
          <a:prstGeom prst="rect">
            <a:avLst/>
          </a:prstGeom>
          <a:solidFill>
            <a:srgbClr val="9c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7074000" y="2036880"/>
            <a:ext cx="9360" cy="1081080"/>
          </a:xfrm>
          <a:prstGeom prst="rect">
            <a:avLst/>
          </a:prstGeom>
          <a:solidFill>
            <a:srgbClr val="96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7083360" y="2036880"/>
            <a:ext cx="11160" cy="1081080"/>
          </a:xfrm>
          <a:prstGeom prst="rect">
            <a:avLst/>
          </a:prstGeom>
          <a:solidFill>
            <a:srgbClr val="8f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7094520" y="2036880"/>
            <a:ext cx="9720" cy="1081080"/>
          </a:xfrm>
          <a:prstGeom prst="rect">
            <a:avLst/>
          </a:prstGeom>
          <a:solidFill>
            <a:srgbClr val="89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7104240" y="2036880"/>
            <a:ext cx="10800" cy="1081080"/>
          </a:xfrm>
          <a:prstGeom prst="rect">
            <a:avLst/>
          </a:prstGeom>
          <a:solidFill>
            <a:srgbClr val="83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7115040" y="2036880"/>
            <a:ext cx="9720" cy="1081080"/>
          </a:xfrm>
          <a:prstGeom prst="rect">
            <a:avLst/>
          </a:prstGeom>
          <a:solidFill>
            <a:srgbClr val="7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7124760" y="2036880"/>
            <a:ext cx="9360" cy="1081080"/>
          </a:xfrm>
          <a:prstGeom prst="rect">
            <a:avLst/>
          </a:prstGeom>
          <a:solidFill>
            <a:srgbClr val="78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7134120" y="2036880"/>
            <a:ext cx="11160" cy="1081080"/>
          </a:xfrm>
          <a:prstGeom prst="rect">
            <a:avLst/>
          </a:prstGeom>
          <a:solidFill>
            <a:srgbClr val="73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7145280" y="2036880"/>
            <a:ext cx="9720" cy="1081080"/>
          </a:xfrm>
          <a:prstGeom prst="rect">
            <a:avLst/>
          </a:prstGeom>
          <a:solidFill>
            <a:srgbClr val="6f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7155000" y="2036880"/>
            <a:ext cx="10800" cy="1081080"/>
          </a:xfrm>
          <a:prstGeom prst="rect">
            <a:avLst/>
          </a:prstGeom>
          <a:solidFill>
            <a:srgbClr val="6b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7165800" y="2036880"/>
            <a:ext cx="9720" cy="1081080"/>
          </a:xfrm>
          <a:prstGeom prst="rect">
            <a:avLst/>
          </a:prstGeom>
          <a:solidFill>
            <a:srgbClr val="67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175520" y="2036880"/>
            <a:ext cx="11160" cy="1081080"/>
          </a:xfrm>
          <a:prstGeom prst="rect">
            <a:avLst/>
          </a:prstGeom>
          <a:solidFill>
            <a:srgbClr val="64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7186680" y="2036880"/>
            <a:ext cx="9360" cy="1081080"/>
          </a:xfrm>
          <a:prstGeom prst="rect">
            <a:avLst/>
          </a:prstGeom>
          <a:solidFill>
            <a:srgbClr val="62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7196040" y="2036880"/>
            <a:ext cx="9720" cy="1081080"/>
          </a:xfrm>
          <a:prstGeom prst="rect">
            <a:avLst/>
          </a:prstGeom>
          <a:solidFill>
            <a:srgbClr val="5f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6624720" y="2036880"/>
            <a:ext cx="5810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7440480" y="2036880"/>
            <a:ext cx="11160" cy="842760"/>
          </a:xfrm>
          <a:prstGeom prst="rect">
            <a:avLst/>
          </a:prstGeom>
          <a:solidFill>
            <a:srgbClr val="5f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7451640" y="2036880"/>
            <a:ext cx="9720" cy="842760"/>
          </a:xfrm>
          <a:prstGeom prst="rect">
            <a:avLst/>
          </a:prstGeom>
          <a:solidFill>
            <a:srgbClr val="62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7461360" y="2036880"/>
            <a:ext cx="11160" cy="842760"/>
          </a:xfrm>
          <a:prstGeom prst="rect">
            <a:avLst/>
          </a:prstGeom>
          <a:solidFill>
            <a:srgbClr val="64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7472520" y="2036880"/>
            <a:ext cx="9360" cy="842760"/>
          </a:xfrm>
          <a:prstGeom prst="rect">
            <a:avLst/>
          </a:prstGeom>
          <a:solidFill>
            <a:srgbClr val="67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7481880" y="2036880"/>
            <a:ext cx="11160" cy="842760"/>
          </a:xfrm>
          <a:prstGeom prst="rect">
            <a:avLst/>
          </a:prstGeom>
          <a:solidFill>
            <a:srgbClr val="6b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7493040" y="2036880"/>
            <a:ext cx="9360" cy="842760"/>
          </a:xfrm>
          <a:prstGeom prst="rect">
            <a:avLst/>
          </a:prstGeom>
          <a:solidFill>
            <a:srgbClr val="6f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7502400" y="2036880"/>
            <a:ext cx="9720" cy="842760"/>
          </a:xfrm>
          <a:prstGeom prst="rect">
            <a:avLst/>
          </a:prstGeom>
          <a:solidFill>
            <a:srgbClr val="73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7512120" y="2036880"/>
            <a:ext cx="11160" cy="842760"/>
          </a:xfrm>
          <a:prstGeom prst="rect">
            <a:avLst/>
          </a:prstGeom>
          <a:solidFill>
            <a:srgbClr val="78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523280" y="2036880"/>
            <a:ext cx="9360" cy="842760"/>
          </a:xfrm>
          <a:prstGeom prst="rect">
            <a:avLst/>
          </a:prstGeom>
          <a:solidFill>
            <a:srgbClr val="7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7532640" y="2036880"/>
            <a:ext cx="11160" cy="842760"/>
          </a:xfrm>
          <a:prstGeom prst="rect">
            <a:avLst/>
          </a:prstGeom>
          <a:solidFill>
            <a:srgbClr val="83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7543800" y="2036880"/>
            <a:ext cx="9360" cy="842760"/>
          </a:xfrm>
          <a:prstGeom prst="rect">
            <a:avLst/>
          </a:prstGeom>
          <a:solidFill>
            <a:srgbClr val="89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7553160" y="2036880"/>
            <a:ext cx="11160" cy="842760"/>
          </a:xfrm>
          <a:prstGeom prst="rect">
            <a:avLst/>
          </a:prstGeom>
          <a:solidFill>
            <a:srgbClr val="8f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7564320" y="2036880"/>
            <a:ext cx="9720" cy="842760"/>
          </a:xfrm>
          <a:prstGeom prst="rect">
            <a:avLst/>
          </a:prstGeom>
          <a:solidFill>
            <a:srgbClr val="96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7574040" y="2036880"/>
            <a:ext cx="11160" cy="842760"/>
          </a:xfrm>
          <a:prstGeom prst="rect">
            <a:avLst/>
          </a:prstGeom>
          <a:solidFill>
            <a:srgbClr val="9c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7585200" y="2036880"/>
            <a:ext cx="9360" cy="842760"/>
          </a:xfrm>
          <a:prstGeom prst="rect">
            <a:avLst/>
          </a:prstGeom>
          <a:solidFill>
            <a:srgbClr val="a2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7594560" y="2036880"/>
            <a:ext cx="9720" cy="842760"/>
          </a:xfrm>
          <a:prstGeom prst="rect">
            <a:avLst/>
          </a:prstGeom>
          <a:solidFill>
            <a:srgbClr val="a8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7604280" y="2036880"/>
            <a:ext cx="10800" cy="842760"/>
          </a:xfrm>
          <a:prstGeom prst="rect">
            <a:avLst/>
          </a:prstGeom>
          <a:solidFill>
            <a:srgbClr val="ad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7615080" y="2036880"/>
            <a:ext cx="9720" cy="842760"/>
          </a:xfrm>
          <a:prstGeom prst="rect">
            <a:avLst/>
          </a:prstGeom>
          <a:solidFill>
            <a:srgbClr val="b2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7624800" y="2036880"/>
            <a:ext cx="11160" cy="842760"/>
          </a:xfrm>
          <a:prstGeom prst="rect">
            <a:avLst/>
          </a:prstGeom>
          <a:solidFill>
            <a:srgbClr val="b6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7635960" y="2036880"/>
            <a:ext cx="9360" cy="842760"/>
          </a:xfrm>
          <a:prstGeom prst="rect">
            <a:avLst/>
          </a:prstGeom>
          <a:solidFill>
            <a:srgbClr val="ba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7645320" y="2036880"/>
            <a:ext cx="11160" cy="842760"/>
          </a:xfrm>
          <a:prstGeom prst="rect">
            <a:avLst/>
          </a:prstGeom>
          <a:solidFill>
            <a:srgbClr val="be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7656480" y="2036880"/>
            <a:ext cx="9720" cy="842760"/>
          </a:xfrm>
          <a:prstGeom prst="rect">
            <a:avLst/>
          </a:prstGeom>
          <a:solidFill>
            <a:srgbClr val="c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7666200" y="2036880"/>
            <a:ext cx="9360" cy="842760"/>
          </a:xfrm>
          <a:prstGeom prst="rect">
            <a:avLst/>
          </a:prstGeom>
          <a:solidFill>
            <a:srgbClr val="c3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7675560" y="2036880"/>
            <a:ext cx="11160" cy="842760"/>
          </a:xfrm>
          <a:prstGeom prst="rect">
            <a:avLst/>
          </a:prstGeom>
          <a:solidFill>
            <a:srgbClr val="c5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7686720" y="2036880"/>
            <a:ext cx="9360" cy="842760"/>
          </a:xfrm>
          <a:prstGeom prst="rect">
            <a:avLst/>
          </a:prstGeom>
          <a:solidFill>
            <a:srgbClr val="c7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696080" y="2036880"/>
            <a:ext cx="11160" cy="84276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7707240" y="2036880"/>
            <a:ext cx="9720" cy="84276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716960" y="2036880"/>
            <a:ext cx="11160" cy="842760"/>
          </a:xfrm>
          <a:prstGeom prst="rect">
            <a:avLst/>
          </a:prstGeom>
          <a:solidFill>
            <a:srgbClr val="cb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728120" y="2036880"/>
            <a:ext cx="9360" cy="84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737480" y="2036880"/>
            <a:ext cx="11160" cy="842760"/>
          </a:xfrm>
          <a:prstGeom prst="rect">
            <a:avLst/>
          </a:prstGeom>
          <a:solidFill>
            <a:srgbClr val="cb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7748640" y="2036880"/>
            <a:ext cx="9360" cy="842760"/>
          </a:xfrm>
          <a:prstGeom prst="rect">
            <a:avLst/>
          </a:prstGeom>
          <a:solidFill>
            <a:srgbClr val="ca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7758000" y="2036880"/>
            <a:ext cx="9720" cy="842760"/>
          </a:xfrm>
          <a:prstGeom prst="rect">
            <a:avLst/>
          </a:prstGeom>
          <a:solidFill>
            <a:srgbClr val="c9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767720" y="2036880"/>
            <a:ext cx="11160" cy="842760"/>
          </a:xfrm>
          <a:prstGeom prst="rect">
            <a:avLst/>
          </a:prstGeom>
          <a:solidFill>
            <a:srgbClr val="c7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7778880" y="2036880"/>
            <a:ext cx="9360" cy="842760"/>
          </a:xfrm>
          <a:prstGeom prst="rect">
            <a:avLst/>
          </a:prstGeom>
          <a:solidFill>
            <a:srgbClr val="c5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7788240" y="2036880"/>
            <a:ext cx="11160" cy="842760"/>
          </a:xfrm>
          <a:prstGeom prst="rect">
            <a:avLst/>
          </a:prstGeom>
          <a:solidFill>
            <a:srgbClr val="c3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7799400" y="2036880"/>
            <a:ext cx="9360" cy="842760"/>
          </a:xfrm>
          <a:prstGeom prst="rect">
            <a:avLst/>
          </a:prstGeom>
          <a:solidFill>
            <a:srgbClr val="c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7808760" y="2036880"/>
            <a:ext cx="11160" cy="842760"/>
          </a:xfrm>
          <a:prstGeom prst="rect">
            <a:avLst/>
          </a:prstGeom>
          <a:solidFill>
            <a:srgbClr val="be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7819920" y="2036880"/>
            <a:ext cx="9720" cy="842760"/>
          </a:xfrm>
          <a:prstGeom prst="rect">
            <a:avLst/>
          </a:prstGeom>
          <a:solidFill>
            <a:srgbClr val="ba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7829640" y="2036880"/>
            <a:ext cx="9360" cy="842760"/>
          </a:xfrm>
          <a:prstGeom prst="rect">
            <a:avLst/>
          </a:prstGeom>
          <a:solidFill>
            <a:srgbClr val="b7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839000" y="2036880"/>
            <a:ext cx="11160" cy="842760"/>
          </a:xfrm>
          <a:prstGeom prst="rect">
            <a:avLst/>
          </a:prstGeom>
          <a:solidFill>
            <a:srgbClr val="b2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7850160" y="2036880"/>
            <a:ext cx="9720" cy="842760"/>
          </a:xfrm>
          <a:prstGeom prst="rect">
            <a:avLst/>
          </a:prstGeom>
          <a:solidFill>
            <a:srgbClr val="ad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7859880" y="2036880"/>
            <a:ext cx="10800" cy="842760"/>
          </a:xfrm>
          <a:prstGeom prst="rect">
            <a:avLst/>
          </a:prstGeom>
          <a:solidFill>
            <a:srgbClr val="a8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870680" y="2036880"/>
            <a:ext cx="9720" cy="842760"/>
          </a:xfrm>
          <a:prstGeom prst="rect">
            <a:avLst/>
          </a:prstGeom>
          <a:solidFill>
            <a:srgbClr val="a2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7880400" y="2036880"/>
            <a:ext cx="11160" cy="842760"/>
          </a:xfrm>
          <a:prstGeom prst="rect">
            <a:avLst/>
          </a:prstGeom>
          <a:solidFill>
            <a:srgbClr val="9c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7891560" y="2036880"/>
            <a:ext cx="9360" cy="842760"/>
          </a:xfrm>
          <a:prstGeom prst="rect">
            <a:avLst/>
          </a:prstGeom>
          <a:solidFill>
            <a:srgbClr val="96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900920" y="2036880"/>
            <a:ext cx="9720" cy="842760"/>
          </a:xfrm>
          <a:prstGeom prst="rect">
            <a:avLst/>
          </a:prstGeom>
          <a:solidFill>
            <a:srgbClr val="8f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7910640" y="2036880"/>
            <a:ext cx="11160" cy="842760"/>
          </a:xfrm>
          <a:prstGeom prst="rect">
            <a:avLst/>
          </a:prstGeom>
          <a:solidFill>
            <a:srgbClr val="89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7921800" y="2036880"/>
            <a:ext cx="9360" cy="842760"/>
          </a:xfrm>
          <a:prstGeom prst="rect">
            <a:avLst/>
          </a:prstGeom>
          <a:solidFill>
            <a:srgbClr val="83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7931160" y="2036880"/>
            <a:ext cx="11160" cy="842760"/>
          </a:xfrm>
          <a:prstGeom prst="rect">
            <a:avLst/>
          </a:prstGeom>
          <a:solidFill>
            <a:srgbClr val="7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7942320" y="2036880"/>
            <a:ext cx="9360" cy="842760"/>
          </a:xfrm>
          <a:prstGeom prst="rect">
            <a:avLst/>
          </a:prstGeom>
          <a:solidFill>
            <a:srgbClr val="78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7951680" y="2036880"/>
            <a:ext cx="11160" cy="842760"/>
          </a:xfrm>
          <a:prstGeom prst="rect">
            <a:avLst/>
          </a:prstGeom>
          <a:solidFill>
            <a:srgbClr val="73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7962840" y="2036880"/>
            <a:ext cx="9720" cy="842760"/>
          </a:xfrm>
          <a:prstGeom prst="rect">
            <a:avLst/>
          </a:prstGeom>
          <a:solidFill>
            <a:srgbClr val="6f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7972560" y="2036880"/>
            <a:ext cx="10800" cy="842760"/>
          </a:xfrm>
          <a:prstGeom prst="rect">
            <a:avLst/>
          </a:prstGeom>
          <a:solidFill>
            <a:srgbClr val="6b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7983360" y="2036880"/>
            <a:ext cx="9720" cy="842760"/>
          </a:xfrm>
          <a:prstGeom prst="rect">
            <a:avLst/>
          </a:prstGeom>
          <a:solidFill>
            <a:srgbClr val="67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7993080" y="2036880"/>
            <a:ext cx="9360" cy="842760"/>
          </a:xfrm>
          <a:prstGeom prst="rect">
            <a:avLst/>
          </a:prstGeom>
          <a:solidFill>
            <a:srgbClr val="64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8002440" y="2036880"/>
            <a:ext cx="11160" cy="842760"/>
          </a:xfrm>
          <a:prstGeom prst="rect">
            <a:avLst/>
          </a:prstGeom>
          <a:solidFill>
            <a:srgbClr val="62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8013600" y="2036880"/>
            <a:ext cx="9720" cy="842760"/>
          </a:xfrm>
          <a:prstGeom prst="rect">
            <a:avLst/>
          </a:prstGeom>
          <a:solidFill>
            <a:srgbClr val="5f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7440480" y="2036880"/>
            <a:ext cx="582840" cy="84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822680" y="46562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2640240" y="45007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457800" y="4573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275360" y="46562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5091120" y="45626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919840" y="46674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5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6735960" y="49053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7553520" y="4646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5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1822680" y="23288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2640240" y="2255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3457800" y="2306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4275360" y="24004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5091120" y="2306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919840" y="23796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6735960" y="24843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7553520" y="23590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7553520" y="32115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6756480" y="35863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899320" y="32529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091120" y="30877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4275360" y="32529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3457800" y="30877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2640240" y="2962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1843200" y="32018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rot="2134200">
            <a:off x="5051880" y="594216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 rot="2148000">
            <a:off x="2536560" y="601776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nd Awar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rot="2148000">
            <a:off x="3453120" y="59418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 rot="2133000">
            <a:off x="4367160" y="5865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rot="2148000">
            <a:off x="5889960" y="594180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 rot="2133000">
            <a:off x="6883560" y="5788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 rot="2148000">
            <a:off x="7566120" y="586548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 rot="2148000">
            <a:off x="1699200" y="5941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 awar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6510240" y="2344680"/>
            <a:ext cx="798480" cy="45720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6548400" y="4795920"/>
            <a:ext cx="722520" cy="380880"/>
          </a:xfrm>
          <a:prstGeom prst="rect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6510240" y="3487680"/>
            <a:ext cx="798480" cy="45720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2433600" y="2178000"/>
            <a:ext cx="722520" cy="380880"/>
          </a:xfrm>
          <a:prstGeom prst="rect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2395440" y="4378320"/>
            <a:ext cx="798480" cy="45720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311400" y="4619520"/>
            <a:ext cx="11073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ch-poi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372600" y="3124080"/>
            <a:ext cx="106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l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ch-poi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65240" y="2249640"/>
            <a:ext cx="14936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Control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ch-poi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471680" y="3830760"/>
            <a:ext cx="79200" cy="1854000"/>
          </a:xfrm>
          <a:custGeom>
            <a:avLst/>
            <a:gdLst>
              <a:gd name="textAreaLeft" fmla="*/ 50760 w 79200"/>
              <a:gd name="textAreaRight" fmla="*/ 79560 w 79200"/>
              <a:gd name="textAreaTop" fmla="*/ 48240 h 1854000"/>
              <a:gd name="textAreaBottom" fmla="*/ 1805760 h 18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496880" y="2835360"/>
            <a:ext cx="55800" cy="887400"/>
          </a:xfrm>
          <a:custGeom>
            <a:avLst/>
            <a:gdLst>
              <a:gd name="textAreaLeft" fmla="*/ 35640 w 55800"/>
              <a:gd name="textAreaRight" fmla="*/ 56160 w 55800"/>
              <a:gd name="textAreaTop" fmla="*/ 23040 h 887400"/>
              <a:gd name="textAreaBottom" fmla="*/ 864360 h 88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1496880" y="2068560"/>
            <a:ext cx="42840" cy="701640"/>
          </a:xfrm>
          <a:custGeom>
            <a:avLst/>
            <a:gdLst>
              <a:gd name="textAreaLeft" fmla="*/ 27360 w 42840"/>
              <a:gd name="textAreaRight" fmla="*/ 43200 w 428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3" presetSubtype="28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23" presetSubtype="28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 by Target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s vs Non-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6" name="PlaceHolder 2"/>
          <p:cNvSpPr>
            <a:spLocks noGrp="1"/>
          </p:cNvSpPr>
          <p:nvPr>
            <p:ph/>
          </p:nvPr>
        </p:nvSpPr>
        <p:spPr>
          <a:xfrm>
            <a:off x="436680" y="1514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Non-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ften make for the most important sub-sample analysis for impact of different touch-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12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very much impacted by the product touch-points and less for the paid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7b7bad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touch-point recall is higher among Users, these Users do not need to see advertising, and do not respond so much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12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more likely to experience the website than non-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12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n-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t least experience in-store brand presence/exposure.  The in-store environment may be key for non-us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7b7bad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ive paid media tend to have greater importance for Non-Users (because Non-Users are rarely ‘looking’ for info for other br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a8a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cause Non-Users have lower brand scores.  Thus, paid media has more up-side potential than for current users (who already know much about the br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1142640" y="2250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duct Touch-Poin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 Recal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1066680" y="185436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Br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013560" y="3087720"/>
            <a:ext cx="104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Touch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3545640" y="372096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to 2  T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917640" y="3201840"/>
            <a:ext cx="63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+  T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2" name=""/>
          <p:cNvGraphicFramePr/>
          <p:nvPr/>
        </p:nvGraphicFramePr>
        <p:xfrm>
          <a:off x="1287360" y="3021120"/>
          <a:ext cx="234468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3021120"/>
                    <a:ext cx="23446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4" name=""/>
          <p:cNvSpPr/>
          <p:nvPr/>
        </p:nvSpPr>
        <p:spPr>
          <a:xfrm flipH="1">
            <a:off x="3759120" y="2530440"/>
            <a:ext cx="533520" cy="349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5" name=""/>
          <p:cNvGraphicFramePr/>
          <p:nvPr/>
        </p:nvGraphicFramePr>
        <p:xfrm>
          <a:off x="5784840" y="3009960"/>
          <a:ext cx="2397240" cy="21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009960"/>
                    <a:ext cx="239724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7" name=""/>
          <p:cNvSpPr/>
          <p:nvPr/>
        </p:nvSpPr>
        <p:spPr>
          <a:xfrm>
            <a:off x="5249880" y="18684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NON-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5118840" y="456264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to 2  T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603200" y="3084480"/>
            <a:ext cx="104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Touch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5477760" y="3205080"/>
            <a:ext cx="63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+  T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flipH="1">
            <a:off x="8070480" y="3935520"/>
            <a:ext cx="647640" cy="2052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470400" y="6254640"/>
            <a:ext cx="21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PG Food Case Exam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1447920" y="25236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ce of Touchpoint groups 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Conside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4" name=""/>
          <p:cNvGraphicFramePr/>
          <p:nvPr/>
        </p:nvGraphicFramePr>
        <p:xfrm>
          <a:off x="419040" y="2554200"/>
          <a:ext cx="5558040" cy="32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2554200"/>
                    <a:ext cx="5558040" cy="32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6" name=""/>
          <p:cNvSpPr/>
          <p:nvPr/>
        </p:nvSpPr>
        <p:spPr>
          <a:xfrm>
            <a:off x="3174840" y="461016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03040" y="514368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d Media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03040" y="26290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ontrolled Media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660240" y="186696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Br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009960" y="4159080"/>
            <a:ext cx="884160" cy="51444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1" name=""/>
          <p:cNvGraphicFramePr/>
          <p:nvPr/>
        </p:nvGraphicFramePr>
        <p:xfrm>
          <a:off x="5262480" y="2592360"/>
          <a:ext cx="5558040" cy="323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2480" y="2592360"/>
                    <a:ext cx="555804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3" name=""/>
          <p:cNvSpPr/>
          <p:nvPr/>
        </p:nvSpPr>
        <p:spPr>
          <a:xfrm>
            <a:off x="5257800" y="18669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NON-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4648320" y="27813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ontrolled Media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334120" y="514368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d Media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7772400" y="4533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Touch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7967520" y="3959280"/>
            <a:ext cx="642960" cy="485640"/>
          </a:xfrm>
          <a:prstGeom prst="rect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3282840" y="6145200"/>
            <a:ext cx="21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PG Food Case Exam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28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9" name=""/>
          <p:cNvGraphicFramePr/>
          <p:nvPr/>
        </p:nvGraphicFramePr>
        <p:xfrm>
          <a:off x="5867280" y="4299120"/>
          <a:ext cx="3124440" cy="24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299120"/>
                    <a:ext cx="3124440" cy="24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1218960" y="23796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ce of Touchpoint groups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sid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2" name=""/>
          <p:cNvGraphicFramePr/>
          <p:nvPr/>
        </p:nvGraphicFramePr>
        <p:xfrm>
          <a:off x="65160" y="1752480"/>
          <a:ext cx="312264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0" y="1752480"/>
                    <a:ext cx="312264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4" name=""/>
          <p:cNvGraphicFramePr/>
          <p:nvPr/>
        </p:nvGraphicFramePr>
        <p:xfrm>
          <a:off x="2978280" y="3125880"/>
          <a:ext cx="3092400" cy="24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8280" y="3125880"/>
                    <a:ext cx="309240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6" name=""/>
          <p:cNvSpPr/>
          <p:nvPr/>
        </p:nvSpPr>
        <p:spPr>
          <a:xfrm>
            <a:off x="1968480" y="249876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 Touchpo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63360" y="373392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led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3360" y="1889280"/>
            <a:ext cx="1219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Controlled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6248520" y="4038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Arial"/>
              </a:rPr>
              <a:t>50+ y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4724280" y="35053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 Touchpo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7620120" y="478476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 Touchpo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2438280" y="470844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led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562720" y="61563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led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666880" y="3625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Controlled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5562720" y="4968720"/>
            <a:ext cx="121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Controlled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16000" y="1295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Arial"/>
              </a:rPr>
              <a:t>18-34 y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3213000" y="2743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Arial"/>
              </a:rPr>
              <a:t>35-49 y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482760" y="2197080"/>
            <a:ext cx="625320" cy="41112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3538440" y="3390840"/>
            <a:ext cx="666720" cy="357120"/>
          </a:xfrm>
          <a:prstGeom prst="ellipse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6456240" y="4645080"/>
            <a:ext cx="665280" cy="358560"/>
          </a:xfrm>
          <a:prstGeom prst="ellipse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4398840" y="1365120"/>
            <a:ext cx="4121280" cy="119124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Younger consumers tend to have a slightly higher recall of on-line touch-points, along with slightly higher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"/>
          <p:cNvSpPr/>
          <p:nvPr/>
        </p:nvSpPr>
        <p:spPr>
          <a:xfrm>
            <a:off x="3465360" y="5910120"/>
            <a:ext cx="567072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 ‘Reach/Recall’ often is more important than Frequen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436680" y="1391760"/>
            <a:ext cx="827064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an ad a few times is often better than never seen the ad, but seen the ad many times may not be such a good use of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006640" y="20955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V Recall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Purchase I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6" name=""/>
          <p:cNvGrpSpPr/>
          <p:nvPr/>
        </p:nvGrpSpPr>
        <p:grpSpPr>
          <a:xfrm>
            <a:off x="509040" y="2695680"/>
            <a:ext cx="7873200" cy="1559520"/>
            <a:chOff x="509040" y="2695680"/>
            <a:chExt cx="7873200" cy="1559520"/>
          </a:xfrm>
        </p:grpSpPr>
        <p:sp>
          <p:nvSpPr>
            <p:cNvPr id="3357" name=""/>
            <p:cNvSpPr/>
            <p:nvPr/>
          </p:nvSpPr>
          <p:spPr>
            <a:xfrm>
              <a:off x="509040" y="3948120"/>
              <a:ext cx="15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rchase I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8" name=""/>
            <p:cNvGrpSpPr/>
            <p:nvPr/>
          </p:nvGrpSpPr>
          <p:grpSpPr>
            <a:xfrm>
              <a:off x="2198520" y="2695680"/>
              <a:ext cx="6183720" cy="1203480"/>
              <a:chOff x="2198520" y="2695680"/>
              <a:chExt cx="6183720" cy="1203480"/>
            </a:xfrm>
          </p:grpSpPr>
          <p:sp>
            <p:nvSpPr>
              <p:cNvPr id="3359" name=""/>
              <p:cNvSpPr/>
              <p:nvPr/>
            </p:nvSpPr>
            <p:spPr>
              <a:xfrm>
                <a:off x="2255760" y="2952720"/>
                <a:ext cx="5995080" cy="892440"/>
              </a:xfrm>
              <a:custGeom>
                <a:avLst/>
                <a:gdLst/>
                <a:ahLst/>
                <a:rect l="l" t="t" r="r" b="b"/>
                <a:pathLst>
                  <a:path w="522" h="83">
                    <a:moveTo>
                      <a:pt x="0" y="83"/>
                    </a:moveTo>
                    <a:lnTo>
                      <a:pt x="87" y="42"/>
                    </a:lnTo>
                    <a:lnTo>
                      <a:pt x="174" y="42"/>
                    </a:lnTo>
                    <a:lnTo>
                      <a:pt x="261" y="37"/>
                    </a:lnTo>
                    <a:lnTo>
                      <a:pt x="348" y="0"/>
                    </a:lnTo>
                    <a:lnTo>
                      <a:pt x="435" y="21"/>
                    </a:lnTo>
                    <a:lnTo>
                      <a:pt x="522" y="2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2198520" y="3792600"/>
                <a:ext cx="114840" cy="106560"/>
              </a:xfrm>
              <a:custGeom>
                <a:avLst/>
                <a:gdLst/>
                <a:ahLst/>
                <a:rect l="l" t="t" r="r" b="b"/>
                <a:pathLst>
                  <a:path w="76" h="67">
                    <a:moveTo>
                      <a:pt x="38" y="0"/>
                    </a:moveTo>
                    <a:lnTo>
                      <a:pt x="76" y="33"/>
                    </a:lnTo>
                    <a:lnTo>
                      <a:pt x="38" y="67"/>
                    </a:lnTo>
                    <a:lnTo>
                      <a:pt x="0" y="3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197520" y="3351240"/>
                <a:ext cx="114840" cy="108000"/>
              </a:xfrm>
              <a:custGeom>
                <a:avLst/>
                <a:gdLst/>
                <a:ahLst/>
                <a:rect l="l" t="t" r="r" b="b"/>
                <a:pathLst>
                  <a:path w="76" h="68">
                    <a:moveTo>
                      <a:pt x="38" y="0"/>
                    </a:moveTo>
                    <a:lnTo>
                      <a:pt x="76" y="34"/>
                    </a:lnTo>
                    <a:lnTo>
                      <a:pt x="38" y="68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196520" y="3351240"/>
                <a:ext cx="114840" cy="108000"/>
              </a:xfrm>
              <a:custGeom>
                <a:avLst/>
                <a:gdLst/>
                <a:ahLst/>
                <a:rect l="l" t="t" r="r" b="b"/>
                <a:pathLst>
                  <a:path w="76" h="68">
                    <a:moveTo>
                      <a:pt x="38" y="0"/>
                    </a:moveTo>
                    <a:lnTo>
                      <a:pt x="76" y="34"/>
                    </a:lnTo>
                    <a:lnTo>
                      <a:pt x="38" y="68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195880" y="3297240"/>
                <a:ext cx="114840" cy="108000"/>
              </a:xfrm>
              <a:custGeom>
                <a:avLst/>
                <a:gdLst/>
                <a:ahLst/>
                <a:rect l="l" t="t" r="r" b="b"/>
                <a:pathLst>
                  <a:path w="76" h="68">
                    <a:moveTo>
                      <a:pt x="38" y="0"/>
                    </a:moveTo>
                    <a:lnTo>
                      <a:pt x="76" y="34"/>
                    </a:lnTo>
                    <a:lnTo>
                      <a:pt x="38" y="68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194880" y="2899080"/>
                <a:ext cx="114840" cy="107640"/>
              </a:xfrm>
              <a:custGeom>
                <a:avLst/>
                <a:gdLst/>
                <a:ahLst/>
                <a:rect l="l" t="t" r="r" b="b"/>
                <a:pathLst>
                  <a:path w="76" h="68">
                    <a:moveTo>
                      <a:pt x="38" y="0"/>
                    </a:moveTo>
                    <a:lnTo>
                      <a:pt x="76" y="34"/>
                    </a:lnTo>
                    <a:lnTo>
                      <a:pt x="38" y="68"/>
                    </a:lnTo>
                    <a:lnTo>
                      <a:pt x="0" y="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194240" y="3125880"/>
                <a:ext cx="114840" cy="106560"/>
              </a:xfrm>
              <a:custGeom>
                <a:avLst/>
                <a:gdLst/>
                <a:ahLst/>
                <a:rect l="l" t="t" r="r" b="b"/>
                <a:pathLst>
                  <a:path w="76" h="67">
                    <a:moveTo>
                      <a:pt x="38" y="0"/>
                    </a:moveTo>
                    <a:lnTo>
                      <a:pt x="76" y="33"/>
                    </a:lnTo>
                    <a:lnTo>
                      <a:pt x="38" y="67"/>
                    </a:lnTo>
                    <a:lnTo>
                      <a:pt x="0" y="3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8193240" y="3125880"/>
                <a:ext cx="114840" cy="106560"/>
              </a:xfrm>
              <a:custGeom>
                <a:avLst/>
                <a:gdLst/>
                <a:ahLst/>
                <a:rect l="l" t="t" r="r" b="b"/>
                <a:pathLst>
                  <a:path w="76" h="67">
                    <a:moveTo>
                      <a:pt x="38" y="0"/>
                    </a:moveTo>
                    <a:lnTo>
                      <a:pt x="76" y="33"/>
                    </a:lnTo>
                    <a:lnTo>
                      <a:pt x="38" y="67"/>
                    </a:lnTo>
                    <a:lnTo>
                      <a:pt x="0" y="3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8226000" y="2932200"/>
                <a:ext cx="15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Arial"/>
                  </a:rPr>
                  <a:t>6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227360" y="2932200"/>
                <a:ext cx="15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Arial"/>
                  </a:rPr>
                  <a:t>68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216120" y="2695680"/>
                <a:ext cx="15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Arial"/>
                  </a:rPr>
                  <a:t>7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2251800" y="3556080"/>
                <a:ext cx="15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Arial"/>
                  </a:rPr>
                  <a:t>5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252240" y="3157560"/>
                <a:ext cx="15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Arial"/>
                  </a:rPr>
                  <a:t>6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4228560" y="3157560"/>
                <a:ext cx="15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Arial"/>
                  </a:rPr>
                  <a:t>6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226840" y="3103560"/>
                <a:ext cx="15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Arial"/>
                  </a:rPr>
                  <a:t>6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4" name=""/>
          <p:cNvSpPr/>
          <p:nvPr/>
        </p:nvSpPr>
        <p:spPr>
          <a:xfrm>
            <a:off x="709560" y="5003640"/>
            <a:ext cx="127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Inci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f Recognition and Lin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2062080" y="5967360"/>
            <a:ext cx="399960" cy="42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3057480" y="4354560"/>
            <a:ext cx="401760" cy="1655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4054320" y="5118120"/>
            <a:ext cx="400320" cy="892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5049720" y="5699160"/>
            <a:ext cx="409680" cy="3110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6054840" y="5611680"/>
            <a:ext cx="399960" cy="398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7051680" y="5611680"/>
            <a:ext cx="399960" cy="398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8045280" y="5246640"/>
            <a:ext cx="400320" cy="763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1765440" y="6010200"/>
            <a:ext cx="697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 flipV="1">
            <a:off x="1765440" y="6009840"/>
            <a:ext cx="14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 flipV="1">
            <a:off x="2760840" y="6009840"/>
            <a:ext cx="14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 flipV="1">
            <a:off x="3755880" y="6009840"/>
            <a:ext cx="180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 flipV="1">
            <a:off x="4751280" y="6009840"/>
            <a:ext cx="180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 flipV="1">
            <a:off x="5756400" y="6009840"/>
            <a:ext cx="14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6753240" y="6009840"/>
            <a:ext cx="14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 flipV="1">
            <a:off x="7748640" y="6009840"/>
            <a:ext cx="14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 flipV="1">
            <a:off x="8744040" y="6009840"/>
            <a:ext cx="14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2257200" y="57308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214440" y="4118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4209840" y="48816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254200" y="54608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6249600" y="5375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7245000" y="5375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8200800" y="50101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874880" y="6129360"/>
            <a:ext cx="857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n, Link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977480" y="6311880"/>
            <a:ext cx="669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 Lik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2900520" y="6129360"/>
            <a:ext cx="794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 Seen 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109400" y="6129360"/>
            <a:ext cx="36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3873240" y="6311880"/>
            <a:ext cx="843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rrect L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4859640" y="6129360"/>
            <a:ext cx="857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n, Link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4868640" y="6311880"/>
            <a:ext cx="842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ked seen 1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5050440" y="649440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Tim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5854680" y="6129360"/>
            <a:ext cx="857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n, Link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5842800" y="6311880"/>
            <a:ext cx="88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ked, seen 4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6047280" y="649440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 Tim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6851880" y="6129360"/>
            <a:ext cx="857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n, Link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6837840" y="6311880"/>
            <a:ext cx="88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ked, seen 7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7008480" y="6494400"/>
            <a:ext cx="531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 tim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7847280" y="6129360"/>
            <a:ext cx="857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n, Link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7920360" y="6311880"/>
            <a:ext cx="71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ked, se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7963560" y="6494400"/>
            <a:ext cx="61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+ tim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5" name=""/>
          <p:cNvGrpSpPr/>
          <p:nvPr/>
        </p:nvGrpSpPr>
        <p:grpSpPr>
          <a:xfrm>
            <a:off x="6908760" y="2511360"/>
            <a:ext cx="1911240" cy="1000080"/>
            <a:chOff x="6908760" y="2511360"/>
            <a:chExt cx="1911240" cy="1000080"/>
          </a:xfrm>
        </p:grpSpPr>
        <p:sp>
          <p:nvSpPr>
            <p:cNvPr id="3416" name=""/>
            <p:cNvSpPr/>
            <p:nvPr/>
          </p:nvSpPr>
          <p:spPr>
            <a:xfrm>
              <a:off x="6908760" y="2804760"/>
              <a:ext cx="1911240" cy="706680"/>
            </a:xfrm>
            <a:prstGeom prst="ellipse">
              <a:avLst/>
            </a:pr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322040" y="2511360"/>
              <a:ext cx="138492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c4796"/>
                  </a:solidFill>
                  <a:latin typeface="Arial"/>
                </a:rPr>
                <a:t>Not higher 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8" name=""/>
          <p:cNvSpPr/>
          <p:nvPr/>
        </p:nvSpPr>
        <p:spPr>
          <a:xfrm>
            <a:off x="2825640" y="4010040"/>
            <a:ext cx="920880" cy="58752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3610080" y="3844800"/>
            <a:ext cx="2717640" cy="2446560"/>
          </a:xfrm>
          <a:custGeom>
            <a:avLst/>
            <a:gdLst/>
            <a:ahLst/>
            <a:rect l="l" t="t" r="r" b="b"/>
            <a:pathLst>
              <a:path w="1855" h="2443">
                <a:moveTo>
                  <a:pt x="0" y="679"/>
                </a:moveTo>
                <a:cubicBezTo>
                  <a:pt x="247" y="1257"/>
                  <a:pt x="495" y="1836"/>
                  <a:pt x="774" y="2072"/>
                </a:cubicBezTo>
                <a:cubicBezTo>
                  <a:pt x="1053" y="2308"/>
                  <a:pt x="1499" y="2443"/>
                  <a:pt x="1677" y="2098"/>
                </a:cubicBezTo>
                <a:cubicBezTo>
                  <a:pt x="1855" y="1753"/>
                  <a:pt x="1847" y="876"/>
                  <a:pt x="1840" y="0"/>
                </a:cubicBezTo>
              </a:path>
            </a:pathLst>
          </a:custGeom>
          <a:noFill/>
          <a:ln w="3816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3819600" y="3484440"/>
            <a:ext cx="4260600" cy="1140120"/>
          </a:xfrm>
          <a:custGeom>
            <a:avLst/>
            <a:gdLst/>
            <a:ahLst/>
            <a:rect l="l" t="t" r="r" b="b"/>
            <a:pathLst>
              <a:path w="3018" h="1242">
                <a:moveTo>
                  <a:pt x="3018" y="1242"/>
                </a:moveTo>
                <a:cubicBezTo>
                  <a:pt x="2793" y="958"/>
                  <a:pt x="2568" y="675"/>
                  <a:pt x="2270" y="477"/>
                </a:cubicBezTo>
                <a:cubicBezTo>
                  <a:pt x="1972" y="279"/>
                  <a:pt x="1608" y="0"/>
                  <a:pt x="1230" y="56"/>
                </a:cubicBezTo>
                <a:cubicBezTo>
                  <a:pt x="852" y="112"/>
                  <a:pt x="426" y="462"/>
                  <a:pt x="0" y="812"/>
                </a:cubicBezTo>
              </a:path>
            </a:pathLst>
          </a:custGeom>
          <a:noFill/>
          <a:ln w="3816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 flipV="1">
            <a:off x="6289560" y="3082680"/>
            <a:ext cx="1800" cy="36828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7866000" y="418788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28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"/>
          <p:cNvSpPr/>
          <p:nvPr/>
        </p:nvSpPr>
        <p:spPr>
          <a:xfrm>
            <a:off x="1130400" y="50760"/>
            <a:ext cx="79246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 Touch-points do not act in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4" name=""/>
          <p:cNvGrpSpPr/>
          <p:nvPr/>
        </p:nvGrpSpPr>
        <p:grpSpPr>
          <a:xfrm>
            <a:off x="1019880" y="2805120"/>
            <a:ext cx="3123000" cy="3295080"/>
            <a:chOff x="1019880" y="2805120"/>
            <a:chExt cx="3123000" cy="3295080"/>
          </a:xfrm>
        </p:grpSpPr>
        <p:sp>
          <p:nvSpPr>
            <p:cNvPr id="3425" name=""/>
            <p:cNvSpPr/>
            <p:nvPr/>
          </p:nvSpPr>
          <p:spPr>
            <a:xfrm>
              <a:off x="1970640" y="3624840"/>
              <a:ext cx="1587960" cy="2258640"/>
            </a:xfrm>
            <a:custGeom>
              <a:avLst/>
              <a:gdLst/>
              <a:ahLst/>
              <a:rect l="l" t="t" r="r" b="b"/>
              <a:pathLst>
                <a:path w="164" h="232">
                  <a:moveTo>
                    <a:pt x="0" y="222"/>
                  </a:moveTo>
                  <a:cubicBezTo>
                    <a:pt x="15" y="228"/>
                    <a:pt x="31" y="231"/>
                    <a:pt x="48" y="231"/>
                  </a:cubicBezTo>
                  <a:cubicBezTo>
                    <a:pt x="112" y="232"/>
                    <a:pt x="164" y="180"/>
                    <a:pt x="164" y="116"/>
                  </a:cubicBezTo>
                  <a:cubicBezTo>
                    <a:pt x="164" y="51"/>
                    <a:pt x="112" y="0"/>
                    <a:pt x="48" y="0"/>
                  </a:cubicBezTo>
                  <a:lnTo>
                    <a:pt x="48" y="116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582920" y="4754880"/>
              <a:ext cx="852120" cy="1031040"/>
            </a:xfrm>
            <a:custGeom>
              <a:avLst/>
              <a:gdLst/>
              <a:ahLst/>
              <a:rect l="l" t="t" r="r" b="b"/>
              <a:pathLst>
                <a:path w="88" h="106">
                  <a:moveTo>
                    <a:pt x="0" y="75"/>
                  </a:moveTo>
                  <a:cubicBezTo>
                    <a:pt x="11" y="88"/>
                    <a:pt x="25" y="99"/>
                    <a:pt x="40" y="106"/>
                  </a:cubicBezTo>
                  <a:lnTo>
                    <a:pt x="88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1339920" y="4754880"/>
              <a:ext cx="1095480" cy="73008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0" y="30"/>
                  </a:moveTo>
                  <a:cubicBezTo>
                    <a:pt x="5" y="46"/>
                    <a:pt x="13" y="62"/>
                    <a:pt x="25" y="75"/>
                  </a:cubicBezTo>
                  <a:lnTo>
                    <a:pt x="113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301400" y="4627800"/>
              <a:ext cx="1134000" cy="41868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1" y="0"/>
                  </a:moveTo>
                  <a:cubicBezTo>
                    <a:pt x="1" y="4"/>
                    <a:pt x="1" y="8"/>
                    <a:pt x="1" y="12"/>
                  </a:cubicBezTo>
                  <a:cubicBezTo>
                    <a:pt x="0" y="23"/>
                    <a:pt x="2" y="33"/>
                    <a:pt x="4" y="43"/>
                  </a:cubicBezTo>
                  <a:lnTo>
                    <a:pt x="117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311480" y="4101840"/>
              <a:ext cx="1123560" cy="65268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21" y="0"/>
                  </a:moveTo>
                  <a:cubicBezTo>
                    <a:pt x="9" y="16"/>
                    <a:pt x="2" y="35"/>
                    <a:pt x="0" y="54"/>
                  </a:cubicBezTo>
                  <a:lnTo>
                    <a:pt x="116" y="6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514880" y="3839760"/>
              <a:ext cx="920160" cy="91476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27" y="0"/>
                  </a:moveTo>
                  <a:cubicBezTo>
                    <a:pt x="16" y="7"/>
                    <a:pt x="7" y="16"/>
                    <a:pt x="0" y="27"/>
                  </a:cubicBezTo>
                  <a:lnTo>
                    <a:pt x="95" y="9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776240" y="3722760"/>
              <a:ext cx="658800" cy="10321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18" y="0"/>
                  </a:moveTo>
                  <a:cubicBezTo>
                    <a:pt x="12" y="3"/>
                    <a:pt x="5" y="7"/>
                    <a:pt x="0" y="12"/>
                  </a:cubicBezTo>
                  <a:lnTo>
                    <a:pt x="68" y="10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66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951200" y="3673800"/>
              <a:ext cx="483840" cy="1080720"/>
            </a:xfrm>
            <a:custGeom>
              <a:avLst/>
              <a:gdLst/>
              <a:ahLst/>
              <a:rect l="l" t="t" r="r" b="b"/>
              <a:pathLst>
                <a:path w="50" h="111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lnTo>
                    <a:pt x="50" y="1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075760" y="3645720"/>
              <a:ext cx="359280" cy="1109160"/>
            </a:xfrm>
            <a:custGeom>
              <a:avLst/>
              <a:gdLst/>
              <a:ahLst/>
              <a:rect l="l" t="t" r="r" b="b"/>
              <a:pathLst>
                <a:path w="37" h="114">
                  <a:moveTo>
                    <a:pt x="15" y="0"/>
                  </a:moveTo>
                  <a:cubicBezTo>
                    <a:pt x="10" y="1"/>
                    <a:pt x="5" y="2"/>
                    <a:pt x="0" y="3"/>
                  </a:cubicBezTo>
                  <a:lnTo>
                    <a:pt x="37" y="1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221560" y="3624840"/>
              <a:ext cx="213480" cy="1129680"/>
            </a:xfrm>
            <a:custGeom>
              <a:avLst/>
              <a:gdLst/>
              <a:ahLst/>
              <a:rect l="l" t="t" r="r" b="b"/>
              <a:pathLst>
                <a:path w="22" h="116">
                  <a:moveTo>
                    <a:pt x="7" y="0"/>
                  </a:moveTo>
                  <a:cubicBezTo>
                    <a:pt x="5" y="1"/>
                    <a:pt x="2" y="1"/>
                    <a:pt x="0" y="2"/>
                  </a:cubicBezTo>
                  <a:lnTo>
                    <a:pt x="22" y="1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289600" y="3624840"/>
              <a:ext cx="145440" cy="1129680"/>
            </a:xfrm>
            <a:custGeom>
              <a:avLst/>
              <a:gdLst/>
              <a:ahLst/>
              <a:rect l="l" t="t" r="r" b="b"/>
              <a:pathLst>
                <a:path w="15" h="116">
                  <a:moveTo>
                    <a:pt x="7" y="0"/>
                  </a:moveTo>
                  <a:cubicBezTo>
                    <a:pt x="5" y="0"/>
                    <a:pt x="2" y="0"/>
                    <a:pt x="0" y="0"/>
                  </a:cubicBezTo>
                  <a:lnTo>
                    <a:pt x="15" y="1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358000" y="3624840"/>
              <a:ext cx="77040" cy="1129680"/>
            </a:xfrm>
            <a:custGeom>
              <a:avLst/>
              <a:gdLst/>
              <a:ahLst/>
              <a:rect l="l" t="t" r="r" b="b"/>
              <a:pathLst>
                <a:path w="8" h="116">
                  <a:moveTo>
                    <a:pt x="7" y="0"/>
                  </a:moveTo>
                  <a:cubicBezTo>
                    <a:pt x="5" y="0"/>
                    <a:pt x="2" y="0"/>
                    <a:pt x="0" y="0"/>
                  </a:cubicBezTo>
                  <a:lnTo>
                    <a:pt x="8" y="1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2435400" y="3624840"/>
              <a:ext cx="108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3348360" y="5612400"/>
              <a:ext cx="34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221640" y="58179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570680" y="5728320"/>
              <a:ext cx="29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 t-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494360" y="593244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234800" y="5221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154160" y="5425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097640" y="4676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019880" y="48823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166040" y="4073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087920" y="427788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426680" y="3518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350000" y="37227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648440" y="3324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572120" y="35287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825200" y="3245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1747080" y="34488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978920" y="319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900800" y="340128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153880" y="317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075040" y="338328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19276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1531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29968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2593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356200" y="31687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318760" y="33732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127160" y="2805120"/>
              <a:ext cx="30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Includes </a:t>
              </a:r>
              <a:r>
                <a:rPr b="0" lang="en-US" sz="1600" spc="-1" strike="noStrike" u="sng">
                  <a:solidFill>
                    <a:srgbClr val="0033cc"/>
                  </a:solidFill>
                  <a:uFillTx/>
                  <a:latin typeface="Arial"/>
                </a:rPr>
                <a:t>ALL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Touch-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1" name=""/>
          <p:cNvGrpSpPr/>
          <p:nvPr/>
        </p:nvGrpSpPr>
        <p:grpSpPr>
          <a:xfrm>
            <a:off x="5364000" y="2808360"/>
            <a:ext cx="3589560" cy="3191400"/>
            <a:chOff x="5364000" y="2808360"/>
            <a:chExt cx="3589560" cy="3191400"/>
          </a:xfrm>
        </p:grpSpPr>
        <p:sp>
          <p:nvSpPr>
            <p:cNvPr id="3532" name=""/>
            <p:cNvSpPr/>
            <p:nvPr/>
          </p:nvSpPr>
          <p:spPr>
            <a:xfrm>
              <a:off x="5695920" y="3689280"/>
              <a:ext cx="2283120" cy="2248920"/>
            </a:xfrm>
            <a:custGeom>
              <a:avLst/>
              <a:gdLst/>
              <a:ahLst/>
              <a:rect l="l" t="t" r="r" b="b"/>
              <a:pathLst>
                <a:path w="232" h="232">
                  <a:moveTo>
                    <a:pt x="0" y="123"/>
                  </a:moveTo>
                  <a:cubicBezTo>
                    <a:pt x="4" y="184"/>
                    <a:pt x="55" y="231"/>
                    <a:pt x="116" y="231"/>
                  </a:cubicBezTo>
                  <a:cubicBezTo>
                    <a:pt x="180" y="232"/>
                    <a:pt x="232" y="180"/>
                    <a:pt x="232" y="116"/>
                  </a:cubicBezTo>
                  <a:cubicBezTo>
                    <a:pt x="232" y="51"/>
                    <a:pt x="180" y="0"/>
                    <a:pt x="116" y="0"/>
                  </a:cubicBezTo>
                  <a:lnTo>
                    <a:pt x="116" y="116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686920" y="4260960"/>
              <a:ext cx="1150200" cy="621000"/>
            </a:xfrm>
            <a:custGeom>
              <a:avLst/>
              <a:gdLst/>
              <a:ahLst/>
              <a:rect l="l" t="t" r="r" b="b"/>
              <a:pathLst>
                <a:path w="117" h="64">
                  <a:moveTo>
                    <a:pt x="15" y="0"/>
                  </a:moveTo>
                  <a:cubicBezTo>
                    <a:pt x="6" y="17"/>
                    <a:pt x="1" y="37"/>
                    <a:pt x="1" y="56"/>
                  </a:cubicBezTo>
                  <a:cubicBezTo>
                    <a:pt x="0" y="59"/>
                    <a:pt x="1" y="62"/>
                    <a:pt x="1" y="64"/>
                  </a:cubicBezTo>
                  <a:lnTo>
                    <a:pt x="117" y="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833800" y="3950640"/>
              <a:ext cx="1003680" cy="86328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27" y="0"/>
                  </a:moveTo>
                  <a:cubicBezTo>
                    <a:pt x="16" y="9"/>
                    <a:pt x="7" y="20"/>
                    <a:pt x="0" y="32"/>
                  </a:cubicBezTo>
                  <a:lnTo>
                    <a:pt x="102" y="8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c00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00200" y="3785760"/>
              <a:ext cx="736920" cy="1027800"/>
            </a:xfrm>
            <a:custGeom>
              <a:avLst/>
              <a:gdLst/>
              <a:ahLst/>
              <a:rect l="l" t="t" r="r" b="b"/>
              <a:pathLst>
                <a:path w="75" h="106">
                  <a:moveTo>
                    <a:pt x="25" y="0"/>
                  </a:moveTo>
                  <a:cubicBezTo>
                    <a:pt x="16" y="5"/>
                    <a:pt x="8" y="10"/>
                    <a:pt x="0" y="17"/>
                  </a:cubicBezTo>
                  <a:lnTo>
                    <a:pt x="75" y="10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346080" y="3737520"/>
              <a:ext cx="491400" cy="1076400"/>
            </a:xfrm>
            <a:custGeom>
              <a:avLst/>
              <a:gdLst/>
              <a:ahLst/>
              <a:rect l="l" t="t" r="r" b="b"/>
              <a:pathLst>
                <a:path w="50" h="111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lnTo>
                    <a:pt x="50" y="1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473160" y="3708360"/>
              <a:ext cx="363960" cy="1105200"/>
            </a:xfrm>
            <a:custGeom>
              <a:avLst/>
              <a:gdLst/>
              <a:ahLst/>
              <a:rect l="l" t="t" r="r" b="b"/>
              <a:pathLst>
                <a:path w="37" h="114">
                  <a:moveTo>
                    <a:pt x="15" y="0"/>
                  </a:moveTo>
                  <a:cubicBezTo>
                    <a:pt x="10" y="1"/>
                    <a:pt x="5" y="2"/>
                    <a:pt x="0" y="3"/>
                  </a:cubicBezTo>
                  <a:lnTo>
                    <a:pt x="37" y="1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621480" y="3689280"/>
              <a:ext cx="215640" cy="1124280"/>
            </a:xfrm>
            <a:custGeom>
              <a:avLst/>
              <a:gdLst/>
              <a:ahLst/>
              <a:rect l="l" t="t" r="r" b="b"/>
              <a:pathLst>
                <a:path w="22" h="116">
                  <a:moveTo>
                    <a:pt x="7" y="0"/>
                  </a:moveTo>
                  <a:cubicBezTo>
                    <a:pt x="5" y="1"/>
                    <a:pt x="2" y="1"/>
                    <a:pt x="0" y="2"/>
                  </a:cubicBezTo>
                  <a:lnTo>
                    <a:pt x="22" y="1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66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690960" y="3689280"/>
              <a:ext cx="146160" cy="1124280"/>
            </a:xfrm>
            <a:custGeom>
              <a:avLst/>
              <a:gdLst/>
              <a:ahLst/>
              <a:rect l="l" t="t" r="r" b="b"/>
              <a:pathLst>
                <a:path w="15" h="116">
                  <a:moveTo>
                    <a:pt x="7" y="0"/>
                  </a:moveTo>
                  <a:cubicBezTo>
                    <a:pt x="5" y="0"/>
                    <a:pt x="2" y="0"/>
                    <a:pt x="0" y="0"/>
                  </a:cubicBezTo>
                  <a:lnTo>
                    <a:pt x="15" y="1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759000" y="3689280"/>
              <a:ext cx="78480" cy="1124280"/>
            </a:xfrm>
            <a:custGeom>
              <a:avLst/>
              <a:gdLst/>
              <a:ahLst/>
              <a:rect l="l" t="t" r="r" b="b"/>
              <a:pathLst>
                <a:path w="8" h="116">
                  <a:moveTo>
                    <a:pt x="7" y="0"/>
                  </a:moveTo>
                  <a:cubicBezTo>
                    <a:pt x="5" y="0"/>
                    <a:pt x="2" y="0"/>
                    <a:pt x="0" y="0"/>
                  </a:cubicBezTo>
                  <a:lnTo>
                    <a:pt x="8" y="1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V="1">
              <a:off x="6837480" y="3688920"/>
              <a:ext cx="1440" cy="11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842600" y="5629320"/>
              <a:ext cx="34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713000" y="583200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507640" y="4330800"/>
              <a:ext cx="29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 t-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429520" y="45324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746320" y="370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666040" y="390204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011280" y="3407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31360" y="36108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217560" y="3311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138000" y="35143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374520" y="3262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296040" y="34650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552360" y="324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472440" y="344844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632280" y="3234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55236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739560" y="3234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65964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798960" y="3234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758640" y="32342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718680" y="34369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364000" y="2808360"/>
              <a:ext cx="35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Excludes </a:t>
              </a:r>
              <a:r>
                <a:rPr b="0" lang="en-US" sz="1600" spc="-1" strike="noStrike" u="sng">
                  <a:solidFill>
                    <a:srgbClr val="0033cc"/>
                  </a:solidFill>
                  <a:uFillTx/>
                  <a:latin typeface="Arial"/>
                </a:rPr>
                <a:t>Product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Touch-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8" name=""/>
          <p:cNvSpPr/>
          <p:nvPr/>
        </p:nvSpPr>
        <p:spPr>
          <a:xfrm>
            <a:off x="631800" y="1287360"/>
            <a:ext cx="76582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needs to think and act holis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in mind that each touch-point plays its own  (unique) strategic role.   IMC is not “one for all, and all for on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1251000" y="5638680"/>
            <a:ext cx="720720" cy="5526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049560" y="631656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tegory example (CPG, US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5194440" y="4241880"/>
            <a:ext cx="691920" cy="5522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2057400" y="2424240"/>
            <a:ext cx="51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umber of Touch-Points Experi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666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touch-points work, but with diminishing retur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436680" y="1393920"/>
            <a:ext cx="8270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recalled media appears to have greater contributions/impact,    but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min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1278000" y="2959200"/>
            <a:ext cx="1440" cy="254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1227240" y="55069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1227240" y="522144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1227240" y="4937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27240" y="465120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1227240" y="436716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1227240" y="409896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1227240" y="38149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1227240" y="35290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1227240" y="324468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1227240" y="29592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1278000" y="5506920"/>
            <a:ext cx="6869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 flipV="1">
            <a:off x="1278000" y="550656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2382840" y="550656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3489480" y="550656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4595760" y="550656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 flipV="1">
            <a:off x="5718240" y="550656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6823080" y="550656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 flipV="1">
            <a:off x="7929720" y="550656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1227240" y="4048200"/>
            <a:ext cx="100080" cy="101520"/>
          </a:xfrm>
          <a:custGeom>
            <a:avLst/>
            <a:gdLst/>
            <a:ahLst/>
            <a:rect l="l" t="t" r="r" b="b"/>
            <a:pathLst>
              <a:path w="63" h="64">
                <a:moveTo>
                  <a:pt x="32" y="0"/>
                </a:moveTo>
                <a:lnTo>
                  <a:pt x="63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1444680" y="3848040"/>
            <a:ext cx="101520" cy="100080"/>
          </a:xfrm>
          <a:custGeom>
            <a:avLst/>
            <a:gdLst/>
            <a:ahLst/>
            <a:rect l="l" t="t" r="r" b="b"/>
            <a:pathLst>
              <a:path w="64" h="63">
                <a:moveTo>
                  <a:pt x="32" y="0"/>
                </a:moveTo>
                <a:lnTo>
                  <a:pt x="64" y="31"/>
                </a:lnTo>
                <a:lnTo>
                  <a:pt x="32" y="63"/>
                </a:lnTo>
                <a:lnTo>
                  <a:pt x="0" y="31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1663560" y="3730680"/>
            <a:ext cx="10008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1" y="0"/>
                </a:moveTo>
                <a:lnTo>
                  <a:pt x="63" y="32"/>
                </a:lnTo>
                <a:lnTo>
                  <a:pt x="31" y="63"/>
                </a:lnTo>
                <a:lnTo>
                  <a:pt x="0" y="32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1897200" y="3697200"/>
            <a:ext cx="101520" cy="100080"/>
          </a:xfrm>
          <a:custGeom>
            <a:avLst/>
            <a:gdLst/>
            <a:ahLst/>
            <a:rect l="l" t="t" r="r" b="b"/>
            <a:pathLst>
              <a:path w="64" h="63">
                <a:moveTo>
                  <a:pt x="32" y="0"/>
                </a:moveTo>
                <a:lnTo>
                  <a:pt x="64" y="31"/>
                </a:lnTo>
                <a:lnTo>
                  <a:pt x="32" y="63"/>
                </a:lnTo>
                <a:lnTo>
                  <a:pt x="0" y="31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2114640" y="3629160"/>
            <a:ext cx="101520" cy="10152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lnTo>
                  <a:pt x="64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2333520" y="3495600"/>
            <a:ext cx="10008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1" y="0"/>
                </a:moveTo>
                <a:lnTo>
                  <a:pt x="63" y="32"/>
                </a:lnTo>
                <a:lnTo>
                  <a:pt x="31" y="63"/>
                </a:lnTo>
                <a:lnTo>
                  <a:pt x="0" y="32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550960" y="3562200"/>
            <a:ext cx="100080" cy="101880"/>
          </a:xfrm>
          <a:custGeom>
            <a:avLst/>
            <a:gdLst/>
            <a:ahLst/>
            <a:rect l="l" t="t" r="r" b="b"/>
            <a:pathLst>
              <a:path w="63" h="64">
                <a:moveTo>
                  <a:pt x="32" y="0"/>
                </a:moveTo>
                <a:lnTo>
                  <a:pt x="63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2786040" y="3595680"/>
            <a:ext cx="100080" cy="101520"/>
          </a:xfrm>
          <a:custGeom>
            <a:avLst/>
            <a:gdLst/>
            <a:ahLst/>
            <a:rect l="l" t="t" r="r" b="b"/>
            <a:pathLst>
              <a:path w="63" h="64">
                <a:moveTo>
                  <a:pt x="31" y="0"/>
                </a:moveTo>
                <a:lnTo>
                  <a:pt x="63" y="32"/>
                </a:lnTo>
                <a:lnTo>
                  <a:pt x="31" y="64"/>
                </a:lnTo>
                <a:lnTo>
                  <a:pt x="0" y="32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3003480" y="3629160"/>
            <a:ext cx="100080" cy="101520"/>
          </a:xfrm>
          <a:custGeom>
            <a:avLst/>
            <a:gdLst/>
            <a:ahLst/>
            <a:rect l="l" t="t" r="r" b="b"/>
            <a:pathLst>
              <a:path w="63" h="64">
                <a:moveTo>
                  <a:pt x="32" y="0"/>
                </a:moveTo>
                <a:lnTo>
                  <a:pt x="63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3220920" y="3429000"/>
            <a:ext cx="10008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2" y="0"/>
                </a:moveTo>
                <a:lnTo>
                  <a:pt x="63" y="31"/>
                </a:lnTo>
                <a:lnTo>
                  <a:pt x="32" y="63"/>
                </a:lnTo>
                <a:lnTo>
                  <a:pt x="0" y="31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3438360" y="3444840"/>
            <a:ext cx="101880" cy="10152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lnTo>
                  <a:pt x="64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3657600" y="3395520"/>
            <a:ext cx="10008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1" y="0"/>
                </a:moveTo>
                <a:lnTo>
                  <a:pt x="63" y="31"/>
                </a:lnTo>
                <a:lnTo>
                  <a:pt x="31" y="63"/>
                </a:lnTo>
                <a:lnTo>
                  <a:pt x="0" y="31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3890880" y="3595680"/>
            <a:ext cx="101520" cy="10152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lnTo>
                  <a:pt x="64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4110120" y="3664080"/>
            <a:ext cx="100080" cy="99720"/>
          </a:xfrm>
          <a:custGeom>
            <a:avLst/>
            <a:gdLst/>
            <a:ahLst/>
            <a:rect l="l" t="t" r="r" b="b"/>
            <a:pathLst>
              <a:path w="63" h="63">
                <a:moveTo>
                  <a:pt x="31" y="0"/>
                </a:moveTo>
                <a:lnTo>
                  <a:pt x="63" y="31"/>
                </a:lnTo>
                <a:lnTo>
                  <a:pt x="31" y="63"/>
                </a:lnTo>
                <a:lnTo>
                  <a:pt x="0" y="31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4327560" y="3664080"/>
            <a:ext cx="100080" cy="99720"/>
          </a:xfrm>
          <a:custGeom>
            <a:avLst/>
            <a:gdLst/>
            <a:ahLst/>
            <a:rect l="l" t="t" r="r" b="b"/>
            <a:pathLst>
              <a:path w="63" h="63">
                <a:moveTo>
                  <a:pt x="31" y="0"/>
                </a:moveTo>
                <a:lnTo>
                  <a:pt x="63" y="31"/>
                </a:lnTo>
                <a:lnTo>
                  <a:pt x="31" y="63"/>
                </a:lnTo>
                <a:lnTo>
                  <a:pt x="0" y="31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4545000" y="3462480"/>
            <a:ext cx="100080" cy="99720"/>
          </a:xfrm>
          <a:custGeom>
            <a:avLst/>
            <a:gdLst/>
            <a:ahLst/>
            <a:rect l="l" t="t" r="r" b="b"/>
            <a:pathLst>
              <a:path w="63" h="63">
                <a:moveTo>
                  <a:pt x="32" y="0"/>
                </a:moveTo>
                <a:lnTo>
                  <a:pt x="63" y="32"/>
                </a:lnTo>
                <a:lnTo>
                  <a:pt x="32" y="63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780080" y="3429000"/>
            <a:ext cx="9972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1" y="0"/>
                </a:moveTo>
                <a:lnTo>
                  <a:pt x="63" y="31"/>
                </a:lnTo>
                <a:lnTo>
                  <a:pt x="31" y="63"/>
                </a:lnTo>
                <a:lnTo>
                  <a:pt x="0" y="31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4997520" y="3478320"/>
            <a:ext cx="100080" cy="101520"/>
          </a:xfrm>
          <a:custGeom>
            <a:avLst/>
            <a:gdLst/>
            <a:ahLst/>
            <a:rect l="l" t="t" r="r" b="b"/>
            <a:pathLst>
              <a:path w="63" h="64">
                <a:moveTo>
                  <a:pt x="32" y="0"/>
                </a:moveTo>
                <a:lnTo>
                  <a:pt x="63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5214960" y="3529080"/>
            <a:ext cx="10008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2" y="0"/>
                </a:moveTo>
                <a:lnTo>
                  <a:pt x="63" y="32"/>
                </a:lnTo>
                <a:lnTo>
                  <a:pt x="32" y="63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5432400" y="3679920"/>
            <a:ext cx="101520" cy="10152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lnTo>
                  <a:pt x="64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5667480" y="3444840"/>
            <a:ext cx="100080" cy="101520"/>
          </a:xfrm>
          <a:custGeom>
            <a:avLst/>
            <a:gdLst/>
            <a:ahLst/>
            <a:rect l="l" t="t" r="r" b="b"/>
            <a:pathLst>
              <a:path w="63" h="64">
                <a:moveTo>
                  <a:pt x="32" y="0"/>
                </a:moveTo>
                <a:lnTo>
                  <a:pt x="63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5884920" y="3444840"/>
            <a:ext cx="101520" cy="10152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lnTo>
                  <a:pt x="64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6103800" y="3378240"/>
            <a:ext cx="10008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1" y="0"/>
                </a:moveTo>
                <a:lnTo>
                  <a:pt x="63" y="32"/>
                </a:lnTo>
                <a:lnTo>
                  <a:pt x="31" y="63"/>
                </a:lnTo>
                <a:lnTo>
                  <a:pt x="0" y="32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6321600" y="2909880"/>
            <a:ext cx="9972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1" y="0"/>
                </a:moveTo>
                <a:lnTo>
                  <a:pt x="63" y="31"/>
                </a:lnTo>
                <a:lnTo>
                  <a:pt x="31" y="63"/>
                </a:lnTo>
                <a:lnTo>
                  <a:pt x="0" y="31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6539040" y="3327480"/>
            <a:ext cx="99720" cy="101520"/>
          </a:xfrm>
          <a:custGeom>
            <a:avLst/>
            <a:gdLst/>
            <a:ahLst/>
            <a:rect l="l" t="t" r="r" b="b"/>
            <a:pathLst>
              <a:path w="63" h="64">
                <a:moveTo>
                  <a:pt x="32" y="0"/>
                </a:moveTo>
                <a:lnTo>
                  <a:pt x="63" y="32"/>
                </a:lnTo>
                <a:lnTo>
                  <a:pt x="32" y="64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6773760" y="3478320"/>
            <a:ext cx="100080" cy="101520"/>
          </a:xfrm>
          <a:custGeom>
            <a:avLst/>
            <a:gdLst/>
            <a:ahLst/>
            <a:rect l="l" t="t" r="r" b="b"/>
            <a:pathLst>
              <a:path w="63" h="64">
                <a:moveTo>
                  <a:pt x="31" y="0"/>
                </a:moveTo>
                <a:lnTo>
                  <a:pt x="63" y="32"/>
                </a:lnTo>
                <a:lnTo>
                  <a:pt x="31" y="64"/>
                </a:lnTo>
                <a:lnTo>
                  <a:pt x="0" y="32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991200" y="3043080"/>
            <a:ext cx="10008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2" y="0"/>
                </a:moveTo>
                <a:lnTo>
                  <a:pt x="63" y="32"/>
                </a:lnTo>
                <a:lnTo>
                  <a:pt x="32" y="63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7209000" y="3193920"/>
            <a:ext cx="9972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2" y="0"/>
                </a:moveTo>
                <a:lnTo>
                  <a:pt x="63" y="32"/>
                </a:lnTo>
                <a:lnTo>
                  <a:pt x="32" y="63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7426440" y="2909880"/>
            <a:ext cx="101520" cy="100080"/>
          </a:xfrm>
          <a:custGeom>
            <a:avLst/>
            <a:gdLst/>
            <a:ahLst/>
            <a:rect l="l" t="t" r="r" b="b"/>
            <a:pathLst>
              <a:path w="64" h="63">
                <a:moveTo>
                  <a:pt x="32" y="0"/>
                </a:moveTo>
                <a:lnTo>
                  <a:pt x="64" y="31"/>
                </a:lnTo>
                <a:lnTo>
                  <a:pt x="32" y="63"/>
                </a:lnTo>
                <a:lnTo>
                  <a:pt x="0" y="31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7661160" y="2976480"/>
            <a:ext cx="100080" cy="1000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2" y="0"/>
                </a:moveTo>
                <a:lnTo>
                  <a:pt x="63" y="31"/>
                </a:lnTo>
                <a:lnTo>
                  <a:pt x="32" y="63"/>
                </a:lnTo>
                <a:lnTo>
                  <a:pt x="0" y="31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7878600" y="3193920"/>
            <a:ext cx="101880" cy="100080"/>
          </a:xfrm>
          <a:custGeom>
            <a:avLst/>
            <a:gdLst/>
            <a:ahLst/>
            <a:rect l="l" t="t" r="r" b="b"/>
            <a:pathLst>
              <a:path w="64" h="63">
                <a:moveTo>
                  <a:pt x="32" y="0"/>
                </a:moveTo>
                <a:lnTo>
                  <a:pt x="64" y="32"/>
                </a:lnTo>
                <a:lnTo>
                  <a:pt x="32" y="63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8097840" y="3094200"/>
            <a:ext cx="100080" cy="99720"/>
          </a:xfrm>
          <a:custGeom>
            <a:avLst/>
            <a:gdLst/>
            <a:ahLst/>
            <a:rect l="l" t="t" r="r" b="b"/>
            <a:pathLst>
              <a:path w="63" h="63">
                <a:moveTo>
                  <a:pt x="31" y="0"/>
                </a:moveTo>
                <a:lnTo>
                  <a:pt x="63" y="31"/>
                </a:lnTo>
                <a:lnTo>
                  <a:pt x="31" y="63"/>
                </a:lnTo>
                <a:lnTo>
                  <a:pt x="0" y="31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3163320" y="2479680"/>
            <a:ext cx="2663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miliarity by # Touch-Poi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tegory Aver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080720" y="5389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080720" y="5105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080720" y="4819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1080720" y="45356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1080720" y="42498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1080720" y="3981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1080720" y="369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1080720" y="34113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1080720" y="3127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977040" y="28414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1265040" y="5657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2371320" y="5657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3423600" y="5657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4528440" y="5657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5650920" y="5657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6757200" y="5657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7863840" y="5657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2984760" y="6010200"/>
            <a:ext cx="342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Touch*Points Experienc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rot="16200000">
            <a:off x="-26640" y="4111200"/>
            <a:ext cx="149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miliarity Me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1258920" y="3588840"/>
            <a:ext cx="1009440" cy="5050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4275000" y="4064040"/>
            <a:ext cx="4640400" cy="1022400"/>
            <a:chOff x="4275000" y="4064040"/>
            <a:chExt cx="4640400" cy="1022400"/>
          </a:xfrm>
        </p:grpSpPr>
        <p:sp>
          <p:nvSpPr>
            <p:cNvPr id="3718" name=""/>
            <p:cNvSpPr/>
            <p:nvPr/>
          </p:nvSpPr>
          <p:spPr>
            <a:xfrm>
              <a:off x="4275000" y="4064040"/>
              <a:ext cx="4545000" cy="10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5800" rIns="18288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rot="5400000">
              <a:off x="4014000" y="4330080"/>
              <a:ext cx="1022400" cy="4903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773600" y="4137120"/>
              <a:ext cx="4141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istent with Ipsos databases, adding additional media is often better than over-spending in just one or two media…And there are diminishing benefits to adding ever mor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1" name=""/>
          <p:cNvSpPr/>
          <p:nvPr/>
        </p:nvSpPr>
        <p:spPr>
          <a:xfrm>
            <a:off x="971640" y="5389560"/>
            <a:ext cx="1800000" cy="6494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390840" y="649908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K: Durables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2496960" y="3556080"/>
            <a:ext cx="3480120" cy="12600"/>
          </a:xfrm>
          <a:prstGeom prst="line">
            <a:avLst/>
          </a:prstGeom>
          <a:ln w="381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2168640" y="3487320"/>
            <a:ext cx="67212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99"/>
                </a:solidFill>
                <a:latin typeface="Arial"/>
              </a:rPr>
              <a:t>Attitudes towards emerging digital media…</a:t>
            </a:r>
            <a:endParaRPr b="0" lang="en-US" sz="4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1257120" y="37116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ject or Accept the Medi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487440" y="1254240"/>
            <a:ext cx="796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For each medium, please indicate how receptive, or not, you are towards th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	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Please give any score from 1 to 10…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	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…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The </a:t>
            </a:r>
            <a:r>
              <a:rPr b="1" lang="en-CA" sz="1200" spc="-1" strike="noStrike" u="sng">
                <a:solidFill>
                  <a:srgbClr val="011643"/>
                </a:solidFill>
                <a:uFillTx/>
                <a:latin typeface="Arial"/>
              </a:rPr>
              <a:t>more you expect and accept it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, score closer to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	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…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the </a:t>
            </a:r>
            <a:r>
              <a:rPr b="1" lang="en-CA" sz="1200" spc="-1" strike="noStrike" u="sng">
                <a:solidFill>
                  <a:srgbClr val="011643"/>
                </a:solidFill>
                <a:uFillTx/>
                <a:latin typeface="Arial"/>
              </a:rPr>
              <a:t>less you accept (i.e. you reject such advertising completely)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, score closer to 1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	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…</a:t>
            </a:r>
            <a:r>
              <a:rPr b="1" lang="en-CA" sz="1200" spc="-1" strike="noStrike">
                <a:solidFill>
                  <a:srgbClr val="011643"/>
                </a:solidFill>
                <a:latin typeface="Arial"/>
              </a:rPr>
              <a:t>a score near the middle would indicate you are neutral, but perhaps you would not wish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7" name=""/>
          <p:cNvGrpSpPr/>
          <p:nvPr/>
        </p:nvGrpSpPr>
        <p:grpSpPr>
          <a:xfrm>
            <a:off x="686520" y="2305080"/>
            <a:ext cx="7401960" cy="4225680"/>
            <a:chOff x="686520" y="2305080"/>
            <a:chExt cx="7401960" cy="4225680"/>
          </a:xfrm>
        </p:grpSpPr>
        <p:sp>
          <p:nvSpPr>
            <p:cNvPr id="3728" name=""/>
            <p:cNvSpPr/>
            <p:nvPr/>
          </p:nvSpPr>
          <p:spPr>
            <a:xfrm>
              <a:off x="2808360" y="2305080"/>
              <a:ext cx="5280120" cy="38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08360" y="2305080"/>
              <a:ext cx="5280120" cy="3893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925880" y="2371680"/>
              <a:ext cx="527040" cy="1051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487760" y="2619360"/>
              <a:ext cx="965160" cy="943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662360" y="2857680"/>
              <a:ext cx="790560" cy="10368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662360" y="3105720"/>
              <a:ext cx="790560" cy="943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565520" y="3342600"/>
              <a:ext cx="887400" cy="1051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116240" y="3590280"/>
              <a:ext cx="1336680" cy="943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979800" y="3828600"/>
              <a:ext cx="1473120" cy="10368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832200" y="4076640"/>
              <a:ext cx="1620720" cy="1033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156200" y="4324320"/>
              <a:ext cx="1296720" cy="943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622760" y="4561200"/>
              <a:ext cx="830160" cy="1051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530520" y="4809240"/>
              <a:ext cx="1922400" cy="943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761000" y="5045760"/>
              <a:ext cx="691920" cy="1051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340160" y="5293800"/>
              <a:ext cx="1112760" cy="9576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633920" y="5532120"/>
              <a:ext cx="819000" cy="1051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603680" y="5780160"/>
              <a:ext cx="849240" cy="943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629160" y="6016680"/>
              <a:ext cx="1823760" cy="10512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52920" y="2371680"/>
              <a:ext cx="2108520" cy="1051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452920" y="2619360"/>
              <a:ext cx="1679760" cy="943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452920" y="2857680"/>
              <a:ext cx="1844640" cy="10368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452920" y="3105720"/>
              <a:ext cx="1854360" cy="943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452920" y="3342600"/>
              <a:ext cx="1748160" cy="1051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452920" y="3590280"/>
              <a:ext cx="1308240" cy="943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452920" y="3828600"/>
              <a:ext cx="1162080" cy="10368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452920" y="4076640"/>
              <a:ext cx="1016280" cy="1033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452920" y="4324320"/>
              <a:ext cx="1336680" cy="943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452920" y="4561200"/>
              <a:ext cx="1806840" cy="1051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452920" y="4809240"/>
              <a:ext cx="722520" cy="943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452920" y="5045760"/>
              <a:ext cx="1952640" cy="1051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452920" y="5293800"/>
              <a:ext cx="1522440" cy="9576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452920" y="5532120"/>
              <a:ext cx="1814760" cy="1051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452920" y="5780160"/>
              <a:ext cx="1795680" cy="943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452920" y="6016680"/>
              <a:ext cx="811440" cy="10512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452920" y="2305080"/>
              <a:ext cx="1800" cy="389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424480" y="242892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5424480" y="26658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424480" y="2913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424480" y="31518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424480" y="339984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5424480" y="36475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424480" y="38844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424480" y="413244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424480" y="4370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424480" y="46184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424480" y="485532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424480" y="51033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424480" y="535104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424480" y="558792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424480" y="58356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424480" y="60739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413320" y="2305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413320" y="255276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413320" y="2789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413320" y="303732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413320" y="327600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413320" y="352368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413320" y="37605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413320" y="400860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413320" y="42559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413320" y="449496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413320" y="474228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413320" y="497952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413320" y="5227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413320" y="546408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13320" y="571212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13320" y="5950440"/>
              <a:ext cx="3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413320" y="619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457720" y="231120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286720" y="254808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978920" y="2795760"/>
              <a:ext cx="67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gazi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895400" y="303444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wspap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039400" y="3283560"/>
              <a:ext cx="61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llboar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787760" y="352980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mall Post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986840" y="376668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rect Mai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882800" y="4014360"/>
              <a:ext cx="77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n websi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768240" y="4253400"/>
              <a:ext cx="19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n trolleys or baskets in sho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173320" y="450072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ine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07360" y="4737960"/>
              <a:ext cx="1582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ds sent to mobile ph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904680" y="4987080"/>
              <a:ext cx="183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onsorship of a TV progra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78680" y="5233320"/>
              <a:ext cx="19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onsorship of a radio progra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871920" y="5471640"/>
              <a:ext cx="185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onsorship of a sports ev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919800" y="5719680"/>
              <a:ext cx="179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onsorship of a TV cha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686520" y="5956560"/>
              <a:ext cx="203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xt messages during TV show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3481560" y="6312960"/>
              <a:ext cx="342720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3949560" y="6388560"/>
              <a:ext cx="68400" cy="68040"/>
            </a:xfrm>
            <a:prstGeom prst="rect">
              <a:avLst/>
            </a:prstGeom>
            <a:solidFill>
              <a:srgbClr val="8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4051800" y="6340680"/>
              <a:ext cx="73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ject (1-4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618160" y="6388560"/>
              <a:ext cx="69840" cy="68040"/>
            </a:xfrm>
            <a:prstGeom prst="rect">
              <a:avLst/>
            </a:prstGeom>
            <a:solidFill>
              <a:srgbClr val="6666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715000" y="6340680"/>
              <a:ext cx="84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pt (5-10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7" name=""/>
          <p:cNvSpPr/>
          <p:nvPr/>
        </p:nvSpPr>
        <p:spPr>
          <a:xfrm>
            <a:off x="509760" y="6292800"/>
            <a:ext cx="264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11643"/>
                </a:solidFill>
                <a:latin typeface="Arial"/>
              </a:rPr>
              <a:t>Base Total respondents: n = 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8" name=""/>
          <p:cNvGrpSpPr/>
          <p:nvPr/>
        </p:nvGrpSpPr>
        <p:grpSpPr>
          <a:xfrm>
            <a:off x="471600" y="3714840"/>
            <a:ext cx="2527200" cy="2511000"/>
            <a:chOff x="471600" y="3714840"/>
            <a:chExt cx="2527200" cy="2511000"/>
          </a:xfrm>
        </p:grpSpPr>
        <p:sp>
          <p:nvSpPr>
            <p:cNvPr id="3819" name=""/>
            <p:cNvSpPr/>
            <p:nvPr/>
          </p:nvSpPr>
          <p:spPr>
            <a:xfrm>
              <a:off x="917640" y="4655160"/>
              <a:ext cx="2068560" cy="357840"/>
            </a:xfrm>
            <a:prstGeom prst="ellipse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930240" y="3714840"/>
              <a:ext cx="2068560" cy="575640"/>
            </a:xfrm>
            <a:prstGeom prst="ellipse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471600" y="5867640"/>
              <a:ext cx="2412720" cy="358200"/>
            </a:xfrm>
            <a:prstGeom prst="ellipse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469880" y="1265400"/>
            <a:ext cx="2673360" cy="5477760"/>
            <a:chOff x="1469880" y="1265400"/>
            <a:chExt cx="2673360" cy="5477760"/>
          </a:xfrm>
        </p:grpSpPr>
        <p:grpSp>
          <p:nvGrpSpPr>
            <p:cNvPr id="104" name=""/>
            <p:cNvGrpSpPr/>
            <p:nvPr/>
          </p:nvGrpSpPr>
          <p:grpSpPr>
            <a:xfrm>
              <a:off x="1469880" y="1265400"/>
              <a:ext cx="2673360" cy="5477760"/>
              <a:chOff x="1469880" y="1265400"/>
              <a:chExt cx="2673360" cy="5477760"/>
            </a:xfrm>
          </p:grpSpPr>
          <p:sp>
            <p:nvSpPr>
              <p:cNvPr id="105" name=""/>
              <p:cNvSpPr/>
              <p:nvPr/>
            </p:nvSpPr>
            <p:spPr>
              <a:xfrm>
                <a:off x="1469880" y="2819160"/>
                <a:ext cx="2673360" cy="352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Promotional Advertis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Rad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Newspap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Billboar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Transi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Inter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Direct Ma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Product Plac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Promo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POS displays/In-s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8080"/>
                    </a:solidFill>
                    <a:latin typeface="Arial"/>
                  </a:rPr>
                  <a:t>Sponsorshi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876"/>
                  </a:spcBef>
                  <a:buClr>
                    <a:srgbClr val="00808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69880" y="1265400"/>
                <a:ext cx="2673360" cy="185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buClr>
                    <a:srgbClr val="0033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Product Perform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buClr>
                    <a:srgbClr val="0033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Package Perform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buClr>
                    <a:srgbClr val="0033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Package Art (the “look”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buClr>
                    <a:srgbClr val="0033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Pri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buClr>
                    <a:srgbClr val="0033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Place (Distribution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buClr>
                    <a:srgbClr val="0033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Personal Servi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buClr>
                    <a:srgbClr val="0033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69880" y="5168880"/>
                <a:ext cx="2673360" cy="15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buClr>
                    <a:srgbClr val="cc33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buClr>
                    <a:srgbClr val="9466a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466ae"/>
                    </a:solidFill>
                    <a:latin typeface="Arial"/>
                  </a:rPr>
                  <a:t>People Buzz (W-of-M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buClr>
                    <a:srgbClr val="9466a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466ae"/>
                    </a:solidFill>
                    <a:latin typeface="Arial"/>
                  </a:rPr>
                  <a:t>Web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buClr>
                    <a:srgbClr val="9466a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466ae"/>
                    </a:solidFill>
                    <a:latin typeface="Arial"/>
                  </a:rPr>
                  <a:t>Phone / 1-8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buClr>
                    <a:srgbClr val="9466a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466ae"/>
                    </a:solidFill>
                    <a:latin typeface="Arial"/>
                  </a:rPr>
                  <a:t>News Coverage</a:t>
                </a:r>
                <a:r>
                  <a:rPr b="1" lang="en-US" sz="1400" spc="-1" strike="noStrike">
                    <a:solidFill>
                      <a:srgbClr val="cc3399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buClr>
                    <a:srgbClr val="cc33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471320" y="6262560"/>
              <a:ext cx="179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9466a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466ae"/>
                  </a:solidFill>
                  <a:latin typeface="Arial"/>
                </a:rPr>
                <a:t>Anti-Touch*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33840" y="1314360"/>
            <a:ext cx="1410840" cy="5184720"/>
            <a:chOff x="3633840" y="1314360"/>
            <a:chExt cx="1410840" cy="5184720"/>
          </a:xfrm>
        </p:grpSpPr>
        <p:sp>
          <p:nvSpPr>
            <p:cNvPr id="110" name=""/>
            <p:cNvSpPr/>
            <p:nvPr/>
          </p:nvSpPr>
          <p:spPr>
            <a:xfrm>
              <a:off x="3633840" y="1314360"/>
              <a:ext cx="261360" cy="5184720"/>
            </a:xfrm>
            <a:custGeom>
              <a:avLst/>
              <a:gdLst>
                <a:gd name="textAreaLeft" fmla="*/ 0 w 261360"/>
                <a:gd name="textAreaRight" fmla="*/ 94320 w 261360"/>
                <a:gd name="textAreaTop" fmla="*/ 135000 h 5184720"/>
                <a:gd name="textAreaBottom" fmla="*/ 5049720 h 51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6c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947040" y="2825280"/>
              <a:ext cx="1097640" cy="10810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947040" y="3633120"/>
              <a:ext cx="1048320" cy="273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47040" y="3906720"/>
              <a:ext cx="1034280" cy="4204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44880" y="3917880"/>
              <a:ext cx="1054080" cy="113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1960" y="3041640"/>
            <a:ext cx="938160" cy="1227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9280" y="5024520"/>
            <a:ext cx="1130400" cy="86976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4846680" y="1951200"/>
            <a:ext cx="3214800" cy="3913200"/>
            <a:chOff x="4846680" y="1951200"/>
            <a:chExt cx="3214800" cy="3913200"/>
          </a:xfrm>
        </p:grpSpPr>
        <p:sp>
          <p:nvSpPr>
            <p:cNvPr id="118" name=""/>
            <p:cNvSpPr/>
            <p:nvPr/>
          </p:nvSpPr>
          <p:spPr>
            <a:xfrm>
              <a:off x="6006240" y="4273560"/>
              <a:ext cx="86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60093"/>
                  </a:solidFill>
                  <a:latin typeface="Arial"/>
                </a:rPr>
                <a:t>Purcha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080" y="4799160"/>
              <a:ext cx="72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d60093"/>
                  </a:solidFill>
                  <a:latin typeface="Arial"/>
                </a:rPr>
                <a:t>Loyalty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85000" y="5322960"/>
              <a:ext cx="9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05360" y="3238560"/>
              <a:ext cx="122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Desire/Equ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35840" y="3733920"/>
              <a:ext cx="52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Arial"/>
                </a:rPr>
                <a:t>Int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37600" y="2325960"/>
              <a:ext cx="156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c69"/>
                  </a:solidFill>
                  <a:latin typeface="Arial"/>
                </a:rPr>
                <a:t>Brand Familiar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54440" y="274824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c69"/>
                  </a:solidFill>
                  <a:latin typeface="Arial"/>
                </a:rPr>
                <a:t>Brand Associa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46680" y="2133720"/>
              <a:ext cx="1098360" cy="3729240"/>
            </a:xfrm>
            <a:custGeom>
              <a:avLst/>
              <a:gdLst/>
              <a:ahLst/>
              <a:rect l="l" t="t" r="r" b="b"/>
              <a:pathLst>
                <a:path w="899" h="2915">
                  <a:moveTo>
                    <a:pt x="0" y="0"/>
                  </a:moveTo>
                  <a:cubicBezTo>
                    <a:pt x="283" y="459"/>
                    <a:pt x="566" y="919"/>
                    <a:pt x="716" y="1405"/>
                  </a:cubicBezTo>
                  <a:cubicBezTo>
                    <a:pt x="866" y="1891"/>
                    <a:pt x="882" y="2403"/>
                    <a:pt x="899" y="2915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949440" y="2135160"/>
              <a:ext cx="1098360" cy="3729240"/>
            </a:xfrm>
            <a:custGeom>
              <a:avLst/>
              <a:gdLst/>
              <a:ahLst/>
              <a:rect l="l" t="t" r="r" b="b"/>
              <a:pathLst>
                <a:path w="899" h="2915">
                  <a:moveTo>
                    <a:pt x="0" y="0"/>
                  </a:moveTo>
                  <a:cubicBezTo>
                    <a:pt x="283" y="459"/>
                    <a:pt x="566" y="919"/>
                    <a:pt x="716" y="1405"/>
                  </a:cubicBezTo>
                  <a:cubicBezTo>
                    <a:pt x="866" y="1891"/>
                    <a:pt x="882" y="2403"/>
                    <a:pt x="899" y="2915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46680" y="1951200"/>
              <a:ext cx="3214800" cy="3427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44440" indent="-244440" algn="ctr">
                <a:lnSpc>
                  <a:spcPct val="110000"/>
                </a:lnSpc>
                <a:spcBef>
                  <a:spcPts val="836"/>
                </a:spcBef>
                <a:buClr>
                  <a:srgbClr val="3c47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2280" y="2579760"/>
              <a:ext cx="2678040" cy="103320"/>
            </a:xfrm>
            <a:custGeom>
              <a:avLst/>
              <a:gdLst/>
              <a:ahLst/>
              <a:rect l="l" t="t" r="r" b="b"/>
              <a:pathLst>
                <a:path w="2287" h="80">
                  <a:moveTo>
                    <a:pt x="0" y="9"/>
                  </a:moveTo>
                  <a:cubicBezTo>
                    <a:pt x="364" y="44"/>
                    <a:pt x="728" y="80"/>
                    <a:pt x="1109" y="79"/>
                  </a:cubicBezTo>
                  <a:cubicBezTo>
                    <a:pt x="1490" y="78"/>
                    <a:pt x="1888" y="39"/>
                    <a:pt x="2287" y="0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59320" y="3060720"/>
              <a:ext cx="2165400" cy="88920"/>
            </a:xfrm>
            <a:custGeom>
              <a:avLst/>
              <a:gdLst/>
              <a:ahLst/>
              <a:rect l="l" t="t" r="r" b="b"/>
              <a:pathLst>
                <a:path w="1912" h="69">
                  <a:moveTo>
                    <a:pt x="0" y="0"/>
                  </a:moveTo>
                  <a:cubicBezTo>
                    <a:pt x="299" y="34"/>
                    <a:pt x="598" y="69"/>
                    <a:pt x="917" y="69"/>
                  </a:cubicBezTo>
                  <a:cubicBezTo>
                    <a:pt x="1236" y="69"/>
                    <a:pt x="1574" y="34"/>
                    <a:pt x="1912" y="0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2720" y="3530880"/>
              <a:ext cx="1749240" cy="77760"/>
            </a:xfrm>
            <a:custGeom>
              <a:avLst/>
              <a:gdLst/>
              <a:ahLst/>
              <a:rect l="l" t="t" r="r" b="b"/>
              <a:pathLst>
                <a:path w="1562" h="61">
                  <a:moveTo>
                    <a:pt x="0" y="0"/>
                  </a:moveTo>
                  <a:cubicBezTo>
                    <a:pt x="245" y="30"/>
                    <a:pt x="491" y="61"/>
                    <a:pt x="751" y="61"/>
                  </a:cubicBezTo>
                  <a:cubicBezTo>
                    <a:pt x="1011" y="61"/>
                    <a:pt x="1286" y="30"/>
                    <a:pt x="1562" y="0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53160" y="4062600"/>
              <a:ext cx="1377720" cy="57240"/>
            </a:xfrm>
            <a:custGeom>
              <a:avLst/>
              <a:gdLst/>
              <a:ahLst/>
              <a:rect l="l" t="t" r="r" b="b"/>
              <a:pathLst>
                <a:path w="1248" h="45">
                  <a:moveTo>
                    <a:pt x="0" y="0"/>
                  </a:moveTo>
                  <a:cubicBezTo>
                    <a:pt x="210" y="21"/>
                    <a:pt x="420" y="43"/>
                    <a:pt x="628" y="44"/>
                  </a:cubicBezTo>
                  <a:cubicBezTo>
                    <a:pt x="836" y="45"/>
                    <a:pt x="1042" y="27"/>
                    <a:pt x="1248" y="9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50000" y="4602240"/>
              <a:ext cx="1184040" cy="55800"/>
            </a:xfrm>
            <a:custGeom>
              <a:avLst/>
              <a:gdLst/>
              <a:ahLst/>
              <a:rect l="l" t="t" r="r" b="b"/>
              <a:pathLst>
                <a:path w="968" h="44">
                  <a:moveTo>
                    <a:pt x="0" y="0"/>
                  </a:moveTo>
                  <a:cubicBezTo>
                    <a:pt x="150" y="21"/>
                    <a:pt x="301" y="42"/>
                    <a:pt x="462" y="43"/>
                  </a:cubicBezTo>
                  <a:cubicBezTo>
                    <a:pt x="623" y="44"/>
                    <a:pt x="795" y="26"/>
                    <a:pt x="968" y="8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080" bIns="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13360" y="5126040"/>
              <a:ext cx="1079640" cy="57240"/>
            </a:xfrm>
            <a:custGeom>
              <a:avLst/>
              <a:gdLst/>
              <a:ahLst/>
              <a:rect l="l" t="t" r="r" b="b"/>
              <a:pathLst>
                <a:path w="882" h="45">
                  <a:moveTo>
                    <a:pt x="0" y="0"/>
                  </a:moveTo>
                  <a:cubicBezTo>
                    <a:pt x="149" y="21"/>
                    <a:pt x="298" y="43"/>
                    <a:pt x="445" y="44"/>
                  </a:cubicBezTo>
                  <a:cubicBezTo>
                    <a:pt x="592" y="45"/>
                    <a:pt x="737" y="27"/>
                    <a:pt x="882" y="9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4280" y="178920"/>
            <a:ext cx="73598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and*Graph 360 is “Consumer Mix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eling”, at the respondent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920" y="1830240"/>
            <a:ext cx="423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UCH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7200" y="1405080"/>
            <a:ext cx="45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A focus on key Brand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7240" y="587520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Derived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1248840" y="216000"/>
            <a:ext cx="588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bining likelihood to notice, with ‘acceptance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736560" y="1422360"/>
            <a:ext cx="840744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055520" y="2057400"/>
            <a:ext cx="7151760" cy="30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117440" y="2901960"/>
            <a:ext cx="324000" cy="22096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1566720" y="3819600"/>
            <a:ext cx="322560" cy="1292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2014560" y="3538440"/>
            <a:ext cx="324000" cy="15732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2462040" y="3516480"/>
            <a:ext cx="324000" cy="15951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2911320" y="3579840"/>
            <a:ext cx="312840" cy="1531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3349800" y="4152960"/>
            <a:ext cx="322200" cy="9586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3797280" y="4048200"/>
            <a:ext cx="324000" cy="10634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4245120" y="4278240"/>
            <a:ext cx="323640" cy="833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4694400" y="4038480"/>
            <a:ext cx="322200" cy="10731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141880" y="3413160"/>
            <a:ext cx="324000" cy="16984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5591160" y="4465800"/>
            <a:ext cx="322200" cy="645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6039000" y="3235320"/>
            <a:ext cx="323640" cy="1876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6486480" y="4070520"/>
            <a:ext cx="312840" cy="10411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6924600" y="3516480"/>
            <a:ext cx="324000" cy="15951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7373880" y="3328920"/>
            <a:ext cx="322200" cy="1782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7821720" y="4413240"/>
            <a:ext cx="323640" cy="698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1055520" y="2057400"/>
            <a:ext cx="1800" cy="305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1014480" y="511164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1014480" y="48099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1014480" y="44974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1014480" y="419400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1014480" y="38926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1014480" y="358920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1014480" y="32767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1014480" y="29750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1014480" y="267192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1014480" y="235908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1014480" y="205740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1055520" y="5111640"/>
            <a:ext cx="715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 flipV="1">
            <a:off x="1055520" y="5111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 flipV="1">
            <a:off x="150336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 flipV="1">
            <a:off x="195264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240048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 flipV="1">
            <a:off x="284796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 flipV="1">
            <a:off x="3286080" y="5111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373536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418320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 flipV="1">
            <a:off x="4630680" y="5111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 flipV="1">
            <a:off x="5079960" y="5111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flipV="1">
            <a:off x="552780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flipV="1">
            <a:off x="597708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 flipV="1">
            <a:off x="6424560" y="5111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 flipV="1">
            <a:off x="6862680" y="5111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 flipV="1">
            <a:off x="731052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 flipV="1">
            <a:off x="7759800" y="5111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flipV="1">
            <a:off x="8207280" y="5111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679400" y="1874880"/>
            <a:ext cx="633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ting of 5 to 10 for likely to notice, </a:t>
            </a: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also rated acceptance 5 to 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226880" y="26719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1674360" y="35892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2123640" y="33084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2571480" y="3287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3018960" y="3349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3457440" y="39243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3906360" y="38196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4354200" y="40482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4802040" y="3808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5251320" y="31827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5698800" y="42372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6146640" y="30067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6595920" y="38401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7034040" y="3287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7481520" y="31003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7929360" y="41846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906120" y="5029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829800" y="47260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829800" y="4413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829800" y="41115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829800" y="3808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829800" y="35067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829800" y="31939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82980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829800" y="25891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829800" y="22766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55280" y="197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 rot="16200000">
            <a:off x="1184040" y="513972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 rot="16200000">
            <a:off x="1549800" y="52495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rot="16200000">
            <a:off x="1859400" y="538560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 rot="16200000">
            <a:off x="2260800" y="5461200"/>
            <a:ext cx="70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 rot="16200000">
            <a:off x="2785320" y="537948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bo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rot="16200000">
            <a:off x="3120120" y="5496840"/>
            <a:ext cx="77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 Po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rot="16200000">
            <a:off x="3660840" y="53650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 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rot="16200000">
            <a:off x="4058280" y="544608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webs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rot="16200000">
            <a:off x="4384080" y="5560560"/>
            <a:ext cx="75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rolleys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 rot="16200000">
            <a:off x="4455720" y="5592600"/>
            <a:ext cx="94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kets in sh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 rot="16200000">
            <a:off x="5074920" y="531504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n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 rot="16200000">
            <a:off x="5136840" y="5617800"/>
            <a:ext cx="103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s sent to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 rot="16200000">
            <a:off x="5647320" y="560700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 rot="16200000">
            <a:off x="5631120" y="557640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nsorship of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rot="16200000">
            <a:off x="5938200" y="556488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V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rot="16200000">
            <a:off x="6080400" y="557784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nsorship of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rot="16200000">
            <a:off x="6328080" y="557820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rot="16200000">
            <a:off x="6528240" y="557640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nsorship of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rot="16200000">
            <a:off x="6823800" y="555948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rts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rot="16200000">
            <a:off x="6977520" y="557496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onsorship of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rot="16200000">
            <a:off x="7299000" y="555408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V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 rot="16200000">
            <a:off x="7469280" y="555876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 rot="16200000">
            <a:off x="7594920" y="5559480"/>
            <a:ext cx="94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V sho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1039680" y="53341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SzPct val="2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164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5089680" y="55958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SzPct val="2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164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4309920" y="5964120"/>
            <a:ext cx="216000" cy="216000"/>
          </a:xfrm>
          <a:prstGeom prst="smileyFace">
            <a:avLst>
              <a:gd name="adj" fmla="val -4652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5584680" y="6326280"/>
            <a:ext cx="216000" cy="215640"/>
          </a:xfrm>
          <a:prstGeom prst="smileyFace">
            <a:avLst>
              <a:gd name="adj" fmla="val -4652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7832880" y="6173640"/>
            <a:ext cx="215640" cy="216000"/>
          </a:xfrm>
          <a:prstGeom prst="smileyFace">
            <a:avLst>
              <a:gd name="adj" fmla="val -4652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179280" y="5996160"/>
            <a:ext cx="28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11643"/>
                </a:solidFill>
                <a:latin typeface="Arial"/>
              </a:rPr>
              <a:t>Base Total respondents: n = 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436680" y="1541520"/>
            <a:ext cx="827064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uch-points wor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work differently, for different objectives, among different targ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mportant issue is how the different choices work versus alternate use of the sam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e + content is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, and mixes which extend reach, are more important than frequency and share-of-voice….But there are diminishing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touch-points, and in-store activities are as important as the usual ‘paid media’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479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-of-mouth is an important wild ca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1214280" y="178920"/>
            <a:ext cx="763920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Summary Audit: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verage across studies (when t-p is presen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2476080" y="1460520"/>
            <a:ext cx="372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VERAGE: Recall X Share of Impa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2" name=""/>
          <p:cNvGrpSpPr/>
          <p:nvPr/>
        </p:nvGrpSpPr>
        <p:grpSpPr>
          <a:xfrm>
            <a:off x="498600" y="1676520"/>
            <a:ext cx="8727840" cy="4651200"/>
            <a:chOff x="498600" y="1676520"/>
            <a:chExt cx="8727840" cy="4651200"/>
          </a:xfrm>
        </p:grpSpPr>
        <p:sp>
          <p:nvSpPr>
            <p:cNvPr id="3933" name=""/>
            <p:cNvSpPr/>
            <p:nvPr/>
          </p:nvSpPr>
          <p:spPr>
            <a:xfrm>
              <a:off x="1141560" y="4521240"/>
              <a:ext cx="7157880" cy="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3755880" y="2284560"/>
              <a:ext cx="0" cy="3327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138320" y="2390760"/>
              <a:ext cx="7353360" cy="32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138320" y="2390760"/>
              <a:ext cx="1440" cy="323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081080" y="5624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081080" y="50864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081080" y="4545000"/>
              <a:ext cx="57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081080" y="4006800"/>
              <a:ext cx="57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1081080" y="34686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081080" y="29304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081080" y="239076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138320" y="5624640"/>
              <a:ext cx="735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1138320" y="562464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2055960" y="562464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2971800" y="562464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3889440" y="562464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V="1">
              <a:off x="4819680" y="5624640"/>
              <a:ext cx="32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5738760" y="562464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 flipV="1">
              <a:off x="6656400" y="562464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V="1">
              <a:off x="7574040" y="562464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 flipV="1">
              <a:off x="8491680" y="562464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7532640" y="3041640"/>
              <a:ext cx="82440" cy="936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24" y="0"/>
                  </a:moveTo>
                  <a:lnTo>
                    <a:pt x="48" y="27"/>
                  </a:lnTo>
                  <a:lnTo>
                    <a:pt x="24" y="55"/>
                  </a:lnTo>
                  <a:lnTo>
                    <a:pt x="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7072200" y="2612880"/>
              <a:ext cx="84240" cy="9540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4" y="0"/>
                  </a:moveTo>
                  <a:lnTo>
                    <a:pt x="49" y="28"/>
                  </a:lnTo>
                  <a:lnTo>
                    <a:pt x="24" y="56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6615000" y="2835360"/>
              <a:ext cx="81000" cy="9504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24" y="0"/>
                  </a:moveTo>
                  <a:lnTo>
                    <a:pt x="48" y="28"/>
                  </a:lnTo>
                  <a:lnTo>
                    <a:pt x="24" y="56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237280" y="4070520"/>
              <a:ext cx="83880" cy="9684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5" y="0"/>
                  </a:moveTo>
                  <a:lnTo>
                    <a:pt x="49" y="28"/>
                  </a:lnTo>
                  <a:lnTo>
                    <a:pt x="25" y="56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4305240" y="4927680"/>
              <a:ext cx="84240" cy="9504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5" y="0"/>
                  </a:moveTo>
                  <a:lnTo>
                    <a:pt x="49" y="28"/>
                  </a:lnTo>
                  <a:lnTo>
                    <a:pt x="25" y="56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848040" y="3849840"/>
              <a:ext cx="84240" cy="9504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4" y="0"/>
                  </a:moveTo>
                  <a:lnTo>
                    <a:pt x="49" y="27"/>
                  </a:lnTo>
                  <a:lnTo>
                    <a:pt x="24" y="55"/>
                  </a:lnTo>
                  <a:lnTo>
                    <a:pt x="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3848040" y="4340160"/>
              <a:ext cx="84240" cy="9684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4" y="0"/>
                  </a:moveTo>
                  <a:lnTo>
                    <a:pt x="49" y="28"/>
                  </a:lnTo>
                  <a:lnTo>
                    <a:pt x="24" y="56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3848040" y="4610160"/>
              <a:ext cx="84240" cy="9504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4" y="0"/>
                  </a:moveTo>
                  <a:lnTo>
                    <a:pt x="49" y="27"/>
                  </a:lnTo>
                  <a:lnTo>
                    <a:pt x="24" y="55"/>
                  </a:lnTo>
                  <a:lnTo>
                    <a:pt x="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3387600" y="4340160"/>
              <a:ext cx="84240" cy="9684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5" y="0"/>
                  </a:moveTo>
                  <a:lnTo>
                    <a:pt x="49" y="28"/>
                  </a:lnTo>
                  <a:lnTo>
                    <a:pt x="25" y="56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3387600" y="5037120"/>
              <a:ext cx="84240" cy="9684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5" y="0"/>
                  </a:moveTo>
                  <a:lnTo>
                    <a:pt x="49" y="28"/>
                  </a:lnTo>
                  <a:lnTo>
                    <a:pt x="25" y="56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387600" y="4340160"/>
              <a:ext cx="84240" cy="9684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5" y="0"/>
                  </a:moveTo>
                  <a:lnTo>
                    <a:pt x="49" y="28"/>
                  </a:lnTo>
                  <a:lnTo>
                    <a:pt x="25" y="56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930400" y="3849840"/>
              <a:ext cx="84240" cy="9504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4" y="0"/>
                  </a:moveTo>
                  <a:lnTo>
                    <a:pt x="49" y="27"/>
                  </a:lnTo>
                  <a:lnTo>
                    <a:pt x="24" y="55"/>
                  </a:lnTo>
                  <a:lnTo>
                    <a:pt x="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930400" y="4451400"/>
              <a:ext cx="84240" cy="9360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4" y="0"/>
                  </a:moveTo>
                  <a:lnTo>
                    <a:pt x="49" y="28"/>
                  </a:lnTo>
                  <a:lnTo>
                    <a:pt x="24" y="55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471760" y="4927680"/>
              <a:ext cx="82440" cy="9504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24" y="0"/>
                  </a:moveTo>
                  <a:lnTo>
                    <a:pt x="48" y="28"/>
                  </a:lnTo>
                  <a:lnTo>
                    <a:pt x="24" y="56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013120" y="4229280"/>
              <a:ext cx="83880" cy="9648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5" y="0"/>
                  </a:moveTo>
                  <a:lnTo>
                    <a:pt x="49" y="28"/>
                  </a:lnTo>
                  <a:lnTo>
                    <a:pt x="25" y="56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013120" y="4927680"/>
              <a:ext cx="83880" cy="9504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5" y="0"/>
                  </a:moveTo>
                  <a:lnTo>
                    <a:pt x="49" y="28"/>
                  </a:lnTo>
                  <a:lnTo>
                    <a:pt x="25" y="56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013120" y="4816440"/>
              <a:ext cx="83880" cy="9540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5" y="0"/>
                  </a:moveTo>
                  <a:lnTo>
                    <a:pt x="49" y="28"/>
                  </a:lnTo>
                  <a:lnTo>
                    <a:pt x="25" y="56"/>
                  </a:lnTo>
                  <a:lnTo>
                    <a:pt x="0" y="2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1554120" y="3262320"/>
              <a:ext cx="84240" cy="9540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4" y="0"/>
                  </a:moveTo>
                  <a:lnTo>
                    <a:pt x="49" y="28"/>
                  </a:lnTo>
                  <a:lnTo>
                    <a:pt x="24" y="56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7695360" y="2962440"/>
              <a:ext cx="54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d4d4d"/>
                  </a:solidFill>
                  <a:latin typeface="Arial"/>
                </a:rPr>
                <a:t>“</a:t>
              </a:r>
              <a:r>
                <a:rPr b="0" lang="en-US" sz="1500" spc="-1" strike="noStrike">
                  <a:solidFill>
                    <a:srgbClr val="4d4d4d"/>
                  </a:solidFill>
                  <a:latin typeface="Arial"/>
                </a:rPr>
                <a:t>Look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7239240" y="2535120"/>
              <a:ext cx="120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d4d4d"/>
                  </a:solidFill>
                  <a:latin typeface="Arial"/>
                </a:rPr>
                <a:t>Channel/Shel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6778080" y="27576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d4d4d"/>
                  </a:solidFill>
                  <a:latin typeface="Arial"/>
                </a:rPr>
                <a:t>Perform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402160" y="3992400"/>
              <a:ext cx="125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ord of Mout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4430520" y="4821120"/>
              <a:ext cx="6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n-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4013280" y="3770280"/>
              <a:ext cx="86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levis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4041720" y="426240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t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4038480" y="4505400"/>
              <a:ext cx="6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-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3554280" y="4917960"/>
              <a:ext cx="69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si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242880" y="4149720"/>
              <a:ext cx="56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097080" y="37702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668320" y="4498920"/>
              <a:ext cx="106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onsorshi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420640" y="5029200"/>
              <a:ext cx="109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gazine a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179440" y="4151160"/>
              <a:ext cx="50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968120" y="4960800"/>
              <a:ext cx="296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S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843200" y="4624560"/>
              <a:ext cx="65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inem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080" y="318456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d4d4d"/>
                  </a:solidFill>
                  <a:latin typeface="Arial"/>
                </a:rPr>
                <a:t>Pr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899640" y="549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804240" y="49593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804240" y="4419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804240" y="3881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804240" y="3343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804240" y="2805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804240" y="2265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095840" y="5797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012760" y="5797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30040" y="5797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3847680" y="5797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4779720" y="5797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639760" y="5797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6557400" y="5797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7474680" y="5797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8393040" y="5797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4012560" y="6099120"/>
              <a:ext cx="165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hare of Impact 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rot="16200000">
              <a:off x="12600" y="3942360"/>
              <a:ext cx="1200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vg Recall 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749760" y="1676520"/>
              <a:ext cx="168120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2b2b2"/>
                  </a:solidFill>
                  <a:latin typeface="Arial"/>
                </a:rPr>
                <a:t>Aver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2b2b2"/>
                  </a:solidFill>
                  <a:latin typeface="Arial"/>
                </a:rPr>
                <a:t>(ex Prdt T-P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7494480" y="5116680"/>
              <a:ext cx="15494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Impactful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Low pres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206360" y="1833480"/>
              <a:ext cx="154944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High Re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Low Imp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7545240" y="3957480"/>
              <a:ext cx="16812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2b2b2"/>
                  </a:solidFill>
                  <a:latin typeface="Arial"/>
                </a:rPr>
                <a:t>Aver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2b2b2"/>
                  </a:solidFill>
                  <a:latin typeface="Arial"/>
                </a:rPr>
                <a:t>(ex Prdt T-P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2" name="" descr=""/>
          <p:cNvPicPr/>
          <p:nvPr/>
        </p:nvPicPr>
        <p:blipFill>
          <a:blip r:embed="rId1"/>
          <a:stretch/>
        </p:blipFill>
        <p:spPr>
          <a:xfrm>
            <a:off x="1174680" y="1590840"/>
            <a:ext cx="7129440" cy="1238040"/>
          </a:xfrm>
          <a:prstGeom prst="rect">
            <a:avLst/>
          </a:prstGeom>
          <a:ln w="0">
            <a:noFill/>
          </a:ln>
        </p:spPr>
      </p:pic>
      <p:pic>
        <p:nvPicPr>
          <p:cNvPr id="4013" name="" descr=""/>
          <p:cNvPicPr/>
          <p:nvPr/>
        </p:nvPicPr>
        <p:blipFill>
          <a:blip r:embed="rId2"/>
          <a:stretch/>
        </p:blipFill>
        <p:spPr>
          <a:xfrm>
            <a:off x="681120" y="3333600"/>
            <a:ext cx="1106280" cy="1641600"/>
          </a:xfrm>
          <a:prstGeom prst="rect">
            <a:avLst/>
          </a:prstGeom>
          <a:ln w="0">
            <a:noFill/>
          </a:ln>
        </p:spPr>
      </p:pic>
      <p:pic>
        <p:nvPicPr>
          <p:cNvPr id="4014" name="" descr=""/>
          <p:cNvPicPr/>
          <p:nvPr/>
        </p:nvPicPr>
        <p:blipFill>
          <a:blip r:embed="rId3"/>
          <a:stretch/>
        </p:blipFill>
        <p:spPr>
          <a:xfrm>
            <a:off x="4938840" y="3009960"/>
            <a:ext cx="1752480" cy="2066760"/>
          </a:xfrm>
          <a:prstGeom prst="rect">
            <a:avLst/>
          </a:prstGeom>
          <a:ln w="0">
            <a:noFill/>
          </a:ln>
        </p:spPr>
      </p:pic>
      <p:pic>
        <p:nvPicPr>
          <p:cNvPr id="4015" name="" descr=""/>
          <p:cNvPicPr/>
          <p:nvPr/>
        </p:nvPicPr>
        <p:blipFill>
          <a:blip r:embed="rId4"/>
          <a:stretch/>
        </p:blipFill>
        <p:spPr>
          <a:xfrm>
            <a:off x="2527200" y="3595680"/>
            <a:ext cx="1359000" cy="1503360"/>
          </a:xfrm>
          <a:prstGeom prst="rect">
            <a:avLst/>
          </a:prstGeom>
          <a:ln w="0">
            <a:noFill/>
          </a:ln>
        </p:spPr>
      </p:pic>
      <p:pic>
        <p:nvPicPr>
          <p:cNvPr id="4016" name="" descr=""/>
          <p:cNvPicPr/>
          <p:nvPr/>
        </p:nvPicPr>
        <p:blipFill>
          <a:blip r:embed="rId5"/>
          <a:stretch/>
        </p:blipFill>
        <p:spPr>
          <a:xfrm>
            <a:off x="7488360" y="3630600"/>
            <a:ext cx="105228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4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06720" y="5540400"/>
            <a:ext cx="2376360" cy="27468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06720" y="3384720"/>
            <a:ext cx="150840" cy="27432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06720" y="3692520"/>
            <a:ext cx="990720" cy="27468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06720" y="6156360"/>
            <a:ext cx="2101680" cy="27468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06720" y="5848200"/>
            <a:ext cx="1714680" cy="27468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6720" y="5232240"/>
            <a:ext cx="1650960" cy="27468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6720" y="4924440"/>
            <a:ext cx="1790640" cy="27468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06720" y="4616280"/>
            <a:ext cx="1790640" cy="27468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6720" y="4308480"/>
            <a:ext cx="1176480" cy="27468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06720" y="4000680"/>
            <a:ext cx="1176480" cy="274320"/>
          </a:xfrm>
          <a:prstGeom prst="rect">
            <a:avLst/>
          </a:prstGeom>
          <a:solidFill>
            <a:srgbClr val="6fd5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37960" y="1628640"/>
          <a:ext cx="750276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628640"/>
                    <a:ext cx="750276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72160" y="2151000"/>
            <a:ext cx="1009800" cy="176400"/>
          </a:xfrm>
          <a:prstGeom prst="rect">
            <a:avLst/>
          </a:prstGeom>
          <a:solidFill>
            <a:srgbClr val="9fff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44440" indent="-244440">
              <a:lnSpc>
                <a:spcPct val="11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72160" y="2104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72160" y="1444680"/>
            <a:ext cx="1981440" cy="2095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50000">
                <a:srgbClr val="b6dada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86560" y="14270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ware/reac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72160" y="1709640"/>
            <a:ext cx="1371600" cy="211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50000">
                <a:srgbClr val="9dc4ea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11760" y="1655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nd i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254240"/>
            <a:ext cx="347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4440" indent="-2444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Aided Ad Recog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2520" y="363240"/>
            <a:ext cx="71010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review how well you are “touching” your target groups…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95560" y="3408480"/>
            <a:ext cx="108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Visited in P4w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47320" y="3724200"/>
            <a:ext cx="265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Everyone/Most would know who this ad is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90920" y="4054320"/>
            <a:ext cx="381240" cy="381240"/>
          </a:xfrm>
          <a:prstGeom prst="smileyFace">
            <a:avLst>
              <a:gd name="adj" fmla="val -4652"/>
            </a:avLst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18320" y="4376880"/>
            <a:ext cx="90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4440" indent="-244440">
              <a:lnSpc>
                <a:spcPct val="300000"/>
              </a:lnSpc>
              <a:spcBef>
                <a:spcPts val="751"/>
              </a:spcBef>
              <a:buClr>
                <a:srgbClr val="006600"/>
              </a:buClr>
              <a:buSzPct val="3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479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49760" y="1490760"/>
            <a:ext cx="90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4440" indent="-244440">
              <a:lnSpc>
                <a:spcPct val="300000"/>
              </a:lnSpc>
              <a:spcBef>
                <a:spcPts val="751"/>
              </a:spcBef>
              <a:buClr>
                <a:srgbClr val="006600"/>
              </a:buClr>
              <a:buSzPct val="3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479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53120" y="3435480"/>
            <a:ext cx="90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4440" indent="-244440">
              <a:lnSpc>
                <a:spcPct val="300000"/>
              </a:lnSpc>
              <a:spcBef>
                <a:spcPts val="751"/>
              </a:spcBef>
              <a:buClr>
                <a:srgbClr val="006600"/>
              </a:buClr>
              <a:buSzPct val="3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479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87880" y="3189240"/>
            <a:ext cx="90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4440" indent="-244440">
              <a:lnSpc>
                <a:spcPct val="300000"/>
              </a:lnSpc>
              <a:spcBef>
                <a:spcPts val="751"/>
              </a:spcBef>
              <a:buClr>
                <a:srgbClr val="006600"/>
              </a:buClr>
              <a:buSzPct val="3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479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35800" y="4703760"/>
            <a:ext cx="90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4440" indent="-244440">
              <a:lnSpc>
                <a:spcPct val="300000"/>
              </a:lnSpc>
              <a:spcBef>
                <a:spcPts val="751"/>
              </a:spcBef>
              <a:buClr>
                <a:srgbClr val="006600"/>
              </a:buClr>
              <a:buSzPct val="3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479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62760" y="5738760"/>
            <a:ext cx="380880" cy="380880"/>
          </a:xfrm>
          <a:prstGeom prst="smileyFace">
            <a:avLst>
              <a:gd name="adj" fmla="val -1041"/>
            </a:avLst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2040" y="218880"/>
            <a:ext cx="8042040" cy="86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we review the impact on to key brand objectives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69480" y="1909800"/>
            <a:ext cx="6466320" cy="4813560"/>
            <a:chOff x="969480" y="1909800"/>
            <a:chExt cx="6466320" cy="4813560"/>
          </a:xfrm>
        </p:grpSpPr>
        <p:grpSp>
          <p:nvGrpSpPr>
            <p:cNvPr id="169" name=""/>
            <p:cNvGrpSpPr/>
            <p:nvPr/>
          </p:nvGrpSpPr>
          <p:grpSpPr>
            <a:xfrm>
              <a:off x="2397240" y="1978200"/>
              <a:ext cx="2117160" cy="1967400"/>
              <a:chOff x="2397240" y="1978200"/>
              <a:chExt cx="2117160" cy="1967400"/>
            </a:xfrm>
          </p:grpSpPr>
          <p:sp>
            <p:nvSpPr>
              <p:cNvPr id="170" name=""/>
              <p:cNvSpPr/>
              <p:nvPr/>
            </p:nvSpPr>
            <p:spPr>
              <a:xfrm>
                <a:off x="2397240" y="3842640"/>
                <a:ext cx="2007360" cy="102600"/>
              </a:xfrm>
              <a:prstGeom prst="rect">
                <a:avLst/>
              </a:prstGeom>
              <a:solidFill>
                <a:srgbClr val="7e5e0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04600" y="1978200"/>
                <a:ext cx="109440" cy="1967400"/>
              </a:xfrm>
              <a:custGeom>
                <a:avLst/>
                <a:gdLst/>
                <a:ahLst/>
                <a:rect l="l" t="t" r="r" b="b"/>
                <a:pathLst>
                  <a:path w="51" h="976">
                    <a:moveTo>
                      <a:pt x="0" y="925"/>
                    </a:moveTo>
                    <a:lnTo>
                      <a:pt x="51" y="0"/>
                    </a:lnTo>
                    <a:lnTo>
                      <a:pt x="51" y="51"/>
                    </a:lnTo>
                    <a:lnTo>
                      <a:pt x="0" y="976"/>
                    </a:lnTo>
                    <a:lnTo>
                      <a:pt x="0" y="925"/>
                    </a:lnTo>
                    <a:close/>
                  </a:path>
                </a:pathLst>
              </a:custGeom>
              <a:solidFill>
                <a:srgbClr val="7e5e0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97240" y="1978200"/>
                <a:ext cx="2117160" cy="1864440"/>
              </a:xfrm>
              <a:custGeom>
                <a:avLst/>
                <a:gdLst/>
                <a:ahLst/>
                <a:rect l="l" t="t" r="r" b="b"/>
                <a:pathLst>
                  <a:path w="984" h="925">
                    <a:moveTo>
                      <a:pt x="0" y="925"/>
                    </a:moveTo>
                    <a:lnTo>
                      <a:pt x="0" y="891"/>
                    </a:lnTo>
                    <a:lnTo>
                      <a:pt x="0" y="883"/>
                    </a:lnTo>
                    <a:lnTo>
                      <a:pt x="0" y="849"/>
                    </a:lnTo>
                    <a:lnTo>
                      <a:pt x="9" y="815"/>
                    </a:lnTo>
                    <a:lnTo>
                      <a:pt x="9" y="798"/>
                    </a:lnTo>
                    <a:lnTo>
                      <a:pt x="9" y="764"/>
                    </a:lnTo>
                    <a:lnTo>
                      <a:pt x="17" y="747"/>
                    </a:lnTo>
                    <a:lnTo>
                      <a:pt x="26" y="721"/>
                    </a:lnTo>
                    <a:lnTo>
                      <a:pt x="34" y="688"/>
                    </a:lnTo>
                    <a:lnTo>
                      <a:pt x="34" y="671"/>
                    </a:lnTo>
                    <a:lnTo>
                      <a:pt x="43" y="637"/>
                    </a:lnTo>
                    <a:lnTo>
                      <a:pt x="51" y="611"/>
                    </a:lnTo>
                    <a:lnTo>
                      <a:pt x="60" y="594"/>
                    </a:lnTo>
                    <a:lnTo>
                      <a:pt x="76" y="560"/>
                    </a:lnTo>
                    <a:lnTo>
                      <a:pt x="76" y="552"/>
                    </a:lnTo>
                    <a:lnTo>
                      <a:pt x="93" y="518"/>
                    </a:lnTo>
                    <a:lnTo>
                      <a:pt x="110" y="492"/>
                    </a:lnTo>
                    <a:lnTo>
                      <a:pt x="119" y="475"/>
                    </a:lnTo>
                    <a:lnTo>
                      <a:pt x="136" y="450"/>
                    </a:lnTo>
                    <a:lnTo>
                      <a:pt x="153" y="425"/>
                    </a:lnTo>
                    <a:lnTo>
                      <a:pt x="161" y="408"/>
                    </a:lnTo>
                    <a:lnTo>
                      <a:pt x="178" y="382"/>
                    </a:lnTo>
                    <a:lnTo>
                      <a:pt x="195" y="357"/>
                    </a:lnTo>
                    <a:lnTo>
                      <a:pt x="204" y="340"/>
                    </a:lnTo>
                    <a:lnTo>
                      <a:pt x="229" y="314"/>
                    </a:lnTo>
                    <a:lnTo>
                      <a:pt x="238" y="306"/>
                    </a:lnTo>
                    <a:lnTo>
                      <a:pt x="263" y="280"/>
                    </a:lnTo>
                    <a:lnTo>
                      <a:pt x="280" y="255"/>
                    </a:lnTo>
                    <a:lnTo>
                      <a:pt x="297" y="246"/>
                    </a:lnTo>
                    <a:lnTo>
                      <a:pt x="323" y="229"/>
                    </a:lnTo>
                    <a:lnTo>
                      <a:pt x="348" y="204"/>
                    </a:lnTo>
                    <a:lnTo>
                      <a:pt x="356" y="195"/>
                    </a:lnTo>
                    <a:lnTo>
                      <a:pt x="382" y="178"/>
                    </a:lnTo>
                    <a:lnTo>
                      <a:pt x="399" y="170"/>
                    </a:lnTo>
                    <a:lnTo>
                      <a:pt x="424" y="145"/>
                    </a:lnTo>
                    <a:lnTo>
                      <a:pt x="450" y="128"/>
                    </a:lnTo>
                    <a:lnTo>
                      <a:pt x="467" y="119"/>
                    </a:lnTo>
                    <a:lnTo>
                      <a:pt x="492" y="111"/>
                    </a:lnTo>
                    <a:lnTo>
                      <a:pt x="526" y="94"/>
                    </a:lnTo>
                    <a:lnTo>
                      <a:pt x="543" y="85"/>
                    </a:lnTo>
                    <a:lnTo>
                      <a:pt x="569" y="68"/>
                    </a:lnTo>
                    <a:lnTo>
                      <a:pt x="603" y="60"/>
                    </a:lnTo>
                    <a:lnTo>
                      <a:pt x="611" y="51"/>
                    </a:lnTo>
                    <a:lnTo>
                      <a:pt x="645" y="43"/>
                    </a:lnTo>
                    <a:lnTo>
                      <a:pt x="662" y="43"/>
                    </a:lnTo>
                    <a:lnTo>
                      <a:pt x="696" y="26"/>
                    </a:lnTo>
                    <a:lnTo>
                      <a:pt x="721" y="26"/>
                    </a:lnTo>
                    <a:lnTo>
                      <a:pt x="738" y="17"/>
                    </a:lnTo>
                    <a:lnTo>
                      <a:pt x="772" y="9"/>
                    </a:lnTo>
                    <a:lnTo>
                      <a:pt x="806" y="9"/>
                    </a:lnTo>
                    <a:lnTo>
                      <a:pt x="823" y="9"/>
                    </a:lnTo>
                    <a:lnTo>
                      <a:pt x="857" y="0"/>
                    </a:lnTo>
                    <a:lnTo>
                      <a:pt x="874" y="0"/>
                    </a:lnTo>
                    <a:lnTo>
                      <a:pt x="899" y="0"/>
                    </a:lnTo>
                    <a:lnTo>
                      <a:pt x="933" y="0"/>
                    </a:lnTo>
                    <a:lnTo>
                      <a:pt x="950" y="0"/>
                    </a:lnTo>
                    <a:lnTo>
                      <a:pt x="984" y="0"/>
                    </a:lnTo>
                    <a:lnTo>
                      <a:pt x="933" y="925"/>
                    </a:lnTo>
                    <a:lnTo>
                      <a:pt x="0" y="925"/>
                    </a:lnTo>
                    <a:close/>
                  </a:path>
                </a:pathLst>
              </a:custGeom>
              <a:solidFill>
                <a:srgbClr val="fbbb0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60640" y="2565000"/>
                <a:ext cx="7898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44440" indent="-244440"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</a:rPr>
                  <a:t>26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432320" y="1979280"/>
              <a:ext cx="1953720" cy="1968840"/>
              <a:chOff x="4432320" y="1979280"/>
              <a:chExt cx="1953720" cy="1968840"/>
            </a:xfrm>
          </p:grpSpPr>
          <p:sp>
            <p:nvSpPr>
              <p:cNvPr id="175" name=""/>
              <p:cNvSpPr/>
              <p:nvPr/>
            </p:nvSpPr>
            <p:spPr>
              <a:xfrm>
                <a:off x="4432320" y="3401640"/>
                <a:ext cx="1953720" cy="546480"/>
              </a:xfrm>
              <a:custGeom>
                <a:avLst/>
                <a:gdLst/>
                <a:ahLst/>
                <a:rect l="l" t="t" r="r" b="b"/>
                <a:pathLst>
                  <a:path w="908" h="271">
                    <a:moveTo>
                      <a:pt x="0" y="220"/>
                    </a:moveTo>
                    <a:lnTo>
                      <a:pt x="908" y="0"/>
                    </a:lnTo>
                    <a:lnTo>
                      <a:pt x="908" y="50"/>
                    </a:lnTo>
                    <a:lnTo>
                      <a:pt x="0" y="271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7d3d0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32320" y="1979280"/>
                <a:ext cx="1953720" cy="1866240"/>
              </a:xfrm>
              <a:custGeom>
                <a:avLst/>
                <a:gdLst/>
                <a:ahLst/>
                <a:rect l="l" t="t" r="r" b="b"/>
                <a:pathLst>
                  <a:path w="908" h="925">
                    <a:moveTo>
                      <a:pt x="51" y="0"/>
                    </a:moveTo>
                    <a:lnTo>
                      <a:pt x="85" y="0"/>
                    </a:lnTo>
                    <a:lnTo>
                      <a:pt x="102" y="0"/>
                    </a:lnTo>
                    <a:lnTo>
                      <a:pt x="136" y="9"/>
                    </a:lnTo>
                    <a:lnTo>
                      <a:pt x="153" y="9"/>
                    </a:lnTo>
                    <a:lnTo>
                      <a:pt x="179" y="17"/>
                    </a:lnTo>
                    <a:lnTo>
                      <a:pt x="212" y="26"/>
                    </a:lnTo>
                    <a:lnTo>
                      <a:pt x="229" y="26"/>
                    </a:lnTo>
                    <a:lnTo>
                      <a:pt x="263" y="34"/>
                    </a:lnTo>
                    <a:lnTo>
                      <a:pt x="289" y="43"/>
                    </a:lnTo>
                    <a:lnTo>
                      <a:pt x="306" y="51"/>
                    </a:lnTo>
                    <a:lnTo>
                      <a:pt x="340" y="60"/>
                    </a:lnTo>
                    <a:lnTo>
                      <a:pt x="357" y="68"/>
                    </a:lnTo>
                    <a:lnTo>
                      <a:pt x="382" y="77"/>
                    </a:lnTo>
                    <a:lnTo>
                      <a:pt x="416" y="94"/>
                    </a:lnTo>
                    <a:lnTo>
                      <a:pt x="425" y="102"/>
                    </a:lnTo>
                    <a:lnTo>
                      <a:pt x="458" y="111"/>
                    </a:lnTo>
                    <a:lnTo>
                      <a:pt x="484" y="128"/>
                    </a:lnTo>
                    <a:lnTo>
                      <a:pt x="501" y="136"/>
                    </a:lnTo>
                    <a:lnTo>
                      <a:pt x="526" y="153"/>
                    </a:lnTo>
                    <a:lnTo>
                      <a:pt x="543" y="170"/>
                    </a:lnTo>
                    <a:lnTo>
                      <a:pt x="569" y="187"/>
                    </a:lnTo>
                    <a:lnTo>
                      <a:pt x="594" y="204"/>
                    </a:lnTo>
                    <a:lnTo>
                      <a:pt x="603" y="212"/>
                    </a:lnTo>
                    <a:lnTo>
                      <a:pt x="628" y="238"/>
                    </a:lnTo>
                    <a:lnTo>
                      <a:pt x="654" y="255"/>
                    </a:lnTo>
                    <a:lnTo>
                      <a:pt x="662" y="272"/>
                    </a:lnTo>
                    <a:lnTo>
                      <a:pt x="688" y="297"/>
                    </a:lnTo>
                    <a:lnTo>
                      <a:pt x="696" y="306"/>
                    </a:lnTo>
                    <a:lnTo>
                      <a:pt x="722" y="331"/>
                    </a:lnTo>
                    <a:lnTo>
                      <a:pt x="738" y="357"/>
                    </a:lnTo>
                    <a:lnTo>
                      <a:pt x="747" y="365"/>
                    </a:lnTo>
                    <a:lnTo>
                      <a:pt x="772" y="391"/>
                    </a:lnTo>
                    <a:lnTo>
                      <a:pt x="789" y="425"/>
                    </a:lnTo>
                    <a:lnTo>
                      <a:pt x="798" y="433"/>
                    </a:lnTo>
                    <a:lnTo>
                      <a:pt x="815" y="458"/>
                    </a:lnTo>
                    <a:lnTo>
                      <a:pt x="823" y="475"/>
                    </a:lnTo>
                    <a:lnTo>
                      <a:pt x="840" y="509"/>
                    </a:lnTo>
                    <a:lnTo>
                      <a:pt x="849" y="535"/>
                    </a:lnTo>
                    <a:lnTo>
                      <a:pt x="857" y="552"/>
                    </a:lnTo>
                    <a:lnTo>
                      <a:pt x="874" y="577"/>
                    </a:lnTo>
                    <a:lnTo>
                      <a:pt x="883" y="611"/>
                    </a:lnTo>
                    <a:lnTo>
                      <a:pt x="891" y="628"/>
                    </a:lnTo>
                    <a:lnTo>
                      <a:pt x="900" y="654"/>
                    </a:lnTo>
                    <a:lnTo>
                      <a:pt x="900" y="671"/>
                    </a:lnTo>
                    <a:lnTo>
                      <a:pt x="908" y="705"/>
                    </a:lnTo>
                    <a:lnTo>
                      <a:pt x="0" y="92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a790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10680" y="2604600"/>
                <a:ext cx="7898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44440" indent="-244440"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</a:rPr>
                  <a:t>20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449600" y="3462840"/>
              <a:ext cx="2025360" cy="1949400"/>
              <a:chOff x="4449600" y="3462840"/>
              <a:chExt cx="2025360" cy="1949400"/>
            </a:xfrm>
          </p:grpSpPr>
          <p:sp>
            <p:nvSpPr>
              <p:cNvPr id="179" name=""/>
              <p:cNvSpPr/>
              <p:nvPr/>
            </p:nvSpPr>
            <p:spPr>
              <a:xfrm>
                <a:off x="5801040" y="3908520"/>
                <a:ext cx="673920" cy="1503720"/>
              </a:xfrm>
              <a:custGeom>
                <a:avLst/>
                <a:gdLst/>
                <a:ahLst/>
                <a:rect l="l" t="t" r="r" b="b"/>
                <a:pathLst>
                  <a:path w="313" h="746">
                    <a:moveTo>
                      <a:pt x="313" y="0"/>
                    </a:moveTo>
                    <a:lnTo>
                      <a:pt x="313" y="34"/>
                    </a:lnTo>
                    <a:lnTo>
                      <a:pt x="313" y="51"/>
                    </a:lnTo>
                    <a:lnTo>
                      <a:pt x="305" y="85"/>
                    </a:lnTo>
                    <a:lnTo>
                      <a:pt x="305" y="101"/>
                    </a:lnTo>
                    <a:lnTo>
                      <a:pt x="305" y="127"/>
                    </a:lnTo>
                    <a:lnTo>
                      <a:pt x="296" y="161"/>
                    </a:lnTo>
                    <a:lnTo>
                      <a:pt x="296" y="178"/>
                    </a:lnTo>
                    <a:lnTo>
                      <a:pt x="288" y="212"/>
                    </a:lnTo>
                    <a:lnTo>
                      <a:pt x="280" y="229"/>
                    </a:lnTo>
                    <a:lnTo>
                      <a:pt x="271" y="254"/>
                    </a:lnTo>
                    <a:lnTo>
                      <a:pt x="263" y="288"/>
                    </a:lnTo>
                    <a:lnTo>
                      <a:pt x="263" y="305"/>
                    </a:lnTo>
                    <a:lnTo>
                      <a:pt x="246" y="331"/>
                    </a:lnTo>
                    <a:lnTo>
                      <a:pt x="246" y="348"/>
                    </a:lnTo>
                    <a:lnTo>
                      <a:pt x="229" y="381"/>
                    </a:lnTo>
                    <a:lnTo>
                      <a:pt x="220" y="407"/>
                    </a:lnTo>
                    <a:lnTo>
                      <a:pt x="212" y="424"/>
                    </a:lnTo>
                    <a:lnTo>
                      <a:pt x="195" y="449"/>
                    </a:lnTo>
                    <a:lnTo>
                      <a:pt x="186" y="466"/>
                    </a:lnTo>
                    <a:lnTo>
                      <a:pt x="169" y="492"/>
                    </a:lnTo>
                    <a:lnTo>
                      <a:pt x="152" y="517"/>
                    </a:lnTo>
                    <a:lnTo>
                      <a:pt x="144" y="534"/>
                    </a:lnTo>
                    <a:lnTo>
                      <a:pt x="118" y="560"/>
                    </a:lnTo>
                    <a:lnTo>
                      <a:pt x="110" y="577"/>
                    </a:lnTo>
                    <a:lnTo>
                      <a:pt x="93" y="602"/>
                    </a:lnTo>
                    <a:lnTo>
                      <a:pt x="67" y="628"/>
                    </a:lnTo>
                    <a:lnTo>
                      <a:pt x="59" y="636"/>
                    </a:lnTo>
                    <a:lnTo>
                      <a:pt x="33" y="661"/>
                    </a:lnTo>
                    <a:lnTo>
                      <a:pt x="25" y="670"/>
                    </a:lnTo>
                    <a:lnTo>
                      <a:pt x="0" y="695"/>
                    </a:lnTo>
                    <a:lnTo>
                      <a:pt x="0" y="746"/>
                    </a:lnTo>
                    <a:lnTo>
                      <a:pt x="25" y="721"/>
                    </a:lnTo>
                    <a:lnTo>
                      <a:pt x="33" y="712"/>
                    </a:lnTo>
                    <a:lnTo>
                      <a:pt x="59" y="687"/>
                    </a:lnTo>
                    <a:lnTo>
                      <a:pt x="67" y="678"/>
                    </a:lnTo>
                    <a:lnTo>
                      <a:pt x="93" y="653"/>
                    </a:lnTo>
                    <a:lnTo>
                      <a:pt x="110" y="628"/>
                    </a:lnTo>
                    <a:lnTo>
                      <a:pt x="118" y="611"/>
                    </a:lnTo>
                    <a:lnTo>
                      <a:pt x="144" y="585"/>
                    </a:lnTo>
                    <a:lnTo>
                      <a:pt x="152" y="568"/>
                    </a:lnTo>
                    <a:lnTo>
                      <a:pt x="169" y="543"/>
                    </a:lnTo>
                    <a:lnTo>
                      <a:pt x="186" y="517"/>
                    </a:lnTo>
                    <a:lnTo>
                      <a:pt x="195" y="500"/>
                    </a:lnTo>
                    <a:lnTo>
                      <a:pt x="212" y="475"/>
                    </a:lnTo>
                    <a:lnTo>
                      <a:pt x="220" y="458"/>
                    </a:lnTo>
                    <a:lnTo>
                      <a:pt x="229" y="432"/>
                    </a:lnTo>
                    <a:lnTo>
                      <a:pt x="246" y="398"/>
                    </a:lnTo>
                    <a:lnTo>
                      <a:pt x="246" y="381"/>
                    </a:lnTo>
                    <a:lnTo>
                      <a:pt x="263" y="356"/>
                    </a:lnTo>
                    <a:lnTo>
                      <a:pt x="263" y="339"/>
                    </a:lnTo>
                    <a:lnTo>
                      <a:pt x="271" y="305"/>
                    </a:lnTo>
                    <a:lnTo>
                      <a:pt x="280" y="280"/>
                    </a:lnTo>
                    <a:lnTo>
                      <a:pt x="288" y="263"/>
                    </a:lnTo>
                    <a:lnTo>
                      <a:pt x="296" y="229"/>
                    </a:lnTo>
                    <a:lnTo>
                      <a:pt x="296" y="212"/>
                    </a:lnTo>
                    <a:lnTo>
                      <a:pt x="305" y="178"/>
                    </a:lnTo>
                    <a:lnTo>
                      <a:pt x="305" y="152"/>
                    </a:lnTo>
                    <a:lnTo>
                      <a:pt x="305" y="135"/>
                    </a:lnTo>
                    <a:lnTo>
                      <a:pt x="313" y="101"/>
                    </a:lnTo>
                    <a:lnTo>
                      <a:pt x="313" y="85"/>
                    </a:lnTo>
                    <a:lnTo>
                      <a:pt x="313" y="51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7704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49600" y="3908520"/>
                <a:ext cx="1351440" cy="1487520"/>
              </a:xfrm>
              <a:custGeom>
                <a:avLst/>
                <a:gdLst/>
                <a:ahLst/>
                <a:rect l="l" t="t" r="r" b="b"/>
                <a:pathLst>
                  <a:path w="628" h="738">
                    <a:moveTo>
                      <a:pt x="0" y="0"/>
                    </a:moveTo>
                    <a:lnTo>
                      <a:pt x="628" y="687"/>
                    </a:lnTo>
                    <a:lnTo>
                      <a:pt x="628" y="738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04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49600" y="3462840"/>
                <a:ext cx="2025360" cy="1847160"/>
              </a:xfrm>
              <a:custGeom>
                <a:avLst/>
                <a:gdLst/>
                <a:ahLst/>
                <a:rect l="l" t="t" r="r" b="b"/>
                <a:pathLst>
                  <a:path w="941" h="916">
                    <a:moveTo>
                      <a:pt x="908" y="0"/>
                    </a:moveTo>
                    <a:lnTo>
                      <a:pt x="916" y="26"/>
                    </a:lnTo>
                    <a:lnTo>
                      <a:pt x="924" y="43"/>
                    </a:lnTo>
                    <a:lnTo>
                      <a:pt x="924" y="76"/>
                    </a:lnTo>
                    <a:lnTo>
                      <a:pt x="933" y="93"/>
                    </a:lnTo>
                    <a:lnTo>
                      <a:pt x="933" y="127"/>
                    </a:lnTo>
                    <a:lnTo>
                      <a:pt x="933" y="161"/>
                    </a:lnTo>
                    <a:lnTo>
                      <a:pt x="941" y="178"/>
                    </a:lnTo>
                    <a:lnTo>
                      <a:pt x="941" y="204"/>
                    </a:lnTo>
                    <a:lnTo>
                      <a:pt x="941" y="221"/>
                    </a:lnTo>
                    <a:lnTo>
                      <a:pt x="941" y="255"/>
                    </a:lnTo>
                    <a:lnTo>
                      <a:pt x="941" y="272"/>
                    </a:lnTo>
                    <a:lnTo>
                      <a:pt x="933" y="306"/>
                    </a:lnTo>
                    <a:lnTo>
                      <a:pt x="933" y="339"/>
                    </a:lnTo>
                    <a:lnTo>
                      <a:pt x="933" y="348"/>
                    </a:lnTo>
                    <a:lnTo>
                      <a:pt x="924" y="382"/>
                    </a:lnTo>
                    <a:lnTo>
                      <a:pt x="924" y="399"/>
                    </a:lnTo>
                    <a:lnTo>
                      <a:pt x="916" y="433"/>
                    </a:lnTo>
                    <a:lnTo>
                      <a:pt x="908" y="467"/>
                    </a:lnTo>
                    <a:lnTo>
                      <a:pt x="899" y="475"/>
                    </a:lnTo>
                    <a:lnTo>
                      <a:pt x="891" y="509"/>
                    </a:lnTo>
                    <a:lnTo>
                      <a:pt x="891" y="526"/>
                    </a:lnTo>
                    <a:lnTo>
                      <a:pt x="874" y="552"/>
                    </a:lnTo>
                    <a:lnTo>
                      <a:pt x="865" y="586"/>
                    </a:lnTo>
                    <a:lnTo>
                      <a:pt x="857" y="602"/>
                    </a:lnTo>
                    <a:lnTo>
                      <a:pt x="848" y="628"/>
                    </a:lnTo>
                    <a:lnTo>
                      <a:pt x="840" y="645"/>
                    </a:lnTo>
                    <a:lnTo>
                      <a:pt x="823" y="670"/>
                    </a:lnTo>
                    <a:lnTo>
                      <a:pt x="806" y="704"/>
                    </a:lnTo>
                    <a:lnTo>
                      <a:pt x="797" y="713"/>
                    </a:lnTo>
                    <a:lnTo>
                      <a:pt x="780" y="738"/>
                    </a:lnTo>
                    <a:lnTo>
                      <a:pt x="772" y="755"/>
                    </a:lnTo>
                    <a:lnTo>
                      <a:pt x="746" y="781"/>
                    </a:lnTo>
                    <a:lnTo>
                      <a:pt x="738" y="798"/>
                    </a:lnTo>
                    <a:lnTo>
                      <a:pt x="721" y="823"/>
                    </a:lnTo>
                    <a:lnTo>
                      <a:pt x="695" y="849"/>
                    </a:lnTo>
                    <a:lnTo>
                      <a:pt x="687" y="857"/>
                    </a:lnTo>
                    <a:lnTo>
                      <a:pt x="661" y="882"/>
                    </a:lnTo>
                    <a:lnTo>
                      <a:pt x="653" y="891"/>
                    </a:lnTo>
                    <a:lnTo>
                      <a:pt x="628" y="916"/>
                    </a:lnTo>
                    <a:lnTo>
                      <a:pt x="0" y="221"/>
                    </a:lnTo>
                    <a:lnTo>
                      <a:pt x="908" y="0"/>
                    </a:lnTo>
                    <a:close/>
                  </a:path>
                </a:pathLst>
              </a:custGeom>
              <a:solidFill>
                <a:srgbClr val="ee07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16840" y="4144320"/>
                <a:ext cx="78984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44440" indent="-244440"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</a:rPr>
                  <a:t>17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965600" y="4056120"/>
              <a:ext cx="3814560" cy="2446200"/>
              <a:chOff x="1965600" y="4056120"/>
              <a:chExt cx="3814560" cy="2446200"/>
            </a:xfrm>
          </p:grpSpPr>
          <p:sp>
            <p:nvSpPr>
              <p:cNvPr id="184" name=""/>
              <p:cNvSpPr/>
              <p:nvPr/>
            </p:nvSpPr>
            <p:spPr>
              <a:xfrm>
                <a:off x="2058840" y="4056120"/>
                <a:ext cx="2007720" cy="136440"/>
              </a:xfrm>
              <a:custGeom>
                <a:avLst/>
                <a:gdLst/>
                <a:ahLst/>
                <a:rect l="l" t="t" r="r" b="b"/>
                <a:pathLst>
                  <a:path w="933" h="68">
                    <a:moveTo>
                      <a:pt x="933" y="0"/>
                    </a:moveTo>
                    <a:lnTo>
                      <a:pt x="0" y="17"/>
                    </a:lnTo>
                    <a:lnTo>
                      <a:pt x="0" y="68"/>
                    </a:lnTo>
                    <a:lnTo>
                      <a:pt x="933" y="51"/>
                    </a:lnTo>
                    <a:lnTo>
                      <a:pt x="933" y="0"/>
                    </a:lnTo>
                    <a:close/>
                  </a:path>
                </a:pathLst>
              </a:custGeom>
              <a:solidFill>
                <a:srgbClr val="800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58840" y="4056120"/>
                <a:ext cx="2007720" cy="33840"/>
              </a:xfrm>
              <a:custGeom>
                <a:avLst/>
                <a:gdLst/>
                <a:ahLst/>
                <a:rect l="l" t="t" r="r" b="b"/>
                <a:pathLst>
                  <a:path w="933" h="17">
                    <a:moveTo>
                      <a:pt x="0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33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00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58840" y="4071960"/>
                <a:ext cx="2007720" cy="171360"/>
              </a:xfrm>
              <a:custGeom>
                <a:avLst/>
                <a:gdLst/>
                <a:ahLst/>
                <a:rect l="l" t="t" r="r" b="b"/>
                <a:pathLst>
                  <a:path w="933" h="85">
                    <a:moveTo>
                      <a:pt x="933" y="0"/>
                    </a:moveTo>
                    <a:lnTo>
                      <a:pt x="0" y="34"/>
                    </a:lnTo>
                    <a:lnTo>
                      <a:pt x="0" y="85"/>
                    </a:lnTo>
                    <a:lnTo>
                      <a:pt x="933" y="51"/>
                    </a:lnTo>
                    <a:lnTo>
                      <a:pt x="933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58840" y="4071960"/>
                <a:ext cx="2007720" cy="68400"/>
              </a:xfrm>
              <a:custGeom>
                <a:avLst/>
                <a:gdLst/>
                <a:ahLst/>
                <a:rect l="l" t="t" r="r" b="b"/>
                <a:pathLst>
                  <a:path w="933" h="34">
                    <a:moveTo>
                      <a:pt x="0" y="34"/>
                    </a:moveTo>
                    <a:lnTo>
                      <a:pt x="0" y="3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933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058840" y="4071960"/>
                <a:ext cx="2007720" cy="223560"/>
              </a:xfrm>
              <a:custGeom>
                <a:avLst/>
                <a:gdLst/>
                <a:ahLst/>
                <a:rect l="l" t="t" r="r" b="b"/>
                <a:pathLst>
                  <a:path w="933" h="111">
                    <a:moveTo>
                      <a:pt x="933" y="0"/>
                    </a:moveTo>
                    <a:lnTo>
                      <a:pt x="0" y="60"/>
                    </a:lnTo>
                    <a:lnTo>
                      <a:pt x="0" y="111"/>
                    </a:lnTo>
                    <a:lnTo>
                      <a:pt x="933" y="51"/>
                    </a:lnTo>
                    <a:lnTo>
                      <a:pt x="933" y="0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58840" y="4071960"/>
                <a:ext cx="2007720" cy="137160"/>
              </a:xfrm>
              <a:custGeom>
                <a:avLst/>
                <a:gdLst/>
                <a:ahLst/>
                <a:rect l="l" t="t" r="r" b="b"/>
                <a:pathLst>
                  <a:path w="933" h="68">
                    <a:moveTo>
                      <a:pt x="0" y="68"/>
                    </a:moveTo>
                    <a:lnTo>
                      <a:pt x="0" y="51"/>
                    </a:lnTo>
                    <a:lnTo>
                      <a:pt x="0" y="51"/>
                    </a:lnTo>
                    <a:lnTo>
                      <a:pt x="0" y="34"/>
                    </a:lnTo>
                    <a:lnTo>
                      <a:pt x="933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76120" y="4106160"/>
                <a:ext cx="1990080" cy="324720"/>
              </a:xfrm>
              <a:custGeom>
                <a:avLst/>
                <a:gdLst/>
                <a:ahLst/>
                <a:rect l="l" t="t" r="r" b="b"/>
                <a:pathLst>
                  <a:path w="925" h="161">
                    <a:moveTo>
                      <a:pt x="925" y="0"/>
                    </a:moveTo>
                    <a:lnTo>
                      <a:pt x="0" y="111"/>
                    </a:lnTo>
                    <a:lnTo>
                      <a:pt x="0" y="161"/>
                    </a:lnTo>
                    <a:lnTo>
                      <a:pt x="925" y="51"/>
                    </a:lnTo>
                    <a:lnTo>
                      <a:pt x="925" y="0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58840" y="4106160"/>
                <a:ext cx="2007720" cy="240120"/>
              </a:xfrm>
              <a:custGeom>
                <a:avLst/>
                <a:gdLst/>
                <a:ahLst/>
                <a:rect l="l" t="t" r="r" b="b"/>
                <a:pathLst>
                  <a:path w="933" h="119">
                    <a:moveTo>
                      <a:pt x="8" y="119"/>
                    </a:moveTo>
                    <a:lnTo>
                      <a:pt x="0" y="102"/>
                    </a:lnTo>
                    <a:lnTo>
                      <a:pt x="0" y="85"/>
                    </a:lnTo>
                    <a:lnTo>
                      <a:pt x="0" y="68"/>
                    </a:lnTo>
                    <a:lnTo>
                      <a:pt x="933" y="0"/>
                    </a:lnTo>
                    <a:lnTo>
                      <a:pt x="8" y="119"/>
                    </a:lnTo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31920" y="4140720"/>
                <a:ext cx="1953720" cy="548280"/>
              </a:xfrm>
              <a:custGeom>
                <a:avLst/>
                <a:gdLst/>
                <a:ahLst/>
                <a:rect l="l" t="t" r="r" b="b"/>
                <a:pathLst>
                  <a:path w="908" h="272">
                    <a:moveTo>
                      <a:pt x="908" y="0"/>
                    </a:moveTo>
                    <a:lnTo>
                      <a:pt x="0" y="221"/>
                    </a:lnTo>
                    <a:lnTo>
                      <a:pt x="0" y="272"/>
                    </a:lnTo>
                    <a:lnTo>
                      <a:pt x="908" y="51"/>
                    </a:lnTo>
                    <a:lnTo>
                      <a:pt x="908" y="0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95200" y="4140720"/>
                <a:ext cx="1990080" cy="461880"/>
              </a:xfrm>
              <a:custGeom>
                <a:avLst/>
                <a:gdLst/>
                <a:ahLst/>
                <a:rect l="l" t="t" r="r" b="b"/>
                <a:pathLst>
                  <a:path w="925" h="229">
                    <a:moveTo>
                      <a:pt x="17" y="229"/>
                    </a:moveTo>
                    <a:lnTo>
                      <a:pt x="17" y="212"/>
                    </a:lnTo>
                    <a:lnTo>
                      <a:pt x="8" y="195"/>
                    </a:lnTo>
                    <a:lnTo>
                      <a:pt x="0" y="161"/>
                    </a:lnTo>
                    <a:lnTo>
                      <a:pt x="0" y="144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925" y="0"/>
                    </a:lnTo>
                    <a:lnTo>
                      <a:pt x="17" y="22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31920" y="4670640"/>
                <a:ext cx="90720" cy="342720"/>
              </a:xfrm>
              <a:custGeom>
                <a:avLst/>
                <a:gdLst/>
                <a:ahLst/>
                <a:rect l="l" t="t" r="r" b="b"/>
                <a:pathLst>
                  <a:path w="42" h="170">
                    <a:moveTo>
                      <a:pt x="42" y="119"/>
                    </a:moveTo>
                    <a:lnTo>
                      <a:pt x="34" y="102"/>
                    </a:lnTo>
                    <a:lnTo>
                      <a:pt x="25" y="77"/>
                    </a:lnTo>
                    <a:lnTo>
                      <a:pt x="17" y="60"/>
                    </a:lnTo>
                    <a:lnTo>
                      <a:pt x="17" y="43"/>
                    </a:lnTo>
                    <a:lnTo>
                      <a:pt x="8" y="17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8" y="68"/>
                    </a:lnTo>
                    <a:lnTo>
                      <a:pt x="17" y="94"/>
                    </a:lnTo>
                    <a:lnTo>
                      <a:pt x="17" y="111"/>
                    </a:lnTo>
                    <a:lnTo>
                      <a:pt x="25" y="128"/>
                    </a:lnTo>
                    <a:lnTo>
                      <a:pt x="34" y="153"/>
                    </a:lnTo>
                    <a:lnTo>
                      <a:pt x="42" y="170"/>
                    </a:lnTo>
                    <a:lnTo>
                      <a:pt x="42" y="119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22640" y="4209120"/>
                <a:ext cx="1863000" cy="804600"/>
              </a:xfrm>
              <a:custGeom>
                <a:avLst/>
                <a:gdLst/>
                <a:ahLst/>
                <a:rect l="l" t="t" r="r" b="b"/>
                <a:pathLst>
                  <a:path w="866" h="399">
                    <a:moveTo>
                      <a:pt x="866" y="0"/>
                    </a:moveTo>
                    <a:lnTo>
                      <a:pt x="0" y="348"/>
                    </a:lnTo>
                    <a:lnTo>
                      <a:pt x="0" y="399"/>
                    </a:lnTo>
                    <a:lnTo>
                      <a:pt x="866" y="51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31920" y="4209120"/>
                <a:ext cx="1953720" cy="701640"/>
              </a:xfrm>
              <a:custGeom>
                <a:avLst/>
                <a:gdLst/>
                <a:ahLst/>
                <a:rect l="l" t="t" r="r" b="b"/>
                <a:pathLst>
                  <a:path w="908" h="348">
                    <a:moveTo>
                      <a:pt x="42" y="348"/>
                    </a:moveTo>
                    <a:lnTo>
                      <a:pt x="34" y="331"/>
                    </a:lnTo>
                    <a:lnTo>
                      <a:pt x="25" y="306"/>
                    </a:lnTo>
                    <a:lnTo>
                      <a:pt x="17" y="289"/>
                    </a:lnTo>
                    <a:lnTo>
                      <a:pt x="17" y="272"/>
                    </a:lnTo>
                    <a:lnTo>
                      <a:pt x="8" y="246"/>
                    </a:lnTo>
                    <a:lnTo>
                      <a:pt x="0" y="229"/>
                    </a:lnTo>
                    <a:lnTo>
                      <a:pt x="908" y="0"/>
                    </a:lnTo>
                    <a:lnTo>
                      <a:pt x="42" y="34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78080" y="4995360"/>
                <a:ext cx="217440" cy="480240"/>
              </a:xfrm>
              <a:custGeom>
                <a:avLst/>
                <a:gdLst/>
                <a:ahLst/>
                <a:rect l="l" t="t" r="r" b="b"/>
                <a:pathLst>
                  <a:path w="101" h="238">
                    <a:moveTo>
                      <a:pt x="101" y="187"/>
                    </a:moveTo>
                    <a:lnTo>
                      <a:pt x="93" y="170"/>
                    </a:lnTo>
                    <a:lnTo>
                      <a:pt x="76" y="145"/>
                    </a:lnTo>
                    <a:lnTo>
                      <a:pt x="67" y="136"/>
                    </a:lnTo>
                    <a:lnTo>
                      <a:pt x="50" y="102"/>
                    </a:lnTo>
                    <a:lnTo>
                      <a:pt x="42" y="94"/>
                    </a:lnTo>
                    <a:lnTo>
                      <a:pt x="25" y="60"/>
                    </a:lnTo>
                    <a:lnTo>
                      <a:pt x="17" y="51"/>
                    </a:lnTo>
                    <a:lnTo>
                      <a:pt x="8" y="17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8" y="68"/>
                    </a:lnTo>
                    <a:lnTo>
                      <a:pt x="17" y="102"/>
                    </a:lnTo>
                    <a:lnTo>
                      <a:pt x="25" y="111"/>
                    </a:lnTo>
                    <a:lnTo>
                      <a:pt x="42" y="145"/>
                    </a:lnTo>
                    <a:lnTo>
                      <a:pt x="50" y="153"/>
                    </a:lnTo>
                    <a:lnTo>
                      <a:pt x="67" y="187"/>
                    </a:lnTo>
                    <a:lnTo>
                      <a:pt x="76" y="196"/>
                    </a:lnTo>
                    <a:lnTo>
                      <a:pt x="93" y="221"/>
                    </a:lnTo>
                    <a:lnTo>
                      <a:pt x="101" y="238"/>
                    </a:lnTo>
                    <a:lnTo>
                      <a:pt x="101" y="187"/>
                    </a:lnTo>
                    <a:close/>
                  </a:path>
                </a:pathLst>
              </a:custGeom>
              <a:solidFill>
                <a:srgbClr val="6666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95880" y="4295520"/>
                <a:ext cx="1643760" cy="1180080"/>
              </a:xfrm>
              <a:custGeom>
                <a:avLst/>
                <a:gdLst/>
                <a:ahLst/>
                <a:rect l="l" t="t" r="r" b="b"/>
                <a:pathLst>
                  <a:path w="764" h="585">
                    <a:moveTo>
                      <a:pt x="764" y="0"/>
                    </a:moveTo>
                    <a:lnTo>
                      <a:pt x="0" y="534"/>
                    </a:lnTo>
                    <a:lnTo>
                      <a:pt x="0" y="585"/>
                    </a:lnTo>
                    <a:lnTo>
                      <a:pt x="764" y="50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6666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78080" y="4295520"/>
                <a:ext cx="1861560" cy="1077120"/>
              </a:xfrm>
              <a:custGeom>
                <a:avLst/>
                <a:gdLst/>
                <a:ahLst/>
                <a:rect l="l" t="t" r="r" b="b"/>
                <a:pathLst>
                  <a:path w="865" h="534">
                    <a:moveTo>
                      <a:pt x="101" y="534"/>
                    </a:moveTo>
                    <a:lnTo>
                      <a:pt x="93" y="517"/>
                    </a:lnTo>
                    <a:lnTo>
                      <a:pt x="76" y="492"/>
                    </a:lnTo>
                    <a:lnTo>
                      <a:pt x="67" y="483"/>
                    </a:lnTo>
                    <a:lnTo>
                      <a:pt x="50" y="449"/>
                    </a:lnTo>
                    <a:lnTo>
                      <a:pt x="42" y="441"/>
                    </a:lnTo>
                    <a:lnTo>
                      <a:pt x="25" y="407"/>
                    </a:lnTo>
                    <a:lnTo>
                      <a:pt x="17" y="398"/>
                    </a:lnTo>
                    <a:lnTo>
                      <a:pt x="8" y="364"/>
                    </a:lnTo>
                    <a:lnTo>
                      <a:pt x="0" y="347"/>
                    </a:lnTo>
                    <a:lnTo>
                      <a:pt x="865" y="0"/>
                    </a:lnTo>
                    <a:lnTo>
                      <a:pt x="101" y="534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51320" y="5459760"/>
                <a:ext cx="292680" cy="427680"/>
              </a:xfrm>
              <a:custGeom>
                <a:avLst/>
                <a:gdLst/>
                <a:ahLst/>
                <a:rect l="l" t="t" r="r" b="b"/>
                <a:pathLst>
                  <a:path w="136" h="212">
                    <a:moveTo>
                      <a:pt x="136" y="161"/>
                    </a:moveTo>
                    <a:lnTo>
                      <a:pt x="127" y="144"/>
                    </a:lnTo>
                    <a:lnTo>
                      <a:pt x="102" y="127"/>
                    </a:lnTo>
                    <a:lnTo>
                      <a:pt x="93" y="110"/>
                    </a:lnTo>
                    <a:lnTo>
                      <a:pt x="68" y="93"/>
                    </a:lnTo>
                    <a:lnTo>
                      <a:pt x="59" y="76"/>
                    </a:lnTo>
                    <a:lnTo>
                      <a:pt x="34" y="50"/>
                    </a:lnTo>
                    <a:lnTo>
                      <a:pt x="25" y="42"/>
                    </a:lnTo>
                    <a:lnTo>
                      <a:pt x="8" y="17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8" y="67"/>
                    </a:lnTo>
                    <a:lnTo>
                      <a:pt x="25" y="93"/>
                    </a:lnTo>
                    <a:lnTo>
                      <a:pt x="34" y="101"/>
                    </a:lnTo>
                    <a:lnTo>
                      <a:pt x="59" y="127"/>
                    </a:lnTo>
                    <a:lnTo>
                      <a:pt x="68" y="144"/>
                    </a:lnTo>
                    <a:lnTo>
                      <a:pt x="93" y="161"/>
                    </a:lnTo>
                    <a:lnTo>
                      <a:pt x="102" y="178"/>
                    </a:lnTo>
                    <a:lnTo>
                      <a:pt x="127" y="195"/>
                    </a:lnTo>
                    <a:lnTo>
                      <a:pt x="136" y="212"/>
                    </a:lnTo>
                    <a:lnTo>
                      <a:pt x="136" y="161"/>
                    </a:lnTo>
                    <a:close/>
                  </a:path>
                </a:pathLst>
              </a:custGeom>
              <a:solidFill>
                <a:srgbClr val="00336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44360" y="4380120"/>
                <a:ext cx="1348920" cy="1488600"/>
              </a:xfrm>
              <a:custGeom>
                <a:avLst/>
                <a:gdLst/>
                <a:ahLst/>
                <a:rect l="l" t="t" r="r" b="b"/>
                <a:pathLst>
                  <a:path w="627" h="738">
                    <a:moveTo>
                      <a:pt x="627" y="0"/>
                    </a:moveTo>
                    <a:lnTo>
                      <a:pt x="0" y="687"/>
                    </a:lnTo>
                    <a:lnTo>
                      <a:pt x="0" y="738"/>
                    </a:lnTo>
                    <a:lnTo>
                      <a:pt x="627" y="5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00336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51320" y="4380120"/>
                <a:ext cx="1641960" cy="1404000"/>
              </a:xfrm>
              <a:custGeom>
                <a:avLst/>
                <a:gdLst/>
                <a:ahLst/>
                <a:rect l="l" t="t" r="r" b="b"/>
                <a:pathLst>
                  <a:path w="763" h="696">
                    <a:moveTo>
                      <a:pt x="136" y="696"/>
                    </a:moveTo>
                    <a:lnTo>
                      <a:pt x="127" y="679"/>
                    </a:lnTo>
                    <a:lnTo>
                      <a:pt x="102" y="662"/>
                    </a:lnTo>
                    <a:lnTo>
                      <a:pt x="93" y="645"/>
                    </a:lnTo>
                    <a:lnTo>
                      <a:pt x="68" y="628"/>
                    </a:lnTo>
                    <a:lnTo>
                      <a:pt x="59" y="611"/>
                    </a:lnTo>
                    <a:lnTo>
                      <a:pt x="34" y="585"/>
                    </a:lnTo>
                    <a:lnTo>
                      <a:pt x="25" y="577"/>
                    </a:lnTo>
                    <a:lnTo>
                      <a:pt x="8" y="552"/>
                    </a:lnTo>
                    <a:lnTo>
                      <a:pt x="0" y="535"/>
                    </a:lnTo>
                    <a:lnTo>
                      <a:pt x="763" y="0"/>
                    </a:lnTo>
                    <a:lnTo>
                      <a:pt x="136" y="696"/>
                    </a:lnTo>
                    <a:close/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34720" y="5853240"/>
                <a:ext cx="438840" cy="374760"/>
              </a:xfrm>
              <a:custGeom>
                <a:avLst/>
                <a:gdLst/>
                <a:ahLst/>
                <a:rect l="l" t="t" r="r" b="b"/>
                <a:pathLst>
                  <a:path w="204" h="186">
                    <a:moveTo>
                      <a:pt x="204" y="135"/>
                    </a:moveTo>
                    <a:lnTo>
                      <a:pt x="178" y="118"/>
                    </a:lnTo>
                    <a:lnTo>
                      <a:pt x="161" y="110"/>
                    </a:lnTo>
                    <a:lnTo>
                      <a:pt x="136" y="93"/>
                    </a:lnTo>
                    <a:lnTo>
                      <a:pt x="102" y="76"/>
                    </a:lnTo>
                    <a:lnTo>
                      <a:pt x="93" y="68"/>
                    </a:lnTo>
                    <a:lnTo>
                      <a:pt x="68" y="51"/>
                    </a:lnTo>
                    <a:lnTo>
                      <a:pt x="42" y="25"/>
                    </a:lnTo>
                    <a:lnTo>
                      <a:pt x="25" y="17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25" y="68"/>
                    </a:lnTo>
                    <a:lnTo>
                      <a:pt x="42" y="76"/>
                    </a:lnTo>
                    <a:lnTo>
                      <a:pt x="68" y="102"/>
                    </a:lnTo>
                    <a:lnTo>
                      <a:pt x="93" y="118"/>
                    </a:lnTo>
                    <a:lnTo>
                      <a:pt x="102" y="127"/>
                    </a:lnTo>
                    <a:lnTo>
                      <a:pt x="136" y="144"/>
                    </a:lnTo>
                    <a:lnTo>
                      <a:pt x="161" y="161"/>
                    </a:lnTo>
                    <a:lnTo>
                      <a:pt x="178" y="169"/>
                    </a:lnTo>
                    <a:lnTo>
                      <a:pt x="204" y="186"/>
                    </a:lnTo>
                    <a:lnTo>
                      <a:pt x="204" y="135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73560" y="4448880"/>
                <a:ext cx="911880" cy="1763280"/>
              </a:xfrm>
              <a:custGeom>
                <a:avLst/>
                <a:gdLst/>
                <a:ahLst/>
                <a:rect l="l" t="t" r="r" b="b"/>
                <a:pathLst>
                  <a:path w="424" h="874">
                    <a:moveTo>
                      <a:pt x="424" y="0"/>
                    </a:moveTo>
                    <a:lnTo>
                      <a:pt x="0" y="823"/>
                    </a:lnTo>
                    <a:lnTo>
                      <a:pt x="0" y="874"/>
                    </a:lnTo>
                    <a:lnTo>
                      <a:pt x="424" y="51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34720" y="4448880"/>
                <a:ext cx="1351080" cy="1676160"/>
              </a:xfrm>
              <a:custGeom>
                <a:avLst/>
                <a:gdLst/>
                <a:ahLst/>
                <a:rect l="l" t="t" r="r" b="b"/>
                <a:pathLst>
                  <a:path w="628" h="831">
                    <a:moveTo>
                      <a:pt x="204" y="831"/>
                    </a:moveTo>
                    <a:lnTo>
                      <a:pt x="178" y="814"/>
                    </a:lnTo>
                    <a:lnTo>
                      <a:pt x="161" y="806"/>
                    </a:lnTo>
                    <a:lnTo>
                      <a:pt x="136" y="789"/>
                    </a:lnTo>
                    <a:lnTo>
                      <a:pt x="102" y="772"/>
                    </a:lnTo>
                    <a:lnTo>
                      <a:pt x="93" y="764"/>
                    </a:lnTo>
                    <a:lnTo>
                      <a:pt x="68" y="747"/>
                    </a:lnTo>
                    <a:lnTo>
                      <a:pt x="42" y="721"/>
                    </a:lnTo>
                    <a:lnTo>
                      <a:pt x="25" y="713"/>
                    </a:lnTo>
                    <a:lnTo>
                      <a:pt x="0" y="696"/>
                    </a:lnTo>
                    <a:lnTo>
                      <a:pt x="628" y="0"/>
                    </a:lnTo>
                    <a:lnTo>
                      <a:pt x="204" y="8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438000" y="4499640"/>
                <a:ext cx="2342160" cy="2002680"/>
                <a:chOff x="3438000" y="4499640"/>
                <a:chExt cx="2342160" cy="20026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438000" y="6193800"/>
                  <a:ext cx="950760" cy="308520"/>
                </a:xfrm>
                <a:custGeom>
                  <a:avLst/>
                  <a:gdLst/>
                  <a:ahLst/>
                  <a:rect l="l" t="t" r="r" b="b"/>
                  <a:pathLst>
                    <a:path w="442" h="153">
                      <a:moveTo>
                        <a:pt x="442" y="102"/>
                      </a:moveTo>
                      <a:lnTo>
                        <a:pt x="408" y="102"/>
                      </a:lnTo>
                      <a:lnTo>
                        <a:pt x="391" y="102"/>
                      </a:lnTo>
                      <a:lnTo>
                        <a:pt x="365" y="94"/>
                      </a:lnTo>
                      <a:lnTo>
                        <a:pt x="348" y="94"/>
                      </a:lnTo>
                      <a:lnTo>
                        <a:pt x="314" y="94"/>
                      </a:lnTo>
                      <a:lnTo>
                        <a:pt x="297" y="94"/>
                      </a:lnTo>
                      <a:lnTo>
                        <a:pt x="264" y="85"/>
                      </a:lnTo>
                      <a:lnTo>
                        <a:pt x="247" y="85"/>
                      </a:lnTo>
                      <a:lnTo>
                        <a:pt x="213" y="77"/>
                      </a:lnTo>
                      <a:lnTo>
                        <a:pt x="187" y="68"/>
                      </a:lnTo>
                      <a:lnTo>
                        <a:pt x="170" y="68"/>
                      </a:lnTo>
                      <a:lnTo>
                        <a:pt x="136" y="51"/>
                      </a:lnTo>
                      <a:lnTo>
                        <a:pt x="119" y="51"/>
                      </a:lnTo>
                      <a:lnTo>
                        <a:pt x="94" y="34"/>
                      </a:lnTo>
                      <a:lnTo>
                        <a:pt x="77" y="34"/>
                      </a:lnTo>
                      <a:lnTo>
                        <a:pt x="43" y="17"/>
                      </a:lnTo>
                      <a:lnTo>
                        <a:pt x="34" y="9"/>
                      </a:ln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34" y="60"/>
                      </a:lnTo>
                      <a:lnTo>
                        <a:pt x="43" y="68"/>
                      </a:lnTo>
                      <a:lnTo>
                        <a:pt x="77" y="85"/>
                      </a:lnTo>
                      <a:lnTo>
                        <a:pt x="94" y="85"/>
                      </a:lnTo>
                      <a:lnTo>
                        <a:pt x="119" y="102"/>
                      </a:lnTo>
                      <a:lnTo>
                        <a:pt x="136" y="102"/>
                      </a:lnTo>
                      <a:lnTo>
                        <a:pt x="170" y="119"/>
                      </a:lnTo>
                      <a:lnTo>
                        <a:pt x="187" y="119"/>
                      </a:lnTo>
                      <a:lnTo>
                        <a:pt x="213" y="128"/>
                      </a:lnTo>
                      <a:lnTo>
                        <a:pt x="247" y="136"/>
                      </a:lnTo>
                      <a:lnTo>
                        <a:pt x="264" y="136"/>
                      </a:lnTo>
                      <a:lnTo>
                        <a:pt x="297" y="145"/>
                      </a:lnTo>
                      <a:lnTo>
                        <a:pt x="314" y="145"/>
                      </a:lnTo>
                      <a:lnTo>
                        <a:pt x="348" y="145"/>
                      </a:lnTo>
                      <a:lnTo>
                        <a:pt x="365" y="145"/>
                      </a:lnTo>
                      <a:lnTo>
                        <a:pt x="391" y="153"/>
                      </a:lnTo>
                      <a:lnTo>
                        <a:pt x="408" y="153"/>
                      </a:lnTo>
                      <a:lnTo>
                        <a:pt x="442" y="153"/>
                      </a:lnTo>
                      <a:lnTo>
                        <a:pt x="442" y="10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38000" y="4517280"/>
                  <a:ext cx="950760" cy="1882080"/>
                </a:xfrm>
                <a:custGeom>
                  <a:avLst/>
                  <a:gdLst/>
                  <a:ahLst/>
                  <a:rect l="l" t="t" r="r" b="b"/>
                  <a:pathLst>
                    <a:path w="442" h="933">
                      <a:moveTo>
                        <a:pt x="442" y="933"/>
                      </a:moveTo>
                      <a:lnTo>
                        <a:pt x="408" y="933"/>
                      </a:lnTo>
                      <a:lnTo>
                        <a:pt x="391" y="933"/>
                      </a:lnTo>
                      <a:lnTo>
                        <a:pt x="365" y="925"/>
                      </a:lnTo>
                      <a:lnTo>
                        <a:pt x="348" y="925"/>
                      </a:lnTo>
                      <a:lnTo>
                        <a:pt x="314" y="925"/>
                      </a:lnTo>
                      <a:lnTo>
                        <a:pt x="297" y="925"/>
                      </a:lnTo>
                      <a:lnTo>
                        <a:pt x="264" y="916"/>
                      </a:lnTo>
                      <a:lnTo>
                        <a:pt x="247" y="916"/>
                      </a:lnTo>
                      <a:lnTo>
                        <a:pt x="213" y="908"/>
                      </a:lnTo>
                      <a:lnTo>
                        <a:pt x="187" y="899"/>
                      </a:lnTo>
                      <a:lnTo>
                        <a:pt x="170" y="899"/>
                      </a:lnTo>
                      <a:lnTo>
                        <a:pt x="136" y="882"/>
                      </a:lnTo>
                      <a:lnTo>
                        <a:pt x="119" y="882"/>
                      </a:lnTo>
                      <a:lnTo>
                        <a:pt x="94" y="865"/>
                      </a:lnTo>
                      <a:lnTo>
                        <a:pt x="77" y="865"/>
                      </a:lnTo>
                      <a:lnTo>
                        <a:pt x="43" y="848"/>
                      </a:lnTo>
                      <a:lnTo>
                        <a:pt x="34" y="840"/>
                      </a:lnTo>
                      <a:lnTo>
                        <a:pt x="0" y="831"/>
                      </a:lnTo>
                      <a:lnTo>
                        <a:pt x="425" y="0"/>
                      </a:lnTo>
                      <a:lnTo>
                        <a:pt x="442" y="93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4429800" y="4499640"/>
                  <a:ext cx="1350360" cy="1985760"/>
                  <a:chOff x="4429800" y="4499640"/>
                  <a:chExt cx="1350360" cy="19857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466160" y="5902920"/>
                    <a:ext cx="13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289">
                        <a:moveTo>
                          <a:pt x="611" y="0"/>
                        </a:moveTo>
                        <a:lnTo>
                          <a:pt x="586" y="17"/>
                        </a:lnTo>
                        <a:lnTo>
                          <a:pt x="577" y="26"/>
                        </a:lnTo>
                        <a:lnTo>
                          <a:pt x="552" y="51"/>
                        </a:lnTo>
                        <a:lnTo>
                          <a:pt x="535" y="60"/>
                        </a:lnTo>
                        <a:lnTo>
                          <a:pt x="509" y="77"/>
                        </a:lnTo>
                        <a:lnTo>
                          <a:pt x="493" y="85"/>
                        </a:lnTo>
                        <a:lnTo>
                          <a:pt x="467" y="102"/>
                        </a:lnTo>
                        <a:lnTo>
                          <a:pt x="459" y="110"/>
                        </a:lnTo>
                        <a:lnTo>
                          <a:pt x="425" y="127"/>
                        </a:lnTo>
                        <a:lnTo>
                          <a:pt x="408" y="136"/>
                        </a:lnTo>
                        <a:lnTo>
                          <a:pt x="382" y="144"/>
                        </a:lnTo>
                        <a:lnTo>
                          <a:pt x="365" y="153"/>
                        </a:lnTo>
                        <a:lnTo>
                          <a:pt x="340" y="170"/>
                        </a:lnTo>
                        <a:lnTo>
                          <a:pt x="323" y="170"/>
                        </a:lnTo>
                        <a:lnTo>
                          <a:pt x="289" y="187"/>
                        </a:lnTo>
                        <a:lnTo>
                          <a:pt x="272" y="187"/>
                        </a:lnTo>
                        <a:lnTo>
                          <a:pt x="246" y="204"/>
                        </a:lnTo>
                        <a:lnTo>
                          <a:pt x="230" y="204"/>
                        </a:lnTo>
                        <a:lnTo>
                          <a:pt x="196" y="212"/>
                        </a:lnTo>
                        <a:lnTo>
                          <a:pt x="179" y="212"/>
                        </a:lnTo>
                        <a:lnTo>
                          <a:pt x="145" y="221"/>
                        </a:lnTo>
                        <a:lnTo>
                          <a:pt x="136" y="221"/>
                        </a:lnTo>
                        <a:lnTo>
                          <a:pt x="102" y="229"/>
                        </a:lnTo>
                        <a:lnTo>
                          <a:pt x="85" y="229"/>
                        </a:lnTo>
                        <a:lnTo>
                          <a:pt x="51" y="229"/>
                        </a:lnTo>
                        <a:lnTo>
                          <a:pt x="34" y="238"/>
                        </a:lnTo>
                        <a:lnTo>
                          <a:pt x="0" y="238"/>
                        </a:lnTo>
                        <a:lnTo>
                          <a:pt x="0" y="289"/>
                        </a:lnTo>
                        <a:lnTo>
                          <a:pt x="34" y="289"/>
                        </a:lnTo>
                        <a:lnTo>
                          <a:pt x="51" y="280"/>
                        </a:lnTo>
                        <a:lnTo>
                          <a:pt x="85" y="280"/>
                        </a:lnTo>
                        <a:lnTo>
                          <a:pt x="102" y="280"/>
                        </a:lnTo>
                        <a:lnTo>
                          <a:pt x="136" y="272"/>
                        </a:lnTo>
                        <a:lnTo>
                          <a:pt x="145" y="272"/>
                        </a:lnTo>
                        <a:lnTo>
                          <a:pt x="179" y="263"/>
                        </a:lnTo>
                        <a:lnTo>
                          <a:pt x="196" y="263"/>
                        </a:lnTo>
                        <a:lnTo>
                          <a:pt x="230" y="255"/>
                        </a:lnTo>
                        <a:lnTo>
                          <a:pt x="246" y="255"/>
                        </a:lnTo>
                        <a:lnTo>
                          <a:pt x="272" y="238"/>
                        </a:lnTo>
                        <a:lnTo>
                          <a:pt x="289" y="238"/>
                        </a:lnTo>
                        <a:lnTo>
                          <a:pt x="323" y="221"/>
                        </a:lnTo>
                        <a:lnTo>
                          <a:pt x="340" y="221"/>
                        </a:lnTo>
                        <a:lnTo>
                          <a:pt x="365" y="204"/>
                        </a:lnTo>
                        <a:lnTo>
                          <a:pt x="382" y="195"/>
                        </a:lnTo>
                        <a:lnTo>
                          <a:pt x="408" y="187"/>
                        </a:lnTo>
                        <a:lnTo>
                          <a:pt x="425" y="178"/>
                        </a:lnTo>
                        <a:lnTo>
                          <a:pt x="459" y="161"/>
                        </a:lnTo>
                        <a:lnTo>
                          <a:pt x="467" y="153"/>
                        </a:lnTo>
                        <a:lnTo>
                          <a:pt x="493" y="136"/>
                        </a:lnTo>
                        <a:lnTo>
                          <a:pt x="509" y="127"/>
                        </a:lnTo>
                        <a:lnTo>
                          <a:pt x="535" y="110"/>
                        </a:lnTo>
                        <a:lnTo>
                          <a:pt x="552" y="102"/>
                        </a:lnTo>
                        <a:lnTo>
                          <a:pt x="577" y="77"/>
                        </a:lnTo>
                        <a:lnTo>
                          <a:pt x="586" y="68"/>
                        </a:lnTo>
                        <a:lnTo>
                          <a:pt x="611" y="51"/>
                        </a:lnTo>
                        <a:lnTo>
                          <a:pt x="611" y="0"/>
                        </a:lnTo>
                        <a:close/>
                      </a:path>
                    </a:pathLst>
                  </a:custGeom>
                  <a:solidFill>
                    <a:srgbClr val="605a4e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429800" y="4499640"/>
                    <a:ext cx="36360" cy="19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76">
                        <a:moveTo>
                          <a:pt x="0" y="0"/>
                        </a:moveTo>
                        <a:lnTo>
                          <a:pt x="17" y="925"/>
                        </a:lnTo>
                        <a:lnTo>
                          <a:pt x="17" y="976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5a4e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29800" y="4499640"/>
                    <a:ext cx="1350360" cy="18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934">
                        <a:moveTo>
                          <a:pt x="628" y="696"/>
                        </a:moveTo>
                        <a:lnTo>
                          <a:pt x="603" y="713"/>
                        </a:lnTo>
                        <a:lnTo>
                          <a:pt x="594" y="722"/>
                        </a:lnTo>
                        <a:lnTo>
                          <a:pt x="569" y="747"/>
                        </a:lnTo>
                        <a:lnTo>
                          <a:pt x="552" y="756"/>
                        </a:lnTo>
                        <a:lnTo>
                          <a:pt x="526" y="773"/>
                        </a:lnTo>
                        <a:lnTo>
                          <a:pt x="510" y="781"/>
                        </a:lnTo>
                        <a:lnTo>
                          <a:pt x="484" y="798"/>
                        </a:lnTo>
                        <a:lnTo>
                          <a:pt x="476" y="806"/>
                        </a:lnTo>
                        <a:lnTo>
                          <a:pt x="442" y="823"/>
                        </a:lnTo>
                        <a:lnTo>
                          <a:pt x="425" y="832"/>
                        </a:lnTo>
                        <a:lnTo>
                          <a:pt x="399" y="840"/>
                        </a:lnTo>
                        <a:lnTo>
                          <a:pt x="382" y="849"/>
                        </a:lnTo>
                        <a:lnTo>
                          <a:pt x="357" y="866"/>
                        </a:lnTo>
                        <a:lnTo>
                          <a:pt x="340" y="866"/>
                        </a:lnTo>
                        <a:lnTo>
                          <a:pt x="306" y="883"/>
                        </a:lnTo>
                        <a:lnTo>
                          <a:pt x="289" y="883"/>
                        </a:lnTo>
                        <a:lnTo>
                          <a:pt x="263" y="900"/>
                        </a:lnTo>
                        <a:lnTo>
                          <a:pt x="247" y="900"/>
                        </a:lnTo>
                        <a:lnTo>
                          <a:pt x="213" y="908"/>
                        </a:lnTo>
                        <a:lnTo>
                          <a:pt x="196" y="908"/>
                        </a:lnTo>
                        <a:lnTo>
                          <a:pt x="162" y="917"/>
                        </a:lnTo>
                        <a:lnTo>
                          <a:pt x="153" y="917"/>
                        </a:lnTo>
                        <a:lnTo>
                          <a:pt x="119" y="925"/>
                        </a:lnTo>
                        <a:lnTo>
                          <a:pt x="102" y="925"/>
                        </a:lnTo>
                        <a:lnTo>
                          <a:pt x="68" y="925"/>
                        </a:lnTo>
                        <a:lnTo>
                          <a:pt x="51" y="934"/>
                        </a:lnTo>
                        <a:lnTo>
                          <a:pt x="17" y="934"/>
                        </a:lnTo>
                        <a:lnTo>
                          <a:pt x="0" y="0"/>
                        </a:lnTo>
                        <a:lnTo>
                          <a:pt x="628" y="696"/>
                        </a:lnTo>
                        <a:close/>
                      </a:path>
                    </a:pathLst>
                  </a:custGeom>
                  <a:solidFill>
                    <a:srgbClr val="bfb39b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480920" y="5688720"/>
                    <a:ext cx="789840" cy="20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marL="244440" indent="-244440">
                      <a:lnSpc>
                        <a:spcPct val="11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entury Gothic"/>
                      </a:rPr>
                      <a:t>11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3520800" y="5808600"/>
                  <a:ext cx="703080" cy="2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44440" indent="-244440">
                    <a:lnSpc>
                      <a:spcPct val="11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</a:rPr>
                    <a:t>8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2873520" y="5639040"/>
                <a:ext cx="703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44440" indent="-244440"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</a:rPr>
                  <a:t>4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417400" y="5280120"/>
                <a:ext cx="703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44440" indent="-244440"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</a:rPr>
                  <a:t>4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85200" y="4906800"/>
                <a:ext cx="703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44440" indent="-244440"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</a:rPr>
                  <a:t>4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65600" y="4568400"/>
                <a:ext cx="70308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44440" indent="-244440"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</a:rPr>
                  <a:t>2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703520" y="1991520"/>
              <a:ext cx="146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44440" indent="-244440"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Product 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01760" y="1909800"/>
              <a:ext cx="11070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Look/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6520" y="3962160"/>
              <a:ext cx="10792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64200" y="6296400"/>
              <a:ext cx="10108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POS #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4320" y="6522480"/>
              <a:ext cx="8629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W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34240" y="6238080"/>
              <a:ext cx="10594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Print #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81360" y="5821920"/>
              <a:ext cx="974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Pro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24080" y="5329440"/>
              <a:ext cx="11221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Radio #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50920" y="4826880"/>
              <a:ext cx="10108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POS #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83520" y="4460760"/>
              <a:ext cx="8920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TV #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71280" y="4277520"/>
              <a:ext cx="1064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Webs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84600" y="4095000"/>
              <a:ext cx="11221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Radio #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87480" y="3897000"/>
              <a:ext cx="8431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Pr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69480" y="3727440"/>
              <a:ext cx="8920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TV #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08040" y="1352520"/>
            <a:ext cx="57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A. Case study; typical outcome for “impac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438280" y="5964120"/>
            <a:ext cx="691848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73000" y="1636560"/>
            <a:ext cx="7578720" cy="43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0160" y="1498680"/>
            <a:ext cx="8008920" cy="1200240"/>
          </a:xfrm>
          <a:prstGeom prst="rightArrow">
            <a:avLst>
              <a:gd name="adj1" fmla="val 86167"/>
              <a:gd name="adj2" fmla="val 128852"/>
            </a:avLst>
          </a:prstGeom>
          <a:gradFill rotWithShape="0">
            <a:gsLst>
              <a:gs pos="0">
                <a:srgbClr val="3399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5400000">
            <a:off x="5891040" y="3153960"/>
            <a:ext cx="4568760" cy="1263600"/>
          </a:xfrm>
          <a:prstGeom prst="rightArrow">
            <a:avLst>
              <a:gd name="adj1" fmla="val 80287"/>
              <a:gd name="adj2" fmla="val 86943"/>
            </a:avLst>
          </a:prstGeom>
          <a:gradFill rotWithShape="0">
            <a:gsLst>
              <a:gs pos="0">
                <a:srgbClr val="3399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7680" y="223560"/>
            <a:ext cx="77090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n the “360 Summary Audit” brings it all together;  Recall + Impa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246800" y="1270080"/>
            <a:ext cx="1820520" cy="1109160"/>
            <a:chOff x="7246800" y="1270080"/>
            <a:chExt cx="1820520" cy="1109160"/>
          </a:xfrm>
        </p:grpSpPr>
        <p:sp>
          <p:nvSpPr>
            <p:cNvPr id="240" name=""/>
            <p:cNvSpPr/>
            <p:nvPr/>
          </p:nvSpPr>
          <p:spPr>
            <a:xfrm>
              <a:off x="7246800" y="1270080"/>
              <a:ext cx="1820520" cy="1109160"/>
            </a:xfrm>
            <a:prstGeom prst="ellipse">
              <a:avLst/>
            </a:prstGeom>
            <a:gradFill rotWithShape="0">
              <a:gsLst>
                <a:gs pos="0">
                  <a:srgbClr val="eaf4ef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81440" y="1438200"/>
              <a:ext cx="146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Recall &amp; Respo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334120" y="561816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sponsiv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7272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call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26920" y="1812600"/>
            <a:ext cx="17640" cy="42512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01720" y="6063840"/>
            <a:ext cx="7704000" cy="126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07120" y="5932440"/>
            <a:ext cx="4959000" cy="905040"/>
            <a:chOff x="2607120" y="5932440"/>
            <a:chExt cx="4959000" cy="905040"/>
          </a:xfrm>
        </p:grpSpPr>
        <p:sp>
          <p:nvSpPr>
            <p:cNvPr id="247" name=""/>
            <p:cNvSpPr/>
            <p:nvPr/>
          </p:nvSpPr>
          <p:spPr>
            <a:xfrm>
              <a:off x="3511800" y="6147000"/>
              <a:ext cx="348912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ponse/Impact (Penalty/Rewar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607120" y="5932440"/>
              <a:ext cx="4959000" cy="905040"/>
              <a:chOff x="2607120" y="5932440"/>
              <a:chExt cx="4959000" cy="905040"/>
            </a:xfrm>
          </p:grpSpPr>
          <p:sp>
            <p:nvSpPr>
              <p:cNvPr id="249" name=""/>
              <p:cNvSpPr/>
              <p:nvPr/>
            </p:nvSpPr>
            <p:spPr>
              <a:xfrm rot="5400000">
                <a:off x="4633920" y="3905280"/>
                <a:ext cx="905040" cy="4959000"/>
              </a:xfrm>
              <a:prstGeom prst="upArrow">
                <a:avLst>
                  <a:gd name="adj1" fmla="val 50000"/>
                  <a:gd name="adj2" fmla="val 136983"/>
                </a:avLst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19560" y="6147360"/>
                <a:ext cx="35604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Importance for Response</a:t>
                </a:r>
                <a:br>
                  <a:rPr sz="1400"/>
                </a:b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(Derived from Requirements/Reward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7288200" y="650880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: CPG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3520" y="1460520"/>
            <a:ext cx="593640" cy="4346640"/>
            <a:chOff x="263520" y="1460520"/>
            <a:chExt cx="593640" cy="4346640"/>
          </a:xfrm>
        </p:grpSpPr>
        <p:sp>
          <p:nvSpPr>
            <p:cNvPr id="253" name=""/>
            <p:cNvSpPr/>
            <p:nvPr/>
          </p:nvSpPr>
          <p:spPr>
            <a:xfrm rot="16200000">
              <a:off x="-642600" y="3531600"/>
              <a:ext cx="24436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all (Visibility/Linke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63520" y="1460520"/>
              <a:ext cx="593640" cy="4346640"/>
              <a:chOff x="263520" y="1460520"/>
              <a:chExt cx="593640" cy="4346640"/>
            </a:xfrm>
          </p:grpSpPr>
          <p:sp>
            <p:nvSpPr>
              <p:cNvPr id="255" name=""/>
              <p:cNvSpPr/>
              <p:nvPr/>
            </p:nvSpPr>
            <p:spPr>
              <a:xfrm rot="16200000">
                <a:off x="-1612800" y="3336840"/>
                <a:ext cx="4346640" cy="593640"/>
              </a:xfrm>
              <a:prstGeom prst="rightArrow">
                <a:avLst>
                  <a:gd name="adj1" fmla="val 50000"/>
                  <a:gd name="adj2" fmla="val 18305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6200000">
                <a:off x="-788400" y="4021920"/>
                <a:ext cx="278316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Recall;  touched!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1338120" y="1257480"/>
            <a:ext cx="6686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4440" indent="-244440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0 Touch*Point Summary Audit …to Purchase Intent (Total Sam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46800" y="1866600"/>
            <a:ext cx="7186320" cy="3919680"/>
            <a:chOff x="946800" y="1866600"/>
            <a:chExt cx="7186320" cy="3919680"/>
          </a:xfrm>
        </p:grpSpPr>
        <p:sp>
          <p:nvSpPr>
            <p:cNvPr id="259" name=""/>
            <p:cNvSpPr/>
            <p:nvPr/>
          </p:nvSpPr>
          <p:spPr>
            <a:xfrm>
              <a:off x="7588080" y="2242800"/>
              <a:ext cx="5508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48120" y="511164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8" y="0"/>
                  </a:moveTo>
                  <a:lnTo>
                    <a:pt x="35" y="17"/>
                  </a:lnTo>
                  <a:lnTo>
                    <a:pt x="18" y="34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19280" y="3404880"/>
              <a:ext cx="53640" cy="55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52600" y="2630160"/>
              <a:ext cx="53640" cy="55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54240" y="456876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1720" y="476244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32120" y="379404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44640" y="301932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7" y="0"/>
                  </a:moveTo>
                  <a:lnTo>
                    <a:pt x="35" y="17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06520" y="2049120"/>
              <a:ext cx="5508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71520" y="3211200"/>
              <a:ext cx="53640" cy="55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71360" y="5149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6840" y="282384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3640" y="4956120"/>
              <a:ext cx="5364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26920" y="437508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7280" y="476244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47560" y="41814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95280" y="456876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040" y="5149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28600" y="5344920"/>
              <a:ext cx="5364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17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95120" y="5149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58760" y="534492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7" y="0"/>
                  </a:moveTo>
                  <a:lnTo>
                    <a:pt x="35" y="17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06480" y="495612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74440" y="573084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1320" y="5149800"/>
              <a:ext cx="5364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09640" y="5344920"/>
              <a:ext cx="550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7" y="0"/>
                  </a:moveTo>
                  <a:lnTo>
                    <a:pt x="35" y="17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38000" y="5149800"/>
              <a:ext cx="5508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9200" y="5008320"/>
              <a:ext cx="968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V Ad #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46800" y="5236920"/>
              <a:ext cx="1544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enting Magazin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34960" y="5549760"/>
              <a:ext cx="7488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70160" y="4773600"/>
              <a:ext cx="9802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r. Foo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96840" y="5289480"/>
              <a:ext cx="10062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ki Te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67520" y="4838400"/>
              <a:ext cx="1058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nt Ad #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71920" y="5468760"/>
              <a:ext cx="11862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mily Circl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7640" y="5008320"/>
              <a:ext cx="12196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#2 Pl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67160" y="4387680"/>
              <a:ext cx="1148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chael Ra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66720" y="3998880"/>
              <a:ext cx="126972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 Insert Coup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37280" y="4579920"/>
              <a:ext cx="14619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Insert Coup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36040" y="4192560"/>
              <a:ext cx="6480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26840" y="4673520"/>
              <a:ext cx="16354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k of Line Packag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90960" y="4808520"/>
              <a:ext cx="6876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7360" y="2643120"/>
              <a:ext cx="1346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-store Coup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41680" y="5081400"/>
              <a:ext cx="14756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k of line #2 Bo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26400" y="3028680"/>
              <a:ext cx="12776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Packag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09640" y="1866600"/>
              <a:ext cx="15076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Ext  Packag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25880" y="2836800"/>
              <a:ext cx="114192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sta Ext #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33160" y="3611520"/>
              <a:ext cx="8478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log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08280" y="4735440"/>
              <a:ext cx="11358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k of  Bo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75720" y="4387680"/>
              <a:ext cx="12423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ord of Mout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70200" y="2447640"/>
              <a:ext cx="968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V Ad #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1320" y="3224160"/>
              <a:ext cx="15562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Price Promo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30160" y="4929120"/>
              <a:ext cx="9057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ebs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26680" y="2062080"/>
              <a:ext cx="13064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44440" indent="-244440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ce Promo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87240" y="1816200"/>
            <a:ext cx="7607160" cy="4327560"/>
            <a:chOff x="687240" y="1816200"/>
            <a:chExt cx="7607160" cy="4327560"/>
          </a:xfrm>
        </p:grpSpPr>
        <p:sp>
          <p:nvSpPr>
            <p:cNvPr id="312" name=""/>
            <p:cNvSpPr/>
            <p:nvPr/>
          </p:nvSpPr>
          <p:spPr>
            <a:xfrm>
              <a:off x="3881160" y="2744640"/>
              <a:ext cx="6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ff0000"/>
                </a:buClr>
                <a:buSzPct val="30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57240" y="1816200"/>
              <a:ext cx="682560" cy="7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ff0000"/>
                </a:buClr>
                <a:buSzPct val="30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ff0000"/>
                </a:buClr>
                <a:buSzPct val="30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517720" y="4848120"/>
              <a:ext cx="0" cy="53352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949560" y="5229360"/>
              <a:ext cx="0" cy="30456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767120" y="4847760"/>
              <a:ext cx="0" cy="30492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52360" y="4772160"/>
              <a:ext cx="1500120" cy="1371600"/>
            </a:xfrm>
            <a:prstGeom prst="ellipse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7240" y="46497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cc"/>
                  </a:solidFill>
                  <a:latin typeface="Arial"/>
                </a:rPr>
                <a:t>Less of th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65600" y="2355840"/>
              <a:ext cx="1828800" cy="11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ff0000"/>
                </a:buClr>
                <a:buSzPct val="30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cc"/>
                  </a:solidFill>
                  <a:latin typeface="Arial"/>
                </a:rPr>
                <a:t>STRONG; But replace ‘price’ with Equity as reason-to-buy !?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616040" y="1789200"/>
            <a:ext cx="752796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69560" y="1915920"/>
            <a:ext cx="6961320" cy="131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3399"/>
                </a:solidFill>
                <a:latin typeface="Arial"/>
              </a:rPr>
              <a:t>Lessons Learned </a:t>
            </a:r>
            <a:r>
              <a:rPr b="1" i="1" lang="en-US" sz="3400" spc="-1" strike="noStrike">
                <a:solidFill>
                  <a:srgbClr val="003399"/>
                </a:solidFill>
                <a:latin typeface="Arial"/>
              </a:rPr>
              <a:t>(so far)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13920" y="178920"/>
            <a:ext cx="746604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initial learning from B*G 360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78960" y="1509480"/>
            <a:ext cx="803772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1500"/>
              </a:spcBef>
              <a:buClr>
                <a:srgbClr val="00479c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+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675"/>
              </a:spcBef>
              <a:buClr>
                <a:srgbClr val="00808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CG (Food, beverage, beauty, personal care), retail, telecom, durables, electronics, household goods, financial, lottery, sportswear, automotive, technology, and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500"/>
              </a:spcBef>
              <a:buClr>
                <a:srgbClr val="00479c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675"/>
              </a:spcBef>
              <a:buClr>
                <a:srgbClr val="00808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i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500"/>
              </a:spcBef>
              <a:buClr>
                <a:srgbClr val="00479c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eading advertisers/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1250"/>
              </a:spcBef>
              <a:buClr>
                <a:srgbClr val="00479c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an initial review and not a large data-base review of hundreds of cases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601"/>
              </a:spcBef>
              <a:buClr>
                <a:srgbClr val="00808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ny touch-point that did not have at least 20 different assessments was not summariz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02:22:12Z</dcterms:created>
  <dc:creator>John Hallward</dc:creator>
  <dc:description/>
  <dc:language>en-US</dc:language>
  <cp:lastModifiedBy>Mediafax</cp:lastModifiedBy>
  <dcterms:modified xsi:type="dcterms:W3CDTF">2008-05-20T06:34:00Z</dcterms:modified>
  <cp:revision>93</cp:revision>
  <dc:subject/>
  <dc:title>CREATORS OF EQUITY….</dc:title>
</cp:coreProperties>
</file>