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A35F8-439F-462A-A960-164E9355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2C778-5DAD-41F4-B546-65EDF923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D8404-E072-484A-8080-6F2F265D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D7612-F79F-4257-AACA-A51B61A7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F2D51-5925-4581-B63D-D8A5D130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99960"/>
            <a:ext cx="8229600" cy="37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EDC72-D768-4E2B-AE1E-2F7709EA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AEC24-14BC-4ED6-9E09-836FDFE0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8C24A-F622-4A95-A157-199B3818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E1CA1-F0E4-4B67-A66C-7CC9CC4C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A1427-855C-40DD-93E5-C57DE6E3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4C99D-3A71-42C4-87A4-30445206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CEAE4-7C18-4141-8DA8-64DA2E53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99960"/>
            <a:ext cx="8229600" cy="37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93760" y="2427120"/>
            <a:ext cx="5972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745E-B2B4-4667-8EFB-52CD1139E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93760" y="2427120"/>
            <a:ext cx="5972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99"/>
                </a:solidFill>
                <a:uFillTx/>
                <a:latin typeface="Century Gothic"/>
              </a:rPr>
              <a:t>Cresterea pietei</a:t>
            </a:r>
            <a:endParaRPr b="1" lang="en-US" sz="3600" spc="-1" strike="noStrike">
              <a:solidFill>
                <a:srgbClr val="003399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044520" y="4071960"/>
            <a:ext cx="5864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Century Gothic"/>
              </a:rPr>
              <a:t>cat de repede creste cererea si cat de greu creste oferta!</a:t>
            </a:r>
            <a:endParaRPr b="0" lang="en-US" sz="2400" spc="-1" strike="noStrike">
              <a:solidFill>
                <a:srgbClr val="00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intr-o piata unde scad resursel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Century Gothic"/>
              </a:rPr>
              <a:t>Salary inflation forecast</a:t>
            </a: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3896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tinerii din ziua de azi nu mai sunt ce am fost noi!!!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advertisingul din ziua de astazi este foarte diferit fata de ce am facut pana acum 2-3 ani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cat de repede creste cererea si cat de greu creste oferta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cresterea pietei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 Gothic"/>
              </a:rPr>
              <a:t>cu peste 20%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resursele umane sunt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 Gothic"/>
              </a:rPr>
              <a:t>mai putine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 Gothic"/>
              </a:rPr>
              <a:t>publicitatea, este in continua schimbare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iar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 Gothic"/>
              </a:rPr>
              <a:t>costurile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 noastr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 Gothic"/>
              </a:rPr>
              <a:t>cresc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 si ele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suntem la mijloc intr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 Gothic"/>
              </a:rPr>
              <a:t>decizii locale sau regionale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in Romania, in prezent, nu exista o institutie unanim acceptata de catre advertiseri, regii si agentii de media/publicitate care sa masoare valoarea neta a pietei autohtone de publicitate, in conditiile in care valoarea bruta a acesteia este oficial masurata doar pe mediile "traditionale" (TV, radio si presa scrisa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se va rezolva!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schimbarea continua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Multumesc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PREZENTAR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DIALOG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752480"/>
            <a:ext cx="1800360" cy="176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cresteri viitoare ale pietei, cresteri ale GDP per capita dar si inflatia salariala incotro ……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d4d4d"/>
                </a:solidFill>
                <a:latin typeface="Century Gothic"/>
              </a:rPr>
              <a:t>Crestere media expenditures</a:t>
            </a: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0880" y="1581120"/>
            <a:ext cx="830592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d4d4d"/>
                </a:solidFill>
                <a:latin typeface="Century Gothic"/>
              </a:rPr>
              <a:t>Crestere GDP per capita</a:t>
            </a: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8238960" cy="496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665600" y="2516040"/>
          <a:ext cx="4002120" cy="26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5600" y="2516040"/>
                    <a:ext cx="400212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only way to go is up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cum facem noi fata acestei cresteri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suntem pregatiti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entury Gothic"/>
              </a:rPr>
              <a:t>Calitate &amp; Productivitate &amp; Schimbari continue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14:12:21Z</dcterms:created>
  <dc:creator>Publicis Groupe Employee</dc:creator>
  <dc:description/>
  <dc:language>en-US</dc:language>
  <cp:lastModifiedBy>raluca.teodorescu</cp:lastModifiedBy>
  <dcterms:modified xsi:type="dcterms:W3CDTF">2008-05-19T15:00:35Z</dcterms:modified>
  <cp:revision>273</cp:revision>
  <dc:subject/>
  <dc:title>Slide 1</dc:title>
</cp:coreProperties>
</file>