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38C-A539-4D13-ABCE-4898F5CD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B1F-2AB5-4CA0-BEA2-E921B417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1C4-582C-4D39-93CE-95619B66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26B-247F-4B31-918C-97CB57A2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40A-1FE6-4C98-A7CF-55A59B7C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3F9-BA2C-471B-9FB2-01619F8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68A-149F-4FB2-8779-AF9C0B2C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4AB-FD3C-49B2-BEF6-2CE2778C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60B-0A7E-4C11-A82D-3387F1B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DE5-D35B-405C-BA43-7C01AD5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4D0-24ED-45D2-B8A0-A46D227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1BB-3A52-417D-A1E2-EC22EFC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320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Mediafax </a:t>
            </a:r>
            <a:r>
              <a:rPr b="0" i="1" lang="ro-RO" sz="12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333399"/>
                </a:solidFill>
                <a:latin typeface="Times New Roman"/>
              </a:rPr>
              <a:t>alks about Advertising Meas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515-59D2-42DF-B522-9192DAEAD76A}" type="slidenum">
              <a:rPr b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9400" y="485640"/>
            <a:ext cx="2057400" cy="50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295280"/>
            <a:ext cx="8229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ICULARI</a:t>
            </a:r>
            <a:r>
              <a:rPr b="0" lang="ro-RO" sz="3600" spc="-1" strike="noStrike">
                <a:solidFill>
                  <a:srgbClr val="333399"/>
                </a:solidFill>
                <a:latin typeface="Arial"/>
              </a:rPr>
              <a:t>TĂŢILE MĂSURĂRII AUDIENŢEI RADI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3434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diafax </a:t>
            </a:r>
            <a:r>
              <a:rPr b="0" lang="ro-RO" sz="2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ks about Advertising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99"/>
                </a:solidFill>
                <a:latin typeface="Arial"/>
              </a:rPr>
              <a:t>20 MAI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CC2-F829-4CDA-ACDB-E3C7371E25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400"/>
            </a:b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METODOLOGIA SA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aliza d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dicator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 audienţ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pentru media pla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ffectiv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% (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mulativ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% (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mulative Effectiv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% 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RP % (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st per 1000 Re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st per GR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verag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stimarea audieţei unui plan rad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babilităţi individuale de contact pentru 7 intervale orare (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day parts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 pentru fiecare post de radio raporta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babilităţile se recalculează pentru fiecare raportare a date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babilităţile se calculează cu SPSS Answer Tree 3.1 (metoda de generare a segmentării: Exhaustive CHA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477-FBE5-4C05-984A-03D5360F2B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400"/>
            </a:br>
            <a:r>
              <a:rPr b="1" lang="ro-RO" sz="2000" spc="-1" strike="noStrike">
                <a:solidFill>
                  <a:srgbClr val="ff6600"/>
                </a:solidFill>
                <a:latin typeface="Arial"/>
              </a:rPr>
              <a:t>Ascultarea radio în Români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447920"/>
          <a:ext cx="8763120" cy="4410000"/>
        </p:xfrm>
        <a:graphic>
          <a:graphicData uri="http://schemas.openxmlformats.org/drawingml/2006/table">
            <a:tbl>
              <a:tblPr/>
              <a:tblGrid>
                <a:gridCol w="1481040"/>
                <a:gridCol w="942480"/>
                <a:gridCol w="793440"/>
                <a:gridCol w="791640"/>
                <a:gridCol w="792720"/>
                <a:gridCol w="791640"/>
                <a:gridCol w="793440"/>
                <a:gridCol w="791640"/>
                <a:gridCol w="791640"/>
                <a:gridCol w="793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IENCE NA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pr 13-May 24,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 30-Oct 10,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eb 28-Apr 24, 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5-Oct 30, 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 13-May 14,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4-Oct 29,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 5-May 6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3-Oct 28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Reach (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Reach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6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0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Reach (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3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0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1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3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72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4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8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06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Reach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S (min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9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IENCE UR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pr 13-May 24,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 30-Oct 10,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eb 28-Apr 24, 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5-Oct 30, 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 13-May 14,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4-Oct 29,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 5-May 6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3-Oct 28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Reach (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73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9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9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6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8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4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8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Reach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6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7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9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Reach (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38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6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76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6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26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40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8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Reach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S (min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2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IENCE BUCURE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pr 13-May 24,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 30-Oct 10, 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eb 28-Apr 24, 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5-Oct 30, 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 13-May 14,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4-Oct 29, 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 5-May 6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ep 3-Oct 28, 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Reach (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8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Reach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9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3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6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Reach (0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5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9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1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Reach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S (min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RA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639-AEF1-4492-8745-EB017F3669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400"/>
            </a:br>
            <a:r>
              <a:rPr b="1" lang="ro-RO" sz="2000" spc="-1" strike="noStrike">
                <a:solidFill>
                  <a:srgbClr val="ff6600"/>
                </a:solidFill>
                <a:latin typeface="Arial"/>
              </a:rPr>
              <a:t>Ascultarea radio în Români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447920"/>
          <a:ext cx="8381880" cy="4294080"/>
        </p:xfrm>
        <a:graphic>
          <a:graphicData uri="http://schemas.openxmlformats.org/drawingml/2006/table">
            <a:tbl>
              <a:tblPr/>
              <a:tblGrid>
                <a:gridCol w="1415880"/>
                <a:gridCol w="900000"/>
                <a:gridCol w="760680"/>
                <a:gridCol w="758880"/>
                <a:gridCol w="757080"/>
                <a:gridCol w="758880"/>
                <a:gridCol w="757080"/>
                <a:gridCol w="757440"/>
                <a:gridCol w="758880"/>
                <a:gridCol w="757080"/>
              </a:tblGrid>
              <a:tr h="23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1371600"/>
          <a:ext cx="8153280" cy="4571640"/>
        </p:xfrm>
        <a:graphic>
          <a:graphicData uri="http://schemas.openxmlformats.org/drawingml/2006/table">
            <a:tbl>
              <a:tblPr/>
              <a:tblGrid>
                <a:gridCol w="2805480"/>
                <a:gridCol w="1786680"/>
                <a:gridCol w="1554480"/>
                <a:gridCol w="2006640"/>
              </a:tblGrid>
              <a:tr h="285480">
                <a:tc gridSpan="2"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eprezentativitatea SAR 2004 –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roarea maximă de eşantionare (50-5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UCURE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 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roarea de eşantionare </a:t>
                      </a: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10-9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UCURE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 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96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roarea de eşantionare </a:t>
                      </a: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1-9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UCURE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 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io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DB3-6B5C-4219-82F4-FA016FBA14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400"/>
            </a:br>
            <a:r>
              <a:rPr b="1" lang="ro-RO" sz="2000" spc="-1" strike="noStrike">
                <a:solidFill>
                  <a:srgbClr val="ff6600"/>
                </a:solidFill>
                <a:latin typeface="Arial"/>
              </a:rPr>
              <a:t>Ascultarea radio în Români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04920" y="1447920"/>
          <a:ext cx="8381880" cy="423072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762120"/>
                <a:gridCol w="914400"/>
                <a:gridCol w="533160"/>
                <a:gridCol w="478080"/>
                <a:gridCol w="753840"/>
                <a:gridCol w="757440"/>
                <a:gridCol w="758880"/>
                <a:gridCol w="757080"/>
              </a:tblGrid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tele: SAR 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gregate</a:t>
                      </a:r>
                      <a:r>
                        <a:rPr b="0" lang="ro-RO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valu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 primavar</a:t>
                      </a:r>
                      <a:r>
                        <a:rPr b="0" lang="ro-RO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şi 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amnă</a:t>
                      </a: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1828800"/>
          <a:ext cx="5943600" cy="2743200"/>
        </p:xfrm>
        <a:graphic>
          <a:graphicData uri="http://schemas.openxmlformats.org/drawingml/2006/table">
            <a:tbl>
              <a:tblPr/>
              <a:tblGrid>
                <a:gridCol w="1615680"/>
                <a:gridCol w="1443240"/>
                <a:gridCol w="1441800"/>
                <a:gridCol w="1442880"/>
              </a:tblGrid>
              <a:tr h="92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OLUM TOTAL AUDI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RB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UCURE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HO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WO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A C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94A-9BCF-4B92-9721-71FE2E495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ca Ungureanu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search Director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S Marketing &amp; Pol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harest - Roma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e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4 Sfintii Apostoli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.:+40 21 335 45 00 / +40 21 335 45 01 / +40 21 335 45 0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:+40 21 335 45 0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monica@imas-inc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: http://www.imas-inc.co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5DE-92CA-4EFA-A123-9900305F4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400"/>
            </a:b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etode de măsurare 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audienţei 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ediil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audiovizuale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memorarea audienţei din ziua precedent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day after recall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înregistrarea audienţ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otale, indiferent de locul ascultării (şi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n afara gospodărie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ra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ea rememorării este stimulată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in întrebări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peci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espondenţ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s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jutaţi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ă-şi amintească ce şi unde au audiat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înregistrarea unei mai mari varietăţi de comportamente de audienţ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persoane diferite intervievate de la o zi la alta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mportamentul de audienţă al persoanelor intervievate nu este influenţat de faptul că sunt prevenite în legătură cu înregistrarea audienţei (ca în cazul jurnalelor de audienţ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nşele mici de audienţă (sub 8 minute) nu pot fi măsurate, astfel că anumite comportamente specifice (zapping-ul, evitarea spaţiilor publicitare) nu pot fi înregist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rnale de audienţ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ăsoară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şi consumul de media din afara gospodărie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calcularea audienţei duplicate de-a lungul unei săptămân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sponsabilitatea completării corecte şi exacte a secventelor de ascultare aparţine oamenilor obişnuiţi iar nu operatorilor de interviu instruiţ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mportamentul de audienţă al persoanelor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oate fi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influenţat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ncluder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în panel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bose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paneliştilo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nşele mici de audienţă (sub 8 minute) nu pot fi măsura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ficultatea recrutării ascultătorilor ocazionali sau a non-ascultă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l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733-073D-4538-A346-82FD2F5EC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295280"/>
            <a:ext cx="815364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ăsurarea electronic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portable people meter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curateţea măsurări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elimină erorile legate de rememorarea sau înregistrarea audienţe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ăsurare minut cu minut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rad mare de fidelitate a comportamentului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 consum medi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piditatea colectării, procesării şi disponibilizării datelo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înregistrarea expunerii la programele audio-vizual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in tehnologia PPM conduce la obţinerea une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urs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uni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 d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ntru radio şi T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sturi ridicate generate de aparartura electronică şi de configurarea, recrutarea şi gestionarea panelului (de circa 4 ori mai mult decât costul unui studiu realizat pe metodologia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day after recal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bose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paneliştilo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doptarea metodologiei PP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UA (audienţa radio – din 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ingapore (audienţa TV – din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lveţia (audienţa radio – din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elgia (audienţa TV şi radio – din 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anada (audienţa TV – din 2004 şi audinţa radio din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Kenia (audienţa TV şi radio – din 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orvegia (audienţa radio – din 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Kayakstan (audienţa TV – din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area Britanie (audienţa radio – d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400"/>
            </a:b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etode de măsurare 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audienţei 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ediil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audiovizuale</a:t>
            </a:r>
            <a:r>
              <a:rPr b="0" lang="ro-RO" sz="1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619-CB7D-44A4-A0BD-5FAC5213E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800"/>
            </a:br>
            <a:r>
              <a:rPr b="1" lang="ro-RO" sz="2800" spc="-1" strike="noStrike">
                <a:solidFill>
                  <a:srgbClr val="ff6600"/>
                </a:solidFill>
                <a:latin typeface="Arial"/>
              </a:rPr>
              <a:t>SAR – </a:t>
            </a:r>
            <a:r>
              <a:rPr b="0" lang="ro-RO" sz="2800" spc="-1" strike="noStrike">
                <a:solidFill>
                  <a:srgbClr val="ff6600"/>
                </a:solidFill>
                <a:latin typeface="Arial"/>
              </a:rPr>
              <a:t>Studiul de Audienţă Rad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ogram de cercetare sindicalizat, realizat pentru Asociaţia pentru Radio Audienţ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alizat de către două institute de cercetare: IMAS – secţiunile 1 (lansare), 2 (activitate de teren), 3 (baza de date finală / software audienţă) şi Mercury Research – secţiunea 2 (activitate de ter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biective: măsurarea audienţei posturilor de radio româneşti şi a celor cu programe în limba român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ogramul de cercetare SAR 2004-2007 (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AR 200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SAR 200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SAR 20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SAR 20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07) a constat în efectuarea a cîte două sondaje de audienţă (primăvara şi toamna) în fiecare an, cu 8 săptămâni de intervievare continuă pentru fiecare val de raportar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ogramul de cercetare SAR 2008-2011 (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AR 2008, SAR 2009, SAR 2010, SAR 2011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 constă în efectuarea a cîte trei sondaje de audienţă în fiecare an, de-a lungul a 46 de săptămâni de intervievare (în medie 15 săptămâni de intervievare continuă pentru fiecare val de raportar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rvicii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surare a audienţei radio anterioare SA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Mediametrie)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93-1996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ntru clienţi externi şi doar în cîteva oraşe mar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CSOP) 1996: primul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rviciu regulat oferit clienţilor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â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IMAS) Seviciul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DIMAS 1998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2001: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panel multimedi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cca 1000 gospodării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(TV, radio, presă), folosind metoda jurnalelor de audienţă (ulterior combinată cu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eople mete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pentru audienţa TV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IMAS) Seviciul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D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002-2003: cîte două sondaje de audienţă (primăvara şi toamna) în fiecare an, cu 4 săptămâni de intervievare continuă pentru fiecare val de raportare şi 7000 chestionare pentru fiecare v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781-3C20-40B0-9D9E-40E2239BD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800"/>
            </a:b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METODOLOGIA SA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şantionul 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SAR 2004-2007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: 20.000 chestionare anual  (10000 chestionare x 2 valuri): în medie 180 chestionare realizate în fiecare zi a activităţii de teren (112 zile de intervieva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SAR 2008-2011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26.000 chestionare anual  (10000 chestionare + 8000 x 2 valuri): în medie 80 chestionare realizate în fiecare zi a activităţii de teren (322 zile de intervieva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ate oraşele cu mai mult de 30.000 locuitori (71 oraş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calităţi urbane cu mai puţin d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0.000 locuitori (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66 localităţi selectate aleato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calităţ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rurale (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00 localităţi selectate aleato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drul de eşantionare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azele de date ale Institutului Naţional pentru Evidenţa Persoanelor (Ministerul de Inter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ACF-5174-4EBF-A0A2-813A60834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800"/>
            </a:b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METODOLOGIA SA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oda de măsurare a audienţe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memorarea audienţei din ziua precedentă (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Day After Recal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uratateţea reamintirii este stimulată pri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constituirea principalelor activităţi desfăşurate de respondent I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rea listei posturilor de radi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a de răspu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nimum 70%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(din 100 de adrese extrase aleator din bazele INEP vor fi intervievate cu succes minim 70 persoa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62B-9CEB-4723-811D-F7C7B24CF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800"/>
            </a:b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METODOLOGIA SA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legerea date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 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in interviuri faţă în faţă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alizate la domiciliul respondenţilor pe baza procedurii PAPI (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creion-hîrt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chestionar tipări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izat de către două institute de cercetare (eşantioane eg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ei perioade de raportare a datel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ul val (ianuarie-april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 doilea val (mai-augu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 treilea val (septembrie-decembr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urata totală a perioadei de intervievare: 46 săptămâni de intervievare (sunt prevăzute cumulat 6 săptămâni de pauză în perioada sărbătorilor religioa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stitutele de cercetare real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ează culegerea datelor din teren după o planificare echilibrată a interviurilor din fiecare localitate pe săptămâni, zile ale săptămâni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urata medie a interviului: 21 minu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2F8-6127-46E4-A3EA-CF3776EC4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800"/>
            </a:b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METODOLOGIA SA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rarea bazelor d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ormatul de livrar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lectronic,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Interne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rmene de livrar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: 2 iunie 2008 (primul val), 29 septembrie 2008 (al doilea val), 30 ianuarie 2009 (al treilea va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ărul de posturi radio rapor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13 staţii radio raportate în baza de date Naţional (cele 11 staţii radio regionale ale radiodifuzorului public SRR sunt măsurate individual dar sunt raportate agregat sub denumirea Radio România Reg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24 staţii radio raportate în baza de date Bucureş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274-7EB9-4870-8769-59978CD155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ĂSURAREA AUDIENŢEI RADIO</a:t>
            </a:r>
            <a:br>
              <a:rPr sz="2800"/>
            </a:b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METODOLOGIA S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aliza d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licaţ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oftware specializa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soR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dicator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 audienţ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enţa netă zilnică a fiecărui post de radi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ily Reac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%; Daily Reach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enţa brută zilnică a fiecărui post de radi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AQR%; AQR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a de piaţă a fiecărui post de radi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ţa zilnică brută pe sfert de or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AQR%; AQR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ţa netă săptămânală a fiecărui post de radi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ly Reac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%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ly Reach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rata medie a ascultării: ATS (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licaţia  permi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alcularea acestor indicator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 valori zilnice medii (pe întreaga zi şi pe prime ti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 valori zilnice medii pentru fiecare zi din săptămînă (luni-duminică, pe întreaga zi şi pe prime ti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1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 valori zilnice medii pentru fiecare sfert de oră, sau agregat pe mai multe sferturi de oră/progra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348-1955-4503-9372-8BDFC233E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9:12:47Z</dcterms:created>
  <dc:creator>Monica Ungureanu</dc:creator>
  <dc:description/>
  <dc:language>en-US</dc:language>
  <cp:lastModifiedBy>Mediafax</cp:lastModifiedBy>
  <dcterms:modified xsi:type="dcterms:W3CDTF">2008-05-20T10:52:09Z</dcterms:modified>
  <cp:revision>145</cp:revision>
  <dc:subject/>
  <dc:title>CERCETAREA AUDIENŢEI</dc:title>
</cp:coreProperties>
</file>