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AD5-0FDE-40A3-BED6-68EBED1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70A-A384-4EC0-ABC4-4DF057A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4F4-A925-4EF3-8D9B-C66D390B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4E5-9D53-4E84-B0BC-D111CE1F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76A-3A38-4320-9047-AEED682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F0E-0EFC-43D6-88D9-8CDADC7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FBB-DD9B-4E33-AAD9-96A948D2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350-852D-49C0-B6EF-ECC95BD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319-B5CE-449E-8992-F78A5A6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EF6-9D08-4DBE-9AE8-322CF10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399-FD8D-4D00-B830-380034B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CCE-15E7-4AA6-896B-B369E439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6265-7F1C-4E97-AE86-BC111D19BF6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IAN MEDIA MARKET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2006-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hail Vart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557360"/>
          <a:ext cx="806436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0643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557360"/>
          <a:ext cx="81043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043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3680" y="1598760"/>
          <a:ext cx="802008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98760"/>
                    <a:ext cx="8020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68360" y="155736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557360"/>
          <a:ext cx="806436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0643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557360"/>
          <a:ext cx="81043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043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3680" y="1598760"/>
          <a:ext cx="802008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98760"/>
                    <a:ext cx="8020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8360" y="155736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557360"/>
          <a:ext cx="806436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0643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557360"/>
          <a:ext cx="81043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043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280" y="6019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nitored by Alfac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280" y="6019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nitored by Alfac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6280" y="6019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nitored by Alfac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6280" y="6019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nitored by Alfac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H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6560" y="6019920"/>
            <a:ext cx="48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t monitored (both Ratecard and Net are estim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6560" y="6019920"/>
            <a:ext cx="48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t monitored (both Ratecard and Net are estim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EMA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445800" y="1628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6560" y="6019920"/>
            <a:ext cx="48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t monitored (both Ratecard and Net are estim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1880" y="1598760"/>
          <a:ext cx="806760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598760"/>
                    <a:ext cx="8067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12120" y="6165720"/>
            <a:ext cx="58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V, Print, Radio - monitored by Alfaco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H, Internet, Cinema - not monitored (both Ratecard and Net are estim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41440" y="155736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9:55:00Z</dcterms:created>
  <dc:creator>Doru Czobor</dc:creator>
  <dc:description/>
  <dc:language>en-US</dc:language>
  <cp:lastModifiedBy>raluca.teodorescu</cp:lastModifiedBy>
  <dcterms:modified xsi:type="dcterms:W3CDTF">2008-05-16T15:02:12Z</dcterms:modified>
  <cp:revision>4</cp:revision>
  <dc:subject/>
  <dc:title>ROMANIAN MEDIA MARKET 2006-2008</dc:title>
</cp:coreProperties>
</file>