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923E-4626-4066-B2D6-4AAB273C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69BC-C56D-4127-A4EC-29B83100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2463-58A6-4069-B178-D6334554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0755-2506-43E2-9211-E9BD43F8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5C3E-DB30-4446-91EE-157BFBCB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F8B7-09C3-431C-AA3C-581ED8C1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9C4A-D092-44A7-80C9-93B6AD0E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F53B-3BBF-4AF9-84A5-6F882B86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F89A-CE84-4CFA-BC93-FB05A977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5EDF-E218-4C2D-ABDA-0E67CC38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E5B7-0B78-4812-846E-EDF3BBC0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7C1C-58CE-4C00-A090-12A63739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8D8F-8E33-4778-89B1-8F8B3364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9886-875C-4C8B-A93D-D105C8A4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859E-9C78-4051-BA09-46FCE99D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5DB7-F109-4C4A-9F49-5E331078A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7A2D-DFAE-46A4-A561-53255CC2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4D77-2ACC-45F5-AC97-EE891AE7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2D44-62C4-49FA-8669-FC87228A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11EE-A0D1-49B5-8A71-0106F324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7C10-A943-4C94-B75E-88441A79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C0C2-F945-44B8-AC80-A05A5BB0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9C6F-8899-415C-8700-3B5D252B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327B-9A25-48C8-80A8-A02D86EC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6BF5-85ED-4448-91E6-089550BF1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7FB9-A632-4E64-97B3-304FDA950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UBLICITATE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AUDIE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 CINE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A NECONV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ONA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troducer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blicitate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cinem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sul de 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ar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cin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ziunea v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â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z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rulu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em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seam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ublicitate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cinem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 consu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 ce p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a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a/clientul de publicitat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e sunt problemele de 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ar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e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seamn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publicitatea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n cinema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a neconv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on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-Scre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-Scre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iecte speciale (complementaritatea On si Off Scre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4568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e consum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/ ce pl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e Agen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a/Clientul 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19000" y="2287080"/>
            <a:ext cx="6559560" cy="34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filul consumatorului de cin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PT – sezonalitate, strategie pr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r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port monitoriz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irie sp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re sunt problemele de m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urare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zitatorii uni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upul de publicitate vs Candy B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-Screen – (cine vede, unde te vede, 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â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d te vede, da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e ved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area pi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i de cinema – forecastul v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â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z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rulu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emplu – c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â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 trebuie 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pl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easc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un client care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t in cal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s listat la can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rror/floor stick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nner intrar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tiere, tricouri, leaflet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cluzii: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Îţ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 pot spune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NE cum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ăr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ilete la film - CIN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î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vede reclama din calup  (profil consumato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Â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cum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ilete la film, DAR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ă CEI care nu te vă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calup, te văd la candybar/ lobby/foyer/toalet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4:01:19Z</dcterms:created>
  <dc:creator>pro</dc:creator>
  <dc:description/>
  <dc:language>en-US</dc:language>
  <cp:lastModifiedBy>pro</cp:lastModifiedBy>
  <dcterms:modified xsi:type="dcterms:W3CDTF">2008-05-19T16:55:12Z</dcterms:modified>
  <cp:revision>9</cp:revision>
  <dc:subject/>
  <dc:title>PUBLICITATE si AUDIENTE in CINE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