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Palatino Linotype"/>
              </a:rPr>
              <a:t>Click to edit the title text format</a:t>
            </a: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209680" indent="-3808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209680" indent="-3808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209680" indent="-3808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Palatino Linotype"/>
              </a:rPr>
              <a:t>Agentii si Clienti – De unde am plecat, unde am ajuns</a:t>
            </a: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-4680" y="1557360"/>
            <a:ext cx="9153360" cy="4762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Palatino Linotype"/>
              </a:rPr>
              <a:t>1995 – HEI-RUP!</a:t>
            </a: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680" y="1557360"/>
            <a:ext cx="9153360" cy="476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Palatino Linotype"/>
              </a:rPr>
              <a:t>1995 – HEI-RUP!</a:t>
            </a: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ublicitate – Activitate “de risc”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imat economic instabi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dustrie emergenta, fara standard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Palatino Linotype"/>
              </a:rPr>
              <a:t>2000 – Entuziasm Creativ</a:t>
            </a: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2824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28240" cy="5570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Palatino Linotype"/>
              </a:rPr>
              <a:t>2000 – Entuziasm Creativ</a:t>
            </a: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ofesionalizarea domeniului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scensiune rapida a calitatii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imele succese international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zvoltarea relatiilor de increder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34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Palatino Linotype"/>
              </a:rPr>
              <a:t>2005 – Maturizare</a:t>
            </a: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34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Palatino Linotype"/>
              </a:rPr>
              <a:t>2005-2008 – Maturizare</a:t>
            </a: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gmentarea pietei si a clientilo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paritia primelor “conflicte de competenta”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latia client-agentie = investiti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imele analize de esec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Palatino Linotype"/>
              </a:rPr>
              <a:t>2010 – “Accountability”</a:t>
            </a: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36600"/>
            <a:ext cx="914400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236600"/>
            <a:ext cx="9144000" cy="5614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Palatino Linotype"/>
              </a:rPr>
              <a:t>2010 – “Accountability”</a:t>
            </a:r>
            <a:endParaRPr b="0" lang="en-US" sz="4000" spc="-1" strike="noStrike">
              <a:solidFill>
                <a:srgbClr val="a50021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zvoltare economica lent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aderea importantii publicitatii pentru produ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mpetitia agentiilor pentru “bucati” din teritoriul comunicarii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00:27Z</dcterms:created>
  <dc:creator>liviu.boitan</dc:creator>
  <dc:description/>
  <dc:language>en-US</dc:language>
  <cp:lastModifiedBy>raluca.teodorescu</cp:lastModifiedBy>
  <dcterms:modified xsi:type="dcterms:W3CDTF">2008-05-19T15:09:11Z</dcterms:modified>
  <cp:revision>18</cp:revision>
  <dc:subject/>
  <dc:title>Slide 1</dc:title>
</cp:coreProperties>
</file>