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8137-00C7-4F98-B0A6-87631573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9264-05D8-4088-8C48-CB00DDA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405-7558-4153-BBE0-ED08DEAD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19B-EB9A-4781-9469-CBD79675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BBC-A6B8-4A5D-8791-AF9504B7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FC2-2729-457A-9AC5-56032FD9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21A-6852-4651-99BB-1FFACE3C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428-F27F-47BB-89F3-A05E92B2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3F4-DBB7-4017-AC9C-221373F2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0D5-D223-4595-928A-F963EAC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95F-CEA4-494A-B822-F2CAA35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347E-C177-446C-8106-C94FC69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F0C4-178E-41EC-BB75-54FEF6F38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4.xml"/><Relationship Id="rId5" Type="http://schemas.openxmlformats.org/officeDocument/2006/relationships/slide" Target="slide3.xml"/><Relationship Id="rId6" Type="http://schemas.openxmlformats.org/officeDocument/2006/relationships/image" Target="../media/image7.jpeg"/><Relationship Id="rId7" Type="http://schemas.openxmlformats.org/officeDocument/2006/relationships/slide" Target="slide4.xm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154320" y="2819520"/>
            <a:ext cx="2833560" cy="1224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6680" y="7300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oor Advertising Meas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6262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indoormedia.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p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647800"/>
            <a:ext cx="78487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ta de publicitate indoor in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or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dii de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surarea audiente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udii de cerce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z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7315200" y="6068880"/>
            <a:ext cx="18288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723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de publicitate indoor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7590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2008, pi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 publicitate indoor este de 6.1 mil EUR, cu 36% mai mare f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4029120"/>
          <a:ext cx="7315200" cy="107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029120"/>
                    <a:ext cx="7315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7315200" y="6068880"/>
            <a:ext cx="18288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53044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7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or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pania de publicitate indoor a trustului MediaPro, a 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ut un marketshare de 31%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totalul pieţei de publicitate indo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8120" y="4152960"/>
          <a:ext cx="2954160" cy="23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152960"/>
                    <a:ext cx="29541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2" descr=""/>
          <p:cNvPicPr/>
          <p:nvPr/>
        </p:nvPicPr>
        <p:blipFill>
          <a:blip r:embed="rId4"/>
          <a:stretch/>
        </p:blipFill>
        <p:spPr>
          <a:xfrm>
            <a:off x="7315200" y="6068880"/>
            <a:ext cx="18288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99000" y="3809880"/>
            <a:ext cx="35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ampusuri universi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25480" y="6172200"/>
            <a:ext cx="19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ic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486400" y="213372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828800" y="4495680"/>
            <a:ext cx="1828800" cy="1668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20920" y="3809880"/>
            <a:ext cx="26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luburi de F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518148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inematogr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52480" y="2133720"/>
            <a:ext cx="1828800" cy="1670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486400" y="4495680"/>
            <a:ext cx="1828800" cy="1670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i de comunicare Indoor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3520" y="3276720"/>
            <a:ext cx="830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Campusuri universitare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- 111 locatii in Bucuresti si 16 locatii in 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42670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Licee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- 38 de locatii in Bucure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362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luburi de Fitness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- 83 de loca</a:t>
            </a:r>
            <a:r>
              <a:rPr b="0" lang="ro-RO" sz="1800" spc="-1" strike="noStrike">
                <a:solidFill>
                  <a:srgbClr val="000000"/>
                </a:solidFill>
                <a:latin typeface="Franklin Gothic Medium"/>
              </a:rPr>
              <a:t>ţii în Bucureş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257800"/>
            <a:ext cx="739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Cinematografe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- Hollywood Multiplex si Cinema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um măsurăm audienţ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28600" y="23623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ndoor Media realizeaza periodic </a:t>
            </a:r>
            <a:r>
              <a:rPr b="1" lang="en-US" sz="1800" spc="-1" strike="noStrike">
                <a:solidFill>
                  <a:srgbClr val="000000"/>
                </a:solidFill>
                <a:latin typeface="Franklin Gothic Medium"/>
              </a:rPr>
              <a:t>studii de cercetare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 ce servesc identificarii si intelegerii cat mai bune a mediilor de nisa alese drept canale de comunicare media (indoo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ii de cercet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436920"/>
            <a:ext cx="89154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Date obtinute in urma acestor stud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informatii socio-demogra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obiceiuri de con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frecventa de vizitare (de ex. in cluburile de fit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Medium"/>
              </a:rPr>
              <a:t>mijloace /medii de informare (promovare) pref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2720" cy="20192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1295280"/>
            <a:ext cx="5333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luz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057400"/>
            <a:ext cx="853452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itatea indoor este masurabila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irea unui sistem de masurare unanim acceptat la care sa se poata raporta intreag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industrie de advertising din Roman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o necesi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e nevoie de un efort sustinut pentru mentinerea informatiilor din piata mereu actuale. Acest lucru poate fi facut pr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a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rea constanta a unor studii de cercet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colaborare intre playerii de indoor ar aduce avantaje comu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sociatia Romana de Indoor Adverti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0400" cy="1381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905120" y="152388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mulţumes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626256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w.indoormedia.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</cp:lastModifiedBy>
  <dcterms:modified xsi:type="dcterms:W3CDTF">2008-05-20T05:29:3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