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133-162B-49B3-A61D-C30DDC9F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588-D6D3-4A73-8953-852B208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E97-28CB-4444-A9E6-F5911BA1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18E-50C6-4B9E-9DE3-B00E4519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881-1132-4D21-83B0-1905233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DC7-2E56-40A4-A5FD-84A415A9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ABB-E233-409D-A6F7-344BFC2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8AA-9850-4414-984F-DFEBA426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AEC-A7B7-4B12-8A95-42A592DF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ADD-A1E1-45EF-AB7E-15AD57C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DBA-1224-463C-ABC6-742F464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C67-B919-4C4E-A93C-92AA323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CF3-88CB-489B-B559-018070C4B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447920" y="1104840"/>
          <a:ext cx="6896160" cy="523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104840"/>
                    <a:ext cx="6896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 de importante sunt datele de monitorizare a publicitatii in activitate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zarea bugetelor brute de publici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cest serviciu util in estimarea valorii reale a piet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00400" y="3529080"/>
          <a:ext cx="243828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2908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62120" y="5361120"/>
          <a:ext cx="1981080" cy="128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5361120"/>
                    <a:ext cx="19810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84720" y="5311800"/>
          <a:ext cx="2025360" cy="13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5311800"/>
                    <a:ext cx="2025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943600" y="5346720"/>
          <a:ext cx="1981080" cy="12826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5346720"/>
                    <a:ext cx="1981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3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utia pietei de publicitate in ultimii 5 ani conform datelor de monitoriz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zarea bugetelor brute de publici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cest serviciu util in estimarea valorii reale a piet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00400" y="3529080"/>
          <a:ext cx="243828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2908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62120" y="5361120"/>
          <a:ext cx="1981080" cy="128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5361120"/>
                    <a:ext cx="19810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384720" y="5311800"/>
          <a:ext cx="2025360" cy="13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5311800"/>
                    <a:ext cx="2025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943600" y="5346720"/>
          <a:ext cx="1981080" cy="12826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5346720"/>
                    <a:ext cx="1981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3000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pot face estimari ale bugetelor nete bazate pe datele de monitorizare a bugetelor br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zarea bugetelor brute de publici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cest serviciu util in estimarea valorii reale a piet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00400" y="3529080"/>
          <a:ext cx="243828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2908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62120" y="5361120"/>
          <a:ext cx="1981080" cy="128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5361120"/>
                    <a:ext cx="19810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384720" y="5311800"/>
          <a:ext cx="2025360" cy="13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5311800"/>
                    <a:ext cx="2025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943600" y="5346720"/>
          <a:ext cx="1981080" cy="12826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5346720"/>
                    <a:ext cx="1981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3000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ar trebui facut pe piata monitorizarii me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zarea bugetelor brute de publici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 acest serviciu util in estimarea valorii reale a piet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00400" y="3529080"/>
          <a:ext cx="243828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2908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62120" y="5361120"/>
          <a:ext cx="1981080" cy="128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5361120"/>
                    <a:ext cx="198108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384720" y="5311800"/>
          <a:ext cx="2025360" cy="13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5311800"/>
                    <a:ext cx="2025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43600" y="5346720"/>
          <a:ext cx="1981080" cy="12826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5346720"/>
                    <a:ext cx="1981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3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09:55:47Z</dcterms:created>
  <dc:creator>Adrian Gavriliu</dc:creator>
  <dc:description/>
  <dc:language>en-US</dc:language>
  <cp:lastModifiedBy>raluca.teodorescu</cp:lastModifiedBy>
  <cp:lastPrinted>2005-03-18T11:30:14Z</cp:lastPrinted>
  <dcterms:modified xsi:type="dcterms:W3CDTF">2008-05-19T15:11:40Z</dcterms:modified>
  <cp:revision>116</cp:revision>
  <dc:subject/>
  <dc:title>MediaWatch</dc:title>
</cp:coreProperties>
</file>