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852C-308A-4EAE-8DE9-1B1A9706C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4A9-FBB7-4D08-B799-B6504002C15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676F-47F4-4793-873D-1FC85C3B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F94-F477-4422-8D67-F205A34C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ADC-0C2B-4FF7-93D8-D22C3375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F24-7AC9-42C9-9BBD-621467B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1D71D-99ED-475B-B2F1-DCC8C7C3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B4EA-FF16-46B3-A392-364CC78C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55C-884C-4CAE-ABDA-F6AA52AC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AB1B-9E80-4FEF-880D-5B713867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F614-84B9-4A28-BB42-5D7DC04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26CB-0271-4688-B2D9-33D755F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EE7-2153-4ACB-9914-43518D3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763-AF0A-4B54-8768-15D4EA9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93EC-DD7C-4B4D-A922-A730AB2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C774-A417-4C32-87FB-CA52778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9F0C-AF75-492C-9D8F-F302AE7A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7FA-6742-405F-A7AC-8DB1F666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C8C-23C3-435A-9F30-83191EB2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779B-CF15-4238-A6F2-3EE7CD08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0B02-EBD7-4D27-B85F-DCF4F0F5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11D28-0EA2-464B-93BD-BA5636D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70812-77AB-44D9-AE0E-3F5234C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A031B-AD00-466C-9136-71E86E4B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54B5-1D9C-4445-93E1-40D4E6D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55EE-3019-488B-ACB8-822738C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0178-ABE5-42AE-BFA6-DC3E6042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F419-FAA5-4EFE-8064-3999355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17121-D2BB-43EF-83E5-C589B993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0AEA-4A6A-43E6-8937-27149E23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A963-C84B-43D5-8990-79DB10FA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A8BFA-7227-4AC0-9942-C4D6BDE6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25C0-C900-4A5B-A301-A11B0CD1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DED52-52A4-48CD-9F2E-99469239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4775-5AFA-42A0-88AF-5DD8D30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195-A8F8-45FB-836D-6776918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8A7BA-B218-432B-A92F-1A92508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AD9EC-7689-45D8-9017-F4E7EDA7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5E8C8-87C1-463A-903E-64ACB36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FAD1-F4E4-4CE1-86CD-C500CF9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7247-4BA6-4AA1-B891-A38DBBE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DAA1-282F-4750-9D97-89DD26B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2F05-E2A5-48BE-9004-DE846CAE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4425-9C47-457A-BF8D-CE57459F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BEB7-87C1-45DB-8DED-D5E2FD21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4D6CA-ECF4-4B6F-8CA2-60A8298D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93D-A916-4BE0-A295-A73F1818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A3F2D-75DA-4204-BE39-C7882475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40E27-B48B-429F-ABF3-6E687C5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B7B2-3BB2-4D04-8E56-6A4AD875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7438-22F0-4434-A6EE-55EFDBCA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F875-1C71-471F-BFF2-9F28824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546F4-D19D-4497-8CEA-FBBA8D84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A1702-5D54-4557-B726-6973E35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AC284-95F4-465E-8212-13A781ED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B31D8-2C8B-4D23-B97C-FCB8E81E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E2485-28CF-42DC-BE30-305CCE1E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D06-0505-4422-A12C-07B19CAB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5C75-DECD-4D59-9402-9330EF6D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EE95-6A7C-46B7-ADA8-790E3413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E1783-AE26-441B-A524-D2E86DA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F4A5F-F7A7-44A5-ADC6-A0C52D8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A97B-0FAC-4336-AE15-2712C267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19A7D-A31E-49C6-A4D4-A2B61BF3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1D398-8AAF-49E9-821D-F74B0C62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38E9-FDD0-41CC-8C9B-839EB05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1907A-19E3-4612-96EF-8713CF5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5E24-DB7B-40B9-87AD-201D194F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E35-425C-4E96-B7B4-4458E9AD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20A5-1BDF-4AE1-8BB4-BE127B5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32E91-7588-41E8-927C-C9AFB317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BE18A-E09A-43D9-856E-9FEC7D1F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DD3C2-44A5-41D3-BDEB-20D40877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7709-A0F1-475B-AD63-1D259971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55D1-D698-402E-B378-279D707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6AAA-8DA9-4F2B-BDD5-3B229621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A9FC-BA70-4A75-BF13-464C986D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C085-DE28-4B56-AD01-C70B900C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A7394-6BF6-40C1-B8EA-04F5BE4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FD7-4A96-4617-908D-B84F6B55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BEB1D-67D4-4181-A875-3CE605E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72AF1-C663-455C-9EC6-9AAE1C8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CF574-9FB2-4146-BDED-CB2C068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9518C-D2CC-47AE-B83A-4CCE4CD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A68D-D20C-4406-B421-75BE9147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1C9BA-5357-4108-A916-504A2E59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168BB-4DCA-4CB7-959A-9D475248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A6D99-F7CC-4CA0-91F8-A2F452B7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E56BF-7619-449D-814E-7C91E87F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46626-B65F-4A5A-878C-DD17AFDE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253-3A5A-4F30-A8C9-03F28077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D0080-456B-4F1B-85F4-2C1CC75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85C9C-9196-454E-B22E-5D6F2E6E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4C78B-4DD7-4FC5-B148-92E2F70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DC44E-9772-4C82-9CB8-91F8F24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A321-6D09-4E68-BCAA-DAEF21B3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7C5D7-2CC1-4415-BD7B-C50F80CC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2FC1-5484-43AE-BDEE-5002907C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84B4-92DA-449F-8799-C9CC4056E2B1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hape 43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Shape 35"/>
          <p:cNvSpPr/>
          <p:nvPr/>
        </p:nvSpPr>
        <p:spPr>
          <a:xfrm>
            <a:off x="4821120" y="1066680"/>
            <a:ext cx="4343400" cy="5791320"/>
          </a:xfrm>
          <a:prstGeom prst="pie">
            <a:avLst/>
          </a:pr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Shape 42"/>
          <p:cNvSpPr/>
          <p:nvPr/>
        </p:nvSpPr>
        <p:spPr>
          <a:xfrm>
            <a:off x="290520" y="-14400"/>
            <a:ext cx="5562720" cy="6553440"/>
          </a:xfrm>
          <a:prstGeom prst="pie">
            <a:avLst/>
          </a:pr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Shape 21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Shape 23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Shape 25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Shape 26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Rectangle 32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Rectangle 33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Rectangle 34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Rectangle 35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Rectangle 3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Rectangle 3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Rectangle 4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0C7B-D72C-4ACC-99C8-6295DD18ABEF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4FF-9F91-4DAE-B498-7C4E384CB78F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Straight Connector 17"/>
          <p:cNvSpPr/>
          <p:nvPr/>
        </p:nvSpPr>
        <p:spPr>
          <a:xfrm flipH="1">
            <a:off x="4570560" y="1601640"/>
            <a:ext cx="2880" cy="4534200"/>
          </a:xfrm>
          <a:prstGeom prst="line">
            <a:avLst/>
          </a:prstGeom>
          <a:ln w="9360">
            <a:solidFill>
              <a:srgbClr val="731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26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6b626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A04-42C1-4EA0-B37B-24377DA9A5F9}" type="slidenum">
              <a:rPr b="0" lang="en-US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7"/>
          <p:cNvSpPr/>
          <p:nvPr/>
        </p:nvSpPr>
        <p:spPr>
          <a:xfrm>
            <a:off x="0" y="401760"/>
            <a:ext cx="868680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B0D-685F-4188-A4DE-1BA4C858A87D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8DB8-5692-41A8-93D2-68C842EE7B3A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5743-4B0D-4D94-B925-0DFF716D4EAB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67" name="Group 17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68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69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0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1" name="Group 17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72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3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4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75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76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7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78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AA7-038A-4434-959A-BA11D0983537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3" descr=""/>
          <p:cNvPicPr/>
          <p:nvPr/>
        </p:nvPicPr>
        <p:blipFill>
          <a:blip r:embed="rId1"/>
          <a:stretch/>
        </p:blipFill>
        <p:spPr>
          <a:xfrm>
            <a:off x="907920" y="3279600"/>
            <a:ext cx="782820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785880" y="57132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rbel"/>
              </a:rPr>
              <a:t>UTILITATEA MASURARII VALORILOR RATE CARD PENTRU TELEVIZIUNILE DIN ROMANIA ESTE ZERO !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Text Placeholder 2"/>
          <p:cNvSpPr/>
          <p:nvPr/>
        </p:nvSpPr>
        <p:spPr>
          <a:xfrm>
            <a:off x="857160" y="1285920"/>
            <a:ext cx="7772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DE CE NU MAI ESTE UTIL  RATE CARD-ul?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Lista publica de preturi (Rate Card) si-a pierdut rolul de instrument folosit in vanzarea efectiva. Rolul este strict de informare a grilei de programe, iar prezenta preturilor in aceste documente este datorata strict inertiei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 </a:t>
            </a: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Deal-urile ce au la baza lista publica de tarife insumeaza mai putin de 5% din valoarea totala  a deal-urilor  negociate in piata. In cazul statiilor grupului PRO, mai putin de 3%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Lipsa corelarii preturilor Rate Card cu performantele de audienta ale statiilor a condus la hiper-inflarea valorilor brute consumate de advertiseri in piata. 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Placeholder 2"/>
          <p:cNvSpPr/>
          <p:nvPr/>
        </p:nvSpPr>
        <p:spPr>
          <a:xfrm>
            <a:off x="857160" y="1285920"/>
            <a:ext cx="7772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DE CE NU MAI ESTE UTIL  RATE CARD-ul? (cont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Si in trecut, si cu atat mai mult acum, discountul a fost instrumentul de reglare a pretului, nu pretul in sine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Cresterea numarului de jucatori din piata a contribuit la accentuarea  discrepantelor, prin practicarea unor discounturi mai mari (80-90%) si prin acceptarea de contracte tip barter.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Valorile Rate Card hiper-inflate sunt o consecinta a practicilor de cumparare media de pana in 2002-2003, cand presiunile din piata dominata de cumparator au determinat furnizorii sa creasca baza la care se aplicau discounturile solicitate de 90-95% uneori.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785880" y="57132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rbel"/>
              </a:rPr>
              <a:t>UTILITATEA MASURARII VALORILOR RATE CARD PENTRU TELEVIZIUNILE DIN ROMANIA ESTE ZERO !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Placeholder 2"/>
          <p:cNvSpPr/>
          <p:nvPr/>
        </p:nvSpPr>
        <p:spPr>
          <a:xfrm>
            <a:off x="903240" y="95400"/>
            <a:ext cx="77724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9e5dc"/>
                </a:solidFill>
                <a:latin typeface="Corbel"/>
              </a:rPr>
              <a:t>UNICA SOLUTIE A PROBLEMEI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e9e5dc"/>
                </a:solidFill>
                <a:uFillTx/>
                <a:latin typeface="Corbel"/>
              </a:rPr>
              <a:t>GRILA PUBLICA DE CPP-uri NETE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e9e5dc"/>
                </a:solidFill>
                <a:uFillTx/>
                <a:latin typeface="Corbel"/>
              </a:rPr>
              <a:t>Dificultatile demersului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Renuntarea la practica negocierilor;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Existenta suspiciunilor inca o buna perioada de timp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Riscul ca televiziunile cu o forta de negociere mai redusa sa cedeze presiunilor agentiilor de publicitate si ale clientilor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Aplicarea unei astfel de politici cere cativa ani de pregatire in corelarea preturilor pentrua nu suferi un soc de aliniere in cazuri unor clienti preferentiali;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e9e5dc"/>
                </a:solidFill>
                <a:uFillTx/>
                <a:latin typeface="Corbel"/>
              </a:rPr>
              <a:t>Factorii implicati :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Televiziunile –  </a:t>
            </a:r>
            <a:r>
              <a:rPr b="1" lang="en-GB" sz="1600" spc="-1" strike="noStrike">
                <a:solidFill>
                  <a:srgbClr val="e9e5dc"/>
                </a:solidFill>
                <a:latin typeface="Corbel"/>
              </a:rPr>
              <a:t>elaboreaza o politica coerenta de pozitionare a preturilor pe care o aplica intocmai (dificultatea negocierii devine dificultatea pozitionarii strategiei de pret); aplicarea 100% a politicii de preturi nete publice; discutii preliminare cu agentiile de publicitate sunt intotdeauna utile.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e9e5dc"/>
                </a:solidFill>
                <a:latin typeface="Corbel"/>
              </a:rPr>
              <a:t>Agentiile si clientii – </a:t>
            </a:r>
            <a:r>
              <a:rPr b="1" lang="en-GB" sz="1600" spc="-1" strike="noStrike">
                <a:solidFill>
                  <a:srgbClr val="e9e5dc"/>
                </a:solidFill>
                <a:latin typeface="Corbel"/>
              </a:rPr>
              <a:t>inteleg politica de vanzare si se abtin de la presiuni de negociere in cazul in care considera politicile de vanzari intemeiat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3"/>
          <p:cNvSpPr/>
          <p:nvPr/>
        </p:nvSpPr>
        <p:spPr>
          <a:xfrm>
            <a:off x="928800" y="428760"/>
            <a:ext cx="7786440" cy="73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e9e5dc"/>
                </a:solidFill>
                <a:uFillTx/>
                <a:latin typeface="Corbel"/>
              </a:rPr>
              <a:t>Cat mai dureaza?</a:t>
            </a:r>
            <a:r>
              <a:rPr b="1" lang="en-GB" sz="1800" spc="-1" strike="noStrike">
                <a:solidFill>
                  <a:srgbClr val="e9e5dc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9e5dc"/>
                </a:solidFill>
                <a:latin typeface="Corbel"/>
              </a:rPr>
              <a:t>1 – 2 ani pentru grupul de statii PRO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9e5dc"/>
                </a:solidFill>
                <a:latin typeface="Corbel"/>
              </a:rPr>
              <a:t>3 – 4 ani pentru celelalte teviziuni importante din media din Romania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rbel"/>
              </a:rPr>
              <a:t>Demersurile grupului PRO au inceput in 2007 pentru schimbarea politicilor de vanzari prin cresterea transparentei si au continuat in 2008 prin aplicarea unei politici de vanzari foarte coerente si unitare !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rbel"/>
              </a:rPr>
              <a:t>Ciprian Stancu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rbel"/>
              </a:rPr>
              <a:t>Head of TV Sales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rbel"/>
              </a:rPr>
              <a:t>PRO TV, ACASA, PRO Cinema, Sport.ro, MTV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7476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20:41:22Z</dcterms:created>
  <dc:creator/>
  <dc:description/>
  <dc:language>en-US</dc:language>
  <cp:lastModifiedBy/>
  <dcterms:modified xsi:type="dcterms:W3CDTF">2008-05-19T22:46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