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19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CC0-B0C9-4E89-A527-0BC3A679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7C0A-D8D0-4242-AADD-C488A6A0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A2C-7DC7-4B44-8A50-1D3085D5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354-77F1-414C-BC37-CA684744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881C-1BA2-4D58-A9E0-4F0D91A1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469-62F8-4590-B796-9B060BE7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FC0-81B7-4D23-93AA-439E94E8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31AB-D724-429D-B944-4C6F26F1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704-8C3C-41C5-80D1-4387E794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4E45-2012-4F2C-B0E6-0DF3BBD2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5617-627A-415D-AF16-56E2D11C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985-7270-4D06-9A9C-500A9ADA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rat_logo_200"/>
          <p:cNvPicPr/>
          <p:nvPr/>
        </p:nvPicPr>
        <p:blipFill>
          <a:blip r:embed="rId2"/>
          <a:stretch/>
        </p:blipFill>
        <p:spPr>
          <a:xfrm>
            <a:off x="900000" y="1700280"/>
            <a:ext cx="7632720" cy="374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D6B0-67D7-4789-A716-4F28840CA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237960" y="1197000"/>
            <a:ext cx="82947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644400" y="272880"/>
            <a:ext cx="0" cy="5545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611280" y="476280"/>
            <a:ext cx="0" cy="5545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brat_logo_200"/>
          <p:cNvPicPr/>
          <p:nvPr/>
        </p:nvPicPr>
        <p:blipFill>
          <a:blip r:embed="rId3"/>
          <a:stretch/>
        </p:blipFill>
        <p:spPr>
          <a:xfrm>
            <a:off x="915840" y="1762200"/>
            <a:ext cx="7632720" cy="3744720"/>
          </a:xfrm>
          <a:prstGeom prst="rect">
            <a:avLst/>
          </a:prstGeom>
          <a:ln w="0">
            <a:noFill/>
          </a:ln>
        </p:spPr>
      </p:pic>
      <p:sp>
        <p:nvSpPr>
          <p:cNvPr id="10" name="Line 14"/>
          <p:cNvSpPr/>
          <p:nvPr/>
        </p:nvSpPr>
        <p:spPr>
          <a:xfrm>
            <a:off x="237960" y="1197000"/>
            <a:ext cx="82947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457200" y="457200"/>
            <a:ext cx="1090440" cy="639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143000" y="0"/>
            <a:ext cx="907920" cy="380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7920" y="762120"/>
            <a:ext cx="7162560" cy="938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ftr" idx="4"/>
          </p:nvPr>
        </p:nvSpPr>
        <p:spPr>
          <a:xfrm>
            <a:off x="51051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9.wmf"/><Relationship Id="rId39" Type="http://schemas.openxmlformats.org/officeDocument/2006/relationships/image" Target="../media/image2.jpeg"/><Relationship Id="rId4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sati.ro/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brat.ro/" TargetMode="External"/><Relationship Id="rId2" Type="http://schemas.openxmlformats.org/officeDocument/2006/relationships/hyperlink" Target="http://www.sati.ro/" TargetMode="External"/><Relationship Id="rId3" Type="http://schemas.openxmlformats.org/officeDocument/2006/relationships/hyperlink" Target="mailto:arina@brat.ro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brat_logo_200"/>
          <p:cNvPicPr/>
          <p:nvPr/>
        </p:nvPicPr>
        <p:blipFill>
          <a:blip r:embed="rId1"/>
          <a:stretch/>
        </p:blipFill>
        <p:spPr>
          <a:xfrm>
            <a:off x="2192400" y="2276640"/>
            <a:ext cx="6340320" cy="3097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23640" y="3641760"/>
            <a:ext cx="6769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Biroul Roman de Audit al Tirajelor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ul de Audienta si Trafic Internet</a:t>
            </a:r>
            <a:br>
              <a:rPr sz="2800"/>
            </a:br>
            <a:br>
              <a:rPr sz="3600"/>
            </a:br>
            <a:br>
              <a:rPr sz="1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curesti, 20 ma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sigla_SATI"/>
          <p:cNvPicPr/>
          <p:nvPr/>
        </p:nvPicPr>
        <p:blipFill>
          <a:blip r:embed="rId2"/>
          <a:stretch/>
        </p:blipFill>
        <p:spPr>
          <a:xfrm>
            <a:off x="5940360" y="4973760"/>
            <a:ext cx="2808360" cy="11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750564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TI - Metod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7621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2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istemul de masurare are 3 parti componen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nsamant/masurare a utilizarii fiecarui site inclus in studiu (site centric - traf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icarea profilului utilizatorilor siteurilor (studiu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nderarea/ajustarea rezultatelor studiului online conform rezultatelor obtinute dintr-un studiu offline, referitoare la structura universului masura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sigla_SATI"/>
          <p:cNvPicPr/>
          <p:nvPr/>
        </p:nvPicPr>
        <p:blipFill>
          <a:blip r:embed="rId1"/>
          <a:stretch/>
        </p:blipFill>
        <p:spPr>
          <a:xfrm>
            <a:off x="6672240" y="303120"/>
            <a:ext cx="187164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574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TI - Metod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5"/>
          <p:cNvSpPr/>
          <p:nvPr/>
        </p:nvSpPr>
        <p:spPr>
          <a:xfrm>
            <a:off x="990720" y="1203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censamant/masurare a utilizarii fiecarui site inclus in studiu (site centric - traf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37"/>
          <p:cNvGrpSpPr/>
          <p:nvPr/>
        </p:nvGrpSpPr>
        <p:grpSpPr>
          <a:xfrm>
            <a:off x="1003320" y="1981080"/>
            <a:ext cx="7601040" cy="4800600"/>
            <a:chOff x="1003320" y="1981080"/>
            <a:chExt cx="7601040" cy="4800600"/>
          </a:xfrm>
        </p:grpSpPr>
        <p:sp>
          <p:nvSpPr>
            <p:cNvPr id="133" name="Oval 3"/>
            <p:cNvSpPr/>
            <p:nvPr/>
          </p:nvSpPr>
          <p:spPr>
            <a:xfrm>
              <a:off x="3975120" y="3400200"/>
              <a:ext cx="1371600" cy="1082880"/>
            </a:xfrm>
            <a:prstGeom prst="ellipse">
              <a:avLst/>
            </a:prstGeom>
            <a:solidFill>
              <a:srgbClr val="b8b8b8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>
              <a:off x="3060720" y="4618080"/>
              <a:ext cx="3352680" cy="2163600"/>
            </a:xfrm>
            <a:prstGeom prst="ellipse">
              <a:avLst/>
            </a:prstGeom>
            <a:solidFill>
              <a:srgbClr val="b8b8b8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>
              <a:off x="5403960" y="2116080"/>
              <a:ext cx="3200400" cy="2163600"/>
            </a:xfrm>
            <a:prstGeom prst="ellipse">
              <a:avLst/>
            </a:prstGeom>
            <a:solidFill>
              <a:srgbClr val="b8b8b8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>
              <a:off x="1003320" y="1981080"/>
              <a:ext cx="3048120" cy="2163600"/>
            </a:xfrm>
            <a:prstGeom prst="ellipse">
              <a:avLst/>
            </a:prstGeom>
            <a:solidFill>
              <a:srgbClr val="b8b8b8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7" name="Object 8"/>
            <p:cNvGraphicFramePr/>
            <p:nvPr/>
          </p:nvGraphicFramePr>
          <p:xfrm>
            <a:off x="4046400" y="4905360"/>
            <a:ext cx="1224000" cy="1001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46400" y="4905360"/>
                      <a:ext cx="1224000" cy="100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Object 9"/>
            <p:cNvGraphicFramePr/>
            <p:nvPr/>
          </p:nvGraphicFramePr>
          <p:xfrm>
            <a:off x="3325680" y="5673600"/>
            <a:ext cx="5940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25680" y="5673600"/>
                      <a:ext cx="5940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Object 10"/>
            <p:cNvGraphicFramePr/>
            <p:nvPr/>
          </p:nvGraphicFramePr>
          <p:xfrm>
            <a:off x="3990960" y="5790960"/>
            <a:ext cx="59364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2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90960" y="5790960"/>
                      <a:ext cx="5936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Line 11"/>
            <p:cNvSpPr/>
            <p:nvPr/>
          </p:nvSpPr>
          <p:spPr>
            <a:xfrm flipH="1" flipV="1">
              <a:off x="4508280" y="4010040"/>
              <a:ext cx="75960" cy="87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2"/>
            <p:cNvSpPr/>
            <p:nvPr/>
          </p:nvSpPr>
          <p:spPr>
            <a:xfrm flipH="1" flipV="1">
              <a:off x="2755800" y="3265200"/>
              <a:ext cx="1524240" cy="811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5" name="Object 13"/>
            <p:cNvGraphicFramePr/>
            <p:nvPr/>
          </p:nvGraphicFramePr>
          <p:xfrm>
            <a:off x="6489720" y="2768400"/>
            <a:ext cx="708120" cy="70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489720" y="2768400"/>
                      <a:ext cx="708120" cy="7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Text Box 14"/>
            <p:cNvSpPr/>
            <p:nvPr/>
          </p:nvSpPr>
          <p:spPr>
            <a:xfrm>
              <a:off x="6413400" y="2305080"/>
              <a:ext cx="144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Lucida Sans Unicode"/>
                </a:rPr>
                <a:t>Webserver</a:t>
              </a:r>
              <a:br>
                <a:rPr sz="1800"/>
              </a:br>
              <a:r>
                <a:rPr b="0" lang="en-GB" sz="1200" spc="-1" strike="noStrike">
                  <a:solidFill>
                    <a:srgbClr val="000000"/>
                  </a:solidFill>
                  <a:latin typeface="Verdana"/>
                  <a:ea typeface="Lucida Sans Unicode"/>
                </a:rPr>
                <a:t>www.content.r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8" name="Object 15"/>
            <p:cNvGraphicFramePr/>
            <p:nvPr/>
          </p:nvGraphicFramePr>
          <p:xfrm>
            <a:off x="2008080" y="2587680"/>
            <a:ext cx="973440" cy="610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9" name="Object 1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008080" y="2587680"/>
                      <a:ext cx="973440" cy="61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Object 16"/>
            <p:cNvGraphicFramePr/>
            <p:nvPr/>
          </p:nvGraphicFramePr>
          <p:xfrm>
            <a:off x="2008080" y="2442960"/>
            <a:ext cx="93528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1" name="Object 1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08080" y="2442960"/>
                      <a:ext cx="93528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Rectangle 17"/>
            <p:cNvSpPr/>
            <p:nvPr/>
          </p:nvSpPr>
          <p:spPr>
            <a:xfrm>
              <a:off x="1875600" y="2054160"/>
              <a:ext cx="60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Lucida Sans Unicode"/>
                </a:rPr>
                <a:t>SATI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3" name="Object 18"/>
            <p:cNvGraphicFramePr/>
            <p:nvPr/>
          </p:nvGraphicFramePr>
          <p:xfrm>
            <a:off x="1994040" y="2303280"/>
            <a:ext cx="934920" cy="615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4" name="Object 1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994040" y="2303280"/>
                      <a:ext cx="93492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5" name="Text Box 23"/>
            <p:cNvSpPr/>
            <p:nvPr/>
          </p:nvSpPr>
          <p:spPr>
            <a:xfrm rot="19726200">
              <a:off x="5664960" y="3128760"/>
              <a:ext cx="563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rer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4"/>
            <p:cNvSpPr/>
            <p:nvPr/>
          </p:nvSpPr>
          <p:spPr>
            <a:xfrm rot="1818600">
              <a:off x="3245760" y="3249360"/>
              <a:ext cx="5630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rer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5"/>
            <p:cNvSpPr/>
            <p:nvPr/>
          </p:nvSpPr>
          <p:spPr>
            <a:xfrm rot="9264000">
              <a:off x="5826600" y="3509280"/>
              <a:ext cx="677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spun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6"/>
            <p:cNvSpPr/>
            <p:nvPr/>
          </p:nvSpPr>
          <p:spPr>
            <a:xfrm rot="1560000">
              <a:off x="2486160" y="3509640"/>
              <a:ext cx="1296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okie cu ID UNIC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 flipH="1" flipV="1">
              <a:off x="4279680" y="4076640"/>
              <a:ext cx="75960" cy="1149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8"/>
            <p:cNvSpPr/>
            <p:nvPr/>
          </p:nvSpPr>
          <p:spPr>
            <a:xfrm flipH="1" flipV="1">
              <a:off x="2831760" y="3130200"/>
              <a:ext cx="1676520" cy="87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9"/>
            <p:cNvSpPr/>
            <p:nvPr/>
          </p:nvSpPr>
          <p:spPr>
            <a:xfrm flipH="1">
              <a:off x="4762080" y="3134520"/>
              <a:ext cx="1799280" cy="78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0"/>
            <p:cNvSpPr/>
            <p:nvPr/>
          </p:nvSpPr>
          <p:spPr>
            <a:xfrm flipH="1">
              <a:off x="4995720" y="4032360"/>
              <a:ext cx="10080" cy="10044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1"/>
            <p:cNvSpPr/>
            <p:nvPr/>
          </p:nvSpPr>
          <p:spPr>
            <a:xfrm flipH="1">
              <a:off x="4930560" y="3332160"/>
              <a:ext cx="1593720" cy="757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2"/>
            <p:cNvSpPr/>
            <p:nvPr/>
          </p:nvSpPr>
          <p:spPr>
            <a:xfrm flipH="1">
              <a:off x="4758120" y="3918960"/>
              <a:ext cx="43920" cy="100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6"/>
            <p:cNvSpPr/>
            <p:nvPr/>
          </p:nvSpPr>
          <p:spPr>
            <a:xfrm>
              <a:off x="4203720" y="35049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.w.w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58" descr="sigla_SATI"/>
          <p:cNvPicPr/>
          <p:nvPr/>
        </p:nvPicPr>
        <p:blipFill>
          <a:blip r:embed="rId15"/>
          <a:stretch/>
        </p:blipFill>
        <p:spPr>
          <a:xfrm>
            <a:off x="6672240" y="303120"/>
            <a:ext cx="187164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574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TI - Metod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990720" y="1295280"/>
            <a:ext cx="81532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 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838080" y="1295280"/>
            <a:ext cx="80773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0"/>
          <p:cNvSpPr/>
          <p:nvPr/>
        </p:nvSpPr>
        <p:spPr>
          <a:xfrm>
            <a:off x="990720" y="1197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censamant/masurare a utilizarii fiecarui site inclus in studiu (site centric - traf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34"/>
          <p:cNvSpPr/>
          <p:nvPr/>
        </p:nvSpPr>
        <p:spPr>
          <a:xfrm>
            <a:off x="1219320" y="1959120"/>
            <a:ext cx="2438280" cy="1371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kie – ID UN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35"/>
          <p:cNvSpPr/>
          <p:nvPr/>
        </p:nvSpPr>
        <p:spPr>
          <a:xfrm>
            <a:off x="1143000" y="4016520"/>
            <a:ext cx="2438280" cy="1371600"/>
          </a:xfrm>
          <a:prstGeom prst="ellipse">
            <a:avLst/>
          </a:prstGeom>
          <a:solidFill>
            <a:srgbClr val="b8b8b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un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36"/>
          <p:cNvSpPr/>
          <p:nvPr/>
        </p:nvSpPr>
        <p:spPr>
          <a:xfrm>
            <a:off x="5257800" y="2035080"/>
            <a:ext cx="2438280" cy="1371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7"/>
          <p:cNvSpPr/>
          <p:nvPr/>
        </p:nvSpPr>
        <p:spPr>
          <a:xfrm>
            <a:off x="5334120" y="4016520"/>
            <a:ext cx="2438280" cy="1371600"/>
          </a:xfrm>
          <a:prstGeom prst="ellipse">
            <a:avLst/>
          </a:prstGeom>
          <a:solidFill>
            <a:srgbClr val="b8b8b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isar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8"/>
          <p:cNvSpPr/>
          <p:nvPr/>
        </p:nvSpPr>
        <p:spPr>
          <a:xfrm>
            <a:off x="5334120" y="5464080"/>
            <a:ext cx="2438280" cy="1371600"/>
          </a:xfrm>
          <a:prstGeom prst="ellipse">
            <a:avLst/>
          </a:prstGeom>
          <a:solidFill>
            <a:srgbClr val="b8b8b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z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9"/>
          <p:cNvSpPr/>
          <p:nvPr/>
        </p:nvSpPr>
        <p:spPr>
          <a:xfrm>
            <a:off x="2362320" y="340668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0"/>
          <p:cNvSpPr/>
          <p:nvPr/>
        </p:nvSpPr>
        <p:spPr>
          <a:xfrm>
            <a:off x="6477120" y="348300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4" descr="sigla_SATI"/>
          <p:cNvPicPr/>
          <p:nvPr/>
        </p:nvPicPr>
        <p:blipFill>
          <a:blip r:embed="rId1"/>
          <a:stretch/>
        </p:blipFill>
        <p:spPr>
          <a:xfrm>
            <a:off x="6672240" y="303120"/>
            <a:ext cx="187164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757404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TI - Metod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990720" y="1295280"/>
            <a:ext cx="7848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censamant/masurare a utilizarii fiecarui site inclus in studiu (site centric - traf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isare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ina a unui site afisata la solicitarea unui vizitator (un fisier sau o combinatie de fisiere trimise la un vizitator ca raspuns la cererea acestuia)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zi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o serie de una sau mai multe afisari ca rezultat al cererii unui vizitator. O vizita se termina in momentul in care distanta in timp dintre 2 afisari consecutive este mai mare de 30 de minute (conform standardelor IFABC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ent unic”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 ,,Client unic” este un calculator / browser de pe care un site este accesat cel putin o data in perioada raportat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5 octombrie 2007 – AU FOST FURNIZATE PENTRU PRIMA DATA REZULTATELE  DE TRAF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9" descr="sigla_SATI"/>
          <p:cNvPicPr/>
          <p:nvPr/>
        </p:nvPicPr>
        <p:blipFill>
          <a:blip r:embed="rId1"/>
          <a:stretch/>
        </p:blipFill>
        <p:spPr>
          <a:xfrm>
            <a:off x="6672240" y="303120"/>
            <a:ext cx="187164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574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TI - Metod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914400" y="1371600"/>
            <a:ext cx="8153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censamant/masurare a utilizarii fiecarui site inclus in studiu (site centric - trafi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 conformitate cu standardele IFABC, SATI exclude urmatoarele tipuri de trafic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raficul inter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(traficul generat ca urmare a activitatilor de dezvoltare, mentenanta, testare a aplicatiei web, realizate in numele detinatorului siteulu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raficul generat de spideri sau roboti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traficul generat de aplicatii-non uma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raficul generat prin pagini care au optiunea de auto refresh activat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(tagul META AUTOREFRESH ori alte mecanisme de refresh automa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raficul generat prin popup-uri sau frame-uri nesolicitate 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utilizatorul siteul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sigla_SATI"/>
          <p:cNvPicPr/>
          <p:nvPr/>
        </p:nvPicPr>
        <p:blipFill>
          <a:blip r:embed="rId1"/>
          <a:stretch/>
        </p:blipFill>
        <p:spPr>
          <a:xfrm>
            <a:off x="6672240" y="303120"/>
            <a:ext cx="187164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642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TI - Metod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621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2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ul de masurare are 3 parti componen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nsamant/masurare a utilizarii fiecarui site inclus in studiu (site centric - traf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dentificarea profilului utilizatorilor siteurilor (studiu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nderarea/ajustarea rezultatelor studiului online conform rezultatelor obtinute dintr-un studiu offline, referitoare al structura universului masura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sigla_SATI"/>
          <p:cNvPicPr/>
          <p:nvPr/>
        </p:nvPicPr>
        <p:blipFill>
          <a:blip r:embed="rId1"/>
          <a:stretch/>
        </p:blipFill>
        <p:spPr>
          <a:xfrm>
            <a:off x="6672240" y="303120"/>
            <a:ext cx="187164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TI - Metod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91440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dentificarea profilului utilizatorilor siteurilor (studiu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Obiectiv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ealizarea unui esantion reprezentativ al universului utilizatorilor internet - clienti unici al siteurilor incluse in SATI (peste 220 in preze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Identificarea profilului sociodemografic al acestui esantion cu ajutorul unui chestionar online, ce contine informatii despr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sociodemograf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generale de consu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despre consumul de internet/interese specia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9" descr="sigla_SATI"/>
          <p:cNvPicPr/>
          <p:nvPr/>
        </p:nvPicPr>
        <p:blipFill>
          <a:blip r:embed="rId1"/>
          <a:stretch/>
        </p:blipFill>
        <p:spPr>
          <a:xfrm>
            <a:off x="6672240" y="303120"/>
            <a:ext cx="187164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TI - Metod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684360" y="119700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hitectura sistem masur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5205240" y="1714680"/>
          <a:ext cx="962280" cy="122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240" y="1714680"/>
                    <a:ext cx="96228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5"/>
          <p:cNvGraphicFramePr/>
          <p:nvPr/>
        </p:nvGraphicFramePr>
        <p:xfrm>
          <a:off x="6561000" y="4416480"/>
          <a:ext cx="1101960" cy="184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61000" y="4416480"/>
                    <a:ext cx="110196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1090440" y="4157640"/>
          <a:ext cx="987480" cy="91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0440" y="4157640"/>
                    <a:ext cx="9874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7"/>
          <p:cNvGraphicFramePr/>
          <p:nvPr/>
        </p:nvGraphicFramePr>
        <p:xfrm>
          <a:off x="2066760" y="4200480"/>
          <a:ext cx="1224000" cy="11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66760" y="4200480"/>
                    <a:ext cx="122400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8"/>
          <p:cNvGraphicFramePr/>
          <p:nvPr/>
        </p:nvGraphicFramePr>
        <p:xfrm>
          <a:off x="1346040" y="5065560"/>
          <a:ext cx="594000" cy="77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46040" y="5065560"/>
                    <a:ext cx="59400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9"/>
          <p:cNvGraphicFramePr/>
          <p:nvPr/>
        </p:nvGraphicFramePr>
        <p:xfrm>
          <a:off x="2386080" y="5529240"/>
          <a:ext cx="506520" cy="77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4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86080" y="5529240"/>
                    <a:ext cx="5065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AutoShape 10"/>
          <p:cNvSpPr/>
          <p:nvPr/>
        </p:nvSpPr>
        <p:spPr>
          <a:xfrm rot="20661600">
            <a:off x="2533680" y="2373120"/>
            <a:ext cx="2438280" cy="431640"/>
          </a:xfrm>
          <a:prstGeom prst="rightArrow">
            <a:avLst>
              <a:gd name="adj1" fmla="val 50000"/>
              <a:gd name="adj2" fmla="val 141222"/>
            </a:avLst>
          </a:prstGeom>
          <a:gradFill rotWithShape="0">
            <a:gsLst>
              <a:gs pos="0">
                <a:srgbClr val="ffffff"/>
              </a:gs>
              <a:gs pos="100000">
                <a:srgbClr val="3030f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11"/>
          <p:cNvGraphicFramePr/>
          <p:nvPr/>
        </p:nvGraphicFramePr>
        <p:xfrm>
          <a:off x="1851120" y="5084640"/>
          <a:ext cx="593640" cy="77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7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51120" y="5084640"/>
                    <a:ext cx="59364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2"/>
          <p:cNvGraphicFramePr/>
          <p:nvPr/>
        </p:nvGraphicFramePr>
        <p:xfrm>
          <a:off x="1562040" y="5497560"/>
          <a:ext cx="428760" cy="55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9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62040" y="5497560"/>
                    <a:ext cx="4287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13"/>
          <p:cNvGraphicFramePr/>
          <p:nvPr/>
        </p:nvGraphicFramePr>
        <p:xfrm>
          <a:off x="1922400" y="5497560"/>
          <a:ext cx="428760" cy="557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1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22400" y="5497560"/>
                    <a:ext cx="4287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AutoShape 14"/>
          <p:cNvSpPr/>
          <p:nvPr/>
        </p:nvSpPr>
        <p:spPr>
          <a:xfrm rot="1560000">
            <a:off x="6119640" y="2277720"/>
            <a:ext cx="1224000" cy="431640"/>
          </a:xfrm>
          <a:prstGeom prst="rightArrow">
            <a:avLst>
              <a:gd name="adj1" fmla="val 50000"/>
              <a:gd name="adj2" fmla="val 70892"/>
            </a:avLst>
          </a:prstGeom>
          <a:gradFill rotWithShape="0">
            <a:gsLst>
              <a:gs pos="0">
                <a:srgbClr val="ffffff"/>
              </a:gs>
              <a:gs pos="100000">
                <a:srgbClr val="3030f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5"/>
          <p:cNvSpPr/>
          <p:nvPr/>
        </p:nvSpPr>
        <p:spPr>
          <a:xfrm rot="4230000">
            <a:off x="6116760" y="2823120"/>
            <a:ext cx="503280" cy="1600200"/>
          </a:xfrm>
          <a:prstGeom prst="downArrow">
            <a:avLst>
              <a:gd name="adj1" fmla="val 50000"/>
              <a:gd name="adj2" fmla="val 79489"/>
            </a:avLst>
          </a:prstGeom>
          <a:gradFill rotWithShape="0">
            <a:gsLst>
              <a:gs pos="0">
                <a:srgbClr val="ffffff"/>
              </a:gs>
              <a:gs pos="100000">
                <a:srgbClr val="3030f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6"/>
          <p:cNvSpPr/>
          <p:nvPr/>
        </p:nvSpPr>
        <p:spPr>
          <a:xfrm rot="1924200">
            <a:off x="7338600" y="3776400"/>
            <a:ext cx="365040" cy="668160"/>
          </a:xfrm>
          <a:prstGeom prst="downArrow">
            <a:avLst>
              <a:gd name="adj1" fmla="val 50000"/>
              <a:gd name="adj2" fmla="val 45759"/>
            </a:avLst>
          </a:prstGeom>
          <a:gradFill rotWithShape="0">
            <a:gsLst>
              <a:gs pos="0">
                <a:srgbClr val="ffffff"/>
              </a:gs>
              <a:gs pos="100000">
                <a:srgbClr val="3030f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17"/>
          <p:cNvGraphicFramePr/>
          <p:nvPr/>
        </p:nvGraphicFramePr>
        <p:xfrm>
          <a:off x="7415280" y="2405160"/>
          <a:ext cx="1082520" cy="1471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6" name="Object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415280" y="2405160"/>
                    <a:ext cx="108252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18"/>
          <p:cNvGraphicFramePr/>
          <p:nvPr/>
        </p:nvGraphicFramePr>
        <p:xfrm>
          <a:off x="1700280" y="5910120"/>
          <a:ext cx="379440" cy="619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8" name="Object 1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00280" y="5910120"/>
                    <a:ext cx="3794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19"/>
          <p:cNvGraphicFramePr/>
          <p:nvPr/>
        </p:nvGraphicFramePr>
        <p:xfrm>
          <a:off x="8101080" y="3243240"/>
          <a:ext cx="584280" cy="669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0" name="Object 1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101080" y="3243240"/>
                    <a:ext cx="584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20"/>
          <p:cNvGraphicFramePr/>
          <p:nvPr/>
        </p:nvGraphicFramePr>
        <p:xfrm>
          <a:off x="7323120" y="5137200"/>
          <a:ext cx="655560" cy="750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2" name="Object 2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323120" y="5137200"/>
                    <a:ext cx="6555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21"/>
          <p:cNvGraphicFramePr/>
          <p:nvPr/>
        </p:nvGraphicFramePr>
        <p:xfrm>
          <a:off x="4641840" y="5711760"/>
          <a:ext cx="738360" cy="9414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4" name="Object 2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41840" y="5711760"/>
                    <a:ext cx="73836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AutoShape 22"/>
          <p:cNvSpPr/>
          <p:nvPr/>
        </p:nvSpPr>
        <p:spPr>
          <a:xfrm>
            <a:off x="4875120" y="4843440"/>
            <a:ext cx="432000" cy="725400"/>
          </a:xfrm>
          <a:prstGeom prst="downArrow">
            <a:avLst>
              <a:gd name="adj1" fmla="val 50000"/>
              <a:gd name="adj2" fmla="val 41979"/>
            </a:avLst>
          </a:prstGeom>
          <a:gradFill rotWithShape="0">
            <a:gsLst>
              <a:gs pos="0">
                <a:srgbClr val="ffffff"/>
              </a:gs>
              <a:gs pos="100000">
                <a:srgbClr val="3030f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23"/>
          <p:cNvGraphicFramePr/>
          <p:nvPr/>
        </p:nvGraphicFramePr>
        <p:xfrm>
          <a:off x="4672080" y="3852720"/>
          <a:ext cx="741240" cy="9414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27" name="Object 23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672080" y="3852720"/>
                    <a:ext cx="74124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Line 24"/>
          <p:cNvSpPr/>
          <p:nvPr/>
        </p:nvSpPr>
        <p:spPr>
          <a:xfrm flipV="1">
            <a:off x="3003480" y="3700440"/>
            <a:ext cx="83016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 flipV="1">
            <a:off x="3147840" y="3852360"/>
            <a:ext cx="838440" cy="638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 flipH="1" flipV="1">
            <a:off x="2004480" y="3014280"/>
            <a:ext cx="784440" cy="10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 flipH="1" flipV="1">
            <a:off x="1775880" y="3242880"/>
            <a:ext cx="72396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29"/>
          <p:cNvGraphicFramePr/>
          <p:nvPr/>
        </p:nvGraphicFramePr>
        <p:xfrm>
          <a:off x="3887640" y="3002040"/>
          <a:ext cx="708120" cy="7887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33" name="Object 2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887640" y="3002040"/>
                    <a:ext cx="70812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Text Box 30"/>
          <p:cNvSpPr/>
          <p:nvPr/>
        </p:nvSpPr>
        <p:spPr>
          <a:xfrm>
            <a:off x="3376440" y="26542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serve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content.r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31"/>
          <p:cNvGraphicFramePr/>
          <p:nvPr/>
        </p:nvGraphicFramePr>
        <p:xfrm>
          <a:off x="1562040" y="2800440"/>
          <a:ext cx="973080" cy="6890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6" name="Object 31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562040" y="2800440"/>
                    <a:ext cx="97308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32"/>
          <p:cNvGraphicFramePr/>
          <p:nvPr/>
        </p:nvGraphicFramePr>
        <p:xfrm>
          <a:off x="1562040" y="2638440"/>
          <a:ext cx="934920" cy="6937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8" name="Object 3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562040" y="2638440"/>
                    <a:ext cx="9349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33"/>
          <p:cNvSpPr/>
          <p:nvPr/>
        </p:nvSpPr>
        <p:spPr>
          <a:xfrm>
            <a:off x="1098720" y="219708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 de colectare date trafi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34"/>
          <p:cNvGraphicFramePr/>
          <p:nvPr/>
        </p:nvGraphicFramePr>
        <p:xfrm>
          <a:off x="1547640" y="2481120"/>
          <a:ext cx="935280" cy="6937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41" name="Object 34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547640" y="2481120"/>
                    <a:ext cx="93528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35"/>
          <p:cNvSpPr/>
          <p:nvPr/>
        </p:nvSpPr>
        <p:spPr>
          <a:xfrm>
            <a:off x="5818320" y="151128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fic tot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6"/>
          <p:cNvSpPr/>
          <p:nvPr/>
        </p:nvSpPr>
        <p:spPr>
          <a:xfrm>
            <a:off x="7491240" y="149688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gerea esantionului de clienti unici la nivelul intregului sist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7"/>
          <p:cNvSpPr/>
          <p:nvPr/>
        </p:nvSpPr>
        <p:spPr>
          <a:xfrm>
            <a:off x="4672080" y="3111480"/>
            <a:ext cx="121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e invitatia de a participa la studiul onli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8"/>
          <p:cNvSpPr/>
          <p:nvPr/>
        </p:nvSpPr>
        <p:spPr>
          <a:xfrm flipV="1">
            <a:off x="3290760" y="4309560"/>
            <a:ext cx="1228680" cy="3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9"/>
          <p:cNvSpPr/>
          <p:nvPr/>
        </p:nvSpPr>
        <p:spPr>
          <a:xfrm flipV="1">
            <a:off x="3435480" y="4538160"/>
            <a:ext cx="1160280" cy="3128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0"/>
          <p:cNvSpPr/>
          <p:nvPr/>
        </p:nvSpPr>
        <p:spPr>
          <a:xfrm>
            <a:off x="3292560" y="5064120"/>
            <a:ext cx="122400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1"/>
          <p:cNvSpPr/>
          <p:nvPr/>
        </p:nvSpPr>
        <p:spPr>
          <a:xfrm>
            <a:off x="3147840" y="5208480"/>
            <a:ext cx="1151280" cy="792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2"/>
          <p:cNvSpPr/>
          <p:nvPr/>
        </p:nvSpPr>
        <p:spPr>
          <a:xfrm rot="20220000">
            <a:off x="5450040" y="6003720"/>
            <a:ext cx="1223640" cy="431640"/>
          </a:xfrm>
          <a:prstGeom prst="rightArrow">
            <a:avLst>
              <a:gd name="adj1" fmla="val 50000"/>
              <a:gd name="adj2" fmla="val 70872"/>
            </a:avLst>
          </a:prstGeom>
          <a:gradFill rotWithShape="0">
            <a:gsLst>
              <a:gs pos="0">
                <a:srgbClr val="ffffff"/>
              </a:gs>
              <a:gs pos="100000">
                <a:srgbClr val="3030f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3"/>
          <p:cNvSpPr/>
          <p:nvPr/>
        </p:nvSpPr>
        <p:spPr>
          <a:xfrm>
            <a:off x="3605040" y="5778360"/>
            <a:ext cx="1262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e chestionarul SATI si colecteaza raspunsuri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4"/>
          <p:cNvSpPr/>
          <p:nvPr/>
        </p:nvSpPr>
        <p:spPr>
          <a:xfrm>
            <a:off x="7643880" y="471168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Analiza final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8" descr="sigla_SATI"/>
          <p:cNvPicPr/>
          <p:nvPr/>
        </p:nvPicPr>
        <p:blipFill>
          <a:blip r:embed="rId39"/>
          <a:stretch/>
        </p:blipFill>
        <p:spPr>
          <a:xfrm>
            <a:off x="6672240" y="303120"/>
            <a:ext cx="187164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859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TI - Metod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83808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dentificarea profilului utilizatorilor siteurilor (studiu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Metodologi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iul online utilizeaz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elasi tag ca si masurarea traficului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elasi cookie – ID UNIC ca si masurarea traficulu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eeasi infrastructura tehnica precum masurarea traficulu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antionul de clienti unici ce vor primi invitatia de a raspunde la chestionar este extras saptamanal, din clientii unici ai tuturor siteurilor participante la studiu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itatia de a participa la studiu apare intr-un mod adaptat siteului/paginii une este afisata pentru a maximiza sansa de vizualizare de catre utiliz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0" descr="sigla_SATI"/>
          <p:cNvPicPr/>
          <p:nvPr/>
        </p:nvPicPr>
        <p:blipFill>
          <a:blip r:embed="rId1"/>
          <a:stretch/>
        </p:blipFill>
        <p:spPr>
          <a:xfrm>
            <a:off x="6672240" y="303120"/>
            <a:ext cx="187164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2"/>
          <p:cNvSpPr/>
          <p:nvPr/>
        </p:nvSpPr>
        <p:spPr>
          <a:xfrm>
            <a:off x="395280" y="0"/>
            <a:ext cx="43164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826920" y="333360"/>
            <a:ext cx="7859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TI - Metodolog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9144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dentificarea profilului utilizatorilor siteurilor (studiu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itatia si completarea unui chestionar online SATI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client, la prima sa vizita in perioada de colect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 oricare dintre website-urile incluse in SATI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t in ultima luna in masurarea de trafic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 a fost extras in esantionul lun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ste invitatia de a completa un chestionar SATI on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ca accepta si completeaza chestionarul, raspunsurile sale vor fi atribuite tuturor siteurilor pe care acest client le-a vizitat in luna in cu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sigla_SATI"/>
          <p:cNvPicPr/>
          <p:nvPr/>
        </p:nvPicPr>
        <p:blipFill>
          <a:blip r:embed="rId1"/>
          <a:stretch/>
        </p:blipFill>
        <p:spPr>
          <a:xfrm>
            <a:off x="6672240" y="303120"/>
            <a:ext cx="187164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18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 ce BRAT a lansat proiectul SATI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rat_logo_200"/>
          <p:cNvPicPr/>
          <p:nvPr/>
        </p:nvPicPr>
        <p:blipFill>
          <a:blip r:embed="rId1"/>
          <a:stretch/>
        </p:blipFill>
        <p:spPr>
          <a:xfrm>
            <a:off x="755640" y="1643040"/>
            <a:ext cx="7848720" cy="3834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8200" y="1571760"/>
            <a:ext cx="7816680" cy="89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ata de publicitate online a crescut continuu, incepand din 2000 si pana in prez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consecinta mediul online are nevoie de informatii relevante referitoare la performantele s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237960" y="1197000"/>
            <a:ext cx="82947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75740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TI - Metod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7621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2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ul de masurare are 3 parti componen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nsamant/masurare a utilizarii fiecarui site inclus in studiu (site centric - traf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icarea profilului utilizatorilor siteurilor (studiu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onderarea/ajustarea rezultatelor studiului online conform rezultatelor obtinute dintr-un studiu offline, referitoare la structura universului masura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sigla_SATI"/>
          <p:cNvPicPr/>
          <p:nvPr/>
        </p:nvPicPr>
        <p:blipFill>
          <a:blip r:embed="rId1"/>
          <a:stretch/>
        </p:blipFill>
        <p:spPr>
          <a:xfrm>
            <a:off x="6672240" y="303120"/>
            <a:ext cx="187164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TI - Metodolo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7621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onderarea/ajustarea rezultatelor studiului online conform rezultatelor obtinute dintr-un studiu offline, referitoare la structura universului masura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ul offline ce va fi utilizat pentru ponderarea rezultatelor studiului onlin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NA FOC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 ce vor fi utilizate pentru ponder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ul studiului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atorii de Internet din ultima luna, din mediul urban, cu varste intre 14 si 64 de ani (4.442.000 persoane, sursa: SNA FOCUS ian07 – ian08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a universului in raport c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ate sociodemografice ale utilizatorilor de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sigla_SATI"/>
          <p:cNvPicPr/>
          <p:nvPr/>
        </p:nvPicPr>
        <p:blipFill>
          <a:blip r:embed="rId1"/>
          <a:stretch/>
        </p:blipFill>
        <p:spPr>
          <a:xfrm>
            <a:off x="6672240" y="303120"/>
            <a:ext cx="187164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78598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TI - Metod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684360" y="1484280"/>
            <a:ext cx="815328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istemul de masurare realizeaza urmatorii pasi pentru determinarea audientei si profilului fiecarui si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ormarea clientilor in clienti unici (traf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ormarea clientilor unici in vizitatori unici (in urma analizarii traficului si a rezultatelor studiului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area profilelor vizitatorilor unici (studiul online si off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sigla_SATI"/>
          <p:cNvPicPr/>
          <p:nvPr/>
        </p:nvPicPr>
        <p:blipFill>
          <a:blip r:embed="rId1"/>
          <a:stretch/>
        </p:blipFill>
        <p:spPr>
          <a:xfrm>
            <a:off x="6672240" y="303120"/>
            <a:ext cx="187164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642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TI – Publicarea rezultatelor de tra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762120" y="1295280"/>
            <a:ext cx="82296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zultate public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isari, vizite si clienti unic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Grad de detalier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gregate la nivelul fiecarei lun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d de public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lunar p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ww.sati.r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zultate disponibile tuturor beneficiarilor SATI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fisari, vizite si clienti unic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urata medie a unei vizite, numar mediu de afisari per vizita, distributia geografica a vizitatorilor, informatii tehnice (tip/versiune browser, tip/versiune sistem operare, rezolutie ecran, rata acceptare cooki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Grad de detaliere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entru perioade de timp prestabilite (o zi/saptamana/luna) sau la aleg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entru intregul site si sectiuni ale sa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d de public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ontinuu in aplicatia specializata destinata beneficiarilor SAT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 disponibile numai editorului siteului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rers si cuvinte folosite in motoarele de cauta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</a:rPr>
              <a:t>Grad de detalier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entru perioade de timp prestabilite (o zi/saptamana/luna) sau la aleg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d de public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ontinuu in aplicatia specializata destinata beneficiarilor SAT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8066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ATI – Publicarea rezultatelor de audienta si profi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4000" y="1428840"/>
            <a:ext cx="810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) Iunie 2008 – Audienta si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udienta/numar de vizit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ocio-demografice ale vizitator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sociodemogra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pul utilizarii interne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ul de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ul diverselor categorii produse si servi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tii de cumpar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entru intregul site si sectiuni ale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zultate disponibile exclusiv beneficiarilor SATI, printr-o aplicatie specializata de planificare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574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 – Publicarea rezultatelor de tra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838080" y="1752480"/>
            <a:ext cx="2514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unar pagina cu rezultate de trafic ale studiului va fi actualizata p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www.sati.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a contine URL site, editor site, numar lunar de afisari, numar lunar de vizite, numar lunar de clienti unici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 click pe iconul din coloana din dreapta, se va downloada fisierul .PDF continind certificatul de trafic al lunii respectiv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lista sites"/>
          <p:cNvPicPr/>
          <p:nvPr/>
        </p:nvPicPr>
        <p:blipFill>
          <a:blip r:embed="rId2"/>
          <a:stretch/>
        </p:blipFill>
        <p:spPr>
          <a:xfrm>
            <a:off x="3352680" y="1371600"/>
            <a:ext cx="56008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4"/>
          <p:cNvSpPr/>
          <p:nvPr/>
        </p:nvSpPr>
        <p:spPr>
          <a:xfrm>
            <a:off x="1700280" y="1523880"/>
            <a:ext cx="6904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 multumesc pentru atenti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1852560" y="4114800"/>
            <a:ext cx="300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na Ure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 gene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/fax: 021 311 77 4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722.755.2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rat.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ati.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rina@brat.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9" descr="sigla_SATI"/>
          <p:cNvPicPr/>
          <p:nvPr/>
        </p:nvPicPr>
        <p:blipFill>
          <a:blip r:embed="rId4"/>
          <a:stretch/>
        </p:blipFill>
        <p:spPr>
          <a:xfrm>
            <a:off x="5435640" y="4986360"/>
            <a:ext cx="295272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18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 ce BRAT a lansat proiectul SATI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brat_logo_200"/>
          <p:cNvPicPr/>
          <p:nvPr/>
        </p:nvPicPr>
        <p:blipFill>
          <a:blip r:embed="rId1"/>
          <a:stretch/>
        </p:blipFill>
        <p:spPr>
          <a:xfrm>
            <a:off x="755640" y="1643040"/>
            <a:ext cx="7848720" cy="3834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98200" y="1500120"/>
            <a:ext cx="7816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ata de online avea (are) nevoie de date referitoare la traficul si audienta site-urilor si profilul socio-demografic al utilizatoril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ate acestea exprimate pr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fre independent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nizate de un organism independe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fre credibil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tinute dupa standarde si metodologii selectate si recunoscute de intreaga piat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fre comparabil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ate site-urile se supun/beneficiaza de aceleasi reguli si standar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fre corec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dupa metologii si standarde verificate si recunoscute de catre specialisti in domeniul cercetar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37960" y="1197000"/>
            <a:ext cx="82947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2400" y="404640"/>
            <a:ext cx="75740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 ofera un studi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237960" y="1197000"/>
            <a:ext cx="82947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928800" y="1357200"/>
            <a:ext cx="7924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bilitatea mediului online crest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l online devine unul transparen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07324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07324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07324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muleaza investitiile in media on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073240" indent="-6094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fera site-urilor studiate un instrument eficient de market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2133720" y="34290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sigla_SATI"/>
          <p:cNvPicPr/>
          <p:nvPr/>
        </p:nvPicPr>
        <p:blipFill>
          <a:blip r:embed="rId1"/>
          <a:stretch/>
        </p:blipFill>
        <p:spPr>
          <a:xfrm>
            <a:off x="6672240" y="303120"/>
            <a:ext cx="187164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brat_logo_200"/>
          <p:cNvPicPr/>
          <p:nvPr/>
        </p:nvPicPr>
        <p:blipFill>
          <a:blip r:embed="rId1"/>
          <a:stretch/>
        </p:blipFill>
        <p:spPr>
          <a:xfrm>
            <a:off x="755640" y="1773360"/>
            <a:ext cx="7848720" cy="3833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740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ce un studiu realizat de BR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237960" y="1197000"/>
            <a:ext cx="82947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990720" y="1295280"/>
            <a:ext cx="7829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Organism independ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97200" indent="-60948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ependen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97200" indent="-60948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abilit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97200" indent="-60948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bilit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tudiu sindicaliz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97200" indent="-60948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/putere de decizie asupra metodologiilor utilizate si modului de aplicare al acestor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797200" indent="-60948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icient dpdv al costuril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Moneda unica pentru tranzactionarea spatiului in publicitatea online, recunoscuta si acceptata de catre intreaga industri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1447920" y="22860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386000" y="380988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sigla_SATI"/>
          <p:cNvPicPr/>
          <p:nvPr/>
        </p:nvPicPr>
        <p:blipFill>
          <a:blip r:embed="rId7"/>
          <a:stretch/>
        </p:blipFill>
        <p:spPr>
          <a:xfrm>
            <a:off x="6858000" y="1276200"/>
            <a:ext cx="187164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2400" y="475920"/>
            <a:ext cx="22352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237960" y="1197000"/>
            <a:ext cx="82947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838080" y="1295280"/>
            <a:ext cx="8001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roul Roman de Audit al Tirajel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tie non prof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ociatie a industriei de publici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iintata in 1998 de catre 33 membri fondatori, in prezent numara 245 de membri, din care 27 editori web (exclusiv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 de agentii de publicitate, 7 regii de publicitat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6 editori, 7 clienti de publici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iectivul BRAT este acela de a pune la dispozitia pietei de publicitate din Romania date credibile, independente, corecte si comparabile pentru toate produsele masurate/verifica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rnizeaza din 1998 cifre referitoare la auditul tirajelor, din 2002 este furnizorul oficial al rezultatelor de audienta pentru presa scrisa (SNA), iar din 2006 informatii detaliate despre grupurile tinta (FOCU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embrii BRAT editeaza peste 800 de siteuri we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sigla_SATI"/>
          <p:cNvPicPr/>
          <p:nvPr/>
        </p:nvPicPr>
        <p:blipFill>
          <a:blip r:embed="rId1"/>
          <a:stretch/>
        </p:blipFill>
        <p:spPr>
          <a:xfrm>
            <a:off x="6672240" y="303120"/>
            <a:ext cx="187164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740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T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artament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990720" y="1371600"/>
            <a:ext cx="792468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partamentu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(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 a fost creat in cadrul BR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n 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de catre </a:t>
            </a:r>
            <a:r>
              <a:rPr b="0" lang="ro-RO" sz="24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memb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ima intalnire de anvergura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ilo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nteresate 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lizarea unui sistem de masurare a performantelor siteurilor web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 avut lo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ugust 2006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n prezent, 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6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de memb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xis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r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categorii de membri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it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gii de publicitate (6),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gentii de publi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te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lienti de publicitate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sigla_SATI"/>
          <p:cNvPicPr/>
          <p:nvPr/>
        </p:nvPicPr>
        <p:blipFill>
          <a:blip r:embed="rId1"/>
          <a:stretch/>
        </p:blipFill>
        <p:spPr>
          <a:xfrm>
            <a:off x="6672240" y="303120"/>
            <a:ext cx="187164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5740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iectivul Dep.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84360" y="1219320"/>
            <a:ext cx="84596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iectivul Departamentului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zarea unui sistem de masurare a performantelor siteurilor web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SURARE TRAFIC, MASURARE AUDIENTA, DETERMINAREA PROFILELOR SOCIO DEMOGRAF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are sa acopere 3 OBIECTIVE IMPORTANTE ale unui sistem de masurare a Internetulu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tii si clienti de public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uantificarea si descrierea utilizatorilor unui singur site web si a unor parti ale acestu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ori de siteuri we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zultate detaliate privind utilizatorii siteurilor; utilizarea datelor in scopul imbunatatirii siteurilor, fundamentarii actiunilor de marketing, vanzarii profesioniste a spatiului publicit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es gene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formatii generale referitoare la utilizarea Internetului (ex: utilizarea Internetului pe grupe de varsta/venit/educatie, vizitare siteuri romanesti/straine, tendin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sigla_SATI"/>
          <p:cNvPicPr/>
          <p:nvPr/>
        </p:nvPicPr>
        <p:blipFill>
          <a:blip r:embed="rId1"/>
          <a:stretch/>
        </p:blipFill>
        <p:spPr>
          <a:xfrm>
            <a:off x="6672240" y="303120"/>
            <a:ext cx="187164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18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biectivul Dep Intern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brat_logo_200"/>
          <p:cNvPicPr/>
          <p:nvPr/>
        </p:nvPicPr>
        <p:blipFill>
          <a:blip r:embed="rId1"/>
          <a:stretch/>
        </p:blipFill>
        <p:spPr>
          <a:xfrm>
            <a:off x="755640" y="1643040"/>
            <a:ext cx="7848720" cy="3834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8200" y="1500120"/>
            <a:ext cx="78166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2007 BRAT a lansat Studiul de Audienta si Trafic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ombrie 2007 – primele rezultate de trafic ale SATI au fost oferite pietei de public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tembrie 2007 – partea sociodemografica a studiului a fost lans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5) Iunie 2008 – vom livra pentru prima data rezultatele de audienta si profilele sociodemografice ale siteuri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237960" y="1197000"/>
            <a:ext cx="82947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sigla_SATI"/>
          <p:cNvPicPr/>
          <p:nvPr/>
        </p:nvPicPr>
        <p:blipFill>
          <a:blip r:embed="rId2"/>
          <a:stretch/>
        </p:blipFill>
        <p:spPr>
          <a:xfrm>
            <a:off x="6672240" y="303120"/>
            <a:ext cx="187164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1:03Z</dcterms:created>
  <dc:creator>Costi Popa</dc:creator>
  <dc:description/>
  <dc:language>en-US</dc:language>
  <cp:lastModifiedBy> </cp:lastModifiedBy>
  <dcterms:modified xsi:type="dcterms:W3CDTF">2008-05-20T08:06:33Z</dcterms:modified>
  <cp:revision>114</cp:revision>
  <dc:subject/>
  <dc:title>Romanian ABC</dc:title>
</cp:coreProperties>
</file>